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100-D1D1-48DD-9B77-423073C5E0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35C5-6680-4CCD-89CE-1CB51012DB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2317-06C2-4571-8C07-9FBC7691DD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E0AC-5A6C-4CEA-93A0-B9F2E5AE6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77BC-E655-4F09-80A8-4B076DFD9C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2FF-94AC-4C5C-AD18-3E3EF78FB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A478-2714-4C5A-ADDF-82AA82F521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63D-438F-411E-B3E9-F207171D2D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65D8-CB3B-4FF1-B581-C413F07F1A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BCB4-C019-422E-986B-35F8085612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F94-E64F-427B-8BFE-42186827DF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9B6-747B-44CB-AEC3-D9626D616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444E-D8F7-4DC0-9849-C7C2A983E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F40-9FCC-4E76-8872-39102E227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0A2-57D6-447B-89BD-E9FDA257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6AC-1A79-4716-A5E0-90594F5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E4F-EB3A-4245-8716-1E822D8A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F0A-60AE-4263-8E3E-B36235B5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B31-AC4A-49E8-AC81-A97AC8B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F80-7BC6-46F2-B2B7-4D21A131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972-3716-428A-9FD7-E31F9AD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C2F-1E3B-4C20-82F4-708EB9C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24D-6261-4125-9F0D-6F2272B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B6E-A9DD-49C4-844C-3D96E6E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5E9-B7D8-4F24-9C3A-19F63BE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9C9-1A42-4279-BC82-1C9344BE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9F80-3FE6-4CD7-88FA-E20AAA8ABD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Unpact"/>
              </a:rPr>
              <a:t>Для изучения химии в 8</a:t>
            </a:r>
            <a:r>
              <a:rPr b="0" lang="ru-RU" sz="4800" spc="-1" strike="noStrike">
                <a:solidFill>
                  <a:srgbClr val="0066ff"/>
                </a:solidFill>
                <a:latin typeface="Unpact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Unpact"/>
              </a:rPr>
              <a:t>клас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3"/>
          <p:cNvPicPr/>
          <p:nvPr/>
        </p:nvPicPr>
        <p:blipFill>
          <a:blip r:embed="rId1"/>
          <a:stretch/>
        </p:blipFill>
        <p:spPr>
          <a:xfrm>
            <a:off x="5943600" y="2438280"/>
            <a:ext cx="2711520" cy="3944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762120" y="12193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ff"/>
                </a:solidFill>
                <a:latin typeface="Arial Black"/>
              </a:rPr>
              <a:t>Воздух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03480" y="1000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7621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858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Фотосинтез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04920" y="1447920"/>
            <a:ext cx="495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Если бы на Земле не было источников кислорода, его запасы полностью иссякли бы за 2 тысячи лет. Этого не происходит, т.к. кислород постоянно выделяется растениями в ходе фотосинтеза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4"/>
          <p:cNvPicPr/>
          <p:nvPr/>
        </p:nvPicPr>
        <p:blipFill>
          <a:blip r:embed="rId1"/>
          <a:stretch/>
        </p:blipFill>
        <p:spPr>
          <a:xfrm>
            <a:off x="5562720" y="1066680"/>
            <a:ext cx="3276360" cy="480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SY01265_"/>
          <p:cNvPicPr/>
          <p:nvPr/>
        </p:nvPicPr>
        <p:blipFill>
          <a:blip r:embed="rId2"/>
          <a:stretch/>
        </p:blipFill>
        <p:spPr>
          <a:xfrm>
            <a:off x="228600" y="5791320"/>
            <a:ext cx="9907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Кислор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спользуют для обжига руд,при резке и сварке металлов,в медицине для дыхания при некоторых заболеваниях. Жидкий кислород служит окислителем ракетного топл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foto5"/>
          <p:cNvPicPr/>
          <p:nvPr/>
        </p:nvPicPr>
        <p:blipFill>
          <a:blip r:embed="rId1"/>
          <a:stretch/>
        </p:blipFill>
        <p:spPr>
          <a:xfrm>
            <a:off x="1258920" y="3141720"/>
            <a:ext cx="2114640" cy="2725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8088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Жидкий кислоро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SY01265_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5100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Arial"/>
              </a:rPr>
              <a:t>Азо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Газ без цвета,вкуса и запаха(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кип.=-196 С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пл.=-210 С), мало растворим в воде. Не поддерживает горение и дых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foto65"/>
          <p:cNvPicPr/>
          <p:nvPr/>
        </p:nvPicPr>
        <p:blipFill>
          <a:blip r:embed="rId1"/>
          <a:stretch/>
        </p:blipFill>
        <p:spPr>
          <a:xfrm>
            <a:off x="1258920" y="1916280"/>
            <a:ext cx="2441520" cy="2874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84360" y="5229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Жидкий азо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SY01265_"/>
          <p:cNvPicPr/>
          <p:nvPr/>
        </p:nvPicPr>
        <p:blipFill>
          <a:blip r:embed="rId2"/>
          <a:stretch/>
        </p:blipFill>
        <p:spPr>
          <a:xfrm>
            <a:off x="7924680" y="228600"/>
            <a:ext cx="952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ричины загрязнения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4920" y="19810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ыбросы автотранспорта, котельных и промышленных предприятий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5"/>
          <p:cNvPicPr/>
          <p:nvPr/>
        </p:nvPicPr>
        <p:blipFill>
          <a:blip r:embed="rId1"/>
          <a:stretch/>
        </p:blipFill>
        <p:spPr>
          <a:xfrm>
            <a:off x="304920" y="3276720"/>
            <a:ext cx="2666880" cy="21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oto6"/>
          <p:cNvPicPr/>
          <p:nvPr/>
        </p:nvPicPr>
        <p:blipFill>
          <a:blip r:embed="rId2"/>
          <a:stretch/>
        </p:blipFill>
        <p:spPr>
          <a:xfrm>
            <a:off x="3505320" y="3581280"/>
            <a:ext cx="21970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oto7"/>
          <p:cNvPicPr/>
          <p:nvPr/>
        </p:nvPicPr>
        <p:blipFill>
          <a:blip r:embed="rId3"/>
          <a:stretch/>
        </p:blipFill>
        <p:spPr>
          <a:xfrm>
            <a:off x="6324480" y="3352680"/>
            <a:ext cx="231156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BD21298_"/>
          <p:cNvPicPr/>
          <p:nvPr/>
        </p:nvPicPr>
        <p:blipFill>
          <a:blip r:embed="rId4"/>
          <a:stretch/>
        </p:blipFill>
        <p:spPr>
          <a:xfrm>
            <a:off x="457200" y="380880"/>
            <a:ext cx="1494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99"/>
                </a:solidFill>
                <a:latin typeface="Monotype Corsiva"/>
              </a:rPr>
              <a:t>Содержа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. Составные части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. Свойства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3. Значение 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4. Источники загрязне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воздух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оставные части воздух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стоя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еремен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лучай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foto21"/>
          <p:cNvPicPr/>
          <p:nvPr/>
        </p:nvPicPr>
        <p:blipFill>
          <a:blip r:embed="rId1"/>
          <a:stretch/>
        </p:blipFill>
        <p:spPr>
          <a:xfrm>
            <a:off x="5013360" y="1981080"/>
            <a:ext cx="307800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Y012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6386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D21298_"/>
          <p:cNvPicPr/>
          <p:nvPr/>
        </p:nvPicPr>
        <p:blipFill>
          <a:blip r:embed="rId4"/>
          <a:stretch/>
        </p:blipFill>
        <p:spPr>
          <a:xfrm>
            <a:off x="457200" y="380880"/>
            <a:ext cx="15408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остоянные части воздух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1600200"/>
          <a:ext cx="7772400" cy="42372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752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оставны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част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Содержание газов (в %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о объем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По масс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Азо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8,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5,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Кислоро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0,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3,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Благородные газ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,9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,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99"/>
                      </a:solidFill>
                    </a:lnL>
                    <a:lnR w="18720">
                      <a:solidFill>
                        <a:srgbClr val="003399"/>
                      </a:solidFill>
                    </a:lnR>
                    <a:lnT w="18720">
                      <a:solidFill>
                        <a:srgbClr val="003399"/>
                      </a:solidFill>
                    </a:lnT>
                    <a:lnB w="1872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66" descr="SY01265_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2819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Углекислый га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2819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одяные па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9880" y="4191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зо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 flipH="1">
            <a:off x="1599840" y="1828800"/>
            <a:ext cx="76212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267080" y="2362320"/>
            <a:ext cx="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010280" y="1752480"/>
            <a:ext cx="53352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905120" y="8380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Arial"/>
              </a:rPr>
              <a:t>Переменные составные части воздух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685800" y="4343400"/>
            <a:ext cx="1752480" cy="1752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3733920" y="4800600"/>
            <a:ext cx="1600200" cy="1676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6629400" y="4191120"/>
            <a:ext cx="1600200" cy="1752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914400" y="45720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11480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6956280" y="4800600"/>
            <a:ext cx="1273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918480" y="451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705720" y="457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3" descr="SY01265_"/>
          <p:cNvPicPr/>
          <p:nvPr/>
        </p:nvPicPr>
        <p:blipFill>
          <a:blip r:embed="rId1"/>
          <a:stretch/>
        </p:blipFill>
        <p:spPr>
          <a:xfrm>
            <a:off x="7924680" y="5867280"/>
            <a:ext cx="1219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43000" y="838080"/>
            <a:ext cx="640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" y="2971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ыл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600200" y="41148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икро-организм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105520" y="4343400"/>
            <a:ext cx="144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5029200" y="411480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ыльца растен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781680" y="2819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Некоторые газ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 flipH="1">
            <a:off x="1066320" y="2209680"/>
            <a:ext cx="114300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276720" y="251460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5562720" y="243828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948360" y="1989000"/>
            <a:ext cx="91440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лучайные составные части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8" descr="mikrofoto"/>
          <p:cNvPicPr/>
          <p:nvPr/>
        </p:nvPicPr>
        <p:blipFill>
          <a:blip r:embed="rId1"/>
          <a:stretch/>
        </p:blipFill>
        <p:spPr>
          <a:xfrm>
            <a:off x="5257800" y="53341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microorganism"/>
          <p:cNvPicPr/>
          <p:nvPr/>
        </p:nvPicPr>
        <p:blipFill>
          <a:blip r:embed="rId2"/>
          <a:stretch/>
        </p:blipFill>
        <p:spPr>
          <a:xfrm>
            <a:off x="2209680" y="5257800"/>
            <a:ext cx="190512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7010280" y="4114800"/>
            <a:ext cx="2133720" cy="1219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7238880" y="4267080"/>
            <a:ext cx="1905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,S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3" descr="222"/>
          <p:cNvPicPr/>
          <p:nvPr/>
        </p:nvPicPr>
        <p:blipFill>
          <a:blip r:embed="rId3"/>
          <a:stretch/>
        </p:blipFill>
        <p:spPr>
          <a:xfrm>
            <a:off x="380880" y="371484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5" descr="SY01265_"/>
          <p:cNvPicPr/>
          <p:nvPr/>
        </p:nvPicPr>
        <p:blipFill>
          <a:blip r:embed="rId4"/>
          <a:stretch/>
        </p:blipFill>
        <p:spPr>
          <a:xfrm>
            <a:off x="8153280" y="5791320"/>
            <a:ext cx="990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оздух, свободный от переменных и случайных составных частей, прозрачен, лишен вкуса и запаха, 1л его при н. у. имеет массу 1,29г, а 22,4л т.е. молярный объем, весит 29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" descr="2"/>
          <p:cNvPicPr/>
          <p:nvPr/>
        </p:nvPicPr>
        <p:blipFill>
          <a:blip r:embed="rId1"/>
          <a:stretch/>
        </p:blipFill>
        <p:spPr>
          <a:xfrm>
            <a:off x="5210280" y="1981080"/>
            <a:ext cx="268452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BD21298_"/>
          <p:cNvPicPr/>
          <p:nvPr/>
        </p:nvPicPr>
        <p:blipFill>
          <a:blip r:embed="rId2"/>
          <a:stretch/>
        </p:blipFill>
        <p:spPr>
          <a:xfrm>
            <a:off x="457200" y="380880"/>
            <a:ext cx="1494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Arial"/>
              </a:rPr>
              <a:t>Значение воздух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 Дых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 Фотосинте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3 Выветривание горных пор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4 Почвообраз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5 Получение кислор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6 Получение аз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SY01265_"/>
          <p:cNvPicPr/>
          <p:nvPr/>
        </p:nvPicPr>
        <p:blipFill>
          <a:blip r:embed="rId1"/>
          <a:stretch/>
        </p:blipFill>
        <p:spPr>
          <a:xfrm>
            <a:off x="7848720" y="5486400"/>
            <a:ext cx="1028520" cy="110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D21298_"/>
          <p:cNvPicPr/>
          <p:nvPr/>
        </p:nvPicPr>
        <p:blipFill>
          <a:blip r:embed="rId2"/>
          <a:stretch/>
        </p:blipFill>
        <p:spPr>
          <a:xfrm>
            <a:off x="304920" y="457200"/>
            <a:ext cx="14904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Arial"/>
              </a:rPr>
              <a:t>Дыха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оздух необходим для дыхания животных и растений.                         В выдыхаемом человеком воздухе содержится около 16% (по объему) кислорода и около 4% углекислого газ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594360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Y01265_"/>
          <p:cNvPicPr/>
          <p:nvPr/>
        </p:nvPicPr>
        <p:blipFill>
          <a:blip r:embed="rId2"/>
          <a:stretch/>
        </p:blipFill>
        <p:spPr>
          <a:xfrm>
            <a:off x="304920" y="5715000"/>
            <a:ext cx="12189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0:43:09Z</dcterms:created>
  <dc:creator>Slushatel-2-9</dc:creator>
  <dc:description/>
  <dc:language>en-US</dc:language>
  <cp:lastModifiedBy>Admin</cp:lastModifiedBy>
  <dcterms:modified xsi:type="dcterms:W3CDTF">2022-11-25T20:01:01Z</dcterms:modified>
  <cp:revision>26</cp:revision>
  <dc:subject/>
  <dc:title>Содержание</dc:title>
</cp:coreProperties>
</file>