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DC0-D942-46C9-95B2-5F02F172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2C2-13D5-4DB2-A595-B4B5684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7A9-897E-488F-B43A-F5054804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031-3F7A-408A-B3C4-74E58DA8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EDB-4A5C-4779-98C3-C14EEB1E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CC3-09EF-49F3-A4B5-E2A27A4A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D27-E05A-4876-85AE-A566464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FFD-2975-4A22-940C-C53F84F5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852-58BC-4327-B7B7-2B64792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DD6-B1F2-4187-B28D-EB84635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058-DCB7-4FED-90FB-3941B26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F81-B3D0-49D3-8431-4DF6D13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B9B-89F4-4A30-8750-2E2E4EB0B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Цифровые системы пере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 и сверх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DB3A-4000-44C1-A588-B77DA264A28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ic08_T1_frame_superframe"/>
          <p:cNvPicPr/>
          <p:nvPr/>
        </p:nvPicPr>
        <p:blipFill>
          <a:blip r:embed="rId1"/>
          <a:stretch/>
        </p:blipFill>
        <p:spPr>
          <a:xfrm>
            <a:off x="961920" y="1557360"/>
            <a:ext cx="7220160" cy="4181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4211640" y="3500280"/>
            <a:ext cx="4537080" cy="2031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из 12 циклов Т-1 образу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рхци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четных циклах би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ужит для синхронизации и принимает значение 10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 сигнализации вставляется в младший значащий бит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 каждого канала, но только в 6 и 12 циклах для уменьшения иска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ширенный сверх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6FE-4C26-4AE4-9074-98B347E085E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258920" y="4656240"/>
            <a:ext cx="5977080" cy="64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ппа из 24 циклов образу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сширенный сверхцикл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193-й бит используется для служебных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pic09_ESF"/>
          <p:cNvPicPr/>
          <p:nvPr/>
        </p:nvPicPr>
        <p:blipFill>
          <a:blip r:embed="rId1"/>
          <a:stretch/>
        </p:blipFill>
        <p:spPr>
          <a:xfrm>
            <a:off x="925560" y="1844640"/>
            <a:ext cx="71755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льтиплекс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985-7F66-4C8E-81A9-08ED0C262EC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40360" y="2060640"/>
            <a:ext cx="4176720" cy="24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альный сервисный блок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U (Channel Service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ет ряд защитных и     сервисных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ой сервисный бл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U (Digital Service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ует данные от аппаратуры абонента в потенциалы и коды Т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pic10_MUX"/>
          <p:cNvPicPr/>
          <p:nvPr/>
        </p:nvPicPr>
        <p:blipFill>
          <a:blip r:embed="rId1"/>
          <a:stretch/>
        </p:blipFill>
        <p:spPr>
          <a:xfrm>
            <a:off x="684360" y="1868400"/>
            <a:ext cx="33606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 Т-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CCF-625A-48E9-8E13-56EED5CE0D75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ic11_T1_DMH"/>
          <p:cNvPicPr/>
          <p:nvPr/>
        </p:nvPicPr>
        <p:blipFill>
          <a:blip r:embed="rId1"/>
          <a:stretch/>
        </p:blipFill>
        <p:spPr>
          <a:xfrm>
            <a:off x="890640" y="1700280"/>
            <a:ext cx="7362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цикла 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FDC-5DCB-4B6D-827D-941048F2C42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ic12_E1-frame"/>
          <p:cNvPicPr/>
          <p:nvPr/>
        </p:nvPicPr>
        <p:blipFill>
          <a:blip r:embed="rId1"/>
          <a:stretch/>
        </p:blipFill>
        <p:spPr>
          <a:xfrm>
            <a:off x="1042920" y="2133720"/>
            <a:ext cx="691524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979640" y="21556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 голосовых каналов + 2 служебных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 Е-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4C0-F931-43B0-AEF1-977D742CA29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ic13_E1_DMH"/>
          <p:cNvPicPr/>
          <p:nvPr/>
        </p:nvPicPr>
        <p:blipFill>
          <a:blip r:embed="rId1"/>
          <a:stretch/>
        </p:blipFill>
        <p:spPr>
          <a:xfrm>
            <a:off x="1071720" y="1609560"/>
            <a:ext cx="7000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 цифро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6EAB-AEE9-4777-9E32-94594F8C55F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ic14_DC_comp"/>
          <p:cNvPicPr/>
          <p:nvPr/>
        </p:nvPicPr>
        <p:blipFill>
          <a:blip r:embed="rId1"/>
          <a:stretch/>
        </p:blipFill>
        <p:spPr>
          <a:xfrm>
            <a:off x="885960" y="1844640"/>
            <a:ext cx="737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EFD2-964E-49CF-B1F6-B0D6233583B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00000" y="1828800"/>
            <a:ext cx="7559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ЦИ – Плезиохронная Цифровая Иерарх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ые системы передачи (Т- или Е-) объединяют низкоскоростные потоки для увеличения скор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ое устройство имеет свой задающий генер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товые частоты в различных потоках немного отли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авка выравнивающих 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3BD-059D-4B43-A0F6-EA470378685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ic15_PDH_mxdmx"/>
          <p:cNvPicPr/>
          <p:nvPr/>
        </p:nvPicPr>
        <p:blipFill>
          <a:blip r:embed="rId1"/>
          <a:stretch/>
        </p:blipFill>
        <p:spPr>
          <a:xfrm>
            <a:off x="1104840" y="3068640"/>
            <a:ext cx="69343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348000" y="574668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бон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74920" y="465300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ыделение низкоскоростного пото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(демультиплекс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651640" y="468000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ставка низкоскоростного потока (мультиплексировани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403280" y="306864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ение потока 2 Мбит/с из канала 140 М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84360" y="1647720"/>
            <a:ext cx="7848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сутствие гиб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возможно выделить низкоскоростной канал в высокоскоростном потоке без его разбо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pic16_PDH_def"/>
          <p:cNvPicPr/>
          <p:nvPr/>
        </p:nvPicPr>
        <p:blipFill>
          <a:blip r:embed="rId1"/>
          <a:stretch/>
        </p:blipFill>
        <p:spPr>
          <a:xfrm>
            <a:off x="733320" y="3300480"/>
            <a:ext cx="7799400" cy="250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B7D-14B7-47EC-A8D6-734048804E7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19280" y="476100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7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867280" y="460836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тандартный узел сетевого интерфейса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etwork Node Interfa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84360" y="164772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роизвод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 стандарта для мониторинга производительности каналов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т канала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ости линейного под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тандартные линейные интерфей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627280" y="4743360"/>
            <a:ext cx="15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естандартный линейный код и уровни оптического сиг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076720" y="519264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бъединение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X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ic01_PSTN"/>
          <p:cNvPicPr/>
          <p:nvPr/>
        </p:nvPicPr>
        <p:blipFill>
          <a:blip r:embed="rId1"/>
          <a:stretch/>
        </p:blipFill>
        <p:spPr>
          <a:xfrm>
            <a:off x="538200" y="1341360"/>
            <a:ext cx="5113440" cy="4929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телефон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2EA6-0318-4D76-91EA-65BBE1225AC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726160" y="2784600"/>
            <a:ext cx="3166920" cy="15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начально межстанционные линии создавались на базе аналоговых сист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ременные линии строятся на базе цифровых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Т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Е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истем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51280" y="141300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ный звонок обрабатыв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татором АТС для местны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ом коммутации для иногородни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ГТС для иногородних/международных вызо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0EF-77C6-4F71-ACB9-EAC25BF18DF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00000" y="1754280"/>
            <a:ext cx="75596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/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ный интерфейс в сетях передачи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 мультиплексирования в оптических се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ET – Synchronous Opti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ая оптическая се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спользуется в США и Кан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 – Synchronous Digital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ая цифровая иерарх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еждународный терми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EA4-FC2A-4D59-843B-C1944D512D4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00000" y="1754280"/>
            <a:ext cx="755964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H/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динение различных цифровых с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дартизация Американских, Европейских и Японски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плексирование различных цифровых сигн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держка администрирования и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личие одного задающего ген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средственная вставка или выделение пот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зовая скорость передачи 155.52 М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полог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AB7-3814-4C2A-BEFD-058C33C8FEC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859280" y="1484280"/>
            <a:ext cx="3673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диционная топология сет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H/SONET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войное кольц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 кольцо служит для передачи данных, а другое находится в резер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ечные устройства ЛВС или других транспортных сетей подключаются через терминальные адаптеры (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ic17_SDH_structure"/>
          <p:cNvPicPr/>
          <p:nvPr/>
        </p:nvPicPr>
        <p:blipFill>
          <a:blip r:embed="rId1"/>
          <a:stretch/>
        </p:blipFill>
        <p:spPr>
          <a:xfrm>
            <a:off x="684360" y="1484280"/>
            <a:ext cx="4002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D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608-8027-4188-BAED-292AF496EFE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ic18_SDH_structure2"/>
          <p:cNvPicPr/>
          <p:nvPr/>
        </p:nvPicPr>
        <p:blipFill>
          <a:blip r:embed="rId1"/>
          <a:stretch/>
        </p:blipFill>
        <p:spPr>
          <a:xfrm>
            <a:off x="938160" y="2637000"/>
            <a:ext cx="7018560" cy="3360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755640" y="1844640"/>
            <a:ext cx="7848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оит из мультиплексоро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ux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вторител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repea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ни мультиплек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189-07D0-49EE-A28F-710A1188973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044720" y="5373720"/>
            <a:ext cx="3887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хронный транспортный сиг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C</a:t>
            </a:r>
            <a:r>
              <a:rPr b="1" lang="ru-RU" sz="1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ая нес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M</a:t>
            </a:r>
            <a:r>
              <a:rPr b="1" lang="ru-RU" sz="1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хронный транспортный моду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pic19_MUX_levels"/>
          <p:cNvPicPr/>
          <p:nvPr/>
        </p:nvPicPr>
        <p:blipFill>
          <a:blip r:embed="rId1"/>
          <a:stretch/>
        </p:blipFill>
        <p:spPr>
          <a:xfrm>
            <a:off x="1042920" y="1700280"/>
            <a:ext cx="69930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й 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52B-77B5-449D-B969-E91DFB4FE5D9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ic20_SDH_basic_frame"/>
          <p:cNvPicPr/>
          <p:nvPr/>
        </p:nvPicPr>
        <p:blipFill>
          <a:blip r:embed="rId1"/>
          <a:stretch/>
        </p:blipFill>
        <p:spPr>
          <a:xfrm>
            <a:off x="1109520" y="1733400"/>
            <a:ext cx="6991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й 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F624-8DB4-4EEF-B14B-4258F60AD00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ic21_SONET_basic_frame"/>
          <p:cNvPicPr/>
          <p:nvPr/>
        </p:nvPicPr>
        <p:blipFill>
          <a:blip r:embed="rId1"/>
          <a:stretch/>
        </p:blipFill>
        <p:spPr>
          <a:xfrm>
            <a:off x="1095480" y="1700280"/>
            <a:ext cx="69530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ей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F502-9EC6-4056-A116-51A5327973D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ic22_STM1_frame"/>
          <p:cNvPicPr/>
          <p:nvPr/>
        </p:nvPicPr>
        <p:blipFill>
          <a:blip r:embed="rId1"/>
          <a:stretch/>
        </p:blipFill>
        <p:spPr>
          <a:xfrm>
            <a:off x="1812960" y="1844640"/>
            <a:ext cx="52070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а мультиплексирова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800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AF0E-2502-4B8B-A485-A402FEC599A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ic23_SDH_mux"/>
          <p:cNvPicPr/>
          <p:nvPr/>
        </p:nvPicPr>
        <p:blipFill>
          <a:blip r:embed="rId1"/>
          <a:stretch/>
        </p:blipFill>
        <p:spPr>
          <a:xfrm>
            <a:off x="857160" y="1755720"/>
            <a:ext cx="7429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CC8-33E7-4CBA-9DE0-FAA299AD823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ic24_SDH_elements"/>
          <p:cNvPicPr/>
          <p:nvPr/>
        </p:nvPicPr>
        <p:blipFill>
          <a:blip r:embed="rId1"/>
          <a:stretch/>
        </p:blipFill>
        <p:spPr>
          <a:xfrm>
            <a:off x="1212840" y="1773360"/>
            <a:ext cx="6743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pic02_Services"/>
          <p:cNvPicPr/>
          <p:nvPr/>
        </p:nvPicPr>
        <p:blipFill>
          <a:blip r:embed="rId1"/>
          <a:stretch/>
        </p:blipFill>
        <p:spPr>
          <a:xfrm>
            <a:off x="444600" y="1320840"/>
            <a:ext cx="8253360" cy="4216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уги цифрового дост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85AE-1FF8-4FBB-853B-D1352067600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357800" y="5157720"/>
            <a:ext cx="39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Цифровая многоканальная система 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29080" y="3772080"/>
            <a:ext cx="39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Служба передачи цифровых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57800" y="2349360"/>
            <a:ext cx="39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Полнодуплексная синхро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Arial"/>
              </a:rPr>
              <a:t>СПД 56 Кбит/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DH_01"/>
          <p:cNvPicPr/>
          <p:nvPr/>
        </p:nvPicPr>
        <p:blipFill>
          <a:blip r:embed="rId1"/>
          <a:stretch/>
        </p:blipFill>
        <p:spPr>
          <a:xfrm>
            <a:off x="600120" y="1530360"/>
            <a:ext cx="807552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 потока Е1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M-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коуровневое объ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3CC8-BEF8-45C4-9BEF-62766CF3711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pic25_SDH_highmux"/>
          <p:cNvPicPr/>
          <p:nvPr/>
        </p:nvPicPr>
        <p:blipFill>
          <a:blip r:embed="rId1"/>
          <a:stretch/>
        </p:blipFill>
        <p:spPr>
          <a:xfrm>
            <a:off x="895320" y="1971720"/>
            <a:ext cx="75643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pic03_Switched56"/>
          <p:cNvPicPr/>
          <p:nvPr/>
        </p:nvPicPr>
        <p:blipFill>
          <a:blip r:embed="rId1"/>
          <a:stretch/>
        </p:blipFill>
        <p:spPr>
          <a:xfrm>
            <a:off x="755640" y="1341360"/>
            <a:ext cx="7618320" cy="2768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ed/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E64-7C61-47EE-999E-52E9BAD922D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4076640"/>
            <a:ext cx="78483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передачи данных, обеспечивающая полнодуплексный цифровой синхронный обмен данными со скоростью 56 Kбит/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ии связи являются цифровыми и не требуют мод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ой сервисный блок DSU конвертирует пользовательские данные и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биполярный формат для передачи (DDS или T1 в комбинации с CS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419640" y="1652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ная 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ic04_DDS"/>
          <p:cNvPicPr/>
          <p:nvPr/>
        </p:nvPicPr>
        <p:blipFill>
          <a:blip r:embed="rId1"/>
          <a:stretch/>
        </p:blipFill>
        <p:spPr>
          <a:xfrm>
            <a:off x="546120" y="1989000"/>
            <a:ext cx="805032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ужба передачи цифров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E09-41DF-4872-9F29-D62EF40A5A3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84360" y="4600440"/>
            <a:ext cx="7848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ются выделенные линии для передачи данных со скоростью от 64  до 128 Kбит/с и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17240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ная 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ы цифро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1058-7815-4E26-833F-E73EBB96F03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00000" y="1700280"/>
            <a:ext cx="511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 -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ная Америка, Япо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-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а, Южная Аме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й международ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ие уровня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246-1931-4880-BF3C-08FFCB8ABCE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05_Layer_comparison"/>
          <p:cNvPicPr/>
          <p:nvPr/>
        </p:nvPicPr>
        <p:blipFill>
          <a:blip r:embed="rId1"/>
          <a:stretch/>
        </p:blipFill>
        <p:spPr>
          <a:xfrm>
            <a:off x="1117440" y="1900080"/>
            <a:ext cx="691056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831960"/>
            <a:ext cx="79912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F30-098A-4756-95C6-A7D1E27DAB7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ic06_T1"/>
          <p:cNvPicPr/>
          <p:nvPr/>
        </p:nvPicPr>
        <p:blipFill>
          <a:blip r:embed="rId1"/>
          <a:stretch/>
        </p:blipFill>
        <p:spPr>
          <a:xfrm>
            <a:off x="1100160" y="1736640"/>
            <a:ext cx="6943680" cy="392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276720" y="1413000"/>
            <a:ext cx="575928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 голосовых канала дискретизируются, квантуются и кодируются в ВРК ИКМ сиг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сущая Т-1 передает данные со скоростью 1.544 Мбит/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5640" y="4292640"/>
            <a:ext cx="3600360" cy="1431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полярное код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8ZS T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3ZS T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ду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овая передача кан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993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цик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029440" y="549360"/>
            <a:ext cx="5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5FA6-4D8E-4B60-80DD-B179B0B8F67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58920" y="4443480"/>
            <a:ext cx="5977080" cy="13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нее обозначались ка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1, D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 стандарта для цикла Т-1: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D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рхцикл) и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асширенный сверхцик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5002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-3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 кадры тип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pic07_T1_frame"/>
          <p:cNvPicPr/>
          <p:nvPr/>
        </p:nvPicPr>
        <p:blipFill>
          <a:blip r:embed="rId1"/>
          <a:stretch/>
        </p:blipFill>
        <p:spPr>
          <a:xfrm>
            <a:off x="1065240" y="1711440"/>
            <a:ext cx="725184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22:32Z</dcterms:created>
  <dc:creator>Leo</dc:creator>
  <dc:description/>
  <dc:language>en-US</dc:language>
  <cp:lastModifiedBy>Пользователь</cp:lastModifiedBy>
  <dcterms:modified xsi:type="dcterms:W3CDTF">2014-01-16T09:50:26Z</dcterms:modified>
  <cp:revision>63</cp:revision>
  <dc:subject/>
  <dc:title>Слайд 1</dc:title>
</cp:coreProperties>
</file>