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054-0086-438E-8AFC-6988E757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A1D-5D8A-4120-8C94-4D00304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649-57AB-44F3-93A2-2A5D781C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46E-7B18-4558-8A42-4E258EDD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14C-22C2-46CF-9D80-6F27B4AD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D9F-56EC-473D-BF0B-0AAA230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7FE-C8B3-48A5-93E3-78D76FF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7F1-1B31-448D-B2C2-A465A44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3C3-5931-4010-A74B-B7B8F8D0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7DD-D309-475F-A56A-6AF899A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95F-84E6-41C1-A3F2-D441E88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970-502A-4960-84B3-DF77F648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5B6-D03A-4274-ADF8-B3B4AE986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Цифровые системы пере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 и сверх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3BF-7EC3-41BC-B557-228C9FB227D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ic08_T1_frame_superframe"/>
          <p:cNvPicPr/>
          <p:nvPr/>
        </p:nvPicPr>
        <p:blipFill>
          <a:blip r:embed="rId1"/>
          <a:stretch/>
        </p:blipFill>
        <p:spPr>
          <a:xfrm>
            <a:off x="961920" y="1557360"/>
            <a:ext cx="7220160" cy="4181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4211640" y="3500280"/>
            <a:ext cx="4537080" cy="2031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из 12 циклов Т-1 образу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хци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четных циклах би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ужит для синхронизации и принимает значение 10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 сигнализации вставляется в младший значащий бит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 каждого канала, но только в 6 и 12 циклах для уменьшения иск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ширенный сверх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880A-0BD4-4326-8142-4F193E42403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58920" y="4656240"/>
            <a:ext cx="5977080" cy="64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из 24 циклов образу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сширенный сверхцикл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193-й бит используется для служебных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pic09_ESF"/>
          <p:cNvPicPr/>
          <p:nvPr/>
        </p:nvPicPr>
        <p:blipFill>
          <a:blip r:embed="rId1"/>
          <a:stretch/>
        </p:blipFill>
        <p:spPr>
          <a:xfrm>
            <a:off x="925560" y="1844640"/>
            <a:ext cx="71755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льтиплекс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B5C8-33B2-41A1-A09C-90E12223181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40360" y="2060640"/>
            <a:ext cx="4176720" cy="24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альный сервисный блок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U (Channel Service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т ряд защитных и     сервисных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ой сервисный бл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U (Digital Service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ует данные от аппаратуры абонента в потенциалы и коды Т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pic10_MUX"/>
          <p:cNvPicPr/>
          <p:nvPr/>
        </p:nvPicPr>
        <p:blipFill>
          <a:blip r:embed="rId1"/>
          <a:stretch/>
        </p:blipFill>
        <p:spPr>
          <a:xfrm>
            <a:off x="684360" y="1868400"/>
            <a:ext cx="33606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 Т-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7FC-820A-4A2E-A20B-27E39199298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ic11_T1_DMH"/>
          <p:cNvPicPr/>
          <p:nvPr/>
        </p:nvPicPr>
        <p:blipFill>
          <a:blip r:embed="rId1"/>
          <a:stretch/>
        </p:blipFill>
        <p:spPr>
          <a:xfrm>
            <a:off x="890640" y="1700280"/>
            <a:ext cx="7362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цикла 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95DD-5578-43BE-89F1-C2C247CA529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ic12_E1-frame"/>
          <p:cNvPicPr/>
          <p:nvPr/>
        </p:nvPicPr>
        <p:blipFill>
          <a:blip r:embed="rId1"/>
          <a:stretch/>
        </p:blipFill>
        <p:spPr>
          <a:xfrm>
            <a:off x="1042920" y="2133720"/>
            <a:ext cx="691524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979640" y="21556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 голосовых каналов + 2 служебных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 Е-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E1C-8485-4C11-8FE8-5AF3868D7AC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ic13_E1_DMH"/>
          <p:cNvPicPr/>
          <p:nvPr/>
        </p:nvPicPr>
        <p:blipFill>
          <a:blip r:embed="rId1"/>
          <a:stretch/>
        </p:blipFill>
        <p:spPr>
          <a:xfrm>
            <a:off x="1071720" y="1609560"/>
            <a:ext cx="7000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 цифро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A067-DCEC-4927-9505-D06890CDFAF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ic14_DC_comp"/>
          <p:cNvPicPr/>
          <p:nvPr/>
        </p:nvPicPr>
        <p:blipFill>
          <a:blip r:embed="rId1"/>
          <a:stretch/>
        </p:blipFill>
        <p:spPr>
          <a:xfrm>
            <a:off x="885960" y="1844640"/>
            <a:ext cx="73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C49C-0F5E-48B6-96AF-C32CEAEB5EB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00000" y="1828800"/>
            <a:ext cx="7559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ЦИ – Плезиохронная Цифровая Иерарх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ые системы передачи (Т- или Е-) объединяют низкоскоростные потоки для увеличения скор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ое устройство имеет свой задающий генер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товые частоты в различных потоках немного отли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авка выравнивающих 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556-EDB6-43E6-BC5B-D34614F3128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ic15_PDH_mxdmx"/>
          <p:cNvPicPr/>
          <p:nvPr/>
        </p:nvPicPr>
        <p:blipFill>
          <a:blip r:embed="rId1"/>
          <a:stretch/>
        </p:blipFill>
        <p:spPr>
          <a:xfrm>
            <a:off x="1104840" y="3068640"/>
            <a:ext cx="69343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348000" y="574668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бон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74920" y="465300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ыделение низкоскоростного пото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(демультиплекс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651640" y="468000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ставка низкоскоростного потока (мультиплекс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403280" y="306864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ение потока 2 Мбит/с из канала 140 М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84360" y="1647720"/>
            <a:ext cx="7848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гиб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озможно выделить низкоскоростной канал в высокоскоростном потоке без его разбо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pic16_PDH_def"/>
          <p:cNvPicPr/>
          <p:nvPr/>
        </p:nvPicPr>
        <p:blipFill>
          <a:blip r:embed="rId1"/>
          <a:stretch/>
        </p:blipFill>
        <p:spPr>
          <a:xfrm>
            <a:off x="733320" y="3300480"/>
            <a:ext cx="7799400" cy="250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F0BE-3C04-4EF9-9192-23C3B6BC377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19280" y="476100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7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867280" y="460836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тандартный узел сетевого интерфейса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etwork Node Interfa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84360" y="164772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роизвод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 стандарта для мониторинга производительности каналов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 канала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ости линейного под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ндартные линейные интерфей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627280" y="4743360"/>
            <a:ext cx="15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естандартный линейный код и уровни оптического сиг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76720" y="519264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бъединение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X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ic01_PSTN"/>
          <p:cNvPicPr/>
          <p:nvPr/>
        </p:nvPicPr>
        <p:blipFill>
          <a:blip r:embed="rId1"/>
          <a:stretch/>
        </p:blipFill>
        <p:spPr>
          <a:xfrm>
            <a:off x="538200" y="1341360"/>
            <a:ext cx="5113440" cy="4929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телефон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ED0-7547-4546-ADCC-159A246CE8C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726160" y="2784600"/>
            <a:ext cx="3166920" cy="15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начально межстанционные линии создавались на базе аналоговых сист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ременные линии строятся на базе цифровых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Т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Е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истем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51280" y="141300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ный звонок обрабатыв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татором АТС для местны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ом коммутации для иногородни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ГТС для иногородних/международны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7C2-F3DF-40A7-BCA9-08D9C91DB4F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00000" y="1754280"/>
            <a:ext cx="75596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/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ный интерфейс в сетях передачи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 мультиплексирования в оптических се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ET – Synchronous Opti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ая оптическая се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спользуется в США и Кан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 – Synchronous Digital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ая цифровая иерарх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еждународный терми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260-A7B1-473A-B7E2-6DD35FC27BF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00000" y="1754280"/>
            <a:ext cx="755964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/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динение различных цифров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изация Американских, Европейских и Японски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плексирование различных цифровых сигн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ержка администрирования и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личие одного задающего ген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средственная вставка или выделение пот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зовая скорость передачи 155.52 М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полог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63C-51FD-4912-BBB0-E95CAA51764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859280" y="1484280"/>
            <a:ext cx="367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диционная топология сет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H/SONET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войное кольц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 кольцо служит для передачи данных, а другое находится в резер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ечные устройства ЛВС или других транспортных сетей подключаются через терминальные адаптеры (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ic17_SDH_structure"/>
          <p:cNvPicPr/>
          <p:nvPr/>
        </p:nvPicPr>
        <p:blipFill>
          <a:blip r:embed="rId1"/>
          <a:stretch/>
        </p:blipFill>
        <p:spPr>
          <a:xfrm>
            <a:off x="684360" y="1484280"/>
            <a:ext cx="4002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944E-B2BC-4298-AEC3-7C168E03FD0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ic18_SDH_structure2"/>
          <p:cNvPicPr/>
          <p:nvPr/>
        </p:nvPicPr>
        <p:blipFill>
          <a:blip r:embed="rId1"/>
          <a:stretch/>
        </p:blipFill>
        <p:spPr>
          <a:xfrm>
            <a:off x="938160" y="2637000"/>
            <a:ext cx="7018560" cy="3360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755640" y="1844640"/>
            <a:ext cx="7848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оит из мультиплексоро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ux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вторител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repea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0E39-0366-4F3E-A942-D12B85A79B8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044720" y="5373720"/>
            <a:ext cx="3887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хронный транспортный сиг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C</a:t>
            </a:r>
            <a:r>
              <a:rPr b="1" lang="ru-RU" sz="1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ая нес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M</a:t>
            </a:r>
            <a:r>
              <a:rPr b="1" lang="ru-RU" sz="1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хронный транспортный моду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pic19_MUX_levels"/>
          <p:cNvPicPr/>
          <p:nvPr/>
        </p:nvPicPr>
        <p:blipFill>
          <a:blip r:embed="rId1"/>
          <a:stretch/>
        </p:blipFill>
        <p:spPr>
          <a:xfrm>
            <a:off x="1042920" y="1700280"/>
            <a:ext cx="6993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й 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130-1F2F-4140-AF81-97BD169313F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ic20_SDH_basic_frame"/>
          <p:cNvPicPr/>
          <p:nvPr/>
        </p:nvPicPr>
        <p:blipFill>
          <a:blip r:embed="rId1"/>
          <a:stretch/>
        </p:blipFill>
        <p:spPr>
          <a:xfrm>
            <a:off x="1109520" y="1733400"/>
            <a:ext cx="6991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й 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F1C-4830-4F04-9798-57E19D07D08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ic21_SONET_basic_frame"/>
          <p:cNvPicPr/>
          <p:nvPr/>
        </p:nvPicPr>
        <p:blipFill>
          <a:blip r:embed="rId1"/>
          <a:stretch/>
        </p:blipFill>
        <p:spPr>
          <a:xfrm>
            <a:off x="1095480" y="1700280"/>
            <a:ext cx="69530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AA9-3E42-48D7-89CF-4028371A035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ic22_STM1_frame"/>
          <p:cNvPicPr/>
          <p:nvPr/>
        </p:nvPicPr>
        <p:blipFill>
          <a:blip r:embed="rId1"/>
          <a:stretch/>
        </p:blipFill>
        <p:spPr>
          <a:xfrm>
            <a:off x="1812960" y="1844640"/>
            <a:ext cx="52070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а мультиплексирова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800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5CCC-390A-49A5-8217-CCC7939366A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ic23_SDH_mux"/>
          <p:cNvPicPr/>
          <p:nvPr/>
        </p:nvPicPr>
        <p:blipFill>
          <a:blip r:embed="rId1"/>
          <a:stretch/>
        </p:blipFill>
        <p:spPr>
          <a:xfrm>
            <a:off x="857160" y="1755720"/>
            <a:ext cx="7429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9DF-8EA8-4450-A225-C0CAF423F37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ic24_SDH_elements"/>
          <p:cNvPicPr/>
          <p:nvPr/>
        </p:nvPicPr>
        <p:blipFill>
          <a:blip r:embed="rId1"/>
          <a:stretch/>
        </p:blipFill>
        <p:spPr>
          <a:xfrm>
            <a:off x="1212840" y="1773360"/>
            <a:ext cx="6743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pic02_Services"/>
          <p:cNvPicPr/>
          <p:nvPr/>
        </p:nvPicPr>
        <p:blipFill>
          <a:blip r:embed="rId1"/>
          <a:stretch/>
        </p:blipFill>
        <p:spPr>
          <a:xfrm>
            <a:off x="444600" y="1320840"/>
            <a:ext cx="8253360" cy="4216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уги цифрового дост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006-35C3-4D95-8797-1F8A8969042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357800" y="5157720"/>
            <a:ext cx="39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Цифровая многоканальная система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29080" y="3772080"/>
            <a:ext cx="39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Служба передачи цифровых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57800" y="2349360"/>
            <a:ext cx="39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Полнодуплексная синхро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СПД 56 Кбит/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DH_01"/>
          <p:cNvPicPr/>
          <p:nvPr/>
        </p:nvPicPr>
        <p:blipFill>
          <a:blip r:embed="rId1"/>
          <a:stretch/>
        </p:blipFill>
        <p:spPr>
          <a:xfrm>
            <a:off x="600120" y="1530360"/>
            <a:ext cx="807552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потока Е1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-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коуровневое объ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7F02-6CEB-4913-9A68-BFF6B185021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pic25_SDH_highmux"/>
          <p:cNvPicPr/>
          <p:nvPr/>
        </p:nvPicPr>
        <p:blipFill>
          <a:blip r:embed="rId1"/>
          <a:stretch/>
        </p:blipFill>
        <p:spPr>
          <a:xfrm>
            <a:off x="895320" y="1971720"/>
            <a:ext cx="75643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pic03_Switched56"/>
          <p:cNvPicPr/>
          <p:nvPr/>
        </p:nvPicPr>
        <p:blipFill>
          <a:blip r:embed="rId1"/>
          <a:stretch/>
        </p:blipFill>
        <p:spPr>
          <a:xfrm>
            <a:off x="755640" y="1341360"/>
            <a:ext cx="7618320" cy="2768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ed/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077-51AF-4BA7-9B83-02CC17655AE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4076640"/>
            <a:ext cx="78483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передачи данных, обеспечивающая полнодуплексный цифровой синхронный обмен данными со скоростью 56 K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ии связи являются цифровыми и не требуют мод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ой сервисный блок DSU конвертирует пользовательские данные и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биполярный формат для передачи (DDS или T1 в комбинации с CS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419640" y="1652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ная 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ic04_DDS"/>
          <p:cNvPicPr/>
          <p:nvPr/>
        </p:nvPicPr>
        <p:blipFill>
          <a:blip r:embed="rId1"/>
          <a:stretch/>
        </p:blipFill>
        <p:spPr>
          <a:xfrm>
            <a:off x="546120" y="1989000"/>
            <a:ext cx="805032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ужба передачи цифров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FB6C-2425-4207-8C05-E483E6C5CF0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4360" y="4600440"/>
            <a:ext cx="7848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ются выделенные линии для передачи данных со скоростью от 64  до 128 Kбит/с и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17240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ная 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ы цифро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F6F1-7A0B-44E8-8D5E-1B7CC2D05EF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00000" y="1700280"/>
            <a:ext cx="511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 -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ная Америка, Яп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-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а, Южная Аме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международ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ие уровня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3A8D-A692-4748-9E21-D3556A545A3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05_Layer_comparison"/>
          <p:cNvPicPr/>
          <p:nvPr/>
        </p:nvPicPr>
        <p:blipFill>
          <a:blip r:embed="rId1"/>
          <a:stretch/>
        </p:blipFill>
        <p:spPr>
          <a:xfrm>
            <a:off x="1117440" y="1900080"/>
            <a:ext cx="691056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831960"/>
            <a:ext cx="79912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6236-4830-4D5F-BB31-7F377F1FB59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ic06_T1"/>
          <p:cNvPicPr/>
          <p:nvPr/>
        </p:nvPicPr>
        <p:blipFill>
          <a:blip r:embed="rId1"/>
          <a:stretch/>
        </p:blipFill>
        <p:spPr>
          <a:xfrm>
            <a:off x="1100160" y="1736640"/>
            <a:ext cx="6943680" cy="392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276720" y="1413000"/>
            <a:ext cx="575928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 голосовых канала дискретизируются, квантуются и кодируются в ВРК ИКМ сиг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ущая Т-1 передает данные со скоростью 1.544 Мбит/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5640" y="4292640"/>
            <a:ext cx="3600360" cy="1431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полярное код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8ZS T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3ZS T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ду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ая передача кан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цик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6A0-EA3B-4527-903D-39A23D36DE5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58920" y="4443480"/>
            <a:ext cx="5977080" cy="13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нее обозначались ка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1, D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 стандарта для цикла Т-1: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D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рхцикл) и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асширенный сверхцик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3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 кадры тип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pic07_T1_frame"/>
          <p:cNvPicPr/>
          <p:nvPr/>
        </p:nvPicPr>
        <p:blipFill>
          <a:blip r:embed="rId1"/>
          <a:stretch/>
        </p:blipFill>
        <p:spPr>
          <a:xfrm>
            <a:off x="1065240" y="1711440"/>
            <a:ext cx="725184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22:32Z</dcterms:created>
  <dc:creator>Leo</dc:creator>
  <dc:description/>
  <dc:language>en-US</dc:language>
  <cp:lastModifiedBy>Пользователь</cp:lastModifiedBy>
  <dcterms:modified xsi:type="dcterms:W3CDTF">2014-01-16T09:50:26Z</dcterms:modified>
  <cp:revision>63</cp:revision>
  <dc:subject/>
  <dc:title>Слайд 1</dc:title>
</cp:coreProperties>
</file>