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png" ContentType="image/png"/>
  <Override PartName="/ppt/media/image6.png" ContentType="image/png"/>
  <Override PartName="/ppt/media/GUNSHOT.WAV" ContentType="audio/x-wav"/>
  <Override PartName="/ppt/media/image5.png" ContentType="image/png"/>
  <Override PartName="/ppt/media/CAMERA.WAV" ContentType="audio/x-wav"/>
  <Override PartName="/ppt/media/image10.png" ContentType="image/png"/>
  <Override PartName="/ppt/media/image2.png" ContentType="image/png"/>
  <Override PartName="/ppt/media/image3.png" ContentType="image/png"/>
  <Override PartName="/ppt/media/EXPLODE.WAV" ContentType="audio/x-wav"/>
  <Override PartName="/ppt/media/image4.png" ContentType="image/png"/>
  <Override PartName="/ppt/media/image1.jpeg" ContentType="image/jpe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A102-F340-42F9-985F-DE4E727E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2D1-D96B-45BF-87FE-F43FA4AF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021B-7B51-4B34-A435-1A583370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699B-049B-4D16-B7F7-F5EC596D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9B32-CC69-4F17-900F-7345BCB4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FF13-9EAD-40CC-B991-AEFC5BAC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7FCF-070B-4AD7-B4FA-0A5ECF59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0751-97B0-4F05-8505-278C6112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0388-7E0F-4A73-AA65-18A34409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0D51-230F-441A-BF8B-96B4BF94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0D3F-24E1-4DFD-B412-3DC0DDFB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2B8D-9D93-48CA-8BEB-B03C431E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3DAC-ABDC-45E3-8C7C-445ECD73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6B88-5C10-48B8-910C-9664750B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1B09-9876-4FA6-A667-E83417D2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04B6-25E1-4460-95E1-CD683321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77AA-5AC0-4E34-9A83-BC4BD460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28A-8454-459B-A702-9FA97B79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3532-6946-4536-A235-86C35813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DEFB-3C34-486B-AAA3-F9DBDF41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32C-C9C2-42CE-9870-6FF1DD68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5C98-487B-468E-B01C-049C2538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FB9-44B8-4BF8-AF46-3735C13D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A215-D1E2-43F1-B938-C7DEF55D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DBC4-59B8-4C0D-9779-809924F866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9AA3-D302-4B33-97A5-7B8954E1544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Закон Архимеда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униципальное общеобразовательное учережде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редняя общеобразовательная школа №20 г. Чебокса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619880" y="6570720"/>
            <a:ext cx="70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009 год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ила Архимед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3" name="Picture 3" descr="1-15-3"/>
          <p:cNvPicPr/>
          <p:nvPr/>
        </p:nvPicPr>
        <p:blipFill>
          <a:blip r:embed="rId1"/>
          <a:stretch/>
        </p:blipFill>
        <p:spPr>
          <a:xfrm>
            <a:off x="900000" y="1916280"/>
            <a:ext cx="766764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ила Архимед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3"/>
              <p:cNvSpPr txBox="1"/>
              <p:nvPr/>
            </p:nvSpPr>
            <p:spPr>
              <a:xfrm>
                <a:off x="4633920" y="1844640"/>
                <a:ext cx="40338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517680" y="1989000"/>
                <a:ext cx="4033800" cy="116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талкивающая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87" name="Picture 5" descr="N3"/>
          <p:cNvPicPr/>
          <p:nvPr/>
        </p:nvPicPr>
        <p:blipFill>
          <a:blip r:embed="rId1"/>
          <a:stretch/>
        </p:blipFill>
        <p:spPr>
          <a:xfrm>
            <a:off x="6156360" y="3860640"/>
            <a:ext cx="2376360" cy="22510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900000" y="3213000"/>
            <a:ext cx="431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чина возникновения выталкивающей силы в разности сил на разных глубин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AutoShape 7">
            <a:hlinkClick r:id="" action="ppaction://hlinkshowjump?jump=previousslide"/>
          </p:cNvPr>
          <p:cNvSpPr/>
          <p:nvPr/>
        </p:nvSpPr>
        <p:spPr>
          <a:xfrm>
            <a:off x="179280" y="630864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2db3b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Архидед открыл три условия, которые стали основой науки о плавани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752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ahoma"/>
              </a:rPr>
              <a:t>АР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mg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ло всплывает, до тех пор, пока силы не уравновеся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АРХ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mg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ло тон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АРХ.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g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ло плавает в любой точке жидкости (газ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1"/>
          <p:cNvPicPr/>
          <p:nvPr/>
        </p:nvPicPr>
        <p:blipFill>
          <a:blip r:embed="rId1"/>
          <a:stretch/>
        </p:blipFill>
        <p:spPr>
          <a:xfrm>
            <a:off x="5364000" y="1700280"/>
            <a:ext cx="1065240" cy="2224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2"/>
          <p:cNvPicPr/>
          <p:nvPr/>
        </p:nvPicPr>
        <p:blipFill>
          <a:blip r:embed="rId2"/>
          <a:stretch/>
        </p:blipFill>
        <p:spPr>
          <a:xfrm>
            <a:off x="6588000" y="2781360"/>
            <a:ext cx="1081080" cy="2666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3"/>
          <p:cNvPicPr/>
          <p:nvPr/>
        </p:nvPicPr>
        <p:blipFill>
          <a:blip r:embed="rId3"/>
          <a:stretch/>
        </p:blipFill>
        <p:spPr>
          <a:xfrm>
            <a:off x="7812000" y="3933720"/>
            <a:ext cx="10429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7" name="FOfficeDoc1"/>
          <p:cNvGraphicFramePr/>
          <p:nvPr/>
        </p:nvGraphicFramePr>
        <p:xfrm>
          <a:off x="826920" y="101520"/>
          <a:ext cx="8317080" cy="665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01520"/>
                    <a:ext cx="8317080" cy="66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AutoShape 5">
            <a:hlinkClick r:id="" action="ppaction://hlinkshowjump?jump=previousslide"/>
          </p:cNvPr>
          <p:cNvSpPr/>
          <p:nvPr/>
        </p:nvSpPr>
        <p:spPr>
          <a:xfrm>
            <a:off x="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2db3b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931160" cy="28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ила Архимеда равна произведению плотности жидкости на коэффициент 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и на объем тел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1" name="Picture 3" descr="__55113"/>
          <p:cNvPicPr/>
          <p:nvPr/>
        </p:nvPicPr>
        <p:blipFill>
          <a:blip r:embed="rId1"/>
          <a:stretch/>
        </p:blipFill>
        <p:spPr>
          <a:xfrm>
            <a:off x="4896000" y="3357720"/>
            <a:ext cx="2528640" cy="289080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4">
            <a:hlinkClick r:id="" action="ppaction://hlinkshowjump?jump=previousslide"/>
          </p:cNvPr>
          <p:cNvSpPr/>
          <p:nvPr/>
        </p:nvSpPr>
        <p:spPr>
          <a:xfrm>
            <a:off x="179280" y="623736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2db3b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Условие плавания тел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плотность тела больше плотности жидкости, то тело в ней тон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плотность тела меньше плотности жидкости, то тело в ней всплыва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равенстве плотностей тела и жидкости, тело плава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4" descr="__55114"/>
          <p:cNvPicPr/>
          <p:nvPr/>
        </p:nvPicPr>
        <p:blipFill>
          <a:blip r:embed="rId1"/>
          <a:stretch/>
        </p:blipFill>
        <p:spPr>
          <a:xfrm>
            <a:off x="5003640" y="4797360"/>
            <a:ext cx="3673800" cy="185256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5">
            <a:hlinkClick r:id="" action="ppaction://hlinkshowjump?jump=previousslide"/>
          </p:cNvPr>
          <p:cNvSpPr/>
          <p:nvPr/>
        </p:nvSpPr>
        <p:spPr>
          <a:xfrm>
            <a:off x="179280" y="623736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2db3b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Архимед (287 -  212 до н.э.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252360" y="1599840"/>
            <a:ext cx="496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Древнегреческий ученый, математики и изобретатель, родился в Сиракуза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4" descr="arhimed"/>
          <p:cNvPicPr/>
          <p:nvPr/>
        </p:nvPicPr>
        <p:blipFill>
          <a:blip r:embed="rId1"/>
          <a:stretch/>
        </p:blipFill>
        <p:spPr>
          <a:xfrm>
            <a:off x="4716360" y="1628640"/>
            <a:ext cx="4191120" cy="494028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5">
            <a:hlinkClick r:id="" action="ppaction://hlinkshowjump?jump=previousslide"/>
          </p:cNvPr>
          <p:cNvSpPr/>
          <p:nvPr/>
        </p:nvSpPr>
        <p:spPr>
          <a:xfrm>
            <a:off x="179280" y="630864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2db3b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рхимед ( 287 – 212 гг. до н.э.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075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химед посвятил себя математике и механике. Сконструированные им аппараты и машины воспринимались современниками как чудеса техники. Он открыл закон об удельном весе и изучал теорию подъемных механизм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реди его изобретений – Архимедов винт, устройство для поднятия воды или сыпучих материалов, таких как песок. Архимед говорил о рычаге, теорией которого он занимался: «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айте мне точку опоры, и я переверну весь мир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4">
            <a:hlinkClick r:id="" action="ppaction://hlinkshowjump?jump=previousslide"/>
          </p:cNvPr>
          <p:cNvSpPr/>
          <p:nvPr/>
        </p:nvSpPr>
        <p:spPr>
          <a:xfrm>
            <a:off x="179280" y="630864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2db3b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Закон Паскал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569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авление в жидкости или газе передается во всех направлениях одинаково и не зависит от ориентации площадки, на которую оно действует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1-15-1"/>
          <p:cNvPicPr/>
          <p:nvPr/>
        </p:nvPicPr>
        <p:blipFill>
          <a:blip r:embed="rId1"/>
          <a:stretch/>
        </p:blipFill>
        <p:spPr>
          <a:xfrm>
            <a:off x="1692360" y="3573360"/>
            <a:ext cx="5832360" cy="300528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5">
            <a:hlinkClick r:id="" action="ppaction://hlinkshowjump?jump=previousslide"/>
          </p:cNvPr>
          <p:cNvSpPr/>
          <p:nvPr/>
        </p:nvSpPr>
        <p:spPr>
          <a:xfrm>
            <a:off x="179280" y="630864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2db3b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99"/>
                </a:solidFill>
                <a:latin typeface="Arial"/>
              </a:rPr>
              <a:t>Давление жидкости на дно или боковые стенки сосуда зависит от высоты столба жидкости</a:t>
            </a:r>
            <a:br>
              <a:rPr sz="4200"/>
            </a:br>
            <a:br>
              <a:rPr sz="42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ила давления на дно цилиндрического сосуда высоты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и площади основания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равна весу столба жидкости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где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ρghS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масса жидкости в сосуде,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плотность жидкости.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AutoShape 3">
            <a:hlinkClick r:id="" action="ppaction://hlinkshowjump?jump=previousslide"/>
          </p:cNvPr>
          <p:cNvSpPr/>
          <p:nvPr/>
        </p:nvSpPr>
        <p:spPr>
          <a:xfrm>
            <a:off x="179280" y="630864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2db3b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Давление столба жидкости </a:t>
            </a: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ρgh 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называют </a:t>
            </a:r>
            <a:r>
              <a:rPr b="1" i="1" lang="ru-RU" sz="4000" spc="-1" strike="noStrike">
                <a:solidFill>
                  <a:srgbClr val="ffff99"/>
                </a:solidFill>
                <a:latin typeface="Arial"/>
              </a:rPr>
              <a:t>гидростатическим давлением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3"/>
              <p:cNvSpPr txBox="1"/>
              <p:nvPr/>
            </p:nvSpPr>
            <p:spPr>
              <a:xfrm>
                <a:off x="1187280" y="3068640"/>
                <a:ext cx="7113600" cy="17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hSg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AutoShape 4">
            <a:hlinkClick r:id="" action="ppaction://hlinkshowjump?jump=previousslide"/>
          </p:cNvPr>
          <p:cNvSpPr/>
          <p:nvPr/>
        </p:nvSpPr>
        <p:spPr>
          <a:xfrm>
            <a:off x="250920" y="630864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2db3b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99"/>
                </a:solidFill>
                <a:latin typeface="Arial"/>
              </a:rPr>
              <a:t>Закон Архимеда</a:t>
            </a:r>
            <a:r>
              <a:rPr b="0" lang="ru-RU" sz="3400" spc="-1" strike="noStrike">
                <a:solidFill>
                  <a:srgbClr val="ffff99"/>
                </a:solidFill>
                <a:latin typeface="Arial"/>
              </a:rPr>
              <a:t> формулируется так: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8893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рхимедова сила, действующая на погруженное в жидкость (или газ) тело, равна весу жидкости (или газа), вытесненной тел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4" descr="04b-i1"/>
          <p:cNvPicPr/>
          <p:nvPr/>
        </p:nvPicPr>
        <p:blipFill>
          <a:blip r:embed="rId1"/>
          <a:stretch/>
        </p:blipFill>
        <p:spPr>
          <a:xfrm>
            <a:off x="5148360" y="3059280"/>
            <a:ext cx="3995640" cy="3600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N3"/>
          <p:cNvPicPr/>
          <p:nvPr/>
        </p:nvPicPr>
        <p:blipFill>
          <a:blip r:embed="rId2"/>
          <a:stretch/>
        </p:blipFill>
        <p:spPr>
          <a:xfrm>
            <a:off x="1116000" y="4076640"/>
            <a:ext cx="2376360" cy="225108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6">
            <a:hlinkClick r:id="" action="ppaction://hlinkshowjump?jump=previousslide"/>
          </p:cNvPr>
          <p:cNvSpPr/>
          <p:nvPr/>
        </p:nvSpPr>
        <p:spPr>
          <a:xfrm>
            <a:off x="179280" y="630864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2db3b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Сила Архимед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7" name="Picture 3" descr="1-15-3"/>
          <p:cNvPicPr/>
          <p:nvPr/>
        </p:nvPicPr>
        <p:blipFill>
          <a:blip r:embed="rId1"/>
          <a:stretch/>
        </p:blipFill>
        <p:spPr>
          <a:xfrm>
            <a:off x="0" y="1436760"/>
            <a:ext cx="9144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67564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99"/>
                </a:solidFill>
                <a:latin typeface="Arial"/>
              </a:rPr>
              <a:t>В жидкость погружено тело в виде прямоугольного параллелепипеда высотой </a:t>
            </a:r>
            <a:r>
              <a:rPr b="0" i="1" lang="ru-RU" sz="3400" spc="-1" strike="noStrike">
                <a:solidFill>
                  <a:srgbClr val="ffff99"/>
                </a:solidFill>
                <a:latin typeface="Arial"/>
              </a:rPr>
              <a:t>h</a:t>
            </a:r>
            <a:r>
              <a:rPr b="0" lang="ru-RU" sz="3400" spc="-1" strike="noStrike">
                <a:solidFill>
                  <a:srgbClr val="ffff99"/>
                </a:solidFill>
                <a:latin typeface="Arial"/>
              </a:rPr>
              <a:t> и площадью основания </a:t>
            </a:r>
            <a:r>
              <a:rPr b="0" i="1" lang="ru-RU" sz="34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7921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ность давлений на нижнюю и верхнюю грани есть: </a:t>
            </a:r>
            <a:br>
              <a:rPr sz="32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= 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– 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= ρ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gh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этому выталкивающая сила   будет направлена вверх, и ее модуль равен </a:t>
            </a:r>
            <a:br>
              <a:rPr sz="3200"/>
            </a:b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= 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– 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= 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= ρ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gSh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= ρ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gV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объем вытесненной телом жидкости, а ρ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ее м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AutoShape 4">
            <a:hlinkClick r:id="" action="ppaction://hlinkshowjump?jump=previousslide"/>
          </p:cNvPr>
          <p:cNvSpPr/>
          <p:nvPr/>
        </p:nvSpPr>
        <p:spPr>
          <a:xfrm>
            <a:off x="179280" y="630864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2db3b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5" descr="__55113"/>
          <p:cNvPicPr/>
          <p:nvPr/>
        </p:nvPicPr>
        <p:blipFill>
          <a:blip r:embed="rId1"/>
          <a:stretch/>
        </p:blipFill>
        <p:spPr>
          <a:xfrm>
            <a:off x="7369200" y="4829040"/>
            <a:ext cx="177480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6:06:22Z</dcterms:created>
  <dc:creator>Гомулина Н.Н.</dc:creator>
  <dc:description/>
  <dc:language>en-US</dc:language>
  <cp:lastModifiedBy>PAVLOVbl</cp:lastModifiedBy>
  <dcterms:modified xsi:type="dcterms:W3CDTF">2022-12-30T19:31:04Z</dcterms:modified>
  <cp:revision>18</cp:revision>
  <dc:subject/>
  <dc:title>Закон Архимеда</dc:title>
</cp:coreProperties>
</file>