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084-273D-46C0-A4AB-00CF0D2F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53B-9386-4769-B1E5-B9678A6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DC4-1C4F-401A-A578-A0DD9FA9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D08-C966-4219-93EC-4C6EA8C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966-AB85-46C9-BA36-04A289E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401B-36C6-4CF6-900B-002DE55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768-6185-4128-B776-F90C21C7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3F60-99BD-4824-8D08-AC4B25D3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1176-9ADD-4CF5-85FE-2B93C8C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89EA-8927-436C-A38A-FFF23C8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48EF-23FF-4CB2-89D3-5113834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82F-576B-4390-8687-E2A5F14B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323B-2D45-405F-A46F-6C3EA1D3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7A4B-815E-4919-9DF7-7FDCBA0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C609-922F-40A6-977C-B82B3A68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A599-EFB9-4486-AA9C-6C335DFA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50A-2607-4066-889F-E7576723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6D66-2646-4ED4-8632-35E7A2E7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AE0D-74D6-4CDB-9F04-BC6FDCE5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1C47-13DD-49A0-870D-F89093DC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63B0-62A1-4979-A51C-90B4F7D4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F7F2-5C90-4C66-B6E5-3F71119D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5AA-3F59-4A59-A426-A1BE539E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2864-65A7-49AA-A3B8-87729938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6AC8-E2D2-4E18-84FA-C9C06F6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2345-9FA7-4708-873B-79BE993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F1D3-AA26-480E-963C-80544BDB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8014-5C66-4634-ACCF-D93B0E50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20F0-1F9D-4DAC-8376-8BD3ABAA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282F-DCE7-483E-8753-C92924D0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451-6512-44ED-9971-084396B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1C3-424D-4F91-B984-CDDFD5E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E78-7F6E-4B00-98AA-E319A2A8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0B1-87D2-4DA4-B863-C00D980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BF7-2E80-4D39-8586-FE22E45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2E0-6E99-4283-A8DC-E85CDD5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C54079-83D2-454D-AD8E-2C96EB374126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142261-BD36-4834-9883-1A94B31377A0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9B045B-CB6E-441E-88DB-6592FCDB67A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857160"/>
            <a:ext cx="78512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29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9800" spc="-1" strike="noStrike">
                <a:solidFill>
                  <a:srgbClr val="c00000"/>
                </a:solidFill>
                <a:latin typeface="Calibri"/>
              </a:rPr>
              <a:t>Деятельность</a:t>
            </a:r>
            <a:endParaRPr b="0" lang="ru-RU" sz="9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14200" y="1450800"/>
            <a:ext cx="8715240" cy="301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окупность действий, объединенных единой цел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бывают близкие и даль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900" spc="-1" strike="noStrike">
                <a:solidFill>
                  <a:srgbClr val="c00000"/>
                </a:solidFill>
                <a:latin typeface="Times New Roman"/>
              </a:rPr>
              <a:t>Знания, умения, навыки</a:t>
            </a:r>
            <a:br>
              <a:rPr sz="5000"/>
            </a:br>
            <a:endParaRPr b="0" lang="ru-RU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на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-результат процесса познания действительност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142920" y="1520640"/>
            <a:ext cx="8786520" cy="271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успешный способ выполнения деятельности в новых условиях, сознательное применение имеющихся знаний и навыков для выполнения более сложных действий в различ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42920" y="1951200"/>
            <a:ext cx="8786520" cy="265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частично автоматизированные действия, которые образуются в результате упраж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пособ выполнения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214200" y="247320"/>
            <a:ext cx="8643600" cy="642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вык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, бег, спортивные навыки, письм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е (интеллектуальные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, вычисление, доказательство теорем, чтение чертежей, заучивание и пр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ые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анные с восприятием (различения оттенков цветов, слуховые различения и п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повед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1095840"/>
            <a:ext cx="864360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-автоматические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это умение, возможность произвести то или иное действие без особого контроля сознания, 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отребность произвести соответствующее дей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500040" y="928800"/>
            <a:ext cx="8072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го поведения и друг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22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сихологическая характеристика деятельности</a:t>
            </a:r>
            <a:br>
              <a:rPr sz="5000"/>
            </a:b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ировании отношения человека к деятельности, в развитии его мотивационной сферы большое значение имеет: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успех или неуспех в деятельности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притязаний лич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достижени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428400" y="249480"/>
            <a:ext cx="8715240" cy="691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 или неуспех в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а в достижении поставленной цели, в выполнении деятельности или создании ее продук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щественное признание достигнутой у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и оценка со стороны окружающих оказывает большое влияние на мотивы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14240" y="571320"/>
            <a:ext cx="7714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сихологические условия позитивного оценивания деятельности своей и другого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должна быть результатом, а не целью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чительно легче делать свое дело в доброжелательной обстанов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ка, направленная на личность в целом, действует иначе, чем оценка, направленная на те или иные действия человека или на результат этих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5000" spc="-1" strike="noStrike">
                <a:solidFill>
                  <a:srgbClr val="c00000"/>
                </a:solidFill>
                <a:latin typeface="Times New Roman"/>
              </a:rPr>
              <a:t>Понятие </a:t>
            </a:r>
            <a:r>
              <a:rPr b="0" i="1" lang="ru-RU" sz="5000" spc="-1" strike="noStrike">
                <a:solidFill>
                  <a:srgbClr val="c00000"/>
                </a:solidFill>
                <a:latin typeface="Times New Roman"/>
              </a:rPr>
              <a:t>о </a:t>
            </a:r>
            <a:r>
              <a:rPr b="1" i="1" lang="ru-RU" sz="5000" spc="-1" strike="noStrike">
                <a:solidFill>
                  <a:srgbClr val="c00000"/>
                </a:solidFill>
                <a:latin typeface="Times New Roman"/>
              </a:rPr>
              <a:t>деятельности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ь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активность человека, направленная на достижение сознательно поставленной цели.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658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итязаний и уровень достижений личности</a:t>
            </a:r>
            <a:br>
              <a:rPr sz="5400"/>
            </a:b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ровен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тязани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личности — это стремление к достижению цели той степени сложности, на которую человек считает себя способны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285840" y="599400"/>
            <a:ext cx="8572320" cy="505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а человека в решающей степени складывается на основании успеха или неуспеха в значимой для него деятельности и формирует тот или иной уровень притязаний личности на достижения в этой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ован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деятельности уровень притязания личн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крепля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е самоуважени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еализован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уш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не дает возможности вообще сформиро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214200" y="222480"/>
            <a:ext cx="8715240" cy="164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психолог У. Джеймс вывел формулу самооценки, которую обозначал термином «самоуважение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28640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Основные виды деятельност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ым, исторически первым видом деятельности человека явля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у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основные виды деятельности -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гра, учение, труд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присутствуют в жизни каждого человека, в недрах этих деятельностей происходит развитие психики и личности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Основные виды деятельност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эти основные виды деятельности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изолированы друг от друга,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ни взаимодействуют,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огащают друг друга,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вая тем самым новые перспективы развития личности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14200" y="27360"/>
            <a:ext cx="8429400" cy="56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наибольшей степени способствует развитию психики и личности ребенка на данном возрастном эта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бенка дошкольного возраста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школьника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деят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зрослого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и учебная деятельность создают условия для развития способностей и личности ребенка, обеспечивающих ему возможность достойного вхождения в трудовую деятельность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714240" y="1143000"/>
            <a:ext cx="771480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реб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сточник активности личности, они заставляют человека активно дей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ре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это осознание человеком нужды в чем-либо, что ему необходимо для поддержания организма и развития его ли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00000"/>
                </a:solidFill>
                <a:latin typeface="Times New Roman"/>
              </a:rPr>
              <a:t>Виды потребностей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3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ественные потреб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вляются врожденными, но к моменту рождения они еще окончательно не сформированы и развиваются в течение всей жизни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214200" y="1054800"/>
            <a:ext cx="8500680" cy="42958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, или духовные, потреб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ются в результате воздейств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ловесном общении с другими людь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требность в знаниях, в активном участии в общественной жиз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е потре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тру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14200" y="1948320"/>
            <a:ext cx="8643600" cy="204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пульсивное удовлетворение потре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левом удовлетворение потре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14200" y="1518120"/>
            <a:ext cx="857232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форма проявления потребности, побуждение к определенной деятельности, тот предмет, ради которого осуществляетс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Движение и действие</a:t>
            </a:r>
            <a:br>
              <a:rPr sz="5000"/>
            </a:b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моторная функция живого организма, самая простая составная часть деятельности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движения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произвольные (моргание, сосание)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извольные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ожденные (крик)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обретенные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14200" y="600120"/>
            <a:ext cx="871524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движений, которые имеют цель и направлены на определенный объект (предме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всегда социаль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метны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дим ложкой, пишем ручкой или карандашом, гвоздь забиваем молотк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ые, волевы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правленные на других люде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оступ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60</TotalTime>
  <Application>LibreOffice/7.4.7.2$Linux_X86_64 LibreOffice_project/40$Build-2</Application>
  <AppVersion>15.0000</AppVersion>
  <Words>727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18:08:01Z</dcterms:created>
  <dc:creator>Вова</dc:creator>
  <dc:description/>
  <dc:language>en-US</dc:language>
  <cp:lastModifiedBy>ё</cp:lastModifiedBy>
  <dcterms:modified xsi:type="dcterms:W3CDTF">2022-12-30T19:49:20Z</dcterms:modified>
  <cp:revision>87</cp:revision>
  <dc:subject/>
  <dc:title>Эффективность технологии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