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C44-00A2-4B28-B70C-7523292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9DB-BB11-4325-8461-E25DE744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680-82CF-440C-95D6-95EA0C98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C5A-26D9-4A28-A0B3-BC88B779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E591-CBE6-4844-AF72-047E1343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4D5F-9FBF-4F38-B232-D059696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8E2-F144-457C-8748-E0DF00C0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2280-91F1-4DE4-9050-45624BC6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E663-08B4-45B7-BABE-05EB24A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2C9A-504C-47C5-89C1-68A2A874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282-0D6D-43F5-9640-883B9A1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ECF-B85B-446F-984E-C0A942B0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3AEF-7647-4789-A574-CD13C4C9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D98D-9BB1-4F60-B0B0-4B3E5B23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64A6-ED91-4E59-9F50-7713B93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551D-715E-46C0-BA0B-8D4584EF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2E7A-BDF3-48C2-B756-3AD10EC4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4812-6EE3-451A-AFA0-A473BD51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69AD-919E-481A-BD4D-5C71EB89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9A4B-BCE8-441E-9396-3B1A3A6C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4333-3C2A-44EE-B962-DD64AE63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C0DA-4606-4C09-84F8-2935283B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625-4EE5-44FF-8431-BCD5317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F086-B6F3-4EB9-9594-B1E9EB3F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3689-1346-451C-AA9D-C40D708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C557-6A9F-4B35-96FF-F4563CD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2F39-7BF8-4B2E-ADA7-B43A0A21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0340-3C7F-4CBE-8217-1FF60EE9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A8D6-4F9C-4AFC-8D65-09FF9520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452C-4A87-4E11-A78A-808D7F27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5E1-08AE-4D64-A8F2-531C9208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C54-9725-42D1-8100-E3C9963E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4EB-7CCE-4964-85BE-833A7CC0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E70-2039-4FA2-9932-D3DE682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6F6-17A2-4935-B408-9E3847B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EF7-1862-491B-8C30-D598B64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C29CC-18A3-4CD4-B31B-B6AC858B4191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491714-74D4-4426-8D96-D2384745D781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F6322F-5C44-4FD8-89D0-8C3E93418C7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857160"/>
            <a:ext cx="7851240" cy="2342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29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9800" spc="-1" strike="noStrike">
                <a:solidFill>
                  <a:srgbClr val="c00000"/>
                </a:solidFill>
                <a:latin typeface="Calibri"/>
              </a:rPr>
              <a:t>Деятельность</a:t>
            </a:r>
            <a:endParaRPr b="0" lang="ru-RU" sz="9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14200" y="1450800"/>
            <a:ext cx="8715240" cy="301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окупность действий, объединенных единой цел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бывают близкие и даль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900" spc="-1" strike="noStrike">
                <a:solidFill>
                  <a:srgbClr val="c00000"/>
                </a:solidFill>
                <a:latin typeface="Times New Roman"/>
              </a:rPr>
              <a:t>Знания, умения, навыки</a:t>
            </a:r>
            <a:br>
              <a:rPr sz="5000"/>
            </a:br>
            <a:endParaRPr b="0" lang="ru-RU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на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-результат процесса познания действительност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142920" y="1520640"/>
            <a:ext cx="8786520" cy="271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успешный способ выполнения деятельности в новых условиях, сознательное применение имеющихся знаний и навыков для выполнения более сложных действий в различ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42920" y="1951200"/>
            <a:ext cx="8786520" cy="2650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частично автоматизированные действия, которые образуются в результате упраж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пособ выполнения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214200" y="247320"/>
            <a:ext cx="8643600" cy="642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вык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, бег, спортивные навыки, письм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е (интеллектуальные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, вычисление, доказательство теорем, чтение чертежей, заучивание и пр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ые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анные с восприятием (различения оттенков цветов, слуховые различения и п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повед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1095840"/>
            <a:ext cx="864360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-автоматические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это умение, возможность произвести то или иное действие без особого контроля сознания, 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отребность произвести соответствующее действ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500040" y="928800"/>
            <a:ext cx="8072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ого поведения и друг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22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сихологическая характеристика деятельности</a:t>
            </a:r>
            <a:br>
              <a:rPr sz="5000"/>
            </a:b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ировании отношения человека к деятельности, в развитии его мотивационной сферы большое значение имеет: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успех или неуспех в деятельности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притязаний лич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ень достижени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428400" y="249480"/>
            <a:ext cx="8715240" cy="691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 или неуспех в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а в достижении поставленной цели, в выполнении деятельности или создании ее продук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щественное признание достигнутой уда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и оценка со стороны окружающих оказывает большое влияние на мотивы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14240" y="571320"/>
            <a:ext cx="7714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сихологические условия позитивного оценивания деятельности своей и другого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должна быть результатом, а не целью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чительно легче делать свое дело в доброжелательной обстанов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ка, направленная на личность в целом, действует иначе, чем оценка, направленная на те или иные действия человека или на результат этих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5000" spc="-1" strike="noStrike">
                <a:solidFill>
                  <a:srgbClr val="c00000"/>
                </a:solidFill>
                <a:latin typeface="Times New Roman"/>
              </a:rPr>
              <a:t>Понятие </a:t>
            </a:r>
            <a:r>
              <a:rPr b="0" i="1" lang="ru-RU" sz="5000" spc="-1" strike="noStrike">
                <a:solidFill>
                  <a:srgbClr val="c00000"/>
                </a:solidFill>
                <a:latin typeface="Times New Roman"/>
              </a:rPr>
              <a:t>о </a:t>
            </a:r>
            <a:r>
              <a:rPr b="1" i="1" lang="ru-RU" sz="5000" spc="-1" strike="noStrike">
                <a:solidFill>
                  <a:srgbClr val="c00000"/>
                </a:solidFill>
                <a:latin typeface="Times New Roman"/>
              </a:rPr>
              <a:t>деятельности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ь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активность человека, направленная на достижение сознательно поставленной цели. 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6581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итязаний и уровень достижений личности</a:t>
            </a:r>
            <a:br>
              <a:rPr sz="5400"/>
            </a:b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ровен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тязани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личности — это стремление к достижению цели той степени сложности, на которую человек считает себя способны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285840" y="599400"/>
            <a:ext cx="8572320" cy="505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а человека в решающей степени складывается на основании успеха или неуспеха в значимой для него деятельности и формирует тот или иной уровень притязаний личности на достижения в этой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ован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деятельности уровень притязания личн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крепля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ее самоуважени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еализован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уш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не дает возможности вообще сформиров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214200" y="222480"/>
            <a:ext cx="8715240" cy="164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психолог У. Джеймс вывел формулу самооценки, которую обозначал термином «самоуважение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286400" cy="285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Основные виды деятельност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ым, исторически первым видом деятельности человека явля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у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основные виды деятельности -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гра, учение, труд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присутствуют в жизни каждого человека, в недрах этих деятельностей происходит развитие психики и личности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Основные виды деятельност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эти основные виды деятельности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изолированы друг от друга,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ни взаимодействуют,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огащают друг друга,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вая тем самым новые перспективы развития личности.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14200" y="27360"/>
            <a:ext cx="8429400" cy="56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наибольшей степени способствует развитию психики и личности ребенка на данном возрастном этап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бенка дошкольного возраста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школьника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деят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зрослого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и учебная деятельность создают условия для развития способностей и личности ребенка, обеспечивающих ему возможность достойного вхождения в трудовую деятельность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714240" y="1143000"/>
            <a:ext cx="771480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реб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сточник активности личности, они заставляют человека активно дей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ре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это осознание человеком нужды в чем-либо, что ему необходимо для поддержания организма и развития его ли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00000"/>
                </a:solidFill>
                <a:latin typeface="Times New Roman"/>
              </a:rPr>
              <a:t>Виды потребностей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3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ественные потреб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вляются врожденными, но к моменту рождения они еще окончательно не сформированы и развиваются в течение всей жизни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214200" y="1054800"/>
            <a:ext cx="8500680" cy="429588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, или духовные, потреб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ются в результате воздейств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ловесном общении с другими людь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требность в знаниях, в активном участии в общественной жиз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е потре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тру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14200" y="1948320"/>
            <a:ext cx="8643600" cy="204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пульсивное удовлетворение потре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левом удовлетворение потре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14200" y="1518120"/>
            <a:ext cx="857232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форма проявления потребности, побуждение к определенной деятельности, тот предмет, ради которого осуществляетс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243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Движение и действие</a:t>
            </a:r>
            <a:br>
              <a:rPr sz="5000"/>
            </a:b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2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моторная функция живого организма, самая простая составная часть деятельности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движения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произвольные (моргание, сосание)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извольные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рожденные (крик)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обретенные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214200" y="600120"/>
            <a:ext cx="871524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движений, которые имеют цель и направлены на определенный объект (предме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всегда социаль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метны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дим ложкой, пишем ручкой или карандашом, гвоздь забиваем молотк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ые, волевы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правленные на других люде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оступ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60</TotalTime>
  <Application>LibreOffice/7.4.7.2$Linux_X86_64 LibreOffice_project/40$Build-2</Application>
  <AppVersion>15.0000</AppVersion>
  <Words>727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18:08:01Z</dcterms:created>
  <dc:creator>Вова</dc:creator>
  <dc:description/>
  <dc:language>en-US</dc:language>
  <cp:lastModifiedBy>ё</cp:lastModifiedBy>
  <dcterms:modified xsi:type="dcterms:W3CDTF">2022-12-30T19:49:20Z</dcterms:modified>
  <cp:revision>87</cp:revision>
  <dc:subject/>
  <dc:title>Эффективность технологии обу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