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9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3C3-F0F6-478F-9D57-8EBEC52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CF5-464C-4CB6-8E37-FFBAD8B7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E4A-8757-436A-93DE-A078CC8B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744-8C5A-41DF-AECF-D6441200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6820-DA9A-48B9-B9A0-5A6D8981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3B1CD-97BC-4714-9A80-0EB704EF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3351F-4EF4-4347-B9F1-261C588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D28C7-8297-4ECD-A642-1593678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8B7C4-6069-4CED-BE60-BCCB35D4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59D58-BB7B-445A-BEB7-2905A33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9ACC0-13FD-43B6-9C14-0AD9F819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28C-5A59-4F61-B197-4A8EF9A4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973F7-96E7-4A80-913C-FB88BB8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9A2E-F433-4BBD-B1A3-0C98459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416E3-1405-4F75-8E73-7A8DF45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18139-3FF1-4327-B5FF-D44FBF27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B00E2-8A87-44C7-9699-E9E6E5E3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C3E7-118F-4A84-84ED-030556A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3326-4DE4-4FDC-B02A-B1FFFD25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4A88-76C3-424E-93E3-C79C9091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667B-3E41-43FA-9DE7-41BDEC2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4D67-848F-4D57-B59F-1140DB03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9ED-9CF6-4EA0-AD80-87589CA6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4896-67DC-43E7-BB48-2C272DD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BAFD-A497-45A4-8AB8-E27322B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5B52-6275-49D6-BBDF-2B8A958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E6B9-988D-4D51-B71A-3BFB866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36A8-2C81-4011-A215-F762811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BF68-A24B-4F15-8575-A59D2CBA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54E5-FFE3-4CCE-92AE-E45A7F34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01DCB-8D8A-432D-93DE-A3407FB9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8D01F-D3F0-4C1C-8F89-8899802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56BA2-8DE6-45AF-B4B9-8614F47C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B0E-1943-4CFB-A7C8-E1392B2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27974-2EC1-44CC-9B48-4E0F4F0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AC3A6-585B-44AA-8C82-8B6560D4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799E4-7E93-4CDA-B1C5-F70B423A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D7B90-265B-41A7-9922-C56C588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5E79E-711D-40C5-BE77-E35F27C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96B05-C6A3-4AD4-937B-BE09378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D97E7-D934-46B3-8120-C8BD4BF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A594D-36D5-4E3B-A7DF-9801CFC8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481ED-329C-4EEB-B11A-050135EF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8C1-9690-4011-85DD-E47D59C8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0C4-99D1-4AB0-A58F-E9349A6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314-7296-4E5F-B122-3D0F62A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4B5-3CEF-4C2D-9E96-23C04C4A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C44-5ECA-4963-BBDC-6619FA5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139-C991-44CD-BC05-A612D160AEBC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cb084"/>
          </a:solidFill>
          <a:ln w="38160">
            <a:solidFill>
              <a:srgbClr val="9cb084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A6C-81B7-4853-B25C-989BFE6E3B7F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448-1CEA-4D7E-9BEB-D6F2804842A7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B3E-93D4-44B2-A8AF-33EFC06AD28F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Из книжной сокровищницы Древней Руси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298440" y="530280"/>
            <a:ext cx="8339040" cy="12319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8"/>
          <p:cNvSpPr/>
          <p:nvPr/>
        </p:nvSpPr>
        <p:spPr>
          <a:xfrm>
            <a:off x="3505320" y="5867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1752480" y="502920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Автор: Коновалова Наталия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учитель  начальных  классов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МБОУ «Средняя школа №23 г.Йошкар-О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Admin\Desktop\15254_original.jpg"/>
          <p:cNvPicPr/>
          <p:nvPr/>
        </p:nvPicPr>
        <p:blipFill>
          <a:blip r:embed="rId2"/>
          <a:stretch/>
        </p:blipFill>
        <p:spPr>
          <a:xfrm>
            <a:off x="1306440" y="152388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Admin\Desktop\0247309.jpg"/>
          <p:cNvPicPr/>
          <p:nvPr/>
        </p:nvPicPr>
        <p:blipFill>
          <a:blip r:embed="rId1"/>
          <a:stretch/>
        </p:blipFill>
        <p:spPr>
          <a:xfrm>
            <a:off x="304920" y="1143000"/>
            <a:ext cx="5310000" cy="312408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2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860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\Desktop\ретро-буты-ка-черни-и-ручка-nib-31325624.jpg"/>
          <p:cNvPicPr/>
          <p:nvPr/>
        </p:nvPicPr>
        <p:blipFill>
          <a:blip r:embed="rId3"/>
          <a:stretch/>
        </p:blipFill>
        <p:spPr>
          <a:xfrm>
            <a:off x="4267080" y="3581280"/>
            <a:ext cx="46483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315280" cy="135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Admin\Desktop\ER3oDBoWAAElMZL.jpg"/>
          <p:cNvPicPr/>
          <p:nvPr/>
        </p:nvPicPr>
        <p:blipFill>
          <a:blip r:embed="rId2"/>
          <a:stretch/>
        </p:blipFill>
        <p:spPr>
          <a:xfrm>
            <a:off x="838080" y="1600200"/>
            <a:ext cx="3367080" cy="2235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Admin\Desktop\00-00009773_1.jpg"/>
          <p:cNvPicPr/>
          <p:nvPr/>
        </p:nvPicPr>
        <p:blipFill>
          <a:blip r:embed="rId3"/>
          <a:stretch/>
        </p:blipFill>
        <p:spPr>
          <a:xfrm>
            <a:off x="5257800" y="1600200"/>
            <a:ext cx="3373560" cy="2200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Admin\Desktop\img10.jpg"/>
          <p:cNvPicPr/>
          <p:nvPr/>
        </p:nvPicPr>
        <p:blipFill>
          <a:blip r:embed="rId4"/>
          <a:stretch/>
        </p:blipFill>
        <p:spPr>
          <a:xfrm>
            <a:off x="2895480" y="3886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Admin\Desktop\10a15b8fa7575670b29d50a61b480a05.jpg"/>
          <p:cNvPicPr/>
          <p:nvPr/>
        </p:nvPicPr>
        <p:blipFill>
          <a:blip r:embed="rId2"/>
          <a:stretch/>
        </p:blipFill>
        <p:spPr>
          <a:xfrm>
            <a:off x="1558800" y="1697040"/>
            <a:ext cx="6518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о время работы на уроке я приобрел 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Урок заставил меня задуматься …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ля меня было удивительным то, что 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Я открыл для себя то, что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Электронный ресурс // Рукописные книги Древней Руси. Е.А.Галинская Дубна,7-17июля 2015г. — Текст : электронный // : [сайт]. -  URL: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https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://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mccme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.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ru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›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llsh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/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materials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…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kniga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_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Drevnej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_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Rusi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.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pdf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Trebuchet MS"/>
            </a:endParaRPr>
          </a:p>
        </p:txBody>
      </p:sp>
      <p:pic>
        <p:nvPicPr>
          <p:cNvPr id="176" name="Содержимое 3" descr="725956_html_m28e4968d.png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6200" y="2590920"/>
            <a:ext cx="4952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334800" y="324000"/>
            <a:ext cx="84679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Славянская письменность. Комментарии : Дневники на КП"/>
          <p:cNvPicPr/>
          <p:nvPr/>
        </p:nvPicPr>
        <p:blipFill>
          <a:blip r:embed="rId2"/>
          <a:stretch/>
        </p:blipFill>
        <p:spPr>
          <a:xfrm>
            <a:off x="2819520" y="2438280"/>
            <a:ext cx="3581280" cy="41529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3276720" y="3048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53352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Глаголица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Кириллица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lokaloki: Восточнославянские языки. Урок 0а. История алфавитов."/>
          <p:cNvPicPr/>
          <p:nvPr/>
        </p:nvPicPr>
        <p:blipFill>
          <a:blip r:embed="rId1"/>
          <a:stretch/>
        </p:blipFill>
        <p:spPr>
          <a:xfrm>
            <a:off x="457200" y="1143000"/>
            <a:ext cx="3962520" cy="4038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Admin\Desktop\к уроку из книжн сокровищн\кириллица.png"/>
          <p:cNvPicPr/>
          <p:nvPr/>
        </p:nvPicPr>
        <p:blipFill>
          <a:blip r:embed="rId2"/>
          <a:stretch/>
        </p:blipFill>
        <p:spPr>
          <a:xfrm>
            <a:off x="4572000" y="1143000"/>
            <a:ext cx="4267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0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66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В конце 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XI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начале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 XII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века в Киево-Печорском монастыре жил монах Нестор, который создал первую   русскую летопись –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«Повесть временных лет»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87" name="Рисунок 3" descr="Преподобный Нестор Летописец - www.days.ru"/>
          <p:cNvPicPr/>
          <p:nvPr/>
        </p:nvPicPr>
        <p:blipFill>
          <a:blip r:embed="rId2"/>
          <a:stretch/>
        </p:blipFill>
        <p:spPr>
          <a:xfrm>
            <a:off x="4876920" y="1143000"/>
            <a:ext cx="35812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http://booksite.ru/enciklopedia/book/44.jpg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514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Заголовок 4" descr=""/>
          <p:cNvPicPr/>
          <p:nvPr/>
        </p:nvPicPr>
        <p:blipFill>
          <a:blip r:embed="rId3"/>
          <a:stretch/>
        </p:blipFill>
        <p:spPr>
          <a:xfrm>
            <a:off x="73080" y="334800"/>
            <a:ext cx="90774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Цветник с миниатюрами"/>
          <p:cNvPicPr/>
          <p:nvPr/>
        </p:nvPicPr>
        <p:blipFill>
          <a:blip r:embed="rId1"/>
          <a:stretch/>
        </p:blipFill>
        <p:spPr>
          <a:xfrm>
            <a:off x="1733400" y="657360"/>
            <a:ext cx="5276880" cy="35337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236232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Страница древнерусской рукописной книги «Киевская псалтырь» 139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37960" y="-19080"/>
            <a:ext cx="8455320" cy="139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книга0"/>
          <p:cNvPicPr/>
          <p:nvPr/>
        </p:nvPicPr>
        <p:blipFill>
          <a:blip r:embed="rId2"/>
          <a:stretch/>
        </p:blipFill>
        <p:spPr>
          <a:xfrm>
            <a:off x="914400" y="3886200"/>
            <a:ext cx="309564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10" descr="повесть1"/>
          <p:cNvPicPr/>
          <p:nvPr/>
        </p:nvPicPr>
        <p:blipFill>
          <a:blip r:embed="rId3"/>
          <a:stretch/>
        </p:blipFill>
        <p:spPr>
          <a:xfrm>
            <a:off x="4648320" y="1066680"/>
            <a:ext cx="3166920" cy="23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7" descr="книга1"/>
          <p:cNvPicPr/>
          <p:nvPr/>
        </p:nvPicPr>
        <p:blipFill>
          <a:blip r:embed="rId4"/>
          <a:stretch/>
        </p:blipFill>
        <p:spPr>
          <a:xfrm>
            <a:off x="838080" y="914400"/>
            <a:ext cx="253548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7" name="Picture 9" descr="обложка"/>
          <p:cNvPicPr/>
          <p:nvPr/>
        </p:nvPicPr>
        <p:blipFill>
          <a:blip r:embed="rId5"/>
          <a:stretch/>
        </p:blipFill>
        <p:spPr>
          <a:xfrm>
            <a:off x="4800600" y="3809880"/>
            <a:ext cx="31431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C:\Users\Admin\Desktop\02b50faad0a591eaff7feb6e9178a6e5.jpg"/>
          <p:cNvPicPr/>
          <p:nvPr/>
        </p:nvPicPr>
        <p:blipFill>
          <a:blip r:embed="rId1"/>
          <a:stretch/>
        </p:blipFill>
        <p:spPr>
          <a:xfrm>
            <a:off x="4876920" y="2057400"/>
            <a:ext cx="373356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Admin\Desktop\fd88b96a885d454c0da7c76439c72a44--book-binding-book-art.jpg"/>
          <p:cNvPicPr/>
          <p:nvPr/>
        </p:nvPicPr>
        <p:blipFill>
          <a:blip r:embed="rId2"/>
          <a:stretch/>
        </p:blipFill>
        <p:spPr>
          <a:xfrm>
            <a:off x="609480" y="762120"/>
            <a:ext cx="358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6:38:17Z</dcterms:created>
  <dc:creator>Нуржанов</dc:creator>
  <dc:description/>
  <dc:language>en-US</dc:language>
  <cp:lastModifiedBy>Admin</cp:lastModifiedBy>
  <dcterms:modified xsi:type="dcterms:W3CDTF">2022-11-15T19:45:2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