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9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2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3A2-2A98-4F60-89F1-0D30353B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346-72A4-4F3D-9304-7FB2678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0ED-547C-4038-8CF6-47210872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9AB-7111-49D2-AAB6-1F78503A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29E61-5874-48E8-8002-89FE7690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F2CBB-2348-492C-B4E4-F86275D5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26C26-2854-4421-A75D-AC25A5A7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CD18-9472-40A9-B405-BF16A5C8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AA306-3F42-4A7B-A65E-3584F28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C9DC4-1D6D-4FA1-80D6-42A4EA05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6F43C-4865-4369-BF33-4F5A90A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896-12B0-46C0-ABAE-E5E12FE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157ED-1F73-4A5D-B6A8-7076759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11BA-6422-4E14-84C4-E637947D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0D749-DC86-4A99-BF7F-B0011527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AF02-0293-498C-9224-F87C67BB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334B6-A91E-4750-AB71-B06A99FD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DEB6-1279-4DFB-A44B-599375BF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25C4-CB9B-46AD-8872-1E42F4FB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9E90-C63C-42FD-ABD2-000B6DD1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EFE4-877F-45F3-A333-D5F27DD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6E49C-0376-4395-88A6-F31454E5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E08-61FF-42D4-8779-DDFE1E0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0D59-9E7A-4875-9698-FEC10467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98C8-EA35-435D-99F8-386099D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1FB0-E10C-4861-BFA2-96FCE0D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DA2F-E666-4BF8-843C-40F04D83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B09F-A10C-4A86-9384-474E1E7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C2D3-D548-4602-9D86-0BEA95D8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B84A-42C8-4089-9AEA-67D0DD97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D11DF-0D51-4C03-9C8D-EB5D6F55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00BED-44D2-4114-8678-AF9DE785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4D26F-075E-416C-84F0-47FFF923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6C8-B50E-42FF-A0A4-2F306FB8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E0548-575D-4932-9E2A-66291F92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57CFF-7798-4F05-853E-F897F56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C86D7-B566-403C-9F02-63B0816B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2F3E1-ABC8-4095-96E8-B435F71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70852-4F62-4F3B-A401-16A4B80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9F4B8-0E28-4B56-9D5D-AEB2DFC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B72E5-D651-4ACE-BA94-E3FD233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50294-34EA-437B-8FB6-8457D65D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5FA62-E221-43FF-A959-2997F492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8AB-F2BE-463F-A4E8-5F17CEF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B7A-A007-4D6A-B765-5A641A9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8CD-B98A-4212-83A8-7377584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4DE-9D56-433A-A039-6636045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C39-ED0A-430D-BB6D-295655F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DEAD-85DC-441E-9E9E-F49015912C87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cb084"/>
          </a:solidFill>
          <a:ln w="38160">
            <a:solidFill>
              <a:srgbClr val="9cb084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360D-7E4C-416E-A12C-F07114C35B31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D47B-A5CC-4148-9851-8ED49F1B7D7E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28600">
              <a:spcBef>
                <a:spcPts val="601"/>
              </a:spcBef>
              <a:buClr>
                <a:srgbClr val="71805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554120" indent="-228600">
              <a:spcBef>
                <a:spcPts val="601"/>
              </a:spcBef>
              <a:buClr>
                <a:srgbClr val="89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9c2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B46-5EE2-4721-973F-3341B7E01C7F}" type="slidenum">
              <a:rPr b="0" lang="ru-RU" sz="1600" spc="-1" strike="noStrike">
                <a:solidFill>
                  <a:srgbClr val="c9c2d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Из книжной сокровищницы Древней Руси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298440" y="530280"/>
            <a:ext cx="8339040" cy="12319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8"/>
          <p:cNvSpPr/>
          <p:nvPr/>
        </p:nvSpPr>
        <p:spPr>
          <a:xfrm>
            <a:off x="3505320" y="5867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1752480" y="502920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Автор: Коновалова Наталия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учитель  начальных  классов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МБОУ «Средняя школа №23 г.Йошкар-Ол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Admin\Desktop\15254_original.jpg"/>
          <p:cNvPicPr/>
          <p:nvPr/>
        </p:nvPicPr>
        <p:blipFill>
          <a:blip r:embed="rId2"/>
          <a:stretch/>
        </p:blipFill>
        <p:spPr>
          <a:xfrm>
            <a:off x="1306440" y="152388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Admin\Desktop\0247309.jpg"/>
          <p:cNvPicPr/>
          <p:nvPr/>
        </p:nvPicPr>
        <p:blipFill>
          <a:blip r:embed="rId1"/>
          <a:stretch/>
        </p:blipFill>
        <p:spPr>
          <a:xfrm>
            <a:off x="304920" y="1143000"/>
            <a:ext cx="5310000" cy="312408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2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860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\Desktop\ретро-буты-ка-черни-и-ручка-nib-31325624.jpg"/>
          <p:cNvPicPr/>
          <p:nvPr/>
        </p:nvPicPr>
        <p:blipFill>
          <a:blip r:embed="rId3"/>
          <a:stretch/>
        </p:blipFill>
        <p:spPr>
          <a:xfrm>
            <a:off x="4267080" y="3581280"/>
            <a:ext cx="464832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315280" cy="135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Users\Admin\Desktop\ER3oDBoWAAElMZL.jpg"/>
          <p:cNvPicPr/>
          <p:nvPr/>
        </p:nvPicPr>
        <p:blipFill>
          <a:blip r:embed="rId2"/>
          <a:stretch/>
        </p:blipFill>
        <p:spPr>
          <a:xfrm>
            <a:off x="838080" y="1600200"/>
            <a:ext cx="3367080" cy="2235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Admin\Desktop\00-00009773_1.jpg"/>
          <p:cNvPicPr/>
          <p:nvPr/>
        </p:nvPicPr>
        <p:blipFill>
          <a:blip r:embed="rId3"/>
          <a:stretch/>
        </p:blipFill>
        <p:spPr>
          <a:xfrm>
            <a:off x="5257800" y="1600200"/>
            <a:ext cx="3373560" cy="2200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Admin\Desktop\img10.jpg"/>
          <p:cNvPicPr/>
          <p:nvPr/>
        </p:nvPicPr>
        <p:blipFill>
          <a:blip r:embed="rId4"/>
          <a:stretch/>
        </p:blipFill>
        <p:spPr>
          <a:xfrm>
            <a:off x="2895480" y="3886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Admin\Desktop\10a15b8fa7575670b29d50a61b480a05.jpg"/>
          <p:cNvPicPr/>
          <p:nvPr/>
        </p:nvPicPr>
        <p:blipFill>
          <a:blip r:embed="rId2"/>
          <a:stretch/>
        </p:blipFill>
        <p:spPr>
          <a:xfrm>
            <a:off x="1558800" y="1697040"/>
            <a:ext cx="65185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о время работы на уроке я приобрел 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Урок заставил меня задуматься …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ля меня было удивительным то, что 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Я открыл для себя то, что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Электронный ресурс // Рукописные книги Древней Руси. Е.А.Галинская Дубна,7-17июля 2015г. — Текст : электронный // : [сайт]. -  URL: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https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://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mccme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.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ru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›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llsh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/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materials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…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kniga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_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Drevnej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_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Rusi</a:t>
            </a:r>
            <a:r>
              <a:rPr b="1" i="1" lang="ru-RU" sz="2600" spc="-1" strike="noStrike">
                <a:solidFill>
                  <a:srgbClr val="002060"/>
                </a:solidFill>
                <a:latin typeface="Georgia"/>
              </a:rPr>
              <a:t>.</a:t>
            </a: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pdf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c9c2d1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Trebuchet MS"/>
            </a:endParaRPr>
          </a:p>
        </p:txBody>
      </p:sp>
      <p:pic>
        <p:nvPicPr>
          <p:cNvPr id="176" name="Содержимое 3" descr="725956_html_m28e4968d.png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6200" y="2590920"/>
            <a:ext cx="4952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334800" y="324000"/>
            <a:ext cx="84679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Славянская письменность. Комментарии : Дневники на КП"/>
          <p:cNvPicPr/>
          <p:nvPr/>
        </p:nvPicPr>
        <p:blipFill>
          <a:blip r:embed="rId2"/>
          <a:stretch/>
        </p:blipFill>
        <p:spPr>
          <a:xfrm>
            <a:off x="2819520" y="2438280"/>
            <a:ext cx="3581280" cy="41529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3276720" y="3048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533520" y="304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  </a:t>
            </a:r>
            <a:r>
              <a:rPr b="1" i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Глаголица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Кириллица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Estrangelo Edessa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lokaloki: Восточнославянские языки. Урок 0а. История алфавитов."/>
          <p:cNvPicPr/>
          <p:nvPr/>
        </p:nvPicPr>
        <p:blipFill>
          <a:blip r:embed="rId1"/>
          <a:stretch/>
        </p:blipFill>
        <p:spPr>
          <a:xfrm>
            <a:off x="457200" y="1143000"/>
            <a:ext cx="3962520" cy="4038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Admin\Desktop\к уроку из книжн сокровищн\кириллица.png"/>
          <p:cNvPicPr/>
          <p:nvPr/>
        </p:nvPicPr>
        <p:blipFill>
          <a:blip r:embed="rId2"/>
          <a:stretch/>
        </p:blipFill>
        <p:spPr>
          <a:xfrm>
            <a:off x="4572000" y="1143000"/>
            <a:ext cx="4267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0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66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В конце 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XI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начале</a:t>
            </a: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 XII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века в Киево-Печорском монастыре жил монах Нестор, который создал первую   русскую летопись –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«Повесть временных лет»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87" name="Рисунок 3" descr="Преподобный Нестор Летописец - www.days.ru"/>
          <p:cNvPicPr/>
          <p:nvPr/>
        </p:nvPicPr>
        <p:blipFill>
          <a:blip r:embed="rId2"/>
          <a:stretch/>
        </p:blipFill>
        <p:spPr>
          <a:xfrm>
            <a:off x="4876920" y="1143000"/>
            <a:ext cx="358128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http://booksite.ru/enciklopedia/book/44.jpg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5140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Заголовок 4" descr=""/>
          <p:cNvPicPr/>
          <p:nvPr/>
        </p:nvPicPr>
        <p:blipFill>
          <a:blip r:embed="rId3"/>
          <a:stretch/>
        </p:blipFill>
        <p:spPr>
          <a:xfrm>
            <a:off x="73080" y="334800"/>
            <a:ext cx="90774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Цветник с миниатюрами"/>
          <p:cNvPicPr/>
          <p:nvPr/>
        </p:nvPicPr>
        <p:blipFill>
          <a:blip r:embed="rId1"/>
          <a:stretch/>
        </p:blipFill>
        <p:spPr>
          <a:xfrm>
            <a:off x="1733400" y="657360"/>
            <a:ext cx="5276880" cy="35337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236232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Страница древнерусской рукописной книги «Киевская псалтырь» 139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37960" y="-19080"/>
            <a:ext cx="8455320" cy="139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книга0"/>
          <p:cNvPicPr/>
          <p:nvPr/>
        </p:nvPicPr>
        <p:blipFill>
          <a:blip r:embed="rId2"/>
          <a:stretch/>
        </p:blipFill>
        <p:spPr>
          <a:xfrm>
            <a:off x="914400" y="3886200"/>
            <a:ext cx="309564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10" descr="повесть1"/>
          <p:cNvPicPr/>
          <p:nvPr/>
        </p:nvPicPr>
        <p:blipFill>
          <a:blip r:embed="rId3"/>
          <a:stretch/>
        </p:blipFill>
        <p:spPr>
          <a:xfrm>
            <a:off x="4648320" y="1066680"/>
            <a:ext cx="3166920" cy="23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7" descr="книга1"/>
          <p:cNvPicPr/>
          <p:nvPr/>
        </p:nvPicPr>
        <p:blipFill>
          <a:blip r:embed="rId4"/>
          <a:stretch/>
        </p:blipFill>
        <p:spPr>
          <a:xfrm>
            <a:off x="838080" y="914400"/>
            <a:ext cx="253548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7" name="Picture 9" descr="обложка"/>
          <p:cNvPicPr/>
          <p:nvPr/>
        </p:nvPicPr>
        <p:blipFill>
          <a:blip r:embed="rId5"/>
          <a:stretch/>
        </p:blipFill>
        <p:spPr>
          <a:xfrm>
            <a:off x="4800600" y="3809880"/>
            <a:ext cx="31431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C:\Users\Admin\Desktop\02b50faad0a591eaff7feb6e9178a6e5.jpg"/>
          <p:cNvPicPr/>
          <p:nvPr/>
        </p:nvPicPr>
        <p:blipFill>
          <a:blip r:embed="rId1"/>
          <a:stretch/>
        </p:blipFill>
        <p:spPr>
          <a:xfrm>
            <a:off x="4876920" y="2057400"/>
            <a:ext cx="373356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Admin\Desktop\fd88b96a885d454c0da7c76439c72a44--book-binding-book-art.jpg"/>
          <p:cNvPicPr/>
          <p:nvPr/>
        </p:nvPicPr>
        <p:blipFill>
          <a:blip r:embed="rId2"/>
          <a:stretch/>
        </p:blipFill>
        <p:spPr>
          <a:xfrm>
            <a:off x="609480" y="762120"/>
            <a:ext cx="358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6:38:17Z</dcterms:created>
  <dc:creator>Нуржанов</dc:creator>
  <dc:description/>
  <dc:language>en-US</dc:language>
  <cp:lastModifiedBy>Admin</cp:lastModifiedBy>
  <dcterms:modified xsi:type="dcterms:W3CDTF">2022-11-15T19:45:2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