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91C-9875-4127-AA56-BDA0BCD5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273-FE11-44B5-BCBF-2012CC3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B518C-8949-481E-9A40-872CCA53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2C4A8-58A4-4489-8FEC-AC79AAD0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D5B09-278F-4F62-A064-1E648C62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46C4A-57A4-46D5-9BC7-ED2E5BC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0920A-25D1-4659-8979-5E840A9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B07E8-AF37-4BB9-929A-859BCE84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4CA02-BD0E-4458-BD07-A9C44A6C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85D96-BCD5-4AC9-8F04-1E6A1B40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9FD87-1A9A-4B23-8172-7E421E76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A73E8-4ED1-469F-B7E6-DE0A64FD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274-8265-4896-87E5-7CCBB77F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FEE83-DB7B-424F-8407-5A552B08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669DF-E48E-4802-98E2-57FC17AA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7EEF2-5D8F-4BF2-BC20-83529155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77E34-D6E2-4D0A-AF01-89DE8B9C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81E66-E46A-4B40-BD72-3E736348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A7462-6E4F-43A1-AF96-A82DA0F3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0081A-A9B5-4ABA-8531-1266AD42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CFFF0-663E-47E7-9B80-E6F65E81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481F6-BF40-4488-8F16-987D60DF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4DE2A-CD34-495F-AB6D-8F84E361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9E5-FE56-4FF4-A2FE-32E2538A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54AE6-331C-45EB-AECE-7D2C67F3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B7C3F-4657-42F7-BA3D-8701DE69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D6554-4A9E-4AF2-9CD6-BB664768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9AA14-ECB3-4C6A-8544-E21ACA42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33372-C91D-4138-857E-33F52FEA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ABBF1-9087-45D5-9EB6-97AEF9E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A466A-0A2B-4EA3-B31F-A3B07714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D1BE4-A9B7-4CFF-95E6-9DBD11D4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81103-5E49-4DA8-B412-799D6E7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00FD4-E0AF-45E9-B207-96A0BAEA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98AC-9081-4205-A7F1-7B1E1357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E8B99-79DB-4172-B2B6-0C4CEE38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E8FFF-A142-4025-A2DD-B329F994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83E93-C4B9-4FF2-9D61-2FF4E43F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FFF5C-C948-4A2B-8E0D-EDABF035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34CDC-C268-43E3-BE42-51F3B395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913C4-B9B0-46AB-9B69-CD9AD7D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CF877-1FA1-49BA-990A-28A97D12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EE10B-F039-498B-9860-2F0853FC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94673-6912-411B-8D48-75699E32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37441-EB50-486D-9E95-D8A5CD8E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EBFD-2A5D-474E-869D-36F5FA83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CAF7C-1B37-479B-B0C0-FDE7B284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37C39-2285-4F14-B8D9-13CA115B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99D4-C236-479C-82B8-5A0C6C31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6EBF8-8286-49AD-94FD-141E5BDB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36349-400C-4521-A105-043AB977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F4B85-3777-4597-B2DA-FD9B6CA6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F3C15-6340-4592-8CFC-489CBB0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6C5EA-AAC2-4106-92B1-D43FED49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0887C-74BA-4974-B6F1-CE0ECDF0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57F64-729F-4232-930F-B328E7A3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506B-A069-43C2-99F3-0ECDA116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0689C-5B15-4C6F-933C-A0972C36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0A06C-9D1A-42B1-B162-F86B425F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93C2F-BF0B-4246-AC42-679C70E2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CD8D9-2383-4C30-8215-44E6E48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A1FD1-5B29-4F96-83CE-B6C8DFDD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ED4AF-D803-4A89-8772-AB81399E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4ABBA-BD23-47E4-92E4-57E5D7F3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F8227-56D3-4A24-8F22-6B9D8E53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BA826-1C99-4E48-A43F-BF429363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6D51F-800B-4CB5-95C4-4CA46CD1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B2EA-444D-43BA-AED7-0549DE2A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1DC1A-9FE3-4315-9B41-AA262A72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D59A6-B237-4E46-A4A2-DA437C10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CBC2B-ED11-473D-9951-90E7CA24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4D3AF-606C-466E-8BE3-DC6099D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073B8-D108-4FCE-AD21-227DC3B6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74CED-E9E1-457C-847E-B7FE90B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CD512-3DC7-4BBD-BB61-5D3EB61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2B4A8-3A0F-4F55-B3F9-D12DECCF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5A615-300E-41EE-9251-59F82E54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0D342-958E-4F60-AFBF-84932B1A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84C2-194C-432A-B221-5468268C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46489-33E0-4903-9C67-95AEE42A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68CCB-3A2B-4BDF-9F4A-5759FD2C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0B469-3FDF-4A3D-8AE2-CEA9CC4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F5922-FF27-4119-80D3-59C205DB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57AA7-2D4C-4504-BF5F-61643063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322A0-E4B7-473C-A313-D7A37A8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50362-1940-4648-8341-410EF968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EC784-2319-43BE-B1C5-EE6ED4CD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A7AC3-CC7C-4270-806D-4CB69EED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38D75-2D86-4BE5-8774-5E3C9D50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1D36-79BF-4B54-8BE5-027DBC96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17B1C-ACA0-43AF-9A94-AD4A0BAA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8AE2B-999E-4976-A57B-5A039C62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526B5-4336-4F36-8FF8-B1DBAEC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394B5-6ABE-44AD-8ACE-E4528957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CEEA6-B85A-48DD-9044-39E4E39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7B287-6A3F-42AC-8434-06AE2821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3596A-4EDC-4331-BE68-C2D6D9F9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62674-B22E-49A0-93F0-E96AC386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92E61-7E86-4647-A026-25156CC0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83304-9B7A-4325-A020-791B6381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590D-1626-4549-8F48-5F3F268A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2A3E0-0734-4D07-80E8-42E9E356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5F717-EA6F-4745-AF6F-88B7A571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80063-D50E-41B7-9789-8DA3BE6A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5A674-D54F-44BE-995D-23F08BD1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331A2-A49F-46D7-9980-C8A0ED44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A5802-0BD9-4DBA-B80A-57E433D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D39A9-3B29-454C-810E-8369428B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15F6A-D011-4AAB-92B2-2C72F9F6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FA6F2-F291-47F0-96E8-2D8A8E3E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C4BFE-FEDE-4925-A90F-334F839E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7B0-BAB5-482E-98D5-D3DBEC09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4719-D562-4648-ABB3-C9AF8BAA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4E34A-E9A9-446F-9E39-2117A884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7B109-8B3B-4727-8BF6-DEFA7BFA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EDF5AA-A4BB-4A90-98DA-3F38C9F8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B23C3-A42A-406F-94B3-0E261E12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6C550-5562-43AD-B4F1-62CB2E1D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6AEC6-E0BD-4F76-B49E-9C13C667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BB946-47D2-419A-9CAB-41DD3F93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FCE15A-19E1-4D5D-B182-072D124D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E84F7-8563-408E-AFEB-E910C6F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A6858-3D81-414D-90BF-159372B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FB93-AF1B-44E3-B204-DE616F1D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E4BE4-04DF-4934-82AD-582DB7D0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BB8C2-463A-4A30-8A46-AED23000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3276F-430E-407E-B598-DC12ED9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8C3ED-5178-42C5-9010-0DCDB7D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2B2002-8AC4-4260-AF73-D668AE60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1D641-E09C-4F7C-8DBC-4FB911A4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94D1F-8096-47F9-92CE-3BDC560A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C397FD-7F65-4742-BF48-46E06AA0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1CEFC-CA6C-47D1-B0E9-981A8365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2371B-6E97-40E6-A20E-E8458CB8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BDED-4866-4494-8DA0-C16CC893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A906B4-5FD8-4FF4-9B77-F00FDCB0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EE25B-B739-4FD8-896C-5BC8C62A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FB3194-EACC-4E1E-B87A-CBBBD2F1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6392D0-4BBE-48F7-9A0B-FFBA82B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9FEEA-D244-4C62-834A-A5D678B7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ECEB7-9870-454C-8460-9D1861DB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C292C-F0EF-4D4B-89A7-B9FCE228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F7405-1257-4E44-BFAC-A3544ED2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327B2-1409-4267-B822-73C9692E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03A51-8C76-46DB-AEF8-663A0E58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956A-860E-473B-91BD-98738C58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53B0D-4D71-4272-B766-C8806A61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AF1F70-0F1C-4728-B034-6BFB7CC3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95B8E-24E6-4E7F-AF5A-A8234785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AE3DA-4C66-4540-9754-EFF93EAC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FDF4C-500B-4861-B70B-99BE37F5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9F8EC1-1D44-4F3B-BCAD-82086F9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3AB22-7CB5-4CC1-83A5-D074C45F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032C5F-77FD-498A-B7C5-5B21B3D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6BC42-7F3F-45FC-9A2C-1FB49872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85644-04D5-4242-A63E-D5F144A1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5655-B6CD-4535-B773-D9CF2C7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B358BD-529A-47BB-B900-9CE3A89E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07DA19-9776-4B55-AA27-5E41339D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9CD2A3-2DD8-48FD-86A6-71A595E1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0AB1B-16F2-47D0-BC81-C0E7A531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3D701-5DE9-481B-88AF-331EE76D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7700B-D073-453D-945D-B9F68F72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2166A-5670-4836-A78E-ED148096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C185A-9985-42C4-8E08-5AD9AC17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A35AA1-0FB5-4611-9CCA-C560C339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2563A3-819F-4968-A204-711ACA68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554F-8E51-4302-B19B-484175B6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2E5D4-CB5B-4E0B-B950-CC4FAC2B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EAE6A-88CF-4D5F-931C-587B6F10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4C202D-E8A7-4522-A6F2-647E57E2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3099B2-E187-4AE9-8484-D6EE635F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E74E82-ED6B-41D1-8EC7-C3170347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1F7C40-6966-444C-9525-2FC411C8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64F4E0-1DF3-4199-8738-BDCC3609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EA0531-7179-49C3-AEB3-15451817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E65A3-E111-491D-A5F2-91D805AC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247BA1-4D2F-42E5-90D9-848DCA5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ABCB-DBC2-49A6-B5D2-60D0F83D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00272-E0C0-4608-8FBE-FEADA243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AA76A-9A05-4133-BFA8-672EE6F2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85C0BD-F987-448F-BF4F-272D4224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A17702-71F5-4D69-843B-56C08D5B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7853C7-A6B3-4195-B47A-43B454A1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0790-F4BF-43AB-8B49-8FCBA85F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3B84-3AC0-44B9-A368-859A0202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0E49-E0BB-404A-A973-4B98069D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1C5-2A28-49DB-B9A1-2C9142F3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E036-1B2D-438E-9A39-B043C677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C675-C20F-49A9-B774-3824AF21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B930-8892-46C0-BB42-CDC5054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C258-C78C-457B-B648-FB51550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AC5B-6679-4332-B897-7D69D0F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076D-0DB4-4C68-91F9-CF050417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195D-968C-4803-A4A2-9E56C06B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82129-102E-4F1E-8507-4FA9A7FB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06616-2B25-4C4F-BE2D-6D304CE2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877D-AF01-4A23-B02B-8871B0DC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A2D-F231-4961-A5A0-4DAD4921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95CD-0B67-496A-94D6-ECF9F415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748B-E088-48B1-98E9-FA0F26C6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30C5-0F6B-40A4-8F6D-FC085A04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273B-7BAD-4DE1-9D42-F5B8832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71294-0534-45F7-82CC-94B43FA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DEB0-6FDE-4353-A902-C033C7B5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7C51-4963-4F8E-91C7-E20261FD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8757-BCD8-498C-8BFD-B0D0A679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E2E4-D5ED-476D-8B91-EE73DED6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3EB0-646D-4CB0-BECB-C616CB2D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24F-7EC8-40D1-9B14-94686A04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A7BC-F3F3-4757-A3D5-FCE8ABA9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8D82A-CAAC-4916-AA20-5AC1768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71BAB-92A6-49E4-902A-691F661B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7F160-058F-4062-B529-A6D4EF53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0C1F-F33F-4894-8DE8-C1F365C0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78216-40ED-44CA-8571-AA862F9D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5FF29-8E06-4D5E-B381-E0ABA07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EC4F-93BF-44DA-A000-A94C76E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2F8D3-19D8-4888-B9BE-1601730D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9FF7-AC9F-450E-A8D4-F752999C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448-E1CA-4C62-8B54-2F840949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B1075-03B1-4E76-905B-4E5029A7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9D23D-149E-4646-8204-ECF18D76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D5EA-653A-4133-86C2-BAADB098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D8018-6155-4286-9C5D-257D01C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92DCE-8B66-41CE-A091-3B0EE68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779A-F154-4E80-8AED-CB8F766A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AB110-DC1F-4B85-9869-C31F3FDF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C369-2CAA-4971-A920-87AC4D9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0358A-5169-45FE-8409-5566EA6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DE58-289D-416A-8280-E34C910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D51-482F-4DFA-8DAC-24F98EF9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B72B7-E372-441F-B9EE-ECA2B72E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E347A-3DC8-42DE-AFB6-93CA66CA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54830-6A0B-43C7-B8B3-5BAF6A20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D603F-8CD0-47B3-9FAF-63FD1384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7A466-930B-4493-9A58-1644D833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7D56F-1C91-4AD9-85FD-B830A07F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B5682-8E96-414C-9483-32E5A07C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F711A-9A2D-470C-95C0-F65635E0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5EB25-EE94-4C4A-8481-1CE62214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27A4-6CAE-415B-A19A-00236498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F72-2AEF-439C-ADD1-58A5308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ECBCE-EE6C-4268-A520-40C7D743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4DAB-25ED-49A7-928C-E77049F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5DCAA-E5D4-4A23-A74E-F7CD9448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79197-7A32-4B90-AC64-9559B213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B1C13-CFA8-4B88-B30D-86B96BEA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F1F4B-7B1F-4070-A7A7-87B22357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2CB1A-5182-4115-A95D-D718ABBD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BBAB2-02A4-49FD-803B-63BDF938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5DE27-380F-43DF-82E1-51F70C31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C5148-BC14-49C3-87FA-CE491BA1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55B-C2A1-498B-AFA9-FCC543B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2A270-9AA0-49F6-A3C9-97161A5C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7C543-6139-4BB5-8C20-18E1784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7713B-7B5C-4F42-95D4-BA289A46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B9CC3-0E3E-48FF-987B-2A5C9441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2C73B-30BC-4A18-BF60-275A3F7F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DCCAA-E326-4279-90F5-4024702A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0C3A-E4D2-4739-9478-631C7378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A26AA-B065-4C5E-9D86-1D49F2D9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47810-6C22-4DEE-8C07-CBEBBA75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1538C-1B3A-46FD-BCBF-3C8925B0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CD60D-5AEE-4D3A-A73E-97A994259809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4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05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407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408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10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41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413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30C7A-530F-445C-9431-2B1FD0BF18FD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C25AE-8BB3-4145-B31B-91982F01BE3D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94C4D-3601-4918-9F5F-5EB7F349358F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4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8A4D7-D3E0-4F0C-A174-B0AD7385B6B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9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9F9AB-C798-411A-9787-858CF5BEECA3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63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3F3C5-2668-421D-9908-94267BBC488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68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45434-0BDC-4072-9C00-917B712C778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72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5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5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B764B-514C-4014-BD53-DEF300853DC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77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3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5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5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5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3B029-85E3-4BE9-8AA8-D7AD3863888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81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5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6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95E00-4BCB-494F-8DB9-9130E4B91149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15E8D-1FB1-4336-9565-86290F1C22EF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6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86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63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864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865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867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86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870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8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9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6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2DC92-7CE7-4F02-AE24-C2588B44D1B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13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4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5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82A86-D47F-46C7-8582-ADAEB83B30B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8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59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5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6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8147A-20D4-409E-9E2D-40839543F96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5C129-F652-4E27-8B68-E6516761C95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80F2D-71FC-414C-8573-623601BA2280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0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16FDE-60DB-469F-BCEE-A45CA6320E05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4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4D7B5-D741-473F-8852-EB73CE8CE9B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0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98671-533B-405D-902E-E088DCB7189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4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5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9BB45-6825-40DB-BF16-E621AD89639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0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F31D0-1A96-4371-9BB4-4CA6EDBCA8C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-9360" y="4652640"/>
            <a:ext cx="9144000" cy="12222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T THE SCHOOL NURS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3" name="Picture 2" descr="C:\Users\1\Desktop\Для открытого урока\e014a61fbe2cf612aa098818de415c7d.jpg"/>
          <p:cNvPicPr/>
          <p:nvPr/>
        </p:nvPicPr>
        <p:blipFill>
          <a:blip r:embed="rId1"/>
          <a:stretch/>
        </p:blipFill>
        <p:spPr>
          <a:xfrm>
            <a:off x="2890800" y="139680"/>
            <a:ext cx="3362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30492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headach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6" name="Picture 2" descr="C:\Users\1\Desktop\Для открытого урока\Рисунок (35).jpg"/>
          <p:cNvPicPr/>
          <p:nvPr/>
        </p:nvPicPr>
        <p:blipFill>
          <a:blip r:embed="rId1"/>
          <a:stretch/>
        </p:blipFill>
        <p:spPr>
          <a:xfrm>
            <a:off x="2819520" y="1436760"/>
            <a:ext cx="396072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0492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broken ar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9" name="Picture 2" descr="C:\Users\1\Desktop\Для открытого урока\Рисунок (38).jpg"/>
          <p:cNvPicPr/>
          <p:nvPr/>
        </p:nvPicPr>
        <p:blipFill>
          <a:blip r:embed="rId1"/>
          <a:stretch/>
        </p:blipFill>
        <p:spPr>
          <a:xfrm>
            <a:off x="2603520" y="1376280"/>
            <a:ext cx="4392720" cy="49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04920" y="691920"/>
            <a:ext cx="8686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toothach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2" name="Picture 2" descr="C:\Users\1\Desktop\Для открытого урока\Рисунок (41).jpg"/>
          <p:cNvPicPr/>
          <p:nvPr/>
        </p:nvPicPr>
        <p:blipFill>
          <a:blip r:embed="rId1"/>
          <a:stretch/>
        </p:blipFill>
        <p:spPr>
          <a:xfrm>
            <a:off x="2484360" y="1427040"/>
            <a:ext cx="417528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0492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stomachach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5" name="Picture 2" descr="C:\Users\1\Desktop\Для открытого урока\Рисунок (42).jpg"/>
          <p:cNvPicPr/>
          <p:nvPr/>
        </p:nvPicPr>
        <p:blipFill>
          <a:blip r:embed="rId1"/>
          <a:stretch/>
        </p:blipFill>
        <p:spPr>
          <a:xfrm>
            <a:off x="2627280" y="1700280"/>
            <a:ext cx="42483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304920" y="836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backach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8" name="Picture 2" descr="C:\Users\1\Desktop\Для открытого урока\Рисунок (36).jpg"/>
          <p:cNvPicPr/>
          <p:nvPr/>
        </p:nvPicPr>
        <p:blipFill>
          <a:blip r:embed="rId1"/>
          <a:stretch/>
        </p:blipFill>
        <p:spPr>
          <a:xfrm>
            <a:off x="2700360" y="1484280"/>
            <a:ext cx="4176720" cy="488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971640" y="1952640"/>
            <a:ext cx="7416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1) Sindy is ill today: she has a runny nose, a bad cough, a sore throat and a high…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broken arm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temperatur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backach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2) Ben fell from his bike. He should visit his doctor because he has…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a broken arm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a stomachach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high blood pressur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3) Lily is going to the dentist. She has…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a runny nos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a fever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a toothach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4) Simon has a fever. He should stay in bed and …… to get better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do sports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take medicines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go to school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5) Kate has a headache. She came to the doctor ……..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to take blood pressur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to take medicines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to examine her throat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Box 1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s, nurses, dentist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5" name="Рисунок 2" descr="vrachi22.jpg"/>
          <p:cNvPicPr/>
          <p:nvPr/>
        </p:nvPicPr>
        <p:blipFill>
          <a:blip r:embed="rId1"/>
          <a:stretch/>
        </p:blipFill>
        <p:spPr>
          <a:xfrm>
            <a:off x="1332000" y="1687680"/>
            <a:ext cx="6856200" cy="3686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5470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SOLVE THE PROBLEM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1" name="Picture 2" descr="C:\Users\1\Desktop\Для открытого урока\sinus-infection-1.jpg"/>
          <p:cNvPicPr/>
          <p:nvPr/>
        </p:nvPicPr>
        <p:blipFill>
          <a:blip r:embed="rId1"/>
          <a:stretch/>
        </p:blipFill>
        <p:spPr>
          <a:xfrm>
            <a:off x="250920" y="1052640"/>
            <a:ext cx="3484440" cy="4392360"/>
          </a:xfrm>
          <a:prstGeom prst="rect">
            <a:avLst/>
          </a:prstGeom>
          <a:ln w="0">
            <a:noFill/>
          </a:ln>
        </p:spPr>
      </p:pic>
      <p:sp>
        <p:nvSpPr>
          <p:cNvPr id="1062" name="TextBox 4"/>
          <p:cNvSpPr/>
          <p:nvPr/>
        </p:nvSpPr>
        <p:spPr>
          <a:xfrm>
            <a:off x="3790800" y="1255680"/>
            <a:ext cx="4983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’m a Russian boy. My name is Dima. I spend my summer holidays in the USA. I live in a children’s camp. Today I’m not well: I have a runny nose, a sore throat and fever. I’m hot and weak. What should I d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C:\Users\1\Desktop\Для открытого урока\sinus-infection-1.jpg"/>
          <p:cNvPicPr/>
          <p:nvPr/>
        </p:nvPicPr>
        <p:blipFill>
          <a:blip r:embed="rId1"/>
          <a:stretch/>
        </p:blipFill>
        <p:spPr>
          <a:xfrm>
            <a:off x="324000" y="1628640"/>
            <a:ext cx="3009600" cy="4525920"/>
          </a:xfrm>
          <a:prstGeom prst="rect">
            <a:avLst/>
          </a:prstGeom>
          <a:ln w="0">
            <a:noFill/>
          </a:ln>
        </p:spPr>
      </p:pic>
      <p:sp>
        <p:nvSpPr>
          <p:cNvPr id="1064" name="TextBox 4"/>
          <p:cNvSpPr/>
          <p:nvPr/>
        </p:nvSpPr>
        <p:spPr>
          <a:xfrm>
            <a:off x="3780000" y="2349360"/>
            <a:ext cx="467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ank you, guys! Now I know all the necessary words and I can describe my health problem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285920" y="12816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THE DOCTOR’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1285920" y="1052280"/>
            <a:ext cx="8686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Doctor’s phrases: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What’s the matter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How can I help you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What’s your problem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Let me examine you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Let’s have a look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THE DOCTOR’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3700" spc="-1" strike="noStrike">
                <a:solidFill>
                  <a:srgbClr val="000000"/>
                </a:solidFill>
                <a:latin typeface="Gill Sans MT"/>
              </a:rPr>
              <a:t>Patient’s phrase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I have…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a runny nose, a sore throat, a broken arm, a stomachache and so on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Box 1"/>
          <p:cNvSpPr/>
          <p:nvPr/>
        </p:nvSpPr>
        <p:spPr>
          <a:xfrm>
            <a:off x="68436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medicin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070" name="Прямая со стрелкой 3"/>
          <p:cNvCxnSpPr/>
          <p:nvPr/>
        </p:nvCxnSpPr>
        <p:spPr>
          <a:xfrm flipH="1">
            <a:off x="1762920" y="1341360"/>
            <a:ext cx="864360" cy="1224720"/>
          </a:xfrm>
          <a:prstGeom prst="straightConnector1">
            <a:avLst/>
          </a:prstGeom>
          <a:ln w="22320">
            <a:solidFill>
              <a:srgbClr val="de478e"/>
            </a:solidFill>
            <a:miter/>
            <a:tailEnd len="med" type="arrow" w="med"/>
          </a:ln>
        </p:spPr>
      </p:cxnSp>
      <p:cxnSp>
        <p:nvCxnSpPr>
          <p:cNvPr id="1071" name="Прямая со стрелкой 5"/>
          <p:cNvCxnSpPr/>
          <p:nvPr/>
        </p:nvCxnSpPr>
        <p:spPr>
          <a:xfrm flipH="1">
            <a:off x="3634920" y="1412640"/>
            <a:ext cx="145440" cy="1872360"/>
          </a:xfrm>
          <a:prstGeom prst="straightConnector1">
            <a:avLst/>
          </a:prstGeom>
          <a:ln w="22320">
            <a:solidFill>
              <a:srgbClr val="de478e"/>
            </a:solidFill>
            <a:miter/>
            <a:tailEnd len="med" type="arrow" w="med"/>
          </a:ln>
        </p:spPr>
      </p:cxnSp>
      <p:cxnSp>
        <p:nvCxnSpPr>
          <p:cNvPr id="1072" name="Прямая со стрелкой 7"/>
          <p:cNvCxnSpPr/>
          <p:nvPr/>
        </p:nvCxnSpPr>
        <p:spPr>
          <a:xfrm>
            <a:off x="5219280" y="1341000"/>
            <a:ext cx="289440" cy="1872360"/>
          </a:xfrm>
          <a:prstGeom prst="straightConnector1">
            <a:avLst/>
          </a:prstGeom>
          <a:ln w="22320">
            <a:solidFill>
              <a:srgbClr val="de478e"/>
            </a:solidFill>
            <a:miter/>
            <a:tailEnd len="med" type="arrow" w="med"/>
          </a:ln>
        </p:spPr>
      </p:cxnSp>
      <p:cxnSp>
        <p:nvCxnSpPr>
          <p:cNvPr id="1073" name="Прямая со стрелкой 9"/>
          <p:cNvCxnSpPr/>
          <p:nvPr/>
        </p:nvCxnSpPr>
        <p:spPr>
          <a:xfrm>
            <a:off x="6084720" y="1268280"/>
            <a:ext cx="1152000" cy="1153440"/>
          </a:xfrm>
          <a:prstGeom prst="straightConnector1">
            <a:avLst/>
          </a:prstGeom>
          <a:ln w="22320">
            <a:solidFill>
              <a:srgbClr val="de478e"/>
            </a:solidFill>
            <a:miter/>
            <a:tailEnd len="med" type="arrow" w="med"/>
          </a:ln>
        </p:spPr>
      </p:cxnSp>
      <p:sp>
        <p:nvSpPr>
          <p:cNvPr id="1074" name="TextBox 15"/>
          <p:cNvSpPr/>
          <p:nvPr/>
        </p:nvSpPr>
        <p:spPr>
          <a:xfrm>
            <a:off x="468360" y="2565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5" name="TextBox 16"/>
          <p:cNvSpPr/>
          <p:nvPr/>
        </p:nvSpPr>
        <p:spPr>
          <a:xfrm>
            <a:off x="1979640" y="3357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6" name="TextBox 17"/>
          <p:cNvSpPr/>
          <p:nvPr/>
        </p:nvSpPr>
        <p:spPr>
          <a:xfrm>
            <a:off x="4140360" y="3500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TextBox 18"/>
          <p:cNvSpPr/>
          <p:nvPr/>
        </p:nvSpPr>
        <p:spPr>
          <a:xfrm>
            <a:off x="6227640" y="2637000"/>
            <a:ext cx="25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bal remedi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78" name="Рисунок 19" descr="bg11.jpg"/>
          <p:cNvPicPr/>
          <p:nvPr/>
        </p:nvPicPr>
        <p:blipFill>
          <a:blip r:embed="rId1"/>
          <a:stretch/>
        </p:blipFill>
        <p:spPr>
          <a:xfrm>
            <a:off x="2050920" y="4076640"/>
            <a:ext cx="2305080" cy="1346400"/>
          </a:xfrm>
          <a:prstGeom prst="rect">
            <a:avLst/>
          </a:prstGeom>
          <a:ln w="0">
            <a:noFill/>
          </a:ln>
        </p:spPr>
      </p:pic>
      <p:pic>
        <p:nvPicPr>
          <p:cNvPr id="1079" name="Рисунок 20" descr="Fresh-Dried-Herbs.jpg"/>
          <p:cNvPicPr/>
          <p:nvPr/>
        </p:nvPicPr>
        <p:blipFill>
          <a:blip r:embed="rId2"/>
          <a:stretch/>
        </p:blipFill>
        <p:spPr>
          <a:xfrm>
            <a:off x="6516720" y="3860640"/>
            <a:ext cx="2016000" cy="1758960"/>
          </a:xfrm>
          <a:prstGeom prst="rect">
            <a:avLst/>
          </a:prstGeom>
          <a:ln w="0">
            <a:noFill/>
          </a:ln>
        </p:spPr>
      </p:pic>
      <p:pic>
        <p:nvPicPr>
          <p:cNvPr id="1080" name="Рисунок 21" descr="DXM-ABUSE.jpg"/>
          <p:cNvPicPr/>
          <p:nvPr/>
        </p:nvPicPr>
        <p:blipFill>
          <a:blip r:embed="rId3"/>
          <a:stretch/>
        </p:blipFill>
        <p:spPr>
          <a:xfrm>
            <a:off x="324000" y="3284640"/>
            <a:ext cx="1871640" cy="1098360"/>
          </a:xfrm>
          <a:prstGeom prst="rect">
            <a:avLst/>
          </a:prstGeom>
          <a:ln w="0">
            <a:noFill/>
          </a:ln>
        </p:spPr>
      </p:pic>
      <p:pic>
        <p:nvPicPr>
          <p:cNvPr id="1081" name="Рисунок 22" descr="stock-photo-1279901-tablets-pills-capsules.jpg"/>
          <p:cNvPicPr/>
          <p:nvPr/>
        </p:nvPicPr>
        <p:blipFill>
          <a:blip r:embed="rId4"/>
          <a:stretch/>
        </p:blipFill>
        <p:spPr>
          <a:xfrm>
            <a:off x="4500720" y="4292640"/>
            <a:ext cx="1915920" cy="12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Box 1"/>
          <p:cNvSpPr/>
          <p:nvPr/>
        </p:nvSpPr>
        <p:spPr>
          <a:xfrm>
            <a:off x="4140360" y="189000"/>
            <a:ext cx="482436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a crosswor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… your head with a do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… your finger with a knif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… the tooth with a nu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… my ankle when I ru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he highest part of a body, you think and eat with 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… your leg when you fall from the bik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 little part of your ar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… your bac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… my wrist when I’ve played basketbal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179280" y="189000"/>
          <a:ext cx="3961080" cy="6048360"/>
        </p:xfrm>
        <a:graphic>
          <a:graphicData uri="http://schemas.openxmlformats.org/drawingml/2006/table">
            <a:tbl>
              <a:tblPr/>
              <a:tblGrid>
                <a:gridCol w="352440"/>
                <a:gridCol w="452520"/>
                <a:gridCol w="450720"/>
                <a:gridCol w="451080"/>
                <a:gridCol w="450720"/>
                <a:gridCol w="450720"/>
                <a:gridCol w="451080"/>
                <a:gridCol w="450720"/>
                <a:gridCol w="451080"/>
              </a:tblGrid>
              <a:tr h="6462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58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3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764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3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764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3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3"/>
          <p:cNvSpPr/>
          <p:nvPr/>
        </p:nvSpPr>
        <p:spPr>
          <a:xfrm>
            <a:off x="250920" y="197640"/>
            <a:ext cx="856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healthy you should or shouldn’t… Put in two colum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t a light meal, eat too much ice cream, eat vegetables, eat fruits, wear warm clothes, walk in the rain, sunbathe a lot, smoke, drink alcohol, spend too much time in front of the TV, get enough sleep, get regular exercis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5" name="TextBox 8"/>
          <p:cNvSpPr/>
          <p:nvPr/>
        </p:nvSpPr>
        <p:spPr>
          <a:xfrm>
            <a:off x="611280" y="335772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324000" y="3182760"/>
          <a:ext cx="8424720" cy="2406960"/>
        </p:xfrm>
        <a:graphic>
          <a:graphicData uri="http://schemas.openxmlformats.org/drawingml/2006/table">
            <a:tbl>
              <a:tblPr/>
              <a:tblGrid>
                <a:gridCol w="4211640"/>
                <a:gridCol w="4213080"/>
              </a:tblGrid>
              <a:tr h="7621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should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shouldn’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5"/>
          <p:cNvSpPr/>
          <p:nvPr/>
        </p:nvSpPr>
        <p:spPr>
          <a:xfrm>
            <a:off x="468360" y="44280"/>
            <a:ext cx="799128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 (D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d mor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(P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, Doct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w then, how can I help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ll doctor, I've got a headach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you have any other symptoms? A temperature, for exampl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ll yes, I have high temperature, actual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looks to me as if you've got a col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h, have I, docto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s. Now I give you these pills. You should take two pills three times a d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k you, doctor, thank you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1"/>
          <p:cNvSpPr/>
          <p:nvPr/>
        </p:nvSpPr>
        <p:spPr>
          <a:xfrm>
            <a:off x="324000" y="83664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dialogues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324000" y="2276640"/>
          <a:ext cx="8280360" cy="280800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28080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headache – a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stomachache – some stomach inf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toothache – c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 earache – the f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sore throat – a bad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Прямоугольник 1" descr=""/>
          <p:cNvPicPr/>
          <p:nvPr/>
        </p:nvPicPr>
        <p:blipFill>
          <a:blip r:embed="rId1"/>
          <a:stretch/>
        </p:blipFill>
        <p:spPr>
          <a:xfrm>
            <a:off x="1438200" y="334800"/>
            <a:ext cx="5999400" cy="1665360"/>
          </a:xfrm>
          <a:prstGeom prst="rect">
            <a:avLst/>
          </a:prstGeom>
          <a:ln w="0">
            <a:noFill/>
          </a:ln>
        </p:spPr>
      </p:pic>
      <p:pic>
        <p:nvPicPr>
          <p:cNvPr id="1091" name="Рисунок 2" descr="629AprhSGbQ.jpg"/>
          <p:cNvPicPr/>
          <p:nvPr/>
        </p:nvPicPr>
        <p:blipFill>
          <a:blip r:embed="rId2"/>
          <a:stretch/>
        </p:blipFill>
        <p:spPr>
          <a:xfrm>
            <a:off x="2556000" y="1844640"/>
            <a:ext cx="3600360" cy="463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HONETIC DRI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30320" y="1628280"/>
            <a:ext cx="88833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Listen and repeat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runny nose, a bad cough, a fever,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a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emperature, a headache, a backache,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stomachache, a sore throat, a broken arm, to take medicines, to take blood pressure,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to examine;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5470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SOLVE THE PROBLEM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10" name="Picture 2" descr="C:\Users\1\Desktop\Для открытого урока\sinus-infection-1.jpg"/>
          <p:cNvPicPr/>
          <p:nvPr/>
        </p:nvPicPr>
        <p:blipFill>
          <a:blip r:embed="rId1"/>
          <a:stretch/>
        </p:blipFill>
        <p:spPr>
          <a:xfrm>
            <a:off x="250920" y="1052640"/>
            <a:ext cx="3484440" cy="4392360"/>
          </a:xfrm>
          <a:prstGeom prst="rect">
            <a:avLst/>
          </a:prstGeom>
          <a:ln w="0">
            <a:noFill/>
          </a:ln>
        </p:spPr>
      </p:pic>
      <p:sp>
        <p:nvSpPr>
          <p:cNvPr id="1011" name="TextBox 4"/>
          <p:cNvSpPr/>
          <p:nvPr/>
        </p:nvSpPr>
        <p:spPr>
          <a:xfrm>
            <a:off x="3790800" y="1255680"/>
            <a:ext cx="4983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’m a Russian boy. My name is Dima. I spend my summer holidays in the USA. I live in a children’s camp. Today I’m not well: I have a runny nose, a sore throat and fever. I’m hot and weak. What should I d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АЛГОРИТМ РЕШЕНИЯ ПРОБЛЕМНОЙ СИТУАЦ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64260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ill Sans MT"/>
              </a:rPr>
              <a:t>1) Обратиться к врачу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 Narrow"/>
              </a:rPr>
              <a:t>Что для этого нужно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лексикой (названия симптомов)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клишевыми выражениями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ill Sans MT"/>
              </a:rPr>
              <a:t>2) Понять рекомендации врача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 Narrow"/>
              </a:rPr>
              <a:t>Что для этого нужно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лексикой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клишевыми выражениями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Обладать навыками аудирования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ill Sans MT"/>
              </a:rPr>
              <a:t>3) Выполнить рекомендации врача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 Narrow"/>
              </a:rPr>
              <a:t>Что для этого нужно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лексикой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клишевыми выражениями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Грамматический материал: модальные глаголы 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can, must, should</a:t>
            </a: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, речевой образец 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I have</a:t>
            </a: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0492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                               2                             3                                 4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16" name="Picture 2" descr="C:\Users\1\Desktop\Для открытого урока\Рисунок (35).jpg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3" descr="C:\Users\1\Desktop\Для открытого урока\Рисунок (36).jpg"/>
          <p:cNvPicPr/>
          <p:nvPr/>
        </p:nvPicPr>
        <p:blipFill>
          <a:blip r:embed="rId2"/>
          <a:stretch/>
        </p:blipFill>
        <p:spPr>
          <a:xfrm>
            <a:off x="2771640" y="1052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4" descr="C:\Users\1\Desktop\Для открытого урока\Рисунок (37).jpg"/>
          <p:cNvPicPr/>
          <p:nvPr/>
        </p:nvPicPr>
        <p:blipFill>
          <a:blip r:embed="rId3"/>
          <a:stretch/>
        </p:blipFill>
        <p:spPr>
          <a:xfrm>
            <a:off x="4788000" y="105264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C:\Users\1\Desktop\Для открытого урока\Рисунок (38).jpg"/>
          <p:cNvPicPr/>
          <p:nvPr/>
        </p:nvPicPr>
        <p:blipFill>
          <a:blip r:embed="rId4"/>
          <a:stretch/>
        </p:blipFill>
        <p:spPr>
          <a:xfrm>
            <a:off x="6948360" y="105264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6" descr="C:\Users\1\Desktop\Для открытого урока\Рисунок (39).jpg"/>
          <p:cNvPicPr/>
          <p:nvPr/>
        </p:nvPicPr>
        <p:blipFill>
          <a:blip r:embed="rId5"/>
          <a:stretch/>
        </p:blipFill>
        <p:spPr>
          <a:xfrm>
            <a:off x="539640" y="3500280"/>
            <a:ext cx="2016360" cy="21607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7" descr="C:\Users\1\Desktop\Для открытого урока\Рисунок (40).jpg"/>
          <p:cNvPicPr/>
          <p:nvPr/>
        </p:nvPicPr>
        <p:blipFill>
          <a:blip r:embed="rId6"/>
          <a:stretch/>
        </p:blipFill>
        <p:spPr>
          <a:xfrm>
            <a:off x="2771640" y="3500280"/>
            <a:ext cx="1871640" cy="2160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8" descr="C:\Users\1\Desktop\Для открытого урока\Рисунок (41).jpg"/>
          <p:cNvPicPr/>
          <p:nvPr/>
        </p:nvPicPr>
        <p:blipFill>
          <a:blip r:embed="rId7"/>
          <a:stretch/>
        </p:blipFill>
        <p:spPr>
          <a:xfrm>
            <a:off x="4859280" y="3500280"/>
            <a:ext cx="1873440" cy="21607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9" descr="C:\Users\1\Desktop\Для открытого урока\Рисунок (42).jpg"/>
          <p:cNvPicPr/>
          <p:nvPr/>
        </p:nvPicPr>
        <p:blipFill>
          <a:blip r:embed="rId8"/>
          <a:stretch/>
        </p:blipFill>
        <p:spPr>
          <a:xfrm>
            <a:off x="6912000" y="3500280"/>
            <a:ext cx="2232000" cy="2160720"/>
          </a:xfrm>
          <a:prstGeom prst="rect">
            <a:avLst/>
          </a:prstGeom>
          <a:ln w="0">
            <a:noFill/>
          </a:ln>
        </p:spPr>
      </p:pic>
      <p:sp>
        <p:nvSpPr>
          <p:cNvPr id="1024" name="TextBox 12"/>
          <p:cNvSpPr/>
          <p:nvPr/>
        </p:nvSpPr>
        <p:spPr>
          <a:xfrm>
            <a:off x="1116000" y="602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                                  6                                  7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04920" y="836280"/>
            <a:ext cx="86868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sore thro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7" name="Picture 2" descr="C:\Users\1\Desktop\Для открытого урока\Рисунок (39).jpg"/>
          <p:cNvPicPr/>
          <p:nvPr/>
        </p:nvPicPr>
        <p:blipFill>
          <a:blip r:embed="rId1"/>
          <a:stretch/>
        </p:blipFill>
        <p:spPr>
          <a:xfrm>
            <a:off x="1763640" y="1484280"/>
            <a:ext cx="439272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0492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runny nos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icture 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0" name="Picture 2" descr="C:\Users\1\Desktop\Для открытого урока\Рисунок (37).jpg"/>
          <p:cNvPicPr/>
          <p:nvPr/>
        </p:nvPicPr>
        <p:blipFill>
          <a:blip r:embed="rId1"/>
          <a:stretch/>
        </p:blipFill>
        <p:spPr>
          <a:xfrm>
            <a:off x="2195640" y="1413000"/>
            <a:ext cx="4392360" cy="48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0492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feve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3" name="Picture 2" descr="C:\Users\1\Desktop\Для открытого урока\Рисунок (40).jpg"/>
          <p:cNvPicPr/>
          <p:nvPr/>
        </p:nvPicPr>
        <p:blipFill>
          <a:blip r:embed="rId1"/>
          <a:stretch/>
        </p:blipFill>
        <p:spPr>
          <a:xfrm>
            <a:off x="2374920" y="155736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2:38:27Z</dcterms:created>
  <dc:creator>1</dc:creator>
  <dc:description/>
  <dc:language>en-US</dc:language>
  <cp:lastModifiedBy>English Teacher</cp:lastModifiedBy>
  <dcterms:modified xsi:type="dcterms:W3CDTF">2019-11-11T20:58:47Z</dcterms:modified>
  <cp:revision>30</cp:revision>
  <dc:subject/>
  <dc:title>AT THE DOCTOR’S</dc:title>
</cp:coreProperties>
</file>