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3AE-0608-423D-B6D7-70AE826B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CC6-50EC-44E8-B2A3-FD808EF4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89D18-1ADC-41A3-87BB-C65F2809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BB010-5410-4964-A6DD-D3A6F959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F4063-1102-4EBE-B22E-FF51665C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63A67-44CA-4D80-B9A8-E23002A6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4137A-9324-49F5-B760-B85859FD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59F4F-14A2-4853-8576-94B1CBD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8FDB3-1B3A-423C-A535-E7249C96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3CD96-F575-41FB-97D1-DC023457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C261A-FA95-4528-8E43-55FB2EF7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9BB04-FE77-4801-B77C-B1112250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28B-AC66-4787-9F55-93C8A307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63CE9-8304-4DBB-8216-D1D219B2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CEF23-6EC5-4C2D-8E51-6A7C7493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58B84-C7D5-4B03-8BE8-E475371C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89955-4A6B-4C51-91E2-0369FF75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91233-20BE-43DF-AB60-8E684A8B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28050-557F-489B-891D-B8DDE89B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0E34-B6CF-4DA2-860E-4FC0E08B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BAA49-1706-498A-BAF4-7692A99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58532-CDE5-4FA8-BEAB-4B3EF8CB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01185-9589-4D31-AC4D-975D3460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EC4-B821-4E5C-BA7D-3962B8FC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CD943-88BA-446E-AC95-3F449E2A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FB2E4-47F8-42FD-AC40-EAAE1521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1908F-DE23-4934-983F-E89C66CB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73876-425C-46BF-B174-8D45729C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52AB5-3C67-4E90-84FC-E3542809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BBF64-DE9A-41B7-BF34-8486E4C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FE9A9-CD92-404C-9529-740BB492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CEA89-B17F-48D0-B56C-67175E12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F7BA7-C01A-4EF3-99FB-396A14EE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F8C44-C523-48FB-BE0E-D2498D73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0DBB-E412-4F35-83A8-B580C0B0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F018B-1642-4DA8-8ACE-EBD874EE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698F5-6B4C-4BAF-8C94-B33F54B4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4D3D4-2391-4ADD-83AC-B5C7500C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74093-5F92-49E6-A78F-A41EEF48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E433D-1E81-4EE4-BB9E-81484704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189F5-C127-4662-A755-A4C874B1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83761-C344-40E0-813B-2195B8EF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26E0D-25AF-4669-B146-8C4DD1E1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D7858-F0A5-4333-B4CD-6C9FFC91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D6E16-FB24-429B-9256-857160D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3B34-85A5-475B-8FB2-B117FB46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098E8-B737-4141-8343-25C7BAA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8CAE9-3983-485D-AD23-33970529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E507E-DB5D-4205-B14B-6F2B6F92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F190D-DFCD-44E4-951B-84CEF5E9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BCAD1-B3C2-42EB-BB84-D7AFBF82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CF35A-691B-4B60-B8BD-0945D2C5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92EEE-12FE-47DA-A41C-65C41055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70ACD-35D2-4F57-BE57-1EEAD9F4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20285-EF38-4153-8AD7-82E1A4EC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F850E-106D-4975-996B-09C7329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EBD9-10A3-431F-B749-77A874A7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AF7A7-8F63-4AF0-A988-ABC9BA44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06C8C-4AAD-4715-BE25-DADDF71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4D6D3-61C9-479A-87AA-229BF050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C6E00-D6B2-4B0E-A3F0-17E857CC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A1CFF-8ABE-4945-B6DC-D2E92C7E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0E1C3-174C-4C09-BAED-174B4D09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A13E0-026C-4657-ACB3-D086FD69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540ED-E3E8-483D-8A2C-5AE96ADC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E84A2-A3AC-4467-8AB2-D759CF23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ED9B3-C6CF-4997-B955-4480EB1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FE9A-FA15-409A-B7B8-96AC21EB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0BABE3-675A-4B48-B1FE-FDD61EBC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8CF0A-0AA2-422C-958D-61A06788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E8F2C-04C9-4163-8CD6-9D6C7070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ECC10-FFAB-4C44-8DC0-3BE27CA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45BED-23C8-4B30-A49B-D4017DD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218F3-F0EC-4AB1-BDAE-93A82CC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D4C3B-78DC-499F-BF19-1AC9C8E5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CA470-C0BD-4465-9874-A9B340B4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05CA2-6F7B-48C8-8EFA-B27C1499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9DD38-F16C-4D1F-B6E7-64E01CA1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F54B-CECB-4867-AF91-7336786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6D519-9E80-4581-A9D2-07D6DD61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1D818-AC27-4781-8FBD-7C8DAE7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AD409A-175E-428B-917A-186E7C24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80C27-CD22-4CE5-A804-63CB11DA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F72135-D1AB-4DDA-A92F-6D981109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FBC87-3A93-4FD8-AAC5-23E40A20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AEF58-EF42-4791-AA63-4F1A791C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62534-6E39-4D18-921E-929F277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AEDE2-A408-4164-991D-A6E02069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65D544-B648-4D1B-8084-3F864608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7D01-2BC9-4DEE-94D2-B42F8383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7D559-27D9-4813-94FF-D3324DD0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5977A-1CF8-43F9-9B9F-E8395FB7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C8101-0451-4949-A7EC-771C3FE3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ACF3E-3C4B-4C5D-B376-9F8926D8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9B84B-50F2-4C27-8AAE-395C11AA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BEFBA-3CA3-4BCF-8566-A7B02DEA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DC0A1-E688-4C46-8496-08A24535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CC6914-B290-473A-9BD8-4FA8F79C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0BC53-78DA-4824-AD56-64B44157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259F2-074C-4947-A972-1A5ABD3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EF72-4B7B-4046-92D7-908918DF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44167E-FC03-409F-A384-A55CA0CC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D222E-BECA-4735-8629-DE44FDFD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8F850-15EA-487C-B57E-6D835733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5FED5-4545-446D-A904-5A3331CF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458A7-5256-4A60-B187-C439FD0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C5C8E-BF5A-4B60-A2AD-B8CAD739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6BBFF2-35D3-4E1E-810B-8D5F6AD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188FA-B4C1-4E0D-9968-D5C1BFB0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155AE-8D51-425B-A4F8-59F63A1C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8CBE4-C43E-44D9-A4F4-433AF1F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72B-EB55-488E-9CCA-0648A056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A32D-EC47-4996-870A-620C21C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87CB8-7776-4929-8C51-F2B68860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7BFBC-7764-43C7-9C12-87B855E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67EF7-9FA6-43BB-876F-6FA4F70D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8F805-382D-47BC-AD74-04AE3B5D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AF605-3950-4FB9-A89B-DE55C9EA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C334D-EA9B-47BE-95E1-8CEB4B0C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4CA98-4576-4196-8007-0A002CBB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56CFF-BFCC-4375-B912-8FB22E86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7724A-6F0B-4A9F-84DC-8DB7FB67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D9398-D2AE-4C82-A6DF-C23BC084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1975-1B95-4B3A-AD58-77AFE59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A052E-E138-4968-A99D-783F5FA4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22707-9F73-4EFB-90AC-13B0356A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E27AE-0F9F-458B-A9A9-DD3AA3A1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9E602-3F9A-441D-B095-B6AF565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A627A-9CE2-460A-B92A-AB08978C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495DE-FE8A-4192-B153-F4C6A3CE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2881E-8776-463F-9CA4-F5963A83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313EC-409E-40B5-A4C2-0AC4CA7E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E1EA3-FEFD-41A4-AA26-EE6DC7DB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603E54-178F-4358-98EE-53B66B95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95B3-4597-46E5-883B-C0AC7663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4E05D-2362-4258-AB80-A9D37E64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6BDBF-5BE5-4B8E-AAFA-98CF475F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F1699-C785-4B9E-9A36-F6BD0156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ABBCC-CF16-440E-8592-60D46B5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3C756-10E8-416E-8F9E-19A61FF6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8F46F-CD58-459D-BC09-8EC24BAD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94BE98-985E-4EE4-A54B-FF23AC35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FF429-7F71-41DE-82F4-7719A522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1AFFE-21B9-484E-9028-C6438236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F40EA-EDF7-4A53-B9EC-B1E3CB53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6AEA-644F-4084-BBDF-254A3FCE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86026-120A-40EC-91AA-2F07AC0B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EC4458-D76D-43D0-B4CF-81D3C2A6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10CFC-8A9C-4BD0-ADDC-09E6CC33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6F637-E0F6-4CAF-A36D-1A07A84C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90DD4-4D0B-4255-9EAB-DD097387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6B89B9-AA6C-41CC-A2A9-8977795F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D11E93-07B1-4623-A68E-3145F3B1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07952-AF5A-487B-A38F-2BB725F4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AE555-A087-4785-A879-F41C9296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2DB71-4672-4A46-A462-D7D05D9E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A393-C318-460D-B431-4C6FE091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9B2E6-DA39-483C-AA30-67CCC5E2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635E4-9A0D-4421-AB14-01A39224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0E64E-1C35-4423-83EB-0BD69E91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1BB1DF-1F8C-41EB-BD2E-51EF0683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BCD6C-25D0-459F-B8D2-09FBF643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59AA9-ADF0-4488-ACEC-63839EF0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1CDED-808C-4696-B1E2-CAE638BF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356D2-92AF-4657-A165-37FAB8C4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4E8EF-68DA-49C7-9144-7DEA167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3B711-851C-4FD5-83B0-48D43E2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8EDE1-10D4-4689-A2E7-A9F3BC76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BA394A-8090-44C1-B724-892FA66E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97F76-7334-4841-90E3-5E7556D1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5AC54-90EC-4B9A-A9A2-E7636DE8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B68290-3904-422F-B8E6-E4FB72BE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4BFDF-048B-40B3-A952-717291BD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15E7E5-E6F5-42FB-9011-56788A5D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DBB186-6783-4922-91C8-2059F6AC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2F9D12-34E1-49C5-A073-E97438F3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B1A004-B6E0-46DF-B47C-B512123A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705F98-AF26-48D7-A7FA-675C15D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4D52-155E-43A3-B4BC-5B6782EC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ECEB62-76B6-46C8-96F2-06BDB230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77E35C-28B5-44A6-8652-EEC51804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D1B07-557A-445F-84AE-1E145D60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89497B-0360-4852-8EC8-B63CD833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967BD4-33C6-4610-A4C5-6EA5B9EF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E2EC-7CA8-4EB9-B1B2-BBC8A31E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8560-C8C0-4FBE-9453-F663CB83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87E5-22AB-4D64-A304-17323572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77C-0426-496E-BF1C-2F6B70D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EC83-C9C6-40E7-9A46-33CF2528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B2E9-BDF7-40E5-B287-EA4306A5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4328-CA92-4A56-AF6C-C4E1116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2717-A652-4DD1-ABFC-AABCC9E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0103-9C43-4A40-8A6D-A43067D7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5923-83EC-4E5B-B8F6-58EC06D2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53A8-E056-4F78-B390-86BF8DC3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7B1C-0925-475E-AA21-455CCAFD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0B73C-292D-43AD-98ED-2D1C461E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14FD-ABF0-4EEA-99F3-E027C1BB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649-32B5-415E-A9E0-BADD00D6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E5FB-7A58-43C9-A07A-EA465A48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11E8-F594-4D93-9B21-7E635785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1C1C-2AA1-49C3-ABF0-A9D0F0B0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208A-CFE8-4C28-A9F2-6B858171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296EB-1AB8-425D-8FA0-07BD3341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369F-E623-4E4A-A563-96404F6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EFD9-FA0D-4822-9421-29E308B6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D594-D273-4323-9BD6-BEB246B3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747A-073F-43D1-A145-1E2ED52E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4C21B-C8A3-46E8-A1E4-7CDAF5E7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4FE-48FE-443B-936E-7AB57C0B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10DA-BA81-4C13-B708-5B4583CC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30D17-47D2-46C6-A18D-7047649C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88303-004B-4407-9B43-32ADEA2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BAFB-AF39-4E5D-9C7A-0C1DF0CF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5DA58-BC28-47CF-8357-F120B1E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BCF20-9D4F-471B-B8E3-50264119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B4B9-C09C-46A1-991E-BC8012E5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F1792-5DC6-4056-ACDD-10269F7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D7ADB-5AD5-4A8E-A643-48654DFC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7704B-BC27-458C-8E36-5483E772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E33-132B-42F6-AA24-E6B5B79F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A9E51-6EF8-4AA3-8526-99253091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8B709-8DD2-41B5-8BF5-F82E48BA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B605-9A45-40F4-8C46-70687D1E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5F86-D3A6-4AAB-B45D-A63D861C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A8EC0-241D-4329-9C25-C077CDB4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8165E-D373-4C1A-8AF8-5FA66DF6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60C60-5A99-4525-B2BC-959739D6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BDA36-1BFB-4493-AD15-103DCD0E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25E52-66D7-4AE1-97AE-F4343BCA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2DE7-74C2-490C-BD5F-C843F38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B72-49AB-42E3-A0D2-5B965F38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F6A81-37CA-4523-8FE3-7F3820C0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DC449-33AB-4D6D-B599-0EEF7AC9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57AC-73BB-4F39-A516-62CF433A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492F5-0592-4008-A99B-C9687930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876DC-BAA4-4B37-9604-B4CC347B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B1406-A9F5-4DBC-82F0-E8223510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4399-5F50-4139-BF6C-E20ECE2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AC8AF-5BCC-491B-8F69-5AD79378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99F3D-17EB-48C6-909E-C7F8197B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BD0F4-49A5-44E3-8392-3D324A3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B54-8C2B-44D4-BC67-8672CB34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791A1-43DB-4E45-B7F1-C58ECC5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7BCB-1825-4947-83C4-A350786A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4E613-CE30-44A0-97A8-7D2BD024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F6F23-81A6-4BDE-9D31-50F137B8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3332D-E8F3-4601-8E8F-AE671D6D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C017A-B5B9-4894-899B-9A2619B9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A1D3A-8214-403E-8F57-96D0B703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0FFDA-76D2-43BE-988E-3887BF59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021FB-583C-4A04-B4F1-AEAE5D64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CA4F8-0BF4-47D7-A6CA-00A03748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B9B-8AC5-4B13-AD8E-1C1D248C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249DA-62D0-4E04-A41E-D4A34820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037AD-CEF5-461C-AB38-AB98F6C7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8BC2E-B278-49D4-AA4D-4C0CBF16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66732-0D63-4E84-8386-839C46D9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A44CF-EFCA-4C21-8C74-4C690F70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64C27-8F2B-44A2-85C5-0B03F945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4BD49-1691-410A-9CB1-DEAD5DBB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1E085-C270-4E49-A42E-3697CF3A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F62C2-FE83-471C-8CCE-D7755B6B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0DF60-81B6-42F8-BBF5-0C99D7E0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4DBC7-EC04-406E-8A47-AEA6F246BED7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4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05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407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408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10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41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413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33E3F-EE69-45DF-949F-F1C41773808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4EF92-9F58-4BEB-AA3F-2F7FE74BC374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1149F-3559-4DA2-B876-C21D86AD0CAF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4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7F1A5-ED8D-4ED5-A1C8-5C056BF7B403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9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47BD2-80CB-4C30-8201-773B7D05980B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63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F233A-27E0-4BD7-9D68-49A820559174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8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68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FA965-A6E9-4304-A336-8BC7B1BA5F28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72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5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5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6C842-5A32-4E0C-85A0-7AB09E1BC5E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77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3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5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5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5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04457-AF6C-493E-8C31-3E6C4BF39F29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16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817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5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6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CB62B-A9F9-4008-A4D5-0A1F9C67AD38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F4EAE-BB66-4423-8550-A302A5FFDBD1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6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86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63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864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865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867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86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870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8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9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6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782E0-D7A6-4B9C-9CFB-261CD1B332D3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13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4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5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8433C-B7A2-4F61-9E0A-6B116703D7E3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8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59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5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6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043B2-8D44-4962-BBAE-4FED0A8EB654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F7037-DC7F-4ADE-98B2-CF7A5EEC4CD0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81D14-274D-491A-B7A9-87C844BC648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0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15DF1-ED48-499A-B51E-1FED5FBAFDC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4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E3D3C-72F0-4627-B484-2B90ABEFA732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0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F50FE-B044-4A40-B646-4B45AFDD7BB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4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5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1F5DE-CB53-446A-82EA-78C1B3F238FD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0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197DE-32B0-4BCE-8FCF-32D2EEA01E43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-9360" y="4652640"/>
            <a:ext cx="9144000" cy="12222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T THE SCHOOL NURS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3" name="Picture 2" descr="C:\Users\1\Desktop\Для открытого урока\e014a61fbe2cf612aa098818de415c7d.jpg"/>
          <p:cNvPicPr/>
          <p:nvPr/>
        </p:nvPicPr>
        <p:blipFill>
          <a:blip r:embed="rId1"/>
          <a:stretch/>
        </p:blipFill>
        <p:spPr>
          <a:xfrm>
            <a:off x="2890800" y="139680"/>
            <a:ext cx="3362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30492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headach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6" name="Picture 2" descr="C:\Users\1\Desktop\Для открытого урока\Рисунок (35).jpg"/>
          <p:cNvPicPr/>
          <p:nvPr/>
        </p:nvPicPr>
        <p:blipFill>
          <a:blip r:embed="rId1"/>
          <a:stretch/>
        </p:blipFill>
        <p:spPr>
          <a:xfrm>
            <a:off x="2819520" y="1436760"/>
            <a:ext cx="396072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0492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broken ar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9" name="Picture 2" descr="C:\Users\1\Desktop\Для открытого урока\Рисунок (38).jpg"/>
          <p:cNvPicPr/>
          <p:nvPr/>
        </p:nvPicPr>
        <p:blipFill>
          <a:blip r:embed="rId1"/>
          <a:stretch/>
        </p:blipFill>
        <p:spPr>
          <a:xfrm>
            <a:off x="2603520" y="1376280"/>
            <a:ext cx="4392720" cy="49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04920" y="691920"/>
            <a:ext cx="8686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toothach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2" name="Picture 2" descr="C:\Users\1\Desktop\Для открытого урока\Рисунок (41).jpg"/>
          <p:cNvPicPr/>
          <p:nvPr/>
        </p:nvPicPr>
        <p:blipFill>
          <a:blip r:embed="rId1"/>
          <a:stretch/>
        </p:blipFill>
        <p:spPr>
          <a:xfrm>
            <a:off x="2484360" y="1427040"/>
            <a:ext cx="417528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0492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stomachach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5" name="Picture 2" descr="C:\Users\1\Desktop\Для открытого урока\Рисунок (42).jpg"/>
          <p:cNvPicPr/>
          <p:nvPr/>
        </p:nvPicPr>
        <p:blipFill>
          <a:blip r:embed="rId1"/>
          <a:stretch/>
        </p:blipFill>
        <p:spPr>
          <a:xfrm>
            <a:off x="2627280" y="1700280"/>
            <a:ext cx="42483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304920" y="836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backach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8" name="Picture 2" descr="C:\Users\1\Desktop\Для открытого урока\Рисунок (36).jpg"/>
          <p:cNvPicPr/>
          <p:nvPr/>
        </p:nvPicPr>
        <p:blipFill>
          <a:blip r:embed="rId1"/>
          <a:stretch/>
        </p:blipFill>
        <p:spPr>
          <a:xfrm>
            <a:off x="2700360" y="1484280"/>
            <a:ext cx="4176720" cy="488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971640" y="1952640"/>
            <a:ext cx="7416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1) Sindy is ill today: she has a runny nose, a bad cough, a sore throat and a high…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broken arm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temperatur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backach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2) Ben fell from his bike. He should visit his doctor because he has…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a broken arm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a stomachach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high blood pressur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3) Lily is going to the dentist. She has…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a runny nos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a fever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a toothach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4) Simon has a fever. He should stay in bed and …… to get better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do sports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take medicines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go to school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LL THE GAPS WITH THE WORDS OR EXP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5) Kate has a headache. She came to the doctor ……..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a) to take blood pressure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b) to take medicines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c) to examine her throat;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Box 1"/>
          <p:cNvSpPr/>
          <p:nvPr/>
        </p:nvSpPr>
        <p:spPr>
          <a:xfrm>
            <a:off x="468360" y="5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s, nurses, dentist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5" name="Рисунок 2" descr="vrachi22.jpg"/>
          <p:cNvPicPr/>
          <p:nvPr/>
        </p:nvPicPr>
        <p:blipFill>
          <a:blip r:embed="rId1"/>
          <a:stretch/>
        </p:blipFill>
        <p:spPr>
          <a:xfrm>
            <a:off x="1332000" y="1687680"/>
            <a:ext cx="6856200" cy="3686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5470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SOLVE THE PROBLEM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1" name="Picture 2" descr="C:\Users\1\Desktop\Для открытого урока\sinus-infection-1.jpg"/>
          <p:cNvPicPr/>
          <p:nvPr/>
        </p:nvPicPr>
        <p:blipFill>
          <a:blip r:embed="rId1"/>
          <a:stretch/>
        </p:blipFill>
        <p:spPr>
          <a:xfrm>
            <a:off x="250920" y="1052640"/>
            <a:ext cx="3484440" cy="4392360"/>
          </a:xfrm>
          <a:prstGeom prst="rect">
            <a:avLst/>
          </a:prstGeom>
          <a:ln w="0">
            <a:noFill/>
          </a:ln>
        </p:spPr>
      </p:pic>
      <p:sp>
        <p:nvSpPr>
          <p:cNvPr id="1062" name="TextBox 4"/>
          <p:cNvSpPr/>
          <p:nvPr/>
        </p:nvSpPr>
        <p:spPr>
          <a:xfrm>
            <a:off x="3790800" y="1255680"/>
            <a:ext cx="4983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’m a Russian boy. My name is Dima. I spend my summer holidays in the USA. I live in a children’s camp. Today I’m not well: I have a runny nose, a sore throat and fever. I’m hot and weak. What should I d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C:\Users\1\Desktop\Для открытого урока\sinus-infection-1.jpg"/>
          <p:cNvPicPr/>
          <p:nvPr/>
        </p:nvPicPr>
        <p:blipFill>
          <a:blip r:embed="rId1"/>
          <a:stretch/>
        </p:blipFill>
        <p:spPr>
          <a:xfrm>
            <a:off x="324000" y="1628640"/>
            <a:ext cx="3009600" cy="4525920"/>
          </a:xfrm>
          <a:prstGeom prst="rect">
            <a:avLst/>
          </a:prstGeom>
          <a:ln w="0">
            <a:noFill/>
          </a:ln>
        </p:spPr>
      </p:pic>
      <p:sp>
        <p:nvSpPr>
          <p:cNvPr id="1064" name="TextBox 4"/>
          <p:cNvSpPr/>
          <p:nvPr/>
        </p:nvSpPr>
        <p:spPr>
          <a:xfrm>
            <a:off x="3780000" y="2349360"/>
            <a:ext cx="467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ank you, guys! Now I know all the necessary words and I can describe my health problem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285920" y="128160"/>
            <a:ext cx="65721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THE DOCTOR’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1285920" y="1052280"/>
            <a:ext cx="8686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</a:rPr>
              <a:t>Doctor’s phrases: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What’s the matter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How can I help you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What’s your problem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Let me examine you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Let’s have a look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T THE DOCTOR’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3700" spc="-1" strike="noStrike">
                <a:solidFill>
                  <a:srgbClr val="000000"/>
                </a:solidFill>
                <a:latin typeface="Gill Sans MT"/>
              </a:rPr>
              <a:t>Patient’s phrase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I have…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a runny nose, a sore throat, a broken arm, a stomachache and so on.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Box 1"/>
          <p:cNvSpPr/>
          <p:nvPr/>
        </p:nvSpPr>
        <p:spPr>
          <a:xfrm>
            <a:off x="68436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medicin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070" name="Прямая со стрелкой 3"/>
          <p:cNvCxnSpPr/>
          <p:nvPr/>
        </p:nvCxnSpPr>
        <p:spPr>
          <a:xfrm flipH="1">
            <a:off x="1762920" y="1341360"/>
            <a:ext cx="864360" cy="1224720"/>
          </a:xfrm>
          <a:prstGeom prst="straightConnector1">
            <a:avLst/>
          </a:prstGeom>
          <a:ln w="22320">
            <a:solidFill>
              <a:srgbClr val="de478e"/>
            </a:solidFill>
            <a:miter/>
            <a:tailEnd len="med" type="arrow" w="med"/>
          </a:ln>
        </p:spPr>
      </p:cxnSp>
      <p:cxnSp>
        <p:nvCxnSpPr>
          <p:cNvPr id="1071" name="Прямая со стрелкой 5"/>
          <p:cNvCxnSpPr/>
          <p:nvPr/>
        </p:nvCxnSpPr>
        <p:spPr>
          <a:xfrm flipH="1">
            <a:off x="3634920" y="1412640"/>
            <a:ext cx="145440" cy="1872360"/>
          </a:xfrm>
          <a:prstGeom prst="straightConnector1">
            <a:avLst/>
          </a:prstGeom>
          <a:ln w="22320">
            <a:solidFill>
              <a:srgbClr val="de478e"/>
            </a:solidFill>
            <a:miter/>
            <a:tailEnd len="med" type="arrow" w="med"/>
          </a:ln>
        </p:spPr>
      </p:cxnSp>
      <p:cxnSp>
        <p:nvCxnSpPr>
          <p:cNvPr id="1072" name="Прямая со стрелкой 7"/>
          <p:cNvCxnSpPr/>
          <p:nvPr/>
        </p:nvCxnSpPr>
        <p:spPr>
          <a:xfrm>
            <a:off x="5219280" y="1341000"/>
            <a:ext cx="289440" cy="1872360"/>
          </a:xfrm>
          <a:prstGeom prst="straightConnector1">
            <a:avLst/>
          </a:prstGeom>
          <a:ln w="22320">
            <a:solidFill>
              <a:srgbClr val="de478e"/>
            </a:solidFill>
            <a:miter/>
            <a:tailEnd len="med" type="arrow" w="med"/>
          </a:ln>
        </p:spPr>
      </p:cxnSp>
      <p:cxnSp>
        <p:nvCxnSpPr>
          <p:cNvPr id="1073" name="Прямая со стрелкой 9"/>
          <p:cNvCxnSpPr/>
          <p:nvPr/>
        </p:nvCxnSpPr>
        <p:spPr>
          <a:xfrm>
            <a:off x="6084720" y="1268280"/>
            <a:ext cx="1152000" cy="1153440"/>
          </a:xfrm>
          <a:prstGeom prst="straightConnector1">
            <a:avLst/>
          </a:prstGeom>
          <a:ln w="22320">
            <a:solidFill>
              <a:srgbClr val="de478e"/>
            </a:solidFill>
            <a:miter/>
            <a:tailEnd len="med" type="arrow" w="med"/>
          </a:ln>
        </p:spPr>
      </p:cxnSp>
      <p:sp>
        <p:nvSpPr>
          <p:cNvPr id="1074" name="TextBox 15"/>
          <p:cNvSpPr/>
          <p:nvPr/>
        </p:nvSpPr>
        <p:spPr>
          <a:xfrm>
            <a:off x="468360" y="2565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5" name="TextBox 16"/>
          <p:cNvSpPr/>
          <p:nvPr/>
        </p:nvSpPr>
        <p:spPr>
          <a:xfrm>
            <a:off x="1979640" y="3357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6" name="TextBox 17"/>
          <p:cNvSpPr/>
          <p:nvPr/>
        </p:nvSpPr>
        <p:spPr>
          <a:xfrm>
            <a:off x="4140360" y="3500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TextBox 18"/>
          <p:cNvSpPr/>
          <p:nvPr/>
        </p:nvSpPr>
        <p:spPr>
          <a:xfrm>
            <a:off x="6227640" y="2637000"/>
            <a:ext cx="25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bal remedi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78" name="Рисунок 19" descr="bg11.jpg"/>
          <p:cNvPicPr/>
          <p:nvPr/>
        </p:nvPicPr>
        <p:blipFill>
          <a:blip r:embed="rId1"/>
          <a:stretch/>
        </p:blipFill>
        <p:spPr>
          <a:xfrm>
            <a:off x="2050920" y="4076640"/>
            <a:ext cx="2305080" cy="1346400"/>
          </a:xfrm>
          <a:prstGeom prst="rect">
            <a:avLst/>
          </a:prstGeom>
          <a:ln w="0">
            <a:noFill/>
          </a:ln>
        </p:spPr>
      </p:pic>
      <p:pic>
        <p:nvPicPr>
          <p:cNvPr id="1079" name="Рисунок 20" descr="Fresh-Dried-Herbs.jpg"/>
          <p:cNvPicPr/>
          <p:nvPr/>
        </p:nvPicPr>
        <p:blipFill>
          <a:blip r:embed="rId2"/>
          <a:stretch/>
        </p:blipFill>
        <p:spPr>
          <a:xfrm>
            <a:off x="6516720" y="3860640"/>
            <a:ext cx="2016000" cy="1758960"/>
          </a:xfrm>
          <a:prstGeom prst="rect">
            <a:avLst/>
          </a:prstGeom>
          <a:ln w="0">
            <a:noFill/>
          </a:ln>
        </p:spPr>
      </p:pic>
      <p:pic>
        <p:nvPicPr>
          <p:cNvPr id="1080" name="Рисунок 21" descr="DXM-ABUSE.jpg"/>
          <p:cNvPicPr/>
          <p:nvPr/>
        </p:nvPicPr>
        <p:blipFill>
          <a:blip r:embed="rId3"/>
          <a:stretch/>
        </p:blipFill>
        <p:spPr>
          <a:xfrm>
            <a:off x="324000" y="3284640"/>
            <a:ext cx="1871640" cy="1098360"/>
          </a:xfrm>
          <a:prstGeom prst="rect">
            <a:avLst/>
          </a:prstGeom>
          <a:ln w="0">
            <a:noFill/>
          </a:ln>
        </p:spPr>
      </p:pic>
      <p:pic>
        <p:nvPicPr>
          <p:cNvPr id="1081" name="Рисунок 22" descr="stock-photo-1279901-tablets-pills-capsules.jpg"/>
          <p:cNvPicPr/>
          <p:nvPr/>
        </p:nvPicPr>
        <p:blipFill>
          <a:blip r:embed="rId4"/>
          <a:stretch/>
        </p:blipFill>
        <p:spPr>
          <a:xfrm>
            <a:off x="4500720" y="4292640"/>
            <a:ext cx="1915920" cy="129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Box 1"/>
          <p:cNvSpPr/>
          <p:nvPr/>
        </p:nvSpPr>
        <p:spPr>
          <a:xfrm>
            <a:off x="4140360" y="189000"/>
            <a:ext cx="482436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a crosswor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… your head with a do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… your finger with a knif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… the tooth with a nu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… my ankle when I ru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he highest part of a body, you think and eat with i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… your leg when you fall from the bik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 little part of your ar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… your bac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… my wrist when I’ve played basketbal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179280" y="189000"/>
          <a:ext cx="3961080" cy="6048360"/>
        </p:xfrm>
        <a:graphic>
          <a:graphicData uri="http://schemas.openxmlformats.org/drawingml/2006/table">
            <a:tbl>
              <a:tblPr/>
              <a:tblGrid>
                <a:gridCol w="352440"/>
                <a:gridCol w="452520"/>
                <a:gridCol w="450720"/>
                <a:gridCol w="451080"/>
                <a:gridCol w="450720"/>
                <a:gridCol w="450720"/>
                <a:gridCol w="451080"/>
                <a:gridCol w="450720"/>
                <a:gridCol w="451080"/>
              </a:tblGrid>
              <a:tr h="6462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58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3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764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00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3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764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43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3"/>
          <p:cNvSpPr/>
          <p:nvPr/>
        </p:nvSpPr>
        <p:spPr>
          <a:xfrm>
            <a:off x="250920" y="197640"/>
            <a:ext cx="856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healthy you should or shouldn’t… Put in two colum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t a light meal, eat too much ice cream, eat vegetables, eat fruits, wear warm clothes, walk in the rain, sunbathe a lot, smoke, drink alcohol, spend too much time in front of the TV, get enough sleep, get regular exercis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5" name="TextBox 8"/>
          <p:cNvSpPr/>
          <p:nvPr/>
        </p:nvSpPr>
        <p:spPr>
          <a:xfrm>
            <a:off x="611280" y="335772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324000" y="3182760"/>
          <a:ext cx="8424720" cy="2406960"/>
        </p:xfrm>
        <a:graphic>
          <a:graphicData uri="http://schemas.openxmlformats.org/drawingml/2006/table">
            <a:tbl>
              <a:tblPr/>
              <a:tblGrid>
                <a:gridCol w="4211640"/>
                <a:gridCol w="4213080"/>
              </a:tblGrid>
              <a:tr h="7621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should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shouldn’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Box 5"/>
          <p:cNvSpPr/>
          <p:nvPr/>
        </p:nvSpPr>
        <p:spPr>
          <a:xfrm>
            <a:off x="468360" y="44280"/>
            <a:ext cx="799128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 (D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d mor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(P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, Doct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w then, how can I help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ll doctor, I've got a headach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you have any other symptoms? A temperature, for exampl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ll yes, I have high temperature, actual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looks to me as if you've got a col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h, have I, docto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s. Now I give you these pills. You should take two pills three times a d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k you, doctor, thank you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1"/>
          <p:cNvSpPr/>
          <p:nvPr/>
        </p:nvSpPr>
        <p:spPr>
          <a:xfrm>
            <a:off x="324000" y="83664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dialogues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324000" y="2276640"/>
          <a:ext cx="8280360" cy="280800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28080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headache – a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stomachache – some stomach inf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toothache – c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 earache – the f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sore throat – a bad 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Прямоугольник 1" descr=""/>
          <p:cNvPicPr/>
          <p:nvPr/>
        </p:nvPicPr>
        <p:blipFill>
          <a:blip r:embed="rId1"/>
          <a:stretch/>
        </p:blipFill>
        <p:spPr>
          <a:xfrm>
            <a:off x="1438200" y="334800"/>
            <a:ext cx="5999400" cy="1665360"/>
          </a:xfrm>
          <a:prstGeom prst="rect">
            <a:avLst/>
          </a:prstGeom>
          <a:ln w="0">
            <a:noFill/>
          </a:ln>
        </p:spPr>
      </p:pic>
      <p:pic>
        <p:nvPicPr>
          <p:cNvPr id="1091" name="Рисунок 2" descr="629AprhSGbQ.jpg"/>
          <p:cNvPicPr/>
          <p:nvPr/>
        </p:nvPicPr>
        <p:blipFill>
          <a:blip r:embed="rId2"/>
          <a:stretch/>
        </p:blipFill>
        <p:spPr>
          <a:xfrm>
            <a:off x="2556000" y="1844640"/>
            <a:ext cx="3600360" cy="463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HONETIC DRI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30320" y="1628280"/>
            <a:ext cx="88833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Listen and repeat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runny nose, a bad cough, a fever,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a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emperature, a headache, a backache,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stomachache, a sore throat, a broken arm, to take medicines, to take blood pressure,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to examine;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5470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SOLVE THE PROBLEM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10" name="Picture 2" descr="C:\Users\1\Desktop\Для открытого урока\sinus-infection-1.jpg"/>
          <p:cNvPicPr/>
          <p:nvPr/>
        </p:nvPicPr>
        <p:blipFill>
          <a:blip r:embed="rId1"/>
          <a:stretch/>
        </p:blipFill>
        <p:spPr>
          <a:xfrm>
            <a:off x="250920" y="1052640"/>
            <a:ext cx="3484440" cy="4392360"/>
          </a:xfrm>
          <a:prstGeom prst="rect">
            <a:avLst/>
          </a:prstGeom>
          <a:ln w="0">
            <a:noFill/>
          </a:ln>
        </p:spPr>
      </p:pic>
      <p:sp>
        <p:nvSpPr>
          <p:cNvPr id="1011" name="TextBox 4"/>
          <p:cNvSpPr/>
          <p:nvPr/>
        </p:nvSpPr>
        <p:spPr>
          <a:xfrm>
            <a:off x="3790800" y="1255680"/>
            <a:ext cx="4983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’m a Russian boy. My name is Dima. I spend my summer holidays in the USA. I live in a children’s camp. Today I’m not well: I have a runny nose, a sore throat and fever. I’m hot and weak. What should I d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АЛГОРИТМ РЕШЕНИЯ ПРОБЛЕМНОЙ СИТУАЦИ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64260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ill Sans MT"/>
              </a:rPr>
              <a:t>1) Обратиться к врачу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 Narrow"/>
              </a:rPr>
              <a:t>Что для этого нужно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лексикой (названия симптомов)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клишевыми выражениями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ill Sans MT"/>
              </a:rPr>
              <a:t>2) Понять рекомендации врача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 Narrow"/>
              </a:rPr>
              <a:t>Что для этого нужно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лексикой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клишевыми выражениями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Обладать навыками аудирования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ill Sans MT"/>
              </a:rPr>
              <a:t>3) Выполнить рекомендации врача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 Narrow"/>
              </a:rPr>
              <a:t>Что для этого нужно?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лексикой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Владеть клишевыми выражениями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Грамматический материал: модальные глаголы 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can, must, should</a:t>
            </a: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, речевой образец 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I have</a:t>
            </a:r>
            <a:r>
              <a:rPr b="0" lang="ru-RU" sz="17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0492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                               2                             3                                 4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16" name="Picture 2" descr="C:\Users\1\Desktop\Для открытого урока\Рисунок (35).jpg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3" descr="C:\Users\1\Desktop\Для открытого урока\Рисунок (36).jpg"/>
          <p:cNvPicPr/>
          <p:nvPr/>
        </p:nvPicPr>
        <p:blipFill>
          <a:blip r:embed="rId2"/>
          <a:stretch/>
        </p:blipFill>
        <p:spPr>
          <a:xfrm>
            <a:off x="2771640" y="1052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4" descr="C:\Users\1\Desktop\Для открытого урока\Рисунок (37).jpg"/>
          <p:cNvPicPr/>
          <p:nvPr/>
        </p:nvPicPr>
        <p:blipFill>
          <a:blip r:embed="rId3"/>
          <a:stretch/>
        </p:blipFill>
        <p:spPr>
          <a:xfrm>
            <a:off x="4788000" y="105264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C:\Users\1\Desktop\Для открытого урока\Рисунок (38).jpg"/>
          <p:cNvPicPr/>
          <p:nvPr/>
        </p:nvPicPr>
        <p:blipFill>
          <a:blip r:embed="rId4"/>
          <a:stretch/>
        </p:blipFill>
        <p:spPr>
          <a:xfrm>
            <a:off x="6948360" y="105264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6" descr="C:\Users\1\Desktop\Для открытого урока\Рисунок (39).jpg"/>
          <p:cNvPicPr/>
          <p:nvPr/>
        </p:nvPicPr>
        <p:blipFill>
          <a:blip r:embed="rId5"/>
          <a:stretch/>
        </p:blipFill>
        <p:spPr>
          <a:xfrm>
            <a:off x="539640" y="3500280"/>
            <a:ext cx="2016360" cy="21607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7" descr="C:\Users\1\Desktop\Для открытого урока\Рисунок (40).jpg"/>
          <p:cNvPicPr/>
          <p:nvPr/>
        </p:nvPicPr>
        <p:blipFill>
          <a:blip r:embed="rId6"/>
          <a:stretch/>
        </p:blipFill>
        <p:spPr>
          <a:xfrm>
            <a:off x="2771640" y="3500280"/>
            <a:ext cx="1871640" cy="2160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8" descr="C:\Users\1\Desktop\Для открытого урока\Рисунок (41).jpg"/>
          <p:cNvPicPr/>
          <p:nvPr/>
        </p:nvPicPr>
        <p:blipFill>
          <a:blip r:embed="rId7"/>
          <a:stretch/>
        </p:blipFill>
        <p:spPr>
          <a:xfrm>
            <a:off x="4859280" y="3500280"/>
            <a:ext cx="1873440" cy="21607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9" descr="C:\Users\1\Desktop\Для открытого урока\Рисунок (42).jpg"/>
          <p:cNvPicPr/>
          <p:nvPr/>
        </p:nvPicPr>
        <p:blipFill>
          <a:blip r:embed="rId8"/>
          <a:stretch/>
        </p:blipFill>
        <p:spPr>
          <a:xfrm>
            <a:off x="6912000" y="3500280"/>
            <a:ext cx="2232000" cy="2160720"/>
          </a:xfrm>
          <a:prstGeom prst="rect">
            <a:avLst/>
          </a:prstGeom>
          <a:ln w="0">
            <a:noFill/>
          </a:ln>
        </p:spPr>
      </p:pic>
      <p:sp>
        <p:nvSpPr>
          <p:cNvPr id="1024" name="TextBox 12"/>
          <p:cNvSpPr/>
          <p:nvPr/>
        </p:nvSpPr>
        <p:spPr>
          <a:xfrm>
            <a:off x="1116000" y="602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5                                  6                                  7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04920" y="836280"/>
            <a:ext cx="86868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sore thro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7" name="Picture 2" descr="C:\Users\1\Desktop\Для открытого урока\Рисунок (39).jpg"/>
          <p:cNvPicPr/>
          <p:nvPr/>
        </p:nvPicPr>
        <p:blipFill>
          <a:blip r:embed="rId1"/>
          <a:stretch/>
        </p:blipFill>
        <p:spPr>
          <a:xfrm>
            <a:off x="1763640" y="1484280"/>
            <a:ext cx="439272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0492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runny nos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icture 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0" name="Picture 2" descr="C:\Users\1\Desktop\Для открытого урока\Рисунок (37).jpg"/>
          <p:cNvPicPr/>
          <p:nvPr/>
        </p:nvPicPr>
        <p:blipFill>
          <a:blip r:embed="rId1"/>
          <a:stretch/>
        </p:blipFill>
        <p:spPr>
          <a:xfrm>
            <a:off x="2195640" y="1413000"/>
            <a:ext cx="4392360" cy="48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TCH THE PHRASES AND THE PI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0492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 have a feve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3" name="Picture 2" descr="C:\Users\1\Desktop\Для открытого урока\Рисунок (40).jpg"/>
          <p:cNvPicPr/>
          <p:nvPr/>
        </p:nvPicPr>
        <p:blipFill>
          <a:blip r:embed="rId1"/>
          <a:stretch/>
        </p:blipFill>
        <p:spPr>
          <a:xfrm>
            <a:off x="2374920" y="155736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2:38:27Z</dcterms:created>
  <dc:creator>1</dc:creator>
  <dc:description/>
  <dc:language>en-US</dc:language>
  <cp:lastModifiedBy>English Teacher</cp:lastModifiedBy>
  <dcterms:modified xsi:type="dcterms:W3CDTF">2019-11-11T20:58:47Z</dcterms:modified>
  <cp:revision>30</cp:revision>
  <dc:subject/>
  <dc:title>AT THE DOCTOR’S</dc:title>
</cp:coreProperties>
</file>