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670E-89F7-410C-BBBD-81E33541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C217-75C0-4A1F-BFAF-002A974C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DAE-F2D9-4F1C-8798-1F04DBB0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93E-385A-4CDF-A3DF-516AEB82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1D87-1944-45B0-9A63-1B7A3956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537F-F79B-42DF-83EB-1DCC83F0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6D0-D343-4B86-B241-227D34F3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271-C9AA-433B-ABE5-B8B218E8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694-D469-4251-9D35-98227FCF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60F1-8997-4FEB-ADF9-AFF14608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8A0-5F07-4C73-BEA0-36C967D4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C5E-2F4B-42D3-BF93-0F0DBBE7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C095-6AD0-447A-82D2-6630D5891C18}" type="slidenum">
              <a:rPr b="1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cript MT Bold"/>
              </a:rPr>
              <a:t>Гимна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342864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cript MT Bold"/>
              </a:rPr>
              <a:t>Строевые упражнения. Прыжок способом «согнув ноги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990720" y="4114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4" name="Picture 8" descr="bd2065-002"/>
          <p:cNvPicPr/>
          <p:nvPr/>
        </p:nvPicPr>
        <p:blipFill>
          <a:blip r:embed="rId1"/>
          <a:stretch/>
        </p:blipFill>
        <p:spPr>
          <a:xfrm>
            <a:off x="3048120" y="1371600"/>
            <a:ext cx="31240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1763640" y="415800"/>
            <a:ext cx="59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Гимнастические снаряды для опорного прыжка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7" name="Picture 10" descr="Картинки по запросу гимнастические снаряды"/>
          <p:cNvPicPr/>
          <p:nvPr/>
        </p:nvPicPr>
        <p:blipFill>
          <a:blip r:embed="rId1"/>
          <a:stretch/>
        </p:blipFill>
        <p:spPr>
          <a:xfrm>
            <a:off x="228600" y="3124080"/>
            <a:ext cx="17193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Картинки по запросу гимнастические снаряды"/>
          <p:cNvPicPr/>
          <p:nvPr/>
        </p:nvPicPr>
        <p:blipFill>
          <a:blip r:embed="rId2"/>
          <a:stretch/>
        </p:blipFill>
        <p:spPr>
          <a:xfrm>
            <a:off x="6705720" y="2514600"/>
            <a:ext cx="2057400" cy="2471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Похожее изображение"/>
          <p:cNvPicPr/>
          <p:nvPr/>
        </p:nvPicPr>
        <p:blipFill>
          <a:blip r:embed="rId3"/>
          <a:stretch/>
        </p:blipFill>
        <p:spPr>
          <a:xfrm>
            <a:off x="3657600" y="1981080"/>
            <a:ext cx="1325520" cy="1838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16"/>
          <p:cNvSpPr/>
          <p:nvPr/>
        </p:nvSpPr>
        <p:spPr>
          <a:xfrm>
            <a:off x="6787080" y="5470560"/>
            <a:ext cx="229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Гимнастический конь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3360600" y="4038480"/>
            <a:ext cx="210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Гимнастический козел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346680" y="5300640"/>
            <a:ext cx="25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Мостик гимнастический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ческая терминолог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ные прыжки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ыжки, при выполнении которых используется дополнительная опора ру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е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равномерно-ускоренное движение, используемое для последующего отталк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талки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двигательное действие для придания телу вертикальной или горизонтальной скор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кок на мост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специальный прыжок на мостик двумя ногами, позволяющий использовать его реактивное движение для увеличения высоты отталк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а призем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оложение тела, позволяющее амортизировать удар при приземлении, сделать приземление устойчивым и безопас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2"/>
          <p:cNvSpPr/>
          <p:nvPr/>
        </p:nvSpPr>
        <p:spPr>
          <a:xfrm>
            <a:off x="1815840" y="44604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ные прыжки через коня или козла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6" name="Picture 10" descr="Похожее изображение"/>
          <p:cNvPicPr/>
          <p:nvPr/>
        </p:nvPicPr>
        <p:blipFill>
          <a:blip r:embed="rId1"/>
          <a:stretch/>
        </p:blipFill>
        <p:spPr>
          <a:xfrm>
            <a:off x="4660920" y="1405080"/>
            <a:ext cx="4329000" cy="20383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252360" y="3994200"/>
            <a:ext cx="8737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жки с использованием козла или коня принято относить к опорным. В роли опоры выступает, собственно, гимнастический снаряд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ряд можно установить в длину или в ширину. В зависимости от этого будет варьироваться техника прыжка, в частности, дистанция разбега. Также может быть выбран один из стилей выполнения прыжка – прямой или боковой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8" name="Picture 20" descr="Картинки по запросу упражнения на козле для школьников"/>
          <p:cNvPicPr/>
          <p:nvPr/>
        </p:nvPicPr>
        <p:blipFill>
          <a:blip r:embed="rId2"/>
          <a:stretch/>
        </p:blipFill>
        <p:spPr>
          <a:xfrm>
            <a:off x="252360" y="1405080"/>
            <a:ext cx="42562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3962520" cy="27702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304920" y="22032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Прыжок согнув ноги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152280" y="3632040"/>
            <a:ext cx="8991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 разбега в 10-12 шагов оттолкнуться вперед-вверх, тело прямое, руки вперед-вверх.   В момент постановки рук на дальнюю часть козла резко оттолкнуться руками с одновременной группировкой тела (спина круглая, колени почти касаются груди) и тут же разогнуться, руки вверх-в стороны. Приземлиться на слегка согнутые ноги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684360" y="189000"/>
            <a:ext cx="82087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Ы ОПОРНОГО ПРЫЖКА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прыжка через коня имеет несколько этапов: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ег (спортсмен ускоряется перед запрыгиванием на мостик)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кок на мостик (обеими ногами необходимо приземлиться на его пружинящую поверхность)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талкивание ногами (упругий толчок от мостика придает телу дополнительное ускорение)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ёт (фактически это начало прыжка до момента касания опоры)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ание руками поверхности коня или козла (отталкивание от снаряда)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ёт после толчка (завершающая фаза прыжка)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емление (в идеале требуется приземлиться на две слегка согнутые ноги, после чего выпрямиться)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3" name="Picture 2" descr="Картинки по запросу опорные прыжки"/>
          <p:cNvPicPr/>
          <p:nvPr/>
        </p:nvPicPr>
        <p:blipFill>
          <a:blip r:embed="rId1"/>
          <a:srcRect l="0" t="0" r="0" b="9682"/>
          <a:stretch/>
        </p:blipFill>
        <p:spPr>
          <a:xfrm>
            <a:off x="5029200" y="5562720"/>
            <a:ext cx="31431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ы опорного прыж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ег      2. Наскок на мостик      3.Толчок нога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ёт после      5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талкивания от          6.Полет пос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чка ногами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аряда рука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талкивания рука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Призем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3" descr="Прыжки через козла или коня – техника выполнения"/>
          <p:cNvPicPr/>
          <p:nvPr/>
        </p:nvPicPr>
        <p:blipFill>
          <a:blip r:embed="rId1"/>
          <a:stretch/>
        </p:blipFill>
        <p:spPr>
          <a:xfrm>
            <a:off x="457200" y="1447920"/>
            <a:ext cx="156528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Прыжки через козла или коня – техника выполнения"/>
          <p:cNvPicPr/>
          <p:nvPr/>
        </p:nvPicPr>
        <p:blipFill>
          <a:blip r:embed="rId2"/>
          <a:stretch/>
        </p:blipFill>
        <p:spPr>
          <a:xfrm>
            <a:off x="2971800" y="1523880"/>
            <a:ext cx="1676520" cy="12193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Прыжки через козла или коня – техника выполнения"/>
          <p:cNvPicPr/>
          <p:nvPr/>
        </p:nvPicPr>
        <p:blipFill>
          <a:blip r:embed="rId3"/>
          <a:stretch/>
        </p:blipFill>
        <p:spPr>
          <a:xfrm>
            <a:off x="5943600" y="1371600"/>
            <a:ext cx="139860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Прыжки через козла или коня – техника выполнения"/>
          <p:cNvPicPr/>
          <p:nvPr/>
        </p:nvPicPr>
        <p:blipFill>
          <a:blip r:embed="rId4"/>
          <a:stretch/>
        </p:blipFill>
        <p:spPr>
          <a:xfrm>
            <a:off x="457200" y="388620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Прыжки через козла или коня – техника выполнения"/>
          <p:cNvPicPr/>
          <p:nvPr/>
        </p:nvPicPr>
        <p:blipFill>
          <a:blip r:embed="rId5"/>
          <a:stretch/>
        </p:blipFill>
        <p:spPr>
          <a:xfrm>
            <a:off x="2895480" y="38862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8" descr="Прыжки через козла или коня – техника выполнения"/>
          <p:cNvPicPr/>
          <p:nvPr/>
        </p:nvPicPr>
        <p:blipFill>
          <a:blip r:embed="rId6"/>
          <a:stretch/>
        </p:blipFill>
        <p:spPr>
          <a:xfrm>
            <a:off x="6629400" y="3809880"/>
            <a:ext cx="202104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фазы прыжка взаимосвязаны, завершающие и действия одной фазы являются подготовительными для следующей, а допускаемые в каждой из фаз ошибок  могут вызвать целую реакцию новых ошибок или невыполнение прыжка. Начинать изучение целесообразно с владения приземлением, правильной позы при его выполнении, умение сохранять эту позу после различных прыжков, с высоты и вращением. Затем усваивают разбег, наскок на мостик, толчок ногами, толчок руками и без опорной фазы, только после освоения отдельных фаз прыжка учащиеся могут приступать к владению прыжка в целом</a:t>
            </a:r>
            <a:r>
              <a:rPr b="0" lang="ru-RU" sz="2700" spc="-1" strike="noStrike">
                <a:solidFill>
                  <a:srgbClr val="4a452a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прыж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нижение скорости разбега, запоздалый и вялый толчок ногами. Задержка рук на снаряде и вялый толчок ногами, результат проявления чувства страха, боязни перед препятств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правильная установка снаряда, например, близко поставленный мостик вызывает торможение     разбега, отклонение туловища назад . Важное значение имеет высота снаряда, ошибочное мнение, что через низкий снаряд легче перепрыгну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и при выполнении прыж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0" y="980640"/>
            <a:ext cx="8686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обучении  этому  прыжку следует обращать внимание на движение спины и таза вверх  после толчка ногами, чтобы опираясь на руки и сгибая ноги вперед,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ающиеся ставили их  на снаряд сверху. Типичная ошибка-с мостика движение коленями впере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жнения для их устранения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Из упора лежа отталкиваясь ногами перейти в упор присев.(обращать внимание на движение спины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Опираясь на снаряд прыжки с подтягиванием колен до груд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Из упора лежа толчком ног  упор присев и в темпе прыжок прогнувшис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Из упора присев, на акробатической дорожке опираясь коленями в локти оторвать от пола ноги (держать)  Дает возможность обучающемуся  сохранять правильное положение спины.  Соскок выполняется одним движением - разгибая ноги и туловище и со взмахом рук вверх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водящим  упражнением является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Из упора стоя на коленях слегка сгибая ноги принять, сед на пятках при этом   туловище наклонить вперед руки отвести назад  и энергичным взмахом рук  разогнуть туловище и ноги придти в упор присе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То же со скамейки.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На мате выполнить серийно прыжком из упора присев на колени и обратно.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раховка: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Стоя  за конем сбоку от ученика, готовясь поддержать его  при падении вперед - за плечо или под грудь назад- под спину.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и при выполнении прыж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457200" y="304920"/>
            <a:ext cx="8458200" cy="32918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В настоящее время гимнастика включает в себя основную гимнастику, которой занимаются во всех учебных заведениях и в армии; спортивные виды гимнастики — спортивная гимнастика, художественная гимнастика, аэробика, акробатика.</a:t>
            </a: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6172200" y="2819520"/>
            <a:ext cx="2362320" cy="2124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762120" y="2819520"/>
            <a:ext cx="2286000" cy="2133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>
            <a:off x="3505320" y="3581280"/>
            <a:ext cx="22240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5"/>
          <p:cNvSpPr txBox="1"/>
          <p:nvPr/>
        </p:nvSpPr>
        <p:spPr>
          <a:xfrm>
            <a:off x="304920" y="457200"/>
            <a:ext cx="8458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4572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троевые  упражнения —  двигательные  действия  учащихся, выполняемые  одновременно  всем  классом,  группами  учащихся или  отдельными  учениками.  С  помощью  строевых  упражнений решаются  задачи формирования  навыков  коллективных  действий (в строю), воспитания дисциплины и организованности, выработки чувства  темпа  и  ритма,  формирования  правильной  осанки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254160" y="4114800"/>
            <a:ext cx="82040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685800" y="694080"/>
            <a:ext cx="7391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лассифицируются строевые упражнения на четыре группы: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оевые приёмы;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роения и перестроения;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движения;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мыкания и смыкания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371600" y="457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ерестроение из шеренги уступом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1447920" y="10666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ерестроение из одной колонны в три уступом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5" name="Рисунок 2" descr="http://gigabaza.ru/images/50/98776/28482ce1.png"/>
          <p:cNvPicPr/>
          <p:nvPr/>
        </p:nvPicPr>
        <p:blipFill>
          <a:blip r:embed="rId1"/>
          <a:srcRect l="0" t="0" r="27971" b="0"/>
          <a:stretch/>
        </p:blipFill>
        <p:spPr>
          <a:xfrm>
            <a:off x="0" y="1981080"/>
            <a:ext cx="912636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04920" y="467856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Перестроения из колонны по одному в колонны по два, по четыре в движении.</a:t>
            </a: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rcRect l="5857" t="0" r="5364" b="0"/>
          <a:stretch/>
        </p:blipFill>
        <p:spPr>
          <a:xfrm>
            <a:off x="1905120" y="304920"/>
            <a:ext cx="54864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6880" y="22824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прыж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880" y="12952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ыжки способствуют развитию силы мышц (прежде всего мышц ног), укрепляют связки и суставы, развивают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рыгучесть, ловкость, смелость. При выполнении прыжков формируются прикладные навыки в преодолени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препятств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имнастические прыжки делятся на две группы: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езопорные и опор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езопорны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безопорным прыжкам относятся те, в которых препятствие (в данном случае козёл) преодолевается без опоры на снаряд руками. При этом мостик может быть использован, а могут быть прыжки и без него. То есть атлет делает разбег и преодолевает препятствие таким образом: прыгает через него, не касаясь рука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Прыжки через козла или коня – техника выполнения"/>
          <p:cNvPicPr/>
          <p:nvPr/>
        </p:nvPicPr>
        <p:blipFill>
          <a:blip r:embed="rId1"/>
          <a:stretch/>
        </p:blipFill>
        <p:spPr>
          <a:xfrm>
            <a:off x="3200400" y="4572000"/>
            <a:ext cx="3581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0" y="1447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ыполняются с разбега толчком двумя ногами о гимнастический мостик и обязательно с опорой руками о снаряд (конь, козел, гимнастический стол).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ОРНЫЕ ПРЫЖ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856345-001"/>
          <p:cNvPicPr/>
          <p:nvPr/>
        </p:nvPicPr>
        <p:blipFill>
          <a:blip r:embed="rId1"/>
          <a:stretch/>
        </p:blipFill>
        <p:spPr>
          <a:xfrm>
            <a:off x="2133720" y="3048120"/>
            <a:ext cx="4952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Солдатова</cp:lastModifiedBy>
  <dcterms:modified xsi:type="dcterms:W3CDTF">2022-12-31T12:35:28Z</dcterms:modified>
  <cp:revision>1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