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603-B523-4A6A-AA7A-E05F2F44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EF2-3613-475B-9CAA-17C15C2E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1FF-40E7-4E34-AACD-41738FF6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6B1-CEFF-4B32-9BD7-BFF92E42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46B-91F6-4CB2-A091-68689D37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0ED-9630-4284-8616-D60908AD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181-03A4-403D-9CF5-F3EAE124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E52-1157-4790-A6C4-061BC04F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D26-131B-450C-84DD-730CAEE4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CDE-EC9D-4113-B46C-A3578A13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F46-24D3-45C2-B8CD-F6DA9485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BDE2-6F0F-4B4C-81D0-77FD66A9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F328-E84F-457E-B06C-79BF130232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468360" y="2882880"/>
            <a:ext cx="4464000" cy="334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179280" y="205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XV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Межрайонная научно-практическая конференция молодых исслед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ворчество юных – Шаг в будуще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900000" y="5345280"/>
            <a:ext cx="8064720" cy="15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дринце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 5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Голышмановская СОШ №1»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1403280" y="1206360"/>
            <a:ext cx="6748560" cy="13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d2d8a"/>
                </a:solidFill>
                <a:latin typeface="Times New Roman"/>
                <a:ea typeface="Calibri"/>
              </a:rPr>
              <a:t>«Социальные сети в жизни современного</a:t>
            </a:r>
            <a:r>
              <a:rPr b="0" lang="ru-RU" sz="4000" spc="-1" strike="noStrike">
                <a:solidFill>
                  <a:srgbClr val="2d2d8a"/>
                </a:solidFill>
                <a:latin typeface="Calibri"/>
                <a:ea typeface="Calibri"/>
              </a:rPr>
              <a:t>  </a:t>
            </a:r>
            <a:r>
              <a:rPr b="1" lang="ru-RU" sz="4000" spc="-1" strike="noStrike">
                <a:solidFill>
                  <a:srgbClr val="2d2d8a"/>
                </a:solidFill>
                <a:latin typeface="Times New Roman"/>
                <a:ea typeface="Calibri"/>
              </a:rPr>
              <a:t>подрост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«Предпочтете ли Вы замену живого общения на виртуальное?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«Считаете ли Вы себя зависимым/ой от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соц.сетей?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Диаграмма 8"/>
          <p:cNvGraphicFramePr/>
          <p:nvPr/>
        </p:nvGraphicFramePr>
        <p:xfrm>
          <a:off x="776160" y="1506600"/>
          <a:ext cx="7302600" cy="456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Диаграмма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506600"/>
                    <a:ext cx="730260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539640" y="333360"/>
            <a:ext cx="813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ЕИМУЩЕСТВА СОЦИАЛЬНЫХ С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395280" y="1096920"/>
            <a:ext cx="82803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ние  с друзьями  на расстоя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иск утерянных контактов и новых знаком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ьные сети становятся местом обучения, поиска научной и друг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мощью соц.сетей можно продвигать и развивать свой бизнес, например, создать свой интернет-магаз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сети  являются мощным источником полезной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ДОСТАТКИ СОЦИАЛЬНЫХ СЕТЕ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250920" y="1125360"/>
            <a:ext cx="8569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но статистике, пользователь проверяет свой профиль несколько раз в день. Все это негативно сказывается на самочувствии, физическом и психологическом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 информации отрицательно влияет на нервную систему, появ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дражительность и агресс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висимость от Интернета и социальных сетей способна изменять гормональный фо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временем теряются навыки реального общения. Решение всех вопросов в режим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лайн превращают человека в асоциальную л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.сети негативно сказываются на речи и правописании. Скудный словарный запас, речевые и грамматически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КОМЕНДАЦИИ ПРИ РАБОТЕ В СОЦИАЛЬНЫХ СЕТЯ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1"/>
          <p:cNvSpPr/>
          <p:nvPr/>
        </p:nvSpPr>
        <p:spPr>
          <a:xfrm>
            <a:off x="108000" y="1197000"/>
            <a:ext cx="879480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являйте осторожность при переходе по ссыл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тролируйте информацию о себе, которую вы размеща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думайте, что сообщение, которое вы получили, было отправлено тем, кого в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ете, только потому, что так написа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не раскрыть адреса электронной почты своих друзей, не разреша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ьным сетям сканировать адресную книгу вашего ящика электронной поч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Не добавляйте в друзья в социальных сетях всех подря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Не регистрируйтесь во всех социальных сетях без разб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7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ывайте тот факт, что все данные, опубликованные вами в социальной сети, могут быть кем-то сохран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Проявляйте осторожность при установке приложени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ttps://sun9-39.userapi.com/impf/ywJUAA_qB03-SP9w7vaWDbom-BV9tbx1-pZYBA/-LOc3a0bNYU.jpg?size=1280x960&amp;quality=96&amp;sign=1e11664fad736ef72113a6a4eba750ed&amp;type=album"/>
          <p:cNvPicPr/>
          <p:nvPr/>
        </p:nvPicPr>
        <p:blipFill>
          <a:blip r:embed="rId1"/>
          <a:stretch/>
        </p:blipFill>
        <p:spPr>
          <a:xfrm>
            <a:off x="409680" y="342900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s://sun9-54.userapi.com/impf/t_a7Jax4y7iBoMXf2_al5Vdh5FnAOIlYZksewQ/rwM7ohP2mZg.jpg?size=1280x960&amp;quality=96&amp;sign=be33733a3d3cd770f3402250f87d15b4&amp;type=album"/>
          <p:cNvPicPr/>
          <p:nvPr/>
        </p:nvPicPr>
        <p:blipFill>
          <a:blip r:embed="rId2"/>
          <a:srcRect l="17908" t="0" r="0" b="19298"/>
          <a:stretch/>
        </p:blipFill>
        <p:spPr>
          <a:xfrm>
            <a:off x="4572000" y="264960"/>
            <a:ext cx="4292640" cy="3164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https://sun9-27.userapi.com/impf/xhDLXQ4TiBxMwgW-YGuRqGQdQht68zeEdEeKQg/gdMt_bXZPpc.jpg?size=1280x960&amp;quality=96&amp;sign=4928c78cdbab5ba1a40814d37a4f89bf&amp;type=album"/>
          <p:cNvPicPr/>
          <p:nvPr/>
        </p:nvPicPr>
        <p:blipFill>
          <a:blip r:embed="rId3"/>
          <a:srcRect l="34193" t="-3448" r="-11952" b="3460"/>
          <a:stretch/>
        </p:blipFill>
        <p:spPr>
          <a:xfrm>
            <a:off x="5505480" y="3408480"/>
            <a:ext cx="3143160" cy="30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https://sun9-81.userapi.com/impf/P65Qt4qjJ0InNHtKAtWVzymOHE18_7iod4oKRA/sh_Bjmn7uls.jpg?size=1280x960&amp;quality=96&amp;sign=0c513ef3757d291d0213773190aad77e&amp;type=album"/>
          <p:cNvPicPr/>
          <p:nvPr/>
        </p:nvPicPr>
        <p:blipFill>
          <a:blip r:embed="rId4"/>
          <a:stretch/>
        </p:blipFill>
        <p:spPr>
          <a:xfrm>
            <a:off x="395280" y="11592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е влияния социальных сетей на подрастающее поко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зучить историю появления социальных с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Проанализировать крупнейшие социальные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Провести исследования среди одноклассников о роли социальных сетей в их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Обработать полученные данные, построить диа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Выявить преимущества и недостатки социальных с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Дать рекомендации ученикам и родителям, как избежать интернет-зависимости и не попасть в «виртуальную реаль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"/>
          <p:cNvPicPr/>
          <p:nvPr/>
        </p:nvPicPr>
        <p:blipFill>
          <a:blip r:embed="rId1"/>
          <a:stretch/>
        </p:blipFill>
        <p:spPr>
          <a:xfrm>
            <a:off x="809640" y="3233880"/>
            <a:ext cx="4329000" cy="1490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2"/>
          <a:stretch/>
        </p:blipFill>
        <p:spPr>
          <a:xfrm>
            <a:off x="1476360" y="1119240"/>
            <a:ext cx="2535120" cy="14270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"/>
          <p:cNvPicPr/>
          <p:nvPr/>
        </p:nvPicPr>
        <p:blipFill>
          <a:blip r:embed="rId3"/>
          <a:stretch/>
        </p:blipFill>
        <p:spPr>
          <a:xfrm>
            <a:off x="5508720" y="76500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"/>
          <p:cNvPicPr/>
          <p:nvPr/>
        </p:nvPicPr>
        <p:blipFill>
          <a:blip r:embed="rId4"/>
          <a:stretch/>
        </p:blipFill>
        <p:spPr>
          <a:xfrm>
            <a:off x="6027840" y="4014720"/>
            <a:ext cx="17715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ользуетесь ли Вы соц.сетями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Диаграмма 9"/>
          <p:cNvGraphicFramePr/>
          <p:nvPr/>
        </p:nvGraphicFramePr>
        <p:xfrm>
          <a:off x="3995640" y="1417680"/>
          <a:ext cx="5040360" cy="374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Диаграмма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417680"/>
                    <a:ext cx="5040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Прямоугольник 1"/>
          <p:cNvSpPr/>
          <p:nvPr/>
        </p:nvSpPr>
        <p:spPr>
          <a:xfrm>
            <a:off x="457200" y="5689440"/>
            <a:ext cx="81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Контакте» 21 чел, «Instagram»- 5 чел,  «Одноклассники»-1 чел, «Whats up» - 9чел, «YouTube» - 10 чел.,  «Telegram»-8 чел и «Вайбер»- 4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https://sun9-1.userapi.com/impf/gQSaWa2DmwqSNpRojWEn7mb1-JwggKBAPlv5bg/GmPay1E8ke4.jpg?size=1280x960&amp;quality=96&amp;sign=2c654441918e89e226d2f10b9eaed35d&amp;type=album"/>
          <p:cNvPicPr/>
          <p:nvPr/>
        </p:nvPicPr>
        <p:blipFill>
          <a:blip r:embed="rId3"/>
          <a:stretch/>
        </p:blipFill>
        <p:spPr>
          <a:xfrm>
            <a:off x="457200" y="1954080"/>
            <a:ext cx="39560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Что подтолкнуло Вас зарегистрироваться в соц.сетях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420840" y="2349360"/>
            <a:ext cx="854856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4"/>
          <p:cNvSpPr/>
          <p:nvPr/>
        </p:nvSpPr>
        <p:spPr>
          <a:xfrm>
            <a:off x="324000" y="260280"/>
            <a:ext cx="8496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«Сколько часов в сутки Вы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оводите в соц.сетях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Объект 8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колько у Вас друзей в соцсетях?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Объект 9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Объект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сегда ли Вы размещаете в соц.сетях подлинную информацию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Диаграмма 5"/>
          <p:cNvGraphicFramePr/>
          <p:nvPr/>
        </p:nvGraphicFramePr>
        <p:xfrm>
          <a:off x="1281240" y="1366920"/>
          <a:ext cx="614988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1366920"/>
                    <a:ext cx="614988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7:31:48Z</dcterms:created>
  <dc:creator>Настена</dc:creator>
  <dc:description/>
  <dc:language>en-US</dc:language>
  <cp:lastModifiedBy>User</cp:lastModifiedBy>
  <dcterms:modified xsi:type="dcterms:W3CDTF">2022-04-10T16:53:47Z</dcterms:modified>
  <cp:revision>23</cp:revision>
  <dc:subject/>
  <dc:title>«С.Есенин и В.Маяковский - два лика  одного  времени».</dc:title>
</cp:coreProperties>
</file>