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66E-1F07-4158-A017-1279523B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FDF-FB38-4039-9BD3-6C4546F4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C25-A6D0-44A8-AD83-0DC32F21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506-89A4-4D6A-A378-5A8B7D5F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EFA-8C99-4BBF-8E63-DB54183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B71-02D3-4095-A37B-D273DD68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0DE-AA0F-447F-81E8-0AD02CA0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FB1-6277-454F-8FA5-BF22FE4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4D5-A826-4496-852A-623CDD0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1CD-DCDC-4919-9371-A0DC0E3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324-5FA3-492F-9DFF-2398ED6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7C9-AECB-4FAB-9F3D-DCE4BB1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DA9D-AB58-4D13-BA15-D19EB55F7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00040" y="21420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Тема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Собирание материалов к сочи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Картина А.М.Герасимова «После дожд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герасимов.jpg"/>
          <p:cNvPicPr/>
          <p:nvPr/>
        </p:nvPicPr>
        <p:blipFill>
          <a:blip r:embed="rId2"/>
          <a:stretch/>
        </p:blipFill>
        <p:spPr>
          <a:xfrm>
            <a:off x="428760" y="2214720"/>
            <a:ext cx="3286080" cy="4071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после дождя.jpg"/>
          <p:cNvPicPr/>
          <p:nvPr/>
        </p:nvPicPr>
        <p:blipFill>
          <a:blip r:embed="rId3"/>
          <a:stretch/>
        </p:blipFill>
        <p:spPr>
          <a:xfrm>
            <a:off x="4214880" y="2000160"/>
            <a:ext cx="4643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после дождя.jpg"/>
          <p:cNvPicPr/>
          <p:nvPr/>
        </p:nvPicPr>
        <p:blipFill>
          <a:blip r:embed="rId2"/>
          <a:stretch/>
        </p:blipFill>
        <p:spPr>
          <a:xfrm>
            <a:off x="500040" y="0"/>
            <a:ext cx="81439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714240" y="4929120"/>
            <a:ext cx="65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 изображено на переднем (заднем ) плане карти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азовите изображенные предметы и их характерные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 привлекает зрит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акова общая гамма крас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на терассе.jpg"/>
          <p:cNvPicPr/>
          <p:nvPr/>
        </p:nvPicPr>
        <p:blipFill>
          <a:blip r:embed="rId2"/>
          <a:srcRect l="0" t="29863" r="0" b="0"/>
          <a:stretch/>
        </p:blipFill>
        <p:spPr>
          <a:xfrm>
            <a:off x="214200" y="428760"/>
            <a:ext cx="4286520" cy="4066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643280" y="714240"/>
            <a:ext cx="42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руглый стол на резных нож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букет цветов в кувшине; часть террасы; перила; угол дома; тени на полу; блеск мокрого п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49080" y="4857840"/>
            <a:ext cx="59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Крышка стола ещё не высохла от дож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На цветах в графине тоже капли дож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Розы пламенеют в лучах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Опрокинут стакан, видно, был сильный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после дождя.jpg"/>
          <p:cNvPicPr/>
          <p:nvPr/>
        </p:nvPicPr>
        <p:blipFill>
          <a:blip r:embed="rId2"/>
          <a:srcRect l="0" t="0" r="0" b="51275"/>
          <a:stretch/>
        </p:blipFill>
        <p:spPr>
          <a:xfrm>
            <a:off x="214200" y="785880"/>
            <a:ext cx="521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500800" y="92880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ыша сарая в саду; видне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квозь ветки кустов; гус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ветущие кусты во дво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57208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Крыша сарая БЛЕС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(БЛЕСТЯЩ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Ветки кустов. – Мокрые ку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со свежей, умытой ливнем лист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дрожат (сверкают) тяжёл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капли дож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Капли на ветках висят, как серёж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14240" y="285840"/>
            <a:ext cx="8223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лан к сочинению по кар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Описание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Описание терр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Влажный блеск и солнечный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после дождя.jpg"/>
          <p:cNvPicPr/>
          <p:nvPr/>
        </p:nvPicPr>
        <p:blipFill>
          <a:blip r:embed="rId2"/>
          <a:stretch/>
        </p:blipFill>
        <p:spPr>
          <a:xfrm>
            <a:off x="1471680" y="2286000"/>
            <a:ext cx="62006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42920" y="571680"/>
            <a:ext cx="8715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лько что прошёл сильный летний дождь. Он оставил свои следы на всё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питались влагой кусты и деревья. На мокрых ветках блестит свежая, умыт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ивнем листва. Блестит и крыша сарая, вдали, на заднем плане, и то, что находитс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еднем плане: перила, скамья, пол на террасе и крышка стола. На всех эт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метах ещё много воды. Пламенеют в стеклянном графине розы, на них т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исят капельки дождя. А рядом лежит опрокинутый стакан: видно, дождь был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угом влажный блеск, неяркий солнечный свет, и отчётливо ощущ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ежесть воздуха и тишина того момента, который наступил сразу после дожд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33320" y="100008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омашне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но описать картину А.М.Герасимова «После дожд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3:47:42Z</dcterms:created>
  <dc:creator>SamLab.ws</dc:creator>
  <dc:description/>
  <dc:language>en-US</dc:language>
  <cp:lastModifiedBy>User</cp:lastModifiedBy>
  <dcterms:modified xsi:type="dcterms:W3CDTF">2022-09-28T10:16:00Z</dcterms:modified>
  <cp:revision>7</cp:revision>
  <dc:subject/>
  <dc:title>Слайд 1</dc:title>
</cp:coreProperties>
</file>