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AAD-7158-4E26-80FF-1898D45D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0D9-501A-404E-BBE6-72CCFB09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A9B-676B-468D-9E43-78F58996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93B-5C1F-4399-B2FA-49D98E13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375-8C91-4DB6-9528-984CAC3C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FE0-0925-42EE-9CA8-76F2E257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9E8-4F67-493C-839F-0F1181DA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2AA-62D0-4560-98C7-8270147D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D3D-2B31-426D-9D6C-12319F50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2E4-7D4A-4087-A973-0FFA2884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D29-6308-4176-8E7B-AE3774E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DE7-2864-4C30-AE93-39BBEB8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E39-357B-4BB7-B275-10F87C529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00040" y="21420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Тема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Собирание материалов к сочи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Картина А.М.Герасимова «После дожд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герасимов.jpg"/>
          <p:cNvPicPr/>
          <p:nvPr/>
        </p:nvPicPr>
        <p:blipFill>
          <a:blip r:embed="rId2"/>
          <a:stretch/>
        </p:blipFill>
        <p:spPr>
          <a:xfrm>
            <a:off x="428760" y="2214720"/>
            <a:ext cx="3286080" cy="4071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после дождя.jpg"/>
          <p:cNvPicPr/>
          <p:nvPr/>
        </p:nvPicPr>
        <p:blipFill>
          <a:blip r:embed="rId3"/>
          <a:stretch/>
        </p:blipFill>
        <p:spPr>
          <a:xfrm>
            <a:off x="4214880" y="2000160"/>
            <a:ext cx="4643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после дождя.jpg"/>
          <p:cNvPicPr/>
          <p:nvPr/>
        </p:nvPicPr>
        <p:blipFill>
          <a:blip r:embed="rId2"/>
          <a:stretch/>
        </p:blipFill>
        <p:spPr>
          <a:xfrm>
            <a:off x="500040" y="0"/>
            <a:ext cx="81439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714240" y="4929120"/>
            <a:ext cx="65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 изображено на переднем (заднем ) плане карти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азовите изображенные предметы и их характерные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Что привлекает зрит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акова общая гамма крас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на терассе.jpg"/>
          <p:cNvPicPr/>
          <p:nvPr/>
        </p:nvPicPr>
        <p:blipFill>
          <a:blip r:embed="rId2"/>
          <a:srcRect l="0" t="29863" r="0" b="0"/>
          <a:stretch/>
        </p:blipFill>
        <p:spPr>
          <a:xfrm>
            <a:off x="214200" y="428760"/>
            <a:ext cx="4286520" cy="4066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643280" y="714240"/>
            <a:ext cx="42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руглый стол на резных нож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букет цветов в кувшине; часть террасы; перила; угол дома; тени на полу; блеск мокрого п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49080" y="4857840"/>
            <a:ext cx="59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Крышка стола ещё не высохла от дож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На цветах в графине тоже капли дож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Розы пламенеют в лучах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Опрокинут стакан, видно, был сильный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после дождя.jpg"/>
          <p:cNvPicPr/>
          <p:nvPr/>
        </p:nvPicPr>
        <p:blipFill>
          <a:blip r:embed="rId2"/>
          <a:srcRect l="0" t="0" r="0" b="51275"/>
          <a:stretch/>
        </p:blipFill>
        <p:spPr>
          <a:xfrm>
            <a:off x="214200" y="785880"/>
            <a:ext cx="521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500800" y="92880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ыша сарая в саду; видне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квозь ветки кустов; гус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ветущие кусты во дво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57208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Крыша сарая БЛЕС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(БЛЕСТЯЩ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Ветки кустов. – Мокрые ку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со свежей, умытой ливнем лист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дрожат (сверкают) тяжёл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капли дож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 Black"/>
              </a:rPr>
              <a:t>Капли на ветках висят, как серёж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14240" y="285840"/>
            <a:ext cx="8223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лан к сочинению по кар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Описание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Описание терр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Влажный блеск и солнечный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после дождя.jpg"/>
          <p:cNvPicPr/>
          <p:nvPr/>
        </p:nvPicPr>
        <p:blipFill>
          <a:blip r:embed="rId2"/>
          <a:stretch/>
        </p:blipFill>
        <p:spPr>
          <a:xfrm>
            <a:off x="1471680" y="2286000"/>
            <a:ext cx="62006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42920" y="571680"/>
            <a:ext cx="8715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лько что прошёл сильный летний дождь. Он оставил свои следы на всё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питались влагой кусты и деревья. На мокрых ветках блестит свежая, умыт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ливнем листва. Блестит и крыша сарая, вдали, на заднем плане, и то, что находитс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еднем плане: перила, скамья, пол на террасе и крышка стола. На всех эт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метах ещё много воды. Пламенеют в стеклянном графине розы, на них т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исят капельки дождя. А рядом лежит опрокинутый стакан: видно, дождь был си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ругом влажный блеск, неяркий солнечный свет, и отчётливо ощущ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ежесть воздуха и тишина того момента, который наступил сразу после дожд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ш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33320" y="100008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омашне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но описать картину А.М.Герасимова «После дожд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3:47:42Z</dcterms:created>
  <dc:creator>SamLab.ws</dc:creator>
  <dc:description/>
  <dc:language>en-US</dc:language>
  <cp:lastModifiedBy>User</cp:lastModifiedBy>
  <dcterms:modified xsi:type="dcterms:W3CDTF">2022-09-28T10:16:00Z</dcterms:modified>
  <cp:revision>7</cp:revision>
  <dc:subject/>
  <dc:title>Слайд 1</dc:title>
</cp:coreProperties>
</file>