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FD5-B945-4936-B318-F268B53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0A7-E87B-4BCA-83C9-D57E584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7D17D-2C77-432E-9347-0DD97E6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DD4D2-FCE7-4242-9ABD-DEE847A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44DA-BE9F-4BAB-B25B-D632E54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39F74-F10F-4E97-9BC7-0F695FD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6C03D-AD12-447F-834B-4562627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13479-E3DB-41FD-9DEE-F71DEF4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081D-7819-4735-87EA-503AB2D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059B7-1A97-4814-8872-22376F1C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78B93-B31B-4DC2-9ACE-F8C25B89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1B6-11B2-44E7-BD1F-C4BBC2D3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A71-C52B-48B6-B925-DC70A37F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9D39-6B2B-4022-9D84-2DC67EEE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F64-E24A-44CE-805C-3C39D4F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C599-6826-4952-8E26-7D4A565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D68-19A7-4CA3-AC1C-FC989FA2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8BF-CCBC-401C-A656-3A189C95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D1AF-B160-4D78-AAD9-76AA86FD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F79-5D38-4781-BE5B-8DC13B0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215-7A58-4DF5-A296-C8D9A7E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668-D303-4857-A169-56AA132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E52-F70F-4776-B93D-F68DB5E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0314-8378-468A-9FC0-BE57E3B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A879-A0A0-4C71-B656-2F9A5149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18CC-63ED-457D-8082-F9FBE3BD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BD3B-6898-43A1-B29A-DF40A8D7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AF52-3F50-452D-ADA7-CEAB7E3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3A71-609E-43B4-824C-8F9BBE2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D576-55E5-464C-9D75-8539054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99ED-5C91-4B56-8DE3-9608AB3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EB5-D3FB-4512-AA0B-506F82D1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0D75-3775-45A9-AAA4-CA604FB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938F-8B2F-4FE3-9718-6AA2A9F7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C9AF-045B-405B-ABC4-F263147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3B7C-0C8F-455E-ADA0-9E757A84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C5F2-F4F2-4C66-A725-733969B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F109-2F60-4642-8A89-09635563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088F-FC9E-49F2-8F08-F13F010A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CF11-498C-4C81-8E86-E7964FC4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1AEF-C248-4B19-AD3A-FF01216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FE06-9C93-4120-A1CC-AF0C2B1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A6-8D15-441B-8754-824561E8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B625-DD9D-4273-9C86-9D5B037F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97A0-94B5-4DBC-954E-C3579EE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6595A-DFE0-4434-8D17-A924C7E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DA519-365B-48A7-90E9-2FFB2FD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7DBF-278A-48FE-BFBC-9B81364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E0DA-ABDA-41CD-AE68-E0477F5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9F63-04C2-402D-A227-339B3EA5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7D96-E221-4E13-A4A2-609992B9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56DC-1783-4A66-8F85-E6BECD0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F6BD-C423-4AB2-8637-B538002B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190-5A59-4F59-8C8F-94D0654D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AC22-78FE-445C-853A-CDC88C69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AFB8E-AFFF-4FFB-AE1B-5FC73D1A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4A6B-0222-4937-B81D-153F5EBB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6B6B-83C0-43F6-A902-49C6E9D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56B8-4C5E-4135-BAC6-4D8DDE5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F19C-AC66-4B39-B7F4-E19769F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EED4-C5C4-4D35-87D2-24043348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99F3-E360-4F1B-B827-D6C07C6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7CAE-6018-4D24-BDC6-EE106FB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2880-5023-447E-9927-8BDCD25A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830-C885-498B-8DC2-1106803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E474-0DB6-4A95-8615-5598CD36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BFE6-640C-4244-B5D9-E2EF3E04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3C65-0D8E-4FF3-A4AF-404925D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2A84-1730-47B7-A2F5-C4FFCEA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92D6-068B-49CE-89FE-08CDF5E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B8C1-652E-4792-A004-24DD7E75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DCAB-D3BB-4A96-9FD6-348CA9EE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9CFD-38E3-4FB5-A807-C650DA4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ACEA-BB1F-4266-88D2-27CB6BF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8DCE-3EDB-4DCF-811E-608F84C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B54-37C7-456C-A36A-7F4FCC0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BAE2-A4BD-4092-9D69-CF0FD07A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5B7C-F3D4-42C4-B084-3CC55323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54338-445D-41EF-985D-5A4E77EF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CF16-A4DB-4723-818A-8BF1D93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D7E8-7546-4756-9B79-87DF44D4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F931A-CFED-4561-84EC-80EA426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A45BB-DA1E-444B-9AB8-52FE4BE0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B5A02-1ACE-48D0-A39C-0FAE54C2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0BDC4-DA35-4049-9B16-CA502043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F05B-16DB-4FAB-979B-AAF41F2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462-6087-48DF-8015-6AC961E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AC8A-4DA1-4530-A417-165FBF0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0F21-7723-4BCE-AE61-CA449593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3C40-C0A6-4347-AA36-6D471687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169F-CC07-49E2-B035-2C30293C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F17C-22C0-4311-964C-8959D86E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DA93-1480-4960-8A61-9B69477B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157B-A411-4D18-AD04-4FF6C760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8B815-9BD7-462A-B192-6D87B174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1A11C-F58D-4BEB-84ED-E931D93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21FF7-3EDA-4EFA-A1DC-DFA0293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78B-E46D-475D-94DB-F91EFAF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48A3-6E6D-4715-BAF8-06D78A6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344D-2B31-4DF8-BF20-0004C034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821DB-8087-440B-A75D-DF283E5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56ACB-716A-4E02-84C8-1A46306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6704-F217-46D7-BAEC-11A08E3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B4A8-45F7-428D-B008-EDE36EE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A8135-8416-49ED-8708-D7BF696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615B-09C0-4309-B234-94E4A513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D96A-706F-4FEF-9AC8-ECBAFE83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48DB3-BB6E-42BA-B9BC-16F9BD1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F57-BF29-4D60-A5F6-0D1157E0E7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201-7E7E-4ED8-97D4-F316AFDB94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96F-6770-4245-9049-F7201FEFC4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351-1471-43A3-B870-DA09709C65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E1FD-A669-4ACF-ADCC-A2AFE6683F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99B-42B8-4FF7-8778-87E3EE1F8E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99E4-8A1E-4B2F-9866-4D96495E75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96F-97EF-4B44-A5B8-EAB19C068B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4287-BF79-4003-BABF-F15A4F351D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3857760" y="42876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азвития речи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3786120" y="1357200"/>
            <a:ext cx="51847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дготовка к сочин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картине Т. Яблонской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357880" y="25718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Ут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214280" y="3786120"/>
            <a:ext cx="352908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 утро, радость э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а мощь и дня и св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синий с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крик и вере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и стаи,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и пт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т говор во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Это все  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2"/>
          <a:stretch/>
        </p:blipFill>
        <p:spPr>
          <a:xfrm>
            <a:off x="4786200" y="3571920"/>
            <a:ext cx="4143600" cy="310680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405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1" descr="315288020"/>
          <p:cNvPicPr/>
          <p:nvPr/>
        </p:nvPicPr>
        <p:blipFill>
          <a:blip r:embed="rId3"/>
          <a:stretch/>
        </p:blipFill>
        <p:spPr>
          <a:xfrm>
            <a:off x="142920" y="285840"/>
            <a:ext cx="36050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4000680" y="78588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  <a:ea typeface="Arial"/>
              </a:rPr>
              <a:t>УТ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3"/>
          <p:cNvSpPr/>
          <p:nvPr/>
        </p:nvSpPr>
        <p:spPr>
          <a:xfrm>
            <a:off x="714240" y="3357720"/>
            <a:ext cx="25196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571680" y="5072040"/>
            <a:ext cx="3311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вт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0"/>
          <p:cNvSpPr/>
          <p:nvPr/>
        </p:nvSpPr>
        <p:spPr>
          <a:xfrm>
            <a:off x="3429000" y="1928880"/>
            <a:ext cx="349236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Уборка</a:t>
            </a:r>
            <a:r>
              <a:rPr b="1" lang="ru-RU" sz="4400" spc="-1" strike="noStrike">
                <a:solidFill>
                  <a:srgbClr val="ad1f1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в</a:t>
            </a:r>
            <a:r>
              <a:rPr b="1" lang="ru-RU" sz="4400" spc="-1" strike="noStrike">
                <a:solidFill>
                  <a:srgbClr val="ad1f1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комна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4643280" y="5500800"/>
            <a:ext cx="421164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боры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4"/>
          <p:cNvSpPr/>
          <p:nvPr/>
        </p:nvSpPr>
        <p:spPr>
          <a:xfrm>
            <a:off x="6143760" y="3857760"/>
            <a:ext cx="21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2500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6"/>
          <p:cNvSpPr/>
          <p:nvPr/>
        </p:nvSpPr>
        <p:spPr>
          <a:xfrm>
            <a:off x="6357960" y="1500120"/>
            <a:ext cx="2592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Радос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357120" y="2857680"/>
            <a:ext cx="30006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олнеч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357120" y="4071960"/>
            <a:ext cx="30006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ияю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357120" y="5429160"/>
            <a:ext cx="30006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Необыч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6357960" y="5786280"/>
            <a:ext cx="25718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Яс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1"/>
          <p:cNvSpPr/>
          <p:nvPr/>
        </p:nvSpPr>
        <p:spPr>
          <a:xfrm>
            <a:off x="6357960" y="4714920"/>
            <a:ext cx="25718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Свет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6357960" y="3573360"/>
            <a:ext cx="26431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Чудес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6357960" y="2643120"/>
            <a:ext cx="2643120" cy="7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Яр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7200" y="142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Э п и т е т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714840" y="1428840"/>
            <a:ext cx="21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  <a:ea typeface="Arial"/>
              </a:rPr>
              <a:t>УТ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271476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7" descr="pre_1354522085__utro1"/>
          <p:cNvPicPr/>
          <p:nvPr/>
        </p:nvPicPr>
        <p:blipFill>
          <a:blip r:embed="rId2"/>
          <a:stretch/>
        </p:blipFill>
        <p:spPr>
          <a:xfrm>
            <a:off x="142920" y="142920"/>
            <a:ext cx="4160880" cy="60721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65" name="Text Box 8"/>
          <p:cNvSpPr/>
          <p:nvPr/>
        </p:nvSpPr>
        <p:spPr>
          <a:xfrm>
            <a:off x="4500720" y="21420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ова основная мысль этой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00720" y="1214280"/>
            <a:ext cx="47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 «Утро»- олицетворение бодрости, свежести, дарит ни с чем не сравнимое настроение радости новому д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4643280" y="2857680"/>
            <a:ext cx="425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мпозиция картины. Что мы видим на переднем пл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500720" y="3571920"/>
            <a:ext cx="450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центре изображена девочка лет одиннадцати. Девочка только проснулась, она показана в движении:  тянет руки вверх, словно потягивается. Героиня грациозна, пластична.Она напоминает весеннюю птичку. Ее фигура свидетельствует о том, что она не ограничивается утренней зарядкой, а занимается каким- либо видом 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pre_1354522085__utro1"/>
          <p:cNvPicPr/>
          <p:nvPr/>
        </p:nvPicPr>
        <p:blipFill>
          <a:blip r:embed="rId2"/>
          <a:stretch/>
        </p:blipFill>
        <p:spPr>
          <a:xfrm>
            <a:off x="179280" y="115920"/>
            <a:ext cx="4464000" cy="65134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71" name="Rectangle 9"/>
          <p:cNvSpPr/>
          <p:nvPr/>
        </p:nvSpPr>
        <p:spPr>
          <a:xfrm>
            <a:off x="5214960" y="307296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пишем дев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143680" y="37861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ней белая майка, черные спортивные шорты, волосы заплетены в косы, глаза прикрыты, вероятно, от солнечных зайч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5286240" y="21420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 героине картины Т.Н. Ябло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ы скажем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ко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рои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ная спортсм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ерсонаж карт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йствующее 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2214720" y="285840"/>
            <a:ext cx="67579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ставьте «динамические» словосоче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357120" y="128592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янет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ящная п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ные 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ностью сосредоточ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янется в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ая фигу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тянутая де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ательное выполнение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ортивны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13572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3214800" y="285840"/>
            <a:ext cx="59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АЯ девочка изображ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786120" y="1428840"/>
            <a:ext cx="507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А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кк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ура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Сп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о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рти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Пр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и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леж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Орг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а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н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и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зов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анн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П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  <a:ea typeface="Arial"/>
              </a:rPr>
              <a:t>од</a:t>
            </a: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тяну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Строй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8" descr="315288020"/>
          <p:cNvPicPr/>
          <p:nvPr/>
        </p:nvPicPr>
        <p:blipFill>
          <a:blip r:embed="rId2"/>
          <a:stretch/>
        </p:blipFill>
        <p:spPr>
          <a:xfrm>
            <a:off x="142920" y="357120"/>
            <a:ext cx="3317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AutoShape 7"/>
          <p:cNvSpPr/>
          <p:nvPr/>
        </p:nvSpPr>
        <p:spPr>
          <a:xfrm>
            <a:off x="324000" y="333360"/>
            <a:ext cx="6192720" cy="2449440"/>
          </a:xfrm>
          <a:prstGeom prst="wedgeRectCallout">
            <a:avLst>
              <a:gd name="adj1" fmla="val 53101"/>
              <a:gd name="adj2" fmla="val 131916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мн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ОДЕТА В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, 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А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девочке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АДЕТ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j0301252"/>
          <p:cNvPicPr/>
          <p:nvPr/>
        </p:nvPicPr>
        <p:blipFill>
          <a:blip r:embed="rId2"/>
          <a:stretch/>
        </p:blipFill>
        <p:spPr>
          <a:xfrm>
            <a:off x="6227640" y="3141720"/>
            <a:ext cx="2916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5716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Опишем интерьер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торная солнечная ком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 света и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й паркетный             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ыкновенный круглый                 ст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писной кув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ревянная к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лоснежное постельное бель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тота и 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ышная зелень ц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14200" y="5357880"/>
            <a:ext cx="80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вета теплые, сочные и яркие: желтые солнечные стены, оттенки коричневого и оранжевого- дерево кровати и пола. Они привносят особое ощущение радости, торжественности. Им противопоставляются холодные тона: глубокий синий цвет скатерти, темная школьная форма, насыщенная зелень комнатных раст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000680" y="4714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ие краски преобладают на полот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pre_1354522085__utro1"/>
          <p:cNvPicPr/>
          <p:nvPr/>
        </p:nvPicPr>
        <p:blipFill>
          <a:blip r:embed="rId2"/>
          <a:srcRect l="5109" t="0" r="591" b="253"/>
          <a:stretch/>
        </p:blipFill>
        <p:spPr>
          <a:xfrm>
            <a:off x="214200" y="214200"/>
            <a:ext cx="3286080" cy="50720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96" name="Text Box 14"/>
          <p:cNvSpPr/>
          <p:nvPr/>
        </p:nvSpPr>
        <p:spPr>
          <a:xfrm>
            <a:off x="4000680" y="214200"/>
            <a:ext cx="50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ната  большая, уютная, светлая, просторная, много воздуха и света. Двери на балкон распахнуты, на полу – блики солнечного света. Возникает ощущение прохлады, веющей с балкона, утренней свежести. Художница во всем подчеркивает уют: из кашпо тянутся стебли плюща, яркое солнышко играет на его листочках. Ощущение уюта усиливает и цветок на подоконнике. Под кашпо на стене эстамп с изображением диковинных птиц. Все просто в этой комнате, но все продумано до мелочей, каждая вещь на своем ме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8"/>
          <p:cNvSpPr/>
          <p:nvPr/>
        </p:nvSpPr>
        <p:spPr>
          <a:xfrm>
            <a:off x="4929120" y="157176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вер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двухстворчатая, стеклянная, арочная, выходит на балкон, оградительная решетка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pre_1354522085__utro1"/>
          <p:cNvPicPr/>
          <p:nvPr/>
        </p:nvPicPr>
        <p:blipFill>
          <a:blip r:embed="rId2"/>
          <a:srcRect l="11252" t="0" r="27244" b="22728"/>
          <a:stretch/>
        </p:blipFill>
        <p:spPr>
          <a:xfrm>
            <a:off x="214200" y="106200"/>
            <a:ext cx="3571920" cy="65502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57120" y="571680"/>
            <a:ext cx="403236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атья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иловна  Ябло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917 -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2"/>
          <a:stretch/>
        </p:blipFill>
        <p:spPr>
          <a:xfrm>
            <a:off x="4376880" y="619200"/>
            <a:ext cx="4410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2" name="Picture 10" descr="untitled1"/>
          <p:cNvPicPr/>
          <p:nvPr/>
        </p:nvPicPr>
        <p:blipFill>
          <a:blip r:embed="rId2"/>
          <a:srcRect l="48196" t="0" r="187" b="55895"/>
          <a:stretch/>
        </p:blipFill>
        <p:spPr>
          <a:xfrm>
            <a:off x="214200" y="785880"/>
            <a:ext cx="3857760" cy="59562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3" name="Picture 8" descr="untitled1"/>
          <p:cNvPicPr/>
          <p:nvPr/>
        </p:nvPicPr>
        <p:blipFill>
          <a:blip r:embed="rId3"/>
          <a:srcRect l="5474" t="0" r="0" b="66272"/>
          <a:stretch/>
        </p:blipFill>
        <p:spPr>
          <a:xfrm>
            <a:off x="4857840" y="3571920"/>
            <a:ext cx="3929040" cy="3106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04" name="Прямоугольник 6"/>
          <p:cNvSpPr/>
          <p:nvPr/>
        </p:nvSpPr>
        <p:spPr>
          <a:xfrm>
            <a:off x="4357800" y="785880"/>
            <a:ext cx="47862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Окн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– высокое ,дугообразное, выходит на северо-восток ,рама белая ,под окном- батареи центрального отопления, карниз над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Стен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– высокие ,толстые ,светло-желтые с сероватым оттенком ,бежевые ,оклеены обоями или покрашены краской ,на стене эстамп ,кашпо с цветами рез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веты на балконе и над двер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214200" y="142920"/>
            <a:ext cx="8929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ак изображены окно ,стены комн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1"/>
          <p:cNvSpPr/>
          <p:nvPr/>
        </p:nvSpPr>
        <p:spPr>
          <a:xfrm>
            <a:off x="3143160" y="193680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изображены кровать, п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3429000" y="21852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овать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деревянная, низкая, еще не убрана, освещенная ярким утренним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pre_1354522085__utro1"/>
          <p:cNvPicPr/>
          <p:nvPr/>
        </p:nvPicPr>
        <p:blipFill>
          <a:blip r:embed="rId2"/>
          <a:srcRect l="0" t="57606" r="27244" b="0"/>
          <a:stretch/>
        </p:blipFill>
        <p:spPr>
          <a:xfrm>
            <a:off x="5643720" y="1928880"/>
            <a:ext cx="3321000" cy="3946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10" name="Picture 7" descr="untitled1"/>
          <p:cNvPicPr/>
          <p:nvPr/>
        </p:nvPicPr>
        <p:blipFill>
          <a:blip r:embed="rId3"/>
          <a:srcRect l="0" t="47342" r="68673" b="7075"/>
          <a:stretch/>
        </p:blipFill>
        <p:spPr>
          <a:xfrm>
            <a:off x="214200" y="214200"/>
            <a:ext cx="2857680" cy="4262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1" name="Rectangle 12"/>
          <p:cNvSpPr/>
          <p:nvPr/>
        </p:nvSpPr>
        <p:spPr>
          <a:xfrm>
            <a:off x="214200" y="4651200"/>
            <a:ext cx="53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паркетный, «в  ёлочку», блестящий, натертый до блеска, светло-желтый, чистый, длинные тени на полу говорят о раннем у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untitled1"/>
          <p:cNvPicPr/>
          <p:nvPr/>
        </p:nvPicPr>
        <p:blipFill>
          <a:blip r:embed="rId2"/>
          <a:srcRect l="46860" t="60849" r="0" b="0"/>
          <a:stretch/>
        </p:blipFill>
        <p:spPr>
          <a:xfrm>
            <a:off x="214200" y="142920"/>
            <a:ext cx="4000680" cy="6370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4" name="Text Box 8"/>
          <p:cNvSpPr/>
          <p:nvPr/>
        </p:nvSpPr>
        <p:spPr>
          <a:xfrm>
            <a:off x="4572000" y="500040"/>
            <a:ext cx="4286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ол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круглый, накрытый сине – желтой скатертью. На столе - светлый, с темным рисунком кувшин с молоком, тарелка, на которой лежит булочка, прикрытая салфет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8" name="Picture 10" descr="untitled1"/>
          <p:cNvPicPr/>
          <p:nvPr/>
        </p:nvPicPr>
        <p:blipFill>
          <a:blip r:embed="rId2"/>
          <a:srcRect l="49442" t="43967" r="14116" b="30608"/>
          <a:stretch/>
        </p:blipFill>
        <p:spPr>
          <a:xfrm>
            <a:off x="214200" y="428760"/>
            <a:ext cx="4429080" cy="60004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19" name="Text Box 8"/>
          <p:cNvSpPr/>
          <p:nvPr/>
        </p:nvSpPr>
        <p:spPr>
          <a:xfrm>
            <a:off x="4786200" y="476280"/>
            <a:ext cx="4106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ту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легкий, овальное сидение, прямоугольная изогнутая спинка, круглые тонкие ножки), ярким пятном выделяется алый пионерский галстук, перекинутый через спинку стула, аккуратно сложена школьная одежда дев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1" name="WordArt 7"/>
          <p:cNvSpPr txBox="1"/>
          <p:nvPr/>
        </p:nvSpPr>
        <p:spPr>
          <a:xfrm>
            <a:off x="3071880" y="714240"/>
            <a:ext cx="29462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варик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куратный, опрятный, чистоплотный, стройный ,статны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низ ,бахрома ,кашпо ,эстамп ,рез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ся ,располагаться , размещаться, пристроиться ,сто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центре ,посередине ,прямо ,напротив , вдоль ,налево ,направо ,вверху ,в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315288020"/>
          <p:cNvPicPr/>
          <p:nvPr/>
        </p:nvPicPr>
        <p:blipFill>
          <a:blip r:embed="rId2"/>
          <a:stretch/>
        </p:blipFill>
        <p:spPr>
          <a:xfrm>
            <a:off x="0" y="142920"/>
            <a:ext cx="22147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3857760" y="214200"/>
            <a:ext cx="51433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лова-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 о художн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214800" y="1357200"/>
            <a:ext cx="55432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Яблонская Т.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атьяна Ни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стер ки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втор кар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живопис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315288020"/>
          <p:cNvPicPr/>
          <p:nvPr/>
        </p:nvPicPr>
        <p:blipFill>
          <a:blip r:embed="rId2"/>
          <a:stretch/>
        </p:blipFill>
        <p:spPr>
          <a:xfrm>
            <a:off x="-214200" y="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3214800" y="428760"/>
            <a:ext cx="56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лаголы – помощ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4000680" y="1714680"/>
            <a:ext cx="3900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образ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каз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рисо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ечатл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пис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315288020"/>
          <p:cNvPicPr/>
          <p:nvPr/>
        </p:nvPicPr>
        <p:blipFill>
          <a:blip r:embed="rId2"/>
          <a:stretch/>
        </p:blipFill>
        <p:spPr>
          <a:xfrm>
            <a:off x="142920" y="21420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2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0"/>
          <p:cNvSpPr/>
          <p:nvPr/>
        </p:nvSpPr>
        <p:spPr>
          <a:xfrm>
            <a:off x="1857240" y="28584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 чему призывает худож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11280" y="765000"/>
            <a:ext cx="82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олотно «Утро» призывает радоваться прекрасному, молодости, красоте. Ведь радостное настроение, ощущение свободы, счастья, яркие теплые краски, зелень и мягкий солнечный свет, гармония- это все и является особенным весенним настроением, живущим в сердце каждого из н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9" descr="y_bc41ddbb"/>
          <p:cNvPicPr/>
          <p:nvPr/>
        </p:nvPicPr>
        <p:blipFill>
          <a:blip r:embed="rId2"/>
          <a:stretch/>
        </p:blipFill>
        <p:spPr>
          <a:xfrm rot="20936400">
            <a:off x="939960" y="2754360"/>
            <a:ext cx="2463480" cy="3692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537" name="Picture 21" descr="38443471"/>
          <p:cNvPicPr/>
          <p:nvPr/>
        </p:nvPicPr>
        <p:blipFill>
          <a:blip r:embed="rId3"/>
          <a:stretch/>
        </p:blipFill>
        <p:spPr>
          <a:xfrm rot="1029600">
            <a:off x="4859280" y="2781360"/>
            <a:ext cx="3200400" cy="3257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9" name="WordArt 5"/>
          <p:cNvSpPr txBox="1"/>
          <p:nvPr/>
        </p:nvSpPr>
        <p:spPr>
          <a:xfrm>
            <a:off x="3792600" y="73656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 к сочинению</a:t>
            </a:r>
            <a:endParaRPr b="1" i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719280" y="244332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Несколько слов об авторе картины 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.Н.Яблонс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Особенности композиции карт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Цвет и отте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Общее настроение картины. Отношение к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315288020"/>
          <p:cNvPicPr/>
          <p:nvPr/>
        </p:nvPicPr>
        <p:blipFill>
          <a:blip r:embed="rId2"/>
          <a:stretch/>
        </p:blipFill>
        <p:spPr>
          <a:xfrm>
            <a:off x="0" y="0"/>
            <a:ext cx="3492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214200" y="142920"/>
            <a:ext cx="8569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стно, что дети, появившиеся на свет под знаком Рыб, часто бывают наделены не только безупречным вкусом, но и вкусом к творчеству, такой уж им подарок делает щедрый Зодиак. В этом смысле Татьяна Ниловна Яблонская, родившаяся 24 февраля 1917 года в Смоленске, была истинной Ры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тец Тани считался очень одаренным и опытным художником, но ему не хватало решимости целиком отдаться любимой живописи: он зарабатывал на хлеб, преподавая историю и литературу в смоленской гимна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ственную мечту о свободном творчестве Нил Александрович Яблонский сумел привить всем своим детям, а особенно – по-настоящему талантливой Татьяне, которая, сколько себя помнила, всегда на падающую звезду загадывала одно и то же желание: "Хочу стать хорошим художником!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тины Т.Н.Яблонской могут казаться бесхитростными и простоватыми. Однако в каждом произведении заключена особая красота простой жизни, которая способна пленять, дарить особое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1" descr=""/>
          <p:cNvPicPr/>
          <p:nvPr/>
        </p:nvPicPr>
        <p:blipFill>
          <a:blip r:embed="rId2"/>
          <a:stretch/>
        </p:blipFill>
        <p:spPr>
          <a:xfrm>
            <a:off x="6134040" y="3851280"/>
            <a:ext cx="28306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357120" y="214200"/>
            <a:ext cx="8229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тьяна Ниловна Яблонская родилась 24 февраля 1917 года в Смоленске. Ее отец Н.А. Яблонский был преподавателем словесности в смоленской классической гимназии, а также известным в городе худож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928 году семья Яблонских переехала на Украину. C 1935 по 1941 год Татьяна Яблонская училась в Киевском художественном институте . После войны началась ее творческая и преподавательская работа в Киеве: она работала в том же институте, в котором ранее училась (с 1947 по 1973 год; с 1967 года — професс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71680" y="4068720"/>
            <a:ext cx="8229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лотнах Татьяны Ниловны Яблонской раскрываются жизнеутверждающие образы современников и родной природы, звучит тема свобод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5508346_a37d427e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835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18" name="Rectangle 8"/>
          <p:cNvSpPr/>
          <p:nvPr/>
        </p:nvSpPr>
        <p:spPr>
          <a:xfrm>
            <a:off x="681480" y="24717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Перед стартом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9" descr=""/>
          <p:cNvPicPr/>
          <p:nvPr/>
        </p:nvPicPr>
        <p:blipFill>
          <a:blip r:embed="rId3"/>
          <a:stretch/>
        </p:blipFill>
        <p:spPr>
          <a:xfrm>
            <a:off x="3924360" y="0"/>
            <a:ext cx="428616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0" name="Rectangle 10"/>
          <p:cNvSpPr/>
          <p:nvPr/>
        </p:nvSpPr>
        <p:spPr>
          <a:xfrm>
            <a:off x="5651640" y="26877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Весн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2430360" cy="20368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610560" y="52084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Бумажные цвет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5508537_5829884a1"/>
          <p:cNvPicPr/>
          <p:nvPr/>
        </p:nvPicPr>
        <p:blipFill>
          <a:blip r:embed="rId5"/>
          <a:stretch/>
        </p:blipFill>
        <p:spPr>
          <a:xfrm>
            <a:off x="3132000" y="2781360"/>
            <a:ext cx="2287800" cy="28731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4" name="Rectangle 14"/>
          <p:cNvSpPr/>
          <p:nvPr/>
        </p:nvSpPr>
        <p:spPr>
          <a:xfrm>
            <a:off x="2915280" y="5711760"/>
            <a:ext cx="23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имний день в Седнев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5" descr=""/>
          <p:cNvPicPr/>
          <p:nvPr/>
        </p:nvPicPr>
        <p:blipFill>
          <a:blip r:embed="rId6"/>
          <a:stretch/>
        </p:blipFill>
        <p:spPr>
          <a:xfrm>
            <a:off x="5857920" y="3286080"/>
            <a:ext cx="2287440" cy="19573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426" name="Rectangle 16"/>
          <p:cNvSpPr/>
          <p:nvPr/>
        </p:nvSpPr>
        <p:spPr>
          <a:xfrm>
            <a:off x="6156720" y="53514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Лен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-90360"/>
            <a:ext cx="9185400" cy="69166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142920" y="7200"/>
            <a:ext cx="882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фициальное признание  Яблонской принесла картина «Хлеб». В сюжете и композиции картины художница идеализирует  труд колхозного крестьянства. За это произведение Татьяна Яблонская была представлена в 1950 году к Государственной премии СССР, а в 1958 году получила бронзовую медаль на Всемирной выставке в Брюсс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5508407_654dd5701"/>
          <p:cNvPicPr/>
          <p:nvPr/>
        </p:nvPicPr>
        <p:blipFill>
          <a:blip r:embed="rId2"/>
          <a:stretch/>
        </p:blipFill>
        <p:spPr>
          <a:xfrm>
            <a:off x="714240" y="2071800"/>
            <a:ext cx="7500960" cy="44877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8"/>
          <p:cNvSpPr/>
          <p:nvPr/>
        </p:nvSpPr>
        <p:spPr>
          <a:xfrm>
            <a:off x="214200" y="223560"/>
            <a:ext cx="864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жды ранним майским утром Лена , дочка Т.Н.Яблонской, проснулась  в прекрасном настроении, все внутри нее пело и тянулось к солнцу. Вскочила она с кровати, развела руки в стороны  - еще чуть-чуть  - и взлетела бы! А в это время в комнату вошла мама Лены и застыла на пороге: так необыкновенно хороша была увиденная ею картина: солнце, утро молодого майского дня и утро жизни ее маленькой дочери – все так чудесно совпало!  Татьяна Ниловна, увидев это,  создала картину «Утро», о которой мы сегодня и будем говорит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6" descr=""/>
          <p:cNvPicPr/>
          <p:nvPr/>
        </p:nvPicPr>
        <p:blipFill>
          <a:blip r:embed="rId2"/>
          <a:stretch/>
        </p:blipFill>
        <p:spPr>
          <a:xfrm>
            <a:off x="3687840" y="2030400"/>
            <a:ext cx="5175000" cy="1504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7"/>
          <p:cNvSpPr/>
          <p:nvPr/>
        </p:nvSpPr>
        <p:spPr>
          <a:xfrm>
            <a:off x="3429000" y="3286080"/>
            <a:ext cx="55720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известной картине "Утро" Татьяны Яблонской 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-летняя девочка, изображены во время зарядки у открытого окна. Говорят, что какой-то мальчик, увлеченный живописью, повесил репродукцию "Утра" у себя дома в Алма-Ате, а спустя десятилетие вы с ним поженились? Что это, красивая семейная леген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Это правда, - говорит Елена Бейсембинова. - В мамином "Утре" был такой жизнеутверждающий сюжет, что репродукцию сразу же напечатали все журналы, в том числе "Огон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лена яблонская с матерью"/>
          <p:cNvPicPr/>
          <p:nvPr/>
        </p:nvPicPr>
        <p:blipFill>
          <a:blip r:embed="rId3"/>
          <a:stretch/>
        </p:blipFill>
        <p:spPr>
          <a:xfrm>
            <a:off x="285840" y="2071800"/>
            <a:ext cx="3286080" cy="46227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дея картины (что мы должны  отразить в сочинении – т.е.сделать идеей своего 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ота обыкновенной жизни является идеей(основной мыслью) этой картины. Художница нас учит видеть прекрасное в простой обстановке ,в обыденных вещах, окружающих нас ,радоваться жизни ,как радуется ей девочка ,словно взлетающая в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7" descr="C:\Users\User\Desktop\besplatnye-fony-dlya-presentacii-powerpoint-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untitled1"/>
          <p:cNvPicPr/>
          <p:nvPr/>
        </p:nvPicPr>
        <p:blipFill>
          <a:blip r:embed="rId2"/>
          <a:stretch/>
        </p:blipFill>
        <p:spPr>
          <a:xfrm>
            <a:off x="142920" y="214200"/>
            <a:ext cx="4714920" cy="65088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11"/>
          <p:cNvSpPr/>
          <p:nvPr/>
        </p:nvSpPr>
        <p:spPr>
          <a:xfrm>
            <a:off x="5429160" y="5929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писана в 195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Rectangle 6" descr=""/>
          <p:cNvPicPr/>
          <p:nvPr/>
        </p:nvPicPr>
        <p:blipFill>
          <a:blip r:embed="rId3"/>
          <a:stretch/>
        </p:blipFill>
        <p:spPr>
          <a:xfrm>
            <a:off x="5218200" y="493560"/>
            <a:ext cx="3292560" cy="123192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6" descr=""/>
          <p:cNvPicPr/>
          <p:nvPr/>
        </p:nvPicPr>
        <p:blipFill>
          <a:blip r:embed="rId4"/>
          <a:stretch/>
        </p:blipFill>
        <p:spPr>
          <a:xfrm>
            <a:off x="5546880" y="1852560"/>
            <a:ext cx="23176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6:39:19Z</dcterms:created>
  <dc:creator>user</dc:creator>
  <dc:description/>
  <dc:language>en-US</dc:language>
  <cp:lastModifiedBy>Кабинет30</cp:lastModifiedBy>
  <dcterms:modified xsi:type="dcterms:W3CDTF">2022-11-21T13:01:34Z</dcterms:modified>
  <cp:revision>24</cp:revision>
  <dc:subject/>
  <dc:title>Слайд 1</dc:title>
</cp:coreProperties>
</file>