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DE0-0E97-4880-A989-EED93F5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E77-F738-44E6-ACC3-3279CEDF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E468-67AD-4C03-BBE6-2FEE5A6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C43C-0FF0-4082-AD0C-B83FEAA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26BBA-71EB-454B-A4F5-2B3356A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90966-7BAD-4148-B0AD-29EC395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EBE25-8437-49B7-875F-0ED67BC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A5905-EBAB-438E-8085-93F3286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30CE0-D20F-48DE-81D6-897D9A3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8620-4704-4E5E-B3E5-5D10B791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5B827-D94B-449F-B9C6-7C5D3503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DFA-B8A9-4179-BBB5-E4FBDA5B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6D2-0194-44BB-8B6B-A519B58E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D7A-D75C-47FB-B39A-8CB22F6C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887-FF0B-439D-98B6-C66AD97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5AE8-8C4A-4BE3-9C82-9F691F2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10B1-B8A6-460C-B562-442CAB2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3D51-7725-4C9A-BAF6-DEACC5E4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BC5E-AF8B-46EE-82EC-CA43685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94C3-88FF-4D7B-B814-B0A8E28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347-1FBF-4361-A6AE-A02B88B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BFD8-DA06-434C-8B43-EF0D965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9B5-08BB-4C47-8633-F698EA58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12A-132D-4E67-9D2B-9271DCB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53F-478F-4811-855C-A1240C9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8915-3A97-4FBB-9CAC-5B5034E1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AE45-03EB-4A40-884F-E1DEF9CF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902B-C114-44CD-BDCB-3C2A202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78B2-9E64-4DCC-86D0-493E314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E58A-6F44-4D36-B0E2-841A1C9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9C73-1C6F-4BFF-9F26-2CC7DCDA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B92-3E67-4AB8-99CA-80EAB33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A932-680B-4EF7-A630-F7BEBED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A654-328B-49C4-BB8E-CE03956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5594-9873-406C-8B83-7FE39D9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41F1-0443-4276-893A-2493429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E6C0-7F21-429F-8697-CDF4EE60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EF5D-651D-4B76-B2C4-AF275A09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831B-9891-49CE-8C0F-34FE49A7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38C5-F63D-40C6-9A10-EABDB841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22F0-00E5-4280-87E6-1B1B7E68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D7A7-5EEC-4ED6-98DC-FFFC2CD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E3C-E971-4278-8EFB-DCFD72F8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0932-95E2-4D4A-8CFF-A0B481E9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6475-24AE-4B18-8CAB-1656569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D5E1-AFF1-4526-99E9-9C9905A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47F9-D49C-4861-8AA1-3632B09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B975-4A58-4FE3-8B1C-AED81A2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E7A4-F5F4-4141-AC41-3081815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1861-7ABA-4A9F-B086-B225FE0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A86C-FB0C-45BE-A7D5-BD734332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D08F-F32E-47CD-BF21-67B7CF7F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105C-3AAF-40F4-AFC2-38FB0E64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06F-B1EB-4B4E-AF25-7912B26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23D3-66A2-4D01-860E-71841140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89B5-65F2-424B-AD5D-359BD1A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AFA3-619C-4289-9268-61E213D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CA79-09B6-4EC4-B6D7-BB84869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9B14-EF35-4810-905E-FF2D372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D9AD-C509-44D3-ADC5-55E3237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C47DA-54C7-4E46-B696-BECFEBE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A2B1-814B-4E23-982F-4E182AC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3BD5-DFEE-496D-91EC-A180C77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5201-5B91-40EA-89F6-FD91C153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2B9-6E26-4F49-A24A-BD19F738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C55B-EEB4-4B02-A0C6-FA0A79B0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9901-77CB-40DB-86DF-49968357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0A26-3FAF-42CE-88C3-B09B2799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06C0-C84F-4DCE-BF57-472332D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00FA-795D-4A44-BEB7-DB1C5B3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D756-7308-476F-9CE3-69DAD148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8B60-312B-4BAE-A220-ED4FC341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96FD-B06F-4C84-9BDE-4C3AECD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2FB29-A577-4D51-A8C6-8409301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CD62-3443-48E1-B39C-0B93874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AD6-3B9D-4B3F-AD45-3CE6AE6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BB65-A14A-44C9-9A0C-685BDCA5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A3F40-C8D8-4394-A95B-BBA17F20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3DAB-8B8F-4929-A1FD-CECC065B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7728-7778-407A-A498-0F352FD2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EB09-3058-4AA8-B9EB-BD3362A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1CBE-6A20-4AF6-9B29-7EAF8E31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A40F-D10C-4ABE-9388-A161D8A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761E-3775-496D-AE95-724554A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4358-9151-4472-A45E-42100F14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2F6D-2BF1-4574-BD51-856E3DC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3D2-9395-420A-9116-8FA741A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596F-F00A-406F-ACAD-4ECF01C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36E3-E9BE-42F7-9EF4-7635DA5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56B3-823B-4B83-BAED-6AC5694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7AC7-A408-4EBB-9E41-5A73D12E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9013-C2AB-468B-9C5E-6A954658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DCC3-47AF-4C20-9136-464C015D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B104-7056-4056-BEB6-C7597DA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02C6-7FE5-4496-B2FF-5702F6AB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50960-8238-42C9-BD26-05070BB5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E087-8DB3-41A2-A2E5-E50586CC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3DA-820E-4C86-8839-C1023B3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8E54-930C-4808-A61E-10A30AD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A3A9-2642-46DD-BB9E-457E593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C800-E7A1-4D12-9A5D-DD33C3A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D0B1-D9DA-4185-B42A-63A16FB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04A3-A728-4929-90C6-0F6C385B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8DA6-03C6-4F7D-B500-971A2F2A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A0A10-5CFD-40B9-BF34-5522B447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56273-2C48-45EC-A3F6-48807182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C7D59-D96E-475F-A062-106E23D4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27CCE-D778-462C-8582-63F7A46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19D-4E45-4617-9693-9EDF150E82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85D0-A54E-4A9C-97B6-7BF4BB0F07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DD1-8D83-4EC4-BC63-96AE3D78D3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9BAA-EB2D-4A57-B03D-93BE517284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8B6B-63CB-422D-A0BF-AA9BFA18D7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DD7-8F7D-4FE7-9D81-C887586FE2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DF98-1E33-42C2-8493-0B67F0A824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1152-A51D-411F-B6F8-E81E9E41E0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702-319C-4BAE-B06E-531DFD724B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3857760" y="42876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азвития речи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786120" y="1357200"/>
            <a:ext cx="51847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готовка к сочин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картине Т. Яблонско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357880" y="25718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Ут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214280" y="3786120"/>
            <a:ext cx="352908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 утро, радость э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а мощь и дня и св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синий с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крик и вере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и стаи,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и пт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говор во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 все  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4786200" y="3571920"/>
            <a:ext cx="4143600" cy="310680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405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1" descr="315288020"/>
          <p:cNvPicPr/>
          <p:nvPr/>
        </p:nvPicPr>
        <p:blipFill>
          <a:blip r:embed="rId3"/>
          <a:stretch/>
        </p:blipFill>
        <p:spPr>
          <a:xfrm>
            <a:off x="142920" y="285840"/>
            <a:ext cx="36050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4000680" y="78588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  <a:ea typeface="Arial"/>
              </a:rPr>
              <a:t>УТ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3"/>
          <p:cNvSpPr/>
          <p:nvPr/>
        </p:nvSpPr>
        <p:spPr>
          <a:xfrm>
            <a:off x="714240" y="3357720"/>
            <a:ext cx="25196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71680" y="5072040"/>
            <a:ext cx="3311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вт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0"/>
          <p:cNvSpPr/>
          <p:nvPr/>
        </p:nvSpPr>
        <p:spPr>
          <a:xfrm>
            <a:off x="3429000" y="1928880"/>
            <a:ext cx="349236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Уборка</a:t>
            </a:r>
            <a:r>
              <a:rPr b="1" lang="ru-RU" sz="4400" spc="-1" strike="noStrike">
                <a:solidFill>
                  <a:srgbClr val="ad1f1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ad1f1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комна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4643280" y="5500800"/>
            <a:ext cx="42116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боры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4"/>
          <p:cNvSpPr/>
          <p:nvPr/>
        </p:nvSpPr>
        <p:spPr>
          <a:xfrm>
            <a:off x="6143760" y="3857760"/>
            <a:ext cx="21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2500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6"/>
          <p:cNvSpPr/>
          <p:nvPr/>
        </p:nvSpPr>
        <p:spPr>
          <a:xfrm>
            <a:off x="6357960" y="1500120"/>
            <a:ext cx="2592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Радос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357120" y="2857680"/>
            <a:ext cx="30006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олнеч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357120" y="4071960"/>
            <a:ext cx="30006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ияю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357120" y="5429160"/>
            <a:ext cx="30006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Необыч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6357960" y="5786280"/>
            <a:ext cx="25718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Яс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1"/>
          <p:cNvSpPr/>
          <p:nvPr/>
        </p:nvSpPr>
        <p:spPr>
          <a:xfrm>
            <a:off x="6357960" y="4714920"/>
            <a:ext cx="25718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вет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6357960" y="3573360"/>
            <a:ext cx="26431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Чудес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6357960" y="2643120"/>
            <a:ext cx="2643120" cy="7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Яр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7200" y="142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Э п и т е т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714840" y="1428840"/>
            <a:ext cx="21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  <a:ea typeface="Arial"/>
              </a:rPr>
              <a:t>УТ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271476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pre_1354522085__utro1"/>
          <p:cNvPicPr/>
          <p:nvPr/>
        </p:nvPicPr>
        <p:blipFill>
          <a:blip r:embed="rId2"/>
          <a:stretch/>
        </p:blipFill>
        <p:spPr>
          <a:xfrm>
            <a:off x="142920" y="142920"/>
            <a:ext cx="4160880" cy="6072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65" name="Text Box 8"/>
          <p:cNvSpPr/>
          <p:nvPr/>
        </p:nvSpPr>
        <p:spPr>
          <a:xfrm>
            <a:off x="4500720" y="21420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ова основная мысль этой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00720" y="1214280"/>
            <a:ext cx="47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 «Утро»- олицетворение бодрости, свежести, дарит ни с чем не сравнимое настроение радости новому д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4643280" y="2857680"/>
            <a:ext cx="425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мпозиция картины. Что мы видим на переднем пл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500720" y="3571920"/>
            <a:ext cx="450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центре изображена девочка лет одиннадцати. Девочка только проснулась, она показана в движении:  тянет руки вверх, словно потягивается. Героиня грациозна, пластична.Она напоминает весеннюю птичку. Ее фигура свидетельствует о том, что она не ограничивается утренней зарядкой, а занимается каким- либо видо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pre_1354522085__utro1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65134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71" name="Rectangle 9"/>
          <p:cNvSpPr/>
          <p:nvPr/>
        </p:nvSpPr>
        <p:spPr>
          <a:xfrm>
            <a:off x="5214960" y="307296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пишем дев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143680" y="37861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ней белая майка, черные спортивные шорты, волосы заплетены в косы, глаза прикрыты, вероятно, от солнечных зай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5286240" y="21420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 героине картины Т.Н. Ябло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ы скажем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к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рои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ная спортсм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ерсонаж карт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йствующее 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2214720" y="285840"/>
            <a:ext cx="67579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ставьте «динамические» словосоче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357120" y="128592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янет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ящная п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ные 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ностью сосредото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янется в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ая фигу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тянутая де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ательное выполнение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ы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13572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3214800" y="285840"/>
            <a:ext cx="59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АЯ девочка изображ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786120" y="1428840"/>
            <a:ext cx="507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А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кк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ура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Сп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о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рти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Пр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и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леж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Орг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а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н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и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зов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анн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П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од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тяну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Строй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8" descr="315288020"/>
          <p:cNvPicPr/>
          <p:nvPr/>
        </p:nvPicPr>
        <p:blipFill>
          <a:blip r:embed="rId2"/>
          <a:stretch/>
        </p:blipFill>
        <p:spPr>
          <a:xfrm>
            <a:off x="142920" y="357120"/>
            <a:ext cx="3317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324000" y="333360"/>
            <a:ext cx="6192720" cy="2449440"/>
          </a:xfrm>
          <a:prstGeom prst="wedgeRectCallout">
            <a:avLst>
              <a:gd name="adj1" fmla="val 53101"/>
              <a:gd name="adj2" fmla="val 13191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мн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ОДЕТА В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девочке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АДЕТ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j0301252"/>
          <p:cNvPicPr/>
          <p:nvPr/>
        </p:nvPicPr>
        <p:blipFill>
          <a:blip r:embed="rId2"/>
          <a:stretch/>
        </p:blipFill>
        <p:spPr>
          <a:xfrm>
            <a:off x="6227640" y="3141720"/>
            <a:ext cx="2916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5716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пишем интерьер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торная солнечная ком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 света и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й паркетный             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ыкновенный круглый                 ст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писной кув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ревянная к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лоснежное постельное бель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тота и 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ышная зелень ц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14200" y="5357880"/>
            <a:ext cx="80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вета теплые, сочные и яркие: желтые солнечные стены, оттенки коричневого и оранжевого- дерево кровати и пола. Они привносят особое ощущение радости, торжественности. Им противопоставляются холодные тона: глубокий синий цвет скатерти, темная школьная форма, насыщенная зелень комнатных раст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000680" y="4714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ие краски преобладают на полот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pre_1354522085__utro1"/>
          <p:cNvPicPr/>
          <p:nvPr/>
        </p:nvPicPr>
        <p:blipFill>
          <a:blip r:embed="rId2"/>
          <a:srcRect l="5109" t="0" r="591" b="253"/>
          <a:stretch/>
        </p:blipFill>
        <p:spPr>
          <a:xfrm>
            <a:off x="214200" y="214200"/>
            <a:ext cx="3286080" cy="50720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96" name="Text Box 14"/>
          <p:cNvSpPr/>
          <p:nvPr/>
        </p:nvSpPr>
        <p:spPr>
          <a:xfrm>
            <a:off x="4000680" y="214200"/>
            <a:ext cx="50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ната  большая, уютная, светлая, просторная, много воздуха и света. Двери на балкон распахнуты, на полу – блики солнечного света. Возникает ощущение прохлады, веющей с балкона, утренней свежести. Художница во всем подчеркивает уют: из кашпо тянутся стебли плюща, яркое солнышко играет на его листочках. Ощущение уюта усиливает и цветок на подоконнике. Под кашпо на стене эстамп с изображением диковинных птиц. Все просто в этой комнате, но все продумано до мелочей, каждая вещь на своем ме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8"/>
          <p:cNvSpPr/>
          <p:nvPr/>
        </p:nvSpPr>
        <p:spPr>
          <a:xfrm>
            <a:off x="4929120" y="157176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вер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двухстворчатая, стеклянная, арочная, выходит на балкон, оградительная решетка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pre_1354522085__utro1"/>
          <p:cNvPicPr/>
          <p:nvPr/>
        </p:nvPicPr>
        <p:blipFill>
          <a:blip r:embed="rId2"/>
          <a:srcRect l="11252" t="0" r="27244" b="22728"/>
          <a:stretch/>
        </p:blipFill>
        <p:spPr>
          <a:xfrm>
            <a:off x="214200" y="106200"/>
            <a:ext cx="3571920" cy="65502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57120" y="571680"/>
            <a:ext cx="403236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атья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иловна  Ябло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917 -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2"/>
          <a:stretch/>
        </p:blipFill>
        <p:spPr>
          <a:xfrm>
            <a:off x="4376880" y="619200"/>
            <a:ext cx="4410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2" name="Picture 10" descr="untitled1"/>
          <p:cNvPicPr/>
          <p:nvPr/>
        </p:nvPicPr>
        <p:blipFill>
          <a:blip r:embed="rId2"/>
          <a:srcRect l="48196" t="0" r="187" b="55895"/>
          <a:stretch/>
        </p:blipFill>
        <p:spPr>
          <a:xfrm>
            <a:off x="214200" y="785880"/>
            <a:ext cx="3857760" cy="59562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3" name="Picture 8" descr="untitled1"/>
          <p:cNvPicPr/>
          <p:nvPr/>
        </p:nvPicPr>
        <p:blipFill>
          <a:blip r:embed="rId3"/>
          <a:srcRect l="5474" t="0" r="0" b="66272"/>
          <a:stretch/>
        </p:blipFill>
        <p:spPr>
          <a:xfrm>
            <a:off x="4857840" y="3571920"/>
            <a:ext cx="3929040" cy="3106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04" name="Прямоугольник 6"/>
          <p:cNvSpPr/>
          <p:nvPr/>
        </p:nvSpPr>
        <p:spPr>
          <a:xfrm>
            <a:off x="4357800" y="785880"/>
            <a:ext cx="4786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Окн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– высокое ,дугообразное, выходит на северо-восток ,рама белая ,под окном- батареи центрального отопления, карниз над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Стен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 высокие ,толстые ,светло-желтые с сероватым оттенком ,бежевые ,оклеены обоями или покрашены краской ,на стене эстамп ,кашпо с цветами рез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веты на балконе и над двер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214200" y="142920"/>
            <a:ext cx="8929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ак изображены окно ,стены ком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1"/>
          <p:cNvSpPr/>
          <p:nvPr/>
        </p:nvSpPr>
        <p:spPr>
          <a:xfrm>
            <a:off x="3143160" y="193680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изображены кровать, п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3429000" y="21852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овать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деревянная, низкая, еще не убрана, освещенная ярким утренним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pre_1354522085__utro1"/>
          <p:cNvPicPr/>
          <p:nvPr/>
        </p:nvPicPr>
        <p:blipFill>
          <a:blip r:embed="rId2"/>
          <a:srcRect l="0" t="57606" r="27244" b="0"/>
          <a:stretch/>
        </p:blipFill>
        <p:spPr>
          <a:xfrm>
            <a:off x="5643720" y="1928880"/>
            <a:ext cx="3321000" cy="3946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10" name="Picture 7" descr="untitled1"/>
          <p:cNvPicPr/>
          <p:nvPr/>
        </p:nvPicPr>
        <p:blipFill>
          <a:blip r:embed="rId3"/>
          <a:srcRect l="0" t="47342" r="68673" b="7075"/>
          <a:stretch/>
        </p:blipFill>
        <p:spPr>
          <a:xfrm>
            <a:off x="214200" y="214200"/>
            <a:ext cx="2857680" cy="4262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1" name="Rectangle 12"/>
          <p:cNvSpPr/>
          <p:nvPr/>
        </p:nvSpPr>
        <p:spPr>
          <a:xfrm>
            <a:off x="214200" y="4651200"/>
            <a:ext cx="53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паркетный, «в  ёлочку», блестящий, натертый до блеска, светло-желтый, чистый, длинные тени на полу говорят о раннем у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untitled1"/>
          <p:cNvPicPr/>
          <p:nvPr/>
        </p:nvPicPr>
        <p:blipFill>
          <a:blip r:embed="rId2"/>
          <a:srcRect l="46860" t="60849" r="0" b="0"/>
          <a:stretch/>
        </p:blipFill>
        <p:spPr>
          <a:xfrm>
            <a:off x="214200" y="142920"/>
            <a:ext cx="4000680" cy="6370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4" name="Text Box 8"/>
          <p:cNvSpPr/>
          <p:nvPr/>
        </p:nvSpPr>
        <p:spPr>
          <a:xfrm>
            <a:off x="4572000" y="500040"/>
            <a:ext cx="4286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о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круглый, накрытый сине – желтой скатертью. На столе - светлый, с темным рисунком кувшин с молоком, тарелка, на которой лежит булочка, прикрытая салфет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8" name="Picture 10" descr="untitled1"/>
          <p:cNvPicPr/>
          <p:nvPr/>
        </p:nvPicPr>
        <p:blipFill>
          <a:blip r:embed="rId2"/>
          <a:srcRect l="49442" t="43967" r="14116" b="30608"/>
          <a:stretch/>
        </p:blipFill>
        <p:spPr>
          <a:xfrm>
            <a:off x="214200" y="428760"/>
            <a:ext cx="4429080" cy="60004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9" name="Text Box 8"/>
          <p:cNvSpPr/>
          <p:nvPr/>
        </p:nvSpPr>
        <p:spPr>
          <a:xfrm>
            <a:off x="4786200" y="476280"/>
            <a:ext cx="410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ту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легкий, овальное сидение, прямоугольная изогнутая спинка, круглые тонкие ножки), ярким пятном выделяется алый пионерский галстук, перекинутый через спинку стула, аккуратно сложена школьная одежда дев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1" name="WordArt 7"/>
          <p:cNvSpPr txBox="1"/>
          <p:nvPr/>
        </p:nvSpPr>
        <p:spPr>
          <a:xfrm>
            <a:off x="3071880" y="714240"/>
            <a:ext cx="29462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рик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ый, опрятный, чистоплотный, стройный ,статны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низ ,бахрома ,кашпо ,эстамп ,рез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ся ,располагаться , размещаться, пристроиться ,сто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центре ,посередине ,прямо ,напротив , вдоль ,налево ,направо ,вверху ,в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315288020"/>
          <p:cNvPicPr/>
          <p:nvPr/>
        </p:nvPicPr>
        <p:blipFill>
          <a:blip r:embed="rId2"/>
          <a:stretch/>
        </p:blipFill>
        <p:spPr>
          <a:xfrm>
            <a:off x="0" y="142920"/>
            <a:ext cx="2214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3857760" y="214200"/>
            <a:ext cx="51433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лова-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 о художн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214800" y="1357200"/>
            <a:ext cx="55432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Яблонская Т.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атьяна Ни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стер ки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втор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живопи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315288020"/>
          <p:cNvPicPr/>
          <p:nvPr/>
        </p:nvPicPr>
        <p:blipFill>
          <a:blip r:embed="rId2"/>
          <a:stretch/>
        </p:blipFill>
        <p:spPr>
          <a:xfrm>
            <a:off x="-214200" y="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3214800" y="428760"/>
            <a:ext cx="56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лаголы – 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4000680" y="17146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образ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ка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рисо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ечатл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ис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0"/>
          <p:cNvSpPr/>
          <p:nvPr/>
        </p:nvSpPr>
        <p:spPr>
          <a:xfrm>
            <a:off x="1857240" y="2858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 чему призывает худож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11280" y="765000"/>
            <a:ext cx="82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олотно «Утро» призывает радоваться прекрасному, молодости, красоте. Ведь радостное настроение, ощущение свободы, счастья, яркие теплые краски, зелень и мягкий солнечный свет, гармония- это все и является особенным весенним настроением, живущим в сердце каждого из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9" descr="y_bc41ddbb"/>
          <p:cNvPicPr/>
          <p:nvPr/>
        </p:nvPicPr>
        <p:blipFill>
          <a:blip r:embed="rId2"/>
          <a:stretch/>
        </p:blipFill>
        <p:spPr>
          <a:xfrm rot="20936400">
            <a:off x="939960" y="2754360"/>
            <a:ext cx="2463480" cy="3692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537" name="Picture 21" descr="38443471"/>
          <p:cNvPicPr/>
          <p:nvPr/>
        </p:nvPicPr>
        <p:blipFill>
          <a:blip r:embed="rId3"/>
          <a:stretch/>
        </p:blipFill>
        <p:spPr>
          <a:xfrm rot="1029600">
            <a:off x="4859280" y="2781360"/>
            <a:ext cx="3200400" cy="3257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9" name="WordArt 5"/>
          <p:cNvSpPr txBox="1"/>
          <p:nvPr/>
        </p:nvSpPr>
        <p:spPr>
          <a:xfrm>
            <a:off x="3792600" y="73656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 к сочинению</a:t>
            </a:r>
            <a:endParaRPr b="1" i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719280" y="244332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Несколько слов об авторе картины 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.Н.Яблонс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Особенности композиции карт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Цвет и отте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Общее настроение картины. Отношение к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315288020"/>
          <p:cNvPicPr/>
          <p:nvPr/>
        </p:nvPicPr>
        <p:blipFill>
          <a:blip r:embed="rId2"/>
          <a:stretch/>
        </p:blipFill>
        <p:spPr>
          <a:xfrm>
            <a:off x="0" y="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214200" y="142920"/>
            <a:ext cx="8569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стно, что дети, появившиеся на свет под знаком Рыб, часто бывают наделены не только безупречным вкусом, но и вкусом к творчеству, такой уж им подарок делает щедрый Зодиак. В этом смысле Татьяна Ниловна Яблонская, родившаяся 24 февраля 1917 года в Смоленске, была истинной Ры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ец Тани считался очень одаренным и опытным художником, но ему не хватало решимости целиком отдаться любимой живописи: он зарабатывал на хлеб, преподавая историю и литературу в смоленской гимна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ственную мечту о свободном творчестве Нил Александрович Яблонский сумел привить всем своим детям, а особенно – по-настоящему талантливой Татьяне, которая, сколько себя помнила, всегда на падающую звезду загадывала одно и то же желание: "Хочу стать хорошим художником!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ы Т.Н.Яблонской могут казаться бесхитростными и простоватыми. Однако в каждом произведении заключена особая красота простой жизни, которая способна пленять, дарить особое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1" descr=""/>
          <p:cNvPicPr/>
          <p:nvPr/>
        </p:nvPicPr>
        <p:blipFill>
          <a:blip r:embed="rId2"/>
          <a:stretch/>
        </p:blipFill>
        <p:spPr>
          <a:xfrm>
            <a:off x="6134040" y="3851280"/>
            <a:ext cx="28306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357120" y="214200"/>
            <a:ext cx="8229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тьяна Ниловна Яблонская родилась 24 февраля 1917 года в Смоленске. Ее отец Н.А. Яблонский был преподавателем словесности в смоленской классической гимназии, а также известным в городе худож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928 году семья Яблонских переехала на Украину. C 1935 по 1941 год Татьяна Яблонская училась в Киевском художественном институте . После войны началась ее творческая и преподавательская работа в Киеве: она работала в том же институте, в котором ранее училась (с 1947 по 1973 год; с 1967 года — професс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71680" y="4068720"/>
            <a:ext cx="8229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лотнах Татьяны Ниловны Яблонской раскрываются жизнеутверждающие образы современников и родной природы, звучит тема свобод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5508346_a37d427e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835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18" name="Rectangle 8"/>
          <p:cNvSpPr/>
          <p:nvPr/>
        </p:nvSpPr>
        <p:spPr>
          <a:xfrm>
            <a:off x="681480" y="24717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Перед стартом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9" descr=""/>
          <p:cNvPicPr/>
          <p:nvPr/>
        </p:nvPicPr>
        <p:blipFill>
          <a:blip r:embed="rId3"/>
          <a:stretch/>
        </p:blipFill>
        <p:spPr>
          <a:xfrm>
            <a:off x="3924360" y="0"/>
            <a:ext cx="428616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0" name="Rectangle 10"/>
          <p:cNvSpPr/>
          <p:nvPr/>
        </p:nvSpPr>
        <p:spPr>
          <a:xfrm>
            <a:off x="5651640" y="26877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Весн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2430360" cy="20368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610560" y="52084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Бумажные цвет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5508537_5829884a1"/>
          <p:cNvPicPr/>
          <p:nvPr/>
        </p:nvPicPr>
        <p:blipFill>
          <a:blip r:embed="rId5"/>
          <a:stretch/>
        </p:blipFill>
        <p:spPr>
          <a:xfrm>
            <a:off x="3132000" y="2781360"/>
            <a:ext cx="2287800" cy="28731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4" name="Rectangle 14"/>
          <p:cNvSpPr/>
          <p:nvPr/>
        </p:nvSpPr>
        <p:spPr>
          <a:xfrm>
            <a:off x="2915280" y="5711760"/>
            <a:ext cx="23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имний день в Седнев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5" descr=""/>
          <p:cNvPicPr/>
          <p:nvPr/>
        </p:nvPicPr>
        <p:blipFill>
          <a:blip r:embed="rId6"/>
          <a:stretch/>
        </p:blipFill>
        <p:spPr>
          <a:xfrm>
            <a:off x="5857920" y="3286080"/>
            <a:ext cx="2287440" cy="19573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6" name="Rectangle 16"/>
          <p:cNvSpPr/>
          <p:nvPr/>
        </p:nvSpPr>
        <p:spPr>
          <a:xfrm>
            <a:off x="6156720" y="53514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Лен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142920" y="7200"/>
            <a:ext cx="882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фициальное признание  Яблонской принесла картина «Хлеб». В сюжете и композиции картины художница идеализирует  труд колхозного крестьянства. За это произведение Татьяна Яблонская была представлена в 1950 году к Государственной премии СССР, а в 1958 году получила бронзовую медаль на Всемирной выставке в Брюсс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5508407_654dd5701"/>
          <p:cNvPicPr/>
          <p:nvPr/>
        </p:nvPicPr>
        <p:blipFill>
          <a:blip r:embed="rId2"/>
          <a:stretch/>
        </p:blipFill>
        <p:spPr>
          <a:xfrm>
            <a:off x="714240" y="2071800"/>
            <a:ext cx="7500960" cy="44877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214200" y="223560"/>
            <a:ext cx="86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жды ранним майским утром Лена , дочка Т.Н.Яблонской, проснулась  в прекрасном настроении, все внутри нее пело и тянулось к солнцу. Вскочила она с кровати, развела руки в стороны  - еще чуть-чуть  - и взлетела бы! А в это время в комнату вошла мама Лены и застыла на пороге: так необыкновенно хороша была увиденная ею картина: солнце, утро молодого майского дня и утро жизни ее маленькой дочери – все так чудесно совпало!  Татьяна Ниловна, увидев это,  создала картину «Утро», о которой мы сегодня и будем говорит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6" descr=""/>
          <p:cNvPicPr/>
          <p:nvPr/>
        </p:nvPicPr>
        <p:blipFill>
          <a:blip r:embed="rId2"/>
          <a:stretch/>
        </p:blipFill>
        <p:spPr>
          <a:xfrm>
            <a:off x="3687840" y="2030400"/>
            <a:ext cx="5175000" cy="1504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7"/>
          <p:cNvSpPr/>
          <p:nvPr/>
        </p:nvSpPr>
        <p:spPr>
          <a:xfrm>
            <a:off x="3429000" y="3286080"/>
            <a:ext cx="55720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известной картине "Утро" Татьяны Яблонской 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-летняя девочка, изображены во время зарядки у открытого окна. Говорят, что какой-то мальчик, увлеченный живописью, повесил репродукцию "Утра" у себя дома в Алма-Ате, а спустя десятилетие вы с ним поженились? Что это, красивая семейная леген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Это правда, - говорит Елена Бейсембинова. - В мамином "Утре" был такой жизнеутверждающий сюжет, что репродукцию сразу же напечатали все журналы, в том числе "Огон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лена яблонская с матерью"/>
          <p:cNvPicPr/>
          <p:nvPr/>
        </p:nvPicPr>
        <p:blipFill>
          <a:blip r:embed="rId3"/>
          <a:stretch/>
        </p:blipFill>
        <p:spPr>
          <a:xfrm>
            <a:off x="285840" y="2071800"/>
            <a:ext cx="3286080" cy="46227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дея картины (что мы должны  отразить в сочинении – т.е.сделать идеей своего 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ота обыкновенной жизни является идеей(основной мыслью) этой картины. Художница нас учит видеть прекрасное в простой обстановке ,в обыденных вещах, окружающих нас ,радоваться жизни ,как радуется ей девочка ,словно взлетающая в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untitled1"/>
          <p:cNvPicPr/>
          <p:nvPr/>
        </p:nvPicPr>
        <p:blipFill>
          <a:blip r:embed="rId2"/>
          <a:stretch/>
        </p:blipFill>
        <p:spPr>
          <a:xfrm>
            <a:off x="142920" y="214200"/>
            <a:ext cx="4714920" cy="65088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11"/>
          <p:cNvSpPr/>
          <p:nvPr/>
        </p:nvSpPr>
        <p:spPr>
          <a:xfrm>
            <a:off x="5429160" y="5929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исана в 195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Rectangle 6" descr=""/>
          <p:cNvPicPr/>
          <p:nvPr/>
        </p:nvPicPr>
        <p:blipFill>
          <a:blip r:embed="rId3"/>
          <a:stretch/>
        </p:blipFill>
        <p:spPr>
          <a:xfrm>
            <a:off x="5218200" y="493560"/>
            <a:ext cx="3292560" cy="123192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6" descr=""/>
          <p:cNvPicPr/>
          <p:nvPr/>
        </p:nvPicPr>
        <p:blipFill>
          <a:blip r:embed="rId4"/>
          <a:stretch/>
        </p:blipFill>
        <p:spPr>
          <a:xfrm>
            <a:off x="5546880" y="1852560"/>
            <a:ext cx="2317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6:39:19Z</dcterms:created>
  <dc:creator>user</dc:creator>
  <dc:description/>
  <dc:language>en-US</dc:language>
  <cp:lastModifiedBy>Кабинет30</cp:lastModifiedBy>
  <dcterms:modified xsi:type="dcterms:W3CDTF">2022-11-21T13:01:34Z</dcterms:modified>
  <cp:revision>24</cp:revision>
  <dc:subject/>
  <dc:title>Слайд 1</dc:title>
</cp:coreProperties>
</file>