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60A-1D8B-4F33-80FC-BCD78671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139-231A-40B8-8174-1BC74CD3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37E05-5BA7-457D-903C-418CC13E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40F59-B463-4B84-B2B3-F03391EC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02C2B-F240-4639-BDE6-D02FC514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9E1FD-7BC3-4B32-AF17-BF83FC4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6B3A7-F543-465A-A542-217E058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B0869-ACBF-44AE-B014-4A20AF7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20D10-4A49-41EE-8691-BC5044D1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C76D1-5689-42C5-BAE6-D09B91CD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A7FA2-CD5A-4C45-81DB-C9D26799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060CC-367F-4303-B135-3A05288D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575-D3E0-47C4-8D58-2B17DEFE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1CCB0-7989-4962-B42F-D7DD20C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BCFDF-3E97-44BE-AEA4-BE3C8B60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48AB3-EF51-42E0-B959-3CC28E68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97B22-5BC9-4DB7-872A-66820B56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9B97E-E64F-465C-A60D-35DCF34C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06140-5E7A-4B92-9E45-78E79983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EA186-E087-48E1-9407-A9088C30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F523B-8038-4BC8-A315-C42C39C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0934A-B0BE-4830-87F6-CD379A89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56137-D924-4596-8166-89A79964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658-90EA-443C-884F-74BC182C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64D26-BD04-4D9D-BEF3-C52E35CE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75B7-2BDF-4062-AB16-6B428006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6704B-BD53-4EEB-8C8B-236FA580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1C5E6-10EB-43CB-A2F8-A89AF9A8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CDA31-8AF7-42CD-9992-21EDDE64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C30CE-F55A-4037-A183-635037D4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FAC90-2BC2-4967-838A-D85EE9C7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8E164-55AF-4008-B220-A695778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65714-25AF-4F61-A244-0D88CC9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32905-0CA7-47A6-B120-876D132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AE26-4531-425C-8D3F-1BA4178E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21881-475A-4A14-A13F-B2DC16B7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99228-E4E4-47CA-8CCF-EFCF1AB7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DE1CE-F25A-45E0-A344-D3C47458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1110A-DD83-4492-BBC1-E5669BB4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C0E8B-C773-4795-BC11-6F7852DE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FF3E0-5969-4C1F-A4E4-F9403D59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1C3B3-5C75-4543-98A6-1AB3DDCD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CE38C-F064-449E-A596-EEC8384D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EE6C0-185E-4F85-88BD-383FFAE4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1A71E-3400-4451-A191-15063CAB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6B50-3506-4186-880F-EECD3EDC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5C210-1651-4BAC-A966-E6D43496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ADFDE-B5C7-4812-BAD5-CB8E4E08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5C767-D0BA-479E-A43B-0DBD891D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D5493-6B0F-472A-AE10-80A2419F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4E453-A44D-4786-B758-C292BFEB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A4DF-E81E-4F90-918C-1B4A01F2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287C-7036-4B14-980C-014D18C7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2A7D-98DA-49BA-B285-2D0AE50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FFCF-EBFB-4BD2-ACB3-1E8EC20B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D9A4-5302-4585-B65E-4CFC4C28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3C2-AFD4-4264-B931-529D7755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A3B8-93B9-4280-BEE3-FC0FE65B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F7C-52C1-4515-810C-6479FC4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0B69-DA01-4A30-AFB9-B80C1CAE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334F-578D-490A-803D-8BF5C2B2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B971-FEF4-4CE0-9C4D-3D8C4407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8DB4-8E44-40B6-A028-CE5777D9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24CF-7B58-46BA-95A0-D39A7604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2F44-C053-4BE9-B6AB-B8DDE6FD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BAB4-7219-472B-8ED2-46BE7B06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54C7-8D4B-4A1D-B2A3-009EBABE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1FC-6654-4ED0-97BD-D397BD0A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5603-ED00-4095-A001-CDC474C2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629F-2468-44B9-8A84-DD6F986E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2649-E80E-4542-AE45-0519CDD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C74F-70A3-4AAA-AE53-56691898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0CA9-F1A4-48BA-BA9F-0EC14447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3748-3ED8-4E19-B390-6EBD33B1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1D29-2F48-49AA-8A55-EC76301E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2E10-DAD9-4397-9B5D-DBA2FD61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72EA-F161-498D-8953-B8053DF2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B7650-7FB9-4DEE-8D3D-F3581890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F6D-64B0-4FDA-B06C-131F8DCA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4DB55-64DE-4BFE-A7B1-F7AE8EF1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6A8D-5D78-4E2B-84F5-AAA44314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D621B-83FA-4547-8E29-F03AB5F0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F47C7-4315-48B8-A9A9-E2CCE13C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9EBB-D679-47F8-BBD7-8E8B368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8E9F-9039-46FD-A977-32182244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C6C3D-36ED-4D9D-8C5F-353D78E4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BC2C-60BB-4015-AD87-E95B2C1E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3125-10B2-48D3-88A1-2FDCEA29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0AF4-1F15-4C6D-8D2E-1789EC55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311-920D-43BF-B57C-CB20E7F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A0110-9BDD-4E13-8886-4A19D612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0544-B23B-47D2-BFF7-5315341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FF59-D9A7-43F0-AACE-B404A729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8B3B-43E8-4085-B8F0-74279910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17EE-12FF-4F99-88B6-F62C9148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C7BC-E8E8-492F-82A0-5BE846A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E5ED9-9FB5-4814-BC6D-497FB80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3D7F3-238F-4588-8A3C-79E4170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5402-2840-45A4-88CF-FEC016A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4E1C5-E828-42AD-9869-E48A490B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984-08F4-4C23-8A92-934BFCF5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4AD4-660A-4857-B1FA-1ABB58AD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9C9A-4EF8-4DE9-B37C-09F833AF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B144-633E-434B-AFB1-350A247C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66802-7C83-4C9B-92D5-231D33D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EA9D-DFCF-4CEF-9DE7-E5A3BA1A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A620-CD42-4952-B860-9B65740C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CF03-B977-46E4-B2B5-991F88AC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7B6AC-1F54-4615-9C7F-52F9D98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E761-5B50-49FF-8DB6-9F99D6A1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CDF9F-4525-4D96-B75C-7DA8263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A6C-E3A4-4205-8C17-1E11E5F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4E3FD-811A-4FF7-9491-688FA6CA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01B5C-DA85-41F2-9978-6258768D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9567-C6A8-480F-8772-9D9C042B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A4328-5B06-4603-A619-78B82DB0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02D9-9760-4690-A592-18B24A5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80CBE-5273-49E0-AD58-DF927B4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3A62-4FF9-4BF5-963B-36CC6554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7196-10A3-49C3-A1C5-D30FA8A0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6746-A34D-4A69-8709-BFDFF940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A138F-8702-4066-976D-3C3DE96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5FC-D865-4022-B857-B5D7589B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1B51-948D-40CC-8DA8-9B909983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0D945-88AC-4723-AC9C-EE16AAD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8E674-26CA-4A30-99CB-B6329F4F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90181-B19D-4B90-AFC3-0FDEBC9A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1A944-6F90-40D9-B33D-C46D7240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AE08D-48AF-4A4E-BA48-E95E343F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CBC9-213D-473E-A9CC-FDF0456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AAEE-29FD-4248-A958-EC34D27F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D35D6-B991-4CE4-B5E8-7CF6F0A9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9A8CE-371E-4F55-9964-3DDF05A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86A-081D-4B6B-B8FE-C6B41E25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E1AD3-D815-43E4-8100-EB40F77E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074AD-6115-4F62-BAA3-7E5BB90F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A06A1-A54F-44E2-99F8-BF6C4BBD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0F01D-4606-4F8B-B5CB-5F29AD5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68FBE-49D0-4AD2-A6F0-5D4910B0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860B1-2D6D-45A3-BC81-FC212FC4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F8881-1B27-4F9F-A7F1-B068DC3F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2C25C-0366-47AC-919C-24DC01BC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7484B-B7F5-479A-9660-2735B225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CC490-BA71-459B-9D5B-76DAACDC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423B-85EB-4C26-BEAA-14D4AABD5A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83C1-D0E6-4478-A6E8-326D87246D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D49-1355-47DB-9D0A-151257A344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D8D-8D3F-4DCF-A444-75CDDD849D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9608-E6E0-42B9-B487-0E4B7E6916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7360-C65F-4E48-AA75-CC9A56F00A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A32-B33B-494A-9974-069C494E11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6F79-B8C3-4BF0-BA16-1927ECF56A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E159-8E0D-48A9-ACF1-BC49149D1A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B43D-A9A7-4566-90AA-DAEA79F472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B78C-2A47-430C-9F08-BBB41FD7AE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C11A-926F-451B-95E1-89766282E2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your-scorpion.ru/wp-content/uploads/2012/09/3221.pn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Городской конкурс исследовательских работ школьников</a:t>
            </a:r>
            <a:br>
              <a:rPr sz="2000"/>
            </a:b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«Первые шаги в науке-2020»</a:t>
            </a:r>
            <a:br>
              <a:rPr sz="6600"/>
            </a:b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6" name="Rectangle 5"/>
          <p:cNvSpPr/>
          <p:nvPr/>
        </p:nvSpPr>
        <p:spPr>
          <a:xfrm flipV="1" rot="10800000">
            <a:off x="685800" y="200664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  <a:ea typeface="Calibri"/>
              </a:rPr>
              <a:t>Какого цвета свет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114800" y="4114800"/>
            <a:ext cx="457200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вто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Кобзев Дмит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Б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Лицей № 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учный руководит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бикова Светлана Никола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Прямоугольник 6"/>
          <p:cNvGrpSpPr/>
          <p:nvPr/>
        </p:nvGrpSpPr>
        <p:grpSpPr>
          <a:xfrm>
            <a:off x="2457360" y="6168960"/>
            <a:ext cx="3009960" cy="609840"/>
            <a:chOff x="2457360" y="6168960"/>
            <a:chExt cx="3009960" cy="609840"/>
          </a:xfrm>
        </p:grpSpPr>
        <p:pic>
          <p:nvPicPr>
            <p:cNvPr id="509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2457360" y="6168960"/>
              <a:ext cx="30099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51460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Кемерово-20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1" name="Рисунок 5" descr="C:\Users\Анатолий\Desktop\Свет\depositphotos-178659386-l-2015.jpg"/>
          <p:cNvPicPr/>
          <p:nvPr/>
        </p:nvPicPr>
        <p:blipFill>
          <a:blip r:embed="rId2"/>
          <a:stretch/>
        </p:blipFill>
        <p:spPr>
          <a:xfrm>
            <a:off x="1523880" y="3276720"/>
            <a:ext cx="318132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Солнечный свет представляет собой набор фотонов полного спектра оттенков цвета, которые «разделены» на цвета радуги — красный, оранжевый, желтый, зелёный, голубой, синий, фиолетовый. А сумма этих цветов дает белый цвет. </a:t>
            </a:r>
            <a:br>
              <a:rPr sz="2400"/>
            </a:b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 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32" name="Picture 1" descr="B:\СОХРАНЯТЬ ЗДЕСЬ\skorost-sveta-v2.orig.jpg"/>
          <p:cNvPicPr/>
          <p:nvPr/>
        </p:nvPicPr>
        <p:blipFill>
          <a:blip r:embed="rId1"/>
          <a:stretch/>
        </p:blipFill>
        <p:spPr>
          <a:xfrm>
            <a:off x="380880" y="1981080"/>
            <a:ext cx="8610840" cy="47246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3" descr="http://www.maidenprint.ru/wp-content/uploads/2017/05/svet-1024x336.jpg"/>
          <p:cNvPicPr/>
          <p:nvPr/>
        </p:nvPicPr>
        <p:blipFill>
          <a:blip r:embed="rId2"/>
          <a:srcRect l="0" t="0" r="20703" b="0"/>
          <a:stretch/>
        </p:blipFill>
        <p:spPr>
          <a:xfrm>
            <a:off x="2209680" y="4724280"/>
            <a:ext cx="46609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По стопам Ньютона</a:t>
            </a:r>
            <a:br>
              <a:rPr sz="4000"/>
            </a:b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 Narrow"/>
              </a:rPr>
              <a:t>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Arial Narrow"/>
              </a:rPr>
              <a:t>Опыт 1.1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орудов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прозрачный стакан, лист белой бумаги, солнечный с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Рисунок 3" descr="F:\школа\НПК 2018\НИР Кобзев Радуга 2 кл\Для 1 опыта.JPG"/>
          <p:cNvPicPr/>
          <p:nvPr/>
        </p:nvPicPr>
        <p:blipFill>
          <a:blip r:embed="rId1"/>
          <a:stretch/>
        </p:blipFill>
        <p:spPr>
          <a:xfrm>
            <a:off x="990720" y="2209680"/>
            <a:ext cx="3057480" cy="434340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4" descr="C:\Users\Анатолий\Desktop\дима и радуга\крупнее.JPG"/>
          <p:cNvPicPr/>
          <p:nvPr/>
        </p:nvPicPr>
        <p:blipFill>
          <a:blip r:embed="rId2"/>
          <a:stretch/>
        </p:blipFill>
        <p:spPr>
          <a:xfrm>
            <a:off x="4267080" y="3276720"/>
            <a:ext cx="4467240" cy="32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B:\СОХРАНЯТЬ ЗДЕСЬ\3HIJ17.jpg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 Narrow"/>
              </a:rPr>
              <a:t> </a:t>
            </a: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Narrow"/>
              </a:rPr>
              <a:t>Опыт 1.2</a:t>
            </a:r>
            <a:br>
              <a:rPr sz="40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Narrow"/>
              </a:rPr>
              <a:t>Оборудование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Narrow"/>
              </a:rPr>
              <a:t>: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Narrow"/>
              </a:rPr>
              <a:t>прозрачный стакан с водой, </a:t>
            </a:r>
            <a:br>
              <a:rPr sz="28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Narrow"/>
              </a:rPr>
              <a:t> лист белой бумаги, свет от фонарика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40" name="Рисунок 6" descr="C:\Users\Анатолий\Desktop\дима и радуга\Новая папка\DSC03333.JPG"/>
          <p:cNvPicPr/>
          <p:nvPr/>
        </p:nvPicPr>
        <p:blipFill>
          <a:blip r:embed="rId2"/>
          <a:stretch/>
        </p:blipFill>
        <p:spPr>
          <a:xfrm>
            <a:off x="380880" y="1752480"/>
            <a:ext cx="5639040" cy="365760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8" descr=""/>
          <p:cNvPicPr/>
          <p:nvPr/>
        </p:nvPicPr>
        <p:blipFill>
          <a:blip r:embed="rId3"/>
          <a:stretch/>
        </p:blipFill>
        <p:spPr>
          <a:xfrm>
            <a:off x="6172200" y="1752480"/>
            <a:ext cx="2400480" cy="35053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"/>
          <p:cNvSpPr/>
          <p:nvPr/>
        </p:nvSpPr>
        <p:spPr>
          <a:xfrm>
            <a:off x="-70560" y="74880"/>
            <a:ext cx="92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источник света и стакан с водой, я выяснил, что свет представляет собой смесь всех цветов спект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Arial Narrow"/>
              </a:rPr>
              <a:t>Опыт 1.3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44" name="Содержимое 3" descr="C:\Users\Анатолий\Desktop\Свет\фото\20200127_194858.jpg"/>
          <p:cNvPicPr/>
          <p:nvPr/>
        </p:nvPicPr>
        <p:blipFill>
          <a:blip r:embed="rId1"/>
          <a:stretch/>
        </p:blipFill>
        <p:spPr>
          <a:xfrm>
            <a:off x="1143000" y="1219320"/>
            <a:ext cx="3429000" cy="4419360"/>
          </a:xfrm>
          <a:prstGeom prst="rect">
            <a:avLst/>
          </a:prstGeom>
          <a:ln w="0">
            <a:noFill/>
          </a:ln>
        </p:spPr>
      </p:pic>
      <p:grpSp>
        <p:nvGrpSpPr>
          <p:cNvPr id="545" name="Прямоугольник 4"/>
          <p:cNvGrpSpPr/>
          <p:nvPr/>
        </p:nvGrpSpPr>
        <p:grpSpPr>
          <a:xfrm>
            <a:off x="212760" y="5619600"/>
            <a:ext cx="8723160" cy="1105200"/>
            <a:chOff x="212760" y="5619600"/>
            <a:chExt cx="8723160" cy="1105200"/>
          </a:xfrm>
        </p:grpSpPr>
        <p:pic>
          <p:nvPicPr>
            <p:cNvPr id="54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12760" y="5619600"/>
              <a:ext cx="87231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28600" y="5638680"/>
              <a:ext cx="86868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</a:rPr>
                <a:t>Вывод</a:t>
              </a:r>
              <a:r>
                <a:rPr b="0" lang="ru-RU" sz="2400" spc="-1" strike="noStrike">
                  <a:solidFill>
                    <a:srgbClr val="002060"/>
                  </a:solidFill>
                  <a:latin typeface="Times New Roman"/>
                </a:rPr>
                <a:t>: Свет представляет собой смесь всех цветов спектр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8" name="Picture 9" descr="https://cdn.pixabay.com/photo/2015/06/28/14/10/soap-bubble-824556_1280.jpg"/>
          <p:cNvPicPr/>
          <p:nvPr/>
        </p:nvPicPr>
        <p:blipFill>
          <a:blip r:embed="rId3"/>
          <a:stretch/>
        </p:blipFill>
        <p:spPr>
          <a:xfrm>
            <a:off x="5029200" y="2057400"/>
            <a:ext cx="36576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Опыт 2.  Обратны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09480" y="609480"/>
            <a:ext cx="830592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свет состоит из семи цветов, то семь цветов должны дать белый цвет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ыво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т кажется белым, но он состоит из семи цветов радуги, то есть спек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Рисунок 3" descr="C:\Users\Анатолий\Desktop\Свет\20200123_204115.jpg"/>
          <p:cNvPicPr/>
          <p:nvPr/>
        </p:nvPicPr>
        <p:blipFill>
          <a:blip r:embed="rId1"/>
          <a:stretch/>
        </p:blipFill>
        <p:spPr>
          <a:xfrm>
            <a:off x="1219320" y="1523880"/>
            <a:ext cx="3124080" cy="40388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4" descr="C:\Users\Анатолий\Desktop\Свет\20200123_204013.jpg"/>
          <p:cNvPicPr/>
          <p:nvPr/>
        </p:nvPicPr>
        <p:blipFill>
          <a:blip r:embed="rId2"/>
          <a:stretch/>
        </p:blipFill>
        <p:spPr>
          <a:xfrm>
            <a:off x="4800600" y="1523880"/>
            <a:ext cx="3276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Вывод</a:t>
            </a: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: У света есть цвет и не один. Он состоит из семи цветов радуги (спектра).</a:t>
            </a:r>
            <a:br>
              <a:rPr sz="3600"/>
            </a:b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54" name="Содержимое 3" descr="d0e64f7e0e41cfb5c076a8cfd6a3bd62.jpeg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16"/>
          <p:cNvPicPr/>
          <p:nvPr/>
        </p:nvPicPr>
        <p:blipFill>
          <a:blip r:embed="rId1"/>
          <a:stretch/>
        </p:blipFill>
        <p:spPr>
          <a:xfrm>
            <a:off x="609480" y="1981080"/>
            <a:ext cx="2540160" cy="16639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17"/>
          <p:cNvPicPr/>
          <p:nvPr/>
        </p:nvPicPr>
        <p:blipFill>
          <a:blip r:embed="rId2"/>
          <a:stretch/>
        </p:blipFill>
        <p:spPr>
          <a:xfrm>
            <a:off x="3581280" y="2514600"/>
            <a:ext cx="1905120" cy="1251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18"/>
          <p:cNvPicPr/>
          <p:nvPr/>
        </p:nvPicPr>
        <p:blipFill>
          <a:blip r:embed="rId3"/>
          <a:stretch/>
        </p:blipFill>
        <p:spPr>
          <a:xfrm>
            <a:off x="380880" y="3657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18"/>
          <p:cNvPicPr/>
          <p:nvPr/>
        </p:nvPicPr>
        <p:blipFill>
          <a:blip r:embed="rId4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12"/>
          <p:cNvPicPr/>
          <p:nvPr/>
        </p:nvPicPr>
        <p:blipFill>
          <a:blip r:embed="rId5"/>
          <a:stretch/>
        </p:blipFill>
        <p:spPr>
          <a:xfrm>
            <a:off x="0" y="0"/>
            <a:ext cx="1905120" cy="1212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7" descr="9"/>
          <p:cNvPicPr/>
          <p:nvPr/>
        </p:nvPicPr>
        <p:blipFill>
          <a:blip r:embed="rId6"/>
          <a:stretch/>
        </p:blipFill>
        <p:spPr>
          <a:xfrm>
            <a:off x="3048120" y="3886200"/>
            <a:ext cx="1904760" cy="27687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3"/>
          <p:cNvPicPr/>
          <p:nvPr/>
        </p:nvPicPr>
        <p:blipFill>
          <a:blip r:embed="rId7"/>
          <a:stretch/>
        </p:blipFill>
        <p:spPr>
          <a:xfrm>
            <a:off x="6629400" y="342900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9" descr="4"/>
          <p:cNvPicPr/>
          <p:nvPr/>
        </p:nvPicPr>
        <p:blipFill>
          <a:blip r:embed="rId8"/>
          <a:stretch/>
        </p:blipFill>
        <p:spPr>
          <a:xfrm>
            <a:off x="5562720" y="5181480"/>
            <a:ext cx="1904760" cy="1285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risII"/>
          <p:cNvPicPr/>
          <p:nvPr/>
        </p:nvPicPr>
        <p:blipFill>
          <a:blip r:embed="rId9"/>
          <a:stretch/>
        </p:blipFill>
        <p:spPr>
          <a:xfrm>
            <a:off x="4952880" y="304920"/>
            <a:ext cx="3505320" cy="1942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1" descr="Картинка 15 из 1743"/>
          <p:cNvPicPr/>
          <p:nvPr/>
        </p:nvPicPr>
        <p:blipFill>
          <a:blip r:embed="rId10"/>
          <a:stretch/>
        </p:blipFill>
        <p:spPr>
          <a:xfrm>
            <a:off x="2590920" y="380880"/>
            <a:ext cx="1065240" cy="1143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Картинка 11 из 768"/>
          <p:cNvPicPr/>
          <p:nvPr/>
        </p:nvPicPr>
        <p:blipFill>
          <a:blip r:embed="rId11"/>
          <a:stretch/>
        </p:blipFill>
        <p:spPr>
          <a:xfrm>
            <a:off x="457200" y="5489640"/>
            <a:ext cx="15764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566" name="Прямоугольник 12"/>
          <p:cNvGrpSpPr/>
          <p:nvPr/>
        </p:nvGrpSpPr>
        <p:grpSpPr>
          <a:xfrm>
            <a:off x="2073240" y="2603520"/>
            <a:ext cx="6364440" cy="1127160"/>
            <a:chOff x="2073240" y="2603520"/>
            <a:chExt cx="6364440" cy="1127160"/>
          </a:xfrm>
        </p:grpSpPr>
        <p:pic>
          <p:nvPicPr>
            <p:cNvPr id="567" name="Прямоугольник 12" descr=""/>
            <p:cNvPicPr/>
            <p:nvPr/>
          </p:nvPicPr>
          <p:blipFill>
            <a:blip r:embed="rId12"/>
            <a:stretch/>
          </p:blipFill>
          <p:spPr>
            <a:xfrm>
              <a:off x="2073240" y="2603520"/>
              <a:ext cx="6364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133720" y="2743200"/>
              <a:ext cx="62481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Спасибо за внимание!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https://storge.pic2.me/upload/926/5da2279f7b10d.jpg"/>
          <p:cNvPicPr/>
          <p:nvPr/>
        </p:nvPicPr>
        <p:blipFill>
          <a:blip r:embed="rId1"/>
          <a:stretch/>
        </p:blipFill>
        <p:spPr>
          <a:xfrm>
            <a:off x="309600" y="0"/>
            <a:ext cx="8986680" cy="6629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151920" y="304920"/>
            <a:ext cx="9068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Солнце, небо, звезд сиянье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Море в блеске голубом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Всю природу мирозданья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 Narrow"/>
              </a:rPr>
              <a:t>Мы лишь в свете познаем…</a:t>
            </a:r>
            <a:br>
              <a:rPr sz="66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 Narrow"/>
              </a:rPr>
              <a:t>Цель исследования: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определить есть ли у света цвет? </a:t>
            </a:r>
            <a:br>
              <a:rPr sz="3600"/>
            </a:b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и исследова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 литературные источники по теме «све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ить явления разложения света на цвета в прир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, возможно, ли увидеть какого цвета свет в домашни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ть выводы по проделанной раб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исследования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цветовой гаммы с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" descr="B:\СОХРАНЯТЬ ЗДЕСЬ\unnamed.jpg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837720" y="1523520"/>
            <a:ext cx="6782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9e"/>
                </a:solidFill>
                <a:uFillTx/>
                <a:latin typeface="Arial"/>
              </a:rPr>
              <a:t>Гипотеза</a:t>
            </a:r>
            <a:r>
              <a:rPr b="0" lang="ru-RU" sz="4800" spc="-1" strike="noStrike">
                <a:solidFill>
                  <a:srgbClr val="ffff9e"/>
                </a:solidFill>
                <a:latin typeface="Arial"/>
              </a:rPr>
              <a:t>: </a:t>
            </a:r>
            <a:r>
              <a:rPr b="0" lang="ru-RU" sz="4800" spc="-1" strike="noStrike">
                <a:solidFill>
                  <a:srgbClr val="001966"/>
                </a:solidFill>
                <a:latin typeface="Arial"/>
              </a:rPr>
              <a:t>Свет – это смесь различных цвет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533160" y="38052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ве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любое оптическое излучение, то есть такое электромагнитное излучение, длины волн которого лежат в диапазоне с приблизительными границами от единиц нанометров до десятых долей миллиме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икипед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 -  лучистая энергия, делающая окружающий мир видим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И Ожегов. Толковый словарь рус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Рисунок 4" descr="how-to-unblock-wikipedia.png"/>
          <p:cNvPicPr/>
          <p:nvPr/>
        </p:nvPicPr>
        <p:blipFill>
          <a:blip r:embed="rId1"/>
          <a:stretch/>
        </p:blipFill>
        <p:spPr>
          <a:xfrm>
            <a:off x="0" y="4983120"/>
            <a:ext cx="3570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" descr="B:\СОХРАНЯТЬ ЗДЕСЬ\reality-NEW-e1510081497944.jpg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47960" y="3428640"/>
            <a:ext cx="4267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В 1905 г. физик Альберт Эйнштейн доказал, что свет обладает свойствами одновременно и частиц, и волн. После этого открытия стали понятны многие явления, которые до этого никак не могли объяснить. Свет мчится с самой большой скоростью, какая только возможна в природе: 300 000 км в секунду.</a:t>
            </a:r>
            <a:br>
              <a:rPr sz="2800"/>
            </a:b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" descr="B:\СОХРАНЯТЬ ЗДЕСЬ\ad41ffd4b721c87f031c141e91f69abe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6294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487692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Свет состоит из бесчисленного количества маленьких частиц, называемых фотонами. Фотоны обладают различной длиной волны в зависимости от их цвета: фотоны голубого света имеют более короткую длину волны, чем фотоны красного света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525" name="Рисунок 4" descr="http://your-scorpion.ru/wp-content/uploads/2012/09/3221-300x141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191120"/>
            <a:ext cx="327636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Прямоугольник 4"/>
          <p:cNvSpPr/>
          <p:nvPr/>
        </p:nvSpPr>
        <p:spPr>
          <a:xfrm>
            <a:off x="914400" y="4800600"/>
            <a:ext cx="7772400" cy="121932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1" descr="B:\СОХРАНЯТЬ ЗДЕСЬ\newton_02.jp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Еще в 1666 году английский физик Исаак Ньютон доказал, что обычный белый свет – это смесь лучей разного цвета. Он первым доказал, что солнечный луч многоцветный.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Двойная радуга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19160" y="388620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Самым ярким и занятным проявлением разложения спектра в природе (дисперсии)является радуга. 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бинет46</dc:creator>
  <dc:description/>
  <dc:language>en-US</dc:language>
  <cp:lastModifiedBy>Кабинет46</cp:lastModifiedBy>
  <dcterms:modified xsi:type="dcterms:W3CDTF">2020-02-17T07:09:50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