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5F2-F61D-475B-B8F5-F10700C8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6A2-964C-4220-8200-0A8A271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8F8F5-3A0C-40F0-B42F-BEEEF3E7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9FCD4-D613-4741-9801-7215C5AA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59A49-0464-4C2D-99BB-29AA60A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68E8F-0C8F-4B48-A764-EF3ED1D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7B7D3-EF6C-4965-AA64-18032F5E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7B8A8-41AD-4561-AECB-D2DF520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5A1D7-8DB0-4712-B3B4-5252E070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25057-3FBF-4EE4-BA35-E70471F8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AF18C-53FD-4D4E-8FAD-91199DDD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F2BA5-2CCD-4D60-BCBE-A21B1165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126-365C-4507-B9B2-3D8097D7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9BDCD-2B53-40DD-AF36-443B8C87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8EB14-F559-47B5-9467-3F104B8F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BAC6-47B0-495A-A62A-828AFF9B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B1106-BC7F-40A4-BDFF-453A0FE9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706BD-8ECF-487B-A691-E142B19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33E77-1B9E-4F48-9551-213270D3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8C08F-64D1-4431-BC98-5FA8C25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A0027-D5EA-4F40-8293-F840B58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20261-5E4A-4DF6-8D34-FECFC6D3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FF1F9-10BE-4073-8D76-A22E4FA9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A5B-01AC-44B6-BE91-5B62AA66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0F521-3389-47A5-9085-80DFF72D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F8808-D0D2-4E79-B159-98AD0270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529CA-7EAB-4116-B803-95D1CD9A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DC434-66E1-4029-8CA7-B902EA9C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EB531-FFD5-4BF2-8CEF-65DFA7D3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495F1-DBC7-4E9A-B8DA-CB24D48B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089CE-E1F1-42CB-8D90-6397BDA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655DE-9243-432B-99CC-BBB05E6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CF7DF-7305-42E8-81E4-92DD396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E704-C7A8-4F23-9843-1B0218AD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3614-5AF3-4F83-AE96-4E27A67C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0E5FE-3DE6-4E63-8725-8695ACB6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AEC85-934D-4613-89B5-9FA7F7CF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8782-50E4-420C-9281-87C05632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0E797-FC64-4B6C-A963-8656B690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8825C-EFCF-4081-B806-2436A419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A2AA5-ED6A-45D2-98A2-3931698A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B91F8-29F2-47F8-A4D6-DEA826E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37E82-DEBD-4D17-87FC-8860844B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7C5CB-B08C-4EC9-9896-1C108C1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30838-916F-48F4-8047-42FE9BE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CD20-A161-40BF-AEB0-FFDEA699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42DA2-E94F-4FC7-97ED-5F5D9A5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ACA6E-6DB5-4400-AA7C-6F1D93C9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6FABB-215B-4261-AF53-410E746D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E6D51-AB43-4A33-9429-6BA34690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A72CB-5B36-45AF-B758-68A3A618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119-959B-4181-A88B-304FBDEB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C150-B8AB-44BF-8F91-9765E47F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9DD9-0D62-47E2-B10B-1A02BA5B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FA5C-71B3-4768-A7AE-107032AF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FFE5-E4A7-4353-9074-7C03C1E1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701-7248-46F9-BC5E-D8E70E1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4531-6355-4313-9231-642778E3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AF9C-0A5A-4229-BF5A-F0BE3EAE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1955-2307-4DB9-921B-E57C0FBE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258B-AAAD-466A-8528-DC9DD40D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B425-C938-4A9A-8037-0ABA99A7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8EE3-89C7-49D5-ABF3-6A97DC16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0ED3-395B-4A08-AF7C-28AC4D32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F0EF-D451-433E-B723-843679E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8E68-A85C-4904-9CEB-5BD7BF0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AF46-4092-40F0-9272-C4E4AE8B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159-5A6F-4362-8BD0-E8CA0985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8BCA-F5D6-47FD-8173-72F29899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F366-EF78-4F7C-9276-E1FD390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58B2-D2F1-4325-9795-55859A8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3109-1C5D-4549-B250-4235CF0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1585-6646-47EB-9467-61F8C8C6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43A1-6706-4D4A-974A-ACA3D19B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6A9B-1372-44E7-BB43-10EC5976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BF7B-D3A8-4061-9350-8196C7C5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A949-9E25-472F-9B2E-61C8A89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A933-08E1-4A9B-BC20-3B9F9A87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66C-D8DD-423D-A145-FA235651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65E74-5F1B-47B1-8E5F-C87EA45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45F2-E0A2-4FA6-BB0F-CD5E592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F6EB-8BC8-4436-8DE7-D067EA4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F3EB-94C2-4513-9DEA-D922496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54A7-DEAB-4E9F-89C8-E141EB18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098C-A652-49FE-8FF0-4D7C572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2C07-63D5-4994-BAB2-83659B4A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219B-AF08-4137-AA7A-0D3736BB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E637-50DA-4639-AC7C-AA2511E1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CA1F-2FDC-4C4A-821C-6ED8EB6B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762-0CF9-4A28-B9C3-EEADEF8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14AC8-5C8E-4877-BFEA-74F1DA8F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BC1B-BF42-4B42-A033-590E0434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78E11-BE4F-4A33-9066-32A8D442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AF09-36C6-492C-9553-C39502E1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30E6-0112-43BE-8304-D34BBC84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5AD2A-1EBB-4819-B3B5-D752114C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44BA2-5174-432B-B934-04C7443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B1E0-DDA3-4EE8-BEF7-281E811A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291A-FD67-4973-9E40-57196703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FDC7A-CD63-42FF-8CC2-B7EED4DF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BC3-2BBD-4124-AB49-B511ACEE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3CBF0-2684-4090-9CCC-34259EF0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33B59-60B1-43A1-B1BD-4BA720B8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3D66-25FB-4E00-9BBE-A52F591D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B682-90D7-4252-BD5C-657B32E2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B2BC-3B7E-4C13-83C9-03BC500C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84253-8EF3-4AD2-AA78-07D0F60C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8549-A176-4BB0-B442-CD826077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4DBFC-0F73-41B7-8597-FFB125AA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C11F-F232-4EDC-BE16-0C5BBA63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16740-186C-4332-8898-EC32D3D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9EA-92D1-47B7-8680-CBB2037C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E0425-A9BE-4F5E-905D-18CC2B2A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5626-BD36-4092-8D8E-93BC1E16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C24F-B3E9-4C3D-8ECE-2BAF610A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ACD9C-928A-4C7D-8DE4-37FDD5C2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35C59-DA76-4D61-AA42-A43CEEE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97D72-3744-43D4-A4FC-41D7D8C7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4E98-2A56-40BF-925B-0C98BCF7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A1A0-D9BA-4B86-BDAC-1844A5C6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562C5-6744-4A49-8E94-F73BD22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45349-710F-4C42-AAF6-D97C60F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C0F-73CC-4F20-BAF3-9342EFEF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FD5E3-3915-4153-A44B-CBDE6B3C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810F-6DC0-4C1F-87A1-7188CCF0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8962-C62F-413C-B928-775347EE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0D98-2516-4E1A-971D-138B9853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9211D-46D0-47D2-8A09-4195CA27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1AB4-FA34-4FE4-AF9C-42AC909F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207D2-85AA-402A-B332-7E3EAE99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C26C3-449E-41D8-A87B-7593A9E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AA2A9-B6DF-4333-BC13-F70BC0FE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7E77-31D0-4C72-991F-48B4D76D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071-24F3-4BBF-8140-995E9309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217F-AC71-41F0-93A3-D476E188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738E6-77BD-4ADF-9201-A2C8E2CA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04709-D88C-4C3A-B5BD-E329966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29E68-715B-43F0-8C3B-76EF91EB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61A89-671A-42C2-8962-6CDB42D8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DCB51-0D74-4997-ADDF-248BFE3E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C941-84F4-4DF9-AC69-8E3397F3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80C1A-BA62-46B7-9101-30714C97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2C989-C647-4913-8964-10389002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BD6DB-E654-4C4D-843D-A6BA87EA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BADB-0A38-47FD-B68B-5B479924F0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A1AC-200B-4111-9C2B-4171D980BC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C02D-CEEE-4656-BB2C-F6809F6195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690C-222C-436C-9F67-2B557B8EA6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409-F928-41E5-B81D-25F313E795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3ACF-15DC-4CDA-98AE-3C899CDA45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77EA-F443-4D85-81DD-6C32365BD2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77A5-6028-4F92-B9A8-F15F677376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23C5-B047-494B-B056-945B4C6DEA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A79C-79F1-4CE5-94E1-F2D0E7367E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AB7B-43DC-4CA4-9732-1AD8525171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F7FA-5A77-4E0F-BBC7-8CC244147C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your-scorpion.ru/wp-content/uploads/2012/09/3221.pn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Городской конкурс исследовательских работ школьников</a:t>
            </a:r>
            <a:br>
              <a:rPr sz="2000"/>
            </a:b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«Первые шаги в науке-2020»</a:t>
            </a:r>
            <a:br>
              <a:rPr sz="6600"/>
            </a:b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6" name="Rectangle 5"/>
          <p:cNvSpPr/>
          <p:nvPr/>
        </p:nvSpPr>
        <p:spPr>
          <a:xfrm flipV="1" rot="10800000">
            <a:off x="685800" y="200664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  <a:ea typeface="Calibri"/>
              </a:rPr>
              <a:t>Какого цвета свет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114800" y="4114800"/>
            <a:ext cx="45720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вто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Кобзев Дмит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Б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Лицей № 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учный руководит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бикова Светлана Никола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Прямоугольник 6"/>
          <p:cNvGrpSpPr/>
          <p:nvPr/>
        </p:nvGrpSpPr>
        <p:grpSpPr>
          <a:xfrm>
            <a:off x="2457360" y="6168960"/>
            <a:ext cx="3009960" cy="609840"/>
            <a:chOff x="2457360" y="6168960"/>
            <a:chExt cx="3009960" cy="609840"/>
          </a:xfrm>
        </p:grpSpPr>
        <p:pic>
          <p:nvPicPr>
            <p:cNvPr id="509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2457360" y="6168960"/>
              <a:ext cx="30099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51460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Кемерово-20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1" name="Рисунок 5" descr="C:\Users\Анатолий\Desktop\Свет\depositphotos-178659386-l-2015.jpg"/>
          <p:cNvPicPr/>
          <p:nvPr/>
        </p:nvPicPr>
        <p:blipFill>
          <a:blip r:embed="rId2"/>
          <a:stretch/>
        </p:blipFill>
        <p:spPr>
          <a:xfrm>
            <a:off x="1523880" y="3276720"/>
            <a:ext cx="318132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Солнечный свет представляет собой набор фотонов полного спектра оттенков цвета, которые «разделены» на цвета радуги — красный, оранжевый, желтый, зелёный, голубой, синий, фиолетовый. А сумма этих цветов дает белый цвет. </a:t>
            </a:r>
            <a:br>
              <a:rPr sz="2400"/>
            </a:b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 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32" name="Picture 1" descr="B:\СОХРАНЯТЬ ЗДЕСЬ\skorost-sveta-v2.orig.jpg"/>
          <p:cNvPicPr/>
          <p:nvPr/>
        </p:nvPicPr>
        <p:blipFill>
          <a:blip r:embed="rId1"/>
          <a:stretch/>
        </p:blipFill>
        <p:spPr>
          <a:xfrm>
            <a:off x="380880" y="1981080"/>
            <a:ext cx="8610840" cy="47246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3" descr="http://www.maidenprint.ru/wp-content/uploads/2017/05/svet-1024x336.jpg"/>
          <p:cNvPicPr/>
          <p:nvPr/>
        </p:nvPicPr>
        <p:blipFill>
          <a:blip r:embed="rId2"/>
          <a:srcRect l="0" t="0" r="20703" b="0"/>
          <a:stretch/>
        </p:blipFill>
        <p:spPr>
          <a:xfrm>
            <a:off x="2209680" y="4724280"/>
            <a:ext cx="46609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По стопам Ньютона</a:t>
            </a:r>
            <a:br>
              <a:rPr sz="4000"/>
            </a:b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 Narrow"/>
              </a:rPr>
              <a:t>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Arial Narrow"/>
              </a:rPr>
              <a:t>Опыт 1.1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орудов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прозрачный стакан, лист белой бумаги, солнечный с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Рисунок 3" descr="F:\школа\НПК 2018\НИР Кобзев Радуга 2 кл\Для 1 опыта.JPG"/>
          <p:cNvPicPr/>
          <p:nvPr/>
        </p:nvPicPr>
        <p:blipFill>
          <a:blip r:embed="rId1"/>
          <a:stretch/>
        </p:blipFill>
        <p:spPr>
          <a:xfrm>
            <a:off x="990720" y="2209680"/>
            <a:ext cx="3057480" cy="434340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4" descr="C:\Users\Анатолий\Desktop\дима и радуга\крупнее.JPG"/>
          <p:cNvPicPr/>
          <p:nvPr/>
        </p:nvPicPr>
        <p:blipFill>
          <a:blip r:embed="rId2"/>
          <a:stretch/>
        </p:blipFill>
        <p:spPr>
          <a:xfrm>
            <a:off x="4267080" y="3276720"/>
            <a:ext cx="446724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B:\СОХРАНЯТЬ ЗДЕСЬ\3HIJ17.jpg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 Narrow"/>
              </a:rPr>
              <a:t> </a:t>
            </a: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Narrow"/>
              </a:rPr>
              <a:t>Опыт 1.2</a:t>
            </a:r>
            <a:br>
              <a:rPr sz="40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Narrow"/>
              </a:rPr>
              <a:t>Оборудование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Narrow"/>
              </a:rPr>
              <a:t>: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Narrow"/>
              </a:rPr>
              <a:t>прозрачный стакан с водой, </a:t>
            </a:r>
            <a:br>
              <a:rPr sz="28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Narrow"/>
              </a:rPr>
              <a:t> лист белой бумаги, свет от фонарика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40" name="Рисунок 6" descr="C:\Users\Анатолий\Desktop\дима и радуга\Новая папка\DSC03333.JPG"/>
          <p:cNvPicPr/>
          <p:nvPr/>
        </p:nvPicPr>
        <p:blipFill>
          <a:blip r:embed="rId2"/>
          <a:stretch/>
        </p:blipFill>
        <p:spPr>
          <a:xfrm>
            <a:off x="380880" y="1752480"/>
            <a:ext cx="5639040" cy="365760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8" descr=""/>
          <p:cNvPicPr/>
          <p:nvPr/>
        </p:nvPicPr>
        <p:blipFill>
          <a:blip r:embed="rId3"/>
          <a:stretch/>
        </p:blipFill>
        <p:spPr>
          <a:xfrm>
            <a:off x="6172200" y="1752480"/>
            <a:ext cx="2400480" cy="35053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"/>
          <p:cNvSpPr/>
          <p:nvPr/>
        </p:nvSpPr>
        <p:spPr>
          <a:xfrm>
            <a:off x="-70560" y="74880"/>
            <a:ext cx="92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источник света и стакан с водой, я выяснил, что свет представляет собой смесь всех цветов спект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Arial Narrow"/>
              </a:rPr>
              <a:t>Опыт 1.3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44" name="Содержимое 3" descr="C:\Users\Анатолий\Desktop\Свет\фото\20200127_194858.jpg"/>
          <p:cNvPicPr/>
          <p:nvPr/>
        </p:nvPicPr>
        <p:blipFill>
          <a:blip r:embed="rId1"/>
          <a:stretch/>
        </p:blipFill>
        <p:spPr>
          <a:xfrm>
            <a:off x="1143000" y="1219320"/>
            <a:ext cx="3429000" cy="4419360"/>
          </a:xfrm>
          <a:prstGeom prst="rect">
            <a:avLst/>
          </a:prstGeom>
          <a:ln w="0">
            <a:noFill/>
          </a:ln>
        </p:spPr>
      </p:pic>
      <p:grpSp>
        <p:nvGrpSpPr>
          <p:cNvPr id="545" name="Прямоугольник 4"/>
          <p:cNvGrpSpPr/>
          <p:nvPr/>
        </p:nvGrpSpPr>
        <p:grpSpPr>
          <a:xfrm>
            <a:off x="212760" y="5619600"/>
            <a:ext cx="8723160" cy="1105200"/>
            <a:chOff x="212760" y="5619600"/>
            <a:chExt cx="8723160" cy="1105200"/>
          </a:xfrm>
        </p:grpSpPr>
        <p:pic>
          <p:nvPicPr>
            <p:cNvPr id="54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12760" y="5619600"/>
              <a:ext cx="87231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8600" y="5638680"/>
              <a:ext cx="86868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</a:rPr>
                <a:t>Вывод</a:t>
              </a:r>
              <a:r>
                <a:rPr b="0" lang="ru-RU" sz="2400" spc="-1" strike="noStrike">
                  <a:solidFill>
                    <a:srgbClr val="002060"/>
                  </a:solidFill>
                  <a:latin typeface="Times New Roman"/>
                </a:rPr>
                <a:t>: Свет представляет собой смесь всех цветов спектр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8" name="Picture 9" descr="https://cdn.pixabay.com/photo/2015/06/28/14/10/soap-bubble-824556_1280.jpg"/>
          <p:cNvPicPr/>
          <p:nvPr/>
        </p:nvPicPr>
        <p:blipFill>
          <a:blip r:embed="rId3"/>
          <a:stretch/>
        </p:blipFill>
        <p:spPr>
          <a:xfrm>
            <a:off x="5029200" y="2057400"/>
            <a:ext cx="36576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Опыт 2.  Обратны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09480" y="609480"/>
            <a:ext cx="830592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свет состоит из семи цветов, то семь цветов должны дать белый цвет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ыво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т кажется белым, но он состоит из семи цветов радуги, то есть спек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Рисунок 3" descr="C:\Users\Анатолий\Desktop\Свет\20200123_204115.jpg"/>
          <p:cNvPicPr/>
          <p:nvPr/>
        </p:nvPicPr>
        <p:blipFill>
          <a:blip r:embed="rId1"/>
          <a:stretch/>
        </p:blipFill>
        <p:spPr>
          <a:xfrm>
            <a:off x="1219320" y="1523880"/>
            <a:ext cx="3124080" cy="40388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4" descr="C:\Users\Анатолий\Desktop\Свет\20200123_204013.jpg"/>
          <p:cNvPicPr/>
          <p:nvPr/>
        </p:nvPicPr>
        <p:blipFill>
          <a:blip r:embed="rId2"/>
          <a:stretch/>
        </p:blipFill>
        <p:spPr>
          <a:xfrm>
            <a:off x="4800600" y="1523880"/>
            <a:ext cx="3276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Вывод</a:t>
            </a: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: У света есть цвет и не один. Он состоит из семи цветов радуги (спектра).</a:t>
            </a:r>
            <a:br>
              <a:rPr sz="3600"/>
            </a:b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54" name="Содержимое 3" descr="d0e64f7e0e41cfb5c076a8cfd6a3bd62.jpeg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16"/>
          <p:cNvPicPr/>
          <p:nvPr/>
        </p:nvPicPr>
        <p:blipFill>
          <a:blip r:embed="rId1"/>
          <a:stretch/>
        </p:blipFill>
        <p:spPr>
          <a:xfrm>
            <a:off x="609480" y="1981080"/>
            <a:ext cx="2540160" cy="16639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17"/>
          <p:cNvPicPr/>
          <p:nvPr/>
        </p:nvPicPr>
        <p:blipFill>
          <a:blip r:embed="rId2"/>
          <a:stretch/>
        </p:blipFill>
        <p:spPr>
          <a:xfrm>
            <a:off x="3581280" y="2514600"/>
            <a:ext cx="1905120" cy="1251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18"/>
          <p:cNvPicPr/>
          <p:nvPr/>
        </p:nvPicPr>
        <p:blipFill>
          <a:blip r:embed="rId3"/>
          <a:stretch/>
        </p:blipFill>
        <p:spPr>
          <a:xfrm>
            <a:off x="380880" y="3657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18"/>
          <p:cNvPicPr/>
          <p:nvPr/>
        </p:nvPicPr>
        <p:blipFill>
          <a:blip r:embed="rId4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12"/>
          <p:cNvPicPr/>
          <p:nvPr/>
        </p:nvPicPr>
        <p:blipFill>
          <a:blip r:embed="rId5"/>
          <a:stretch/>
        </p:blipFill>
        <p:spPr>
          <a:xfrm>
            <a:off x="0" y="0"/>
            <a:ext cx="1905120" cy="1212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9"/>
          <p:cNvPicPr/>
          <p:nvPr/>
        </p:nvPicPr>
        <p:blipFill>
          <a:blip r:embed="rId6"/>
          <a:stretch/>
        </p:blipFill>
        <p:spPr>
          <a:xfrm>
            <a:off x="3048120" y="3886200"/>
            <a:ext cx="1904760" cy="27687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3"/>
          <p:cNvPicPr/>
          <p:nvPr/>
        </p:nvPicPr>
        <p:blipFill>
          <a:blip r:embed="rId7"/>
          <a:stretch/>
        </p:blipFill>
        <p:spPr>
          <a:xfrm>
            <a:off x="6629400" y="342900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4"/>
          <p:cNvPicPr/>
          <p:nvPr/>
        </p:nvPicPr>
        <p:blipFill>
          <a:blip r:embed="rId8"/>
          <a:stretch/>
        </p:blipFill>
        <p:spPr>
          <a:xfrm>
            <a:off x="5562720" y="5181480"/>
            <a:ext cx="1904760" cy="1285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risII"/>
          <p:cNvPicPr/>
          <p:nvPr/>
        </p:nvPicPr>
        <p:blipFill>
          <a:blip r:embed="rId9"/>
          <a:stretch/>
        </p:blipFill>
        <p:spPr>
          <a:xfrm>
            <a:off x="4952880" y="304920"/>
            <a:ext cx="3505320" cy="1942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1" descr="Картинка 15 из 1743"/>
          <p:cNvPicPr/>
          <p:nvPr/>
        </p:nvPicPr>
        <p:blipFill>
          <a:blip r:embed="rId10"/>
          <a:stretch/>
        </p:blipFill>
        <p:spPr>
          <a:xfrm>
            <a:off x="2590920" y="380880"/>
            <a:ext cx="1065240" cy="1143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Картинка 11 из 768"/>
          <p:cNvPicPr/>
          <p:nvPr/>
        </p:nvPicPr>
        <p:blipFill>
          <a:blip r:embed="rId11"/>
          <a:stretch/>
        </p:blipFill>
        <p:spPr>
          <a:xfrm>
            <a:off x="457200" y="5489640"/>
            <a:ext cx="15764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566" name="Прямоугольник 12"/>
          <p:cNvGrpSpPr/>
          <p:nvPr/>
        </p:nvGrpSpPr>
        <p:grpSpPr>
          <a:xfrm>
            <a:off x="2073240" y="2603520"/>
            <a:ext cx="6364440" cy="1127160"/>
            <a:chOff x="2073240" y="2603520"/>
            <a:chExt cx="6364440" cy="1127160"/>
          </a:xfrm>
        </p:grpSpPr>
        <p:pic>
          <p:nvPicPr>
            <p:cNvPr id="567" name="Прямоугольник 12" descr=""/>
            <p:cNvPicPr/>
            <p:nvPr/>
          </p:nvPicPr>
          <p:blipFill>
            <a:blip r:embed="rId12"/>
            <a:stretch/>
          </p:blipFill>
          <p:spPr>
            <a:xfrm>
              <a:off x="2073240" y="2603520"/>
              <a:ext cx="6364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133720" y="2743200"/>
              <a:ext cx="62481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Спасибо за внимание!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https://storge.pic2.me/upload/926/5da2279f7b10d.jpg"/>
          <p:cNvPicPr/>
          <p:nvPr/>
        </p:nvPicPr>
        <p:blipFill>
          <a:blip r:embed="rId1"/>
          <a:stretch/>
        </p:blipFill>
        <p:spPr>
          <a:xfrm>
            <a:off x="309600" y="0"/>
            <a:ext cx="8986680" cy="6629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151920" y="304920"/>
            <a:ext cx="9068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Солнце, небо, звезд сиянье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Море в блеске голубом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Всю природу мирозданья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Мы лишь в свете познаем…</a:t>
            </a:r>
            <a:br>
              <a:rPr sz="66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 Narrow"/>
              </a:rPr>
              <a:t>Цель исследования: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определить есть ли у света цвет? </a:t>
            </a:r>
            <a:br>
              <a:rPr sz="3600"/>
            </a:b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и исследова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 литературные источники по теме «све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явления разложения света на цвета в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, возможно, ли увидеть какого цвета свет в домашни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ть выводы по проделанной раб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исследования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цветовой гаммы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B:\СОХРАНЯТЬ ЗДЕСЬ\unnamed.jpg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837720" y="1523520"/>
            <a:ext cx="6782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9e"/>
                </a:solidFill>
                <a:uFillTx/>
                <a:latin typeface="Arial"/>
              </a:rPr>
              <a:t>Гипотеза</a:t>
            </a:r>
            <a:r>
              <a:rPr b="0" lang="ru-RU" sz="4800" spc="-1" strike="noStrike">
                <a:solidFill>
                  <a:srgbClr val="ffff9e"/>
                </a:solidFill>
                <a:latin typeface="Arial"/>
              </a:rPr>
              <a:t>: </a:t>
            </a:r>
            <a:r>
              <a:rPr b="0" lang="ru-RU" sz="4800" spc="-1" strike="noStrike">
                <a:solidFill>
                  <a:srgbClr val="001966"/>
                </a:solidFill>
                <a:latin typeface="Arial"/>
              </a:rPr>
              <a:t>Свет – это смесь различных цвет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533160" y="3805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ве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любое оптическое излучение, то есть такое электромагнитное излучение, длины волн которого лежат в диапазоне с приблизительными границами от единиц нанометров до десятых долей миллиме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икипед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 -  лучистая энергия, делающая окружающий мир видим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И Ожегов. Толковый словарь рус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Рисунок 4" descr="how-to-unblock-wikipedia.png"/>
          <p:cNvPicPr/>
          <p:nvPr/>
        </p:nvPicPr>
        <p:blipFill>
          <a:blip r:embed="rId1"/>
          <a:stretch/>
        </p:blipFill>
        <p:spPr>
          <a:xfrm>
            <a:off x="0" y="4983120"/>
            <a:ext cx="3570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B:\СОХРАНЯТЬ ЗДЕСЬ\reality-NEW-e1510081497944.jpg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47960" y="3428640"/>
            <a:ext cx="4267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В 1905 г. физик Альберт Эйнштейн доказал, что свет обладает свойствами одновременно и частиц, и волн. После этого открытия стали понятны многие явления, которые до этого никак не могли объяснить. Свет мчится с самой большой скоростью, какая только возможна в природе: 300 000 км в секунду.</a:t>
            </a:r>
            <a:br>
              <a:rPr sz="2800"/>
            </a:b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" descr="B:\СОХРАНЯТЬ ЗДЕСЬ\ad41ffd4b721c87f031c141e91f69abe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6294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487692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Свет состоит из бесчисленного количества маленьких частиц, называемых фотонами. Фотоны обладают различной длиной волны в зависимости от их цвета: фотоны голубого света имеют более короткую длину волны, чем фотоны красного света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25" name="Рисунок 4" descr="http://your-scorpion.ru/wp-content/uploads/2012/09/3221-300x141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191120"/>
            <a:ext cx="327636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4"/>
          <p:cNvSpPr/>
          <p:nvPr/>
        </p:nvSpPr>
        <p:spPr>
          <a:xfrm>
            <a:off x="914400" y="4800600"/>
            <a:ext cx="7772400" cy="12193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1" descr="B:\СОХРАНЯТЬ ЗДЕСЬ\newton_02.jp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Еще в 1666 году английский физик Исаак Ньютон доказал, что обычный белый свет – это смесь лучей разного цвета. Он первым доказал, что солнечный луч многоцветный.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Двойная радуга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19160" y="388620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Самым ярким и занятным проявлением разложения спектра в природе (дисперсии)является радуга. 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инет46</dc:creator>
  <dc:description/>
  <dc:language>en-US</dc:language>
  <cp:lastModifiedBy>Кабинет46</cp:lastModifiedBy>
  <dcterms:modified xsi:type="dcterms:W3CDTF">2020-02-17T07:09:50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