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A5DC-B988-4F1A-979B-E3DCBBC7A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2D0E-B17D-4D32-9D34-C9940835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CA26-A994-484D-926B-88DFA45BB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D58D-735F-4A2D-BF07-A94C368B7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3998-5BD1-4F10-9FB4-8A6F89AC4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C058-D645-4F33-8C5D-EDEB7967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2198-2121-4788-9CCA-0CE55281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2917-D328-4FF0-B628-E914A4CC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2FBF-88AA-4C7B-BF62-B0F20E28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ECDF-F2CB-4E42-8188-908C1BF0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7670-395C-44BA-95BA-248DB1C5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01B0-7E85-4F99-93EB-EB39D754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D60F-69E0-4EF1-B89F-07EA4A92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5262-76DF-473A-9CB6-8D8EFB13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BDA1-0442-4540-A88A-3B0E2CF3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A171-B8F7-4633-828A-EEE937380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0B13-EC62-4B81-9807-A64F2AD43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8F435-7BA6-409A-8BA0-D05764CED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D5784-2DCD-40AB-85B0-AA652E07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C4C67-832E-4854-BCA6-18E97EB1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4B2C9-7F73-424C-A691-C0FA8916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0E0F2-EAC1-4707-B84F-EF32A2C9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1F45-A0CA-4508-A106-C771C480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EA6BA-F9B9-4E7B-9368-58337B15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4D903-AD42-4819-8B70-587B4E3B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A7A72-CD94-4CB6-82F7-F3F95A4E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6704F-B343-4B32-AA23-EA400D9A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E222C-751E-4A8F-9544-9E10BB8D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AF2D6-CCF3-48FE-A2C9-365C8DF27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04BE5-40FF-4909-B341-D32D0AB77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B267-3C79-4C0F-AC95-3B794A11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CB90-96CC-4176-81B9-35D4B25F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590A-7DDD-4777-825B-3507CFAA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C2B4-F709-4667-A8B4-FFD9BA8A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93D5-EB6D-40D3-A6EF-EAE7A67E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EE1C-BC91-476D-87AD-D113F430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8E12-76AF-4568-9D3D-3C2BE6FB9D77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7B01-221F-4620-9D8A-D3C927AAB78A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F549-DD10-40DC-B181-5998F5968718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6" descr=""/>
          <p:cNvPicPr/>
          <p:nvPr/>
        </p:nvPicPr>
        <p:blipFill>
          <a:blip r:embed="rId1"/>
          <a:srcRect l="0" t="16801" r="0" b="27696"/>
          <a:stretch/>
        </p:blipFill>
        <p:spPr>
          <a:xfrm>
            <a:off x="1187280" y="958680"/>
            <a:ext cx="3119760" cy="182268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8" descr=""/>
          <p:cNvPicPr/>
          <p:nvPr/>
        </p:nvPicPr>
        <p:blipFill>
          <a:blip r:embed="rId2"/>
          <a:srcRect l="44488" t="50002" r="46065" b="43430"/>
          <a:stretch/>
        </p:blipFill>
        <p:spPr>
          <a:xfrm>
            <a:off x="2627280" y="3860640"/>
            <a:ext cx="2881440" cy="11271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0"/>
          <p:cNvSpPr/>
          <p:nvPr/>
        </p:nvSpPr>
        <p:spPr>
          <a:xfrm>
            <a:off x="5508720" y="836640"/>
            <a:ext cx="29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х – 5 ≥ 7х - 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C:\Users\User\Desktop\Новая папка (2)\24.jpg"/>
          <p:cNvPicPr/>
          <p:nvPr/>
        </p:nvPicPr>
        <p:blipFill>
          <a:blip r:embed="rId1"/>
          <a:stretch/>
        </p:blipFill>
        <p:spPr>
          <a:xfrm>
            <a:off x="509760" y="1413000"/>
            <a:ext cx="8165880" cy="3384360"/>
          </a:xfrm>
          <a:prstGeom prst="rect">
            <a:avLst/>
          </a:prstGeom>
          <a:ln w="38160">
            <a:solidFill>
              <a:srgbClr val="00b0f0"/>
            </a:solidFill>
            <a:miter/>
          </a:ln>
        </p:spPr>
      </p:pic>
      <p:sp>
        <p:nvSpPr>
          <p:cNvPr id="151" name="TextBox 5"/>
          <p:cNvSpPr/>
          <p:nvPr/>
        </p:nvSpPr>
        <p:spPr>
          <a:xfrm>
            <a:off x="550440" y="4941720"/>
            <a:ext cx="17596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ТВЕТ: 143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Calibri Light"/>
              </a:rPr>
              <a:t>Решение неравенств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56920" y="25491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Решить квадратное неравенство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) х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) х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+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16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&gt;0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Ответ: верно п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-4)(х+4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&gt;0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любом значении 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+       -      +                               в) х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+ 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&lt;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4      4      х                              Ответ: не имеет                            Ответ:(-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∞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;-4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4;+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∞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)           реш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Line 6"/>
          <p:cNvSpPr/>
          <p:nvPr/>
        </p:nvSpPr>
        <p:spPr>
          <a:xfrm>
            <a:off x="0" y="4869000"/>
            <a:ext cx="255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0" y="4508640"/>
            <a:ext cx="11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1116000" y="450864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Line 11"/>
          <p:cNvSpPr/>
          <p:nvPr/>
        </p:nvSpPr>
        <p:spPr>
          <a:xfrm flipV="1">
            <a:off x="1835280" y="4508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Line 12"/>
          <p:cNvSpPr/>
          <p:nvPr/>
        </p:nvSpPr>
        <p:spPr>
          <a:xfrm>
            <a:off x="1835280" y="450864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Line 14"/>
          <p:cNvSpPr/>
          <p:nvPr/>
        </p:nvSpPr>
        <p:spPr>
          <a:xfrm>
            <a:off x="0" y="4869000"/>
            <a:ext cx="255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8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Calibri Light"/>
              </a:rPr>
              <a:t>Решение неравенств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 Решить квадратное неравенств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 способ:  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+6х+8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0                                                                   Как найти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alibri"/>
              </a:rPr>
              <a:t>1,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=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+6х+8-парабо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=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&gt;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→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ветви ввер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очки пересечения с осью ох :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+6х+8=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=-4;  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=-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 используя т. Ви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+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=-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=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вет: (-4;- 2)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6114960" y="2924280"/>
                <a:ext cx="19558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3" name="Picture 13" descr=""/>
          <p:cNvPicPr/>
          <p:nvPr/>
        </p:nvPicPr>
        <p:blipFill>
          <a:blip r:embed="rId1"/>
          <a:stretch/>
        </p:blipFill>
        <p:spPr>
          <a:xfrm>
            <a:off x="250920" y="4005360"/>
            <a:ext cx="4248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1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720"/>
                            </p:stCondLst>
                            <p:childTnLst>
                              <p:par>
                                <p:cTn id="1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720"/>
                            </p:stCondLst>
                            <p:childTnLst>
                              <p:par>
                                <p:cTn id="1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720"/>
                            </p:stCondLst>
                            <p:childTnLst>
                              <p:par>
                                <p:cTn id="1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8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Линейное неравенство – неравенство вида </a:t>
            </a:r>
            <a:r>
              <a:rPr b="1" lang="ru-RU" sz="4000" spc="-1" strike="noStrike">
                <a:solidFill>
                  <a:srgbClr val="009900"/>
                </a:solidFill>
                <a:latin typeface="Calibri"/>
              </a:rPr>
              <a:t>ах+в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en-US" sz="4000" spc="-1" strike="noStrike">
                <a:solidFill>
                  <a:srgbClr val="009900"/>
                </a:solidFill>
                <a:latin typeface="Calibri"/>
              </a:rPr>
              <a:t>0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де а и в – любые числа, а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0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Квадратное неравенство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– неравенство вида </a:t>
            </a:r>
            <a:r>
              <a:rPr b="1" lang="ru-RU" sz="4000" spc="-1" strike="noStrike">
                <a:solidFill>
                  <a:srgbClr val="009900"/>
                </a:solidFill>
                <a:latin typeface="Calibri"/>
              </a:rPr>
              <a:t>ах</a:t>
            </a:r>
            <a:r>
              <a:rPr b="1" lang="ru-RU" sz="4000" spc="-1" strike="noStrike" baseline="30000">
                <a:solidFill>
                  <a:srgbClr val="00990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9900"/>
                </a:solidFill>
                <a:latin typeface="Calibri"/>
              </a:rPr>
              <a:t>+вх+с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ru-RU" sz="4000" spc="-1" strike="noStrike">
                <a:solidFill>
                  <a:srgbClr val="009900"/>
                </a:solidFill>
                <a:latin typeface="Calibri"/>
              </a:rPr>
              <a:t>0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де а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≠0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Calibri Light"/>
              </a:rPr>
              <a:t>Основные правила решения неравенств.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360" y="184464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Правило 1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Любой член неравенства можно перенести из одной части неравенства в другую с противоположным знаком, не меняя при этом знак неравен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Правило 2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Обе части неравенства можно умножить или разделить на одно и то же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оложительно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число,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не меня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при этом знак неравен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Правило 3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Обе части неравенства можно умножить или разделить на одно и то же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отрицательно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число,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изменив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при этом знак неравенства на противоположны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Calibri Light"/>
              </a:rPr>
              <a:t>Алгоритм решения квадратного неравенства </a:t>
            </a:r>
            <a:r>
              <a:rPr b="1" lang="ru-RU" sz="4000" spc="-1" strike="noStrike">
                <a:solidFill>
                  <a:srgbClr val="ff0000"/>
                </a:solidFill>
                <a:latin typeface="Calibri Light"/>
              </a:rPr>
              <a:t>ах</a:t>
            </a:r>
            <a:r>
              <a:rPr b="1" lang="ru-RU" sz="4000" spc="-1" strike="noStrike" baseline="30000">
                <a:solidFill>
                  <a:srgbClr val="ff0000"/>
                </a:solidFill>
                <a:latin typeface="Calibri Light"/>
              </a:rPr>
              <a:t>2</a:t>
            </a:r>
            <a:r>
              <a:rPr b="1" lang="ru-RU" sz="4000" spc="-1" strike="noStrike">
                <a:solidFill>
                  <a:srgbClr val="ff0000"/>
                </a:solidFill>
                <a:latin typeface="Calibri Light"/>
              </a:rPr>
              <a:t>+вх+с</a:t>
            </a:r>
            <a:r>
              <a:rPr b="1" lang="en-US" sz="4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V</a:t>
            </a:r>
            <a:r>
              <a:rPr b="1" lang="ru-RU" sz="4000" spc="-1" strike="noStrike">
                <a:solidFill>
                  <a:srgbClr val="ff0000"/>
                </a:solidFill>
                <a:latin typeface="Calibri Light"/>
                <a:ea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82844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пределить, куда (вверх или вниз) направлены ветви параболы, служащей графиком функции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у=ах</a:t>
            </a:r>
            <a:r>
              <a:rPr b="1" lang="ru-RU" sz="28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+вх+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йти точки пересечения параболы с ось х, решив уравнение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ах</a:t>
            </a:r>
            <a:r>
              <a:rPr b="1" lang="ru-RU" sz="28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+вх+с=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метить найденные корни на оси х и сделать эскиз графи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 помощью полученной геометрической модели определить, на каких промежутках оси х ординаты графика положительны (отрицательны) и  включить эти промежутки в отв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Calibri Light"/>
              </a:rPr>
              <a:t>Решение квадратных неравенств методом интервалов.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зложить квадратный трехчлен на множители, воспользовавшись формулой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ах</a:t>
            </a:r>
            <a:r>
              <a:rPr b="1" lang="ru-RU" sz="28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+вх+с=а(х-х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)(х-х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метить на числовой прямой корни квадратного трехчле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пределить на каких промежутках трехчлен имеет положительный или отрицательный зна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читывая знак неравенства, включить нужные промежутки в отв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Рисунок 4" descr=""/>
          <p:cNvPicPr/>
          <p:nvPr/>
        </p:nvPicPr>
        <p:blipFill>
          <a:blip r:embed="rId1"/>
          <a:stretch/>
        </p:blipFill>
        <p:spPr>
          <a:xfrm>
            <a:off x="5435640" y="5924520"/>
            <a:ext cx="266544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 Light"/>
              </a:rPr>
              <a:t>Решение дробно-рациональных неравенств методом интервалов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358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Привести данное неравенство к вид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Разложить числитель и знаменатель дроби на множители, приравнять каждый к нул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 Нанести на числовую ось числа, при которых каждый множитель равен нулю и разделить числовую ось на промежутк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Изобразить выбитыми те точки, которые не являются решением неравен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 Выяснить знаки промежутк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 Выбрать отв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4"/>
              <p:cNvSpPr txBox="1"/>
              <p:nvPr/>
            </p:nvSpPr>
            <p:spPr>
              <a:xfrm>
                <a:off x="6950160" y="1773360"/>
                <a:ext cx="82548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8" name="Рисунок 3" descr=""/>
          <p:cNvPicPr/>
          <p:nvPr/>
        </p:nvPicPr>
        <p:blipFill>
          <a:blip r:embed="rId1"/>
          <a:srcRect l="0" t="53960" r="45386" b="0"/>
          <a:stretch/>
        </p:blipFill>
        <p:spPr>
          <a:xfrm>
            <a:off x="6659640" y="5484960"/>
            <a:ext cx="170496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Calibri Light"/>
              </a:rPr>
              <a:t>Решение неравенств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8000" y="1844640"/>
            <a:ext cx="82803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1. Решить линейное неравенство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х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–</a:t>
            </a: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≥ 7х - 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вет: (-∞; 2,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292720" y="256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4932360" y="256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468360" y="2997360"/>
            <a:ext cx="79200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х – 7х ≥ -15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еренесите слагаемые, не забы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оменять знаки слагаем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468360" y="35830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4х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10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Приведите подобные слагаем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в левой и в правой частях неравен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696960" y="4170240"/>
            <a:ext cx="81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≤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5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Разделите обе части на -4, не забы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поменять знак неравен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1"/>
          <p:cNvSpPr/>
          <p:nvPr/>
        </p:nvSpPr>
        <p:spPr>
          <a:xfrm>
            <a:off x="250920" y="189000"/>
            <a:ext cx="821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ждому из четырёх неравенств в левом столбце соответствует одно из решений в правом столбце. Установите соответствие между неравенствами и их решения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Рисунок 5" descr=""/>
          <p:cNvPicPr/>
          <p:nvPr/>
        </p:nvPicPr>
        <p:blipFill>
          <a:blip r:embed="rId1"/>
          <a:srcRect l="24801" t="14999" r="27951" b="44402"/>
          <a:stretch/>
        </p:blipFill>
        <p:spPr>
          <a:xfrm>
            <a:off x="179280" y="1628640"/>
            <a:ext cx="8640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Users\User\Desktop\Новая папка (2)\22.jpg"/>
          <p:cNvPicPr/>
          <p:nvPr/>
        </p:nvPicPr>
        <p:blipFill>
          <a:blip r:embed="rId1"/>
          <a:stretch/>
        </p:blipFill>
        <p:spPr>
          <a:xfrm>
            <a:off x="539640" y="1341360"/>
            <a:ext cx="8064720" cy="4149720"/>
          </a:xfrm>
          <a:prstGeom prst="rect">
            <a:avLst/>
          </a:prstGeom>
          <a:ln w="38160">
            <a:solidFill>
              <a:srgbClr val="00b0f0"/>
            </a:solidFill>
            <a:miter/>
          </a:ln>
        </p:spPr>
      </p:pic>
      <p:sp>
        <p:nvSpPr>
          <p:cNvPr id="149" name="TextBox 5"/>
          <p:cNvSpPr/>
          <p:nvPr/>
        </p:nvSpPr>
        <p:spPr>
          <a:xfrm>
            <a:off x="610920" y="5661000"/>
            <a:ext cx="17596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ТВЕТ: 143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09:41:02Z</dcterms:created>
  <dc:creator>Admin</dc:creator>
  <dc:description/>
  <dc:language>en-US</dc:language>
  <cp:lastModifiedBy>ch-svetlanan@yandex.ru</cp:lastModifiedBy>
  <dcterms:modified xsi:type="dcterms:W3CDTF">2023-01-01T11:23:49Z</dcterms:modified>
  <cp:revision>61</cp:revision>
  <dc:subject/>
  <dc:title>Конспект урока алгебры в 8 классе по теме: «Неравенства».</dc:title>
</cp:coreProperties>
</file>