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03BA-4C62-4DF7-83A7-75E70B93C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EABA-8871-42CF-8070-EDA248A11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F938-71E0-449F-B644-D4970CEC5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5D33-8596-4994-B18A-7305DEA13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E0DF-457B-4E68-A0F9-5D5F13D17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4576-5674-485C-8054-2243818B7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AF97-AFE8-48A1-B23F-6241A2501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BB5C-11EA-4CF3-907B-AB592FA1E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0AD8-7E59-4CCC-BD77-B18EDC05A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83B2-7E7C-4D64-8AD4-2ECF4DD2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B009-B1B2-4536-9FED-9DF1594F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647D-CA24-44A1-8F80-4F1640D9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AB8DD-8CC9-4AA8-9CB1-14BEAD98CD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ие фигуры изображены на рисунке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араллелограмм 3"/>
          <p:cNvSpPr/>
          <p:nvPr/>
        </p:nvSpPr>
        <p:spPr>
          <a:xfrm>
            <a:off x="785880" y="2214720"/>
            <a:ext cx="1928880" cy="857160"/>
          </a:xfrm>
          <a:prstGeom prst="parallelogram">
            <a:avLst>
              <a:gd name="adj" fmla="val 25003"/>
            </a:avLst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Ромб 4"/>
          <p:cNvSpPr/>
          <p:nvPr/>
        </p:nvSpPr>
        <p:spPr>
          <a:xfrm>
            <a:off x="3500280" y="2357280"/>
            <a:ext cx="1643400" cy="1143000"/>
          </a:xfrm>
          <a:prstGeom prst="diamond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Трапеция 5"/>
          <p:cNvSpPr/>
          <p:nvPr/>
        </p:nvSpPr>
        <p:spPr>
          <a:xfrm>
            <a:off x="6143760" y="2143080"/>
            <a:ext cx="2286000" cy="1143000"/>
          </a:xfrm>
          <a:custGeom>
            <a:avLst/>
            <a:gdLst/>
            <a:ahLst/>
            <a:rect l="l" t="t" r="r" b="b"/>
            <a:pathLst>
              <a:path w="2286000" h="1143000">
                <a:moveTo>
                  <a:pt x="0" y="1143000"/>
                </a:moveTo>
                <a:lnTo>
                  <a:pt x="285750" y="0"/>
                </a:lnTo>
                <a:lnTo>
                  <a:pt x="2000250" y="0"/>
                </a:lnTo>
                <a:lnTo>
                  <a:pt x="2286000" y="1143000"/>
                </a:lnTo>
                <a:lnTo>
                  <a:pt x="0" y="1143000"/>
                </a:lnTo>
                <a:close/>
              </a:path>
            </a:pathLst>
          </a:cu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6"/>
          <p:cNvSpPr/>
          <p:nvPr/>
        </p:nvSpPr>
        <p:spPr>
          <a:xfrm>
            <a:off x="1571760" y="4643280"/>
            <a:ext cx="1928520" cy="9288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7"/>
          <p:cNvSpPr/>
          <p:nvPr/>
        </p:nvSpPr>
        <p:spPr>
          <a:xfrm>
            <a:off x="6157800" y="4000680"/>
            <a:ext cx="914400" cy="9144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Группа 18"/>
          <p:cNvGrpSpPr/>
          <p:nvPr/>
        </p:nvGrpSpPr>
        <p:grpSpPr>
          <a:xfrm>
            <a:off x="4572000" y="4714920"/>
            <a:ext cx="1213560" cy="1999800"/>
            <a:chOff x="4572000" y="4714920"/>
            <a:chExt cx="1213560" cy="1999800"/>
          </a:xfrm>
        </p:grpSpPr>
        <p:sp>
          <p:nvSpPr>
            <p:cNvPr id="48" name="Прямая соединительная линия 9"/>
            <p:cNvSpPr/>
            <p:nvPr/>
          </p:nvSpPr>
          <p:spPr>
            <a:xfrm>
              <a:off x="4572000" y="5786280"/>
              <a:ext cx="91440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Прямая соединительная линия 11"/>
            <p:cNvSpPr/>
            <p:nvPr/>
          </p:nvSpPr>
          <p:spPr>
            <a:xfrm flipV="1">
              <a:off x="4572000" y="4714920"/>
              <a:ext cx="642960" cy="10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рямая соединительная линия 13"/>
            <p:cNvSpPr/>
            <p:nvPr/>
          </p:nvSpPr>
          <p:spPr>
            <a:xfrm>
              <a:off x="5214240" y="4714920"/>
              <a:ext cx="57132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Прямая соединительная линия 15"/>
            <p:cNvSpPr/>
            <p:nvPr/>
          </p:nvSpPr>
          <p:spPr>
            <a:xfrm flipV="1">
              <a:off x="5500080" y="5857560"/>
              <a:ext cx="285480" cy="85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Равнобедренный треугольник 1"/>
          <p:cNvSpPr/>
          <p:nvPr/>
        </p:nvSpPr>
        <p:spPr>
          <a:xfrm>
            <a:off x="7230960" y="4276800"/>
            <a:ext cx="1455840" cy="1616040"/>
          </a:xfrm>
          <a:prstGeom prst="triangle">
            <a:avLst>
              <a:gd name="adj" fmla="val 50000"/>
            </a:avLst>
          </a:prstGeom>
          <a:solidFill>
            <a:srgbClr val="3c8c9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4"/>
          <p:cNvSpPr/>
          <p:nvPr/>
        </p:nvSpPr>
        <p:spPr>
          <a:xfrm rot="19932000">
            <a:off x="1492200" y="1228320"/>
            <a:ext cx="2676600" cy="4843440"/>
          </a:xfrm>
          <a:prstGeom prst="diamond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5"/>
          <p:cNvSpPr/>
          <p:nvPr/>
        </p:nvSpPr>
        <p:spPr>
          <a:xfrm>
            <a:off x="1547640" y="3141720"/>
            <a:ext cx="21600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6"/>
          <p:cNvSpPr/>
          <p:nvPr/>
        </p:nvSpPr>
        <p:spPr>
          <a:xfrm>
            <a:off x="3059280" y="227664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7"/>
          <p:cNvSpPr/>
          <p:nvPr/>
        </p:nvSpPr>
        <p:spPr>
          <a:xfrm>
            <a:off x="3851280" y="4365720"/>
            <a:ext cx="21600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8"/>
          <p:cNvSpPr/>
          <p:nvPr/>
        </p:nvSpPr>
        <p:spPr>
          <a:xfrm>
            <a:off x="2700360" y="486900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1258920" y="4149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1332000" y="981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3924360" y="2565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4067280" y="5589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3"/>
          <p:cNvSpPr/>
          <p:nvPr/>
        </p:nvSpPr>
        <p:spPr>
          <a:xfrm>
            <a:off x="1692360" y="1557360"/>
            <a:ext cx="2232000" cy="41767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4"/>
          <p:cNvSpPr/>
          <p:nvPr/>
        </p:nvSpPr>
        <p:spPr>
          <a:xfrm flipV="1">
            <a:off x="1619280" y="3068640"/>
            <a:ext cx="2376360" cy="122400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8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17"/>
              <p:cNvSpPr txBox="1"/>
              <p:nvPr/>
            </p:nvSpPr>
            <p:spPr>
              <a:xfrm>
                <a:off x="4832280" y="1125360"/>
                <a:ext cx="3221280" cy="460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Задача №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4"/>
          <p:cNvSpPr/>
          <p:nvPr/>
        </p:nvSpPr>
        <p:spPr>
          <a:xfrm rot="20179200">
            <a:off x="1204560" y="2602080"/>
            <a:ext cx="3889440" cy="2498400"/>
          </a:xfrm>
          <a:custGeom>
            <a:avLst/>
            <a:gdLst>
              <a:gd name="textAreaLeft" fmla="*/ 810360 w 3889440"/>
              <a:gd name="textAreaRight" fmla="*/ 3079080 w 3889440"/>
              <a:gd name="textAreaTop" fmla="*/ 520560 h 2498400"/>
              <a:gd name="textAreaBottom" fmla="*/ 1977840 h 249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5"/>
          <p:cNvSpPr/>
          <p:nvPr/>
        </p:nvSpPr>
        <p:spPr>
          <a:xfrm>
            <a:off x="900000" y="3500280"/>
            <a:ext cx="3600720" cy="108108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6"/>
          <p:cNvSpPr/>
          <p:nvPr/>
        </p:nvSpPr>
        <p:spPr>
          <a:xfrm flipH="1">
            <a:off x="2771640" y="1916280"/>
            <a:ext cx="1656000" cy="34574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395280" y="28526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4067280" y="1413000"/>
            <a:ext cx="100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4643280" y="4797360"/>
            <a:ext cx="9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4716360" y="422100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2411280" y="5300640"/>
            <a:ext cx="10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3"/>
          <p:cNvSpPr/>
          <p:nvPr/>
        </p:nvSpPr>
        <p:spPr>
          <a:xfrm>
            <a:off x="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12"/>
              <p:cNvSpPr txBox="1"/>
              <p:nvPr/>
            </p:nvSpPr>
            <p:spPr>
              <a:xfrm>
                <a:off x="5651640" y="1341360"/>
                <a:ext cx="3003480" cy="525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  <m:e>
                        <m:r>
                          <m:t xml:space="preserve">В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⊥</m:t>
                        </m:r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28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Задача №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AutoShape 2"/>
          <p:cNvSpPr/>
          <p:nvPr/>
        </p:nvSpPr>
        <p:spPr>
          <a:xfrm>
            <a:off x="900000" y="2492280"/>
            <a:ext cx="4967280" cy="25210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3"/>
          <p:cNvSpPr/>
          <p:nvPr/>
        </p:nvSpPr>
        <p:spPr>
          <a:xfrm>
            <a:off x="3348000" y="2492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4"/>
          <p:cNvSpPr/>
          <p:nvPr/>
        </p:nvSpPr>
        <p:spPr>
          <a:xfrm>
            <a:off x="1908000" y="4005360"/>
            <a:ext cx="2016360" cy="10080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3564000" y="501336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1476360" y="342900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468360" y="501336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3276720" y="198900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5940360" y="47973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1908000" y="5084640"/>
            <a:ext cx="7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4"/>
          <p:cNvSpPr/>
          <p:nvPr/>
        </p:nvSpPr>
        <p:spPr>
          <a:xfrm>
            <a:off x="4643280" y="50846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5"/>
          <p:cNvSpPr/>
          <p:nvPr/>
        </p:nvSpPr>
        <p:spPr>
          <a:xfrm>
            <a:off x="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755640" y="4076640"/>
            <a:ext cx="71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8"/>
          <p:cNvSpPr/>
          <p:nvPr/>
        </p:nvSpPr>
        <p:spPr>
          <a:xfrm>
            <a:off x="1116000" y="39337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9"/>
          <p:cNvSpPr/>
          <p:nvPr/>
        </p:nvSpPr>
        <p:spPr>
          <a:xfrm>
            <a:off x="2340000" y="278136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1"/>
          <p:cNvSpPr/>
          <p:nvPr/>
        </p:nvSpPr>
        <p:spPr>
          <a:xfrm>
            <a:off x="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20"/>
              <p:cNvSpPr txBox="1"/>
              <p:nvPr/>
            </p:nvSpPr>
            <p:spPr>
              <a:xfrm>
                <a:off x="5003640" y="331920"/>
                <a:ext cx="3889440" cy="28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АDK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7 см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АВС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Задача №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Формула площади равностороннего треуголь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5"/>
          <p:cNvSpPr/>
          <p:nvPr/>
        </p:nvSpPr>
        <p:spPr>
          <a:xfrm>
            <a:off x="539640" y="2133720"/>
            <a:ext cx="4464000" cy="3673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6"/>
          <p:cNvSpPr/>
          <p:nvPr/>
        </p:nvSpPr>
        <p:spPr>
          <a:xfrm>
            <a:off x="2771640" y="2133720"/>
            <a:ext cx="0" cy="367344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179280" y="5661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2411280" y="170028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5076720" y="54450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10"/>
              <p:cNvSpPr txBox="1"/>
              <p:nvPr/>
            </p:nvSpPr>
            <p:spPr>
              <a:xfrm>
                <a:off x="5651640" y="2143080"/>
                <a:ext cx="3168360" cy="14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АВС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6" name="Line 12"/>
          <p:cNvSpPr/>
          <p:nvPr/>
        </p:nvSpPr>
        <p:spPr>
          <a:xfrm>
            <a:off x="1403280" y="3933720"/>
            <a:ext cx="36036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3"/>
          <p:cNvSpPr/>
          <p:nvPr/>
        </p:nvSpPr>
        <p:spPr>
          <a:xfrm flipH="1">
            <a:off x="3708360" y="3860640"/>
            <a:ext cx="43200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4"/>
          <p:cNvSpPr/>
          <p:nvPr/>
        </p:nvSpPr>
        <p:spPr>
          <a:xfrm>
            <a:off x="2916360" y="5661000"/>
            <a:ext cx="14436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AutoShape 7"/>
          <p:cNvSpPr/>
          <p:nvPr/>
        </p:nvSpPr>
        <p:spPr>
          <a:xfrm>
            <a:off x="1332000" y="620640"/>
            <a:ext cx="3240000" cy="5400720"/>
          </a:xfrm>
          <a:prstGeom prst="diamond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829080" y="3141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2558160" y="18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4574160" y="2997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2702520" y="5950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2627280" y="1052640"/>
            <a:ext cx="77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5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7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16"/>
              <p:cNvSpPr txBox="1"/>
              <p:nvPr/>
            </p:nvSpPr>
            <p:spPr>
              <a:xfrm>
                <a:off x="5602320" y="1844640"/>
                <a:ext cx="2963880" cy="32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-21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и по готовым чертеж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Группа 109"/>
          <p:cNvGrpSpPr/>
          <p:nvPr/>
        </p:nvGrpSpPr>
        <p:grpSpPr>
          <a:xfrm>
            <a:off x="-5400" y="785880"/>
            <a:ext cx="3163320" cy="2500560"/>
            <a:chOff x="-5400" y="785880"/>
            <a:chExt cx="3163320" cy="2500560"/>
          </a:xfrm>
        </p:grpSpPr>
        <p:sp>
          <p:nvSpPr>
            <p:cNvPr id="200" name="Параллелограмм 110"/>
            <p:cNvSpPr/>
            <p:nvPr/>
          </p:nvSpPr>
          <p:spPr>
            <a:xfrm>
              <a:off x="500040" y="1143000"/>
              <a:ext cx="2000160" cy="857160"/>
            </a:xfrm>
            <a:prstGeom prst="parallelogram">
              <a:avLst>
                <a:gd name="adj" fmla="val 47296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11"/>
            <p:cNvSpPr/>
            <p:nvPr/>
          </p:nvSpPr>
          <p:spPr>
            <a:xfrm>
              <a:off x="635040" y="8694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Box 112"/>
            <p:cNvSpPr/>
            <p:nvPr/>
          </p:nvSpPr>
          <p:spPr>
            <a:xfrm>
              <a:off x="245880" y="17737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Box 113"/>
            <p:cNvSpPr/>
            <p:nvPr/>
          </p:nvSpPr>
          <p:spPr>
            <a:xfrm>
              <a:off x="2062800" y="17978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Box 114"/>
            <p:cNvSpPr/>
            <p:nvPr/>
          </p:nvSpPr>
          <p:spPr>
            <a:xfrm>
              <a:off x="2415240" y="8694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Box 115"/>
            <p:cNvSpPr/>
            <p:nvPr/>
          </p:nvSpPr>
          <p:spPr>
            <a:xfrm>
              <a:off x="425880" y="13572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Box 116"/>
            <p:cNvSpPr/>
            <p:nvPr/>
          </p:nvSpPr>
          <p:spPr>
            <a:xfrm>
              <a:off x="700200" y="20001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Box 117"/>
            <p:cNvSpPr/>
            <p:nvPr/>
          </p:nvSpPr>
          <p:spPr>
            <a:xfrm>
              <a:off x="2277720" y="14284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Прямая соединительная линия 118"/>
            <p:cNvSpPr/>
            <p:nvPr/>
          </p:nvSpPr>
          <p:spPr>
            <a:xfrm>
              <a:off x="928440" y="1143000"/>
              <a:ext cx="0" cy="85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Прямая соединительная линия 119"/>
            <p:cNvSpPr/>
            <p:nvPr/>
          </p:nvSpPr>
          <p:spPr>
            <a:xfrm>
              <a:off x="928440" y="1143000"/>
              <a:ext cx="1368360" cy="42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Прямая соединительная линия 120"/>
            <p:cNvSpPr/>
            <p:nvPr/>
          </p:nvSpPr>
          <p:spPr>
            <a:xfrm flipV="1">
              <a:off x="2143080" y="1357200"/>
              <a:ext cx="71280" cy="142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Прямая соединительная линия 121"/>
            <p:cNvSpPr/>
            <p:nvPr/>
          </p:nvSpPr>
          <p:spPr>
            <a:xfrm flipH="1" flipV="1">
              <a:off x="2214360" y="1357200"/>
              <a:ext cx="142560" cy="71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Прямая соединительная линия 122"/>
            <p:cNvSpPr/>
            <p:nvPr/>
          </p:nvSpPr>
          <p:spPr>
            <a:xfrm>
              <a:off x="928440" y="1857600"/>
              <a:ext cx="1425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Прямая соединительная линия 123"/>
            <p:cNvSpPr/>
            <p:nvPr/>
          </p:nvSpPr>
          <p:spPr>
            <a:xfrm flipV="1">
              <a:off x="1071360" y="1857600"/>
              <a:ext cx="0" cy="142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Box 124"/>
            <p:cNvSpPr/>
            <p:nvPr/>
          </p:nvSpPr>
          <p:spPr>
            <a:xfrm>
              <a:off x="1431000" y="785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Box 125"/>
            <p:cNvSpPr/>
            <p:nvPr/>
          </p:nvSpPr>
          <p:spPr>
            <a:xfrm>
              <a:off x="-5400" y="86940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Box 126"/>
            <p:cNvSpPr/>
            <p:nvPr/>
          </p:nvSpPr>
          <p:spPr>
            <a:xfrm>
              <a:off x="215640" y="2369520"/>
              <a:ext cx="2942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BCD 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араллелограмм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H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8 с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айти: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Группа 127"/>
          <p:cNvGrpSpPr/>
          <p:nvPr/>
        </p:nvGrpSpPr>
        <p:grpSpPr>
          <a:xfrm>
            <a:off x="3271320" y="857160"/>
            <a:ext cx="2942280" cy="2071440"/>
            <a:chOff x="3271320" y="857160"/>
            <a:chExt cx="2942280" cy="2071440"/>
          </a:xfrm>
        </p:grpSpPr>
        <p:sp>
          <p:nvSpPr>
            <p:cNvPr id="218" name="Параллелограмм 128"/>
            <p:cNvSpPr/>
            <p:nvPr/>
          </p:nvSpPr>
          <p:spPr>
            <a:xfrm>
              <a:off x="3857400" y="1142640"/>
              <a:ext cx="1571760" cy="857160"/>
            </a:xfrm>
            <a:prstGeom prst="parallelogram">
              <a:avLst>
                <a:gd name="adj" fmla="val 34789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Box 129"/>
            <p:cNvSpPr/>
            <p:nvPr/>
          </p:nvSpPr>
          <p:spPr>
            <a:xfrm>
              <a:off x="3280680" y="99972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Box 130"/>
            <p:cNvSpPr/>
            <p:nvPr/>
          </p:nvSpPr>
          <p:spPr>
            <a:xfrm>
              <a:off x="3849840" y="9162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Box 131"/>
            <p:cNvSpPr/>
            <p:nvPr/>
          </p:nvSpPr>
          <p:spPr>
            <a:xfrm>
              <a:off x="3564000" y="1761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Box 132"/>
            <p:cNvSpPr/>
            <p:nvPr/>
          </p:nvSpPr>
          <p:spPr>
            <a:xfrm>
              <a:off x="5092920" y="17859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Box 133"/>
            <p:cNvSpPr/>
            <p:nvPr/>
          </p:nvSpPr>
          <p:spPr>
            <a:xfrm>
              <a:off x="5344200" y="857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Box 134"/>
            <p:cNvSpPr/>
            <p:nvPr/>
          </p:nvSpPr>
          <p:spPr>
            <a:xfrm>
              <a:off x="3711960" y="13572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Box 135"/>
            <p:cNvSpPr/>
            <p:nvPr/>
          </p:nvSpPr>
          <p:spPr>
            <a:xfrm>
              <a:off x="4640760" y="857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Дуга 136"/>
            <p:cNvSpPr/>
            <p:nvPr/>
          </p:nvSpPr>
          <p:spPr>
            <a:xfrm rot="7625400">
              <a:off x="4105440" y="1107000"/>
              <a:ext cx="210960" cy="206280"/>
            </a:xfrm>
            <a:custGeom>
              <a:avLst/>
              <a:gdLst/>
              <a:ahLst/>
              <a:rect l="l" t="t" r="r" b="b"/>
              <a:pathLst>
                <a:path stroke="0" w="211161" h="206376">
                  <a:moveTo>
                    <a:pt x="17515" y="46269"/>
                  </a:moveTo>
                  <a:cubicBezTo>
                    <a:pt x="42973" y="8645"/>
                    <a:pt x="90486" y="-8458"/>
                    <a:pt x="134833" y="4040"/>
                  </a:cubicBezTo>
                  <a:cubicBezTo>
                    <a:pt x="180036" y="16779"/>
                    <a:pt x="211162" y="57210"/>
                    <a:pt x="211162" y="103189"/>
                  </a:cubicBezTo>
                  <a:lnTo>
                    <a:pt x="105581" y="103188"/>
                  </a:lnTo>
                  <a:lnTo>
                    <a:pt x="17515" y="46269"/>
                  </a:lnTo>
                  <a:close/>
                </a:path>
                <a:path fill="none" w="211161" h="206376">
                  <a:moveTo>
                    <a:pt x="17515" y="46269"/>
                  </a:moveTo>
                  <a:cubicBezTo>
                    <a:pt x="42973" y="8645"/>
                    <a:pt x="90486" y="-8458"/>
                    <a:pt x="134833" y="4040"/>
                  </a:cubicBezTo>
                  <a:cubicBezTo>
                    <a:pt x="180036" y="16779"/>
                    <a:pt x="211162" y="57210"/>
                    <a:pt x="211162" y="103189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Box 137"/>
            <p:cNvSpPr/>
            <p:nvPr/>
          </p:nvSpPr>
          <p:spPr>
            <a:xfrm>
              <a:off x="4202280" y="12142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Box 138"/>
            <p:cNvSpPr/>
            <p:nvPr/>
          </p:nvSpPr>
          <p:spPr>
            <a:xfrm>
              <a:off x="4591440" y="1142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Box 139"/>
            <p:cNvSpPr/>
            <p:nvPr/>
          </p:nvSpPr>
          <p:spPr>
            <a:xfrm>
              <a:off x="3271320" y="2286000"/>
              <a:ext cx="2942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BCD 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араллелограмм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айти: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BC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Группа 140"/>
          <p:cNvGrpSpPr/>
          <p:nvPr/>
        </p:nvGrpSpPr>
        <p:grpSpPr>
          <a:xfrm>
            <a:off x="6734520" y="836640"/>
            <a:ext cx="1805760" cy="1868760"/>
            <a:chOff x="6734520" y="836640"/>
            <a:chExt cx="1805760" cy="1868760"/>
          </a:xfrm>
        </p:grpSpPr>
        <p:sp>
          <p:nvSpPr>
            <p:cNvPr id="231" name="Прямоугольный треугольник 141"/>
            <p:cNvSpPr/>
            <p:nvPr/>
          </p:nvSpPr>
          <p:spPr>
            <a:xfrm flipH="1">
              <a:off x="7335720" y="1122120"/>
              <a:ext cx="928800" cy="928800"/>
            </a:xfrm>
            <a:prstGeom prst="rtTriangl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Box 142"/>
            <p:cNvSpPr/>
            <p:nvPr/>
          </p:nvSpPr>
          <p:spPr>
            <a:xfrm>
              <a:off x="6734520" y="97920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Box 143"/>
            <p:cNvSpPr/>
            <p:nvPr/>
          </p:nvSpPr>
          <p:spPr>
            <a:xfrm>
              <a:off x="7980840" y="8366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Box 144"/>
            <p:cNvSpPr/>
            <p:nvPr/>
          </p:nvSpPr>
          <p:spPr>
            <a:xfrm>
              <a:off x="7091640" y="18367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Box 145"/>
            <p:cNvSpPr/>
            <p:nvPr/>
          </p:nvSpPr>
          <p:spPr>
            <a:xfrm>
              <a:off x="8195040" y="18367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Box 146"/>
            <p:cNvSpPr/>
            <p:nvPr/>
          </p:nvSpPr>
          <p:spPr>
            <a:xfrm>
              <a:off x="7695000" y="1979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Дуга 147"/>
            <p:cNvSpPr/>
            <p:nvPr/>
          </p:nvSpPr>
          <p:spPr>
            <a:xfrm rot="7334400">
              <a:off x="8042040" y="1234800"/>
              <a:ext cx="236520" cy="188640"/>
            </a:xfrm>
            <a:custGeom>
              <a:avLst/>
              <a:gdLst/>
              <a:ahLst/>
              <a:rect l="l" t="t" r="r" b="b"/>
              <a:pathLst>
                <a:path stroke="0" w="236468" h="188959">
                  <a:moveTo>
                    <a:pt x="118234" y="0"/>
                  </a:moveTo>
                  <a:cubicBezTo>
                    <a:pt x="164047" y="0"/>
                    <a:pt x="205736" y="21148"/>
                    <a:pt x="225230" y="54278"/>
                  </a:cubicBezTo>
                  <a:cubicBezTo>
                    <a:pt x="249719" y="95895"/>
                    <a:pt x="233150" y="145557"/>
                    <a:pt x="185985" y="171910"/>
                  </a:cubicBezTo>
                  <a:lnTo>
                    <a:pt x="118234" y="94480"/>
                  </a:lnTo>
                  <a:lnTo>
                    <a:pt x="118234" y="0"/>
                  </a:lnTo>
                  <a:close/>
                </a:path>
                <a:path fill="none" w="236468" h="188959">
                  <a:moveTo>
                    <a:pt x="118234" y="0"/>
                  </a:moveTo>
                  <a:cubicBezTo>
                    <a:pt x="164047" y="0"/>
                    <a:pt x="205736" y="21148"/>
                    <a:pt x="225230" y="54278"/>
                  </a:cubicBezTo>
                  <a:cubicBezTo>
                    <a:pt x="249719" y="95895"/>
                    <a:pt x="233150" y="145557"/>
                    <a:pt x="185985" y="17191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Box 148"/>
            <p:cNvSpPr/>
            <p:nvPr/>
          </p:nvSpPr>
          <p:spPr>
            <a:xfrm>
              <a:off x="7815960" y="14209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Box 149"/>
            <p:cNvSpPr/>
            <p:nvPr/>
          </p:nvSpPr>
          <p:spPr>
            <a:xfrm>
              <a:off x="8018640" y="1349280"/>
              <a:ext cx="357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Прямая соединительная линия 150"/>
            <p:cNvSpPr/>
            <p:nvPr/>
          </p:nvSpPr>
          <p:spPr>
            <a:xfrm>
              <a:off x="8089920" y="1908360"/>
              <a:ext cx="1425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Прямая соединительная линия 151"/>
            <p:cNvSpPr/>
            <p:nvPr/>
          </p:nvSpPr>
          <p:spPr>
            <a:xfrm flipV="1">
              <a:off x="8089920" y="1908360"/>
              <a:ext cx="0" cy="142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Прямоугольник 152"/>
            <p:cNvSpPr/>
            <p:nvPr/>
          </p:nvSpPr>
          <p:spPr>
            <a:xfrm>
              <a:off x="7342560" y="2337120"/>
              <a:ext cx="95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BC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Группа 164"/>
          <p:cNvGrpSpPr/>
          <p:nvPr/>
        </p:nvGrpSpPr>
        <p:grpSpPr>
          <a:xfrm>
            <a:off x="-5760" y="3071880"/>
            <a:ext cx="2980440" cy="2011320"/>
            <a:chOff x="-5760" y="3071880"/>
            <a:chExt cx="2980440" cy="2011320"/>
          </a:xfrm>
        </p:grpSpPr>
        <p:sp>
          <p:nvSpPr>
            <p:cNvPr id="244" name="TextBox 165"/>
            <p:cNvSpPr/>
            <p:nvPr/>
          </p:nvSpPr>
          <p:spPr>
            <a:xfrm>
              <a:off x="1635480" y="3071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" name="Группа 166"/>
            <p:cNvGrpSpPr/>
            <p:nvPr/>
          </p:nvGrpSpPr>
          <p:grpSpPr>
            <a:xfrm>
              <a:off x="-5760" y="3286080"/>
              <a:ext cx="2980440" cy="1797120"/>
              <a:chOff x="-5760" y="3286080"/>
              <a:chExt cx="2980440" cy="1797120"/>
            </a:xfrm>
          </p:grpSpPr>
          <p:sp>
            <p:nvSpPr>
              <p:cNvPr id="246" name="Равнобедренный треугольник 167"/>
              <p:cNvSpPr/>
              <p:nvPr/>
            </p:nvSpPr>
            <p:spPr>
              <a:xfrm>
                <a:off x="428400" y="3286080"/>
                <a:ext cx="2286000" cy="11430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TextBox 168"/>
              <p:cNvSpPr/>
              <p:nvPr/>
            </p:nvSpPr>
            <p:spPr>
              <a:xfrm>
                <a:off x="-5760" y="328608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Прямоугольник 169"/>
              <p:cNvSpPr/>
              <p:nvPr/>
            </p:nvSpPr>
            <p:spPr>
              <a:xfrm>
                <a:off x="1005840" y="4714920"/>
                <a:ext cx="951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BC</a:t>
                </a: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 ?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TextBox 170"/>
              <p:cNvSpPr/>
              <p:nvPr/>
            </p:nvSpPr>
            <p:spPr>
              <a:xfrm>
                <a:off x="245880" y="43581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TextBox 171"/>
              <p:cNvSpPr/>
              <p:nvPr/>
            </p:nvSpPr>
            <p:spPr>
              <a:xfrm>
                <a:off x="2629440" y="435816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TextBox 172"/>
              <p:cNvSpPr/>
              <p:nvPr/>
            </p:nvSpPr>
            <p:spPr>
              <a:xfrm>
                <a:off x="1359360" y="4358160"/>
                <a:ext cx="43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TextBox 173"/>
              <p:cNvSpPr/>
              <p:nvPr/>
            </p:nvSpPr>
            <p:spPr>
              <a:xfrm>
                <a:off x="640080" y="35002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TextBox 174"/>
              <p:cNvSpPr/>
              <p:nvPr/>
            </p:nvSpPr>
            <p:spPr>
              <a:xfrm>
                <a:off x="1931400" y="4059720"/>
                <a:ext cx="433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TextBox 175"/>
              <p:cNvSpPr/>
              <p:nvPr/>
            </p:nvSpPr>
            <p:spPr>
              <a:xfrm>
                <a:off x="2143080" y="3988080"/>
                <a:ext cx="357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Дуга 176"/>
              <p:cNvSpPr/>
              <p:nvPr/>
            </p:nvSpPr>
            <p:spPr>
              <a:xfrm rot="14107800">
                <a:off x="2343240" y="4188240"/>
                <a:ext cx="247680" cy="268200"/>
              </a:xfrm>
              <a:custGeom>
                <a:avLst/>
                <a:gdLst/>
                <a:ahLst/>
                <a:rect l="l" t="t" r="r" b="b"/>
                <a:pathLst>
                  <a:path stroke="0" w="247583" h="268306">
                    <a:moveTo>
                      <a:pt x="70513" y="13061"/>
                    </a:moveTo>
                    <a:cubicBezTo>
                      <a:pt x="126304" y="-15767"/>
                      <a:pt x="193168" y="4418"/>
                      <a:pt x="227169" y="60354"/>
                    </a:cubicBezTo>
                    <a:cubicBezTo>
                      <a:pt x="257459" y="110184"/>
                      <a:pt x="253738" y="175705"/>
                      <a:pt x="218038" y="221134"/>
                    </a:cubicBezTo>
                    <a:lnTo>
                      <a:pt x="123792" y="134153"/>
                    </a:lnTo>
                    <a:lnTo>
                      <a:pt x="70513" y="13061"/>
                    </a:lnTo>
                    <a:close/>
                  </a:path>
                  <a:path fill="none" w="247583" h="268306">
                    <a:moveTo>
                      <a:pt x="70513" y="13061"/>
                    </a:moveTo>
                    <a:cubicBezTo>
                      <a:pt x="126304" y="-15767"/>
                      <a:pt x="193168" y="4418"/>
                      <a:pt x="227169" y="60354"/>
                    </a:cubicBezTo>
                    <a:cubicBezTo>
                      <a:pt x="257459" y="110184"/>
                      <a:pt x="253738" y="175705"/>
                      <a:pt x="218038" y="221134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6" name="Группа 177"/>
          <p:cNvGrpSpPr/>
          <p:nvPr/>
        </p:nvGrpSpPr>
        <p:grpSpPr>
          <a:xfrm>
            <a:off x="3292200" y="2844720"/>
            <a:ext cx="1936800" cy="1940040"/>
            <a:chOff x="3292200" y="2844720"/>
            <a:chExt cx="1936800" cy="1940040"/>
          </a:xfrm>
        </p:grpSpPr>
        <p:sp>
          <p:nvSpPr>
            <p:cNvPr id="257" name="Равнобедренный треугольник 178"/>
            <p:cNvSpPr/>
            <p:nvPr/>
          </p:nvSpPr>
          <p:spPr>
            <a:xfrm>
              <a:off x="3794040" y="3058920"/>
              <a:ext cx="1285920" cy="10717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Box 179"/>
            <p:cNvSpPr/>
            <p:nvPr/>
          </p:nvSpPr>
          <p:spPr>
            <a:xfrm>
              <a:off x="3359880" y="291600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Прямоугольник 180"/>
            <p:cNvSpPr/>
            <p:nvPr/>
          </p:nvSpPr>
          <p:spPr>
            <a:xfrm>
              <a:off x="3292200" y="4416480"/>
              <a:ext cx="95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BC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Box 181"/>
            <p:cNvSpPr/>
            <p:nvPr/>
          </p:nvSpPr>
          <p:spPr>
            <a:xfrm>
              <a:off x="4397400" y="28447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Box 182"/>
            <p:cNvSpPr/>
            <p:nvPr/>
          </p:nvSpPr>
          <p:spPr>
            <a:xfrm>
              <a:off x="3643560" y="40597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Box 183"/>
            <p:cNvSpPr/>
            <p:nvPr/>
          </p:nvSpPr>
          <p:spPr>
            <a:xfrm>
              <a:off x="4883760" y="40597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Прямая соединительная линия 184"/>
            <p:cNvSpPr/>
            <p:nvPr/>
          </p:nvSpPr>
          <p:spPr>
            <a:xfrm flipV="1">
              <a:off x="4437000" y="3058560"/>
              <a:ext cx="0" cy="107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Дуга 185"/>
            <p:cNvSpPr/>
            <p:nvPr/>
          </p:nvSpPr>
          <p:spPr>
            <a:xfrm>
              <a:off x="3865680" y="3916440"/>
              <a:ext cx="214200" cy="214200"/>
            </a:xfrm>
            <a:custGeom>
              <a:avLst/>
              <a:gdLst/>
              <a:ahLst/>
              <a:rect l="l" t="t" r="r" b="b"/>
              <a:pathLst>
                <a:path stroke="0" w="214360" h="214241">
                  <a:moveTo>
                    <a:pt x="53739" y="14266"/>
                  </a:moveTo>
                  <a:cubicBezTo>
                    <a:pt x="87551" y="-5172"/>
                    <a:pt x="129259" y="-4717"/>
                    <a:pt x="162638" y="15454"/>
                  </a:cubicBezTo>
                  <a:cubicBezTo>
                    <a:pt x="196041" y="35640"/>
                    <a:pt x="215823" y="72381"/>
                    <a:pt x="214277" y="111364"/>
                  </a:cubicBezTo>
                  <a:cubicBezTo>
                    <a:pt x="212731" y="150344"/>
                    <a:pt x="190104" y="185403"/>
                    <a:pt x="155210" y="202884"/>
                  </a:cubicBezTo>
                  <a:lnTo>
                    <a:pt x="107180" y="107121"/>
                  </a:lnTo>
                  <a:lnTo>
                    <a:pt x="53739" y="14266"/>
                  </a:lnTo>
                  <a:close/>
                </a:path>
                <a:path fill="none" w="214360" h="214241">
                  <a:moveTo>
                    <a:pt x="53739" y="14266"/>
                  </a:moveTo>
                  <a:cubicBezTo>
                    <a:pt x="87551" y="-5172"/>
                    <a:pt x="129259" y="-4717"/>
                    <a:pt x="162638" y="15454"/>
                  </a:cubicBezTo>
                  <a:cubicBezTo>
                    <a:pt x="196041" y="35640"/>
                    <a:pt x="215823" y="72381"/>
                    <a:pt x="214277" y="111364"/>
                  </a:cubicBezTo>
                  <a:cubicBezTo>
                    <a:pt x="212731" y="150344"/>
                    <a:pt x="190104" y="185403"/>
                    <a:pt x="155210" y="20288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Прямая соединительная линия 186"/>
            <p:cNvSpPr/>
            <p:nvPr/>
          </p:nvSpPr>
          <p:spPr>
            <a:xfrm>
              <a:off x="4294440" y="3987720"/>
              <a:ext cx="1425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Прямая соединительная линия 187"/>
            <p:cNvSpPr/>
            <p:nvPr/>
          </p:nvSpPr>
          <p:spPr>
            <a:xfrm flipV="1">
              <a:off x="4294440" y="3987720"/>
              <a:ext cx="0" cy="142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Box 188"/>
            <p:cNvSpPr/>
            <p:nvPr/>
          </p:nvSpPr>
          <p:spPr>
            <a:xfrm>
              <a:off x="4000680" y="36306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Box 189"/>
            <p:cNvSpPr/>
            <p:nvPr/>
          </p:nvSpPr>
          <p:spPr>
            <a:xfrm>
              <a:off x="4212720" y="3559320"/>
              <a:ext cx="357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Группа 190"/>
          <p:cNvGrpSpPr/>
          <p:nvPr/>
        </p:nvGrpSpPr>
        <p:grpSpPr>
          <a:xfrm>
            <a:off x="6780960" y="2987640"/>
            <a:ext cx="1948320" cy="1940040"/>
            <a:chOff x="6780960" y="2987640"/>
            <a:chExt cx="1948320" cy="1940040"/>
          </a:xfrm>
        </p:grpSpPr>
        <p:sp>
          <p:nvSpPr>
            <p:cNvPr id="270" name="Равнобедренный треугольник 191"/>
            <p:cNvSpPr/>
            <p:nvPr/>
          </p:nvSpPr>
          <p:spPr>
            <a:xfrm>
              <a:off x="7215120" y="3273120"/>
              <a:ext cx="1285560" cy="1214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Box 192"/>
            <p:cNvSpPr/>
            <p:nvPr/>
          </p:nvSpPr>
          <p:spPr>
            <a:xfrm>
              <a:off x="6780960" y="327348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Прямоугольник 193"/>
            <p:cNvSpPr/>
            <p:nvPr/>
          </p:nvSpPr>
          <p:spPr>
            <a:xfrm>
              <a:off x="7435440" y="4559400"/>
              <a:ext cx="95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BC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Дуга 194"/>
            <p:cNvSpPr/>
            <p:nvPr/>
          </p:nvSpPr>
          <p:spPr>
            <a:xfrm>
              <a:off x="7215120" y="4273560"/>
              <a:ext cx="285480" cy="285480"/>
            </a:xfrm>
            <a:custGeom>
              <a:avLst/>
              <a:gdLst/>
              <a:ahLst/>
              <a:rect l="l" t="t" r="r" b="b"/>
              <a:pathLst>
                <a:path stroke="0" w="285752" h="285670">
                  <a:moveTo>
                    <a:pt x="101983" y="5975"/>
                  </a:moveTo>
                  <a:cubicBezTo>
                    <a:pt x="156205" y="-10217"/>
                    <a:pt x="214876" y="7110"/>
                    <a:pt x="251593" y="50158"/>
                  </a:cubicBezTo>
                  <a:cubicBezTo>
                    <a:pt x="288326" y="93224"/>
                    <a:pt x="296159" y="153912"/>
                    <a:pt x="271563" y="204889"/>
                  </a:cubicBezTo>
                  <a:lnTo>
                    <a:pt x="142876" y="142835"/>
                  </a:lnTo>
                  <a:lnTo>
                    <a:pt x="101983" y="5975"/>
                  </a:lnTo>
                  <a:close/>
                </a:path>
                <a:path fill="none" w="285752" h="285670">
                  <a:moveTo>
                    <a:pt x="101983" y="5975"/>
                  </a:moveTo>
                  <a:cubicBezTo>
                    <a:pt x="156205" y="-10217"/>
                    <a:pt x="214876" y="7110"/>
                    <a:pt x="251593" y="50158"/>
                  </a:cubicBezTo>
                  <a:cubicBezTo>
                    <a:pt x="288326" y="93224"/>
                    <a:pt x="296159" y="153912"/>
                    <a:pt x="271563" y="204889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Дуга 195"/>
            <p:cNvSpPr/>
            <p:nvPr/>
          </p:nvSpPr>
          <p:spPr>
            <a:xfrm flipH="1" flipV="1" rot="4226400">
              <a:off x="8188920" y="4236120"/>
              <a:ext cx="277560" cy="291960"/>
            </a:xfrm>
            <a:custGeom>
              <a:avLst/>
              <a:gdLst/>
              <a:ahLst/>
              <a:rect l="l" t="t" r="r" b="b"/>
              <a:pathLst>
                <a:path stroke="0" w="277734" h="292102">
                  <a:moveTo>
                    <a:pt x="63765" y="23202"/>
                  </a:moveTo>
                  <a:cubicBezTo>
                    <a:pt x="121852" y="-16078"/>
                    <a:pt x="198557" y="-4498"/>
                    <a:pt x="243793" y="50380"/>
                  </a:cubicBezTo>
                  <a:cubicBezTo>
                    <a:pt x="285716" y="101239"/>
                    <a:pt x="289161" y="175645"/>
                    <a:pt x="252135" y="230547"/>
                  </a:cubicBezTo>
                  <a:lnTo>
                    <a:pt x="138867" y="146051"/>
                  </a:lnTo>
                  <a:lnTo>
                    <a:pt x="63765" y="23202"/>
                  </a:lnTo>
                  <a:close/>
                </a:path>
                <a:path fill="none" w="277734" h="292102">
                  <a:moveTo>
                    <a:pt x="63765" y="23202"/>
                  </a:moveTo>
                  <a:cubicBezTo>
                    <a:pt x="121852" y="-16078"/>
                    <a:pt x="198557" y="-4498"/>
                    <a:pt x="243793" y="50380"/>
                  </a:cubicBezTo>
                  <a:cubicBezTo>
                    <a:pt x="285716" y="101239"/>
                    <a:pt x="289161" y="175645"/>
                    <a:pt x="252135" y="230547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Box 196"/>
            <p:cNvSpPr/>
            <p:nvPr/>
          </p:nvSpPr>
          <p:spPr>
            <a:xfrm>
              <a:off x="7862400" y="405936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Box 197"/>
            <p:cNvSpPr/>
            <p:nvPr/>
          </p:nvSpPr>
          <p:spPr>
            <a:xfrm>
              <a:off x="8072280" y="3988080"/>
              <a:ext cx="357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Box 198"/>
            <p:cNvSpPr/>
            <p:nvPr/>
          </p:nvSpPr>
          <p:spPr>
            <a:xfrm>
              <a:off x="7362360" y="405936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Box 199"/>
            <p:cNvSpPr/>
            <p:nvPr/>
          </p:nvSpPr>
          <p:spPr>
            <a:xfrm>
              <a:off x="7572240" y="3988080"/>
              <a:ext cx="357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Box 200"/>
            <p:cNvSpPr/>
            <p:nvPr/>
          </p:nvSpPr>
          <p:spPr>
            <a:xfrm>
              <a:off x="7136280" y="35593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Box 201"/>
            <p:cNvSpPr/>
            <p:nvPr/>
          </p:nvSpPr>
          <p:spPr>
            <a:xfrm>
              <a:off x="7779240" y="29876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Box 202"/>
            <p:cNvSpPr/>
            <p:nvPr/>
          </p:nvSpPr>
          <p:spPr>
            <a:xfrm>
              <a:off x="6993360" y="4416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203"/>
            <p:cNvSpPr/>
            <p:nvPr/>
          </p:nvSpPr>
          <p:spPr>
            <a:xfrm>
              <a:off x="8384040" y="44046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Группа 204"/>
          <p:cNvGrpSpPr/>
          <p:nvPr/>
        </p:nvGrpSpPr>
        <p:grpSpPr>
          <a:xfrm>
            <a:off x="71640" y="4929120"/>
            <a:ext cx="5072040" cy="1925280"/>
            <a:chOff x="71640" y="4929120"/>
            <a:chExt cx="5072040" cy="1925280"/>
          </a:xfrm>
        </p:grpSpPr>
        <p:sp>
          <p:nvSpPr>
            <p:cNvPr id="284" name="TextBox 205"/>
            <p:cNvSpPr/>
            <p:nvPr/>
          </p:nvSpPr>
          <p:spPr>
            <a:xfrm>
              <a:off x="105120" y="500040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Ромб 206"/>
            <p:cNvSpPr/>
            <p:nvPr/>
          </p:nvSpPr>
          <p:spPr>
            <a:xfrm>
              <a:off x="396720" y="5286240"/>
              <a:ext cx="1714680" cy="100008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Прямая соединительная линия 207"/>
            <p:cNvSpPr/>
            <p:nvPr/>
          </p:nvSpPr>
          <p:spPr>
            <a:xfrm>
              <a:off x="1253880" y="5286240"/>
              <a:ext cx="0" cy="10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Прямая соединительная линия 208"/>
            <p:cNvSpPr/>
            <p:nvPr/>
          </p:nvSpPr>
          <p:spPr>
            <a:xfrm flipH="1">
              <a:off x="396360" y="5786280"/>
              <a:ext cx="171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Box 209"/>
            <p:cNvSpPr/>
            <p:nvPr/>
          </p:nvSpPr>
          <p:spPr>
            <a:xfrm>
              <a:off x="1135440" y="49291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Box 210"/>
            <p:cNvSpPr/>
            <p:nvPr/>
          </p:nvSpPr>
          <p:spPr>
            <a:xfrm>
              <a:off x="71640" y="56433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Box 211"/>
            <p:cNvSpPr/>
            <p:nvPr/>
          </p:nvSpPr>
          <p:spPr>
            <a:xfrm>
              <a:off x="2097720" y="55720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Box 212"/>
            <p:cNvSpPr/>
            <p:nvPr/>
          </p:nvSpPr>
          <p:spPr>
            <a:xfrm>
              <a:off x="1102320" y="62866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Прямая соединительная линия 213"/>
            <p:cNvSpPr/>
            <p:nvPr/>
          </p:nvSpPr>
          <p:spPr>
            <a:xfrm>
              <a:off x="753840" y="5500440"/>
              <a:ext cx="71280" cy="14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Прямая соединительная линия 214"/>
            <p:cNvSpPr/>
            <p:nvPr/>
          </p:nvSpPr>
          <p:spPr>
            <a:xfrm>
              <a:off x="825120" y="5500440"/>
              <a:ext cx="71280" cy="14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Прямая соединительная линия 215"/>
            <p:cNvSpPr/>
            <p:nvPr/>
          </p:nvSpPr>
          <p:spPr>
            <a:xfrm>
              <a:off x="1539720" y="6000840"/>
              <a:ext cx="71280" cy="14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Прямая соединительная линия 216"/>
            <p:cNvSpPr/>
            <p:nvPr/>
          </p:nvSpPr>
          <p:spPr>
            <a:xfrm>
              <a:off x="1611000" y="6000840"/>
              <a:ext cx="71280" cy="14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Прямая соединительная линия 217"/>
            <p:cNvSpPr/>
            <p:nvPr/>
          </p:nvSpPr>
          <p:spPr>
            <a:xfrm flipH="1">
              <a:off x="682200" y="5929200"/>
              <a:ext cx="142560" cy="7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Прямая соединительная линия 218"/>
            <p:cNvSpPr/>
            <p:nvPr/>
          </p:nvSpPr>
          <p:spPr>
            <a:xfrm flipH="1">
              <a:off x="682200" y="6000840"/>
              <a:ext cx="142560" cy="7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Прямая соединительная линия 219"/>
            <p:cNvSpPr/>
            <p:nvPr/>
          </p:nvSpPr>
          <p:spPr>
            <a:xfrm flipH="1">
              <a:off x="1539720" y="5429160"/>
              <a:ext cx="142560" cy="7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Прямая соединительная линия 220"/>
            <p:cNvSpPr/>
            <p:nvPr/>
          </p:nvSpPr>
          <p:spPr>
            <a:xfrm flipH="1">
              <a:off x="1611000" y="5500440"/>
              <a:ext cx="142560" cy="7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Box 221"/>
            <p:cNvSpPr/>
            <p:nvPr/>
          </p:nvSpPr>
          <p:spPr>
            <a:xfrm>
              <a:off x="1428480" y="6211800"/>
              <a:ext cx="3715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C=12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м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, S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BCD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4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айти: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Группа 222"/>
          <p:cNvGrpSpPr/>
          <p:nvPr/>
        </p:nvGrpSpPr>
        <p:grpSpPr>
          <a:xfrm>
            <a:off x="3351960" y="4500720"/>
            <a:ext cx="2863080" cy="2383920"/>
            <a:chOff x="3351960" y="4500720"/>
            <a:chExt cx="2863080" cy="2383920"/>
          </a:xfrm>
        </p:grpSpPr>
        <p:sp>
          <p:nvSpPr>
            <p:cNvPr id="302" name="TextBox 223"/>
            <p:cNvSpPr/>
            <p:nvPr/>
          </p:nvSpPr>
          <p:spPr>
            <a:xfrm>
              <a:off x="3351960" y="492912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Трапеция 224"/>
            <p:cNvSpPr/>
            <p:nvPr/>
          </p:nvSpPr>
          <p:spPr>
            <a:xfrm>
              <a:off x="4071960" y="4786200"/>
              <a:ext cx="2143080" cy="857160"/>
            </a:xfrm>
            <a:custGeom>
              <a:avLst/>
              <a:gdLst/>
              <a:ahLst/>
              <a:rect l="l" t="t" r="r" b="b"/>
              <a:pathLst>
                <a:path w="2143140" h="857443">
                  <a:moveTo>
                    <a:pt x="0" y="857443"/>
                  </a:moveTo>
                  <a:lnTo>
                    <a:pt x="512194" y="0"/>
                  </a:lnTo>
                  <a:lnTo>
                    <a:pt x="1630946" y="0"/>
                  </a:lnTo>
                  <a:lnTo>
                    <a:pt x="2143140" y="857443"/>
                  </a:lnTo>
                  <a:lnTo>
                    <a:pt x="0" y="85744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Box 225"/>
            <p:cNvSpPr/>
            <p:nvPr/>
          </p:nvSpPr>
          <p:spPr>
            <a:xfrm>
              <a:off x="4318200" y="45597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Box 226"/>
            <p:cNvSpPr/>
            <p:nvPr/>
          </p:nvSpPr>
          <p:spPr>
            <a:xfrm>
              <a:off x="5558400" y="45007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Box 227"/>
            <p:cNvSpPr/>
            <p:nvPr/>
          </p:nvSpPr>
          <p:spPr>
            <a:xfrm>
              <a:off x="3850200" y="55720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Box 228"/>
            <p:cNvSpPr/>
            <p:nvPr/>
          </p:nvSpPr>
          <p:spPr>
            <a:xfrm>
              <a:off x="4415040" y="55720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Прямая соединительная линия 229"/>
            <p:cNvSpPr/>
            <p:nvPr/>
          </p:nvSpPr>
          <p:spPr>
            <a:xfrm>
              <a:off x="4572000" y="4786200"/>
              <a:ext cx="0" cy="85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Прямая соединительная линия 230"/>
            <p:cNvSpPr/>
            <p:nvPr/>
          </p:nvSpPr>
          <p:spPr>
            <a:xfrm flipV="1">
              <a:off x="4714920" y="5500800"/>
              <a:ext cx="0" cy="142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Прямая соединительная линия 231"/>
            <p:cNvSpPr/>
            <p:nvPr/>
          </p:nvSpPr>
          <p:spPr>
            <a:xfrm flipH="1">
              <a:off x="4572000" y="5500800"/>
              <a:ext cx="1425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Box 232"/>
            <p:cNvSpPr/>
            <p:nvPr/>
          </p:nvSpPr>
          <p:spPr>
            <a:xfrm>
              <a:off x="3948480" y="5786280"/>
              <a:ext cx="211464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BCD –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трапец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C:AD=2:3, BK=6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с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BCD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Найти: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C, A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Группа 233"/>
          <p:cNvGrpSpPr/>
          <p:nvPr/>
        </p:nvGrpSpPr>
        <p:grpSpPr>
          <a:xfrm>
            <a:off x="6566760" y="5000760"/>
            <a:ext cx="2448360" cy="1665360"/>
            <a:chOff x="6566760" y="5000760"/>
            <a:chExt cx="2448360" cy="1665360"/>
          </a:xfrm>
        </p:grpSpPr>
        <p:sp>
          <p:nvSpPr>
            <p:cNvPr id="313" name="TextBox 234"/>
            <p:cNvSpPr/>
            <p:nvPr/>
          </p:nvSpPr>
          <p:spPr>
            <a:xfrm>
              <a:off x="6566760" y="508428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9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4" name="Группа 148"/>
            <p:cNvGrpSpPr/>
            <p:nvPr/>
          </p:nvGrpSpPr>
          <p:grpSpPr>
            <a:xfrm>
              <a:off x="7143480" y="5226840"/>
              <a:ext cx="1571760" cy="714240"/>
              <a:chOff x="7143480" y="5226840"/>
              <a:chExt cx="1571760" cy="714240"/>
            </a:xfrm>
          </p:grpSpPr>
          <p:sp>
            <p:nvSpPr>
              <p:cNvPr id="315" name="Прямоугольник 253"/>
              <p:cNvSpPr/>
              <p:nvPr/>
            </p:nvSpPr>
            <p:spPr>
              <a:xfrm>
                <a:off x="7786440" y="5226840"/>
                <a:ext cx="928800" cy="714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Прямоугольный треугольник 254"/>
              <p:cNvSpPr/>
              <p:nvPr/>
            </p:nvSpPr>
            <p:spPr>
              <a:xfrm flipH="1">
                <a:off x="7143480" y="5226840"/>
                <a:ext cx="642960" cy="714240"/>
              </a:xfrm>
              <a:prstGeom prst="rtTriangl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7" name="TextBox 236"/>
            <p:cNvSpPr/>
            <p:nvPr/>
          </p:nvSpPr>
          <p:spPr>
            <a:xfrm>
              <a:off x="7532640" y="50126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Box 237"/>
            <p:cNvSpPr/>
            <p:nvPr/>
          </p:nvSpPr>
          <p:spPr>
            <a:xfrm>
              <a:off x="8669880" y="50007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Box 238"/>
            <p:cNvSpPr/>
            <p:nvPr/>
          </p:nvSpPr>
          <p:spPr>
            <a:xfrm>
              <a:off x="6921720" y="58575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Box 239"/>
            <p:cNvSpPr/>
            <p:nvPr/>
          </p:nvSpPr>
          <p:spPr>
            <a:xfrm>
              <a:off x="8664840" y="58575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Box 240"/>
            <p:cNvSpPr/>
            <p:nvPr/>
          </p:nvSpPr>
          <p:spPr>
            <a:xfrm>
              <a:off x="7629840" y="59292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41"/>
            <p:cNvSpPr/>
            <p:nvPr/>
          </p:nvSpPr>
          <p:spPr>
            <a:xfrm flipV="1">
              <a:off x="7929360" y="5799240"/>
              <a:ext cx="0" cy="141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Прямая соединительная линия 242"/>
            <p:cNvSpPr/>
            <p:nvPr/>
          </p:nvSpPr>
          <p:spPr>
            <a:xfrm flipH="1">
              <a:off x="7786800" y="5799240"/>
              <a:ext cx="1425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Прямая соединительная линия 243"/>
            <p:cNvSpPr/>
            <p:nvPr/>
          </p:nvSpPr>
          <p:spPr>
            <a:xfrm flipV="1">
              <a:off x="8572680" y="5227560"/>
              <a:ext cx="0" cy="142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244"/>
            <p:cNvSpPr/>
            <p:nvPr/>
          </p:nvSpPr>
          <p:spPr>
            <a:xfrm flipH="1">
              <a:off x="8572680" y="5370480"/>
              <a:ext cx="1425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245"/>
            <p:cNvSpPr/>
            <p:nvPr/>
          </p:nvSpPr>
          <p:spPr>
            <a:xfrm flipV="1">
              <a:off x="8572680" y="5799240"/>
              <a:ext cx="0" cy="141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Прямая соединительная линия 246"/>
            <p:cNvSpPr/>
            <p:nvPr/>
          </p:nvSpPr>
          <p:spPr>
            <a:xfrm flipH="1">
              <a:off x="8572680" y="5799240"/>
              <a:ext cx="1425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Box 247"/>
            <p:cNvSpPr/>
            <p:nvPr/>
          </p:nvSpPr>
          <p:spPr>
            <a:xfrm>
              <a:off x="8141400" y="5655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Box 248"/>
            <p:cNvSpPr/>
            <p:nvPr/>
          </p:nvSpPr>
          <p:spPr>
            <a:xfrm>
              <a:off x="7355520" y="5857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Дуга 249"/>
            <p:cNvSpPr/>
            <p:nvPr/>
          </p:nvSpPr>
          <p:spPr>
            <a:xfrm>
              <a:off x="7143480" y="5799240"/>
              <a:ext cx="214200" cy="212760"/>
            </a:xfrm>
            <a:custGeom>
              <a:avLst/>
              <a:gdLst/>
              <a:ahLst/>
              <a:rect l="l" t="t" r="r" b="b"/>
              <a:pathLst>
                <a:path stroke="0" w="214315" h="212787">
                  <a:moveTo>
                    <a:pt x="124265" y="1365"/>
                  </a:moveTo>
                  <a:cubicBezTo>
                    <a:pt x="155715" y="6415"/>
                    <a:pt x="183271" y="25097"/>
                    <a:pt x="199456" y="52343"/>
                  </a:cubicBezTo>
                  <a:cubicBezTo>
                    <a:pt x="215783" y="79827"/>
                    <a:pt x="218824" y="113135"/>
                    <a:pt x="207741" y="143086"/>
                  </a:cubicBezTo>
                  <a:lnTo>
                    <a:pt x="107158" y="106394"/>
                  </a:lnTo>
                  <a:lnTo>
                    <a:pt x="124265" y="1365"/>
                  </a:lnTo>
                  <a:close/>
                </a:path>
                <a:path fill="none" w="214315" h="212787">
                  <a:moveTo>
                    <a:pt x="124265" y="1365"/>
                  </a:moveTo>
                  <a:cubicBezTo>
                    <a:pt x="155715" y="6415"/>
                    <a:pt x="183271" y="25097"/>
                    <a:pt x="199456" y="52343"/>
                  </a:cubicBezTo>
                  <a:cubicBezTo>
                    <a:pt x="215783" y="79827"/>
                    <a:pt x="218824" y="113135"/>
                    <a:pt x="207741" y="143086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Box 250"/>
            <p:cNvSpPr/>
            <p:nvPr/>
          </p:nvSpPr>
          <p:spPr>
            <a:xfrm>
              <a:off x="7290720" y="563364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Box 251"/>
            <p:cNvSpPr/>
            <p:nvPr/>
          </p:nvSpPr>
          <p:spPr>
            <a:xfrm>
              <a:off x="7500960" y="5562000"/>
              <a:ext cx="357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Прямоугольник 252"/>
            <p:cNvSpPr/>
            <p:nvPr/>
          </p:nvSpPr>
          <p:spPr>
            <a:xfrm>
              <a:off x="7574760" y="6297840"/>
              <a:ext cx="104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BCD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TextBox 239"/>
          <p:cNvSpPr/>
          <p:nvPr/>
        </p:nvSpPr>
        <p:spPr>
          <a:xfrm>
            <a:off x="6063120" y="5572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183"/>
          <p:cNvSpPr/>
          <p:nvPr/>
        </p:nvSpPr>
        <p:spPr>
          <a:xfrm>
            <a:off x="4289040" y="4143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Дуга 139"/>
          <p:cNvSpPr/>
          <p:nvPr/>
        </p:nvSpPr>
        <p:spPr>
          <a:xfrm rot="7590000">
            <a:off x="1479960" y="3252960"/>
            <a:ext cx="247680" cy="268560"/>
          </a:xfrm>
          <a:custGeom>
            <a:avLst/>
            <a:gdLst/>
            <a:ahLst/>
            <a:rect l="l" t="t" r="r" b="b"/>
            <a:pathLst>
              <a:path stroke="0" w="247650" h="268288">
                <a:moveTo>
                  <a:pt x="70547" y="13052"/>
                </a:moveTo>
                <a:cubicBezTo>
                  <a:pt x="126344" y="-15760"/>
                  <a:pt x="193209" y="4418"/>
                  <a:pt x="227220" y="60332"/>
                </a:cubicBezTo>
                <a:cubicBezTo>
                  <a:pt x="257533" y="110167"/>
                  <a:pt x="253810" y="175704"/>
                  <a:pt x="218084" y="221135"/>
                </a:cubicBezTo>
                <a:lnTo>
                  <a:pt x="123825" y="134144"/>
                </a:lnTo>
                <a:lnTo>
                  <a:pt x="70547" y="13052"/>
                </a:lnTo>
                <a:close/>
              </a:path>
              <a:path fill="none" w="247650" h="268288">
                <a:moveTo>
                  <a:pt x="70547" y="13052"/>
                </a:moveTo>
                <a:cubicBezTo>
                  <a:pt x="126344" y="-15760"/>
                  <a:pt x="193209" y="4418"/>
                  <a:pt x="227220" y="60332"/>
                </a:cubicBezTo>
                <a:cubicBezTo>
                  <a:pt x="257533" y="110167"/>
                  <a:pt x="253810" y="175704"/>
                  <a:pt x="218084" y="221135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174"/>
          <p:cNvSpPr/>
          <p:nvPr/>
        </p:nvSpPr>
        <p:spPr>
          <a:xfrm>
            <a:off x="1219320" y="3500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175"/>
          <p:cNvSpPr/>
          <p:nvPr/>
        </p:nvSpPr>
        <p:spPr>
          <a:xfrm>
            <a:off x="1571760" y="3429000"/>
            <a:ext cx="3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Дуга 143"/>
          <p:cNvSpPr/>
          <p:nvPr/>
        </p:nvSpPr>
        <p:spPr>
          <a:xfrm rot="20935800">
            <a:off x="7391160" y="1878120"/>
            <a:ext cx="236520" cy="190440"/>
          </a:xfrm>
          <a:custGeom>
            <a:avLst/>
            <a:gdLst/>
            <a:ahLst/>
            <a:rect l="l" t="t" r="r" b="b"/>
            <a:pathLst>
              <a:path stroke="0" w="236538" h="190500">
                <a:moveTo>
                  <a:pt x="118269" y="0"/>
                </a:moveTo>
                <a:cubicBezTo>
                  <a:pt x="164224" y="0"/>
                  <a:pt x="206018" y="21439"/>
                  <a:pt x="225448" y="54979"/>
                </a:cubicBezTo>
                <a:cubicBezTo>
                  <a:pt x="249661" y="96777"/>
                  <a:pt x="233210" y="146541"/>
                  <a:pt x="186397" y="173109"/>
                </a:cubicBezTo>
                <a:lnTo>
                  <a:pt x="118269" y="95250"/>
                </a:lnTo>
                <a:lnTo>
                  <a:pt x="118269" y="0"/>
                </a:lnTo>
                <a:close/>
              </a:path>
              <a:path fill="none" w="236538" h="190500">
                <a:moveTo>
                  <a:pt x="118269" y="0"/>
                </a:moveTo>
                <a:cubicBezTo>
                  <a:pt x="164224" y="0"/>
                  <a:pt x="206018" y="21439"/>
                  <a:pt x="225448" y="54979"/>
                </a:cubicBezTo>
                <a:cubicBezTo>
                  <a:pt x="249661" y="96777"/>
                  <a:pt x="233210" y="146541"/>
                  <a:pt x="186397" y="173109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148"/>
          <p:cNvSpPr/>
          <p:nvPr/>
        </p:nvSpPr>
        <p:spPr>
          <a:xfrm>
            <a:off x="7583400" y="1773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172"/>
          <p:cNvSpPr/>
          <p:nvPr/>
        </p:nvSpPr>
        <p:spPr>
          <a:xfrm>
            <a:off x="4003200" y="4071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172"/>
          <p:cNvSpPr/>
          <p:nvPr/>
        </p:nvSpPr>
        <p:spPr>
          <a:xfrm>
            <a:off x="4646160" y="4071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268280"/>
            <a:ext cx="7772400" cy="30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ru-RU" sz="6600" spc="-1" strike="noStrike">
                <a:solidFill>
                  <a:srgbClr val="800000"/>
                </a:solidFill>
                <a:latin typeface="Times New Roman"/>
              </a:rPr>
              <a:t>Площад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imes New Roman"/>
              </a:rPr>
              <a:t>Решите задачи          №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"/>
          <p:cNvSpPr/>
          <p:nvPr/>
        </p:nvSpPr>
        <p:spPr>
          <a:xfrm>
            <a:off x="1042920" y="2060640"/>
            <a:ext cx="2160720" cy="2592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 flipV="1">
            <a:off x="1042920" y="3933720"/>
            <a:ext cx="1873440" cy="72072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7"/>
          <p:cNvSpPr/>
          <p:nvPr/>
        </p:nvSpPr>
        <p:spPr>
          <a:xfrm flipV="1">
            <a:off x="2771640" y="4149360"/>
            <a:ext cx="21600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8"/>
          <p:cNvSpPr/>
          <p:nvPr/>
        </p:nvSpPr>
        <p:spPr>
          <a:xfrm flipH="1" flipV="1">
            <a:off x="2700360" y="4005000"/>
            <a:ext cx="7128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111600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2843280" y="314172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1908000" y="472428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14"/>
              <p:cNvSpPr txBox="1"/>
              <p:nvPr/>
            </p:nvSpPr>
            <p:spPr>
              <a:xfrm>
                <a:off x="4965840" y="1628640"/>
                <a:ext cx="1882800" cy="432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5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8"/>
          <p:cNvSpPr/>
          <p:nvPr/>
        </p:nvSpPr>
        <p:spPr>
          <a:xfrm>
            <a:off x="395280" y="1700280"/>
            <a:ext cx="5040360" cy="2571840"/>
          </a:xfrm>
          <a:prstGeom prst="parallelogram">
            <a:avLst>
              <a:gd name="adj" fmla="val 48996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9"/>
          <p:cNvSpPr/>
          <p:nvPr/>
        </p:nvSpPr>
        <p:spPr>
          <a:xfrm>
            <a:off x="1692360" y="1700280"/>
            <a:ext cx="0" cy="259236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0"/>
          <p:cNvSpPr/>
          <p:nvPr/>
        </p:nvSpPr>
        <p:spPr>
          <a:xfrm>
            <a:off x="1692360" y="1700280"/>
            <a:ext cx="3240000" cy="93672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1"/>
          <p:cNvSpPr/>
          <p:nvPr/>
        </p:nvSpPr>
        <p:spPr>
          <a:xfrm>
            <a:off x="1692360" y="4005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2"/>
          <p:cNvSpPr/>
          <p:nvPr/>
        </p:nvSpPr>
        <p:spPr>
          <a:xfrm>
            <a:off x="1908000" y="4005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3"/>
          <p:cNvSpPr/>
          <p:nvPr/>
        </p:nvSpPr>
        <p:spPr>
          <a:xfrm flipV="1">
            <a:off x="4788000" y="2420640"/>
            <a:ext cx="712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8"/>
          <p:cNvSpPr/>
          <p:nvPr/>
        </p:nvSpPr>
        <p:spPr>
          <a:xfrm>
            <a:off x="4859280" y="242100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9"/>
          <p:cNvSpPr/>
          <p:nvPr/>
        </p:nvSpPr>
        <p:spPr>
          <a:xfrm>
            <a:off x="1547640" y="43657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0"/>
          <p:cNvSpPr/>
          <p:nvPr/>
        </p:nvSpPr>
        <p:spPr>
          <a:xfrm>
            <a:off x="1547640" y="43657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3"/>
          <p:cNvSpPr/>
          <p:nvPr/>
        </p:nvSpPr>
        <p:spPr>
          <a:xfrm>
            <a:off x="4932360" y="292428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5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24"/>
              <p:cNvSpPr txBox="1"/>
              <p:nvPr/>
            </p:nvSpPr>
            <p:spPr>
              <a:xfrm>
                <a:off x="5364000" y="3548160"/>
                <a:ext cx="2624400" cy="23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4,  b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Задача №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5"/>
          <p:cNvSpPr/>
          <p:nvPr/>
        </p:nvSpPr>
        <p:spPr>
          <a:xfrm>
            <a:off x="755640" y="1989000"/>
            <a:ext cx="2808360" cy="280836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"/>
          <p:cNvSpPr/>
          <p:nvPr/>
        </p:nvSpPr>
        <p:spPr>
          <a:xfrm>
            <a:off x="611280" y="3500280"/>
            <a:ext cx="28872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7"/>
          <p:cNvSpPr/>
          <p:nvPr/>
        </p:nvSpPr>
        <p:spPr>
          <a:xfrm>
            <a:off x="1979640" y="1773360"/>
            <a:ext cx="0" cy="36036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8"/>
          <p:cNvSpPr/>
          <p:nvPr/>
        </p:nvSpPr>
        <p:spPr>
          <a:xfrm>
            <a:off x="3348000" y="3284640"/>
            <a:ext cx="36036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9"/>
          <p:cNvSpPr/>
          <p:nvPr/>
        </p:nvSpPr>
        <p:spPr>
          <a:xfrm>
            <a:off x="2124000" y="4653000"/>
            <a:ext cx="0" cy="28872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10"/>
              <p:cNvSpPr txBox="1"/>
              <p:nvPr/>
            </p:nvSpPr>
            <p:spPr>
              <a:xfrm>
                <a:off x="4932360" y="135000"/>
                <a:ext cx="2879640" cy="27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S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81 см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Р</m:t>
                        </m:r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Задача №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4"/>
          <p:cNvSpPr/>
          <p:nvPr/>
        </p:nvSpPr>
        <p:spPr>
          <a:xfrm>
            <a:off x="684360" y="1844640"/>
            <a:ext cx="4895640" cy="27367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179280" y="4292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2916360" y="1413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5651640" y="429264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8"/>
              <p:cNvSpPr txBox="1"/>
              <p:nvPr/>
            </p:nvSpPr>
            <p:spPr>
              <a:xfrm>
                <a:off x="5900760" y="333360"/>
                <a:ext cx="2278080" cy="38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r>
                          <m:t xml:space="preserve">∠</m:t>
                        </m:r>
                        <m:r>
                          <m:t xml:space="preserve">С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А</m:t>
                        </m:r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Задача №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4716360" y="4149720"/>
            <a:ext cx="36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5"/>
          <p:cNvSpPr/>
          <p:nvPr/>
        </p:nvSpPr>
        <p:spPr>
          <a:xfrm>
            <a:off x="4572000" y="4149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1187280" y="407664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19"/>
              <p:cNvSpPr txBox="1"/>
              <p:nvPr/>
            </p:nvSpPr>
            <p:spPr>
              <a:xfrm>
                <a:off x="1366920" y="3954600"/>
                <a:ext cx="3060720" cy="25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АВС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AutoShape 2"/>
          <p:cNvSpPr/>
          <p:nvPr/>
        </p:nvSpPr>
        <p:spPr>
          <a:xfrm>
            <a:off x="684360" y="1844640"/>
            <a:ext cx="4895640" cy="27367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79280" y="4292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2916360" y="1413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5724360" y="429264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8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0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19"/>
              <p:cNvSpPr txBox="1"/>
              <p:nvPr/>
            </p:nvSpPr>
            <p:spPr>
              <a:xfrm>
                <a:off x="4788000" y="260280"/>
                <a:ext cx="4146480" cy="351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∠</m:t>
                        </m:r>
                        <m:r>
                          <m:t xml:space="preserve">А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АВС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4" name="Line 21"/>
          <p:cNvSpPr/>
          <p:nvPr/>
        </p:nvSpPr>
        <p:spPr>
          <a:xfrm>
            <a:off x="1692360" y="3213000"/>
            <a:ext cx="287280" cy="21600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2"/>
          <p:cNvSpPr/>
          <p:nvPr/>
        </p:nvSpPr>
        <p:spPr>
          <a:xfrm flipH="1">
            <a:off x="4066920" y="2997360"/>
            <a:ext cx="290520" cy="21564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3"/>
          <p:cNvSpPr/>
          <p:nvPr/>
        </p:nvSpPr>
        <p:spPr>
          <a:xfrm>
            <a:off x="1116000" y="4149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Задача № 5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4"/>
          <p:cNvSpPr/>
          <p:nvPr/>
        </p:nvSpPr>
        <p:spPr>
          <a:xfrm rot="10644000">
            <a:off x="1116000" y="1052640"/>
            <a:ext cx="4681440" cy="2930400"/>
          </a:xfrm>
          <a:custGeom>
            <a:avLst/>
            <a:gdLst>
              <a:gd name="textAreaLeft" fmla="*/ 975240 w 4681440"/>
              <a:gd name="textAreaRight" fmla="*/ 3706200 w 4681440"/>
              <a:gd name="textAreaTop" fmla="*/ 610560 h 2930400"/>
              <a:gd name="textAreaBottom" fmla="*/ 2319840 h 293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187280" y="162864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1619280" y="2349360"/>
            <a:ext cx="288720" cy="14292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7"/>
          <p:cNvSpPr/>
          <p:nvPr/>
        </p:nvSpPr>
        <p:spPr>
          <a:xfrm>
            <a:off x="1547640" y="2565360"/>
            <a:ext cx="287640" cy="14436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8"/>
          <p:cNvSpPr/>
          <p:nvPr/>
        </p:nvSpPr>
        <p:spPr>
          <a:xfrm flipH="1">
            <a:off x="4932000" y="2133720"/>
            <a:ext cx="360360" cy="14292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9"/>
          <p:cNvSpPr/>
          <p:nvPr/>
        </p:nvSpPr>
        <p:spPr>
          <a:xfrm flipH="1">
            <a:off x="5003280" y="2349360"/>
            <a:ext cx="360360" cy="14292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3059280" y="47628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2987640" y="407664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1403280" y="335772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4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13"/>
              <p:cNvSpPr txBox="1"/>
              <p:nvPr/>
            </p:nvSpPr>
            <p:spPr>
              <a:xfrm>
                <a:off x="6443640" y="1989000"/>
                <a:ext cx="1933560" cy="237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S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задача №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Задача №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5"/>
          <p:cNvSpPr/>
          <p:nvPr/>
        </p:nvSpPr>
        <p:spPr>
          <a:xfrm rot="19932000">
            <a:off x="1775880" y="2377800"/>
            <a:ext cx="1946520" cy="3806640"/>
          </a:xfrm>
          <a:prstGeom prst="diamond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6"/>
          <p:cNvSpPr/>
          <p:nvPr/>
        </p:nvSpPr>
        <p:spPr>
          <a:xfrm>
            <a:off x="1763640" y="3645000"/>
            <a:ext cx="216000" cy="14436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7"/>
          <p:cNvSpPr/>
          <p:nvPr/>
        </p:nvSpPr>
        <p:spPr>
          <a:xfrm>
            <a:off x="2843280" y="3141720"/>
            <a:ext cx="0" cy="28728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8"/>
          <p:cNvSpPr/>
          <p:nvPr/>
        </p:nvSpPr>
        <p:spPr>
          <a:xfrm>
            <a:off x="3492360" y="4653000"/>
            <a:ext cx="216000" cy="14436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9"/>
          <p:cNvSpPr/>
          <p:nvPr/>
        </p:nvSpPr>
        <p:spPr>
          <a:xfrm>
            <a:off x="2627280" y="5084640"/>
            <a:ext cx="0" cy="28908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476360" y="4508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1547640" y="227664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3564000" y="3573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3419640" y="5877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4"/>
          <p:cNvSpPr/>
          <p:nvPr/>
        </p:nvSpPr>
        <p:spPr>
          <a:xfrm>
            <a:off x="1835280" y="2565360"/>
            <a:ext cx="1800000" cy="338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5"/>
          <p:cNvSpPr/>
          <p:nvPr/>
        </p:nvSpPr>
        <p:spPr>
          <a:xfrm flipV="1">
            <a:off x="1835280" y="3860280"/>
            <a:ext cx="1800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16"/>
              <p:cNvSpPr txBox="1"/>
              <p:nvPr/>
            </p:nvSpPr>
            <p:spPr>
              <a:xfrm>
                <a:off x="5076720" y="2349360"/>
                <a:ext cx="2132280" cy="388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8T23:37:28Z</dcterms:created>
  <dc:creator>Хаскины</dc:creator>
  <dc:description/>
  <dc:language>en-US</dc:language>
  <cp:lastModifiedBy>ch-svetlanan@yandex.ru</cp:lastModifiedBy>
  <dcterms:modified xsi:type="dcterms:W3CDTF">2023-01-01T11:35:04Z</dcterms:modified>
  <cp:revision>10</cp:revision>
  <dc:subject/>
  <dc:title>Добрый день, 8А класс и  уважаемые родители.</dc:title>
</cp:coreProperties>
</file>