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  <p:sldId id="266" r:id="rId75"/>
    <p:sldId id="26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slide" Target="slides/slide11.xml"/><Relationship Id="rId76" Type="http://schemas.openxmlformats.org/officeDocument/2006/relationships/slide" Target="slides/slide1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5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6" name="PlaceHolder 1"/>
          <p:cNvSpPr>
            <a:spLocks noGrp="1"/>
          </p:cNvSpPr>
          <p:nvPr>
            <p:ph type="dt" idx="6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7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0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0" name="PlaceHolder 4"/>
          <p:cNvSpPr>
            <a:spLocks noGrp="1"/>
          </p:cNvSpPr>
          <p:nvPr>
            <p:ph type="sldNum" idx="6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6599A-8130-4642-A90B-D4FC4C6F7DF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10D8C-8DF9-4260-8992-741A20D87F3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8DA80-F10E-4A86-9B7F-9A97DB9F297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8D5DA-B3DF-49D2-9BA9-47BFFC275F9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7AA8D-4408-4BA1-9B2E-A66F6D3CDC6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E6176-3703-4CED-AAE9-B605607A2A8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C232E-F398-4A6C-B9F5-8E10EC5DB15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9BD69-8C55-4791-B067-F51812A99BB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B651C-DCAE-43EB-97CE-1D2218B1F63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4D60C-A82F-4501-9BA4-608A3F59E06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4ECB5-8CF4-4190-8021-1CD6DCF0407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5AAE1-54C4-4BBB-9D90-17C523CC597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5F65B-E8BD-4E15-97E7-04E070BEB47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E1A6-3CFB-484C-897C-EDCFCB497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1913-A9FC-4738-A848-3C92D6E35B2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571FF-0BE2-4979-90F1-C557259B5B6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F0D2E-7001-495C-AA2B-9718812B7F1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21547-3B2D-4EE2-ABCA-A3C0FF56E04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DEE68-70B5-4198-AEC4-EAD887C8845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7F29B-1823-4ABE-82F8-163BF5C911D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EA31F-22A5-409E-9B1D-4408A4D114E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B502C-2003-4DBD-B8DA-0FFBC0B4B1A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7CB4C-5B7B-4AA1-B91C-F87C632A25F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40EBB-A8E1-4738-A0F2-F5CC74F9E7B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AD3F41-D281-49DD-B396-A21E45978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1B56-2541-497B-A568-40256AB2BC0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9E65A7-80D5-46C0-A5AD-514F6853DA3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1827BC-DFBA-4026-BACA-A82612433F7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819A42-5CB1-41C1-9EC5-F81704193DB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9BB0F9-FB69-4663-AD9E-EBD6233638F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126CBD-FDDB-4A08-9DFC-C87D18B2966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62113E-8601-4F4E-8877-2D9C64A61F5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0080E0-4146-4410-B9B0-FF0A2E9E22A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9F9C5C-03E6-4940-9AA6-E7DDBF0DE68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0AF32F-279C-4CEF-A458-777558288A3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6B029F-8DB4-41B6-85C2-EA44F49CC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6D932-B91F-464E-B375-C26E26131BB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902E63-453A-4746-AEAB-D860AFC5EA6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4B5627-A68C-4B07-A95F-6AEF2AB7B06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F410AE-309B-4EA0-9FA8-B808EA92B09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4398C9-43D0-4EF6-9BD6-5E27A8D76A5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570235-E6E3-4528-9680-842A67D2E69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87B925-CBF7-4EAF-A57A-B925705B101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E7AF5A-6DEA-41BC-B139-39CB9465A67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81FFB7-0970-48EF-BE7A-018A0E137EF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0DC232-0A3F-4CBF-80AA-9927FC241B2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A62859-1F0F-485E-B570-241E84540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9CB87-6422-4158-AA7A-A4B41838CCC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CF60E0-8474-4518-BAFD-E2FB572377B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96F060-D542-4FAA-8E65-9FDB5DE19CE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E77435-690B-4460-9079-1AA3C70E9C7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B741D-FA9D-4CC1-B4A5-A55F5E921E5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2F1E7-81D8-46ED-9816-4C133C5DA06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C45D9-A849-453F-A3B3-74F0C5679E1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2FFE2-EBA2-44E5-9651-E98EABBE5FB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4AC0A-E430-4C13-80C9-C61E3899F3F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3D09C-8F23-47D6-B48F-5012F0DBB7C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AC52E-153C-4658-BD85-593FC935CA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C035C-10F3-44C3-BB09-EA031605CD4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017D9-60D0-4DE7-92B1-10F03121346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345D0-AFEF-4826-AC86-903440A6235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AC35A-9164-4416-AB5B-997C4FDBB43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3E4C3-5873-440A-AF2C-D04C3188087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D1C33-308B-4BD4-A645-1490544B569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A68DE5-9904-46B3-95BF-E9D0F423853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12F083-654C-4C99-9B3C-520EF0C035D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671B6D-9CB8-4A26-89E9-652924264FA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B1FD85-DE39-4276-8C72-FD765DC9102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70F069-4488-45C1-B880-76DDF9D102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BB567-122A-4C9B-94B3-809E29370EE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F5A090-E5B8-435D-ACA3-8473B82325D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31FC19-E5CB-4732-8696-4AA6B0A4E10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F3CBAA-9D20-4203-9C00-73CB1849817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39CA2B-6476-4455-8A65-0DC1EAE7382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451A03-8D8D-4392-A2D4-2BA8D539A72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D6EA41-C7CC-4D98-AECA-921F6A1E383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3F7BDC-12F4-424D-95C9-7DDE9D0C96D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256F82-036D-4AB4-A77C-0E8CEA4FA3E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FA20AE-EE6C-4CCB-A7F7-F51E8BF0A25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0F373E-A588-4A88-98A3-A36A7F64CC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E98A2-C64E-489B-8FAF-D3FF2D887B5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1993C5-A1F1-44BB-8FFC-62FA47DF598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F9151D-9861-42AB-82D1-3B24262DFE1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599CAF-BA29-470D-98EE-91DD16AF3A5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BD1C52-8501-4DC2-A35E-EBB4164DBDE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F8D3FC-9F52-48AF-A305-A8C84E5AA89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B5850D-F427-466B-AD86-905A14B2C06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5D9A94-3F27-4576-A5B2-945BE932168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18D560-1AB0-4423-B72E-96FDA130532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499DE2-CEFB-47D3-84D1-C1EDA59F891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551CD-4635-4D07-A3C3-34A30EE6EC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F741B-9F69-4408-9B74-7AD8F806AC2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B2FB9-3078-4202-9195-6B894A138B0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69327-E1B7-4786-B211-50B01D81201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165E8-7FF4-49B0-B969-A37B3E30D56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63C21-5203-4C72-8BFD-DF0FDBBCF2E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E5E9C-C6E2-475B-9BEF-4AA156E95DB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BEFB6-D550-4686-9D93-6942B662108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B7405-F6BB-43C8-9B71-612AAE21F03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27C1E-9AC3-40E6-BEC8-B110DEE2AD5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6DB0C-09DA-49C1-B187-8F7D314330B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7C205-5D75-4493-A7C9-0CCBB485C4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563A4-1B6D-472D-9E29-0E204E64D50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6B859-2860-4464-817B-AFD8DC43F90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8E8EBA-8162-42B4-BB55-43D6B24D79D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68C59C-608A-415A-8B8C-2E853A1D858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881F93-1D44-4E41-AD96-4B38B2D1BE5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92B878-AFCE-49FF-BC85-776D1A87E4F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FF2D75-ACBB-43D7-8442-D7CCE9B9B64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A286BE-0982-4BF8-8426-E73193C46D8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ADAE6A-21CB-4342-A72F-09407BFDBE5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D79ABF-5400-449B-9F81-20F2A91DA1C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07216D-3FDD-4619-9DFE-97E025E678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7DE77-88C5-4F2C-AA8C-E9F7956BC21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19DD26-8726-4957-8AD8-78B93933721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9C6415-18F7-4DBE-88A9-D1A99415B7C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3EF90F-9309-463D-B5BE-F0FB6DDAF6B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08D1D-BEB8-48F0-8CC8-FE33693FA54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289B7-B530-4B33-9E06-C86CC09C445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D0C102-426D-4083-8D30-AA34328437D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E54FE8-DAC5-4775-B5AF-68FA470936B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F108C8-E8A5-4CF2-8FDA-DB70BA2F086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857FB3-BA90-408C-AD5E-E5F71B0BD5E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99AA2A-1C8E-4F57-90D1-7FC7BB46C0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B561-F35B-4AA4-87CB-89A455463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81D55-A894-4103-BB4E-5415E02FDF9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63E3DE-CF18-42B5-9D44-599DAD6E795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67E97D-1A6F-4C7C-A14B-B4506B8A216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B8631E-1FFF-4288-BD34-94A6C19A038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FE2A87-FAAE-4164-BA63-817AE4CC71B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34F1A7-CC6C-48E9-8AEC-106B729AFA8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BF1A3-3683-40C7-911D-FB8B2B6AB20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A2739-1E8A-4CFF-BDC0-2CA6BC35A6D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659BB-3BD6-41B8-9860-E7298676F27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704E0-FA72-45F3-9BF8-2E436AE621C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7FC54-A519-4270-A9EC-98D556457C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CBA1F-566E-4DA1-9274-864B068A3FA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15CD9-3984-4C9D-8120-5391A07277F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7BF56-8609-4338-A62D-4742F759FE1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5EAB7-FE22-41D2-83F7-E80CBE27603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B7C6B-D6F4-46E9-94B0-7262F576767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220DC-CC19-49F0-B792-2A2761FA027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C3649-BA1F-4915-AEA5-9A2753B3B85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8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9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7F2CC-6E3C-45F4-AB31-EFCAB6DE37F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1079D4-F1CA-4608-B15C-945309C69B8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CE4AE0-CB47-4660-ADFB-73A3AFD884F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028FE4-03ED-497B-9766-915A06273A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FB0F4-17B4-4521-996F-3BDA27254D4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48AAAF-8D4C-478C-BB79-FC0AF5FC8A1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B7122C-03A4-4F3A-8E06-23A7EDD7F3A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CED075-6574-4ECB-A4B4-4DFDC446015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716D60-01FD-44CD-BE88-896FDEF00F4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EC1A9C-CDEE-4F03-8530-C3F4B29B774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131B48-ECCD-4B6D-BE7F-FF6D693D526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6B8E51-DAD3-43ED-A0B1-B03EF8AB210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6EDB09-4388-41D1-ABBB-0648F74B17E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2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3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73A0B2-2A89-43AC-A1FC-C24B0C4075F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9CD3C0-4BD0-49CB-A34A-D325C6B1A1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B79B5-9BC4-4868-B3B6-9A316256C6A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7EC0FD-4D4F-47FE-BA22-82B842CED53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5E3A20-2338-4533-BA9B-CC0EA8E45E1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DC883C-E803-4313-AF68-317EFC5AB3E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B42773-C954-447C-813F-FA13324FB6A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F98CC4-F0C1-4C45-B1E7-9ADDB9A7ECF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9243F6-D6A9-49D3-8A6F-BE1D50674BB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5923A0-82E1-4FB1-854B-688A3BDE141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5A8D48-3258-4014-B80C-F73ED2275E6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EBC28E-9F58-4D4A-9178-23CCF3792FB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187FEE-D9A2-4A7A-8AF8-567DD7C9EF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8E5B5-C4C4-4ED4-8592-C4E188697F4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6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7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E0276A-03C6-4587-9CF4-FFE5D322349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B87E2-D37B-4245-872F-70FC5F082A1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2E3D8-6983-4D52-A652-B12F0D7B3E1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70DFC-BC46-4D0C-AC3B-3D518D470B4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2592C-08B5-4F3E-BD38-D4A8B63F178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742CC-6566-4F9B-B9C5-149DF4391F0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8CB39-0EF7-4C0A-88D4-0EA6DE1B580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5BB62-E1E1-48E3-BA9F-131B814451D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E14AF-6EE8-417D-8A89-87F232EADD3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64101-CFC3-402A-97B8-B7646D227D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A25C-AA68-4D98-BC9D-2E1D07D5976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21DA0-4EE3-46D4-81A0-C4DBA5D8F00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A0974-37D0-4EAA-BE90-CC28E853BF9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0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1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0FDD3-BA52-43F1-856F-EB0E9A13310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6A2121-39E7-467C-AD9B-0E1C656551F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EAE0B2-6D89-4FD2-B588-4F4385B3BE5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7CD73E-7855-4ACC-8DB4-A60F181E6D2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6E91EE-6060-4A98-978A-F6B8B6078E0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88E59D-AB37-49DD-82F2-9B2B449BC8D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4C47A0-E290-449A-959C-24B998AF315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03A9C4-239B-426D-8B4E-C6EDC595F5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A0D-7EC0-49CA-BB92-D4B2D06A3FE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9C6819-104D-4B1D-81B5-85D927C9496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8F6DA7-698F-4F7A-A533-E69DEA567CD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F7153E-BE22-492B-8B8A-BBEA5FBAD32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695E9D-DE80-4942-9CEC-B4075CAB1B9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3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4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5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CD8010-4141-4C22-AD8E-DE0C21F1B2E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D9ADAB-F633-428E-B100-BC0891467DC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2F44FD-E8C6-4B32-B4E3-AFBA6652A02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0B2C52-FED9-4F9F-AF00-E7816189511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213FEF-6DFD-45A9-9D2A-EC4504F9FEC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7F19EE-CDB0-449E-9607-F82CDFC3A0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3612-FE92-4BF4-B229-E9CA752C62C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34DCBD-FE4F-45BA-AD14-BFE715057DA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621C11-B0F0-4587-ADEF-20866F86CEA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A31D6A-C5DE-4065-A938-0C09972DF28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0D73D8-6107-46F1-ABA7-CE94948EA54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6347FA-42CE-4CAB-9A81-985F18FC333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B1EA1B-C2A6-4B8B-BAFE-C3AC1302D7E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C4D9F9-C36C-4A17-84AC-DFC732216CB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78207-1550-4319-857C-54D1E4636BF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6275D-857A-4F8A-AC1B-0C45FC9C134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89B37-6117-4BB9-89EF-E0801CDA67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5B36-D45F-4BE5-824E-F54FCE88780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4C45A-E803-4A4A-9CBE-074AD5325AC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4A3D3-B3EE-496D-9821-389E0B893E6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4B724-AA93-41E4-820B-DF3F17E5443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A0EDE-2C1E-4FF0-99F4-8870979C836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B6B8B-0D3C-4882-BB65-62A25491C61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AA9B8-153E-4087-AAE8-D329166B131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54750-B1AE-44B3-934E-60E284F802A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1166E-7F24-4D69-A8C6-15E0BB5B159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1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2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3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EC0AE-1C96-4CBD-9669-C5D467EECD9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57932-EED2-44FB-9373-58F853AE69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25EB-014A-446D-9800-DD512A04A47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A34E52-0C7F-498E-AB3F-59DA5DC7D41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F57EB9-16FB-4207-8858-4A792A92158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ADE76-0452-46B3-80FB-F01A3FA82F9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C7B48C-DFE4-4B8D-9E3B-2A9EE1B2E99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87A15-F103-4473-8975-869ABD4350A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F529C0-8CE5-4798-9A98-0051C873D68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3CA1F2-E2D2-4452-B8F9-53F29095D2C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E43F2-30AC-4ECF-9057-0C430EC8651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8A0152-AD27-45EF-B2D1-4F6AD1FD7AE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0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91ECEF-6CC0-4E41-B8F4-9D0A9F3F99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61BC-E7D8-45DB-9F8B-F3BA36D90F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569-731E-4A83-9234-CFFD23CF53D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6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7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12FF6-6B45-4718-B6CF-5CEEF5174FB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32DADF-4338-4CF5-BFDF-DBDDDBBE9F5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5673F1-4A1B-41C8-866F-80145F3C3EE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CFD7C0-2AAD-4CFA-BA18-6B14E9E5D69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92FE9D-6CA7-4641-B380-0EB41DDA1BA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241898-CAB1-47C8-BFA7-96BD7282A4A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2CC139-8CCC-4522-BB71-5C52FFC02A8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C3F92B-676B-4320-8195-280E355752D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586EFD-8A07-4E1A-936A-E98045E88D6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A16B58-1FD9-4373-9CDA-E8C76AA3CE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58E-77D5-421A-8E15-442BCDC5E01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1BE89B-184B-4899-9095-3632009CC4C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F4B162-9AE1-4736-89DA-80CD8C7433F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A91F21-2306-4E72-A921-4DD21B5E59D1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1BDF5-28AA-44FB-8A37-C240CC66F817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DB7C7-F422-4176-AE73-6BF76AABD9FF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40D40-CE4A-4C1C-B936-7E8B0828016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6DE5B-565C-4327-BC15-2E13761B74A4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289C9-8222-4132-BDA8-43D499FEE6F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9DE4D-1F0D-4A53-8162-F9F2F99EB2E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A0859-62A3-46A9-A938-CC1086DF78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1CA9-EA79-468F-954E-AEE10DD696A7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7314B-054A-43E8-928E-41135552767C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265C8-C529-4BD2-A98B-B7370139758C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80E3C-FC1A-4120-BCA4-50538C34C757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55319-7C00-40E3-9200-C043BD927A59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4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5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CDF70-0DF2-4C54-A0DC-AA4EB3B93B44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B8BB0-653B-4EC7-8DF2-DFE172CB77AE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C57421-B6A6-48B3-AA7D-5A32823C4797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6B6210-AE39-4822-B0D0-8F76C9653263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2B5B5D-A1D9-4F53-892D-4216D5B03270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3B4456-0272-4A83-A56A-7C36851F81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01AC-2406-4DEF-A220-5D179BB5D720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D1DFA-816E-4072-8143-6BE77D5AF62A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DC875-3EF2-47A6-909F-87B25AAD08E9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07B8BA-2070-4FAF-95D2-384259C03AA3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D8BFBF-017D-425C-A698-C99585F5F31A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62452F-3DE9-47D9-A42A-2C1F41DE5B51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2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BAD96C-198D-4314-9404-E6040FA79FB0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7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8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9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83C5C7-1BF3-428E-9A66-5FB8939BDBDE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9FFADE-2319-403A-9B43-FA8EBC6F97A9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3D8755-1C2D-4B08-933D-93178BB36453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AF6F2B-8280-4DAE-A19B-2508E40203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674-D486-4917-B96D-F0C791C6DE9C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453B8F-CEF3-4E20-975E-26E0CEE82AC8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17CB55-BF17-4895-8402-FD276F910C13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C0AE10-736F-4880-92FA-264C8F46D3F3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B5D214-6B40-40F4-B173-BB29BC31664E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EC7ECE-2333-469B-A788-A29C09320EEB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7F511A-773B-4D7B-883B-B59F8693864C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0B6A3B-D26D-436C-949A-9F8E0CB7865A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B5C094-8041-4AB0-B45A-85E316D1A985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CB274B-65A7-4954-8529-054D502087F4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A80F4-97EA-4368-98CE-D2D0DD5051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C9C-252D-48AA-8830-37E18622DFED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D0412-B677-4CEB-ADBF-6F286E418207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02470-36D9-48EE-B26C-C8CA707B5473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0B217-3C36-4444-925C-B26C80F7BCBC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213F3-73A7-4614-884F-A4DB4949FFBA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23DCB-8FC8-4766-B88A-3A9FDC7CD7AC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5DCF6-0911-4A73-83FE-25F72FA2BC53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02CA0-7125-45DC-94A9-BF80C171BFDA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9B9F2-933C-4969-ACB9-01F9CC711F05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3D6E7-0C8D-4574-BBF5-19626A593FE2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D98E4-08D2-44F3-B1FC-65435ABDB8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BDB0-9FE2-45ED-81D4-60FDD5C44BBD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EEED1-A10F-415B-95E2-37E45ED87884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B1DF79-5C84-4F4E-B263-DD9B696700B0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A30A04-C43A-44CE-97F5-A677EB09D2F9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6AA8A0-90F0-4614-8686-75AAB39C62AA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26A8940-62DE-443C-8967-3DA32797D5A5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BB78D5-D3FC-45E9-B9DD-96FB60C7279A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F0A6F1-6D2E-4DA9-891D-DDC423659F9D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656C17-351D-45BC-84F5-C0750BEAA5CA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87BB25-8948-4E96-BC67-9CC81C311258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EDD2EB-50D8-4C1C-9EEA-D6CF0E4667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36BC3-198C-41C1-A71A-30A562F514EF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49B7ED-8F20-465D-87E5-499F007BFEF4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3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6A3D9F-5DA5-4408-BDC8-5052181C0863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8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9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0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A29090-8EE4-42F0-8EC4-1D467DC75958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7A045A-590B-413F-9371-68B7302BB12D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7E92CC-346D-43ED-B013-0F877E65F716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E3DD55-CC47-46AF-BED6-C2E5DC33E452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F9A11C-95CB-47C8-AE7E-A251ABD644C6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725B81-1BEE-436C-880B-3D355D7B027D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96BCA6-6B38-4A61-8732-F68E153539D8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2368FE-52B5-4D91-AE98-7472082D76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42807-5ED8-4534-8E79-73D26159F571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341320-7998-4164-A1C8-23B5AF9AC83C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8C2001-53B1-4BF6-9777-D7CC812313FD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2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E5B5C8-697A-4E49-ABCD-C4960CFEA54D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7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12F78C-9C17-4CD9-AAC2-596C48830B7C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2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3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4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816FAB-F666-40B4-84FB-6448EF5B0239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F281C-77D2-47E6-A3A6-B57BD2530CCD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7C05B-D1B1-4CDC-9AFB-E43385FAB193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9C99F-93B6-4332-B129-44886BD4C55A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27659-B7A6-49A6-A04A-D51044A091CE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E606B-1427-4EF6-B0B5-8E0554C7FA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55579-F060-41CE-8E0C-F267E706ED33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6B2A7-8127-4A51-B7C8-27ED11027F9B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71F5D-4726-4326-9471-4CE1739C7394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9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BCFEC-717E-40B5-94DF-75E34B90AEE5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C817C-4EBE-48D2-A0AA-CF5A64CC1F7E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3A413-3085-403D-8314-D38CAB08CE59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1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7BD17-0DEF-42DA-B53C-3C6C53FAC431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6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7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8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F8C9D-0F47-4127-81DA-73BCC404E102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DEE8E6-AD74-4CD2-91D8-526082C28525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4CCC1-F495-41D9-8331-C35514257E67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184A44-C4BC-4676-8E56-31F93ACC9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C236-8037-4964-A615-3559E99DFC4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3A783-B6D1-4263-A3C6-7CE33CC25EDF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889E8A-6B62-4834-81D3-DE4B69809573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F1A97-5A56-4793-9B47-70F18633CE50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597C2-337B-415E-81F5-E460AE51CF19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FD748C-8AFF-497C-A11A-62BF2012C7A3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C79BB-C0EF-456D-AC16-0195AF8EAF27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0DE580-B609-44DF-9967-4FC62D19BC67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E95E9A-EFAE-4BA4-845B-5056651ACEC7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8FC9AE-81B3-4CBB-8535-2442ADB59BE8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FD70D7-2EF6-4068-AD07-15CD328C4BF7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F3BB7C-FBC5-476D-8AD8-3C23F8BEB9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ECC80-70EC-4A9C-B804-EB50CA179458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D86D4A-8B61-4149-A6C9-F5FF9DFFB17E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0AC053-4A14-4382-B4FC-7C670E18BAA0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624127-0317-43CA-B97B-CB3296E6E1AE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B4FC6F-4C62-4B0B-B47E-5A321C16FB61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2D9EFB-4EF3-4962-8885-8C629EFC3621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8FC8B1-3CAE-4EB6-8D01-F62E2F21B159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76D055-D348-4E49-8287-DF9BC768C41E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BE9621-B5E8-4E60-AEAE-B45D85C2BAFF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93A85B-529E-421D-8927-9FD435D7F715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3FC9EE-2E43-4943-A3B5-3CD48A539E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717E4-26D3-4584-A5D6-A4CC048A87B2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783708-4370-4137-ACDC-9F6C49B9A391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4D35A-B903-4E80-B03D-838055FAD1CC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5715D-4B0A-41A3-A012-D6DA22BE7F67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BAE50-942D-44AD-B64B-A34B33F126CF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DD131-FE26-4619-94D1-33A02753DF3B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DDD0C-1D96-4E2A-A96A-2177BB7726E1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AE601-295B-48B3-A6DF-40842B303FD9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16880-4865-406B-91B9-FE5638A90A93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75756-62A5-4130-A981-A9F02D405FCE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D034B-9569-41BB-8674-82E2383085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F23D7-762E-4244-A8E0-A6C34C4EB80B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7B84B-C646-4263-B452-45006F06B7FF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3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52E2F-A33E-4C73-9246-05297435D382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8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9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0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7DEDC-6A42-42EB-8FB6-B330932B4068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7188C1-65A2-4593-B042-BC7AC9CB6CD6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982715-0F97-44B1-9E5A-3704B904B552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B4556F-F2BA-4C55-8655-7BA901F70DEE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B4FE28-A33D-48F2-8565-67A6C3470515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004151-731E-42B4-9EF3-056AFE846C81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5FAB45-7292-4A61-9743-3FA134717FC5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B25CA9-2513-4D05-9847-FD4564FF27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19AA6-6B7B-44D0-8468-AB886F2DCA02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0D5D24-74B0-427F-B276-9C237F000BC9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652050D-5CEC-4689-B2D8-441A0B52831C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2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33D526-9409-4155-BDA1-C491C7A06428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7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7F384AC-45D3-4C8F-BE63-0EAB36B2C086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2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3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4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23C349-9CE4-4D38-91A9-CDF4B9E20209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CE7B78-E28F-4FC3-A124-EB847AE4A900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7DDA51-8AAB-4675-9B8D-AFBCC956094F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131566-5BB0-4DC5-A81C-7B1C78695971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8F1A77-CF5F-4527-B4AE-5D3771F91DA1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719469-FE4A-45CC-956F-99F33F5EE8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13DBC-DECE-47EE-81CB-93C75EF148E1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27243B-FA3E-4854-A9A4-F0977782235D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D6FB9D-8DE6-4282-AF65-B296E9105CD6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55DBA4-ACF7-4E93-9F6B-BE8F7FADE9DF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0F5EAB-1966-497B-BD4A-0A1FF670DA73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389D98-BE8E-45C2-9467-BD6BE73FF710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1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1E3419-2D2B-442D-B85E-1CF2E51C3582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6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7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8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01AFC5-4479-4A30-B3F8-C7E58D6844A4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F51B79-FB5C-4CED-902C-BF3705D60025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F3368-FD72-4DA1-AF46-ACB677043D68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5C804-1A8D-4E50-BB97-9B1735D1A80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3EFB1-0D5C-4B8B-950D-B7D0368FB649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E3815C-42A6-46EB-B998-AEF9DBF0CE62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BEAB5-1713-47E1-A1D8-548B68CA543F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4BDEF-4DA9-47E1-B2C0-02A5509A899D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CC6A9D-2547-41CB-A059-DB4392675F70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6F2F6-B138-4D1C-A4AC-CEF62E15D7F8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A9B36C-626D-4A2A-B5DD-08CE1B37EE9C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82B41-1E63-4B2B-93BD-CFAD0DC8C6D3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120ACC-B4CC-41C2-BD1B-3F1FE41B0375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76C98-CB1F-407D-B3FA-BB911DD00CD8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B8FADD1-12C8-41AB-B75A-182CE7D8E3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5939A-7861-41DC-B439-AE4C54671F86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0A912D-8749-4595-A566-6AB871F071FE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DB16288-C5B3-4974-B22C-2573911C4289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ED5D587-5E8D-4A8E-A335-3D11304033AA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AB74686-905B-4D07-8A65-27FC87062681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E5CDD90-F7B2-419F-AD18-5FEA010653EC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C20C4B-E170-4ED6-998F-ADDABC75789F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6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8F90F80-BF4F-48E5-B8C5-FC670CE1C9B5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8C0B5BD-2C6D-438B-BDD3-DE4F96E5A6AE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EB907EB-54A1-43B5-828D-A4BFE6CE39A8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8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414DD32-7BD7-4378-9734-47E62EB868B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8011B-6CD7-423A-B8C1-C7ADFE2C5F09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3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4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5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51B9E54-6AA4-4CB9-B7AA-49BB9E689ED7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C27B4E-B6F7-4725-ABC1-F7B634300BF8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C5BF1C-95A4-48D4-B934-545FA2187A2D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B6A1EB-FFE8-4F1C-9ECE-86FACFDDD5F0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DDF2DA-B032-486F-AD11-33FF2490FFF7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7CFBBC-0D57-4800-9CB6-333BCAD7D8CF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050A1E-034D-4594-9F8C-5AB76023D30A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690737-FF21-4176-A699-AC2206365B9E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1162E1-DDF6-4AD4-8549-EEF548D9C38F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160086-C045-4F73-9961-10B2CB4CD32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403AA-CDD2-4368-8906-00613239F80F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8FC1578-7C39-49ED-8016-A1675F4A0FEE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2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80FCE5A-39B5-4EBB-B524-5A2C92BDC3CF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7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8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9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FA6A69-2DC8-495B-AD8B-24865A3679F3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9D8A1B-0C7C-455B-9366-60E1B88B8F5C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FB5A70-7E34-4D90-AD92-81C24CD85968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AFD674-9BD7-4162-B45D-BFDC2EB1E75F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7C5DC5-E14F-4F59-976E-111ED5D1ADB1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F5638A-6F1A-48E2-842A-079C87731C0F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7217C8-ABD9-4A1B-8C27-D672FE7E8881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383A7E-A39B-4C68-B4CB-765CC0771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0162-0D86-4C8D-A898-00FDEF899E8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E0A3A-4BB7-4B53-B25D-C8CB9C8A4F59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4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D74B8-8E1E-42E7-BCB5-1EF5BDBCD8BF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8432D2-4B9B-49B3-8F94-FE68EC0F8304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1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FD9F01-AFC0-4CD6-BCF6-D6AD939F8FA7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6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9E0BC8-9843-4F57-9F50-2E7FCE1302A5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1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2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3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45ADB8-488E-4589-90EA-8EBCD031EA29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91988F5-09DB-41A8-85F7-A759BF819067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52D45D6-E6C8-4BD7-A26A-6136D1ED63F6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78D4E77-FDE4-4D63-B638-93BB3DD4012F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2012589-2A42-4802-9A2A-AC41DB0921B1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3AB2995-584B-4FA4-B453-FECE295F68D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BE10C-8976-45BA-8EDC-1F229D80BC86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B41E1D1-6A72-43EE-8C5C-0D3FB35EA418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AD6A557-D15D-437D-B2BD-9383A4E98493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5C20228-D8E4-481E-8564-D167B3E7767C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635D840-6895-4ABC-845F-BA6166F2F335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6581D0A-3CE2-46F8-988E-0586B4C2325F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4D2FE62-4D40-4029-97F0-A32C7A9304DD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0E763E3-CE87-47CB-8C5B-BB5C8CDCB802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06EC09-54D7-4FB3-9269-F0783DDBD638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1AF7BD-EFA3-47C7-8170-FF40847E55F3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2ED933-A45F-4759-9848-3323B9F31ED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7B26C-176D-4767-9025-9DB5DA8F4341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EA7A16-8AD9-4C96-9F79-38F0D8C57FB3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B9D3E5-DD4F-43E3-A0D3-3A635BA5CD31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4CEC35-1B6E-4A9A-9169-A5329C751BD5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1B8976-1B26-415F-947B-42CFA565BCF3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6B2FDA-F1CC-4987-B2EB-78550CF85891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C0F9AD-1BFB-47B8-9C61-E0414C4A74F3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DF6712-9A37-46F6-93D6-CAFDD0C5BFC2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4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1577F8B-763B-4F53-89A9-AE9E7D3381D2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9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0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1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A42D52-C740-4374-8A50-F21AE8111F99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35C2A6-6FD4-4480-9267-53C28EF3D75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F8B59-9EF4-4B9C-88AF-EEDED133940E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370809-41A8-4D5F-A1B7-5E40D844C683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5CC8B8-922A-42A8-B666-C43027B9807B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D90C12-B437-49AA-9C8C-3DD6C969E190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63311C-7028-4FB0-A96A-B860A84660FF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F3CF40-7D3C-4C74-A845-F7951CF71339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BE86EF-518F-4794-B0E7-38301704A485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6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E3BC23-7984-49CC-BB16-9C372FD0DDAE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7FF719-984A-4B75-94D8-731D50FCF0CF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3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9D4687-BA0C-48E8-8A2F-72784F8B8775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8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7FED27-1389-43FA-9AAA-CA218BF7178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7070C-27EA-467F-86A1-60694E6A5C73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3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4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5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782A8A-045E-4866-B5A9-F6E0CD407151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B3A6CDE-9AF0-44FE-8368-AE3C87B7EFDA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19813FE-372F-42A0-8E6B-194F8835BE8A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2FC743B-33A5-4734-9E92-8B4B63D2B0BD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C6F24E2-04C3-4F53-9DC4-2BEBA209FCA5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0123418-DF60-4C84-B1BF-DC1494580E81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2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E81DABA-3ACD-4AB4-8DD6-4C1E0D51874B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1052801-6A33-413D-8131-02227557A645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0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BBE4583-DE04-4E16-89E0-F923BE9C478A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D29EFB5-4662-43C1-8765-5F38910770F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0EA5C-1C12-4138-AAE0-6667ED271059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7B023F4-21A3-4BC0-A79F-404868F10D6C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2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B7A02AB-62CC-495F-8914-2BDEF8E3810C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7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8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9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4DA8ABA-540D-460D-99AA-48B375A1383A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023A283-8344-404E-ADDF-B32764F6B44C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2BE2EFB-D6BA-4BD2-9CDD-8C7C36B56D22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F2B99C9-CD8D-4455-B3C4-701C735085B5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139462B-EB2B-4DA8-9984-0DC5F7ECD15D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A34C2AB-D95E-48D7-9FBC-F4A88FDFA641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6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8649A18-E3A9-41C3-90C2-400643886163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947B0AA-5DD7-486A-8C85-90FC9D8ABFD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D9DC0-A49C-49E9-AE54-E0EA27AC9507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4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546929A-A8A6-481B-BDFA-2D2973CF8316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A7CB182-DA8D-42FB-8852-F4F9C537AA81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1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1E5B349-AB8F-477B-9B73-E4CAC1FFFEE6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6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3B2C71A-1F06-41C5-83C0-B58A0AE3DB98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1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2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3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8FCBAC-3617-48A4-B9F1-587D99A167FD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44D2AB-9855-4BE6-B145-519AA9B91AD4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E62C12-B38B-44AB-881B-41761D8D337A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648C51-9F7B-4024-9DD0-F98B61D6E6B9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8D633C-BF70-45EB-AAFB-41A11D150869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24C52E-E8A0-4112-8296-8B83364759A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15B17-E459-4BC8-BC03-922D35E6162D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0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CC0C22-0E9B-4B5C-B3F2-326C0C9765D7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F6B79C-4BCD-46A8-AB4C-298C26EC8099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8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E0370E-965A-444D-B6D6-8CFDBF54FF39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7BC3B3-BC23-4C13-8F53-BBDC7268854F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5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598E54-DE95-449B-BC21-90AF731E5605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0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86F601-299D-4C9E-96B5-3086382D2112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5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6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7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10995A-2CD2-4D17-81FD-C19AAE8ECD61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1B79CFF-1DC6-485B-89C8-F95EBFA09601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64A7E9A-B099-4AF8-B747-BF2D5B2A9BCC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DDB74EF-2BC1-45C5-B077-1A8BBD7DC79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46A42-AC4B-4625-9B4F-F18E4E2DD417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468ED1E-3693-4D18-97A8-88C701EAB93B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CCD1FE0-17BC-4205-A5F9-B282A04E5360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BEBBB92-BDAD-492A-A28C-7252B5647843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9864BC1-589D-4171-8142-5533CFA09E29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2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636A263-2BDF-43EE-9439-39A5C316111F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201ADAB-5E24-43BD-AAD5-0D6A0FCF6B1F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9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871312E-C173-48D3-A1C8-829A0A5A639A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4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6A2164E-30C9-49AF-9FFE-08C2FCDBCC6D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9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0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1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23E3294-33BB-4E88-BBF4-C6CE9AB1DD5E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7F1DD45-F219-4B55-9A8D-F8C4A9350CF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B9377-4B32-4E39-8D07-7E34D077B58B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E6D874E-8AB8-49D9-93EA-956293E34CE8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4E8EEED-CCBA-4F4C-B851-E87E3964CFC4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EFD1ACC-3F61-484D-8864-4205F1028FE8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1913D89-132C-4301-B3E2-C5A4DCC767CE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8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C02B43D-B9C9-49F1-BE74-F6787F9BCBAB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FC2ECE-1917-4449-906B-6404B0F78450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6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5BC0F74-F72F-4177-9575-30018B18AFD4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9B51787-3907-4062-9A14-81619B5214BA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3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5938741-18DC-40A8-AC2D-69635DB0D859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8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008ADE1-B8DE-427A-AC49-18F2E8E50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C743-5C70-4891-A3D4-44C85267639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F272F-9D66-4420-882B-0B61127E1D5C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3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4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5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12491F0-D83F-4CD5-BDA3-9B078F811F99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745354-1CAB-4EC0-AB50-601C194AE072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CC97A2-31B9-4A9A-8017-BE52BBAFB984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D2B1C5-D1A9-43CC-B98D-C67B019E624F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6CC715-5FCA-4D24-A46D-5C397266DFBD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90AA37-7FE9-4E4E-A0F5-1B8FB6F51174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38A972-61DB-447B-AF89-134A07C4C6D5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341AFE-F0E8-45FB-90BC-76D64F8AEA9E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9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FC17C1-6A7F-4034-8DAA-E7FFB22DF52E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B51E4C-7801-48D6-A04E-C0E149FC3F2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243D-0603-4C6A-B905-9BB3D5FFA48F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16CDE9-1E44-48B0-8D5A-0A743E33436D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1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46F402-80A5-4A6E-A596-7FF08ED1B336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6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7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8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A76F1B-C4A1-4595-AA50-937DC3CA3A7B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4FF3D2A-8A2C-4C65-9E11-E17829D3ABBE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C1CAAFD-289B-4007-8D3F-8911E748491C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425A9C5-963A-4B09-9CCE-F3E62F23A70C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047EFB5-A5AC-4418-8C3B-6E4F05C043EE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9059A1B-8004-4868-88BB-AE6006A72A3C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220AF39-EFB4-4B14-95C8-5C3224BA2F25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154AF0E-883C-472A-9E49-9C9337C6F54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C18B-0E71-4D5C-B96D-7BE35A4D57F8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4603C9D-0336-40E5-B024-16589C1D512B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5137B55-D2F9-4BB4-84C1-EAE12ECEABE0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97413BE-3019-4DC3-A86D-E9745BFDA47C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65CD6B4-E6C4-4645-83B5-4F7F34E5E472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6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6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6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3E88CD7-CCC7-4151-9E31-2DF0E47BB8F7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1B6AE00-8849-4BFC-9FC2-EA3DB8AC717A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83D1D25-524C-4135-A87A-1BDEA5357939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C9DC05D-F31D-4303-8F87-F2011E5A6C7B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BC4C01B-2E74-443D-983F-2F93B273E862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AA3CD44-3638-43D3-B297-CD8381C61BA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27C4-3E67-4DD6-8E83-5B7AE01637A5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04C2D7D-D695-45BE-943E-D26DA3F13225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21A1631-3401-4F22-9D41-138BBF685E7F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D2B38B7-2894-4249-AEF8-1294FA6A98E3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ED87410-B821-4D37-B051-7168F998C088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0119676-15A5-4D8B-889E-78ED7FC417FB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1556E11-8BA7-49B6-84ED-7555AC85A2E0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475A960-7DB5-4602-998F-5D3992BC5B30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7D795E-1363-40E7-8930-793A0F43D1A6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AE9C88-BCF6-4ABB-9DD1-261A9A265EAE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6D5CE2-EE8C-4CFD-808B-199333B04F1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A652-6980-4609-A279-C3DA369303B6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FF3146-2AC2-4A5E-9A33-AE18419EDED6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7375FA-7123-43BC-9596-933EDDDD9945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EC69EF-0B56-4009-8DCD-4CDFA378968D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E24378-D66A-4264-8977-73C76EC4D6B6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1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7888E0-EBFB-4E8A-AD6E-3D7D87960E8F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87C09D-3926-4E4A-B841-941490D9BF19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8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3F6046-BA1B-4FA5-AA02-D5D528CC59F2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3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42C4E5-A06E-48F3-AE75-ADBFA162E6F7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8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9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0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50E2F6-F413-46B1-88C9-704FE66B3CE8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4C990FD-BD41-4878-89AB-6279DEBD6FF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2E54-6001-4795-ADD8-CC1C3C696579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D1D687E-8B92-430F-B219-7D71F7589B42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02050DB-4CA2-47F4-B9A2-EB34963B17B0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32B830A-6501-4708-A4B9-7234E8E371CA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AE7443D-980C-4839-A92F-EBE729931E10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7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C32E4D7-2F2F-4DDF-A41A-3A235C7C23D8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FA26B72-2D7F-4606-8C0E-BE42C4702EC4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5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FA53970-B084-4D86-AEDF-542B26DD1B2E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372BEF4-BEB4-4838-873F-9425C0FEBFCA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2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12709BD-CE7A-49BB-94D2-86147BE2BD79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7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D0E5955-982B-4974-8750-5627455C48D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01AA-B999-43CA-ABAC-1C42EFB7B365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2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3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4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F7F7E43-798B-410B-AC69-175A31F2E5AA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5942393-6D5C-4F90-8398-494FB6095BD0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2E8FF73-8F50-43EB-8923-D4DB12B2E46F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F69D8E2-7811-4586-8383-60A3BC1DC3CE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13AD6B7-89B0-46B1-A081-D75EE2849589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6D86024-681F-4EDE-B6DA-9A74A49327A9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738ADB9-F812-4396-AB11-DDE396FE2B25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91F9A09-551E-418F-9253-8FEC241F21CB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9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BC71D08-D1A4-4470-9DEE-F0F4894D796B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2626CA2-E641-42E5-B7C0-BD2F0092879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DEC8-8CCE-4216-8476-46786C24E520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6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29621E8-546C-42BF-ACB6-A815030C8827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1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FE702BA-CBE4-48F2-BA1B-879DCAC68000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6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7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8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AFEA7B6-8D53-4958-A430-BD60424782E9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F8BD67-DABE-4677-9A8C-E05BA8848982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84AFCA-E157-46E8-AD10-8B663E8BDD4B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8E9882-1942-4DD9-8D59-B38F80113FE4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8B133F-C8BA-4B82-86A4-0DAFA8FF2748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A8613D-4097-45E7-8602-29B3C1AFC379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500942-3AF3-416C-AC11-C7F9AFCF37C8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14C8AF-984B-4C36-B2F8-AAE4E143E80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45B9-5C77-4C7C-ADF4-A7575658C0B3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2DC84B-0547-4B29-BE4C-94D93F05EDF0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3FD9C4-DF50-4631-ABEF-A644DC54DC32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0B2781-FC16-4112-92D9-AAB979AF1CBA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982910-256A-428F-A639-4FBA0B56F06A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B2DA53-F572-492A-B80D-DC0E84EA609F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D8A30F4-DCF4-4CF9-A520-5A871E7FEFE7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5C42534-CA1B-4C2A-BBC9-8842AA57C222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4137CA6-2B84-4484-BA30-9DECAF26936C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26F5E5F-ED69-4133-B00E-C77A3EA4BDD3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CE9717E-38D1-47BC-BF85-B09ADDCEC22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497E-C525-4BBC-B2EE-49EE0564E0BA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FD2673D-2B5B-4853-9DE6-EB7AAADA7ABB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4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1C576DA-6A26-4674-8215-CEB874E4600B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4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74BEFDD-025E-4F7A-AF91-1FC7B22A3F51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0B092B9-681C-4466-B2A6-8A9925A5B5D0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A7CA4BD-A351-47B1-85DE-F4B757604C86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BD80157-063E-48B8-BA6B-2D9EA4931A5F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D24806B-A90C-4CE7-BD22-296CE1D703B8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0A1F505-3189-4C18-A3C5-66C1A23D4708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67470EB-2750-4D7C-A1E7-1D2492E5E3C4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4B9E300-9C84-443E-A06C-33265F77B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BF87-496A-446D-BE33-67B7D535707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E2CF-DFDC-4EB0-9F4C-7BA3FFF6F3B8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92F295A-EAD7-4739-AB96-B34939E3317C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662B85B-7A8C-40A3-AC92-C565F62CC9DC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3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3660D33-329B-43D1-BE90-770D7442142F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816CE96-F374-4E48-B7BD-62C091ED4123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1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E75B294-A8F8-478E-B82B-7B4CD12A8BFD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65D1AF7-2B47-4D25-B55E-985F4832B54B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8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AFAB895-D6A1-4C85-B628-2463FDA99EFE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3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FB23553-F1C6-4A38-953F-A24B65255883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8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9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0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FD85B19-0E56-4B85-B36A-D58E102A5EEF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582812-9B3A-4FA1-9FEA-D6885E17D5D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8C2E-9AF8-42E2-A408-68BDE1C74650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F68787-9717-4AB4-A139-C0DC98935168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7F4EE7-5610-41C1-9870-EBA34A7F921C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56A9ED-A28F-4A09-B279-5B86D22866FB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2FA22C-A2EC-48D8-893E-E55FD8DE0F66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65B200-058F-4C57-ADCB-31AB353B9EF6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966D41-B8AA-4768-89BF-DDB014F778AD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5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531FD6-0B67-455B-9764-63C27B0BA183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398A37-3A45-4D6C-B131-18F8DA600E47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2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077A5D-2671-48E1-91AB-3FC52770D71C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6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7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C27982-5801-4C0C-BED6-52030B6DCFF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AB9C-0752-4C3E-B5E7-ABDB28D4FA88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2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3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4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D2C860-2A0E-4271-AFEE-46760F5EDF79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58BCFBD-ED7D-487C-9D59-5CAD22599F49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F463633-FA8B-4D87-B1CA-C61418E997FB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9416E34-A3F8-430D-A194-DEA15A08E1F0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75B9EB0-D553-4A73-AD1F-1A451E9C1920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C9CC8C9-062D-43FC-9B18-486F27430EB1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1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4E023B9-44D2-4008-897F-33D9DFEE4AA6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9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3BA2053-7E9F-45FA-8999-A00127B851CB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99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51B940D-843B-4317-9A3C-077D4B0923E5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0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9A39A76-A367-4B58-95E7-44D6E6E4C37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ECA96A-6D52-4778-A307-1C23E78181EA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06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D60AF61-3B9E-4315-ACE6-2D008E84B66A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0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1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5BF0546-EC39-4FE3-B429-5F8DABA026C5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6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7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8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B3FC5DE-90C6-4965-BE85-F0BB0F6FDAE5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606D2AF-42E0-41F5-956F-FE6480B60C0F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D0A6AEB-0D3F-4B53-8902-A8BB81529AF2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2DAD12A-B327-4B37-8B26-B8D217014B00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47AC072-B4B1-49CE-BD3A-BC33DB316ABB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744273A-0F4B-4D54-9848-AB752DE17408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77DC35C-7DF6-4733-8C1A-7980831871D1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676C01A-0088-45C5-9005-EED83311ECD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06766B-A1F4-45C7-95D5-FBD845C41C02}" type="slidenum">
              <a:t>&lt;#&gt;</a:t>
            </a:fld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3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FBB5BEF-A2CE-47F7-A59F-E2ADA6ECB4A0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276A54E-6EF2-4758-AB2F-C19B76391E15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0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22D1622-E01B-45C6-A5FB-C0F3E0CE1F89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5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755D0E5-F264-4F75-811F-F39612F02BF4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0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1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2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9565E66-AA05-431B-BE0C-C5039E07D43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4CD858-3AE7-4870-B51C-8297D31F416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239B85-5000-4358-8C2D-9EBBE8620CF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43D165-B6FF-466B-80D4-B2DC9806D5B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2C399F-F1F0-4B82-953A-44E0E96F3E8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466912-AFEE-4D46-8E36-46FD12E88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C4B4-A0C9-4BC0-BA84-19F4FC55513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B40725-B85A-4CB4-86D2-224902D5AA6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AA0110-5E71-4303-97DB-F2787D8B99D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DA0849-6C0E-44D8-9BF0-EA55FDCEA27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4B727D-13DA-426B-9B2E-08DCE5E0163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DD7E72-8DFD-4D34-BCEE-2D6D92F9F3C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17BE5-E9F3-435E-B066-A9A2AB2B309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4B3E0B-84F7-4A7F-B2E7-404FED23AB7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48855-6CA9-4196-B110-025ADE27196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EC483-01E7-408A-A8E7-930835BDA07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BE0F0-D366-45C5-B68B-2EDCD553A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017F-9B78-4A6A-9A90-6033AC21A8C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65930-6F37-4021-966B-8267A3E5A76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81100-0DB1-4A7A-8EDC-0F344FD4695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0E1C7-2484-4222-9771-2DE72DA4C46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08D2B-3D0E-4660-86F8-39C8437AD73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00ADE9-74B9-489B-BD8D-06DBA963303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B6D0F-506D-41BB-A5E1-EAF50FE1F02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C1BB7-576D-412B-B926-CA483C19D88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CD691-4AA2-4684-AA92-7DDFC4A53B9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89F71-240D-4C78-AD5A-3FD8FAF6ED2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07840-E09E-46B4-9BF5-738D76B89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8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3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4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8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2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6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12CE85-376A-4831-AC14-1964129CD3C8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756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57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758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9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0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61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62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763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4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5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6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7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768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769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70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71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772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773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4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5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76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777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8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9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80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781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2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3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84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5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6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7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8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9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0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1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2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3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4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5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6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7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0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B952033-2C0C-4959-B20C-41EA151D8118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840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41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842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3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4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45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46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847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8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9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0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1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852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853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54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55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856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857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8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9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860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861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2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3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864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865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6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7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68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9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0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1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2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3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4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5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6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7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8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9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0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1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4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5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BA62D1F-D064-448C-A9FA-A8AC62D5BC42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924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25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926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7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8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29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0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931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2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3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4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5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936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937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38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39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940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941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2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3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44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945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6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7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48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949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0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1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52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3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4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5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6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7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8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9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0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1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2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3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4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5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8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9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2DCBFEC-6C8A-4C94-98E0-5A901E98E30B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008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09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010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1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2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13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14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015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6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7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8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9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020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021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22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23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24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025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6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7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28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029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0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1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32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033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4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5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36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7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8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9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0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1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2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3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4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5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6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7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8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9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2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3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9811C00-CA2E-40B1-BE46-63DE960B6CA4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1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092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93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094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5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6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97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98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099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0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1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2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3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04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105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06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07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108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109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0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1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112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113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4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5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116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117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8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9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20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1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2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3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4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5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6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7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8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9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0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1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2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3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6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7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BD173E9-9139-4D8D-AF04-181139F7A391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5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176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77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178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9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0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81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82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183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4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5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6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7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8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189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90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91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192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193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94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95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196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197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98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99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00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201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02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03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204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7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8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9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0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1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2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3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4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5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6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7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0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1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833BE93-EA9F-42E2-B3E4-336F1220277A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9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260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61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262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3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4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265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66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267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8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9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0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1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272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273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74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75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276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277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8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9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80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281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2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3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84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285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6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7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288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9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0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1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2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3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4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5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6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7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8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9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0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1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4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5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5E13B48-EA2F-497B-B006-D902A29AEE05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3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344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45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346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7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8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49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50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351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2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3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4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5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356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357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58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359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360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361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2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3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364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365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6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7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368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369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0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1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72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3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4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5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6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7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8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9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0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1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2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3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4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5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8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9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292B778-A735-4C8A-AF41-5DB6E5C4D3D1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7" name="Group 1"/>
          <p:cNvGrpSpPr/>
          <p:nvPr/>
        </p:nvGrpSpPr>
        <p:grpSpPr>
          <a:xfrm>
            <a:off x="-39240" y="-338400"/>
            <a:ext cx="9405720" cy="7194960"/>
            <a:chOff x="-39240" y="-338400"/>
            <a:chExt cx="9405720" cy="7194960"/>
          </a:xfrm>
        </p:grpSpPr>
        <p:grpSp>
          <p:nvGrpSpPr>
            <p:cNvPr id="1428" name="Group 2"/>
            <p:cNvGrpSpPr/>
            <p:nvPr/>
          </p:nvGrpSpPr>
          <p:grpSpPr>
            <a:xfrm>
              <a:off x="4833720" y="-338400"/>
              <a:ext cx="4532760" cy="6543360"/>
              <a:chOff x="4833720" y="-338400"/>
              <a:chExt cx="4532760" cy="6543360"/>
            </a:xfrm>
          </p:grpSpPr>
          <p:sp>
            <p:nvSpPr>
              <p:cNvPr id="1429" name="Freeform 3"/>
              <p:cNvSpPr/>
              <p:nvPr/>
            </p:nvSpPr>
            <p:spPr>
              <a:xfrm flipV="1" rot="12000000">
                <a:off x="6247800" y="62280"/>
                <a:ext cx="2780280" cy="24678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30" name="Freeform 4"/>
              <p:cNvSpPr/>
              <p:nvPr/>
            </p:nvSpPr>
            <p:spPr>
              <a:xfrm flipV="1" rot="12000000">
                <a:off x="7352280" y="1752480"/>
                <a:ext cx="1190160" cy="88164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31" name="Freeform 5"/>
              <p:cNvSpPr/>
              <p:nvPr/>
            </p:nvSpPr>
            <p:spPr>
              <a:xfrm flipV="1" rot="12000000">
                <a:off x="6570000" y="2414520"/>
                <a:ext cx="576000" cy="41256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32" name="Freeform 6"/>
              <p:cNvSpPr/>
              <p:nvPr/>
            </p:nvSpPr>
            <p:spPr>
              <a:xfrm flipV="1" rot="12000000">
                <a:off x="7128360" y="403200"/>
                <a:ext cx="509400" cy="57492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33" name="Freeform 7"/>
              <p:cNvSpPr/>
              <p:nvPr/>
            </p:nvSpPr>
            <p:spPr>
              <a:xfrm flipV="1" rot="12000000">
                <a:off x="7001280" y="2467800"/>
                <a:ext cx="212760" cy="34560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34" name="Freeform 8"/>
              <p:cNvSpPr/>
              <p:nvPr/>
            </p:nvSpPr>
            <p:spPr>
              <a:xfrm flipV="1" rot="12000000">
                <a:off x="6980760" y="995400"/>
                <a:ext cx="248400" cy="1479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35" name="Freeform 9"/>
              <p:cNvSpPr/>
              <p:nvPr/>
            </p:nvSpPr>
            <p:spPr>
              <a:xfrm flipV="1" rot="12000000">
                <a:off x="5398560" y="2768040"/>
                <a:ext cx="686880" cy="34221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436" name="Freeform 10"/>
            <p:cNvSpPr/>
            <p:nvPr/>
          </p:nvSpPr>
          <p:spPr>
            <a:xfrm flipH="1" rot="360000">
              <a:off x="12960" y="3107880"/>
              <a:ext cx="512280" cy="102924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7" name="Freeform 11"/>
            <p:cNvSpPr/>
            <p:nvPr/>
          </p:nvSpPr>
          <p:spPr>
            <a:xfrm>
              <a:off x="246600" y="2000160"/>
              <a:ext cx="2001240" cy="243072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8" name="Freeform 12"/>
            <p:cNvSpPr/>
            <p:nvPr/>
          </p:nvSpPr>
          <p:spPr>
            <a:xfrm>
              <a:off x="-20520" y="4143240"/>
              <a:ext cx="1272960" cy="72720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9" name="Freeform 13"/>
            <p:cNvSpPr/>
            <p:nvPr/>
          </p:nvSpPr>
          <p:spPr>
            <a:xfrm flipH="1" rot="360000">
              <a:off x="1407960" y="4533480"/>
              <a:ext cx="561600" cy="7351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0" name="Freeform 14"/>
            <p:cNvSpPr/>
            <p:nvPr/>
          </p:nvSpPr>
          <p:spPr>
            <a:xfrm flipH="1" rot="360000">
              <a:off x="1248120" y="4730400"/>
              <a:ext cx="136440" cy="4338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1" name="Freeform 15"/>
            <p:cNvSpPr/>
            <p:nvPr/>
          </p:nvSpPr>
          <p:spPr>
            <a:xfrm>
              <a:off x="1872720" y="5195880"/>
              <a:ext cx="1761120" cy="166068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442" name="Group 16"/>
            <p:cNvGrpSpPr/>
            <p:nvPr/>
          </p:nvGrpSpPr>
          <p:grpSpPr>
            <a:xfrm>
              <a:off x="3988440" y="920520"/>
              <a:ext cx="1271160" cy="1391400"/>
              <a:chOff x="3988440" y="920520"/>
              <a:chExt cx="1271160" cy="1391400"/>
            </a:xfrm>
          </p:grpSpPr>
          <p:sp>
            <p:nvSpPr>
              <p:cNvPr id="1443" name="Freeform 17"/>
              <p:cNvSpPr/>
              <p:nvPr/>
            </p:nvSpPr>
            <p:spPr>
              <a:xfrm rot="3240000">
                <a:off x="4538520" y="939240"/>
                <a:ext cx="304200" cy="505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4" name="Freeform 18"/>
              <p:cNvSpPr/>
              <p:nvPr/>
            </p:nvSpPr>
            <p:spPr>
              <a:xfrm rot="3240000">
                <a:off x="4676400" y="1518840"/>
                <a:ext cx="522000" cy="417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5" name="Freeform 19"/>
              <p:cNvSpPr/>
              <p:nvPr/>
            </p:nvSpPr>
            <p:spPr>
              <a:xfrm rot="3240000">
                <a:off x="3961800" y="1922400"/>
                <a:ext cx="545760" cy="212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446" name="Group 20"/>
            <p:cNvGrpSpPr/>
            <p:nvPr/>
          </p:nvGrpSpPr>
          <p:grpSpPr>
            <a:xfrm>
              <a:off x="5615280" y="280080"/>
              <a:ext cx="969120" cy="916200"/>
              <a:chOff x="5615280" y="280080"/>
              <a:chExt cx="969120" cy="916200"/>
            </a:xfrm>
          </p:grpSpPr>
          <p:sp>
            <p:nvSpPr>
              <p:cNvPr id="1447" name="Freeform 21"/>
              <p:cNvSpPr/>
              <p:nvPr/>
            </p:nvSpPr>
            <p:spPr>
              <a:xfrm rot="14880000">
                <a:off x="5736960" y="835560"/>
                <a:ext cx="194040" cy="393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8" name="Freeform 22"/>
              <p:cNvSpPr/>
              <p:nvPr/>
            </p:nvSpPr>
            <p:spPr>
              <a:xfrm rot="14880000">
                <a:off x="5680440" y="484200"/>
                <a:ext cx="335520" cy="3258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9" name="Freeform 23"/>
              <p:cNvSpPr/>
              <p:nvPr/>
            </p:nvSpPr>
            <p:spPr>
              <a:xfrm rot="14880000">
                <a:off x="6266520" y="390960"/>
                <a:ext cx="351000" cy="164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450" name="Group 24"/>
            <p:cNvGrpSpPr/>
            <p:nvPr/>
          </p:nvGrpSpPr>
          <p:grpSpPr>
            <a:xfrm>
              <a:off x="932400" y="5155560"/>
              <a:ext cx="1162800" cy="1063080"/>
              <a:chOff x="932400" y="5155560"/>
              <a:chExt cx="1162800" cy="1063080"/>
            </a:xfrm>
          </p:grpSpPr>
          <p:sp>
            <p:nvSpPr>
              <p:cNvPr id="1451" name="Freeform 25"/>
              <p:cNvSpPr/>
              <p:nvPr/>
            </p:nvSpPr>
            <p:spPr>
              <a:xfrm rot="8520000">
                <a:off x="1731240" y="5484240"/>
                <a:ext cx="266040" cy="408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2" name="Freeform 26"/>
              <p:cNvSpPr/>
              <p:nvPr/>
            </p:nvSpPr>
            <p:spPr>
              <a:xfrm rot="8520000">
                <a:off x="1184400" y="5775480"/>
                <a:ext cx="454320" cy="339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3" name="Freeform 27"/>
              <p:cNvSpPr/>
              <p:nvPr/>
            </p:nvSpPr>
            <p:spPr>
              <a:xfrm rot="8520000">
                <a:off x="934920" y="5283000"/>
                <a:ext cx="474840" cy="172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454" name="Group 28"/>
            <p:cNvGrpSpPr/>
            <p:nvPr/>
          </p:nvGrpSpPr>
          <p:grpSpPr>
            <a:xfrm>
              <a:off x="222120" y="369000"/>
              <a:ext cx="1863360" cy="1271880"/>
              <a:chOff x="222120" y="369000"/>
              <a:chExt cx="1863360" cy="1271880"/>
            </a:xfrm>
          </p:grpSpPr>
          <p:sp>
            <p:nvSpPr>
              <p:cNvPr id="1455" name="Freeform 29"/>
              <p:cNvSpPr/>
              <p:nvPr/>
            </p:nvSpPr>
            <p:spPr>
              <a:xfrm flipH="1" rot="4140000">
                <a:off x="1545120" y="1059840"/>
                <a:ext cx="393480" cy="584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6" name="Freeform 30"/>
              <p:cNvSpPr/>
              <p:nvPr/>
            </p:nvSpPr>
            <p:spPr>
              <a:xfrm flipH="1" rot="4140000">
                <a:off x="931680" y="528120"/>
                <a:ext cx="676080" cy="486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7" name="Freeform 31"/>
              <p:cNvSpPr/>
              <p:nvPr/>
            </p:nvSpPr>
            <p:spPr>
              <a:xfrm flipH="1" rot="4140000">
                <a:off x="110880" y="1102320"/>
                <a:ext cx="706320" cy="247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458" name="Group 32"/>
            <p:cNvGrpSpPr/>
            <p:nvPr/>
          </p:nvGrpSpPr>
          <p:grpSpPr>
            <a:xfrm>
              <a:off x="7333560" y="3620520"/>
              <a:ext cx="1260720" cy="1719360"/>
              <a:chOff x="7333560" y="3620520"/>
              <a:chExt cx="1260720" cy="1719360"/>
            </a:xfrm>
          </p:grpSpPr>
          <p:sp>
            <p:nvSpPr>
              <p:cNvPr id="1459" name="Freeform 33"/>
              <p:cNvSpPr/>
              <p:nvPr/>
            </p:nvSpPr>
            <p:spPr>
              <a:xfrm flipH="1" rot="10020000">
                <a:off x="7391880" y="4739040"/>
                <a:ext cx="387000" cy="564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0" name="Freeform 34"/>
              <p:cNvSpPr/>
              <p:nvPr/>
            </p:nvSpPr>
            <p:spPr>
              <a:xfrm flipH="1" rot="10020000">
                <a:off x="7885440" y="4417200"/>
                <a:ext cx="664560" cy="470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1" name="Freeform 35"/>
              <p:cNvSpPr/>
              <p:nvPr/>
            </p:nvSpPr>
            <p:spPr>
              <a:xfrm flipH="1" rot="10020000">
                <a:off x="7553520" y="3695400"/>
                <a:ext cx="694080" cy="239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462" name="Freeform 36"/>
            <p:cNvSpPr/>
            <p:nvPr/>
          </p:nvSpPr>
          <p:spPr>
            <a:xfrm>
              <a:off x="1915920" y="3240"/>
              <a:ext cx="1369440" cy="14047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3" name="Freeform 37"/>
            <p:cNvSpPr/>
            <p:nvPr/>
          </p:nvSpPr>
          <p:spPr>
            <a:xfrm flipV="1" rot="9840000">
              <a:off x="3414240" y="164160"/>
              <a:ext cx="1081440" cy="9396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4" name="Freeform 38"/>
            <p:cNvSpPr/>
            <p:nvPr/>
          </p:nvSpPr>
          <p:spPr>
            <a:xfrm flipV="1" rot="9840000">
              <a:off x="3158280" y="1361880"/>
              <a:ext cx="523080" cy="4392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5" name="Freeform 39"/>
            <p:cNvSpPr/>
            <p:nvPr/>
          </p:nvSpPr>
          <p:spPr>
            <a:xfrm flipV="1" rot="9840000">
              <a:off x="3519360" y="1285200"/>
              <a:ext cx="194040" cy="3682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6" name="Freeform 40"/>
            <p:cNvSpPr/>
            <p:nvPr/>
          </p:nvSpPr>
          <p:spPr>
            <a:xfrm>
              <a:off x="2530080" y="0"/>
              <a:ext cx="195480" cy="1904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7" name="Freeform 41"/>
            <p:cNvSpPr/>
            <p:nvPr/>
          </p:nvSpPr>
          <p:spPr>
            <a:xfrm flipV="1" rot="9840000">
              <a:off x="3439080" y="1964520"/>
              <a:ext cx="623520" cy="365004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8" name="Freeform 42"/>
            <p:cNvSpPr/>
            <p:nvPr/>
          </p:nvSpPr>
          <p:spPr>
            <a:xfrm>
              <a:off x="-20520" y="2933640"/>
              <a:ext cx="55440" cy="20808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1" name="Text Box 4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2" name="Text Box 4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49D5240-9612-4E0A-9DB3-9E6F7947098B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0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511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512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513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4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5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16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517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518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9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0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1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2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523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524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25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26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527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528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9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0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31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532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3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4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35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536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7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8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39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0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1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2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3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4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5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6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7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8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9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0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1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2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5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6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ED4CEC8-AF66-4250-8E6D-1F14FBE4A846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85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6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87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0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1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92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97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98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9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1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02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5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06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10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9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5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6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A6ACD69-E9E4-44FA-9DD5-CF7DCFDEE669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4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595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596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597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8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9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600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01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602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3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4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5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6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607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608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09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10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611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612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3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4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615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616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7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8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619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620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1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2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623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4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5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6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7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8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9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0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1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2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3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4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5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6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9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0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3B7515D-47C1-4E0D-BCEE-67441CDC1E01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8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679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80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681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2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3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684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85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686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7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8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9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90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691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692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93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94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695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696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97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98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699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700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1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2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703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704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5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6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707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08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09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0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1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2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3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4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5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6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7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8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9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0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3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4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DA47A52-4A30-4197-BF33-4D23DDDC554B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2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763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64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765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66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67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768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69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770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1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2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3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4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775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776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77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78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79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780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1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2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783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784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5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6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787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788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9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90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791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2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3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4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5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6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7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8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9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0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1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2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3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4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7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8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8331EFD-C8C9-4861-8DF0-7282CE5D3B79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6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847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848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849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0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1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52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853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854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5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6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7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8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859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860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861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862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863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864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65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66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867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868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69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0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871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872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3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4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75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6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7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8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9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0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1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2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3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4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5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6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7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8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1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2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010CA2-ECFE-4BC5-B47F-C84763DF2A3D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0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931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932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933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4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5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936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937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938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9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0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1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2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943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944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945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946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947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948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9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0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51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952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3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4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55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956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7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8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959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0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1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2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3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4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5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6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7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8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9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0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1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2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5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6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49BA857-44DC-4DA0-A5DF-94C0430D0A84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4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015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016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017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8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9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020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021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022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3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4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5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6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027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028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029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030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031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032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3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4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035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036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7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8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039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040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1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2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043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4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5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6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7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8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9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0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1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2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3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4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5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6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9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0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4DE6D21-E0E9-41B3-A2A3-579243BF4399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8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099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100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101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2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3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104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105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106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7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8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9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0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111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112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13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14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115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116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7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8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119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120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1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2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123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124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5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6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127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28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29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0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1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2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3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4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5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6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7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8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9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40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3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5F3B426-AB0D-43D1-897C-A1483C75CCC5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183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184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185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6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7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188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189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190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1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2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3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4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195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196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97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98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199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200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1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2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203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204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5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6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207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208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9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0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211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2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3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4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5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6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7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8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9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0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1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2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3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4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7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8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0588846-B998-4C51-BA93-3B6A0E72D9F2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6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267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268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269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0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1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272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273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274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5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6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7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8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279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280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281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282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283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284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85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86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287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288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89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0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291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292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3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4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295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6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7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8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9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0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1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2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3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4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5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6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7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8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1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2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048027B-D6BB-441B-8975-72CAB5E94055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0" name="Group 1"/>
          <p:cNvGrpSpPr/>
          <p:nvPr/>
        </p:nvGrpSpPr>
        <p:grpSpPr>
          <a:xfrm>
            <a:off x="-39240" y="-338400"/>
            <a:ext cx="9405720" cy="7194960"/>
            <a:chOff x="-39240" y="-338400"/>
            <a:chExt cx="9405720" cy="7194960"/>
          </a:xfrm>
        </p:grpSpPr>
        <p:grpSp>
          <p:nvGrpSpPr>
            <p:cNvPr id="2351" name="Group 2"/>
            <p:cNvGrpSpPr/>
            <p:nvPr/>
          </p:nvGrpSpPr>
          <p:grpSpPr>
            <a:xfrm>
              <a:off x="4833720" y="-338400"/>
              <a:ext cx="4532760" cy="6543360"/>
              <a:chOff x="4833720" y="-338400"/>
              <a:chExt cx="4532760" cy="6543360"/>
            </a:xfrm>
          </p:grpSpPr>
          <p:sp>
            <p:nvSpPr>
              <p:cNvPr id="2352" name="Freeform 3"/>
              <p:cNvSpPr/>
              <p:nvPr/>
            </p:nvSpPr>
            <p:spPr>
              <a:xfrm flipV="1" rot="12000000">
                <a:off x="6247800" y="62280"/>
                <a:ext cx="2780280" cy="24678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3" name="Freeform 4"/>
              <p:cNvSpPr/>
              <p:nvPr/>
            </p:nvSpPr>
            <p:spPr>
              <a:xfrm flipV="1" rot="12000000">
                <a:off x="7352280" y="1752480"/>
                <a:ext cx="1190160" cy="88164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4" name="Freeform 5"/>
              <p:cNvSpPr/>
              <p:nvPr/>
            </p:nvSpPr>
            <p:spPr>
              <a:xfrm flipV="1" rot="12000000">
                <a:off x="6570000" y="2414520"/>
                <a:ext cx="576000" cy="41256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5" name="Freeform 6"/>
              <p:cNvSpPr/>
              <p:nvPr/>
            </p:nvSpPr>
            <p:spPr>
              <a:xfrm flipV="1" rot="12000000">
                <a:off x="7128360" y="403200"/>
                <a:ext cx="509400" cy="57492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6" name="Freeform 7"/>
              <p:cNvSpPr/>
              <p:nvPr/>
            </p:nvSpPr>
            <p:spPr>
              <a:xfrm flipV="1" rot="12000000">
                <a:off x="7001280" y="2467800"/>
                <a:ext cx="212760" cy="34560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7" name="Freeform 8"/>
              <p:cNvSpPr/>
              <p:nvPr/>
            </p:nvSpPr>
            <p:spPr>
              <a:xfrm flipV="1" rot="12000000">
                <a:off x="6980760" y="995400"/>
                <a:ext cx="248400" cy="1479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8" name="Freeform 9"/>
              <p:cNvSpPr/>
              <p:nvPr/>
            </p:nvSpPr>
            <p:spPr>
              <a:xfrm flipV="1" rot="12000000">
                <a:off x="5398560" y="2768040"/>
                <a:ext cx="686880" cy="34221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359" name="Freeform 10"/>
            <p:cNvSpPr/>
            <p:nvPr/>
          </p:nvSpPr>
          <p:spPr>
            <a:xfrm flipH="1" rot="360000">
              <a:off x="12960" y="3107880"/>
              <a:ext cx="512280" cy="102924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0" name="Freeform 11"/>
            <p:cNvSpPr/>
            <p:nvPr/>
          </p:nvSpPr>
          <p:spPr>
            <a:xfrm>
              <a:off x="246600" y="2000160"/>
              <a:ext cx="2001240" cy="243072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1" name="Freeform 12"/>
            <p:cNvSpPr/>
            <p:nvPr/>
          </p:nvSpPr>
          <p:spPr>
            <a:xfrm>
              <a:off x="-20520" y="4143240"/>
              <a:ext cx="1272960" cy="72720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2" name="Freeform 13"/>
            <p:cNvSpPr/>
            <p:nvPr/>
          </p:nvSpPr>
          <p:spPr>
            <a:xfrm flipH="1" rot="360000">
              <a:off x="1407960" y="4533480"/>
              <a:ext cx="561600" cy="7351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3" name="Freeform 14"/>
            <p:cNvSpPr/>
            <p:nvPr/>
          </p:nvSpPr>
          <p:spPr>
            <a:xfrm flipH="1" rot="360000">
              <a:off x="1248120" y="4730400"/>
              <a:ext cx="136440" cy="4338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4" name="Freeform 15"/>
            <p:cNvSpPr/>
            <p:nvPr/>
          </p:nvSpPr>
          <p:spPr>
            <a:xfrm>
              <a:off x="1872720" y="5195880"/>
              <a:ext cx="1761120" cy="166068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365" name="Group 16"/>
            <p:cNvGrpSpPr/>
            <p:nvPr/>
          </p:nvGrpSpPr>
          <p:grpSpPr>
            <a:xfrm>
              <a:off x="3988440" y="920520"/>
              <a:ext cx="1271160" cy="1391400"/>
              <a:chOff x="3988440" y="920520"/>
              <a:chExt cx="1271160" cy="1391400"/>
            </a:xfrm>
          </p:grpSpPr>
          <p:sp>
            <p:nvSpPr>
              <p:cNvPr id="2366" name="Freeform 17"/>
              <p:cNvSpPr/>
              <p:nvPr/>
            </p:nvSpPr>
            <p:spPr>
              <a:xfrm rot="3240000">
                <a:off x="4538520" y="939240"/>
                <a:ext cx="304200" cy="505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7" name="Freeform 18"/>
              <p:cNvSpPr/>
              <p:nvPr/>
            </p:nvSpPr>
            <p:spPr>
              <a:xfrm rot="3240000">
                <a:off x="4676400" y="1518840"/>
                <a:ext cx="522000" cy="417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8" name="Freeform 19"/>
              <p:cNvSpPr/>
              <p:nvPr/>
            </p:nvSpPr>
            <p:spPr>
              <a:xfrm rot="3240000">
                <a:off x="3961800" y="1922400"/>
                <a:ext cx="545760" cy="212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369" name="Group 20"/>
            <p:cNvGrpSpPr/>
            <p:nvPr/>
          </p:nvGrpSpPr>
          <p:grpSpPr>
            <a:xfrm>
              <a:off x="5615280" y="280080"/>
              <a:ext cx="969120" cy="916200"/>
              <a:chOff x="5615280" y="280080"/>
              <a:chExt cx="969120" cy="916200"/>
            </a:xfrm>
          </p:grpSpPr>
          <p:sp>
            <p:nvSpPr>
              <p:cNvPr id="2370" name="Freeform 21"/>
              <p:cNvSpPr/>
              <p:nvPr/>
            </p:nvSpPr>
            <p:spPr>
              <a:xfrm rot="14880000">
                <a:off x="5736960" y="835560"/>
                <a:ext cx="194040" cy="393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1" name="Freeform 22"/>
              <p:cNvSpPr/>
              <p:nvPr/>
            </p:nvSpPr>
            <p:spPr>
              <a:xfrm rot="14880000">
                <a:off x="5680440" y="484200"/>
                <a:ext cx="335520" cy="3258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2" name="Freeform 23"/>
              <p:cNvSpPr/>
              <p:nvPr/>
            </p:nvSpPr>
            <p:spPr>
              <a:xfrm rot="14880000">
                <a:off x="6266520" y="390960"/>
                <a:ext cx="351000" cy="164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373" name="Group 24"/>
            <p:cNvGrpSpPr/>
            <p:nvPr/>
          </p:nvGrpSpPr>
          <p:grpSpPr>
            <a:xfrm>
              <a:off x="932400" y="5155560"/>
              <a:ext cx="1162800" cy="1063080"/>
              <a:chOff x="932400" y="5155560"/>
              <a:chExt cx="1162800" cy="1063080"/>
            </a:xfrm>
          </p:grpSpPr>
          <p:sp>
            <p:nvSpPr>
              <p:cNvPr id="2374" name="Freeform 25"/>
              <p:cNvSpPr/>
              <p:nvPr/>
            </p:nvSpPr>
            <p:spPr>
              <a:xfrm rot="8520000">
                <a:off x="1731240" y="5484240"/>
                <a:ext cx="266040" cy="408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5" name="Freeform 26"/>
              <p:cNvSpPr/>
              <p:nvPr/>
            </p:nvSpPr>
            <p:spPr>
              <a:xfrm rot="8520000">
                <a:off x="1184400" y="5775480"/>
                <a:ext cx="454320" cy="339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6" name="Freeform 27"/>
              <p:cNvSpPr/>
              <p:nvPr/>
            </p:nvSpPr>
            <p:spPr>
              <a:xfrm rot="8520000">
                <a:off x="934920" y="5283000"/>
                <a:ext cx="474840" cy="172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377" name="Group 28"/>
            <p:cNvGrpSpPr/>
            <p:nvPr/>
          </p:nvGrpSpPr>
          <p:grpSpPr>
            <a:xfrm>
              <a:off x="222120" y="369000"/>
              <a:ext cx="1863360" cy="1271880"/>
              <a:chOff x="222120" y="369000"/>
              <a:chExt cx="1863360" cy="1271880"/>
            </a:xfrm>
          </p:grpSpPr>
          <p:sp>
            <p:nvSpPr>
              <p:cNvPr id="2378" name="Freeform 29"/>
              <p:cNvSpPr/>
              <p:nvPr/>
            </p:nvSpPr>
            <p:spPr>
              <a:xfrm flipH="1" rot="4140000">
                <a:off x="1545120" y="1059840"/>
                <a:ext cx="393480" cy="584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9" name="Freeform 30"/>
              <p:cNvSpPr/>
              <p:nvPr/>
            </p:nvSpPr>
            <p:spPr>
              <a:xfrm flipH="1" rot="4140000">
                <a:off x="931680" y="528120"/>
                <a:ext cx="676080" cy="486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0" name="Freeform 31"/>
              <p:cNvSpPr/>
              <p:nvPr/>
            </p:nvSpPr>
            <p:spPr>
              <a:xfrm flipH="1" rot="4140000">
                <a:off x="110880" y="1102320"/>
                <a:ext cx="706320" cy="247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381" name="Group 32"/>
            <p:cNvGrpSpPr/>
            <p:nvPr/>
          </p:nvGrpSpPr>
          <p:grpSpPr>
            <a:xfrm>
              <a:off x="7333560" y="3620520"/>
              <a:ext cx="1260720" cy="1719360"/>
              <a:chOff x="7333560" y="3620520"/>
              <a:chExt cx="1260720" cy="1719360"/>
            </a:xfrm>
          </p:grpSpPr>
          <p:sp>
            <p:nvSpPr>
              <p:cNvPr id="2382" name="Freeform 33"/>
              <p:cNvSpPr/>
              <p:nvPr/>
            </p:nvSpPr>
            <p:spPr>
              <a:xfrm flipH="1" rot="10020000">
                <a:off x="7391880" y="4739040"/>
                <a:ext cx="387000" cy="564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3" name="Freeform 34"/>
              <p:cNvSpPr/>
              <p:nvPr/>
            </p:nvSpPr>
            <p:spPr>
              <a:xfrm flipH="1" rot="10020000">
                <a:off x="7885440" y="4417200"/>
                <a:ext cx="664560" cy="470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4" name="Freeform 35"/>
              <p:cNvSpPr/>
              <p:nvPr/>
            </p:nvSpPr>
            <p:spPr>
              <a:xfrm flipH="1" rot="10020000">
                <a:off x="7553520" y="3695400"/>
                <a:ext cx="694080" cy="239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385" name="Freeform 36"/>
            <p:cNvSpPr/>
            <p:nvPr/>
          </p:nvSpPr>
          <p:spPr>
            <a:xfrm>
              <a:off x="1915920" y="3240"/>
              <a:ext cx="1369440" cy="14047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6" name="Freeform 37"/>
            <p:cNvSpPr/>
            <p:nvPr/>
          </p:nvSpPr>
          <p:spPr>
            <a:xfrm flipV="1" rot="9840000">
              <a:off x="3414240" y="164160"/>
              <a:ext cx="1081440" cy="9396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7" name="Freeform 38"/>
            <p:cNvSpPr/>
            <p:nvPr/>
          </p:nvSpPr>
          <p:spPr>
            <a:xfrm flipV="1" rot="9840000">
              <a:off x="3158280" y="1361880"/>
              <a:ext cx="523080" cy="4392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8" name="Freeform 39"/>
            <p:cNvSpPr/>
            <p:nvPr/>
          </p:nvSpPr>
          <p:spPr>
            <a:xfrm flipV="1" rot="9840000">
              <a:off x="3519360" y="1285200"/>
              <a:ext cx="194040" cy="3682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9" name="Freeform 40"/>
            <p:cNvSpPr/>
            <p:nvPr/>
          </p:nvSpPr>
          <p:spPr>
            <a:xfrm>
              <a:off x="2530080" y="0"/>
              <a:ext cx="195480" cy="1904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0" name="Freeform 41"/>
            <p:cNvSpPr/>
            <p:nvPr/>
          </p:nvSpPr>
          <p:spPr>
            <a:xfrm flipV="1" rot="9840000">
              <a:off x="3439080" y="1964520"/>
              <a:ext cx="623520" cy="365004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1" name="Freeform 42"/>
            <p:cNvSpPr/>
            <p:nvPr/>
          </p:nvSpPr>
          <p:spPr>
            <a:xfrm>
              <a:off x="-20520" y="2933640"/>
              <a:ext cx="55440" cy="20808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4" name="Text Box 4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5" name="Text Box 4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F27050D-C04D-49D6-B771-6485D287FE9A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169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0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171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2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3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74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5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176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9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0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81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182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83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84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85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186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8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89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190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3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194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97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1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2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3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8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9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0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8C531A7-0EE1-46B4-9D25-CC74759940F7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3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434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435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436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37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38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439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440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441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42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43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44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45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446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447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448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449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450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451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52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53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454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455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56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57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458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459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60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61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462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3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4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5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6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7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8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9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0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1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2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3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4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5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8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9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0FCC4B4-E725-4C20-A002-25178FC857F3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7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518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519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520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21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22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523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524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525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26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27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28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29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530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531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532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533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534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535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36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37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538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539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40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41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542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543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44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45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546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7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8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9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0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1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2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3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4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5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6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7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8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9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2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3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 type="sldNum" idx="3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9D1130-C47E-472A-90D2-57C0265967CD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1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602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603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604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05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06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607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608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609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10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11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12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13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614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615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16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17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618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619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20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21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622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623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24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25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626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627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28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29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630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1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2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3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4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5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6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7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8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9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0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1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2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3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6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7036ABC-879F-410C-8C3C-21D515F9A3E6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5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686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687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688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89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90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691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692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693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94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95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96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97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698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699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700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701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702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703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04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05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706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707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08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09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710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711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12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13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714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5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6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7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8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9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0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1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2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3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4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5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6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7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0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48556B0-9543-4ABA-83BC-0B74AA4D7F90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9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770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771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772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73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74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775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776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777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78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79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0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1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782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783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784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785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786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787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8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9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790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791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2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3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794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795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6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7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798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9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0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1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2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3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4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5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6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7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8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9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0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1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4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5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61CC3E1-EDA2-465B-A275-259FABCD59F3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3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854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855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856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57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58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859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860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861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62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63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64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65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66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867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8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9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870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871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72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73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874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875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76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77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878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879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80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81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882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3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4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5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6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7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8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9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0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1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2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3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4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5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8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9808845-6437-4DBF-A332-B2ECC8E2397B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7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938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39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940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41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42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43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44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945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46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47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48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49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950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951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952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953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954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955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56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57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958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959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60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61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962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963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64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65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66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7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8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9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0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1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2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3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4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5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6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7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8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9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2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C2878F3-6103-46FF-B65A-EEB912C4ADA7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1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022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023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024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25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26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027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028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029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30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31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32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33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034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035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036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037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038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039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40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41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042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043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44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45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046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047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48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49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050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1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2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3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4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5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6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7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8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9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60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61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62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63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6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7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 type="sldNum" idx="37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182D8E0-78BE-4DCE-AFD9-FA20B4CA60BC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5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106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107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108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09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10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111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112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113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14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15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16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17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118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119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120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121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122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123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24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25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126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127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28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29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130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131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32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33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134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5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6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7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8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9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0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1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2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3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4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5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6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7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0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491DD9E-51F1-4455-BBF7-B0E084ED17B6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9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190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191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192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93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94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195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196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197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98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99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00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01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202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203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204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205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206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207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08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09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210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211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12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13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214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215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16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17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218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19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0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1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2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3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4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5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6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7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8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9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30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31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4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5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8731074-FD9E-41F6-84A1-AAB8031CCAC7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253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54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255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6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7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58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59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260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1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2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3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4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65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266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7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8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69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270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1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2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73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74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5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6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77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78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81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2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3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4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5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6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7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0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1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2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3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EAF05CA-ED7C-4CDB-BBA8-BC4A95609D39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3" name="Group 1"/>
          <p:cNvGrpSpPr/>
          <p:nvPr/>
        </p:nvGrpSpPr>
        <p:grpSpPr>
          <a:xfrm>
            <a:off x="-39240" y="-338400"/>
            <a:ext cx="9405720" cy="7194960"/>
            <a:chOff x="-39240" y="-338400"/>
            <a:chExt cx="9405720" cy="7194960"/>
          </a:xfrm>
        </p:grpSpPr>
        <p:grpSp>
          <p:nvGrpSpPr>
            <p:cNvPr id="3274" name="Group 2"/>
            <p:cNvGrpSpPr/>
            <p:nvPr/>
          </p:nvGrpSpPr>
          <p:grpSpPr>
            <a:xfrm>
              <a:off x="4833720" y="-338400"/>
              <a:ext cx="4532760" cy="6543360"/>
              <a:chOff x="4833720" y="-338400"/>
              <a:chExt cx="4532760" cy="6543360"/>
            </a:xfrm>
          </p:grpSpPr>
          <p:sp>
            <p:nvSpPr>
              <p:cNvPr id="3275" name="Freeform 3"/>
              <p:cNvSpPr/>
              <p:nvPr/>
            </p:nvSpPr>
            <p:spPr>
              <a:xfrm flipV="1" rot="12000000">
                <a:off x="6247800" y="62280"/>
                <a:ext cx="2780280" cy="24678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76" name="Freeform 4"/>
              <p:cNvSpPr/>
              <p:nvPr/>
            </p:nvSpPr>
            <p:spPr>
              <a:xfrm flipV="1" rot="12000000">
                <a:off x="7352280" y="1752480"/>
                <a:ext cx="1190160" cy="88164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77" name="Freeform 5"/>
              <p:cNvSpPr/>
              <p:nvPr/>
            </p:nvSpPr>
            <p:spPr>
              <a:xfrm flipV="1" rot="12000000">
                <a:off x="6570000" y="2414520"/>
                <a:ext cx="576000" cy="41256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78" name="Freeform 6"/>
              <p:cNvSpPr/>
              <p:nvPr/>
            </p:nvSpPr>
            <p:spPr>
              <a:xfrm flipV="1" rot="12000000">
                <a:off x="7128360" y="403200"/>
                <a:ext cx="509400" cy="57492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79" name="Freeform 7"/>
              <p:cNvSpPr/>
              <p:nvPr/>
            </p:nvSpPr>
            <p:spPr>
              <a:xfrm flipV="1" rot="12000000">
                <a:off x="7001280" y="2467800"/>
                <a:ext cx="212760" cy="34560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80" name="Freeform 8"/>
              <p:cNvSpPr/>
              <p:nvPr/>
            </p:nvSpPr>
            <p:spPr>
              <a:xfrm flipV="1" rot="12000000">
                <a:off x="6980760" y="995400"/>
                <a:ext cx="248400" cy="1479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81" name="Freeform 9"/>
              <p:cNvSpPr/>
              <p:nvPr/>
            </p:nvSpPr>
            <p:spPr>
              <a:xfrm flipV="1" rot="12000000">
                <a:off x="5398560" y="2768040"/>
                <a:ext cx="686880" cy="34221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282" name="Freeform 10"/>
            <p:cNvSpPr/>
            <p:nvPr/>
          </p:nvSpPr>
          <p:spPr>
            <a:xfrm flipH="1" rot="360000">
              <a:off x="12960" y="3107880"/>
              <a:ext cx="512280" cy="102924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3" name="Freeform 11"/>
            <p:cNvSpPr/>
            <p:nvPr/>
          </p:nvSpPr>
          <p:spPr>
            <a:xfrm>
              <a:off x="246600" y="2000160"/>
              <a:ext cx="2001240" cy="243072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4" name="Freeform 12"/>
            <p:cNvSpPr/>
            <p:nvPr/>
          </p:nvSpPr>
          <p:spPr>
            <a:xfrm>
              <a:off x="-20520" y="4143240"/>
              <a:ext cx="1272960" cy="72720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5" name="Freeform 13"/>
            <p:cNvSpPr/>
            <p:nvPr/>
          </p:nvSpPr>
          <p:spPr>
            <a:xfrm flipH="1" rot="360000">
              <a:off x="1407960" y="4533480"/>
              <a:ext cx="561600" cy="7351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6" name="Freeform 14"/>
            <p:cNvSpPr/>
            <p:nvPr/>
          </p:nvSpPr>
          <p:spPr>
            <a:xfrm flipH="1" rot="360000">
              <a:off x="1248120" y="4730400"/>
              <a:ext cx="136440" cy="4338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7" name="Freeform 15"/>
            <p:cNvSpPr/>
            <p:nvPr/>
          </p:nvSpPr>
          <p:spPr>
            <a:xfrm>
              <a:off x="1872720" y="5195880"/>
              <a:ext cx="1761120" cy="166068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288" name="Group 16"/>
            <p:cNvGrpSpPr/>
            <p:nvPr/>
          </p:nvGrpSpPr>
          <p:grpSpPr>
            <a:xfrm>
              <a:off x="3988440" y="920520"/>
              <a:ext cx="1271160" cy="1391400"/>
              <a:chOff x="3988440" y="920520"/>
              <a:chExt cx="1271160" cy="1391400"/>
            </a:xfrm>
          </p:grpSpPr>
          <p:sp>
            <p:nvSpPr>
              <p:cNvPr id="3289" name="Freeform 17"/>
              <p:cNvSpPr/>
              <p:nvPr/>
            </p:nvSpPr>
            <p:spPr>
              <a:xfrm rot="3240000">
                <a:off x="4538520" y="939240"/>
                <a:ext cx="304200" cy="505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90" name="Freeform 18"/>
              <p:cNvSpPr/>
              <p:nvPr/>
            </p:nvSpPr>
            <p:spPr>
              <a:xfrm rot="3240000">
                <a:off x="4676400" y="1518840"/>
                <a:ext cx="522000" cy="417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91" name="Freeform 19"/>
              <p:cNvSpPr/>
              <p:nvPr/>
            </p:nvSpPr>
            <p:spPr>
              <a:xfrm rot="3240000">
                <a:off x="3961800" y="1922400"/>
                <a:ext cx="545760" cy="212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292" name="Group 20"/>
            <p:cNvGrpSpPr/>
            <p:nvPr/>
          </p:nvGrpSpPr>
          <p:grpSpPr>
            <a:xfrm>
              <a:off x="5615280" y="280080"/>
              <a:ext cx="969120" cy="916200"/>
              <a:chOff x="5615280" y="280080"/>
              <a:chExt cx="969120" cy="916200"/>
            </a:xfrm>
          </p:grpSpPr>
          <p:sp>
            <p:nvSpPr>
              <p:cNvPr id="3293" name="Freeform 21"/>
              <p:cNvSpPr/>
              <p:nvPr/>
            </p:nvSpPr>
            <p:spPr>
              <a:xfrm rot="14880000">
                <a:off x="5736960" y="835560"/>
                <a:ext cx="194040" cy="393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94" name="Freeform 22"/>
              <p:cNvSpPr/>
              <p:nvPr/>
            </p:nvSpPr>
            <p:spPr>
              <a:xfrm rot="14880000">
                <a:off x="5680440" y="484200"/>
                <a:ext cx="335520" cy="3258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95" name="Freeform 23"/>
              <p:cNvSpPr/>
              <p:nvPr/>
            </p:nvSpPr>
            <p:spPr>
              <a:xfrm rot="14880000">
                <a:off x="6266520" y="390960"/>
                <a:ext cx="351000" cy="164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296" name="Group 24"/>
            <p:cNvGrpSpPr/>
            <p:nvPr/>
          </p:nvGrpSpPr>
          <p:grpSpPr>
            <a:xfrm>
              <a:off x="932400" y="5155560"/>
              <a:ext cx="1162800" cy="1063080"/>
              <a:chOff x="932400" y="5155560"/>
              <a:chExt cx="1162800" cy="1063080"/>
            </a:xfrm>
          </p:grpSpPr>
          <p:sp>
            <p:nvSpPr>
              <p:cNvPr id="3297" name="Freeform 25"/>
              <p:cNvSpPr/>
              <p:nvPr/>
            </p:nvSpPr>
            <p:spPr>
              <a:xfrm rot="8520000">
                <a:off x="1731240" y="5484240"/>
                <a:ext cx="266040" cy="408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98" name="Freeform 26"/>
              <p:cNvSpPr/>
              <p:nvPr/>
            </p:nvSpPr>
            <p:spPr>
              <a:xfrm rot="8520000">
                <a:off x="1184400" y="5775480"/>
                <a:ext cx="454320" cy="339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99" name="Freeform 27"/>
              <p:cNvSpPr/>
              <p:nvPr/>
            </p:nvSpPr>
            <p:spPr>
              <a:xfrm rot="8520000">
                <a:off x="934920" y="5283000"/>
                <a:ext cx="474840" cy="172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300" name="Group 28"/>
            <p:cNvGrpSpPr/>
            <p:nvPr/>
          </p:nvGrpSpPr>
          <p:grpSpPr>
            <a:xfrm>
              <a:off x="222120" y="369000"/>
              <a:ext cx="1863360" cy="1271880"/>
              <a:chOff x="222120" y="369000"/>
              <a:chExt cx="1863360" cy="1271880"/>
            </a:xfrm>
          </p:grpSpPr>
          <p:sp>
            <p:nvSpPr>
              <p:cNvPr id="3301" name="Freeform 29"/>
              <p:cNvSpPr/>
              <p:nvPr/>
            </p:nvSpPr>
            <p:spPr>
              <a:xfrm flipH="1" rot="4140000">
                <a:off x="1545120" y="1059840"/>
                <a:ext cx="393480" cy="584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02" name="Freeform 30"/>
              <p:cNvSpPr/>
              <p:nvPr/>
            </p:nvSpPr>
            <p:spPr>
              <a:xfrm flipH="1" rot="4140000">
                <a:off x="931680" y="528120"/>
                <a:ext cx="676080" cy="486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03" name="Freeform 31"/>
              <p:cNvSpPr/>
              <p:nvPr/>
            </p:nvSpPr>
            <p:spPr>
              <a:xfrm flipH="1" rot="4140000">
                <a:off x="110880" y="1102320"/>
                <a:ext cx="706320" cy="247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304" name="Group 32"/>
            <p:cNvGrpSpPr/>
            <p:nvPr/>
          </p:nvGrpSpPr>
          <p:grpSpPr>
            <a:xfrm>
              <a:off x="7333560" y="3620520"/>
              <a:ext cx="1260720" cy="1719360"/>
              <a:chOff x="7333560" y="3620520"/>
              <a:chExt cx="1260720" cy="1719360"/>
            </a:xfrm>
          </p:grpSpPr>
          <p:sp>
            <p:nvSpPr>
              <p:cNvPr id="3305" name="Freeform 33"/>
              <p:cNvSpPr/>
              <p:nvPr/>
            </p:nvSpPr>
            <p:spPr>
              <a:xfrm flipH="1" rot="10020000">
                <a:off x="7391880" y="4739040"/>
                <a:ext cx="387000" cy="564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06" name="Freeform 34"/>
              <p:cNvSpPr/>
              <p:nvPr/>
            </p:nvSpPr>
            <p:spPr>
              <a:xfrm flipH="1" rot="10020000">
                <a:off x="7885440" y="4417200"/>
                <a:ext cx="664560" cy="470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07" name="Freeform 35"/>
              <p:cNvSpPr/>
              <p:nvPr/>
            </p:nvSpPr>
            <p:spPr>
              <a:xfrm flipH="1" rot="10020000">
                <a:off x="7553520" y="3695400"/>
                <a:ext cx="694080" cy="239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308" name="Freeform 36"/>
            <p:cNvSpPr/>
            <p:nvPr/>
          </p:nvSpPr>
          <p:spPr>
            <a:xfrm>
              <a:off x="1915920" y="3240"/>
              <a:ext cx="1369440" cy="14047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09" name="Freeform 37"/>
            <p:cNvSpPr/>
            <p:nvPr/>
          </p:nvSpPr>
          <p:spPr>
            <a:xfrm flipV="1" rot="9840000">
              <a:off x="3414240" y="164160"/>
              <a:ext cx="1081440" cy="9396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0" name="Freeform 38"/>
            <p:cNvSpPr/>
            <p:nvPr/>
          </p:nvSpPr>
          <p:spPr>
            <a:xfrm flipV="1" rot="9840000">
              <a:off x="3158280" y="1361880"/>
              <a:ext cx="523080" cy="4392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1" name="Freeform 39"/>
            <p:cNvSpPr/>
            <p:nvPr/>
          </p:nvSpPr>
          <p:spPr>
            <a:xfrm flipV="1" rot="9840000">
              <a:off x="3519360" y="1285200"/>
              <a:ext cx="194040" cy="3682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2" name="Freeform 40"/>
            <p:cNvSpPr/>
            <p:nvPr/>
          </p:nvSpPr>
          <p:spPr>
            <a:xfrm>
              <a:off x="2530080" y="0"/>
              <a:ext cx="195480" cy="1904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3" name="Freeform 41"/>
            <p:cNvSpPr/>
            <p:nvPr/>
          </p:nvSpPr>
          <p:spPr>
            <a:xfrm flipV="1" rot="9840000">
              <a:off x="3439080" y="1964520"/>
              <a:ext cx="623520" cy="365004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4" name="Freeform 42"/>
            <p:cNvSpPr/>
            <p:nvPr/>
          </p:nvSpPr>
          <p:spPr>
            <a:xfrm>
              <a:off x="-20520" y="2933640"/>
              <a:ext cx="55440" cy="20808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7" name="Text Box 4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8" name="Text Box 4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9" name="PlaceHolder 3"/>
          <p:cNvSpPr>
            <a:spLocks noGrp="1"/>
          </p:cNvSpPr>
          <p:nvPr>
            <p:ph type="sldNum" idx="40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5237DA5-8C26-458B-8BBE-09BDC79CDA01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6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357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358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359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60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61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362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363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364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65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66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67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68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369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370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371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372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373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374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75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76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377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378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79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80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381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382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83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84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385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86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87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88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89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0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1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2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3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4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5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6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7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8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1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2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3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F4D57EC-F4BC-48AC-B6CB-4636AED44FC1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0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441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42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443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44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45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446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47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448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49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50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51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52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453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454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455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456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457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458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59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60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461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462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63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64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465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466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67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68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469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0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1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2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3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4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5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6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7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8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9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80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81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82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5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6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82CDE20-BCFC-418D-B7C6-7BCC0A32C58D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4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525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526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527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28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29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30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531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532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33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34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35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36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537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538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539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540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541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542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43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44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545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546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47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48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549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550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51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52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53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4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5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6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7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8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9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0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1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2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3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4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5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6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9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0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 type="sldNum" idx="4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D5D4DF3-F1D1-4CAE-A03C-5585E62F9ADE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8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609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610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611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12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13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614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615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616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17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18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19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20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621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622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623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624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625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626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27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28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29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630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31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32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33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634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35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36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637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8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9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0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1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2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3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4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5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6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7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8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9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50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65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53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4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E3B4318-636E-4034-9082-FA80CDB55401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2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693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694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695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96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97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698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699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700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01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02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03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04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705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706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07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08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709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710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11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12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13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714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15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16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17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718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19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20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721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2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3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4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5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6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7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8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9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0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1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2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3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4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7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8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D7D7D3C-B311-4A97-87F5-9633024EFAC3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6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777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778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779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80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81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782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783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784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85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86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87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88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789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790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91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92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793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794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95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96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97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798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99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00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801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802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03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04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805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6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7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8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9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0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1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2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3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4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5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6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7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8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1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2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3" name="PlaceHolder 3"/>
          <p:cNvSpPr>
            <a:spLocks noGrp="1"/>
          </p:cNvSpPr>
          <p:nvPr>
            <p:ph type="sldNum" idx="4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6716D72-46EA-4717-9CC4-49EF53474A89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0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861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862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863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64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65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866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867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868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69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70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71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72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873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874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875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876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877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878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79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80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881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882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83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84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885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886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87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88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889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0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1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2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3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4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5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6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7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8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9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0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1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2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90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5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6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7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7E8717F-F6A2-4FC6-A600-CEF74D10BF94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4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945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946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947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48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49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950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951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952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53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54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55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56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957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958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959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960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961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962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63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64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965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966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67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68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969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970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71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72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973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74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75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76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77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78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79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0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1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2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3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4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5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6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98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9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0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1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2A8568B-C68C-4850-8447-0C56C2A9FDAD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8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4029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030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4031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32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33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034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035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4036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37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38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39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40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041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4042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043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044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045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4046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47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48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049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4050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51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52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053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4054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55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56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057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58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59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0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1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2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3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4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5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6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7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8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9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70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3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4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5" name="PlaceHolder 3"/>
          <p:cNvSpPr>
            <a:spLocks noGrp="1"/>
          </p:cNvSpPr>
          <p:nvPr>
            <p:ph type="sldNum" idx="49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8DBEF1D-AE36-47C0-9486-C5CE7B63114A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337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38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39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0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1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42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3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344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6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7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8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49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350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51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52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53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354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5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6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57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358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9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0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1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362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3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4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65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6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7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8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9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0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1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4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5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6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7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8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266BB64-286F-4C20-AD19-8369A2267A5B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2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4113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114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4115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16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17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118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119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4120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21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22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23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24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125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4126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127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128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129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4130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31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32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133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4134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35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36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137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4138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39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40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141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2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3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4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5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6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7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8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9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50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51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52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53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54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1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7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8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9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47ED359-D04F-45FF-8000-842BDA21765B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6" name="Group 1"/>
          <p:cNvGrpSpPr/>
          <p:nvPr/>
        </p:nvGrpSpPr>
        <p:grpSpPr>
          <a:xfrm>
            <a:off x="-39240" y="-338400"/>
            <a:ext cx="9405720" cy="7194960"/>
            <a:chOff x="-39240" y="-338400"/>
            <a:chExt cx="9405720" cy="7194960"/>
          </a:xfrm>
        </p:grpSpPr>
        <p:grpSp>
          <p:nvGrpSpPr>
            <p:cNvPr id="4197" name="Group 2"/>
            <p:cNvGrpSpPr/>
            <p:nvPr/>
          </p:nvGrpSpPr>
          <p:grpSpPr>
            <a:xfrm>
              <a:off x="4833720" y="-338400"/>
              <a:ext cx="4532760" cy="6543360"/>
              <a:chOff x="4833720" y="-338400"/>
              <a:chExt cx="4532760" cy="6543360"/>
            </a:xfrm>
          </p:grpSpPr>
          <p:sp>
            <p:nvSpPr>
              <p:cNvPr id="4198" name="Freeform 3"/>
              <p:cNvSpPr/>
              <p:nvPr/>
            </p:nvSpPr>
            <p:spPr>
              <a:xfrm flipV="1" rot="12000000">
                <a:off x="6247800" y="62280"/>
                <a:ext cx="2780280" cy="24678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99" name="Freeform 4"/>
              <p:cNvSpPr/>
              <p:nvPr/>
            </p:nvSpPr>
            <p:spPr>
              <a:xfrm flipV="1" rot="12000000">
                <a:off x="7352280" y="1752480"/>
                <a:ext cx="1190160" cy="88164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00" name="Freeform 5"/>
              <p:cNvSpPr/>
              <p:nvPr/>
            </p:nvSpPr>
            <p:spPr>
              <a:xfrm flipV="1" rot="12000000">
                <a:off x="6570000" y="2414520"/>
                <a:ext cx="576000" cy="41256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01" name="Freeform 6"/>
              <p:cNvSpPr/>
              <p:nvPr/>
            </p:nvSpPr>
            <p:spPr>
              <a:xfrm flipV="1" rot="12000000">
                <a:off x="7128360" y="403200"/>
                <a:ext cx="509400" cy="57492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02" name="Freeform 7"/>
              <p:cNvSpPr/>
              <p:nvPr/>
            </p:nvSpPr>
            <p:spPr>
              <a:xfrm flipV="1" rot="12000000">
                <a:off x="7001280" y="2467800"/>
                <a:ext cx="212760" cy="34560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03" name="Freeform 8"/>
              <p:cNvSpPr/>
              <p:nvPr/>
            </p:nvSpPr>
            <p:spPr>
              <a:xfrm flipV="1" rot="12000000">
                <a:off x="6980760" y="995400"/>
                <a:ext cx="248400" cy="1479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04" name="Freeform 9"/>
              <p:cNvSpPr/>
              <p:nvPr/>
            </p:nvSpPr>
            <p:spPr>
              <a:xfrm flipV="1" rot="12000000">
                <a:off x="5398560" y="2768040"/>
                <a:ext cx="686880" cy="34221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205" name="Freeform 10"/>
            <p:cNvSpPr/>
            <p:nvPr/>
          </p:nvSpPr>
          <p:spPr>
            <a:xfrm flipH="1" rot="360000">
              <a:off x="12960" y="3107880"/>
              <a:ext cx="512280" cy="102924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6" name="Freeform 11"/>
            <p:cNvSpPr/>
            <p:nvPr/>
          </p:nvSpPr>
          <p:spPr>
            <a:xfrm>
              <a:off x="246600" y="2000160"/>
              <a:ext cx="2001240" cy="243072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7" name="Freeform 12"/>
            <p:cNvSpPr/>
            <p:nvPr/>
          </p:nvSpPr>
          <p:spPr>
            <a:xfrm>
              <a:off x="-20520" y="4143240"/>
              <a:ext cx="1272960" cy="72720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8" name="Freeform 13"/>
            <p:cNvSpPr/>
            <p:nvPr/>
          </p:nvSpPr>
          <p:spPr>
            <a:xfrm flipH="1" rot="360000">
              <a:off x="1407960" y="4533480"/>
              <a:ext cx="561600" cy="7351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9" name="Freeform 14"/>
            <p:cNvSpPr/>
            <p:nvPr/>
          </p:nvSpPr>
          <p:spPr>
            <a:xfrm flipH="1" rot="360000">
              <a:off x="1248120" y="4730400"/>
              <a:ext cx="136440" cy="4338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10" name="Freeform 15"/>
            <p:cNvSpPr/>
            <p:nvPr/>
          </p:nvSpPr>
          <p:spPr>
            <a:xfrm>
              <a:off x="1872720" y="5195880"/>
              <a:ext cx="1761120" cy="166068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211" name="Group 16"/>
            <p:cNvGrpSpPr/>
            <p:nvPr/>
          </p:nvGrpSpPr>
          <p:grpSpPr>
            <a:xfrm>
              <a:off x="3988440" y="920520"/>
              <a:ext cx="1271160" cy="1391400"/>
              <a:chOff x="3988440" y="920520"/>
              <a:chExt cx="1271160" cy="1391400"/>
            </a:xfrm>
          </p:grpSpPr>
          <p:sp>
            <p:nvSpPr>
              <p:cNvPr id="4212" name="Freeform 17"/>
              <p:cNvSpPr/>
              <p:nvPr/>
            </p:nvSpPr>
            <p:spPr>
              <a:xfrm rot="3240000">
                <a:off x="4538520" y="939240"/>
                <a:ext cx="304200" cy="505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13" name="Freeform 18"/>
              <p:cNvSpPr/>
              <p:nvPr/>
            </p:nvSpPr>
            <p:spPr>
              <a:xfrm rot="3240000">
                <a:off x="4676400" y="1518840"/>
                <a:ext cx="522000" cy="417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14" name="Freeform 19"/>
              <p:cNvSpPr/>
              <p:nvPr/>
            </p:nvSpPr>
            <p:spPr>
              <a:xfrm rot="3240000">
                <a:off x="3961800" y="1922400"/>
                <a:ext cx="545760" cy="212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215" name="Group 20"/>
            <p:cNvGrpSpPr/>
            <p:nvPr/>
          </p:nvGrpSpPr>
          <p:grpSpPr>
            <a:xfrm>
              <a:off x="5615280" y="280080"/>
              <a:ext cx="969120" cy="916200"/>
              <a:chOff x="5615280" y="280080"/>
              <a:chExt cx="969120" cy="916200"/>
            </a:xfrm>
          </p:grpSpPr>
          <p:sp>
            <p:nvSpPr>
              <p:cNvPr id="4216" name="Freeform 21"/>
              <p:cNvSpPr/>
              <p:nvPr/>
            </p:nvSpPr>
            <p:spPr>
              <a:xfrm rot="14880000">
                <a:off x="5736960" y="835560"/>
                <a:ext cx="194040" cy="393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17" name="Freeform 22"/>
              <p:cNvSpPr/>
              <p:nvPr/>
            </p:nvSpPr>
            <p:spPr>
              <a:xfrm rot="14880000">
                <a:off x="5680440" y="484200"/>
                <a:ext cx="335520" cy="3258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18" name="Freeform 23"/>
              <p:cNvSpPr/>
              <p:nvPr/>
            </p:nvSpPr>
            <p:spPr>
              <a:xfrm rot="14880000">
                <a:off x="6266520" y="390960"/>
                <a:ext cx="351000" cy="164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219" name="Group 24"/>
            <p:cNvGrpSpPr/>
            <p:nvPr/>
          </p:nvGrpSpPr>
          <p:grpSpPr>
            <a:xfrm>
              <a:off x="932400" y="5155560"/>
              <a:ext cx="1162800" cy="1063080"/>
              <a:chOff x="932400" y="5155560"/>
              <a:chExt cx="1162800" cy="1063080"/>
            </a:xfrm>
          </p:grpSpPr>
          <p:sp>
            <p:nvSpPr>
              <p:cNvPr id="4220" name="Freeform 25"/>
              <p:cNvSpPr/>
              <p:nvPr/>
            </p:nvSpPr>
            <p:spPr>
              <a:xfrm rot="8520000">
                <a:off x="1731240" y="5484240"/>
                <a:ext cx="266040" cy="408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21" name="Freeform 26"/>
              <p:cNvSpPr/>
              <p:nvPr/>
            </p:nvSpPr>
            <p:spPr>
              <a:xfrm rot="8520000">
                <a:off x="1184400" y="5775480"/>
                <a:ext cx="454320" cy="339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22" name="Freeform 27"/>
              <p:cNvSpPr/>
              <p:nvPr/>
            </p:nvSpPr>
            <p:spPr>
              <a:xfrm rot="8520000">
                <a:off x="934920" y="5283000"/>
                <a:ext cx="474840" cy="172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223" name="Group 28"/>
            <p:cNvGrpSpPr/>
            <p:nvPr/>
          </p:nvGrpSpPr>
          <p:grpSpPr>
            <a:xfrm>
              <a:off x="222120" y="369000"/>
              <a:ext cx="1863360" cy="1271880"/>
              <a:chOff x="222120" y="369000"/>
              <a:chExt cx="1863360" cy="1271880"/>
            </a:xfrm>
          </p:grpSpPr>
          <p:sp>
            <p:nvSpPr>
              <p:cNvPr id="4224" name="Freeform 29"/>
              <p:cNvSpPr/>
              <p:nvPr/>
            </p:nvSpPr>
            <p:spPr>
              <a:xfrm flipH="1" rot="4140000">
                <a:off x="1545120" y="1059840"/>
                <a:ext cx="393480" cy="584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25" name="Freeform 30"/>
              <p:cNvSpPr/>
              <p:nvPr/>
            </p:nvSpPr>
            <p:spPr>
              <a:xfrm flipH="1" rot="4140000">
                <a:off x="931680" y="528120"/>
                <a:ext cx="676080" cy="486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26" name="Freeform 31"/>
              <p:cNvSpPr/>
              <p:nvPr/>
            </p:nvSpPr>
            <p:spPr>
              <a:xfrm flipH="1" rot="4140000">
                <a:off x="110880" y="1102320"/>
                <a:ext cx="706320" cy="247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227" name="Group 32"/>
            <p:cNvGrpSpPr/>
            <p:nvPr/>
          </p:nvGrpSpPr>
          <p:grpSpPr>
            <a:xfrm>
              <a:off x="7333560" y="3620520"/>
              <a:ext cx="1260720" cy="1719360"/>
              <a:chOff x="7333560" y="3620520"/>
              <a:chExt cx="1260720" cy="1719360"/>
            </a:xfrm>
          </p:grpSpPr>
          <p:sp>
            <p:nvSpPr>
              <p:cNvPr id="4228" name="Freeform 33"/>
              <p:cNvSpPr/>
              <p:nvPr/>
            </p:nvSpPr>
            <p:spPr>
              <a:xfrm flipH="1" rot="10020000">
                <a:off x="7391880" y="4739040"/>
                <a:ext cx="387000" cy="564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29" name="Freeform 34"/>
              <p:cNvSpPr/>
              <p:nvPr/>
            </p:nvSpPr>
            <p:spPr>
              <a:xfrm flipH="1" rot="10020000">
                <a:off x="7885440" y="4417200"/>
                <a:ext cx="664560" cy="470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30" name="Freeform 35"/>
              <p:cNvSpPr/>
              <p:nvPr/>
            </p:nvSpPr>
            <p:spPr>
              <a:xfrm flipH="1" rot="10020000">
                <a:off x="7553520" y="3695400"/>
                <a:ext cx="694080" cy="239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231" name="Freeform 36"/>
            <p:cNvSpPr/>
            <p:nvPr/>
          </p:nvSpPr>
          <p:spPr>
            <a:xfrm>
              <a:off x="1915920" y="3240"/>
              <a:ext cx="1369440" cy="14047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2" name="Freeform 37"/>
            <p:cNvSpPr/>
            <p:nvPr/>
          </p:nvSpPr>
          <p:spPr>
            <a:xfrm flipV="1" rot="9840000">
              <a:off x="3414240" y="164160"/>
              <a:ext cx="1081440" cy="9396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3" name="Freeform 38"/>
            <p:cNvSpPr/>
            <p:nvPr/>
          </p:nvSpPr>
          <p:spPr>
            <a:xfrm flipV="1" rot="9840000">
              <a:off x="3158280" y="1361880"/>
              <a:ext cx="523080" cy="4392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4" name="Freeform 39"/>
            <p:cNvSpPr/>
            <p:nvPr/>
          </p:nvSpPr>
          <p:spPr>
            <a:xfrm flipV="1" rot="9840000">
              <a:off x="3519360" y="1285200"/>
              <a:ext cx="194040" cy="3682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5" name="Freeform 40"/>
            <p:cNvSpPr/>
            <p:nvPr/>
          </p:nvSpPr>
          <p:spPr>
            <a:xfrm>
              <a:off x="2530080" y="0"/>
              <a:ext cx="195480" cy="1904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6" name="Freeform 41"/>
            <p:cNvSpPr/>
            <p:nvPr/>
          </p:nvSpPr>
          <p:spPr>
            <a:xfrm flipV="1" rot="9840000">
              <a:off x="3439080" y="1964520"/>
              <a:ext cx="623520" cy="365004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7" name="Freeform 42"/>
            <p:cNvSpPr/>
            <p:nvPr/>
          </p:nvSpPr>
          <p:spPr>
            <a:xfrm>
              <a:off x="-20520" y="2933640"/>
              <a:ext cx="55440" cy="20808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23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0" name="Text Box 4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1" name="Text Box 4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2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4A646F3-2021-4101-A91B-A5E859B3F401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9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4280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281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4282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83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84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285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286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4287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88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89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90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91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292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4293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294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295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296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4297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98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99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300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4301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02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03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304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4305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06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07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308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09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0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1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2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3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4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5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6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7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8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9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20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21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24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5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6" name="PlaceHolder 3"/>
          <p:cNvSpPr>
            <a:spLocks noGrp="1"/>
          </p:cNvSpPr>
          <p:nvPr>
            <p:ph type="sldNum" idx="5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0EE6098-E273-497F-AE5E-B1B86CB4AA39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3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4364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365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4366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67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68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369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370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4371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72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73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74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75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376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4377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378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379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380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4381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82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83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384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4385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86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87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388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4389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90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91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392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93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94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95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96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97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98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99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00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01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02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03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04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05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40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8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9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0" name="PlaceHolder 3"/>
          <p:cNvSpPr>
            <a:spLocks noGrp="1"/>
          </p:cNvSpPr>
          <p:nvPr>
            <p:ph type="sldNum" idx="5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2EE2270-15EF-407F-8FFC-23C4A9F64915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7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4448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449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4450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51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52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453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454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4455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56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57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58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59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460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4461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462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463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464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4465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66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67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468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4469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70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71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472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4473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74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75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476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77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78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79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0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1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2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3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4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5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6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7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8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9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49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2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3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4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5F63C8C-ACB3-45F7-A6C9-99D48796C876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1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4532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533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4534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35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36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537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538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4539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40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41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42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43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544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4545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546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547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548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4549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50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51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552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4553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54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55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556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4557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58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59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560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1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2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3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4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5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6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7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8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9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0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1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2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3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6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7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8" name="PlaceHolder 3"/>
          <p:cNvSpPr>
            <a:spLocks noGrp="1"/>
          </p:cNvSpPr>
          <p:nvPr>
            <p:ph type="sldNum" idx="5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B78F78F-058C-4EA0-9681-EAC70787CE1D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5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4616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617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4618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19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20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621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622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4623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24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25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26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27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628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4629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630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631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632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4633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34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35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636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4637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38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39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640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4641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42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43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644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45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46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47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48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49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0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1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2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3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4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5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6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7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65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0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1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2" name="PlaceHolder 3"/>
          <p:cNvSpPr>
            <a:spLocks noGrp="1"/>
          </p:cNvSpPr>
          <p:nvPr>
            <p:ph type="sldNum" idx="5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53C706B-D595-4B01-87DD-4C5599B0A33E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9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4700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701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4702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03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04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705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706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4707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08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09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10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11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712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4713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14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15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716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4717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18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19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720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4721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22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23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724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4725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26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27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728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29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0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1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2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3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4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5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6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7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8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9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40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41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74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4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5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6" name="PlaceHolder 3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C6CB30D-7A26-456B-819A-8A37E5F62DFC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3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4784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785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4786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87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88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789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790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4791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92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93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94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95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796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4797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98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99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800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4801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02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03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804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4805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06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07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808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4809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10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11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812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13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14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15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16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17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18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19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20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21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22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23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24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25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82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8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9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0" name="PlaceHolder 3"/>
          <p:cNvSpPr>
            <a:spLocks noGrp="1"/>
          </p:cNvSpPr>
          <p:nvPr>
            <p:ph type="sldNum" idx="5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604ABCC-86F1-436C-A1F6-1BB85DA9AE26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7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4868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869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4870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71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72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873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874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4875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76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77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78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79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880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4881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882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883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884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4885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86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87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888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4889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90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91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892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4893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94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95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896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97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98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99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0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1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2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3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4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5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6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7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8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9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1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2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3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4" name="PlaceHolder 3"/>
          <p:cNvSpPr>
            <a:spLocks noGrp="1"/>
          </p:cNvSpPr>
          <p:nvPr>
            <p:ph type="sldNum" idx="59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7EA8DDB-F9B8-43B7-A526-421685CB7A48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1"/>
          <p:cNvGrpSpPr/>
          <p:nvPr/>
        </p:nvGrpSpPr>
        <p:grpSpPr>
          <a:xfrm>
            <a:off x="-39240" y="-338400"/>
            <a:ext cx="9405720" cy="7194960"/>
            <a:chOff x="-39240" y="-338400"/>
            <a:chExt cx="9405720" cy="7194960"/>
          </a:xfrm>
        </p:grpSpPr>
        <p:grpSp>
          <p:nvGrpSpPr>
            <p:cNvPr id="421" name="Group 2"/>
            <p:cNvGrpSpPr/>
            <p:nvPr/>
          </p:nvGrpSpPr>
          <p:grpSpPr>
            <a:xfrm>
              <a:off x="4833720" y="-338400"/>
              <a:ext cx="4532760" cy="6543360"/>
              <a:chOff x="4833720" y="-338400"/>
              <a:chExt cx="4532760" cy="6543360"/>
            </a:xfrm>
          </p:grpSpPr>
          <p:sp>
            <p:nvSpPr>
              <p:cNvPr id="422" name="Freeform 3"/>
              <p:cNvSpPr/>
              <p:nvPr/>
            </p:nvSpPr>
            <p:spPr>
              <a:xfrm flipV="1" rot="12000000">
                <a:off x="6247800" y="62280"/>
                <a:ext cx="2780280" cy="24678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3" name="Freeform 4"/>
              <p:cNvSpPr/>
              <p:nvPr/>
            </p:nvSpPr>
            <p:spPr>
              <a:xfrm flipV="1" rot="12000000">
                <a:off x="7352280" y="1752480"/>
                <a:ext cx="1190160" cy="88164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4" name="Freeform 5"/>
              <p:cNvSpPr/>
              <p:nvPr/>
            </p:nvSpPr>
            <p:spPr>
              <a:xfrm flipV="1" rot="12000000">
                <a:off x="6570000" y="2414520"/>
                <a:ext cx="576000" cy="41256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5" name="Freeform 6"/>
              <p:cNvSpPr/>
              <p:nvPr/>
            </p:nvSpPr>
            <p:spPr>
              <a:xfrm flipV="1" rot="12000000">
                <a:off x="7128360" y="403200"/>
                <a:ext cx="509400" cy="57492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6" name="Freeform 7"/>
              <p:cNvSpPr/>
              <p:nvPr/>
            </p:nvSpPr>
            <p:spPr>
              <a:xfrm flipV="1" rot="12000000">
                <a:off x="7001280" y="2467800"/>
                <a:ext cx="212760" cy="34560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7" name="Freeform 8"/>
              <p:cNvSpPr/>
              <p:nvPr/>
            </p:nvSpPr>
            <p:spPr>
              <a:xfrm flipV="1" rot="12000000">
                <a:off x="6980760" y="995400"/>
                <a:ext cx="248400" cy="1479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8" name="Freeform 9"/>
              <p:cNvSpPr/>
              <p:nvPr/>
            </p:nvSpPr>
            <p:spPr>
              <a:xfrm flipV="1" rot="12000000">
                <a:off x="5398560" y="2768040"/>
                <a:ext cx="686880" cy="34221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29" name="Freeform 10"/>
            <p:cNvSpPr/>
            <p:nvPr/>
          </p:nvSpPr>
          <p:spPr>
            <a:xfrm flipH="1" rot="360000">
              <a:off x="12960" y="3107880"/>
              <a:ext cx="512280" cy="102924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0" name="Freeform 11"/>
            <p:cNvSpPr/>
            <p:nvPr/>
          </p:nvSpPr>
          <p:spPr>
            <a:xfrm>
              <a:off x="246600" y="2000160"/>
              <a:ext cx="2001240" cy="243072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" name="Freeform 12"/>
            <p:cNvSpPr/>
            <p:nvPr/>
          </p:nvSpPr>
          <p:spPr>
            <a:xfrm>
              <a:off x="-20520" y="4143240"/>
              <a:ext cx="1272960" cy="72720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2" name="Freeform 13"/>
            <p:cNvSpPr/>
            <p:nvPr/>
          </p:nvSpPr>
          <p:spPr>
            <a:xfrm flipH="1" rot="360000">
              <a:off x="1407960" y="4533480"/>
              <a:ext cx="561600" cy="7351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3" name="Freeform 14"/>
            <p:cNvSpPr/>
            <p:nvPr/>
          </p:nvSpPr>
          <p:spPr>
            <a:xfrm flipH="1" rot="360000">
              <a:off x="1248120" y="4730400"/>
              <a:ext cx="136440" cy="4338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4" name="Freeform 15"/>
            <p:cNvSpPr/>
            <p:nvPr/>
          </p:nvSpPr>
          <p:spPr>
            <a:xfrm>
              <a:off x="1872720" y="5195880"/>
              <a:ext cx="1761120" cy="166068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35" name="Group 16"/>
            <p:cNvGrpSpPr/>
            <p:nvPr/>
          </p:nvGrpSpPr>
          <p:grpSpPr>
            <a:xfrm>
              <a:off x="3988440" y="920520"/>
              <a:ext cx="1271160" cy="1391400"/>
              <a:chOff x="3988440" y="920520"/>
              <a:chExt cx="1271160" cy="1391400"/>
            </a:xfrm>
          </p:grpSpPr>
          <p:sp>
            <p:nvSpPr>
              <p:cNvPr id="436" name="Freeform 17"/>
              <p:cNvSpPr/>
              <p:nvPr/>
            </p:nvSpPr>
            <p:spPr>
              <a:xfrm rot="3240000">
                <a:off x="4538520" y="939240"/>
                <a:ext cx="304200" cy="505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7" name="Freeform 18"/>
              <p:cNvSpPr/>
              <p:nvPr/>
            </p:nvSpPr>
            <p:spPr>
              <a:xfrm rot="3240000">
                <a:off x="4676400" y="1518840"/>
                <a:ext cx="522000" cy="417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8" name="Freeform 19"/>
              <p:cNvSpPr/>
              <p:nvPr/>
            </p:nvSpPr>
            <p:spPr>
              <a:xfrm rot="3240000">
                <a:off x="3961800" y="1922400"/>
                <a:ext cx="545760" cy="212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39" name="Group 20"/>
            <p:cNvGrpSpPr/>
            <p:nvPr/>
          </p:nvGrpSpPr>
          <p:grpSpPr>
            <a:xfrm>
              <a:off x="5615280" y="280080"/>
              <a:ext cx="969120" cy="916200"/>
              <a:chOff x="5615280" y="280080"/>
              <a:chExt cx="969120" cy="916200"/>
            </a:xfrm>
          </p:grpSpPr>
          <p:sp>
            <p:nvSpPr>
              <p:cNvPr id="440" name="Freeform 21"/>
              <p:cNvSpPr/>
              <p:nvPr/>
            </p:nvSpPr>
            <p:spPr>
              <a:xfrm rot="14880000">
                <a:off x="5736960" y="835560"/>
                <a:ext cx="194040" cy="393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1" name="Freeform 22"/>
              <p:cNvSpPr/>
              <p:nvPr/>
            </p:nvSpPr>
            <p:spPr>
              <a:xfrm rot="14880000">
                <a:off x="5680440" y="484200"/>
                <a:ext cx="335520" cy="3258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2" name="Freeform 23"/>
              <p:cNvSpPr/>
              <p:nvPr/>
            </p:nvSpPr>
            <p:spPr>
              <a:xfrm rot="14880000">
                <a:off x="6266520" y="390960"/>
                <a:ext cx="351000" cy="164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43" name="Group 24"/>
            <p:cNvGrpSpPr/>
            <p:nvPr/>
          </p:nvGrpSpPr>
          <p:grpSpPr>
            <a:xfrm>
              <a:off x="932400" y="5155560"/>
              <a:ext cx="1162800" cy="1063080"/>
              <a:chOff x="932400" y="5155560"/>
              <a:chExt cx="1162800" cy="1063080"/>
            </a:xfrm>
          </p:grpSpPr>
          <p:sp>
            <p:nvSpPr>
              <p:cNvPr id="444" name="Freeform 25"/>
              <p:cNvSpPr/>
              <p:nvPr/>
            </p:nvSpPr>
            <p:spPr>
              <a:xfrm rot="8520000">
                <a:off x="1731240" y="5484240"/>
                <a:ext cx="266040" cy="408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5" name="Freeform 26"/>
              <p:cNvSpPr/>
              <p:nvPr/>
            </p:nvSpPr>
            <p:spPr>
              <a:xfrm rot="8520000">
                <a:off x="1184400" y="5775480"/>
                <a:ext cx="454320" cy="339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6" name="Freeform 27"/>
              <p:cNvSpPr/>
              <p:nvPr/>
            </p:nvSpPr>
            <p:spPr>
              <a:xfrm rot="8520000">
                <a:off x="934920" y="5283000"/>
                <a:ext cx="474840" cy="172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47" name="Group 28"/>
            <p:cNvGrpSpPr/>
            <p:nvPr/>
          </p:nvGrpSpPr>
          <p:grpSpPr>
            <a:xfrm>
              <a:off x="222120" y="369000"/>
              <a:ext cx="1863360" cy="1271880"/>
              <a:chOff x="222120" y="369000"/>
              <a:chExt cx="1863360" cy="1271880"/>
            </a:xfrm>
          </p:grpSpPr>
          <p:sp>
            <p:nvSpPr>
              <p:cNvPr id="448" name="Freeform 29"/>
              <p:cNvSpPr/>
              <p:nvPr/>
            </p:nvSpPr>
            <p:spPr>
              <a:xfrm flipH="1" rot="4140000">
                <a:off x="1545120" y="1059840"/>
                <a:ext cx="393480" cy="584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9" name="Freeform 30"/>
              <p:cNvSpPr/>
              <p:nvPr/>
            </p:nvSpPr>
            <p:spPr>
              <a:xfrm flipH="1" rot="4140000">
                <a:off x="931680" y="528120"/>
                <a:ext cx="676080" cy="486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0" name="Freeform 31"/>
              <p:cNvSpPr/>
              <p:nvPr/>
            </p:nvSpPr>
            <p:spPr>
              <a:xfrm flipH="1" rot="4140000">
                <a:off x="110880" y="1102320"/>
                <a:ext cx="706320" cy="247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51" name="Group 32"/>
            <p:cNvGrpSpPr/>
            <p:nvPr/>
          </p:nvGrpSpPr>
          <p:grpSpPr>
            <a:xfrm>
              <a:off x="7333560" y="3620520"/>
              <a:ext cx="1260720" cy="1719360"/>
              <a:chOff x="7333560" y="3620520"/>
              <a:chExt cx="1260720" cy="1719360"/>
            </a:xfrm>
          </p:grpSpPr>
          <p:sp>
            <p:nvSpPr>
              <p:cNvPr id="452" name="Freeform 33"/>
              <p:cNvSpPr/>
              <p:nvPr/>
            </p:nvSpPr>
            <p:spPr>
              <a:xfrm flipH="1" rot="10020000">
                <a:off x="7391880" y="4739040"/>
                <a:ext cx="387000" cy="564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3" name="Freeform 34"/>
              <p:cNvSpPr/>
              <p:nvPr/>
            </p:nvSpPr>
            <p:spPr>
              <a:xfrm flipH="1" rot="10020000">
                <a:off x="7885440" y="4417200"/>
                <a:ext cx="664560" cy="470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4" name="Freeform 35"/>
              <p:cNvSpPr/>
              <p:nvPr/>
            </p:nvSpPr>
            <p:spPr>
              <a:xfrm flipH="1" rot="10020000">
                <a:off x="7553520" y="3695400"/>
                <a:ext cx="694080" cy="239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55" name="Freeform 36"/>
            <p:cNvSpPr/>
            <p:nvPr/>
          </p:nvSpPr>
          <p:spPr>
            <a:xfrm>
              <a:off x="1915920" y="3240"/>
              <a:ext cx="1369440" cy="14047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" name="Freeform 37"/>
            <p:cNvSpPr/>
            <p:nvPr/>
          </p:nvSpPr>
          <p:spPr>
            <a:xfrm flipV="1" rot="9840000">
              <a:off x="3414240" y="164160"/>
              <a:ext cx="1081440" cy="9396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" name="Freeform 38"/>
            <p:cNvSpPr/>
            <p:nvPr/>
          </p:nvSpPr>
          <p:spPr>
            <a:xfrm flipV="1" rot="9840000">
              <a:off x="3158280" y="1361880"/>
              <a:ext cx="523080" cy="4392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8" name="Freeform 39"/>
            <p:cNvSpPr/>
            <p:nvPr/>
          </p:nvSpPr>
          <p:spPr>
            <a:xfrm flipV="1" rot="9840000">
              <a:off x="3519360" y="1285200"/>
              <a:ext cx="194040" cy="3682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9" name="Freeform 40"/>
            <p:cNvSpPr/>
            <p:nvPr/>
          </p:nvSpPr>
          <p:spPr>
            <a:xfrm>
              <a:off x="2530080" y="0"/>
              <a:ext cx="195480" cy="1904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0" name="Freeform 41"/>
            <p:cNvSpPr/>
            <p:nvPr/>
          </p:nvSpPr>
          <p:spPr>
            <a:xfrm flipV="1" rot="9840000">
              <a:off x="3439080" y="1964520"/>
              <a:ext cx="623520" cy="365004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1" name="Freeform 42"/>
            <p:cNvSpPr/>
            <p:nvPr/>
          </p:nvSpPr>
          <p:spPr>
            <a:xfrm>
              <a:off x="-20520" y="2933640"/>
              <a:ext cx="55440" cy="20808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4" name="Text Box 4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Text Box 4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E7209A2-46F9-4D6C-B7C4-942DA5FB72B8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1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4952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953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4954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55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56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957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958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4959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60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61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62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63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964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4965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966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967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968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4969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70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71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972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4973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74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75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976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4977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78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79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980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1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2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3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4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5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6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7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8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9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90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91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92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93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9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6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7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8" name="PlaceHolder 3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50F2FAE-58F3-41E0-BD84-958489C48C92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5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5036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37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5038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39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40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041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42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5043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44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45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46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47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5048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5049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050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051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052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5053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54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55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056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5057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58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59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060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5061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62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63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064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65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66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67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68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69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0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1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2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3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4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5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6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7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07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0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1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2" name="PlaceHolder 3"/>
          <p:cNvSpPr>
            <a:spLocks noGrp="1"/>
          </p:cNvSpPr>
          <p:nvPr>
            <p:ph type="sldNum" idx="6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75A8556-88AD-47F4-A7A8-253F4E34AA23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9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5120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121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5122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23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24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125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126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5127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28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29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30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31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5132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5133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134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135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136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5137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38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39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140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5141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42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43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144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5145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46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47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148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49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50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51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52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53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54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55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56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57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58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59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60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61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16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4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5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6" name="PlaceHolder 3"/>
          <p:cNvSpPr>
            <a:spLocks noGrp="1"/>
          </p:cNvSpPr>
          <p:nvPr>
            <p:ph type="sldNum" idx="6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37E28F9-898C-479C-ADE8-BE0CBD3057BC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504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5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506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7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8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09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10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511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2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3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4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5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516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517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18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19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20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521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2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3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525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6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7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8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529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0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1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32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3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4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5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6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7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8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9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0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1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2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3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4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5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D81A356-8162-419A-B70A-034F068C3B3B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588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89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590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1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2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93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94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595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6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7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8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9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00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601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2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3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04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605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6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7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08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609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0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1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12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613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4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5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16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7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8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9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0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1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2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3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4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5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6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7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8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9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2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24DD01F-52EA-437F-8B43-CE1B4541D07B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1"/>
          <p:cNvGrpSpPr/>
          <p:nvPr/>
        </p:nvGrpSpPr>
        <p:grpSpPr>
          <a:xfrm>
            <a:off x="-189720" y="-192240"/>
            <a:ext cx="2926800" cy="7046640"/>
            <a:chOff x="-189720" y="-192240"/>
            <a:chExt cx="2926800" cy="7046640"/>
          </a:xfrm>
        </p:grpSpPr>
        <p:sp>
          <p:nvSpPr>
            <p:cNvPr id="672" name="Freeform 2"/>
            <p:cNvSpPr/>
            <p:nvPr/>
          </p:nvSpPr>
          <p:spPr>
            <a:xfrm>
              <a:off x="-87480" y="5155560"/>
              <a:ext cx="769680" cy="12888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73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674" name="Freeform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5" name="Freeform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6" name="Freeform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77" name="Freeform 7"/>
            <p:cNvSpPr/>
            <p:nvPr/>
          </p:nvSpPr>
          <p:spPr>
            <a:xfrm>
              <a:off x="67680" y="2699640"/>
              <a:ext cx="1158480" cy="12344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78" name="Group 8"/>
            <p:cNvGrpSpPr/>
            <p:nvPr/>
          </p:nvGrpSpPr>
          <p:grpSpPr>
            <a:xfrm>
              <a:off x="-189720" y="2438280"/>
              <a:ext cx="2926800" cy="3268440"/>
              <a:chOff x="-189720" y="2438280"/>
              <a:chExt cx="2926800" cy="3268440"/>
            </a:xfrm>
          </p:grpSpPr>
          <p:sp>
            <p:nvSpPr>
              <p:cNvPr id="679" name="Freeform 9"/>
              <p:cNvSpPr/>
              <p:nvPr/>
            </p:nvSpPr>
            <p:spPr>
              <a:xfrm flipH="1" rot="780000">
                <a:off x="221400" y="2541960"/>
                <a:ext cx="1042200" cy="1049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0" name="Freeform 10"/>
              <p:cNvSpPr/>
              <p:nvPr/>
            </p:nvSpPr>
            <p:spPr>
              <a:xfrm flipH="1" rot="780000">
                <a:off x="-80640" y="2692440"/>
                <a:ext cx="872280" cy="106812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1" name="Freeform 11"/>
              <p:cNvSpPr/>
              <p:nvPr/>
            </p:nvSpPr>
            <p:spPr>
              <a:xfrm flipH="1" rot="780000">
                <a:off x="190800" y="2913480"/>
                <a:ext cx="307440" cy="5400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 flipH="1" rot="780000">
                <a:off x="753840" y="3688200"/>
                <a:ext cx="282240" cy="3204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3" name="Freeform 13"/>
              <p:cNvSpPr/>
              <p:nvPr/>
            </p:nvSpPr>
            <p:spPr>
              <a:xfrm flipH="1" rot="780000">
                <a:off x="671760" y="3751200"/>
                <a:ext cx="68040" cy="18936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84" name="Group 14"/>
              <p:cNvGrpSpPr/>
              <p:nvPr/>
            </p:nvGrpSpPr>
            <p:grpSpPr>
              <a:xfrm>
                <a:off x="664200" y="3668400"/>
                <a:ext cx="2072880" cy="2038320"/>
                <a:chOff x="664200" y="3668400"/>
                <a:chExt cx="2072880" cy="2038320"/>
              </a:xfrm>
            </p:grpSpPr>
            <p:sp>
              <p:nvSpPr>
                <p:cNvPr id="685" name="Freeform 15"/>
                <p:cNvSpPr/>
                <p:nvPr/>
              </p:nvSpPr>
              <p:spPr>
                <a:xfrm flipH="1" rot="7140000">
                  <a:off x="1105920" y="3575880"/>
                  <a:ext cx="588240" cy="1357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86" name="Freeform 16"/>
                <p:cNvSpPr/>
                <p:nvPr/>
              </p:nvSpPr>
              <p:spPr>
                <a:xfrm flipH="1" rot="7140000">
                  <a:off x="2321640" y="4812840"/>
                  <a:ext cx="134640" cy="5565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87" name="Freeform 17"/>
                <p:cNvSpPr/>
                <p:nvPr/>
              </p:nvSpPr>
              <p:spPr>
                <a:xfrm flipH="1" rot="7140000">
                  <a:off x="2513880" y="5530680"/>
                  <a:ext cx="245520" cy="92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88" name="Group 18"/>
            <p:cNvGrpSpPr/>
            <p:nvPr/>
          </p:nvGrpSpPr>
          <p:grpSpPr>
            <a:xfrm>
              <a:off x="357840" y="6133680"/>
              <a:ext cx="878760" cy="695160"/>
              <a:chOff x="357840" y="6133680"/>
              <a:chExt cx="878760" cy="695160"/>
            </a:xfrm>
          </p:grpSpPr>
          <p:sp>
            <p:nvSpPr>
              <p:cNvPr id="689" name="Freeform 19"/>
              <p:cNvSpPr/>
              <p:nvPr/>
            </p:nvSpPr>
            <p:spPr>
              <a:xfrm rot="6240000">
                <a:off x="967320" y="6131880"/>
                <a:ext cx="214920" cy="27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0" name="Freeform 20"/>
              <p:cNvSpPr/>
              <p:nvPr/>
            </p:nvSpPr>
            <p:spPr>
              <a:xfrm rot="6240000">
                <a:off x="685800" y="6505560"/>
                <a:ext cx="369000" cy="231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1" name="Freeform 21"/>
              <p:cNvSpPr/>
              <p:nvPr/>
            </p:nvSpPr>
            <p:spPr>
              <a:xfrm rot="6240000">
                <a:off x="267840" y="6393240"/>
                <a:ext cx="386280" cy="116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693" name="Freeform 23"/>
              <p:cNvSpPr/>
              <p:nvPr/>
            </p:nvSpPr>
            <p:spPr>
              <a:xfrm rot="4980000">
                <a:off x="785160" y="1655640"/>
                <a:ext cx="217440" cy="319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4" name="Freeform 24"/>
              <p:cNvSpPr/>
              <p:nvPr/>
            </p:nvSpPr>
            <p:spPr>
              <a:xfrm rot="4980000">
                <a:off x="629640" y="2088360"/>
                <a:ext cx="374400" cy="264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5" name="Freeform 25"/>
              <p:cNvSpPr/>
              <p:nvPr/>
            </p:nvSpPr>
            <p:spPr>
              <a:xfrm rot="4980000">
                <a:off x="118080" y="2142720"/>
                <a:ext cx="391320" cy="13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96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697" name="Freeform 27"/>
              <p:cNvSpPr/>
              <p:nvPr/>
            </p:nvSpPr>
            <p:spPr>
              <a:xfrm>
                <a:off x="1252440" y="-93600"/>
                <a:ext cx="175680" cy="219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8" name="Freeform 28"/>
              <p:cNvSpPr/>
              <p:nvPr/>
            </p:nvSpPr>
            <p:spPr>
              <a:xfrm>
                <a:off x="1509480" y="10800"/>
                <a:ext cx="30276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9" name="Freeform 29"/>
              <p:cNvSpPr/>
              <p:nvPr/>
            </p:nvSpPr>
            <p:spPr>
              <a:xfrm>
                <a:off x="1447560" y="401400"/>
                <a:ext cx="315720" cy="9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00" name="Freeform 30"/>
            <p:cNvSpPr/>
            <p:nvPr/>
          </p:nvSpPr>
          <p:spPr>
            <a:xfrm>
              <a:off x="62640" y="57600"/>
              <a:ext cx="1140480" cy="12146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1" name="Freeform 31"/>
            <p:cNvSpPr/>
            <p:nvPr/>
          </p:nvSpPr>
          <p:spPr>
            <a:xfrm rot="840000">
              <a:off x="317520" y="5383440"/>
              <a:ext cx="213840" cy="266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2" name="Freeform 32"/>
            <p:cNvSpPr/>
            <p:nvPr/>
          </p:nvSpPr>
          <p:spPr>
            <a:xfrm rot="840000">
              <a:off x="356400" y="5686200"/>
              <a:ext cx="106200" cy="673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3" name="Freeform 33"/>
            <p:cNvSpPr/>
            <p:nvPr/>
          </p:nvSpPr>
          <p:spPr>
            <a:xfrm>
              <a:off x="-60840" y="6519960"/>
              <a:ext cx="190800" cy="3344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4" name="Freeform 34"/>
            <p:cNvSpPr/>
            <p:nvPr/>
          </p:nvSpPr>
          <p:spPr>
            <a:xfrm>
              <a:off x="-79200" y="6291360"/>
              <a:ext cx="210600" cy="2041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5" name="Freeform 35"/>
            <p:cNvSpPr/>
            <p:nvPr/>
          </p:nvSpPr>
          <p:spPr>
            <a:xfrm>
              <a:off x="-79200" y="6260760"/>
              <a:ext cx="7488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6" name="Freeform 36"/>
            <p:cNvSpPr/>
            <p:nvPr/>
          </p:nvSpPr>
          <p:spPr>
            <a:xfrm>
              <a:off x="-79200" y="5118480"/>
              <a:ext cx="810360" cy="1189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7" name="Freeform 37"/>
            <p:cNvSpPr/>
            <p:nvPr/>
          </p:nvSpPr>
          <p:spPr>
            <a:xfrm rot="1560000">
              <a:off x="-46080" y="564480"/>
              <a:ext cx="560520" cy="392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8" name="Freeform 38"/>
            <p:cNvSpPr/>
            <p:nvPr/>
          </p:nvSpPr>
          <p:spPr>
            <a:xfrm rot="1560000">
              <a:off x="315720" y="11210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9" name="Freeform 39"/>
            <p:cNvSpPr/>
            <p:nvPr/>
          </p:nvSpPr>
          <p:spPr>
            <a:xfrm rot="1560000">
              <a:off x="858240" y="366480"/>
              <a:ext cx="238680" cy="2556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0" name="Freeform 40"/>
            <p:cNvSpPr/>
            <p:nvPr/>
          </p:nvSpPr>
          <p:spPr>
            <a:xfrm rot="1560000">
              <a:off x="307800" y="106452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1" name="Freeform 41"/>
            <p:cNvSpPr/>
            <p:nvPr/>
          </p:nvSpPr>
          <p:spPr>
            <a:xfrm rot="1560000">
              <a:off x="877680" y="6544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2" name="Freeform 42"/>
            <p:cNvSpPr/>
            <p:nvPr/>
          </p:nvSpPr>
          <p:spPr>
            <a:xfrm>
              <a:off x="-79200" y="1332000"/>
              <a:ext cx="586440" cy="10443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3" name="Freeform 43"/>
            <p:cNvSpPr/>
            <p:nvPr/>
          </p:nvSpPr>
          <p:spPr>
            <a:xfrm rot="1560000">
              <a:off x="11880" y="39240"/>
              <a:ext cx="1312200" cy="1102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6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AECE8D7-4BFE-4B6C-8A12-93B9FCAADAC6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613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1" name="Text Box 1"/>
          <p:cNvSpPr/>
          <p:nvPr/>
        </p:nvSpPr>
        <p:spPr>
          <a:xfrm>
            <a:off x="2556000" y="404640"/>
            <a:ext cx="6192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Verdana"/>
                <a:ea typeface="Arial"/>
              </a:rPr>
              <a:t>ГОТОВНОСТЬ РЕБЕНКА К ШКОЛЬНОМУ ОБУЧЕНИЮ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2" name="Text Box 2"/>
          <p:cNvSpPr/>
          <p:nvPr/>
        </p:nvSpPr>
        <p:spPr>
          <a:xfrm>
            <a:off x="1619280" y="4437000"/>
            <a:ext cx="70833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  <a:ea typeface="Arial"/>
              </a:rPr>
              <a:t>МАОУ Заборьевская СО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1" name="Text Box 1"/>
          <p:cNvSpPr/>
          <p:nvPr/>
        </p:nvSpPr>
        <p:spPr>
          <a:xfrm>
            <a:off x="3643200" y="1341360"/>
            <a:ext cx="462924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ИТАК, что же является самым важным при подготовке ребенка к школ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42" name="Picture 2" descr=""/>
          <p:cNvPicPr/>
          <p:nvPr/>
        </p:nvPicPr>
        <p:blipFill>
          <a:blip r:embed="rId1"/>
          <a:stretch/>
        </p:blipFill>
        <p:spPr>
          <a:xfrm>
            <a:off x="3706920" y="115920"/>
            <a:ext cx="5229000" cy="1073160"/>
          </a:xfrm>
          <a:prstGeom prst="rect">
            <a:avLst/>
          </a:prstGeom>
          <a:ln w="0">
            <a:noFill/>
          </a:ln>
        </p:spPr>
      </p:pic>
      <p:pic>
        <p:nvPicPr>
          <p:cNvPr id="5243" name="Picture 3" descr=""/>
          <p:cNvPicPr/>
          <p:nvPr/>
        </p:nvPicPr>
        <p:blipFill>
          <a:blip r:embed="rId2"/>
          <a:stretch/>
        </p:blipFill>
        <p:spPr>
          <a:xfrm>
            <a:off x="826920" y="2997360"/>
            <a:ext cx="3600720" cy="2449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4" name="Group 1"/>
          <p:cNvGrpSpPr/>
          <p:nvPr/>
        </p:nvGrpSpPr>
        <p:grpSpPr>
          <a:xfrm>
            <a:off x="2305080" y="469800"/>
            <a:ext cx="1679400" cy="1606680"/>
            <a:chOff x="2305080" y="469800"/>
            <a:chExt cx="1679400" cy="1606680"/>
          </a:xfrm>
        </p:grpSpPr>
        <p:pic>
          <p:nvPicPr>
            <p:cNvPr id="5245" name="Picture 2" descr=""/>
            <p:cNvPicPr/>
            <p:nvPr/>
          </p:nvPicPr>
          <p:blipFill>
            <a:blip r:embed="rId1"/>
            <a:stretch/>
          </p:blipFill>
          <p:spPr>
            <a:xfrm>
              <a:off x="2305080" y="469800"/>
              <a:ext cx="167940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6" name="Text Box 3"/>
            <p:cNvSpPr/>
            <p:nvPr/>
          </p:nvSpPr>
          <p:spPr>
            <a:xfrm>
              <a:off x="2587680" y="719280"/>
              <a:ext cx="11095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Здоровье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247" name="Group 4"/>
          <p:cNvGrpSpPr/>
          <p:nvPr/>
        </p:nvGrpSpPr>
        <p:grpSpPr>
          <a:xfrm>
            <a:off x="3803760" y="182520"/>
            <a:ext cx="1681200" cy="1608120"/>
            <a:chOff x="3803760" y="182520"/>
            <a:chExt cx="1681200" cy="1608120"/>
          </a:xfrm>
        </p:grpSpPr>
        <p:pic>
          <p:nvPicPr>
            <p:cNvPr id="5248" name="Picture 5" descr=""/>
            <p:cNvPicPr/>
            <p:nvPr/>
          </p:nvPicPr>
          <p:blipFill>
            <a:blip r:embed="rId2"/>
            <a:stretch/>
          </p:blipFill>
          <p:spPr>
            <a:xfrm>
              <a:off x="3803760" y="182520"/>
              <a:ext cx="168120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9" name="Text Box 6"/>
            <p:cNvSpPr/>
            <p:nvPr/>
          </p:nvSpPr>
          <p:spPr>
            <a:xfrm>
              <a:off x="4087800" y="433440"/>
              <a:ext cx="110952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мять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250" name="Group 7"/>
          <p:cNvGrpSpPr/>
          <p:nvPr/>
        </p:nvGrpSpPr>
        <p:grpSpPr>
          <a:xfrm>
            <a:off x="5443560" y="328680"/>
            <a:ext cx="1681200" cy="1608120"/>
            <a:chOff x="5443560" y="328680"/>
            <a:chExt cx="1681200" cy="1608120"/>
          </a:xfrm>
        </p:grpSpPr>
        <p:pic>
          <p:nvPicPr>
            <p:cNvPr id="5251" name="Picture 8" descr=""/>
            <p:cNvPicPr/>
            <p:nvPr/>
          </p:nvPicPr>
          <p:blipFill>
            <a:blip r:embed="rId3"/>
            <a:stretch/>
          </p:blipFill>
          <p:spPr>
            <a:xfrm>
              <a:off x="5443560" y="328680"/>
              <a:ext cx="168120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2" name="Text Box 9"/>
            <p:cNvSpPr/>
            <p:nvPr/>
          </p:nvSpPr>
          <p:spPr>
            <a:xfrm>
              <a:off x="5730840" y="576360"/>
              <a:ext cx="11095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Мышление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253" name="Group 10"/>
          <p:cNvGrpSpPr/>
          <p:nvPr/>
        </p:nvGrpSpPr>
        <p:grpSpPr>
          <a:xfrm>
            <a:off x="6377040" y="1182600"/>
            <a:ext cx="1606320" cy="1608120"/>
            <a:chOff x="6377040" y="1182600"/>
            <a:chExt cx="1606320" cy="1608120"/>
          </a:xfrm>
        </p:grpSpPr>
        <p:pic>
          <p:nvPicPr>
            <p:cNvPr id="5254" name="Picture 11" descr=""/>
            <p:cNvPicPr/>
            <p:nvPr/>
          </p:nvPicPr>
          <p:blipFill>
            <a:blip r:embed="rId4"/>
            <a:stretch/>
          </p:blipFill>
          <p:spPr>
            <a:xfrm>
              <a:off x="6377040" y="1182600"/>
              <a:ext cx="160632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5" name="Text Box 12"/>
            <p:cNvSpPr/>
            <p:nvPr/>
          </p:nvSpPr>
          <p:spPr>
            <a:xfrm>
              <a:off x="6648480" y="1433520"/>
              <a:ext cx="106056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Внимание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5256" name="Picture 13" descr=""/>
          <p:cNvPicPr/>
          <p:nvPr/>
        </p:nvPicPr>
        <p:blipFill>
          <a:blip r:embed="rId5"/>
          <a:stretch/>
        </p:blipFill>
        <p:spPr>
          <a:xfrm>
            <a:off x="2798640" y="1749600"/>
            <a:ext cx="1754280" cy="1609560"/>
          </a:xfrm>
          <a:prstGeom prst="rect">
            <a:avLst/>
          </a:prstGeom>
          <a:ln w="0">
            <a:noFill/>
          </a:ln>
        </p:spPr>
      </p:pic>
      <p:sp>
        <p:nvSpPr>
          <p:cNvPr id="5257" name="Text Box 14"/>
          <p:cNvSpPr/>
          <p:nvPr/>
        </p:nvSpPr>
        <p:spPr>
          <a:xfrm>
            <a:off x="2987640" y="2004840"/>
            <a:ext cx="127152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рительно-моторная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ординац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58" name="Group 15"/>
          <p:cNvGrpSpPr/>
          <p:nvPr/>
        </p:nvGrpSpPr>
        <p:grpSpPr>
          <a:xfrm>
            <a:off x="4157640" y="1182600"/>
            <a:ext cx="1754280" cy="1608120"/>
            <a:chOff x="4157640" y="1182600"/>
            <a:chExt cx="1754280" cy="1608120"/>
          </a:xfrm>
        </p:grpSpPr>
        <p:pic>
          <p:nvPicPr>
            <p:cNvPr id="5259" name="Picture 16" descr=""/>
            <p:cNvPicPr/>
            <p:nvPr/>
          </p:nvPicPr>
          <p:blipFill>
            <a:blip r:embed="rId6"/>
            <a:stretch/>
          </p:blipFill>
          <p:spPr>
            <a:xfrm>
              <a:off x="4157640" y="1182600"/>
              <a:ext cx="175428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0" name="Text Box 17"/>
            <p:cNvSpPr/>
            <p:nvPr/>
          </p:nvSpPr>
          <p:spPr>
            <a:xfrm>
              <a:off x="4456080" y="1433520"/>
              <a:ext cx="115884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чь,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угозор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261" name="Group 18"/>
          <p:cNvGrpSpPr/>
          <p:nvPr/>
        </p:nvGrpSpPr>
        <p:grpSpPr>
          <a:xfrm>
            <a:off x="5230800" y="2182680"/>
            <a:ext cx="1754280" cy="1606680"/>
            <a:chOff x="5230800" y="2182680"/>
            <a:chExt cx="1754280" cy="1606680"/>
          </a:xfrm>
        </p:grpSpPr>
        <p:pic>
          <p:nvPicPr>
            <p:cNvPr id="5262" name="Picture 19" descr=""/>
            <p:cNvPicPr/>
            <p:nvPr/>
          </p:nvPicPr>
          <p:blipFill>
            <a:blip r:embed="rId7"/>
            <a:stretch/>
          </p:blipFill>
          <p:spPr>
            <a:xfrm>
              <a:off x="5230800" y="2182680"/>
              <a:ext cx="175428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3" name="Text Box 20"/>
            <p:cNvSpPr/>
            <p:nvPr/>
          </p:nvSpPr>
          <p:spPr>
            <a:xfrm>
              <a:off x="5527800" y="2433600"/>
              <a:ext cx="115884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Желание быть школьником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264" name="Group 21"/>
          <p:cNvGrpSpPr/>
          <p:nvPr/>
        </p:nvGrpSpPr>
        <p:grpSpPr>
          <a:xfrm>
            <a:off x="853920" y="1182600"/>
            <a:ext cx="1795680" cy="1608120"/>
            <a:chOff x="853920" y="1182600"/>
            <a:chExt cx="1795680" cy="1608120"/>
          </a:xfrm>
        </p:grpSpPr>
        <p:pic>
          <p:nvPicPr>
            <p:cNvPr id="5265" name="Picture 22" descr=""/>
            <p:cNvPicPr/>
            <p:nvPr/>
          </p:nvPicPr>
          <p:blipFill>
            <a:blip r:embed="rId8"/>
            <a:stretch/>
          </p:blipFill>
          <p:spPr>
            <a:xfrm>
              <a:off x="853920" y="1182600"/>
              <a:ext cx="179568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6" name="Text Box 23"/>
            <p:cNvSpPr/>
            <p:nvPr/>
          </p:nvSpPr>
          <p:spPr>
            <a:xfrm>
              <a:off x="1170000" y="1433520"/>
              <a:ext cx="115884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Самостоятельность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Самоорганизация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267" name="Group 24"/>
          <p:cNvGrpSpPr/>
          <p:nvPr/>
        </p:nvGrpSpPr>
        <p:grpSpPr>
          <a:xfrm>
            <a:off x="1420920" y="2395440"/>
            <a:ext cx="1881000" cy="1614600"/>
            <a:chOff x="1420920" y="2395440"/>
            <a:chExt cx="1881000" cy="1614600"/>
          </a:xfrm>
        </p:grpSpPr>
        <p:pic>
          <p:nvPicPr>
            <p:cNvPr id="5268" name="Picture 25" descr=""/>
            <p:cNvPicPr/>
            <p:nvPr/>
          </p:nvPicPr>
          <p:blipFill>
            <a:blip r:embed="rId9"/>
            <a:stretch/>
          </p:blipFill>
          <p:spPr>
            <a:xfrm>
              <a:off x="1420920" y="2395440"/>
              <a:ext cx="188100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9" name="Text Box 26"/>
            <p:cNvSpPr/>
            <p:nvPr/>
          </p:nvSpPr>
          <p:spPr>
            <a:xfrm>
              <a:off x="1741320" y="2647800"/>
              <a:ext cx="115920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Умение общаться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270" name="AutoShape 27"/>
          <p:cNvSpPr/>
          <p:nvPr/>
        </p:nvSpPr>
        <p:spPr>
          <a:xfrm>
            <a:off x="3429000" y="4286160"/>
            <a:ext cx="2414520" cy="1735200"/>
          </a:xfrm>
          <a:prstGeom prst="pie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Готовность ребенк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к школ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1" name="Freeform 28"/>
          <p:cNvSpPr/>
          <p:nvPr/>
        </p:nvSpPr>
        <p:spPr>
          <a:xfrm>
            <a:off x="4286160" y="38577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cubicBezTo>
                  <a:pt x="709705" y="0"/>
                  <a:pt x="914400" y="204695"/>
                  <a:pt x="914400" y="457200"/>
                </a:cubicBezTo>
                <a:lnTo>
                  <a:pt x="685800" y="457200"/>
                </a:lnTo>
                <a:cubicBezTo>
                  <a:pt x="685800" y="330948"/>
                  <a:pt x="583452" y="228600"/>
                  <a:pt x="457200" y="228600"/>
                </a:cubicBezTo>
                <a:cubicBezTo>
                  <a:pt x="330948" y="228600"/>
                  <a:pt x="228600" y="330948"/>
                  <a:pt x="228600" y="457200"/>
                </a:cubicBezTo>
                <a:lnTo>
                  <a:pt x="0" y="457200"/>
                </a:lnTo>
                <a:close/>
              </a:path>
            </a:pathLst>
          </a:custGeom>
          <a:solidFill>
            <a:srgbClr val="edfad2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2" name="Freeform 29"/>
          <p:cNvSpPr/>
          <p:nvPr/>
        </p:nvSpPr>
        <p:spPr>
          <a:xfrm>
            <a:off x="2924280" y="3700440"/>
            <a:ext cx="722160" cy="652320"/>
          </a:xfrm>
          <a:custGeom>
            <a:avLst/>
            <a:gdLst/>
            <a:ahLst/>
            <a:rect l="l" t="t" r="r" b="b"/>
            <a:pathLst>
              <a:path w="723014" h="652103">
                <a:moveTo>
                  <a:pt x="0" y="0"/>
                </a:moveTo>
                <a:cubicBezTo>
                  <a:pt x="16849" y="2407"/>
                  <a:pt x="104275" y="13493"/>
                  <a:pt x="127591" y="21265"/>
                </a:cubicBezTo>
                <a:cubicBezTo>
                  <a:pt x="294414" y="76872"/>
                  <a:pt x="52199" y="13049"/>
                  <a:pt x="212652" y="53163"/>
                </a:cubicBezTo>
                <a:cubicBezTo>
                  <a:pt x="223284" y="63796"/>
                  <a:pt x="234923" y="73509"/>
                  <a:pt x="244549" y="85061"/>
                </a:cubicBezTo>
                <a:cubicBezTo>
                  <a:pt x="282602" y="130725"/>
                  <a:pt x="272533" y="150551"/>
                  <a:pt x="287080" y="223284"/>
                </a:cubicBezTo>
                <a:cubicBezTo>
                  <a:pt x="293435" y="255056"/>
                  <a:pt x="300825" y="327102"/>
                  <a:pt x="340242" y="340242"/>
                </a:cubicBezTo>
                <a:cubicBezTo>
                  <a:pt x="429502" y="369996"/>
                  <a:pt x="288281" y="321250"/>
                  <a:pt x="435935" y="382772"/>
                </a:cubicBezTo>
                <a:cubicBezTo>
                  <a:pt x="456626" y="391393"/>
                  <a:pt x="478665" y="396377"/>
                  <a:pt x="499731" y="404037"/>
                </a:cubicBezTo>
                <a:cubicBezTo>
                  <a:pt x="517668" y="410560"/>
                  <a:pt x="534957" y="418780"/>
                  <a:pt x="552894" y="425303"/>
                </a:cubicBezTo>
                <a:cubicBezTo>
                  <a:pt x="649249" y="460342"/>
                  <a:pt x="584249" y="430348"/>
                  <a:pt x="659219" y="467833"/>
                </a:cubicBezTo>
                <a:cubicBezTo>
                  <a:pt x="666307" y="478465"/>
                  <a:pt x="675294" y="488053"/>
                  <a:pt x="680484" y="499730"/>
                </a:cubicBezTo>
                <a:cubicBezTo>
                  <a:pt x="689588" y="520214"/>
                  <a:pt x="701749" y="563526"/>
                  <a:pt x="701749" y="563526"/>
                </a:cubicBezTo>
                <a:cubicBezTo>
                  <a:pt x="712822" y="652103"/>
                  <a:pt x="683808" y="648586"/>
                  <a:pt x="723014" y="648586"/>
                </a:cubicBezTo>
              </a:path>
            </a:pathLst>
          </a:custGeom>
          <a:noFill/>
          <a:ln w="28440">
            <a:solidFill>
              <a:srgbClr val="e8f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3" name="Freeform 30"/>
          <p:cNvSpPr/>
          <p:nvPr/>
        </p:nvSpPr>
        <p:spPr>
          <a:xfrm>
            <a:off x="3679920" y="3286080"/>
            <a:ext cx="264960" cy="987480"/>
          </a:xfrm>
          <a:custGeom>
            <a:avLst/>
            <a:gdLst/>
            <a:ahLst/>
            <a:rect l="l" t="t" r="r" b="b"/>
            <a:pathLst>
              <a:path w="265219" h="988828">
                <a:moveTo>
                  <a:pt x="137628" y="0"/>
                </a:moveTo>
                <a:cubicBezTo>
                  <a:pt x="126996" y="7089"/>
                  <a:pt x="117161" y="15551"/>
                  <a:pt x="105731" y="21266"/>
                </a:cubicBezTo>
                <a:cubicBezTo>
                  <a:pt x="95707" y="26278"/>
                  <a:pt x="81758" y="23973"/>
                  <a:pt x="73833" y="31898"/>
                </a:cubicBezTo>
                <a:cubicBezTo>
                  <a:pt x="37274" y="68457"/>
                  <a:pt x="34040" y="87481"/>
                  <a:pt x="20670" y="127591"/>
                </a:cubicBezTo>
                <a:cubicBezTo>
                  <a:pt x="31632" y="237211"/>
                  <a:pt x="0" y="223540"/>
                  <a:pt x="73833" y="255182"/>
                </a:cubicBezTo>
                <a:cubicBezTo>
                  <a:pt x="84135" y="259597"/>
                  <a:pt x="95098" y="262270"/>
                  <a:pt x="105731" y="265814"/>
                </a:cubicBezTo>
                <a:lnTo>
                  <a:pt x="169526" y="308345"/>
                </a:lnTo>
                <a:lnTo>
                  <a:pt x="201424" y="329610"/>
                </a:lnTo>
                <a:lnTo>
                  <a:pt x="243954" y="393405"/>
                </a:lnTo>
                <a:lnTo>
                  <a:pt x="265219" y="425303"/>
                </a:lnTo>
                <a:cubicBezTo>
                  <a:pt x="264168" y="434764"/>
                  <a:pt x="260959" y="524552"/>
                  <a:pt x="243954" y="552893"/>
                </a:cubicBezTo>
                <a:cubicBezTo>
                  <a:pt x="238796" y="561489"/>
                  <a:pt x="229777" y="567070"/>
                  <a:pt x="222689" y="574159"/>
                </a:cubicBezTo>
                <a:cubicBezTo>
                  <a:pt x="219145" y="584791"/>
                  <a:pt x="217499" y="596259"/>
                  <a:pt x="212056" y="606056"/>
                </a:cubicBezTo>
                <a:cubicBezTo>
                  <a:pt x="199644" y="628397"/>
                  <a:pt x="177608" y="645606"/>
                  <a:pt x="169526" y="669852"/>
                </a:cubicBezTo>
                <a:lnTo>
                  <a:pt x="158893" y="701749"/>
                </a:lnTo>
                <a:cubicBezTo>
                  <a:pt x="162437" y="733647"/>
                  <a:pt x="161742" y="766306"/>
                  <a:pt x="169526" y="797442"/>
                </a:cubicBezTo>
                <a:cubicBezTo>
                  <a:pt x="172625" y="809839"/>
                  <a:pt x="185757" y="817594"/>
                  <a:pt x="190791" y="829340"/>
                </a:cubicBezTo>
                <a:cubicBezTo>
                  <a:pt x="231987" y="925463"/>
                  <a:pt x="169302" y="823686"/>
                  <a:pt x="222689" y="903768"/>
                </a:cubicBezTo>
                <a:cubicBezTo>
                  <a:pt x="199182" y="974288"/>
                  <a:pt x="201424" y="945148"/>
                  <a:pt x="201424" y="988828"/>
                </a:cubicBezTo>
              </a:path>
            </a:pathLst>
          </a:custGeom>
          <a:noFill/>
          <a:ln w="28440">
            <a:solidFill>
              <a:srgbClr val="e8f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4" name="Freeform 31"/>
          <p:cNvSpPr/>
          <p:nvPr/>
        </p:nvSpPr>
        <p:spPr>
          <a:xfrm>
            <a:off x="4632480" y="2679840"/>
            <a:ext cx="172800" cy="1190520"/>
          </a:xfrm>
          <a:custGeom>
            <a:avLst/>
            <a:gdLst/>
            <a:ahLst/>
            <a:rect l="l" t="t" r="r" b="b"/>
            <a:pathLst>
              <a:path w="173373" h="1190846">
                <a:moveTo>
                  <a:pt x="173373" y="0"/>
                </a:moveTo>
                <a:cubicBezTo>
                  <a:pt x="162741" y="14177"/>
                  <a:pt x="152821" y="28917"/>
                  <a:pt x="141476" y="42530"/>
                </a:cubicBezTo>
                <a:cubicBezTo>
                  <a:pt x="135058" y="50231"/>
                  <a:pt x="126472" y="55967"/>
                  <a:pt x="120210" y="63795"/>
                </a:cubicBezTo>
                <a:cubicBezTo>
                  <a:pt x="112227" y="73774"/>
                  <a:pt x="106033" y="85060"/>
                  <a:pt x="98945" y="95693"/>
                </a:cubicBezTo>
                <a:cubicBezTo>
                  <a:pt x="79057" y="195138"/>
                  <a:pt x="78635" y="173899"/>
                  <a:pt x="98945" y="329609"/>
                </a:cubicBezTo>
                <a:cubicBezTo>
                  <a:pt x="101844" y="351836"/>
                  <a:pt x="114773" y="371658"/>
                  <a:pt x="120210" y="393404"/>
                </a:cubicBezTo>
                <a:lnTo>
                  <a:pt x="130843" y="435935"/>
                </a:lnTo>
                <a:cubicBezTo>
                  <a:pt x="123097" y="559863"/>
                  <a:pt x="133012" y="566565"/>
                  <a:pt x="109578" y="648586"/>
                </a:cubicBezTo>
                <a:cubicBezTo>
                  <a:pt x="106499" y="659362"/>
                  <a:pt x="105162" y="671158"/>
                  <a:pt x="98945" y="680483"/>
                </a:cubicBezTo>
                <a:cubicBezTo>
                  <a:pt x="90604" y="692994"/>
                  <a:pt x="76674" y="700829"/>
                  <a:pt x="67048" y="712381"/>
                </a:cubicBezTo>
                <a:cubicBezTo>
                  <a:pt x="0" y="792840"/>
                  <a:pt x="86372" y="703692"/>
                  <a:pt x="24517" y="765544"/>
                </a:cubicBezTo>
                <a:cubicBezTo>
                  <a:pt x="11701" y="803996"/>
                  <a:pt x="3132" y="813120"/>
                  <a:pt x="24517" y="861237"/>
                </a:cubicBezTo>
                <a:cubicBezTo>
                  <a:pt x="30624" y="874978"/>
                  <a:pt x="45782" y="882502"/>
                  <a:pt x="56415" y="893135"/>
                </a:cubicBezTo>
                <a:cubicBezTo>
                  <a:pt x="59959" y="903767"/>
                  <a:pt x="62036" y="915008"/>
                  <a:pt x="67048" y="925032"/>
                </a:cubicBezTo>
                <a:cubicBezTo>
                  <a:pt x="72763" y="936462"/>
                  <a:pt x="88313" y="944151"/>
                  <a:pt x="88313" y="956930"/>
                </a:cubicBezTo>
                <a:cubicBezTo>
                  <a:pt x="88313" y="1036673"/>
                  <a:pt x="75908" y="1010979"/>
                  <a:pt x="35150" y="1031358"/>
                </a:cubicBezTo>
                <a:cubicBezTo>
                  <a:pt x="23720" y="1037073"/>
                  <a:pt x="13885" y="1045535"/>
                  <a:pt x="3252" y="1052623"/>
                </a:cubicBezTo>
                <a:cubicBezTo>
                  <a:pt x="16892" y="1148102"/>
                  <a:pt x="13885" y="1101990"/>
                  <a:pt x="13885" y="1190846"/>
                </a:cubicBezTo>
              </a:path>
            </a:pathLst>
          </a:custGeom>
          <a:noFill/>
          <a:ln w="28440">
            <a:solidFill>
              <a:srgbClr val="e8f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5" name="Freeform 32"/>
          <p:cNvSpPr/>
          <p:nvPr/>
        </p:nvSpPr>
        <p:spPr>
          <a:xfrm>
            <a:off x="5219640" y="3625920"/>
            <a:ext cx="405000" cy="647640"/>
          </a:xfrm>
          <a:custGeom>
            <a:avLst/>
            <a:gdLst/>
            <a:ahLst/>
            <a:rect l="l" t="t" r="r" b="b"/>
            <a:pathLst>
              <a:path w="404390" h="648586">
                <a:moveTo>
                  <a:pt x="404390" y="0"/>
                </a:moveTo>
                <a:cubicBezTo>
                  <a:pt x="383558" y="2604"/>
                  <a:pt x="295386" y="11525"/>
                  <a:pt x="266167" y="21265"/>
                </a:cubicBezTo>
                <a:cubicBezTo>
                  <a:pt x="251130" y="26277"/>
                  <a:pt x="237814" y="35442"/>
                  <a:pt x="223637" y="42531"/>
                </a:cubicBezTo>
                <a:cubicBezTo>
                  <a:pt x="216549" y="53163"/>
                  <a:pt x="210553" y="64611"/>
                  <a:pt x="202372" y="74428"/>
                </a:cubicBezTo>
                <a:cubicBezTo>
                  <a:pt x="192746" y="85980"/>
                  <a:pt x="177199" y="92877"/>
                  <a:pt x="170474" y="106326"/>
                </a:cubicBezTo>
                <a:cubicBezTo>
                  <a:pt x="162392" y="122490"/>
                  <a:pt x="163385" y="141768"/>
                  <a:pt x="159841" y="159489"/>
                </a:cubicBezTo>
                <a:cubicBezTo>
                  <a:pt x="156297" y="237461"/>
                  <a:pt x="155433" y="315601"/>
                  <a:pt x="149209" y="393405"/>
                </a:cubicBezTo>
                <a:cubicBezTo>
                  <a:pt x="148315" y="404577"/>
                  <a:pt x="147328" y="418302"/>
                  <a:pt x="138576" y="425303"/>
                </a:cubicBezTo>
                <a:cubicBezTo>
                  <a:pt x="127165" y="434432"/>
                  <a:pt x="110043" y="431736"/>
                  <a:pt x="96046" y="435935"/>
                </a:cubicBezTo>
                <a:cubicBezTo>
                  <a:pt x="74576" y="442376"/>
                  <a:pt x="32251" y="457200"/>
                  <a:pt x="32251" y="457200"/>
                </a:cubicBezTo>
                <a:cubicBezTo>
                  <a:pt x="28707" y="471377"/>
                  <a:pt x="25633" y="485680"/>
                  <a:pt x="21618" y="499731"/>
                </a:cubicBezTo>
                <a:cubicBezTo>
                  <a:pt x="18539" y="510507"/>
                  <a:pt x="12690" y="520551"/>
                  <a:pt x="10986" y="531628"/>
                </a:cubicBezTo>
                <a:cubicBezTo>
                  <a:pt x="0" y="603035"/>
                  <a:pt x="353" y="606160"/>
                  <a:pt x="353" y="648586"/>
                </a:cubicBezTo>
              </a:path>
            </a:pathLst>
          </a:custGeom>
          <a:noFill/>
          <a:ln w="28440">
            <a:solidFill>
              <a:srgbClr val="e8f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6" name="Freeform 33"/>
          <p:cNvSpPr/>
          <p:nvPr/>
        </p:nvSpPr>
        <p:spPr>
          <a:xfrm>
            <a:off x="5751360" y="1849320"/>
            <a:ext cx="351000" cy="425520"/>
          </a:xfrm>
          <a:custGeom>
            <a:avLst/>
            <a:gdLst/>
            <a:ahLst/>
            <a:rect l="l" t="t" r="r" b="b"/>
            <a:pathLst>
              <a:path w="350874" h="425302">
                <a:moveTo>
                  <a:pt x="350874" y="0"/>
                </a:moveTo>
                <a:cubicBezTo>
                  <a:pt x="337254" y="3405"/>
                  <a:pt x="291695" y="13641"/>
                  <a:pt x="276446" y="21265"/>
                </a:cubicBezTo>
                <a:cubicBezTo>
                  <a:pt x="265016" y="26980"/>
                  <a:pt x="255181" y="35442"/>
                  <a:pt x="244549" y="42530"/>
                </a:cubicBezTo>
                <a:cubicBezTo>
                  <a:pt x="248093" y="70884"/>
                  <a:pt x="250069" y="99478"/>
                  <a:pt x="255181" y="127591"/>
                </a:cubicBezTo>
                <a:cubicBezTo>
                  <a:pt x="257186" y="138618"/>
                  <a:pt x="265814" y="148280"/>
                  <a:pt x="265814" y="159488"/>
                </a:cubicBezTo>
                <a:cubicBezTo>
                  <a:pt x="265814" y="177560"/>
                  <a:pt x="269446" y="201556"/>
                  <a:pt x="255181" y="212651"/>
                </a:cubicBezTo>
                <a:cubicBezTo>
                  <a:pt x="232111" y="230594"/>
                  <a:pt x="170121" y="233916"/>
                  <a:pt x="170121" y="233916"/>
                </a:cubicBezTo>
                <a:cubicBezTo>
                  <a:pt x="155944" y="241005"/>
                  <a:pt x="139767" y="245035"/>
                  <a:pt x="127591" y="255182"/>
                </a:cubicBezTo>
                <a:cubicBezTo>
                  <a:pt x="117774" y="263363"/>
                  <a:pt x="114309" y="277101"/>
                  <a:pt x="106326" y="287079"/>
                </a:cubicBezTo>
                <a:cubicBezTo>
                  <a:pt x="100064" y="294907"/>
                  <a:pt x="92149" y="301256"/>
                  <a:pt x="85060" y="308344"/>
                </a:cubicBezTo>
                <a:cubicBezTo>
                  <a:pt x="76950" y="381337"/>
                  <a:pt x="101385" y="425302"/>
                  <a:pt x="10633" y="425302"/>
                </a:cubicBezTo>
                <a:lnTo>
                  <a:pt x="0" y="425302"/>
                </a:lnTo>
              </a:path>
            </a:pathLst>
          </a:custGeom>
          <a:noFill/>
          <a:ln w="28440">
            <a:solidFill>
              <a:srgbClr val="e8f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7" name="Freeform 34"/>
          <p:cNvSpPr/>
          <p:nvPr/>
        </p:nvSpPr>
        <p:spPr>
          <a:xfrm>
            <a:off x="4954680" y="3220920"/>
            <a:ext cx="350640" cy="681120"/>
          </a:xfrm>
          <a:custGeom>
            <a:avLst/>
            <a:gdLst/>
            <a:ahLst/>
            <a:rect l="l" t="t" r="r" b="b"/>
            <a:pathLst>
              <a:path w="350875" h="680484">
                <a:moveTo>
                  <a:pt x="350875" y="0"/>
                </a:moveTo>
                <a:cubicBezTo>
                  <a:pt x="348231" y="529"/>
                  <a:pt x="276710" y="12548"/>
                  <a:pt x="265814" y="21265"/>
                </a:cubicBezTo>
                <a:cubicBezTo>
                  <a:pt x="238417" y="43183"/>
                  <a:pt x="216195" y="70884"/>
                  <a:pt x="191386" y="95693"/>
                </a:cubicBezTo>
                <a:lnTo>
                  <a:pt x="159488" y="127591"/>
                </a:lnTo>
                <a:cubicBezTo>
                  <a:pt x="155262" y="140270"/>
                  <a:pt x="137196" y="191751"/>
                  <a:pt x="138223" y="202019"/>
                </a:cubicBezTo>
                <a:cubicBezTo>
                  <a:pt x="140453" y="224323"/>
                  <a:pt x="159488" y="265814"/>
                  <a:pt x="159488" y="265814"/>
                </a:cubicBezTo>
                <a:cubicBezTo>
                  <a:pt x="157112" y="294331"/>
                  <a:pt x="159940" y="381868"/>
                  <a:pt x="138223" y="425302"/>
                </a:cubicBezTo>
                <a:cubicBezTo>
                  <a:pt x="132508" y="436732"/>
                  <a:pt x="126936" y="449217"/>
                  <a:pt x="116958" y="457200"/>
                </a:cubicBezTo>
                <a:cubicBezTo>
                  <a:pt x="108206" y="464201"/>
                  <a:pt x="95693" y="464289"/>
                  <a:pt x="85061" y="467833"/>
                </a:cubicBezTo>
                <a:cubicBezTo>
                  <a:pt x="67386" y="485507"/>
                  <a:pt x="53260" y="496852"/>
                  <a:pt x="42530" y="520995"/>
                </a:cubicBezTo>
                <a:cubicBezTo>
                  <a:pt x="33426" y="541479"/>
                  <a:pt x="21265" y="584791"/>
                  <a:pt x="21265" y="584791"/>
                </a:cubicBezTo>
                <a:cubicBezTo>
                  <a:pt x="17721" y="606056"/>
                  <a:pt x="15310" y="627541"/>
                  <a:pt x="10633" y="648586"/>
                </a:cubicBezTo>
                <a:cubicBezTo>
                  <a:pt x="8202" y="659527"/>
                  <a:pt x="0" y="680484"/>
                  <a:pt x="0" y="680484"/>
                </a:cubicBezTo>
              </a:path>
            </a:pathLst>
          </a:custGeom>
          <a:noFill/>
          <a:ln w="28440">
            <a:solidFill>
              <a:srgbClr val="e8f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8" name="Freeform 35"/>
          <p:cNvSpPr/>
          <p:nvPr/>
        </p:nvSpPr>
        <p:spPr>
          <a:xfrm>
            <a:off x="4157640" y="3179880"/>
            <a:ext cx="181080" cy="1009440"/>
          </a:xfrm>
          <a:custGeom>
            <a:avLst/>
            <a:gdLst/>
            <a:ahLst/>
            <a:rect l="l" t="t" r="r" b="b"/>
            <a:pathLst>
              <a:path w="180754" h="1010093">
                <a:moveTo>
                  <a:pt x="0" y="0"/>
                </a:moveTo>
                <a:cubicBezTo>
                  <a:pt x="3544" y="28353"/>
                  <a:pt x="3115" y="57493"/>
                  <a:pt x="10633" y="85060"/>
                </a:cubicBezTo>
                <a:cubicBezTo>
                  <a:pt x="13995" y="97389"/>
                  <a:pt x="26864" y="105212"/>
                  <a:pt x="31898" y="116958"/>
                </a:cubicBezTo>
                <a:cubicBezTo>
                  <a:pt x="37654" y="130389"/>
                  <a:pt x="38986" y="145311"/>
                  <a:pt x="42530" y="159488"/>
                </a:cubicBezTo>
                <a:cubicBezTo>
                  <a:pt x="38986" y="191386"/>
                  <a:pt x="37174" y="223524"/>
                  <a:pt x="31898" y="255181"/>
                </a:cubicBezTo>
                <a:cubicBezTo>
                  <a:pt x="30055" y="266236"/>
                  <a:pt x="21265" y="275871"/>
                  <a:pt x="21265" y="287079"/>
                </a:cubicBezTo>
                <a:cubicBezTo>
                  <a:pt x="21265" y="292186"/>
                  <a:pt x="24331" y="394971"/>
                  <a:pt x="42530" y="425302"/>
                </a:cubicBezTo>
                <a:cubicBezTo>
                  <a:pt x="47688" y="433898"/>
                  <a:pt x="57534" y="438739"/>
                  <a:pt x="63796" y="446567"/>
                </a:cubicBezTo>
                <a:cubicBezTo>
                  <a:pt x="104303" y="497200"/>
                  <a:pt x="62275" y="463274"/>
                  <a:pt x="116958" y="499730"/>
                </a:cubicBezTo>
                <a:cubicBezTo>
                  <a:pt x="165050" y="571866"/>
                  <a:pt x="141418" y="545453"/>
                  <a:pt x="180754" y="584791"/>
                </a:cubicBezTo>
                <a:cubicBezTo>
                  <a:pt x="177210" y="620233"/>
                  <a:pt x="175537" y="655912"/>
                  <a:pt x="170121" y="691116"/>
                </a:cubicBezTo>
                <a:cubicBezTo>
                  <a:pt x="166130" y="717055"/>
                  <a:pt x="148021" y="742682"/>
                  <a:pt x="138223" y="765544"/>
                </a:cubicBezTo>
                <a:cubicBezTo>
                  <a:pt x="111808" y="827177"/>
                  <a:pt x="147195" y="768036"/>
                  <a:pt x="106326" y="829339"/>
                </a:cubicBezTo>
                <a:cubicBezTo>
                  <a:pt x="109870" y="843516"/>
                  <a:pt x="111827" y="858187"/>
                  <a:pt x="116958" y="871870"/>
                </a:cubicBezTo>
                <a:cubicBezTo>
                  <a:pt x="125040" y="893424"/>
                  <a:pt x="146077" y="921285"/>
                  <a:pt x="148856" y="946298"/>
                </a:cubicBezTo>
                <a:cubicBezTo>
                  <a:pt x="151204" y="967433"/>
                  <a:pt x="148856" y="988828"/>
                  <a:pt x="148856" y="1010093"/>
                </a:cubicBezTo>
              </a:path>
            </a:pathLst>
          </a:custGeom>
          <a:noFill/>
          <a:ln w="28440">
            <a:solidFill>
              <a:srgbClr val="e8f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9" name="Freeform 36"/>
          <p:cNvSpPr/>
          <p:nvPr/>
        </p:nvSpPr>
        <p:spPr>
          <a:xfrm>
            <a:off x="5378400" y="3678120"/>
            <a:ext cx="438120" cy="617760"/>
          </a:xfrm>
          <a:custGeom>
            <a:avLst/>
            <a:gdLst/>
            <a:ahLst/>
            <a:rect l="l" t="t" r="r" b="b"/>
            <a:pathLst>
              <a:path w="437056" h="616688">
                <a:moveTo>
                  <a:pt x="437056" y="0"/>
                </a:moveTo>
                <a:cubicBezTo>
                  <a:pt x="426424" y="10633"/>
                  <a:pt x="418303" y="24596"/>
                  <a:pt x="405159" y="31898"/>
                </a:cubicBezTo>
                <a:cubicBezTo>
                  <a:pt x="385564" y="42784"/>
                  <a:pt x="341363" y="53163"/>
                  <a:pt x="341363" y="53163"/>
                </a:cubicBezTo>
                <a:cubicBezTo>
                  <a:pt x="330611" y="69291"/>
                  <a:pt x="309466" y="94948"/>
                  <a:pt x="309466" y="116958"/>
                </a:cubicBezTo>
                <a:cubicBezTo>
                  <a:pt x="309466" y="154388"/>
                  <a:pt x="319765" y="179756"/>
                  <a:pt x="330731" y="212651"/>
                </a:cubicBezTo>
                <a:cubicBezTo>
                  <a:pt x="330037" y="215426"/>
                  <a:pt x="315012" y="280147"/>
                  <a:pt x="309466" y="287079"/>
                </a:cubicBezTo>
                <a:cubicBezTo>
                  <a:pt x="301483" y="297058"/>
                  <a:pt x="289245" y="303154"/>
                  <a:pt x="277568" y="308344"/>
                </a:cubicBezTo>
                <a:cubicBezTo>
                  <a:pt x="257085" y="317448"/>
                  <a:pt x="213773" y="329609"/>
                  <a:pt x="213773" y="329609"/>
                </a:cubicBezTo>
                <a:cubicBezTo>
                  <a:pt x="190964" y="398034"/>
                  <a:pt x="221021" y="323714"/>
                  <a:pt x="171242" y="393405"/>
                </a:cubicBezTo>
                <a:cubicBezTo>
                  <a:pt x="162029" y="406303"/>
                  <a:pt x="157065" y="421758"/>
                  <a:pt x="149977" y="435935"/>
                </a:cubicBezTo>
                <a:cubicBezTo>
                  <a:pt x="146433" y="453656"/>
                  <a:pt x="143728" y="471566"/>
                  <a:pt x="139345" y="489098"/>
                </a:cubicBezTo>
                <a:cubicBezTo>
                  <a:pt x="134149" y="509883"/>
                  <a:pt x="128938" y="531515"/>
                  <a:pt x="107447" y="542261"/>
                </a:cubicBezTo>
                <a:cubicBezTo>
                  <a:pt x="87398" y="552286"/>
                  <a:pt x="64917" y="556438"/>
                  <a:pt x="43652" y="563526"/>
                </a:cubicBezTo>
                <a:lnTo>
                  <a:pt x="11754" y="574158"/>
                </a:lnTo>
                <a:cubicBezTo>
                  <a:pt x="0" y="609418"/>
                  <a:pt x="1121" y="594848"/>
                  <a:pt x="1121" y="616688"/>
                </a:cubicBezTo>
              </a:path>
            </a:pathLst>
          </a:custGeom>
          <a:noFill/>
          <a:ln w="28440">
            <a:solidFill>
              <a:srgbClr val="e8f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0" name="Freeform 37"/>
          <p:cNvSpPr/>
          <p:nvPr/>
        </p:nvSpPr>
        <p:spPr>
          <a:xfrm>
            <a:off x="5613480" y="3637080"/>
            <a:ext cx="106200" cy="9360"/>
          </a:xfrm>
          <a:custGeom>
            <a:avLst/>
            <a:gdLst/>
            <a:ahLst/>
            <a:rect l="l" t="t" r="r" b="b"/>
            <a:pathLst>
              <a:path w="106325" h="10632">
                <a:moveTo>
                  <a:pt x="0" y="10632"/>
                </a:moveTo>
                <a:lnTo>
                  <a:pt x="106325" y="0"/>
                </a:lnTo>
              </a:path>
            </a:pathLst>
          </a:custGeom>
          <a:noFill/>
          <a:ln w="28440">
            <a:solidFill>
              <a:srgbClr val="e8f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1" name="Group 2"/>
          <p:cNvGrpSpPr/>
          <p:nvPr/>
        </p:nvGrpSpPr>
        <p:grpSpPr>
          <a:xfrm>
            <a:off x="2571840" y="692280"/>
            <a:ext cx="4952520" cy="5020920"/>
            <a:chOff x="2571840" y="692280"/>
            <a:chExt cx="4952520" cy="5020920"/>
          </a:xfrm>
        </p:grpSpPr>
        <p:pic>
          <p:nvPicPr>
            <p:cNvPr id="5282" name="Picture 3" descr=""/>
            <p:cNvPicPr/>
            <p:nvPr/>
          </p:nvPicPr>
          <p:blipFill>
            <a:blip r:embed="rId1"/>
            <a:stretch/>
          </p:blipFill>
          <p:spPr>
            <a:xfrm>
              <a:off x="2571840" y="692280"/>
              <a:ext cx="4952520" cy="50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3" name="Text Box 4"/>
            <p:cNvSpPr/>
            <p:nvPr/>
          </p:nvSpPr>
          <p:spPr>
            <a:xfrm>
              <a:off x="2571840" y="692280"/>
              <a:ext cx="4952520" cy="50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284" name="Rectangle 5"/>
          <p:cNvSpPr/>
          <p:nvPr/>
        </p:nvSpPr>
        <p:spPr>
          <a:xfrm>
            <a:off x="611280" y="5805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Успехов, терпения и радост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в общении с детьми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14" name="Text Box 2"/>
          <p:cNvSpPr/>
          <p:nvPr/>
        </p:nvSpPr>
        <p:spPr>
          <a:xfrm>
            <a:off x="304920" y="1214280"/>
            <a:ext cx="8686800" cy="48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             </a:t>
            </a: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«Быть готовым к школе –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            </a:t>
            </a: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не значит уметь читать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              </a:t>
            </a: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писать и считать. Быт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               </a:t>
            </a: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готовым к школе – значит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              </a:t>
            </a: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быть готовым всему этому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               </a:t>
            </a:r>
            <a:r>
              <a:rPr b="0" lang="ru-RU" sz="3600" spc="-1" strike="noStrike">
                <a:solidFill>
                  <a:srgbClr val="006699"/>
                </a:solidFill>
                <a:latin typeface="Monotype Corsiva"/>
              </a:rPr>
              <a:t>научиться» (Венгер Л.А.)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5" name="Text Box 1"/>
          <p:cNvSpPr/>
          <p:nvPr/>
        </p:nvSpPr>
        <p:spPr>
          <a:xfrm>
            <a:off x="3857760" y="785880"/>
            <a:ext cx="46368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500" spc="-1" strike="noStrike">
                <a:solidFill>
                  <a:srgbClr val="ff0000"/>
                </a:solidFill>
                <a:latin typeface="Verdana"/>
                <a:ea typeface="Arial"/>
              </a:rPr>
              <a:t>Готовность к школе</a:t>
            </a:r>
            <a:r>
              <a:rPr b="0" lang="ru-RU" sz="5500" spc="-1" strike="noStrike">
                <a:solidFill>
                  <a:srgbClr val="ff0000"/>
                </a:solidFill>
                <a:latin typeface="Verdana"/>
                <a:ea typeface="Arial"/>
              </a:rPr>
              <a:t> -</a:t>
            </a:r>
            <a:r>
              <a:rPr b="0" lang="ru-RU" sz="5500" spc="-1" strike="noStrike">
                <a:solidFill>
                  <a:srgbClr val="006666"/>
                </a:solidFill>
                <a:latin typeface="Verdana"/>
                <a:ea typeface="Arial"/>
              </a:rPr>
              <a:t> </a:t>
            </a:r>
            <a:endParaRPr b="0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6" name="Text Box 2"/>
          <p:cNvSpPr/>
          <p:nvPr/>
        </p:nvSpPr>
        <p:spPr>
          <a:xfrm>
            <a:off x="4214880" y="2571840"/>
            <a:ext cx="4279680" cy="3571920"/>
          </a:xfrm>
          <a:prstGeom prst="rect">
            <a:avLst/>
          </a:prstGeom>
          <a:solidFill>
            <a:srgbClr val="fdfefa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4920">
              <a:tabLst>
                <a:tab algn="l" pos="0"/>
                <a:tab algn="l" pos="3492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920">
              <a:buClr>
                <a:srgbClr val="002060"/>
              </a:buClr>
              <a:buFont typeface="Wingdings" charset="2"/>
              <a:buChar char=""/>
              <a:tabLst>
                <a:tab algn="l" pos="3492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это не только набор определенных умений и навыков, которые должны быть сформированы у ребенка к 6-7 года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920">
              <a:tabLst>
                <a:tab algn="l" pos="0"/>
                <a:tab algn="l" pos="3492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920">
              <a:buClr>
                <a:srgbClr val="002060"/>
              </a:buClr>
              <a:buFont typeface="Wingdings" charset="2"/>
              <a:buChar char=""/>
              <a:tabLst>
                <a:tab algn="l" pos="3492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Готовность к школе включает в себя несколько компонент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17" name="Picture 3" descr=""/>
          <p:cNvPicPr/>
          <p:nvPr/>
        </p:nvPicPr>
        <p:blipFill>
          <a:blip r:embed="rId1"/>
          <a:stretch/>
        </p:blipFill>
        <p:spPr>
          <a:xfrm>
            <a:off x="857160" y="3000240"/>
            <a:ext cx="2928960" cy="3116520"/>
          </a:xfrm>
          <a:prstGeom prst="rect">
            <a:avLst/>
          </a:prstGeom>
          <a:ln w="12600">
            <a:solidFill>
              <a:srgbClr val="bfbfbf"/>
            </a:solidFill>
            <a:miter/>
          </a:ln>
        </p:spPr>
      </p:pic>
      <p:pic>
        <p:nvPicPr>
          <p:cNvPr id="5218" name="Picture 4" descr=""/>
          <p:cNvPicPr/>
          <p:nvPr/>
        </p:nvPicPr>
        <p:blipFill>
          <a:blip r:embed="rId2"/>
          <a:stretch/>
        </p:blipFill>
        <p:spPr>
          <a:xfrm>
            <a:off x="757080" y="700200"/>
            <a:ext cx="2183040" cy="1803240"/>
          </a:xfrm>
          <a:prstGeom prst="rect">
            <a:avLst/>
          </a:prstGeom>
          <a:ln w="12600">
            <a:solidFill>
              <a:srgbClr val="006699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Text Box 1"/>
          <p:cNvSpPr/>
          <p:nvPr/>
        </p:nvSpPr>
        <p:spPr>
          <a:xfrm>
            <a:off x="442800" y="330120"/>
            <a:ext cx="824400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Виды готовности 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 школе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0" name="Text Box 2"/>
          <p:cNvSpPr/>
          <p:nvPr/>
        </p:nvSpPr>
        <p:spPr>
          <a:xfrm>
            <a:off x="46836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8920" indent="-98892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1558800"/>
                <a:tab algn="l" pos="2473200"/>
                <a:tab algn="l" pos="3387600"/>
                <a:tab algn="l" pos="4302000"/>
                <a:tab algn="l" pos="5216400"/>
                <a:tab algn="l" pos="6130800"/>
                <a:tab algn="l" pos="7045200"/>
                <a:tab algn="l" pos="7959600"/>
                <a:tab algn="l" pos="8874000"/>
                <a:tab algn="l" pos="9788400"/>
                <a:tab algn="l" pos="10702800"/>
                <a:tab algn="l" pos="1078236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Мотивационна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988920" indent="-98892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1558800"/>
                <a:tab algn="l" pos="2473200"/>
                <a:tab algn="l" pos="3387600"/>
                <a:tab algn="l" pos="4302000"/>
                <a:tab algn="l" pos="5216400"/>
                <a:tab algn="l" pos="6130800"/>
                <a:tab algn="l" pos="7045200"/>
                <a:tab algn="l" pos="7959600"/>
                <a:tab algn="l" pos="8874000"/>
                <a:tab algn="l" pos="9788400"/>
                <a:tab algn="l" pos="10702800"/>
                <a:tab algn="l" pos="1078236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Интеллектуальная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988920" indent="-98892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1558800"/>
                <a:tab algn="l" pos="2473200"/>
                <a:tab algn="l" pos="3387600"/>
                <a:tab algn="l" pos="4302000"/>
                <a:tab algn="l" pos="5216400"/>
                <a:tab algn="l" pos="6130800"/>
                <a:tab algn="l" pos="7045200"/>
                <a:tab algn="l" pos="7959600"/>
                <a:tab algn="l" pos="8874000"/>
                <a:tab algn="l" pos="9788400"/>
                <a:tab algn="l" pos="10702800"/>
                <a:tab algn="l" pos="1078236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Коммуникативна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988920" indent="-98892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1558800"/>
                <a:tab algn="l" pos="2473200"/>
                <a:tab algn="l" pos="3387600"/>
                <a:tab algn="l" pos="4302000"/>
                <a:tab algn="l" pos="5216400"/>
                <a:tab algn="l" pos="6130800"/>
                <a:tab algn="l" pos="7045200"/>
                <a:tab algn="l" pos="7959600"/>
                <a:tab algn="l" pos="8874000"/>
                <a:tab algn="l" pos="9788400"/>
                <a:tab algn="l" pos="10702800"/>
                <a:tab algn="l" pos="1078236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Волева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1" name="Text Box 1"/>
          <p:cNvSpPr/>
          <p:nvPr/>
        </p:nvSpPr>
        <p:spPr>
          <a:xfrm>
            <a:off x="714240" y="299880"/>
            <a:ext cx="7429680" cy="1257480"/>
          </a:xfrm>
          <a:prstGeom prst="rect">
            <a:avLst/>
          </a:prstGeom>
          <a:gradFill rotWithShape="0">
            <a:gsLst>
              <a:gs pos="0">
                <a:srgbClr val="f6fbfe"/>
              </a:gs>
              <a:gs pos="100000">
                <a:srgbClr val="e3f2fc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i="1" lang="ru-RU" sz="2900" spc="-1" strike="noStrike">
                <a:solidFill>
                  <a:srgbClr val="c00000"/>
                </a:solidFill>
                <a:latin typeface="Verdana"/>
                <a:ea typeface="Arial"/>
              </a:rPr>
              <a:t>Интеллектуальная</a:t>
            </a:r>
            <a:r>
              <a:rPr b="0" i="1" lang="ru-RU" sz="2800" spc="-1" strike="noStrike">
                <a:solidFill>
                  <a:srgbClr val="c00000"/>
                </a:solidFill>
                <a:latin typeface="Verdana"/>
                <a:ea typeface="Arial"/>
              </a:rPr>
              <a:t> готовность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2" name="Text Box 2"/>
          <p:cNvSpPr/>
          <p:nvPr/>
        </p:nvSpPr>
        <p:spPr>
          <a:xfrm>
            <a:off x="4143240" y="1571760"/>
            <a:ext cx="4429440" cy="4929120"/>
          </a:xfrm>
          <a:prstGeom prst="rect">
            <a:avLst/>
          </a:prstGeom>
          <a:solidFill>
            <a:srgbClr val="fbf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 algn="ctr">
              <a:spcBef>
                <a:spcPts val="601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2060"/>
              </a:buClr>
              <a:buFont typeface="Verdana"/>
              <a:buChar char="•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Ориентировка ребенка в окружающе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Запас знаний, усвоенных в систем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Желание узнавать новое, любознательнос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Развитие образных представлени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Развитие речи и мышления в соответствии с возрастной нормо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Смысловое запоминани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23" name="Group 3"/>
          <p:cNvGrpSpPr/>
          <p:nvPr/>
        </p:nvGrpSpPr>
        <p:grpSpPr>
          <a:xfrm>
            <a:off x="571680" y="1643040"/>
            <a:ext cx="3369960" cy="4570560"/>
            <a:chOff x="571680" y="1643040"/>
            <a:chExt cx="3369960" cy="4570560"/>
          </a:xfrm>
        </p:grpSpPr>
        <p:pic>
          <p:nvPicPr>
            <p:cNvPr id="5224" name="Picture 4" descr=""/>
            <p:cNvPicPr/>
            <p:nvPr/>
          </p:nvPicPr>
          <p:blipFill>
            <a:blip r:embed="rId1"/>
            <a:stretch/>
          </p:blipFill>
          <p:spPr>
            <a:xfrm>
              <a:off x="571680" y="1643040"/>
              <a:ext cx="3369960" cy="457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5" name="Text Box 5"/>
            <p:cNvSpPr/>
            <p:nvPr/>
          </p:nvSpPr>
          <p:spPr>
            <a:xfrm>
              <a:off x="571680" y="1643040"/>
              <a:ext cx="336996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6" name="Text Box 1"/>
          <p:cNvSpPr/>
          <p:nvPr/>
        </p:nvSpPr>
        <p:spPr>
          <a:xfrm>
            <a:off x="503280" y="698400"/>
            <a:ext cx="7926480" cy="1530360"/>
          </a:xfrm>
          <a:prstGeom prst="rect">
            <a:avLst/>
          </a:prstGeom>
          <a:gradFill rotWithShape="0">
            <a:gsLst>
              <a:gs pos="0">
                <a:srgbClr val="f6fbfe"/>
              </a:gs>
              <a:gs pos="100000">
                <a:srgbClr val="e3f2fc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  <a:ea typeface="Arial"/>
              </a:rPr>
              <a:t>Волевая готовность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Verdana"/>
                <a:ea typeface="Arial"/>
              </a:rPr>
              <a:t> </a:t>
            </a:r>
            <a:r>
              <a:rPr b="0" lang="ru-RU" sz="2900" spc="-1" strike="noStrike">
                <a:solidFill>
                  <a:srgbClr val="c00000"/>
                </a:solidFill>
                <a:latin typeface="Verdana"/>
                <a:ea typeface="Arial"/>
              </a:rPr>
              <a:t>умение сдерживать  и контролировать поведение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7" name="Text Box 2"/>
          <p:cNvSpPr/>
          <p:nvPr/>
        </p:nvSpPr>
        <p:spPr>
          <a:xfrm>
            <a:off x="500040" y="2571840"/>
            <a:ext cx="5214960" cy="4179960"/>
          </a:xfrm>
          <a:prstGeom prst="rect">
            <a:avLst/>
          </a:prstGeom>
          <a:solidFill>
            <a:srgbClr val="f8fded"/>
          </a:solidFill>
          <a:ln w="9360">
            <a:solidFill>
              <a:srgbClr val="fbf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spcBef>
                <a:spcPts val="601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мение сознательно подчинять свои действия правилу, обобщенно определяющему способ действ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мение ориентироваться на заданную систему требовани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мение внимательно слушать говорящего и точно выполнять зада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28" name="Picture 3" descr=""/>
          <p:cNvPicPr/>
          <p:nvPr/>
        </p:nvPicPr>
        <p:blipFill>
          <a:blip r:embed="rId1"/>
          <a:stretch/>
        </p:blipFill>
        <p:spPr>
          <a:xfrm>
            <a:off x="6072120" y="2428920"/>
            <a:ext cx="2419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9" name="Text Box 1"/>
          <p:cNvSpPr/>
          <p:nvPr/>
        </p:nvSpPr>
        <p:spPr>
          <a:xfrm>
            <a:off x="857160" y="500040"/>
            <a:ext cx="7429680" cy="1000080"/>
          </a:xfrm>
          <a:prstGeom prst="rect">
            <a:avLst/>
          </a:prstGeom>
          <a:gradFill rotWithShape="0">
            <a:gsLst>
              <a:gs pos="0">
                <a:srgbClr val="f6fbfe"/>
              </a:gs>
              <a:gs pos="100000">
                <a:srgbClr val="e3f2fc"/>
              </a:gs>
            </a:gsLst>
            <a:lin ang="16200000"/>
          </a:gradFill>
          <a:ln w="9360">
            <a:solidFill>
              <a:srgbClr val="d0dbe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Verdana"/>
                <a:ea typeface="Arial"/>
              </a:rPr>
              <a:t>Коммуникативная готов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0" name="Text Box 2"/>
          <p:cNvSpPr/>
          <p:nvPr/>
        </p:nvSpPr>
        <p:spPr>
          <a:xfrm>
            <a:off x="3786120" y="1714680"/>
            <a:ext cx="4786560" cy="5529240"/>
          </a:xfrm>
          <a:prstGeom prst="rect">
            <a:avLst/>
          </a:prstGeom>
          <a:solidFill>
            <a:srgbClr val="fbfef6"/>
          </a:solidFill>
          <a:ln w="9360">
            <a:solidFill>
              <a:srgbClr val="c4ee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Verdana"/>
              </a:rPr>
              <a:t>Это умение ребенка строить свои взаимоотношение с другими людьм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грать и общаться с другими ребятам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быть включенным в детский коллектив и уметь жить по его законам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бщаться со взрослыми людьми, соблюдая правила культурного обращени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Доброжелательнос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31" name="Picture 3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300960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2" name="Text Box 1"/>
          <p:cNvSpPr/>
          <p:nvPr/>
        </p:nvSpPr>
        <p:spPr>
          <a:xfrm>
            <a:off x="642960" y="531720"/>
            <a:ext cx="7643880" cy="1079640"/>
          </a:xfrm>
          <a:prstGeom prst="rect">
            <a:avLst/>
          </a:prstGeom>
          <a:solidFill>
            <a:srgbClr val="fbf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Verdana"/>
                <a:ea typeface="Arial"/>
              </a:rPr>
              <a:t>Мотивационная     готовност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3" name="Text Box 2"/>
          <p:cNvSpPr/>
          <p:nvPr/>
        </p:nvSpPr>
        <p:spPr>
          <a:xfrm>
            <a:off x="500040" y="2000160"/>
            <a:ext cx="4714920" cy="3786120"/>
          </a:xfrm>
          <a:prstGeom prst="rect">
            <a:avLst/>
          </a:prstGeom>
          <a:solidFill>
            <a:srgbClr val="fbf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3520">
              <a:spcBef>
                <a:spcPts val="499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аличие у ребенка познавательных интересов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любит книг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любит решать задачки и кроссворды и др. интеллектуальные задани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любознателен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задает много вопрос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3520">
              <a:spcBef>
                <a:spcPts val="499"/>
              </a:spcBef>
              <a:tabLst>
                <a:tab algn="l" pos="0"/>
                <a:tab algn="l" pos="835200"/>
                <a:tab algn="l" pos="1749600"/>
                <a:tab algn="l" pos="2664000"/>
                <a:tab algn="l" pos="3578400"/>
                <a:tab algn="l" pos="4492800"/>
                <a:tab algn="l" pos="5407200"/>
                <a:tab algn="l" pos="6321600"/>
                <a:tab algn="l" pos="7236000"/>
                <a:tab algn="l" pos="8150400"/>
                <a:tab algn="l" pos="9064800"/>
                <a:tab algn="l" pos="99792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34" name="Group 3"/>
          <p:cNvGrpSpPr/>
          <p:nvPr/>
        </p:nvGrpSpPr>
        <p:grpSpPr>
          <a:xfrm>
            <a:off x="5357880" y="1785960"/>
            <a:ext cx="3332160" cy="4498920"/>
            <a:chOff x="5357880" y="1785960"/>
            <a:chExt cx="3332160" cy="4498920"/>
          </a:xfrm>
        </p:grpSpPr>
        <p:pic>
          <p:nvPicPr>
            <p:cNvPr id="5235" name="Picture 4" descr=""/>
            <p:cNvPicPr/>
            <p:nvPr/>
          </p:nvPicPr>
          <p:blipFill>
            <a:blip r:embed="rId1"/>
            <a:stretch/>
          </p:blipFill>
          <p:spPr>
            <a:xfrm>
              <a:off x="5357880" y="1785960"/>
              <a:ext cx="3332160" cy="44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6" name="Text Box 5"/>
            <p:cNvSpPr/>
            <p:nvPr/>
          </p:nvSpPr>
          <p:spPr>
            <a:xfrm>
              <a:off x="5357880" y="1785960"/>
              <a:ext cx="3332160" cy="44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7" name="Group 1"/>
          <p:cNvGrpSpPr/>
          <p:nvPr/>
        </p:nvGrpSpPr>
        <p:grpSpPr>
          <a:xfrm>
            <a:off x="109440" y="457200"/>
            <a:ext cx="8880480" cy="1009800"/>
            <a:chOff x="109440" y="457200"/>
            <a:chExt cx="8880480" cy="1009800"/>
          </a:xfrm>
        </p:grpSpPr>
        <p:pic>
          <p:nvPicPr>
            <p:cNvPr id="5238" name="Picture 2" descr=""/>
            <p:cNvPicPr/>
            <p:nvPr/>
          </p:nvPicPr>
          <p:blipFill>
            <a:blip r:embed="rId1"/>
            <a:stretch/>
          </p:blipFill>
          <p:spPr>
            <a:xfrm>
              <a:off x="109440" y="457200"/>
              <a:ext cx="8880480" cy="10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9" name="Text Box 3"/>
            <p:cNvSpPr/>
            <p:nvPr/>
          </p:nvSpPr>
          <p:spPr>
            <a:xfrm>
              <a:off x="109440" y="457200"/>
              <a:ext cx="8880480" cy="10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240" name="Text Box 4"/>
          <p:cNvSpPr/>
          <p:nvPr/>
        </p:nvSpPr>
        <p:spPr>
          <a:xfrm>
            <a:off x="304920" y="1554120"/>
            <a:ext cx="868680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6699"/>
                </a:solidFill>
                <a:uFillTx/>
                <a:latin typeface="Arial"/>
              </a:rPr>
              <a:t>Общие зн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Знать свои фамилию, имя, отчество; домашний адрес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Знать состав семьи; фамилию, имя, отчество родных, их место работы и професс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Знания об окружающем мире (растения, домашние и дикие животные, явления природы, люди, техника и т.д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Знать цвета и их оттен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7T07:22:15Z</dcterms:created>
  <dc:creator>user</dc:creator>
  <dc:description/>
  <dc:language>en-US</dc:language>
  <cp:lastModifiedBy>Психолог</cp:lastModifiedBy>
  <dcterms:modified xsi:type="dcterms:W3CDTF">2018-01-27T14:17:39Z</dcterms:modified>
  <cp:revision>19</cp:revision>
  <dc:subject/>
  <dc:title>Презентация PowerPoint</dc:title>
</cp:coreProperties>
</file>