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  <p:sldId id="266" r:id="rId75"/>
    <p:sldId id="26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slide" Target="slides/slide11.xml"/><Relationship Id="rId76" Type="http://schemas.openxmlformats.org/officeDocument/2006/relationships/slide" Target="slides/slide1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5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6" name="PlaceHolder 1"/>
          <p:cNvSpPr>
            <a:spLocks noGrp="1"/>
          </p:cNvSpPr>
          <p:nvPr>
            <p:ph type="dt" idx="6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7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0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0" name="PlaceHolder 4"/>
          <p:cNvSpPr>
            <a:spLocks noGrp="1"/>
          </p:cNvSpPr>
          <p:nvPr>
            <p:ph type="sldNum" idx="6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B841F-25DF-4441-A508-F6D683A97E0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61540-A98C-49E9-970F-51BF9C9E10B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F67E7-45B5-425B-8505-FC7E609EF5D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6C234-EF68-4F74-A047-5BF58C1037F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C71CD-9988-463E-B22F-A638973856A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EC6F2-5272-4AA9-B03E-BD766F34FAB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749FA-9AB9-4652-B77E-3B76179FBAA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9F67F-B89B-4739-A83F-9537FACBC51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B529C-3C81-4414-A1E9-B0E400FF5A4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5BF89-1DF8-4DA1-8E15-DC8D4A7A160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F0F0F-ADEE-4B70-B6F4-334389DF661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13764-7445-4EFC-9C77-99208C901F4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FC3D5-0A0F-4F73-9287-33403ABAE73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2256-4C77-46A1-9CE9-4FD220103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35D0-FA03-40D7-B4F5-B05C647C2AD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33234-185A-4B36-8137-1E1CE8A0372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51134-2BB0-4324-93F3-C4681FE843E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D5635-5973-4832-A15D-EBD92B3E888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41EC6-01E3-4D75-B1E7-094D2950D6D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6C7B0-B918-4D8E-B9F7-3CBC0A8273F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69574-9B30-4E1C-A78F-62E4EC5C117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53212-57C7-4BA1-AF1E-AF70B8774F6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6BA50-8554-4C55-A6CD-EC9067D2FC6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9C277-EC0C-4F37-B84D-DF36B045D83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50EB29-7164-4D72-8B67-312D972FA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13D4-4585-4400-9A06-2944C55B940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6D89AF-97B0-4A25-8E05-84FCC17D479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BA0C47-0743-4303-8843-78EA98ECA92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3DF681-68DB-49BA-8D89-7DAA641CF56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157F37-E01C-41C8-91C0-2AA5E1A162C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00A798-7C03-4D7E-A66E-5FDCBFE5798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A198EB-19B1-4A92-9B71-0C39C1EE638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437C8E-D3C8-4206-8EBC-89CB2B35296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6B9F3B-0FD1-47C8-B353-7E5B46DB77E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5211C1-DFB5-4E61-A721-53719B1894E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059AA2-E4E0-4A8D-8F5D-E776B524D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DFF7-AB68-48FB-9967-FCE5782AFC5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86667C-72E8-4188-8641-635F02A4A96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1B0A23-5F4D-4D1D-A0B3-299088AD253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2CC88B-964B-43C7-BBD1-954497A9796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1E320C-BAAC-4382-9852-4C889B87EDB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54ADCC-5E53-4869-942B-C49099ED20A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0D8470-FFE7-40C8-8BF5-063E8A94E7D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51D787-F52E-4E38-AFE1-03FDF3756FF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1596F3-6111-436A-9D15-02A55ADAFB2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F2C64D-988F-48C1-AE89-E005260A75F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DA1AE6-FCF7-4B03-BC1B-379762B7E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BF04-5383-4912-A7F5-5658E443EFD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EA403A-CA94-410B-A508-92AEE11D04D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D26448-92C1-4AB5-ABDF-1E07B2817DB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56341E-8612-492B-9972-55CA24A9B9A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130D7-6E0B-46DB-B02F-2ED4D7E58DA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2AF55-EE2A-4EC6-BE27-48B80E9E010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1EBFB-87BC-4109-A9BB-24ABD8B6503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A87BE-1A00-40F2-970C-BBB15EC9288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EFC52-1D21-4A39-ACB2-5C1C7E9FAA0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368AB-EA87-443B-A9AB-7A5F8090685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6B34F-8624-4101-8FAB-1A1A3797FE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8A2F1-A4ED-4F28-866D-39EF146DDB1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85AA5-211A-4C59-8B80-7ACEEECDFCC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10FFB-A8ED-4A9C-8382-D359DA93D69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5027D-C1C3-4667-9400-D1E33330A2C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1E32B-D930-42D3-A110-7847BAE77DB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49649-68DA-46E7-91F5-52F745A6225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77A064-98B0-4485-BCB1-4064D105EFC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2B8474-2717-4A83-8BCC-87979AE108E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19B73E-54A1-4421-9F3D-0933EFB4362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E29C64-242F-441C-8548-5C4AD4758A8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616BE0-3AF3-4731-AF90-C4B41EB997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68BA4-B40A-4424-BE1D-8A9B985B78B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B1E36F-4E3C-4BDE-9E6A-8E65B756999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615A10-177A-4F28-ABAD-48A45C45C96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B00293-5448-44FB-B506-F03627CBC11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CCF785-7422-41D3-A8E8-9A6DABBAA6B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9B4244-0AE3-48F1-A8F0-FE4CD2ED17B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C421CA-1A6D-4F72-809B-659400D4B11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7B43B5-CD67-4330-87A3-C7C69F0377A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5ECDD7-FD71-4246-BEA7-77A63595B23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D4643B-8768-4428-A7F9-04E83D17972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38A53A-EDF7-4EEC-AC80-F8F97F78D4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7DB8C-E6EE-44B4-962A-3FEB4393F8B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D8F567-5968-41DB-BC76-25FAE6E004D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B6B70C-ADD7-4138-912B-CE8993DE3CE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A33E52-A177-4182-9AD1-CC5CD4A7D33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9F30B4-DCAE-4B8B-A9CD-1FC568633D1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FA73DD-F52B-4F90-9DD3-7C375BC1667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526E41-702E-4B30-9347-4A2AB85CFC8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5BE5D5-A096-4DF1-AFD0-F48AEC64A0B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A20637-95BB-4182-994C-674E522268A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E089D5-4C09-4FD0-A418-62CAAFA389B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9B082-5EC5-495F-B5E5-C954051630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663B0-11FA-4F5D-81E9-C08D89F563D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75ABB-E3E9-49E7-90F5-71832E8A5B1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C2743-29C3-4965-812A-7184AC99FD4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70FB7-02EE-475A-A681-DD58EA7E0C6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42313-5B1F-4E7B-996F-24F71A54129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B1F9D-FC93-4D30-A45A-1377D32571F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6AD5B-6F84-41E5-98D8-0AE4CAFD3FB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98886-5D0D-461B-B1CC-6AC89C14E9E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6EBF6-CD2D-4BF0-BFB8-B850072BF5B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BF21C-EB22-46FE-8670-227D6498590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8A69C-7725-40E3-93DF-D25461E1BB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24E7B-1203-49F9-87CE-A0A598275B7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D6EDA-8235-4E42-8D60-B6951637854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52FCEF-7260-48BF-80FB-50E5DB2D972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F35695-6686-48A3-8A23-C2557525AA4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DB820D-862A-4018-B603-FA9760CF83B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CD56B4-C66D-44F5-92AE-CD73A64ED45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259B51-5270-4124-9804-2FE1ED46657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E4FA81-CB9E-4E7B-B664-16DE1577505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40AFA7-4301-4E99-9972-4D96C4F95D0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4942A7-EEDC-4AEA-96A6-2E8CD1B0758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211F98-04AA-4332-A340-7880095108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B2927-E99B-4F5A-AD30-D7B14C0BE8D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753D5D-BB1A-4C03-B257-4B3A32FB23E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017B32-2003-4354-BEDA-6A05BBD4F53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29EA1D-DA1B-4512-905E-1A8A24DC82B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04CF44-11D0-430D-BEAE-70EF233A34A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037F32-C484-4DA6-9347-1B33A86C962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158A94-DDB8-4FF8-9106-E753A80CEC3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CA09A-A846-4A40-8352-5524CE08321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729C2F-36C0-46AB-BAB2-A29CE40BB2E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95B71-56C9-4A0F-A77E-49F1755B9C9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49AE22-4E9D-412B-AC2C-4B75AFC209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89196-3503-4D02-882F-4BFB21852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8DFFB-8501-44C1-8EC2-18B790E9FA1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CDCF52-4BE1-4CD1-A60A-84978C523C2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A5156D-FAC6-440C-86E9-5F9F36DA53D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026A75-BDCC-4C81-A0BA-449C15AD29E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F327BA-99B3-49CF-839C-340A0918951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3D0A86-FE7F-42EC-86D1-C42CF266904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BB245-F386-45CA-BA95-EA604980558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F33F8-FBE4-437F-A0E1-5FD6FB1AD5C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DF6FF-9D3E-43A7-8DF5-9497D87822B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22635-8C92-4F6C-9CE3-3047A8506AF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65439-748A-4E90-9AC3-1D6054C269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BBA82-99F3-4CA5-8DC5-D5DCC0AD514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61223-B35D-4925-9FEE-503C829449A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02277-A101-4AF7-A4C1-6E47EC7B32A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4D335-663E-4659-81AA-64968C9D988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412CE-16CC-44D7-BFB8-E6ED9CDF4C8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FD266-EF36-4495-844D-7D7C5AE9AD9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56496-6B37-423A-AC65-80933BFD18C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8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9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4FAD2-07DE-4A15-8585-D37A90E852D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7FAE6E-5AFD-4C43-B042-3341C57CAA6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E2E6B3-3759-4398-8027-5F6824F286C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FBC437-3F5F-4B6E-9323-119DDCCABE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5FC3A-5BDC-4F54-8B9B-5B308104C44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8FCFAB-0448-4CE2-B29C-D426725E43C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6FB620-0E6B-476A-AFA3-17CD736FA49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EF5681-46C5-4B8B-A454-D09F0767CEF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8E9CAB-01EA-4DD1-8272-C6EF2614C40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6B5611-20AF-4EBF-8CA6-6794647DA76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1FE55A-379F-4DE4-9250-8B35D8DBA2F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64D40C-FCF4-4568-8991-F4A0F5C14A9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E31347-8F89-4E6A-83F7-472D6698620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2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3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E13E98-49D3-440C-AB2B-9E2C1E4624C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99ADB0-A530-47BC-9E71-A33BE6B72A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034FB-EC06-44A1-929F-F940946C1DF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4D335D-86A5-4360-AB23-9971DF7AD3D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EBA941-37A7-41C7-8856-B56DB177EF7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BD477F-1A10-44EF-9A5D-D1636FE5A64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9E9B50-EA5B-4AAD-B7E6-F66959E188E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6120F6-97E8-4AA8-B0B0-40FA3975261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22DD87-29DC-4C8A-9A02-31FBAA5836B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3D2455-75AC-41C5-9F9F-A9F1DC73644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69F26A-D9F4-4EB4-BD92-4D0852DF0F3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5615E3-69E3-4E02-8174-E762CBC3BA5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49CF58-A5E8-4969-9DAD-64572D7EA3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82FCD-9EB5-420C-810A-1238AEE6826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6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7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89699F-15C9-4549-BEB4-F4E28FB2332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E1E4A-3DF1-43DE-A465-161A56AF391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7C74F-18C6-49DA-9914-D7B2BE2489D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AB9C3-4978-4361-8F48-22E9C2889CE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01320-A629-4A26-B694-16EF471AEE5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249E3-E8B7-4128-A681-098AA8403D7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C1324-2B0C-4F9A-9545-C34712A3F92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2F446-981D-4F2E-9D53-D8458373D13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6A8D0-E741-4677-BD47-2447013BC3C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14A09-AFAC-421E-B83C-416C6756DD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BC95-35CF-46E4-B4E9-9B1976ECE40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A704C-4CA6-4597-87D2-D20088278F1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89035-9BD7-408C-B235-06F979A4D04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0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1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9DC1F-6D79-4F1E-B108-797BF0410E2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86D576-D707-42C5-A19D-F17B3817D4E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109A4D-9837-4FD1-96F5-E29CA94E728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F36D94-6E5D-4510-8B05-CB7ED382C58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E2324D-4BBA-4717-99D9-A1E882D9AE5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405D5A-7D02-4B34-BA60-8BAB2A151B3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E6B194-9810-4A4A-B212-525701326D6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D5EAF5-1C23-43EE-8405-D67CC9EE70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181A-9732-4DAD-A38C-DB836309938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E78FB5-D5A9-4803-8D49-876A818D955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78AF4F-C88B-4A77-8482-25C6BB7692C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85FCFE-CBD3-4DA1-AA47-13AD7778FB1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30035F-2A33-47EE-9813-2D4CD24FC4A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3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4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5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11C9DC-C5EA-4AC6-A97A-CD9FB9C0C1D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F46F2D-9936-4977-A992-C7ECFF0DE99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994B38-EBB6-4238-8CA0-13D16B24525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42EA13-06A9-41DD-B087-B529956F1EC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EA8A9B-BD07-4760-92E6-8D02A222E19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89A0C1-9844-44D3-9DA9-C9751B0EEDB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DDA3-38E5-4B83-A750-ED4FC7B9FBC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BE9CA5-9C97-4390-840A-C38FA50A795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A10BAD-95CA-4E31-8DDC-F03B2B65D0B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791874-884C-43FE-8CDA-7C026BF6C27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FE0C17-118B-49FB-9591-7AC67FC8124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F60A93-9CE9-43EB-9913-B61E481504D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68976A-5CEA-471F-97CA-12EB409CCF3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AF4D9B-D7A4-4D85-8982-DD5BFB68D5A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184D5-FB18-4686-9882-BA7FEAE1502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3781D-581F-4FFC-B196-B8E2941C8E3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0C894-519A-438E-BBAF-7E04ABC38A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B1F-ED06-418F-B9ED-F009B48315B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9D97E-0B7B-43BF-B4A7-6038EB90029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A4832-7701-4B26-A7F8-D550D5D39AE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E45DA-04A2-48C2-98B7-6A7A64491C9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74DEB-2725-4582-874A-28ED6B409F8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FEC82-42D1-47C8-BF25-4322DBA805D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7C144-5319-4F79-B70D-AAB48C6DEA2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20192-F858-4269-97F4-600A8876A50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10305-6339-4C5A-A1F7-694E5F02047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1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2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3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0A611-8426-4CB6-99D0-105D35A3E98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E4B98-8F35-4CF9-8F12-22EA27CC36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E765-6240-47AD-962E-85887FF738B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7578C-455B-47B6-8538-62FCF858F98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4F5FF-D90F-4A1A-ABF4-DDA87A57542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0D5E55-A728-43E8-A469-64FF59280FE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72FB4-4877-44B1-A638-10B31B4B3B2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D941F6-7963-4CDA-A48E-72ABBD3FBA6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2D8C2-E29F-4F4D-A22D-0397C357997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A49FE-C10B-4512-AB93-92B78161DCA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8C991F-9489-4FE4-B255-6789AE62847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1A5EF-BB77-4A4D-B2B6-26388B1D6AF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0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891E7-D61A-4877-9C23-50B910511A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30C8-7C51-464A-8E90-130720A1AF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CF98-DF3D-46DD-83B3-D9B4B51E335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6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7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3379F-C9F4-42CC-86CA-0287E1C280C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80DAF9-FA77-48DB-A89C-8858A370DBE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877B96-5E9A-49A3-8BDC-998CA59A958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3A75A3-A23C-4501-8C05-9DF4914B65F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7ABF05-394B-4548-9083-49350DDC956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302BD5-A62F-47B5-981E-7323CB27B28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499E34-DFF9-4BEC-8230-E60AC748A12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86D45A-4905-4949-B210-2EB7616A7F8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DEAF28-A4B9-412F-AD4C-0EE2A51A3D2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B94DF3-18D7-4112-9775-EED2077BF0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2A24-562A-49E6-8EF5-660EDB04CDC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612726-43BC-4E1C-BA89-67D83B49235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F0FC76-775A-41B4-8E79-0D30DB644E8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1FCCCE-55F9-4677-8008-312ED0BC12BE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D4EDE-359D-4DF0-BC91-18E1BA29F849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E03C3-F880-475D-B913-549EA5F8C48F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B3226-4BF2-4107-91AD-5253FA5B29A2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8AE08-B1E8-4ED2-A7AD-61A0F27D20B4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B5CBA-279A-4C77-AB95-9ACBE8353EB5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EC889-A788-45E9-854A-22AAA5E30478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7A075-1665-4B40-B4F2-9FCC1DF099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066-56AC-48CE-BA58-43DF0A9DD859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D407F-DC85-4439-B4D3-83E05F456E2E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A0F8D-64CC-4B2D-AD6D-ED4F3BBF2E4F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30C8C-DF06-45D6-8001-8691A2D7675F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95311-2DDF-436B-A18B-434DA5425DBF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4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5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5631F-A37B-4DBC-A0ED-EF19FC11B99F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A3DB67-4CD5-4B90-9A3B-FD1DECA14B3B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49D72F-A8DE-4553-8533-5CFEE1669B40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85047E-AE84-4481-B905-EDEF5FC367C6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548E8-1303-41AB-93B0-D38B8298ED50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4FE68F-EFD1-46FC-AAE6-99B151C62B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9AC-41CD-4BAD-887A-62F22E69E25C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60A2B4-9631-4DD7-A718-192F7737E5C9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9E458-70DC-4929-9D5B-327DFFC53A6E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36FEB-DD96-45D3-855C-8F359E96AD18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4AF3D-9387-450B-812A-AA9448125BCB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7E60D5-626B-43BD-9D84-291120F114F9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2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DBF47D-231A-4D89-86BE-A4DC66DAEE38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7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8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9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D7CEE4-D002-42B6-BE8C-50A80409C2CA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1C0170-3111-44D9-9969-550C42322BCF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33A3B1-03C3-45AA-91E7-B5231B560258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D95C81-DB69-4950-9F7F-185F612D86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C2CB-ABE9-433F-967F-4E8A7795A2A0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74F329-4C1E-4A79-A07F-38B2E56CA9BC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F1255B-5313-4964-A0E8-BB740ACEC446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217E3C-D6A1-42CC-A6E1-AD9ED9E813AD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564C14-4EAB-4C69-888D-25848AF0B116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66A7A2-035B-40CB-BE74-208A029C8BCC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520E43-0159-4CD1-BF84-C3898762D3F8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C17527-FD6F-4AC7-B49A-1620BF0A0444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900392-97E3-4648-80E8-C136A508B7A1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03481B-59FE-432A-8124-E7921FABD29F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9BE71-1C7F-4FC6-AFE7-5167709A3A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8287-05E3-49B2-A9B1-74BF6F0225F5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88E27-01BE-41F3-AD29-F36F0744C112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1DD30-8A3C-4BBF-A8E8-9CF41DC1CC8F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EBE23-022C-4B4F-A98D-D4C8E7497A24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8EEAB-8A5B-4509-A41A-BAFC304322CF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73EDB-AD1A-4CFD-9307-5E57F60C920D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044B1-FE5B-49F4-81CE-B95A73E7AB39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13622-E34B-45BC-B941-E417AE20A711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BE8E6-2F84-48F1-99FF-34380D9BE6B1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A15BC-FDB3-4124-AB21-F938D70193F3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A7FAB-36EB-47FB-9CAE-A72DAC7FD3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4FB-B075-47F7-8446-7DB94A1C9082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6A1CC-F8EA-432D-8EA4-3C7057FFC54E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E6A095-8611-410F-B05C-950FB7C3E5A7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C099E8-0949-43E2-B3FB-C9B600241652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0A6145-09AD-400C-A014-8548F34E64AF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206FFF-D980-430D-A05D-1BE503CC4A4B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B08F6F-EE72-4540-9314-0AA5E6A25089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8522AF-2276-4498-8583-345729DAA9E0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A0D6C6-0306-4C50-8CCF-66F0F3DE9CBC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5EEBF5-6685-4A49-9BD0-4CEBB30E7519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771173-DAA9-48E9-BC81-860031DD93C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52787-CF0D-4251-A554-5A3908FE7248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3D733D-EAC1-4D5C-8BE2-46A4A43A2987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3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F30554-5996-493A-ACAA-07796BBB1632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8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9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0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244451-2E14-4C81-8A63-885F901E0DCD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BC6C20-01CB-4B88-85BC-4B1FEE58BEA6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66A58F-9E07-4A1F-91EC-EB0300A645C3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909A76-DBC7-4F84-990F-EB9EF8389AC8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7A30AC-C729-485C-B854-B56C1BAF1635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9BB74B-0C82-4F99-A0E6-C3DD86051945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51CCF8-256C-42C1-BD6F-C07CC036CC64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7C3E7A-4199-4AC3-B28E-1840B623D8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60495-21FF-4C12-96DF-CC76034FFDFF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FF817F-BED7-425A-B9D7-5F78777001E4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AE32A1-4AFC-42A5-A1D6-AA6866E60858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2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C9568F-F9CE-42CD-9C84-DBC916034A75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7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28524C-5082-43C1-8C01-03F43179F83F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2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3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4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1A98FD-5CDD-4C1D-BC2B-ADA26AB92E20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2F055-F553-4E97-B1BC-3F79985A4E8C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9A9CC-ADE7-40CC-92E2-0EACD2A5BF42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8AB63-A6B7-42AB-A9E6-EAF0CDD22B4C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79236-9CBD-47BA-B1F8-905C1EFD93D0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D2345-4F9B-4CAD-8B7C-BEB9302C22B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5C9D2-3E42-461B-B906-5FB99D580964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3F3E4-5540-487C-90C9-8222C08C40FB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A6276-5610-47E3-A373-A33295C72233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9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78F55-FC1B-466C-9471-8D201B590C44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7ABF8-597E-403E-8E8A-8BC5172352D0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312EE-027C-4D8A-8ED7-0E3E87B31617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1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27480-ED25-45BF-BB9E-37E8B167EAED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6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7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8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F5819-153C-4710-997D-9AC74AC962A2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871CE6-A172-4899-A229-9098D8F3A01B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367475-01E4-43DB-B7B6-678185BDD669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4DDD2-04B9-4E09-8444-7B8A85AAA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50C6-2F17-49DF-B8FA-AD274AFFC65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47019-E01C-48CF-B3ED-99D31F384BB3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C465B8-866A-4D10-9E8B-09DFB85819BA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9E0D7-4417-436A-907D-C1160C7C38A1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A9AFE-7F3F-4851-B3C3-4AF966D245DE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C449A-77CB-458A-9517-C42DD4E6B481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706B4-6829-4529-9EAA-BB2AC2399C48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BB889-70EA-446A-B10F-F53F04F8D2AE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B1D8FA-6A70-48C8-B73A-2EEE138AF730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9CBE49-75DD-4457-82F4-8DFDDB63B3B7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63AF8F-595D-45F9-A4A3-10408CA804B7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3947EE-68F0-41C3-ABBC-14754C876C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C8390-1B11-48A5-B14B-272D36B8F4BB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ADCBE1-EFB3-4AF1-976E-22D60EDB7E58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AC09E4-7A94-42F7-AC5F-AD4804F918DD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A7B3C6-8612-4165-872D-2573351900F7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B1CD48-C183-498F-BDA9-1B2276B93A7B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E8391C-EB8F-4F96-BD6F-D515682085E4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FBB24F-A0A2-4AAC-A4EF-5F71BB632C10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1BC6A5-987B-4ED3-9663-88CBB26C58CD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1C3034-661D-445B-8FF9-BF905B9A8D2B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7101A1-91D5-4A23-B774-FB725EAC39DE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2D754E-723D-49A8-8189-DFD950DE96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ECF6B-C8F8-4F20-9B09-F875C7BFEB10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C5A580-C886-4C8D-9755-AD239DEB4860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BD3A9-1A63-4244-8B64-584FA72A6052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EC4E1-05D9-49E8-A4EB-0FA4E072B235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505A3-79A8-484F-A4B4-7F56DBDD69A9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800B8-E170-412E-8E2B-B6E942B3F2C1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96162-7F9D-450A-B50B-2E99C93C648C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C3F74-6713-4E5C-9044-3DB570FCD833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C6A00-DB22-4EF5-BF1A-C33DC6A20F25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33440-A5BD-4558-87BF-EE448608A74D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A5C79-65F2-4DD6-B361-01C7D779E17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B58D3-478B-4744-A1A0-967990D57050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A40E9-E0E9-4B96-93E0-9AFEA0B82C72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3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0FD19-8BEE-4BEC-83C8-E17E6FBB3294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8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9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0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23A19-6674-40D4-90FD-D91D2637F730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B92339-4851-42FF-B166-025907BDB0CF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7109F4-A051-411D-BA2D-DDED03AE6104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FD876E-B49D-472F-A62C-D227637832CF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81E9F4-7CB9-4D5A-9D00-BDCDA54C5281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C0810A-A10B-4189-94E1-74C0A0BAB523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5D8423-B7EB-4CF3-AE99-2ED51234C8D6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8CC1AE9-ECF1-4A8D-9456-CFB53FF3B4F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9E797-3AC8-4B19-A31C-156F2A640A9A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814224-4FF5-45A7-AF7D-1CDF0CCB9D79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D60257B-006C-4229-A273-E327107E567F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2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A407D1-3B17-424A-A154-B88FBEA3D97B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7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39C0DA-879F-4AB9-B815-66659DD9CCB2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2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3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4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C01682-0AD5-4CF9-9C1B-29B1370D424E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865A47-BE72-4B38-BF0D-2E4CF426DC2C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8BDBE2-7A05-4DD6-9371-EFD6E0FC179D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422C9B-1312-4211-A9BB-E78E8C44CE89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BF1A16-9704-4F65-9508-5250EBC52BEA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7B5095-008C-43A7-95BC-9416C83FE0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E45BD-25AE-468F-B19D-991D1051D946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95EC40-35E9-42A7-9B0D-549349492FC2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ADFC9A-8FCC-40E8-B4BB-05EB23FBBCFA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A40313-67CF-4E64-AAF2-78E7C9BD59CF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277D5D-169E-4FAD-AE97-BFE302C997A2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6E2690-050D-478C-A658-237F3959BB10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1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08E8D4-ACDB-4EA0-B86C-B6BFB015A9A3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6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7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8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7C5CBF-A071-4F1F-B527-BBFEB07AF7CF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5F09C-804F-45A7-8374-BA55E7EA7CCC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BABFE-E9DC-482E-BCBF-7037137F57A2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5420B-8199-4960-AB79-6E305416A0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087F2-E2A4-47F8-95AA-21BF2434B899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8E1CE-89B8-4C65-B338-711E8572069A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CF36C-F32B-499F-AAAF-625CACC5B59A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24FE2-9DF0-4164-99C9-39AB1414DA50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49244-6894-4B8F-9389-DA04C65FD4DA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9DA5AF-8A2E-4B9D-933D-C70BD568D747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76F7D7-7CA7-47E1-BE18-61989D564673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9AD9D9-4DC7-4463-AABE-8C9EBB6B77F5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47CFA-6D0A-402D-A79B-4ABDC63DAE7E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CF2CD-081E-432E-AAB9-6DB6042C595C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D187F6-E4AB-446B-B322-15C0792589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4F52D-4B7C-4DD9-BCF1-B3D2A05C67F9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D75BF1-D8F4-4B78-A70F-A58781889C29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B3701F0-F4B2-4B44-B9AE-2DE36F014D78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86579DD-E9BF-43BA-9826-9866D88D1981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5AF66A0-5F04-4E4F-BF9D-8484B9B5D855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D7BB21-9157-426B-8980-DFE4B10102B5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1A9D6C3-13E4-4E8A-A2ED-C3E6B72115BD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6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56231D7-0221-43D0-AD55-A22E83BAA79B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39F9DAF-3A5F-4ED4-B08E-20D4D355EF52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B5FA650-FBEE-459A-B653-CAA20D67456D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8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36D7AA8-2134-43CD-9027-18BE587A81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2FF0E-1FAD-444C-AF4D-3CF02BEE7C0C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3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4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5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AA4CE27-6CB4-461E-ABEB-A64BEA7E6E58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A618A7-8D35-4C4B-903F-D996B4257B52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02F850-FD21-41FC-8427-26A0F5CE8882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01A1E1-2EBA-4F80-A22B-EA386C3AE259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8CFB3E-3FF2-4D54-8A79-5DC937E41B28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C101EBC-4D8F-4D17-B10D-C87DD83A38B7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C4AD89-ABE4-4938-87A6-E4BCF1B7FFB0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7EF17F-4801-409B-BD8B-308F332C12E3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860CB9-C4CE-4E77-8109-8CCCA7A3C247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F848CC-1DDA-48C7-9385-B74507A9BD8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04550-4861-4127-8EFE-61CD33AEDA5B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BEF983-49A9-4142-9DB8-A4FCE4EAD10E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2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A3279A-632B-49FA-96D8-64609F0EA517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7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8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9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B56B762-F719-425D-AD82-83F72F896F34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E297ED-6F58-47FB-A675-89485731BA20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B9FF54-064B-4D6D-AD74-0C03DD33E820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D1B79C-0374-4D8F-8BDC-25E90C52C86F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C73C9-396B-4E97-80EB-DFAFDF3ECF8E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F73A52-2207-4C69-AC5F-1CE522EAAEB0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400ED-A28C-49ED-9263-91162A0EC8A7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EA1E3-3614-451B-9C52-7159490CC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4D90-5209-4EA9-B348-AD8F094363D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11AD4-7DE5-4BC5-9877-ACEF871039B5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4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93956D-A3CE-4A41-9A98-AACC42F40D66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731F5D-17B4-41F6-A21A-91747EF57914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1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8A30A-3F2C-4A04-9055-8B9258E1F428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6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4D75CA-1852-499E-AB6A-CEEDE2A48E49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1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2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3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8210E2-D28A-4284-9702-650089AECD5B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3580396-9818-4E58-B1FE-7A215EF6776C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3666C38-55DD-4F13-BD6A-5F9C90C789DA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56056A6-4D21-45A1-95F4-0727388755B3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E0A0424-0141-4088-95E4-65A7ACBBC770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BE1537C-FEF8-4FD6-A05D-D4E27AABAC3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4A17A-92A9-401B-BDCE-4271C02C4437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B02F31F-E897-49D3-A5E0-3CCE3F146560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7E269BC-C168-4C19-AF33-3F17F3B95B31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CB5B28C-E850-4A6E-8598-4AB575B015FD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D0981E5-026D-429F-89CC-C3E23AC61694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3D94A22-F1EC-4CBB-91E2-A8B8AFF3CDED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0E74A67-46B2-4F3D-88D7-4591A383C9E7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07FA291-06E2-419E-941B-C29F0ADD542A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273659-16DC-4D37-9286-DD67B60BF3F9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782230-9956-4BDF-A4FB-7AE42AAF37E8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90D8BB-C057-464B-ABA3-51179BD1808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4A9BC-53BE-4009-AC3D-C7F743D9CC8C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1C8AB04-3781-49E3-9ADB-A167318F15A6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F4B7164-A7D8-4684-BA24-760FAAB3D90C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9C51E7-07BC-4274-82A7-1BCFD9529B39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FD4E60-729A-4676-BCB7-2D2CF4D716CD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55607B-5107-4762-9E7C-8B269B78DD7E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4929FF-0D9A-44A8-9B3A-21568F300E55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F2F405-B2A6-44B8-9002-86F581B18A95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4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7961014-1E3D-4431-851D-04B2FEFFED2B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9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0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1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F26404-0FA4-47BE-AEF0-1C3D129B221E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BB2B66-E083-4807-8A78-3F7ADAE84CC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0020A-F5B6-47EF-B149-B0D34D650980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797955-BA6E-4474-9AB9-32385EDFD0C5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456B8A-2119-48AA-919E-EDFAE8B24CDE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8926C6-4C6E-4EDF-9276-A508538C56D9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F60846-9FED-464F-8F5A-0B6A1CE51123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9D3D6F-70BF-4AA7-B404-C24A0CF72EBA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E23D98-40CE-4002-AC8E-6EF1776363E0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6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E0D00E-EFA7-41DF-ADB1-312904B457E6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CAD650-17B2-4140-9EAB-A8074EC58BE6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3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92C3D7-FC4A-42D7-9918-8D62A848198A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8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701A53-45B4-4EA3-B960-4B8FBE412DF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9FDF2-C092-4F33-B3D2-13393C1A83CD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3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4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5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E91BE5-F3C1-4715-9B2C-D993609DC5D6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85D1861-A0AA-4EDF-9F3F-F816E7CA8E2B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FE5DBBE-304F-40DC-B862-0F7A81FE8318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59F8E33-20C3-4C85-BD13-FDD1AAC4900E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4FF520C-DA23-4334-9BB1-A8EA341CFE13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A5A99EA-D5AE-44E6-B95E-B16B1FF8DE22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2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97D9AE4-51E0-4AA3-869F-7F95A3DFFCC7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67A43C6-0AC5-4593-AF16-C1F0C071F79C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0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0A0A7FC-F349-442B-946C-787033648C15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B968F04-1CDD-46DB-B64F-FA05D9AA04B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D5B1B-87AA-4EBE-BEA8-3E822474E376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BF4E87E-D277-4441-865D-24C34D4FB3FB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2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C2E6927-AA03-46E7-8D47-04FBCF5EBD22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7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8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9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490A958-FD71-40FB-81F1-8B14380B6498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B5D945-645C-40E4-83EA-92A52CE02AA5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1BCDFCE-020C-47EF-933A-EEA5DF61B212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2FB1507-E9B9-46F8-BA19-48AA9A66089F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F4DAAAF-352F-4001-969A-56C009E728A9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E334095-7D06-4B8A-9A74-A8F7E8CA3155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6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839C1CD-F53E-4756-AEF6-72B35CC514FD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8B9D405-E2FE-466F-8426-B6F6375338B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E9FBF-97DA-41C5-9E81-706C1C10D3F3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4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5400DF0-11B5-4161-9B99-50BDC46630F6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4ECC50A-C319-4A8E-9A0C-901E6B6E5F5E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1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712B9E9-B8E8-40AD-A717-50EAC1B93F04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6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FC1B56-9B79-4F23-BBB6-A74AFAAD6EB7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1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2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3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1F9471F-58CC-4158-B765-01143AB32237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D7122A-7541-4472-B9C1-B48871A852C2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323E71-DAB5-4F56-91D5-886D83779EC7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6C1098-7FF0-4196-91C5-5C7A5B06324F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06E58A-A4F3-485D-9B5D-BDEA6B37BF34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7C712A-0EF8-4FE2-A129-3AB21FAE8AF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04DBF-09D5-4447-B191-23A0380E5741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0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A5BD24-A0C0-41F2-A4E3-CDA3A26F5A17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F65B6E-F7E0-4AA9-8BFD-25AFA2B1AD85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8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B369FF-5008-4683-8420-1809EBD9CDD4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5CD6A7-513C-433D-B0C7-EA5425B3171E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5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5F5DB7-86BC-4BFC-94F8-C9265B55B44A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0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A51BBB-4C2F-49DE-936A-3CFA5F6EB979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5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6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7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323ED4-7A5B-4881-9C38-FBBCB539C907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831ADD1-0B0D-49DB-A115-0EF52586378E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8B4743F-45AA-484D-B8D6-46413CA98D1E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F69DCB2-6D59-42AA-B8A0-E4EAED1A1BE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8BB3F-C8F2-49DA-8C7D-F935D337F03A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881A1D3-F688-4128-95A0-E9068F8CB9CB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C103B37-5409-4E20-B8CE-20EE81637F53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BB1ED99-3FBB-4AD7-925D-3A7B7A36E3CC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9763AE7-A12F-4754-B913-FA6978F8400D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2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EC92C9F-C60A-4EAE-A84C-38A2178D72DA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7FD39F6-5D4E-451F-A3DA-F04FC1B3C76B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9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1F3507B-6BDF-451E-9C7D-B6F47AEE10EF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4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6B27B42-FDB7-4C8C-88D1-461C26F26D16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9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0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1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49A714A-68B9-4695-8AFF-4AF7DA351EF7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9D73748-0B54-482D-A394-12D3D810278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786D2-B3B4-4B2F-85A1-ACE61A932406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0E39D4E-2D7C-462F-821F-E42933C6158C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6394D8-9481-4AD6-BFE9-A42A3993E3F7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1A6BF1-BBA5-4E50-9DE8-B7B39C6FFE69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59D9A21-2126-4035-8D52-F83BB1D66ECA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8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5B871B-3575-411F-ACD1-71722F55D944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A225829-1C17-4708-B4F4-83081816190C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6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1D38BA3-9713-4920-A7C8-6C84C179ADFF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A4B3799-32F2-49BE-A48C-843D2B9F4B4B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3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2E7E7FD-4DFB-4185-A58C-8C058245D995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8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FE84723-E4BD-44D1-92D7-5AAD01FDE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155B-C296-447C-B7D0-3F960DB5401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4160A-6FC2-4E91-A401-42A7C52139B0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3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4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5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9EAFE81-EEAA-4031-8155-65BDEA402DD0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CDD660-0842-47EC-85BF-77942A141630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C1D1D1-8116-413A-9ECD-E5B3F897096C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289392-4ECC-41FD-B4DE-99886975174B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D7F12B-DE6D-4ECC-BD06-45EB9AB776A9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F4DBFD-889F-4E06-A424-C6698CD432A2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C84DC6-0D54-4E1E-AA7D-114A19907949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896D16-9FCC-4C93-948A-16B3D95EAF1D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9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EF2D91-EA68-4381-A0B2-3C31664C85FF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43F112-8EC1-4C19-A423-D64F3AB5907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27DA-AD9F-4242-AC5A-CACCF783CDF5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75819B-5806-495C-98DE-755DAA410E05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1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53BC33-8D82-4770-B5E7-BDD60BFBA23C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6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7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8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3A6927-AA3A-40BE-80D0-64038C4F8BA0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E4C6295-D59A-45C8-B82B-211E4C4947D0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5F2014E-CABE-498E-9B7B-69911B0D9B8F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8601770-D2A1-467C-A48E-843ED320FEF5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CC39252-CF55-496D-B9F9-5F295A094008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54CF1E4-DB06-4449-B2AD-BE4893992B15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644AE27-E89C-45AD-AB69-03B843FF0B1B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F69FC66-BB80-4E53-BA34-C4BDAC07905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0EA6-B910-40D8-AAB5-E442C496AA0E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4EC54BF-1536-4631-ACED-72AE84735B95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94AC1AE-256F-4C8C-8B8C-E2530150E509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066B240-427D-40BA-9405-EAF28595FCAC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A010259-C455-4894-9904-9F211743A35E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6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6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6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878F8A1-2404-44C2-B30E-1C821601CC7C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DF943E4-023F-41B0-983D-62673E3BDF5F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9512129-B52C-4A04-B4D1-DFB0ED409E5C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2AAB0A2-B61A-4727-8D94-8A560AFB9F48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11253E6-E1EC-4BFC-A7AD-96834C3ACEC8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ED4BDCC-6DD9-4743-91C5-3831DB29F70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FC11-8A20-4C8D-BA4E-2A1266879DB7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CE2D8B9-59F8-43DC-9D08-1227A223AA1D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0C53430-4E13-46B9-A9CB-43B807F79117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4D81F1B-20AD-4E07-A498-27554CE21DA2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A428168-F7AE-49FD-993E-E0ADDDEF5326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61137B8-95B2-49C4-B293-A8EE87D6AA38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A14609E-570F-40A3-8C92-63751F7FF95E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DD2611-1C31-4BBE-AFEE-563CA1CDB5CA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88B750-8A6C-4998-BDBB-27BBD733857B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12C545-F8BA-4083-8E56-BA6BAD5E0DEE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866988-6351-405B-8773-D2D090BC60B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39FC-A334-4521-9033-FA6949FE5479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408A1A-061D-4EBA-8744-562F3399C8AB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8806C9-0290-4679-9034-C70D10CA3255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501008-FE3B-45F7-8468-39A8BF1587A5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E15DA3-8905-46F4-B4F2-4110F3ABE853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1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5E2648-B578-419B-A17D-3D4EC34EFDB1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44D8DF-4546-470B-BA18-16C637260002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8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C5BBF6-9110-4B42-8930-E61A26D2FAC5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3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676DEF-F838-40BE-97EF-903DF4A319DF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8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9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0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9E62B3-E43C-4881-82A7-95B1BA5048E7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FBB5134-BA11-411A-9452-B0B989484B7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5ABB-C81B-483E-9377-1300B6F356CD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644ACD2-3A41-4AE3-B542-1819B67DE759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6A3124F-8237-43C3-BC2C-B998C1CB78F1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A98E027-FDD6-4872-B093-17984D2458DC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AF65398-F03A-4975-8AAD-BD4D80BD0735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7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09C8868-B1D8-4E04-9AF8-BA7945084E5B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E0E5633-4309-44F4-84F5-AD5C6CB91FA5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5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1C1A450-C298-49E6-A9AE-00AB2401C9F3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05CA7CF-BB04-4354-A37D-CB2A53709710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2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D25E33A-A334-4AB2-AEF9-6CCF12ABF037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7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EEF8786-CF02-4F05-934D-B1B41A102BB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743A-E108-4E1C-BDAB-C8464F0583DF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2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3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4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30B1B8A-C7D1-4D97-A98C-DF67535AA773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793D1D3-6E4F-4617-B128-E5484A274B44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31D0712-C259-402E-B945-DA6F3C9E2DED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819B82F-121E-4DA6-856B-95CB9C346A58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D3B8151-895B-4158-8157-4FED2A2C021B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D019A97-D7E0-4239-8341-E94142C3274E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00C73B0-D1E9-430D-8158-1BC80710DB2D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A399A92-6D62-494A-A73A-954A5F71738C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9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05F0FDF-4757-4E4D-881E-0B99A93B2534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08B89A5-077A-42F3-84CB-323A9502286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765A-0A08-4F4C-827B-90882C7DA09C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6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E9ED3A3-4454-4681-ADD3-1EE2D217C763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1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50D3023-B5AE-48CB-AB30-5282D8948934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6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7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8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EC40F49-81FC-40E2-8152-AA2863561D38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B7959E-4DCB-48AE-92DB-AE2778BBEDFF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D97A65-0705-43FB-939F-ED2A1C5FFB6E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F46D7E-4405-4354-8082-4A05356C6664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290E11-A1C5-463E-A15B-722CA80209CB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5474D4-B945-44B9-83DC-FDFFF0A3F982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866B22-36CD-4705-A320-CF39191D50E8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0146DC-2EA5-4C35-B50A-C3AD16B3BC1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FFB9-A7EB-48CE-9081-BF99CF8EBC96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98DA30-9DC6-4A94-BC2E-5A66C4005407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B72746-EC48-4B0C-AB18-2D2B5A62F82A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705C9A-7E4B-4DDA-AEFE-69D27B168E57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235057-C807-48F4-B3A8-1B638FF37F89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C8E374-02A6-423C-AA85-4F9D8BCBE4CB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8AA5B92-2885-4B73-BE19-14E4A9517794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05F175A-597E-40D8-BD1B-0E6239CAF661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C0231E2-D47B-4A93-AD71-89B2C91BC09F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FE513B4-0074-46C8-BF3C-9C8837E24860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C41F197-0DE9-4FBB-8179-C967EB9F249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548C-D1BF-4B3D-8B18-13AC8BE8AFEA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A5C2E8E-212C-4F67-BF16-9AE903DEFC31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4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352EA6F-38C9-439C-8650-FD99523029B6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4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F813BD2-1398-4635-B928-7C6DD4EC9FF8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9A6E40E-5624-41DF-94E3-3384DA799126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3190337-88C7-472F-9A4C-235A8F0405E4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DD40DD5-F59F-4F5C-99E6-21E911BD6A2E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FB98E42-F4C8-4D51-ACA3-F89912BCC820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1E724A3-E0A6-4FDA-B7D2-0D4C4ADE062B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C2531C3-C0AE-4743-91EF-35508A03811C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3C679FF-245C-47EC-8FE4-E3480B945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DCBD-A8D6-4779-A20A-EB5E881AEC9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D0F4-7323-4395-B72E-26E56E4E185D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218F94F-ABDD-48FE-8F27-5E391E4E9900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FDC8C6A-E467-4F13-B5CF-40E79CE479C1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3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A7EEF65-9FD1-456A-B192-077090532F91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D066BB8-C3DC-49DA-9B6B-55F49DA7E4A6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1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1B2E1AF-BDF5-4E79-BB14-D7FCE68B6639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1CEC5DD-37F3-4C0B-89C3-199F55350D71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8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2A49B80-F5F0-46A5-9797-7C61EC25C0EA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3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0E7875C-12F0-4EB3-B9D4-38F281ADF014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8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9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0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0EEABAC-C3AD-4DBB-934F-3669E7F15E9B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61562E-6096-4E93-A69F-85226EC3707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7B15-9A8E-4E3C-BFDD-6D9D6182B560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7025FF-F690-4EB6-8CF7-E65A55FC9AD4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E25A43-56DB-43FA-8946-727C4F564687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7668DE-0871-450F-BDA6-97967DA50E92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96B3C6-D28E-48CD-AFEF-ED6EDD2EB39E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AA886E-156A-4AF5-8FF6-9A22796959CA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2C2949-40B1-44CA-8B71-628E87FC551E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5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E90EFF-217D-47DA-90A2-5DDE8F64A8B5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6AADC5-FBFC-4AD6-8335-709302FB3D32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2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35985B-22DE-4875-97CA-58FF8588E3BA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7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15CEFC-385C-4146-8E55-AD5AE62CCAC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4D8C-6A03-4364-8284-1772EDD29239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2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3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4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FDB8C0-3D00-4373-9240-BBD18B74C94A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36EE749-8F5C-45EE-8CF7-334EA301D35F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1FB1A0B-BF96-4D05-8C26-6B47522C9DF1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7BB754E-CAB4-4789-B39D-414698987278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A033481-676B-42B0-BA2E-A0E5BFDB0438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609106C-B443-449E-9DBA-75FA719B8531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1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A765FDB-7439-45AA-A487-7DBEAAB54640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9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AFA7E8A-EEFD-43A1-9939-F3807090BCEB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99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7BFA67C-5057-48E5-B64A-84D13DA5710E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0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025FC4D-83ED-4D00-BECA-5A2D0FCD367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D72FB6-F097-485A-A1DD-3C05AF602F5C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06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ED6E7E2-86B4-4060-A145-3560C7A42AC0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0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1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C14BD89-D132-43DB-94A3-F18372ECAFAE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6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7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8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4F0E1D9-5C33-460A-913E-47422FD40A69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A9E9C02-1BB3-4750-9772-1383750B4131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3DA4286-D149-4B3B-947E-30FE8464AD88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0ED99FC-A205-4D9B-AA23-9C5F6F286433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A2D9F66-12BE-40CC-94B3-1D1C5328C2CD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80F1D9E-C13D-4317-8DD1-0077F0ECA8D5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AB7971D-0B2F-4AE1-8BC1-0D45642073D7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8FC347C-9ED6-4BF6-849D-433AA3007BF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5D2978-D381-48A0-ACA0-BBA0895EA340}" type="slidenum">
              <a:t>&lt;#&gt;</a:t>
            </a:fld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ADB6176-0EA9-421F-95B9-A0AC46F540C0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A1DDB6C-4891-46D8-A8C1-23B0970038EF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11168F0-4945-4D4C-A9C6-501CD096FAE0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261EB4D-744A-4DBF-A7C9-C3EE919E1D87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177DA59-3778-4A59-9812-9DC08350F3C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DBD160-52B9-48E2-AC9A-10864E509CF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49B692-BAA8-425D-A45D-3C1E41883DF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E75912-E519-40F6-A60E-6FBAE36677E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E66898-39CB-4DBE-8856-ACFBF6FB06E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068F1B-A060-4553-8899-B5C1B689A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7414-60FB-444E-9A38-16D42015AA9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0DE9EF-DC4E-4FE0-9723-0F4B3C400A6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A692DD-9124-467D-86AD-97A4326CDFF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47AEFA-35FC-43AE-8BE2-40DD5381049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108CD6-2F70-45E9-BB29-F72E1475147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D3C955-C01F-4DA7-AB03-5C50E601C68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74628-FBE1-4134-A9BC-81BE99C44E9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4427C-F6DB-4B15-A194-8CB6263AFA0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E568D-E547-49BC-AD33-AB6ADACCF35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A3CDC-A225-4BE1-AC4E-39E4D33E661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D1FD8-F424-4B32-B977-C0E37B58D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9491E-2376-4461-BAF2-6995BC029A3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8BEFA-F3FC-4AAD-A1D2-B86EF20B979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820974-3AF1-4CE4-8132-E6895807597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9D82C-6CCC-470B-8B05-C0192A3615F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808DC4-1024-4739-8775-A9CD6FCDA7F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CC873-144F-4137-BB45-3BA1183388A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4D81D-4B71-4C42-B7FD-13BEB92AF69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8091B-2719-4DA2-91DF-CC11798A5E5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5BFFC-39FA-42A1-94DC-264534B7D80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E2B89-0EF3-4FF2-92C2-2283A40EFA5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3C50E-70C9-4459-9820-63052CCCE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8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3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4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8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2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6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5E7A06-D9CE-4FDF-9A99-F1E36DB244A4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756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57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758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9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0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61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62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763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4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5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6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7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768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769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70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71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772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773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4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5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76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777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8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9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80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781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2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3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84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5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6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7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8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9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0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1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2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3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4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5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6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7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0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19ECDB6-A8E8-45C4-AB39-30CA89065603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840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41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842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3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4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45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46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847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8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9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0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1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852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853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54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55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856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857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8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9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860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861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2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3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864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865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6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7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68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9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0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1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2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3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4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5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6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7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8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9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0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1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4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5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CA5A1C7-BF99-4ED6-BEC1-BCECC497F868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924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25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926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7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8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29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0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931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2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3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4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5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936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937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38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39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940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941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2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3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44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945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6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7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48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949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0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1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52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3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4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5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6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7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8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9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0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1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2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3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4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5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8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9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6A18F3B-27ED-4973-9C5F-CC2B72DC0415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008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09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010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1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2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13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14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015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6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7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8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9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020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021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22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23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24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025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6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7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28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029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0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1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32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033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4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5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36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7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8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9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0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1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2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3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4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5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6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7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8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9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2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3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F91D825-D29A-4A74-B1CD-1E1878C5B8B4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1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092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93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094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5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6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97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98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099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0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1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2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3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04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105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06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07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108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109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0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1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112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113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4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5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116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117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8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9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20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1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2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3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4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5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6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7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8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9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0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1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2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3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6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7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33D0037-D414-473E-B857-1C168D41D99A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5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176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77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178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9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0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81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82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183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4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5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6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7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8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189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90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91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192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193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94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95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196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197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98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99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00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201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02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03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204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7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8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9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0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1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2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3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4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5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6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7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0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1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9B6DC17-9237-45D3-9334-41A392E20920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9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260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61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262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3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4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265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66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267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8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9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0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1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272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273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74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75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276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277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8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9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80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281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2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3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84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285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6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7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288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9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0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1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2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3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4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5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6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7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8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9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0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1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4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5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FEBAB3C-94EE-41F2-ABDF-CC8AF2341E65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3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344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45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346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7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8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49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50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351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2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3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4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5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356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357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58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59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360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361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2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3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364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365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6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7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368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369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0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1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72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3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4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5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6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7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8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9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0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1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2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3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4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5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8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9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343C02A-534F-49FF-91C3-5C042A136052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7" name="Group 1"/>
          <p:cNvGrpSpPr/>
          <p:nvPr/>
        </p:nvGrpSpPr>
        <p:grpSpPr>
          <a:xfrm>
            <a:off x="-39240" y="-338400"/>
            <a:ext cx="9405720" cy="7194960"/>
            <a:chOff x="-39240" y="-338400"/>
            <a:chExt cx="9405720" cy="7194960"/>
          </a:xfrm>
        </p:grpSpPr>
        <p:grpSp>
          <p:nvGrpSpPr>
            <p:cNvPr id="1428" name="Group 2"/>
            <p:cNvGrpSpPr/>
            <p:nvPr/>
          </p:nvGrpSpPr>
          <p:grpSpPr>
            <a:xfrm>
              <a:off x="4833720" y="-338400"/>
              <a:ext cx="4532760" cy="6543360"/>
              <a:chOff x="4833720" y="-338400"/>
              <a:chExt cx="4532760" cy="6543360"/>
            </a:xfrm>
          </p:grpSpPr>
          <p:sp>
            <p:nvSpPr>
              <p:cNvPr id="1429" name="Freeform 3"/>
              <p:cNvSpPr/>
              <p:nvPr/>
            </p:nvSpPr>
            <p:spPr>
              <a:xfrm flipV="1" rot="12000000">
                <a:off x="6247800" y="62280"/>
                <a:ext cx="2780280" cy="24678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30" name="Freeform 4"/>
              <p:cNvSpPr/>
              <p:nvPr/>
            </p:nvSpPr>
            <p:spPr>
              <a:xfrm flipV="1" rot="12000000">
                <a:off x="7352280" y="1752480"/>
                <a:ext cx="1190160" cy="88164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31" name="Freeform 5"/>
              <p:cNvSpPr/>
              <p:nvPr/>
            </p:nvSpPr>
            <p:spPr>
              <a:xfrm flipV="1" rot="12000000">
                <a:off x="6570000" y="2414520"/>
                <a:ext cx="576000" cy="41256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32" name="Freeform 6"/>
              <p:cNvSpPr/>
              <p:nvPr/>
            </p:nvSpPr>
            <p:spPr>
              <a:xfrm flipV="1" rot="12000000">
                <a:off x="7128360" y="403200"/>
                <a:ext cx="509400" cy="57492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33" name="Freeform 7"/>
              <p:cNvSpPr/>
              <p:nvPr/>
            </p:nvSpPr>
            <p:spPr>
              <a:xfrm flipV="1" rot="12000000">
                <a:off x="7001280" y="2467800"/>
                <a:ext cx="212760" cy="34560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34" name="Freeform 8"/>
              <p:cNvSpPr/>
              <p:nvPr/>
            </p:nvSpPr>
            <p:spPr>
              <a:xfrm flipV="1" rot="12000000">
                <a:off x="6980760" y="995400"/>
                <a:ext cx="248400" cy="1479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35" name="Freeform 9"/>
              <p:cNvSpPr/>
              <p:nvPr/>
            </p:nvSpPr>
            <p:spPr>
              <a:xfrm flipV="1" rot="12000000">
                <a:off x="5398560" y="2768040"/>
                <a:ext cx="686880" cy="34221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436" name="Freeform 10"/>
            <p:cNvSpPr/>
            <p:nvPr/>
          </p:nvSpPr>
          <p:spPr>
            <a:xfrm flipH="1" rot="360000">
              <a:off x="12960" y="3107880"/>
              <a:ext cx="512280" cy="102924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7" name="Freeform 11"/>
            <p:cNvSpPr/>
            <p:nvPr/>
          </p:nvSpPr>
          <p:spPr>
            <a:xfrm>
              <a:off x="246600" y="2000160"/>
              <a:ext cx="2001240" cy="243072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8" name="Freeform 12"/>
            <p:cNvSpPr/>
            <p:nvPr/>
          </p:nvSpPr>
          <p:spPr>
            <a:xfrm>
              <a:off x="-20520" y="4143240"/>
              <a:ext cx="1272960" cy="72720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9" name="Freeform 13"/>
            <p:cNvSpPr/>
            <p:nvPr/>
          </p:nvSpPr>
          <p:spPr>
            <a:xfrm flipH="1" rot="360000">
              <a:off x="1407960" y="4533480"/>
              <a:ext cx="561600" cy="7351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0" name="Freeform 14"/>
            <p:cNvSpPr/>
            <p:nvPr/>
          </p:nvSpPr>
          <p:spPr>
            <a:xfrm flipH="1" rot="360000">
              <a:off x="1248120" y="4730400"/>
              <a:ext cx="136440" cy="4338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1" name="Freeform 15"/>
            <p:cNvSpPr/>
            <p:nvPr/>
          </p:nvSpPr>
          <p:spPr>
            <a:xfrm>
              <a:off x="1872720" y="5195880"/>
              <a:ext cx="1761120" cy="166068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442" name="Group 16"/>
            <p:cNvGrpSpPr/>
            <p:nvPr/>
          </p:nvGrpSpPr>
          <p:grpSpPr>
            <a:xfrm>
              <a:off x="3988440" y="920520"/>
              <a:ext cx="1271160" cy="1391400"/>
              <a:chOff x="3988440" y="920520"/>
              <a:chExt cx="1271160" cy="1391400"/>
            </a:xfrm>
          </p:grpSpPr>
          <p:sp>
            <p:nvSpPr>
              <p:cNvPr id="1443" name="Freeform 17"/>
              <p:cNvSpPr/>
              <p:nvPr/>
            </p:nvSpPr>
            <p:spPr>
              <a:xfrm rot="3240000">
                <a:off x="4538520" y="939240"/>
                <a:ext cx="304200" cy="505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4" name="Freeform 18"/>
              <p:cNvSpPr/>
              <p:nvPr/>
            </p:nvSpPr>
            <p:spPr>
              <a:xfrm rot="3240000">
                <a:off x="4676400" y="1518840"/>
                <a:ext cx="522000" cy="417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5" name="Freeform 19"/>
              <p:cNvSpPr/>
              <p:nvPr/>
            </p:nvSpPr>
            <p:spPr>
              <a:xfrm rot="3240000">
                <a:off x="3961800" y="1922400"/>
                <a:ext cx="545760" cy="212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446" name="Group 20"/>
            <p:cNvGrpSpPr/>
            <p:nvPr/>
          </p:nvGrpSpPr>
          <p:grpSpPr>
            <a:xfrm>
              <a:off x="5615280" y="280080"/>
              <a:ext cx="969120" cy="916200"/>
              <a:chOff x="5615280" y="280080"/>
              <a:chExt cx="969120" cy="916200"/>
            </a:xfrm>
          </p:grpSpPr>
          <p:sp>
            <p:nvSpPr>
              <p:cNvPr id="1447" name="Freeform 21"/>
              <p:cNvSpPr/>
              <p:nvPr/>
            </p:nvSpPr>
            <p:spPr>
              <a:xfrm rot="14880000">
                <a:off x="5736960" y="835560"/>
                <a:ext cx="194040" cy="393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8" name="Freeform 22"/>
              <p:cNvSpPr/>
              <p:nvPr/>
            </p:nvSpPr>
            <p:spPr>
              <a:xfrm rot="14880000">
                <a:off x="5680440" y="484200"/>
                <a:ext cx="335520" cy="3258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9" name="Freeform 23"/>
              <p:cNvSpPr/>
              <p:nvPr/>
            </p:nvSpPr>
            <p:spPr>
              <a:xfrm rot="14880000">
                <a:off x="6266520" y="390960"/>
                <a:ext cx="351000" cy="164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450" name="Group 24"/>
            <p:cNvGrpSpPr/>
            <p:nvPr/>
          </p:nvGrpSpPr>
          <p:grpSpPr>
            <a:xfrm>
              <a:off x="932400" y="5155560"/>
              <a:ext cx="1162800" cy="1063080"/>
              <a:chOff x="932400" y="5155560"/>
              <a:chExt cx="1162800" cy="1063080"/>
            </a:xfrm>
          </p:grpSpPr>
          <p:sp>
            <p:nvSpPr>
              <p:cNvPr id="1451" name="Freeform 25"/>
              <p:cNvSpPr/>
              <p:nvPr/>
            </p:nvSpPr>
            <p:spPr>
              <a:xfrm rot="8520000">
                <a:off x="1731240" y="5484240"/>
                <a:ext cx="266040" cy="408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2" name="Freeform 26"/>
              <p:cNvSpPr/>
              <p:nvPr/>
            </p:nvSpPr>
            <p:spPr>
              <a:xfrm rot="8520000">
                <a:off x="1184400" y="5775480"/>
                <a:ext cx="454320" cy="339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3" name="Freeform 27"/>
              <p:cNvSpPr/>
              <p:nvPr/>
            </p:nvSpPr>
            <p:spPr>
              <a:xfrm rot="8520000">
                <a:off x="934920" y="5283000"/>
                <a:ext cx="474840" cy="172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454" name="Group 28"/>
            <p:cNvGrpSpPr/>
            <p:nvPr/>
          </p:nvGrpSpPr>
          <p:grpSpPr>
            <a:xfrm>
              <a:off x="222120" y="369000"/>
              <a:ext cx="1863360" cy="1271880"/>
              <a:chOff x="222120" y="369000"/>
              <a:chExt cx="1863360" cy="1271880"/>
            </a:xfrm>
          </p:grpSpPr>
          <p:sp>
            <p:nvSpPr>
              <p:cNvPr id="1455" name="Freeform 29"/>
              <p:cNvSpPr/>
              <p:nvPr/>
            </p:nvSpPr>
            <p:spPr>
              <a:xfrm flipH="1" rot="4140000">
                <a:off x="1545120" y="1059840"/>
                <a:ext cx="393480" cy="584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6" name="Freeform 30"/>
              <p:cNvSpPr/>
              <p:nvPr/>
            </p:nvSpPr>
            <p:spPr>
              <a:xfrm flipH="1" rot="4140000">
                <a:off x="931680" y="528120"/>
                <a:ext cx="676080" cy="486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7" name="Freeform 31"/>
              <p:cNvSpPr/>
              <p:nvPr/>
            </p:nvSpPr>
            <p:spPr>
              <a:xfrm flipH="1" rot="4140000">
                <a:off x="110880" y="1102320"/>
                <a:ext cx="706320" cy="247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458" name="Group 32"/>
            <p:cNvGrpSpPr/>
            <p:nvPr/>
          </p:nvGrpSpPr>
          <p:grpSpPr>
            <a:xfrm>
              <a:off x="7333560" y="3620520"/>
              <a:ext cx="1260720" cy="1719360"/>
              <a:chOff x="7333560" y="3620520"/>
              <a:chExt cx="1260720" cy="1719360"/>
            </a:xfrm>
          </p:grpSpPr>
          <p:sp>
            <p:nvSpPr>
              <p:cNvPr id="1459" name="Freeform 33"/>
              <p:cNvSpPr/>
              <p:nvPr/>
            </p:nvSpPr>
            <p:spPr>
              <a:xfrm flipH="1" rot="10020000">
                <a:off x="7391880" y="4739040"/>
                <a:ext cx="387000" cy="564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0" name="Freeform 34"/>
              <p:cNvSpPr/>
              <p:nvPr/>
            </p:nvSpPr>
            <p:spPr>
              <a:xfrm flipH="1" rot="10020000">
                <a:off x="7885440" y="4417200"/>
                <a:ext cx="664560" cy="470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1" name="Freeform 35"/>
              <p:cNvSpPr/>
              <p:nvPr/>
            </p:nvSpPr>
            <p:spPr>
              <a:xfrm flipH="1" rot="10020000">
                <a:off x="7553520" y="3695400"/>
                <a:ext cx="694080" cy="239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462" name="Freeform 36"/>
            <p:cNvSpPr/>
            <p:nvPr/>
          </p:nvSpPr>
          <p:spPr>
            <a:xfrm>
              <a:off x="1915920" y="3240"/>
              <a:ext cx="1369440" cy="14047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3" name="Freeform 37"/>
            <p:cNvSpPr/>
            <p:nvPr/>
          </p:nvSpPr>
          <p:spPr>
            <a:xfrm flipV="1" rot="9840000">
              <a:off x="3414240" y="164160"/>
              <a:ext cx="1081440" cy="9396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4" name="Freeform 38"/>
            <p:cNvSpPr/>
            <p:nvPr/>
          </p:nvSpPr>
          <p:spPr>
            <a:xfrm flipV="1" rot="9840000">
              <a:off x="3158280" y="1361880"/>
              <a:ext cx="523080" cy="4392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5" name="Freeform 39"/>
            <p:cNvSpPr/>
            <p:nvPr/>
          </p:nvSpPr>
          <p:spPr>
            <a:xfrm flipV="1" rot="9840000">
              <a:off x="3519360" y="1285200"/>
              <a:ext cx="194040" cy="3682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6" name="Freeform 40"/>
            <p:cNvSpPr/>
            <p:nvPr/>
          </p:nvSpPr>
          <p:spPr>
            <a:xfrm>
              <a:off x="2530080" y="0"/>
              <a:ext cx="195480" cy="1904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7" name="Freeform 41"/>
            <p:cNvSpPr/>
            <p:nvPr/>
          </p:nvSpPr>
          <p:spPr>
            <a:xfrm flipV="1" rot="9840000">
              <a:off x="3439080" y="1964520"/>
              <a:ext cx="623520" cy="365004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8" name="Freeform 42"/>
            <p:cNvSpPr/>
            <p:nvPr/>
          </p:nvSpPr>
          <p:spPr>
            <a:xfrm>
              <a:off x="-20520" y="2933640"/>
              <a:ext cx="55440" cy="20808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1" name="Text Box 4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2" name="Text Box 4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704C600-DED3-4D73-BD78-FACA968255F8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0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511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512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513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4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5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16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517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518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9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0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1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2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523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524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25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26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527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528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9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0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31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532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3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4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35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536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7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8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39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0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1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2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3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4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5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6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7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8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9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0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1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2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5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6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5ED64FE-57B9-4342-B32D-E3B91F5032D9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85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6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87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0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1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92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97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98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9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1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02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5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06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10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9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5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6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F4A1206-0A5A-4512-A801-DF89CFC5F8BB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4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595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596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597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8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9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600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01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602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3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4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5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6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607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608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09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10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611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612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3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4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615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616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7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8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619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620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1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2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623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4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5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6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7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8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9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0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1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2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3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4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5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6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9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0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2D4EFD8-E406-45E2-963C-429E3308C9AC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8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679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80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681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2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3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684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85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686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7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8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9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90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691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692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93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94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695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696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97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98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699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700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1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2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703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704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5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6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707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08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09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0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1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2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3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4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5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6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7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8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9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0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3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4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89A0F5F-2132-4AB0-A18F-92C23C2C8EBD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2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763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64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765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66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67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768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69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770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1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2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3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4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775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776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77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78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79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780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1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2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783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784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5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6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787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788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9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90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791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2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3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4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5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6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7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8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9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0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1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2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3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4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7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8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903EF19-D2C4-4A67-9741-BB0B370336A5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6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847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848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849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0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1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52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853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854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5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6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7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8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859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860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861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862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863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864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65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66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867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868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69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0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871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872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3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4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75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6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7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8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9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0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1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2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3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4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5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6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7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8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1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2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C9D2D1D-1E76-48F9-AAF5-BC193819B1B2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0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931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932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933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4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5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936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937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938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9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0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1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2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943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944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945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946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947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948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9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0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51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952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3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4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55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956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7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8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959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0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1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2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3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4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5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6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7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8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9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0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1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2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5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6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6CF28AD-79E2-46B0-9CAE-132DD5077DCF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4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015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016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017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8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9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020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021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022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3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4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5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6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027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028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029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030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031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032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3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4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035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036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7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8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039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040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1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2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043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4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5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6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7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8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9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0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1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2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3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4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5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6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9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0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7BB20DC-3DD7-45F3-946A-AFD930E1DAD1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8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099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100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101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2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3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104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105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106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7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8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9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0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111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112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13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14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115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116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7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8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119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120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1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2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123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124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5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6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127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28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29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0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1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2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3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4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5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6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7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8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9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40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3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E1E0E3D-DC28-4FD7-9DBB-31C745D91239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183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184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185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6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7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188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189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190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1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2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3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4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195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196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97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98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199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200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1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2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203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204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5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6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207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208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9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0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211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2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3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4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5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6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7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8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9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0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1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2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3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4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7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8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721B0A9-4FA7-4967-8BA6-A46F968115D1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6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267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268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269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0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1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272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273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274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5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6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7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8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279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280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281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282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283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284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85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86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287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288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89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0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291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292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3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4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295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6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7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8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9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0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1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2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3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4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5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6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7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8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1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2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D5DFF23-450F-490A-96A0-679290999703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0" name="Group 1"/>
          <p:cNvGrpSpPr/>
          <p:nvPr/>
        </p:nvGrpSpPr>
        <p:grpSpPr>
          <a:xfrm>
            <a:off x="-39240" y="-338400"/>
            <a:ext cx="9405720" cy="7194960"/>
            <a:chOff x="-39240" y="-338400"/>
            <a:chExt cx="9405720" cy="7194960"/>
          </a:xfrm>
        </p:grpSpPr>
        <p:grpSp>
          <p:nvGrpSpPr>
            <p:cNvPr id="2351" name="Group 2"/>
            <p:cNvGrpSpPr/>
            <p:nvPr/>
          </p:nvGrpSpPr>
          <p:grpSpPr>
            <a:xfrm>
              <a:off x="4833720" y="-338400"/>
              <a:ext cx="4532760" cy="6543360"/>
              <a:chOff x="4833720" y="-338400"/>
              <a:chExt cx="4532760" cy="6543360"/>
            </a:xfrm>
          </p:grpSpPr>
          <p:sp>
            <p:nvSpPr>
              <p:cNvPr id="2352" name="Freeform 3"/>
              <p:cNvSpPr/>
              <p:nvPr/>
            </p:nvSpPr>
            <p:spPr>
              <a:xfrm flipV="1" rot="12000000">
                <a:off x="6247800" y="62280"/>
                <a:ext cx="2780280" cy="24678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3" name="Freeform 4"/>
              <p:cNvSpPr/>
              <p:nvPr/>
            </p:nvSpPr>
            <p:spPr>
              <a:xfrm flipV="1" rot="12000000">
                <a:off x="7352280" y="1752480"/>
                <a:ext cx="1190160" cy="88164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4" name="Freeform 5"/>
              <p:cNvSpPr/>
              <p:nvPr/>
            </p:nvSpPr>
            <p:spPr>
              <a:xfrm flipV="1" rot="12000000">
                <a:off x="6570000" y="2414520"/>
                <a:ext cx="576000" cy="41256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5" name="Freeform 6"/>
              <p:cNvSpPr/>
              <p:nvPr/>
            </p:nvSpPr>
            <p:spPr>
              <a:xfrm flipV="1" rot="12000000">
                <a:off x="7128360" y="403200"/>
                <a:ext cx="509400" cy="57492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6" name="Freeform 7"/>
              <p:cNvSpPr/>
              <p:nvPr/>
            </p:nvSpPr>
            <p:spPr>
              <a:xfrm flipV="1" rot="12000000">
                <a:off x="7001280" y="2467800"/>
                <a:ext cx="212760" cy="34560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7" name="Freeform 8"/>
              <p:cNvSpPr/>
              <p:nvPr/>
            </p:nvSpPr>
            <p:spPr>
              <a:xfrm flipV="1" rot="12000000">
                <a:off x="6980760" y="995400"/>
                <a:ext cx="248400" cy="1479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8" name="Freeform 9"/>
              <p:cNvSpPr/>
              <p:nvPr/>
            </p:nvSpPr>
            <p:spPr>
              <a:xfrm flipV="1" rot="12000000">
                <a:off x="5398560" y="2768040"/>
                <a:ext cx="686880" cy="34221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359" name="Freeform 10"/>
            <p:cNvSpPr/>
            <p:nvPr/>
          </p:nvSpPr>
          <p:spPr>
            <a:xfrm flipH="1" rot="360000">
              <a:off x="12960" y="3107880"/>
              <a:ext cx="512280" cy="102924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0" name="Freeform 11"/>
            <p:cNvSpPr/>
            <p:nvPr/>
          </p:nvSpPr>
          <p:spPr>
            <a:xfrm>
              <a:off x="246600" y="2000160"/>
              <a:ext cx="2001240" cy="243072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1" name="Freeform 12"/>
            <p:cNvSpPr/>
            <p:nvPr/>
          </p:nvSpPr>
          <p:spPr>
            <a:xfrm>
              <a:off x="-20520" y="4143240"/>
              <a:ext cx="1272960" cy="72720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2" name="Freeform 13"/>
            <p:cNvSpPr/>
            <p:nvPr/>
          </p:nvSpPr>
          <p:spPr>
            <a:xfrm flipH="1" rot="360000">
              <a:off x="1407960" y="4533480"/>
              <a:ext cx="561600" cy="7351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3" name="Freeform 14"/>
            <p:cNvSpPr/>
            <p:nvPr/>
          </p:nvSpPr>
          <p:spPr>
            <a:xfrm flipH="1" rot="360000">
              <a:off x="1248120" y="4730400"/>
              <a:ext cx="136440" cy="4338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4" name="Freeform 15"/>
            <p:cNvSpPr/>
            <p:nvPr/>
          </p:nvSpPr>
          <p:spPr>
            <a:xfrm>
              <a:off x="1872720" y="5195880"/>
              <a:ext cx="1761120" cy="166068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365" name="Group 16"/>
            <p:cNvGrpSpPr/>
            <p:nvPr/>
          </p:nvGrpSpPr>
          <p:grpSpPr>
            <a:xfrm>
              <a:off x="3988440" y="920520"/>
              <a:ext cx="1271160" cy="1391400"/>
              <a:chOff x="3988440" y="920520"/>
              <a:chExt cx="1271160" cy="1391400"/>
            </a:xfrm>
          </p:grpSpPr>
          <p:sp>
            <p:nvSpPr>
              <p:cNvPr id="2366" name="Freeform 17"/>
              <p:cNvSpPr/>
              <p:nvPr/>
            </p:nvSpPr>
            <p:spPr>
              <a:xfrm rot="3240000">
                <a:off x="4538520" y="939240"/>
                <a:ext cx="304200" cy="505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7" name="Freeform 18"/>
              <p:cNvSpPr/>
              <p:nvPr/>
            </p:nvSpPr>
            <p:spPr>
              <a:xfrm rot="3240000">
                <a:off x="4676400" y="1518840"/>
                <a:ext cx="522000" cy="417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8" name="Freeform 19"/>
              <p:cNvSpPr/>
              <p:nvPr/>
            </p:nvSpPr>
            <p:spPr>
              <a:xfrm rot="3240000">
                <a:off x="3961800" y="1922400"/>
                <a:ext cx="545760" cy="212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369" name="Group 20"/>
            <p:cNvGrpSpPr/>
            <p:nvPr/>
          </p:nvGrpSpPr>
          <p:grpSpPr>
            <a:xfrm>
              <a:off x="5615280" y="280080"/>
              <a:ext cx="969120" cy="916200"/>
              <a:chOff x="5615280" y="280080"/>
              <a:chExt cx="969120" cy="916200"/>
            </a:xfrm>
          </p:grpSpPr>
          <p:sp>
            <p:nvSpPr>
              <p:cNvPr id="2370" name="Freeform 21"/>
              <p:cNvSpPr/>
              <p:nvPr/>
            </p:nvSpPr>
            <p:spPr>
              <a:xfrm rot="14880000">
                <a:off x="5736960" y="835560"/>
                <a:ext cx="194040" cy="393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1" name="Freeform 22"/>
              <p:cNvSpPr/>
              <p:nvPr/>
            </p:nvSpPr>
            <p:spPr>
              <a:xfrm rot="14880000">
                <a:off x="5680440" y="484200"/>
                <a:ext cx="335520" cy="3258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2" name="Freeform 23"/>
              <p:cNvSpPr/>
              <p:nvPr/>
            </p:nvSpPr>
            <p:spPr>
              <a:xfrm rot="14880000">
                <a:off x="6266520" y="390960"/>
                <a:ext cx="351000" cy="164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373" name="Group 24"/>
            <p:cNvGrpSpPr/>
            <p:nvPr/>
          </p:nvGrpSpPr>
          <p:grpSpPr>
            <a:xfrm>
              <a:off x="932400" y="5155560"/>
              <a:ext cx="1162800" cy="1063080"/>
              <a:chOff x="932400" y="5155560"/>
              <a:chExt cx="1162800" cy="1063080"/>
            </a:xfrm>
          </p:grpSpPr>
          <p:sp>
            <p:nvSpPr>
              <p:cNvPr id="2374" name="Freeform 25"/>
              <p:cNvSpPr/>
              <p:nvPr/>
            </p:nvSpPr>
            <p:spPr>
              <a:xfrm rot="8520000">
                <a:off x="1731240" y="5484240"/>
                <a:ext cx="266040" cy="408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5" name="Freeform 26"/>
              <p:cNvSpPr/>
              <p:nvPr/>
            </p:nvSpPr>
            <p:spPr>
              <a:xfrm rot="8520000">
                <a:off x="1184400" y="5775480"/>
                <a:ext cx="454320" cy="339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6" name="Freeform 27"/>
              <p:cNvSpPr/>
              <p:nvPr/>
            </p:nvSpPr>
            <p:spPr>
              <a:xfrm rot="8520000">
                <a:off x="934920" y="5283000"/>
                <a:ext cx="474840" cy="172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377" name="Group 28"/>
            <p:cNvGrpSpPr/>
            <p:nvPr/>
          </p:nvGrpSpPr>
          <p:grpSpPr>
            <a:xfrm>
              <a:off x="222120" y="369000"/>
              <a:ext cx="1863360" cy="1271880"/>
              <a:chOff x="222120" y="369000"/>
              <a:chExt cx="1863360" cy="1271880"/>
            </a:xfrm>
          </p:grpSpPr>
          <p:sp>
            <p:nvSpPr>
              <p:cNvPr id="2378" name="Freeform 29"/>
              <p:cNvSpPr/>
              <p:nvPr/>
            </p:nvSpPr>
            <p:spPr>
              <a:xfrm flipH="1" rot="4140000">
                <a:off x="1545120" y="1059840"/>
                <a:ext cx="393480" cy="584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9" name="Freeform 30"/>
              <p:cNvSpPr/>
              <p:nvPr/>
            </p:nvSpPr>
            <p:spPr>
              <a:xfrm flipH="1" rot="4140000">
                <a:off x="931680" y="528120"/>
                <a:ext cx="676080" cy="486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0" name="Freeform 31"/>
              <p:cNvSpPr/>
              <p:nvPr/>
            </p:nvSpPr>
            <p:spPr>
              <a:xfrm flipH="1" rot="4140000">
                <a:off x="110880" y="1102320"/>
                <a:ext cx="706320" cy="247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381" name="Group 32"/>
            <p:cNvGrpSpPr/>
            <p:nvPr/>
          </p:nvGrpSpPr>
          <p:grpSpPr>
            <a:xfrm>
              <a:off x="7333560" y="3620520"/>
              <a:ext cx="1260720" cy="1719360"/>
              <a:chOff x="7333560" y="3620520"/>
              <a:chExt cx="1260720" cy="1719360"/>
            </a:xfrm>
          </p:grpSpPr>
          <p:sp>
            <p:nvSpPr>
              <p:cNvPr id="2382" name="Freeform 33"/>
              <p:cNvSpPr/>
              <p:nvPr/>
            </p:nvSpPr>
            <p:spPr>
              <a:xfrm flipH="1" rot="10020000">
                <a:off x="7391880" y="4739040"/>
                <a:ext cx="387000" cy="564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3" name="Freeform 34"/>
              <p:cNvSpPr/>
              <p:nvPr/>
            </p:nvSpPr>
            <p:spPr>
              <a:xfrm flipH="1" rot="10020000">
                <a:off x="7885440" y="4417200"/>
                <a:ext cx="664560" cy="470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4" name="Freeform 35"/>
              <p:cNvSpPr/>
              <p:nvPr/>
            </p:nvSpPr>
            <p:spPr>
              <a:xfrm flipH="1" rot="10020000">
                <a:off x="7553520" y="3695400"/>
                <a:ext cx="694080" cy="239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385" name="Freeform 36"/>
            <p:cNvSpPr/>
            <p:nvPr/>
          </p:nvSpPr>
          <p:spPr>
            <a:xfrm>
              <a:off x="1915920" y="3240"/>
              <a:ext cx="1369440" cy="14047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6" name="Freeform 37"/>
            <p:cNvSpPr/>
            <p:nvPr/>
          </p:nvSpPr>
          <p:spPr>
            <a:xfrm flipV="1" rot="9840000">
              <a:off x="3414240" y="164160"/>
              <a:ext cx="1081440" cy="9396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7" name="Freeform 38"/>
            <p:cNvSpPr/>
            <p:nvPr/>
          </p:nvSpPr>
          <p:spPr>
            <a:xfrm flipV="1" rot="9840000">
              <a:off x="3158280" y="1361880"/>
              <a:ext cx="523080" cy="4392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8" name="Freeform 39"/>
            <p:cNvSpPr/>
            <p:nvPr/>
          </p:nvSpPr>
          <p:spPr>
            <a:xfrm flipV="1" rot="9840000">
              <a:off x="3519360" y="1285200"/>
              <a:ext cx="194040" cy="3682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9" name="Freeform 40"/>
            <p:cNvSpPr/>
            <p:nvPr/>
          </p:nvSpPr>
          <p:spPr>
            <a:xfrm>
              <a:off x="2530080" y="0"/>
              <a:ext cx="195480" cy="1904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0" name="Freeform 41"/>
            <p:cNvSpPr/>
            <p:nvPr/>
          </p:nvSpPr>
          <p:spPr>
            <a:xfrm flipV="1" rot="9840000">
              <a:off x="3439080" y="1964520"/>
              <a:ext cx="623520" cy="365004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1" name="Freeform 42"/>
            <p:cNvSpPr/>
            <p:nvPr/>
          </p:nvSpPr>
          <p:spPr>
            <a:xfrm>
              <a:off x="-20520" y="2933640"/>
              <a:ext cx="55440" cy="20808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4" name="Text Box 4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5" name="Text Box 4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FC4FAEB-86DD-4BCB-BEE5-27599908E33F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69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0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71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2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3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74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5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76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9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0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81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82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83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84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85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86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8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89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90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3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94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97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1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2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3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8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9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0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72E9DA6-B71D-4FFB-9D7D-38AA05D4F33D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3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434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435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436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37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38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439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440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441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42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43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44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45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446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447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448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449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450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451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52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53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454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455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56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57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458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459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60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61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462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3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4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5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6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7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8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9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0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1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2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3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4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5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8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9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EF4EE32-9A47-47BA-8E88-4872E2A44EF6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7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518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519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520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21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22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523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524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525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26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27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28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29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530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531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532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533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534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535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36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37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538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539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40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41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542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543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44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45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546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7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8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9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0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1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2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3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4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5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6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7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8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9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2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3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 type="sldNum" idx="3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563A574-C7F7-4D89-9074-53E50208AA7F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1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602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603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604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05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06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607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608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609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10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11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12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13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614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615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16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17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618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619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20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21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622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623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24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25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626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627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28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29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630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1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2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3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4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5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6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7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8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9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0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1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2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3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6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AAFCB72-AA81-42E0-BD5A-3BD28D48E385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5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686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687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688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89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90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691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692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693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94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95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96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97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698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699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700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701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702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703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04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05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706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707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08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09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710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711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12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13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714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5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6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7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8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9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0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1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2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3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4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5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6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7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0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8F1E6CF-945E-425B-8A50-3C5D726C4AE3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9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770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771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772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73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74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775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776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777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78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79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0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1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782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783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784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785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786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787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8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9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790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791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2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3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794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795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6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7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798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9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0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1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2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3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4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5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6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7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8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9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0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1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4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5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1E5B59A-E338-493B-8C98-72E0B9883FDB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3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854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855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856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57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58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859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860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861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62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63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64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65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66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867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8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9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870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871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72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73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874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875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76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77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878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879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80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81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882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3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4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5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6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7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8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9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0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1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2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3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4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5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8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C67BC41-7E82-48EB-9DE1-C63B18B1A809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7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938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39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940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41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42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43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44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945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46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47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48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49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950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951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952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953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954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955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56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57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958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959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60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61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962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963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64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65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66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7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8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9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0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1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2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3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4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5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6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7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8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9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2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46BF9F0-6E6D-4A13-8610-28A4A8868823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1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022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023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024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25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26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027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028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029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30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31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32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33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034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035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036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037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038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039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40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41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042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043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44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45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046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047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48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49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050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1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2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3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4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5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6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7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8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9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60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61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62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63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6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7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 type="sldNum" idx="37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E1F738F-0DD3-41BF-80E9-FA7F7204EA58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5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106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107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108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09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10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111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112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113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14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15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16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17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118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119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120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121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122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123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24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25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126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127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28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29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130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131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32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33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134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5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6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7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8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9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0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1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2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3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4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5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6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7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0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064C5B0-BAF3-4C34-8786-CC576BA02F15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9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190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191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192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93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94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195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196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197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98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99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00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01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202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203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204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205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206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207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08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09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210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211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12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13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214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215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16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17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218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19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0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1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2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3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4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5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6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7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8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9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30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31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4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5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1C6551C-7DB9-4586-8C9A-DC32BC09F236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53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54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55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6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7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58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59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60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1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2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3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4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65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66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7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8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69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70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1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2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73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74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5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6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77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78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81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2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3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4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5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6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7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0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1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2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3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012729B-CC23-44DF-90CC-A43E66F0A3C1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3" name="Group 1"/>
          <p:cNvGrpSpPr/>
          <p:nvPr/>
        </p:nvGrpSpPr>
        <p:grpSpPr>
          <a:xfrm>
            <a:off x="-39240" y="-338400"/>
            <a:ext cx="9405720" cy="7194960"/>
            <a:chOff x="-39240" y="-338400"/>
            <a:chExt cx="9405720" cy="7194960"/>
          </a:xfrm>
        </p:grpSpPr>
        <p:grpSp>
          <p:nvGrpSpPr>
            <p:cNvPr id="3274" name="Group 2"/>
            <p:cNvGrpSpPr/>
            <p:nvPr/>
          </p:nvGrpSpPr>
          <p:grpSpPr>
            <a:xfrm>
              <a:off x="4833720" y="-338400"/>
              <a:ext cx="4532760" cy="6543360"/>
              <a:chOff x="4833720" y="-338400"/>
              <a:chExt cx="4532760" cy="6543360"/>
            </a:xfrm>
          </p:grpSpPr>
          <p:sp>
            <p:nvSpPr>
              <p:cNvPr id="3275" name="Freeform 3"/>
              <p:cNvSpPr/>
              <p:nvPr/>
            </p:nvSpPr>
            <p:spPr>
              <a:xfrm flipV="1" rot="12000000">
                <a:off x="6247800" y="62280"/>
                <a:ext cx="2780280" cy="24678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76" name="Freeform 4"/>
              <p:cNvSpPr/>
              <p:nvPr/>
            </p:nvSpPr>
            <p:spPr>
              <a:xfrm flipV="1" rot="12000000">
                <a:off x="7352280" y="1752480"/>
                <a:ext cx="1190160" cy="88164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77" name="Freeform 5"/>
              <p:cNvSpPr/>
              <p:nvPr/>
            </p:nvSpPr>
            <p:spPr>
              <a:xfrm flipV="1" rot="12000000">
                <a:off x="6570000" y="2414520"/>
                <a:ext cx="576000" cy="41256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78" name="Freeform 6"/>
              <p:cNvSpPr/>
              <p:nvPr/>
            </p:nvSpPr>
            <p:spPr>
              <a:xfrm flipV="1" rot="12000000">
                <a:off x="7128360" y="403200"/>
                <a:ext cx="509400" cy="57492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79" name="Freeform 7"/>
              <p:cNvSpPr/>
              <p:nvPr/>
            </p:nvSpPr>
            <p:spPr>
              <a:xfrm flipV="1" rot="12000000">
                <a:off x="7001280" y="2467800"/>
                <a:ext cx="212760" cy="34560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80" name="Freeform 8"/>
              <p:cNvSpPr/>
              <p:nvPr/>
            </p:nvSpPr>
            <p:spPr>
              <a:xfrm flipV="1" rot="12000000">
                <a:off x="6980760" y="995400"/>
                <a:ext cx="248400" cy="1479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81" name="Freeform 9"/>
              <p:cNvSpPr/>
              <p:nvPr/>
            </p:nvSpPr>
            <p:spPr>
              <a:xfrm flipV="1" rot="12000000">
                <a:off x="5398560" y="2768040"/>
                <a:ext cx="686880" cy="34221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282" name="Freeform 10"/>
            <p:cNvSpPr/>
            <p:nvPr/>
          </p:nvSpPr>
          <p:spPr>
            <a:xfrm flipH="1" rot="360000">
              <a:off x="12960" y="3107880"/>
              <a:ext cx="512280" cy="102924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3" name="Freeform 11"/>
            <p:cNvSpPr/>
            <p:nvPr/>
          </p:nvSpPr>
          <p:spPr>
            <a:xfrm>
              <a:off x="246600" y="2000160"/>
              <a:ext cx="2001240" cy="243072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4" name="Freeform 12"/>
            <p:cNvSpPr/>
            <p:nvPr/>
          </p:nvSpPr>
          <p:spPr>
            <a:xfrm>
              <a:off x="-20520" y="4143240"/>
              <a:ext cx="1272960" cy="72720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5" name="Freeform 13"/>
            <p:cNvSpPr/>
            <p:nvPr/>
          </p:nvSpPr>
          <p:spPr>
            <a:xfrm flipH="1" rot="360000">
              <a:off x="1407960" y="4533480"/>
              <a:ext cx="561600" cy="7351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6" name="Freeform 14"/>
            <p:cNvSpPr/>
            <p:nvPr/>
          </p:nvSpPr>
          <p:spPr>
            <a:xfrm flipH="1" rot="360000">
              <a:off x="1248120" y="4730400"/>
              <a:ext cx="136440" cy="4338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7" name="Freeform 15"/>
            <p:cNvSpPr/>
            <p:nvPr/>
          </p:nvSpPr>
          <p:spPr>
            <a:xfrm>
              <a:off x="1872720" y="5195880"/>
              <a:ext cx="1761120" cy="166068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288" name="Group 16"/>
            <p:cNvGrpSpPr/>
            <p:nvPr/>
          </p:nvGrpSpPr>
          <p:grpSpPr>
            <a:xfrm>
              <a:off x="3988440" y="920520"/>
              <a:ext cx="1271160" cy="1391400"/>
              <a:chOff x="3988440" y="920520"/>
              <a:chExt cx="1271160" cy="1391400"/>
            </a:xfrm>
          </p:grpSpPr>
          <p:sp>
            <p:nvSpPr>
              <p:cNvPr id="3289" name="Freeform 17"/>
              <p:cNvSpPr/>
              <p:nvPr/>
            </p:nvSpPr>
            <p:spPr>
              <a:xfrm rot="3240000">
                <a:off x="4538520" y="939240"/>
                <a:ext cx="304200" cy="505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90" name="Freeform 18"/>
              <p:cNvSpPr/>
              <p:nvPr/>
            </p:nvSpPr>
            <p:spPr>
              <a:xfrm rot="3240000">
                <a:off x="4676400" y="1518840"/>
                <a:ext cx="522000" cy="417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91" name="Freeform 19"/>
              <p:cNvSpPr/>
              <p:nvPr/>
            </p:nvSpPr>
            <p:spPr>
              <a:xfrm rot="3240000">
                <a:off x="3961800" y="1922400"/>
                <a:ext cx="545760" cy="212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292" name="Group 20"/>
            <p:cNvGrpSpPr/>
            <p:nvPr/>
          </p:nvGrpSpPr>
          <p:grpSpPr>
            <a:xfrm>
              <a:off x="5615280" y="280080"/>
              <a:ext cx="969120" cy="916200"/>
              <a:chOff x="5615280" y="280080"/>
              <a:chExt cx="969120" cy="916200"/>
            </a:xfrm>
          </p:grpSpPr>
          <p:sp>
            <p:nvSpPr>
              <p:cNvPr id="3293" name="Freeform 21"/>
              <p:cNvSpPr/>
              <p:nvPr/>
            </p:nvSpPr>
            <p:spPr>
              <a:xfrm rot="14880000">
                <a:off x="5736960" y="835560"/>
                <a:ext cx="194040" cy="393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94" name="Freeform 22"/>
              <p:cNvSpPr/>
              <p:nvPr/>
            </p:nvSpPr>
            <p:spPr>
              <a:xfrm rot="14880000">
                <a:off x="5680440" y="484200"/>
                <a:ext cx="335520" cy="3258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95" name="Freeform 23"/>
              <p:cNvSpPr/>
              <p:nvPr/>
            </p:nvSpPr>
            <p:spPr>
              <a:xfrm rot="14880000">
                <a:off x="6266520" y="390960"/>
                <a:ext cx="351000" cy="164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296" name="Group 24"/>
            <p:cNvGrpSpPr/>
            <p:nvPr/>
          </p:nvGrpSpPr>
          <p:grpSpPr>
            <a:xfrm>
              <a:off x="932400" y="5155560"/>
              <a:ext cx="1162800" cy="1063080"/>
              <a:chOff x="932400" y="5155560"/>
              <a:chExt cx="1162800" cy="1063080"/>
            </a:xfrm>
          </p:grpSpPr>
          <p:sp>
            <p:nvSpPr>
              <p:cNvPr id="3297" name="Freeform 25"/>
              <p:cNvSpPr/>
              <p:nvPr/>
            </p:nvSpPr>
            <p:spPr>
              <a:xfrm rot="8520000">
                <a:off x="1731240" y="5484240"/>
                <a:ext cx="266040" cy="408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98" name="Freeform 26"/>
              <p:cNvSpPr/>
              <p:nvPr/>
            </p:nvSpPr>
            <p:spPr>
              <a:xfrm rot="8520000">
                <a:off x="1184400" y="5775480"/>
                <a:ext cx="454320" cy="339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99" name="Freeform 27"/>
              <p:cNvSpPr/>
              <p:nvPr/>
            </p:nvSpPr>
            <p:spPr>
              <a:xfrm rot="8520000">
                <a:off x="934920" y="5283000"/>
                <a:ext cx="474840" cy="172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300" name="Group 28"/>
            <p:cNvGrpSpPr/>
            <p:nvPr/>
          </p:nvGrpSpPr>
          <p:grpSpPr>
            <a:xfrm>
              <a:off x="222120" y="369000"/>
              <a:ext cx="1863360" cy="1271880"/>
              <a:chOff x="222120" y="369000"/>
              <a:chExt cx="1863360" cy="1271880"/>
            </a:xfrm>
          </p:grpSpPr>
          <p:sp>
            <p:nvSpPr>
              <p:cNvPr id="3301" name="Freeform 29"/>
              <p:cNvSpPr/>
              <p:nvPr/>
            </p:nvSpPr>
            <p:spPr>
              <a:xfrm flipH="1" rot="4140000">
                <a:off x="1545120" y="1059840"/>
                <a:ext cx="393480" cy="584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02" name="Freeform 30"/>
              <p:cNvSpPr/>
              <p:nvPr/>
            </p:nvSpPr>
            <p:spPr>
              <a:xfrm flipH="1" rot="4140000">
                <a:off x="931680" y="528120"/>
                <a:ext cx="676080" cy="486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03" name="Freeform 31"/>
              <p:cNvSpPr/>
              <p:nvPr/>
            </p:nvSpPr>
            <p:spPr>
              <a:xfrm flipH="1" rot="4140000">
                <a:off x="110880" y="1102320"/>
                <a:ext cx="706320" cy="247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304" name="Group 32"/>
            <p:cNvGrpSpPr/>
            <p:nvPr/>
          </p:nvGrpSpPr>
          <p:grpSpPr>
            <a:xfrm>
              <a:off x="7333560" y="3620520"/>
              <a:ext cx="1260720" cy="1719360"/>
              <a:chOff x="7333560" y="3620520"/>
              <a:chExt cx="1260720" cy="1719360"/>
            </a:xfrm>
          </p:grpSpPr>
          <p:sp>
            <p:nvSpPr>
              <p:cNvPr id="3305" name="Freeform 33"/>
              <p:cNvSpPr/>
              <p:nvPr/>
            </p:nvSpPr>
            <p:spPr>
              <a:xfrm flipH="1" rot="10020000">
                <a:off x="7391880" y="4739040"/>
                <a:ext cx="387000" cy="564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06" name="Freeform 34"/>
              <p:cNvSpPr/>
              <p:nvPr/>
            </p:nvSpPr>
            <p:spPr>
              <a:xfrm flipH="1" rot="10020000">
                <a:off x="7885440" y="4417200"/>
                <a:ext cx="664560" cy="470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07" name="Freeform 35"/>
              <p:cNvSpPr/>
              <p:nvPr/>
            </p:nvSpPr>
            <p:spPr>
              <a:xfrm flipH="1" rot="10020000">
                <a:off x="7553520" y="3695400"/>
                <a:ext cx="694080" cy="239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308" name="Freeform 36"/>
            <p:cNvSpPr/>
            <p:nvPr/>
          </p:nvSpPr>
          <p:spPr>
            <a:xfrm>
              <a:off x="1915920" y="3240"/>
              <a:ext cx="1369440" cy="14047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09" name="Freeform 37"/>
            <p:cNvSpPr/>
            <p:nvPr/>
          </p:nvSpPr>
          <p:spPr>
            <a:xfrm flipV="1" rot="9840000">
              <a:off x="3414240" y="164160"/>
              <a:ext cx="1081440" cy="9396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0" name="Freeform 38"/>
            <p:cNvSpPr/>
            <p:nvPr/>
          </p:nvSpPr>
          <p:spPr>
            <a:xfrm flipV="1" rot="9840000">
              <a:off x="3158280" y="1361880"/>
              <a:ext cx="523080" cy="4392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1" name="Freeform 39"/>
            <p:cNvSpPr/>
            <p:nvPr/>
          </p:nvSpPr>
          <p:spPr>
            <a:xfrm flipV="1" rot="9840000">
              <a:off x="3519360" y="1285200"/>
              <a:ext cx="194040" cy="3682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2" name="Freeform 40"/>
            <p:cNvSpPr/>
            <p:nvPr/>
          </p:nvSpPr>
          <p:spPr>
            <a:xfrm>
              <a:off x="2530080" y="0"/>
              <a:ext cx="195480" cy="1904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3" name="Freeform 41"/>
            <p:cNvSpPr/>
            <p:nvPr/>
          </p:nvSpPr>
          <p:spPr>
            <a:xfrm flipV="1" rot="9840000">
              <a:off x="3439080" y="1964520"/>
              <a:ext cx="623520" cy="365004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4" name="Freeform 42"/>
            <p:cNvSpPr/>
            <p:nvPr/>
          </p:nvSpPr>
          <p:spPr>
            <a:xfrm>
              <a:off x="-20520" y="2933640"/>
              <a:ext cx="55440" cy="20808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7" name="Text Box 4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8" name="Text Box 4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9" name="PlaceHolder 3"/>
          <p:cNvSpPr>
            <a:spLocks noGrp="1"/>
          </p:cNvSpPr>
          <p:nvPr>
            <p:ph type="sldNum" idx="40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FFB8F4D-1AAD-4143-B41F-560DAB192D63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6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357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358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359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60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61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362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363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364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65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66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67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68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369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370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371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372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373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374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75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76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377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378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79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80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381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382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83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84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385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86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87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88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89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0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1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2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3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4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5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6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7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8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1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2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3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85A8244-45D4-41ED-82C8-3924C1531C37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0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441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42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443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44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45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446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47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448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49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50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51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52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453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454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455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456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457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458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59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60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461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462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63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64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465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466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67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68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469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0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1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2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3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4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5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6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7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8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9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80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81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82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5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6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4D1A181-1C99-4203-9499-4FB0F981F86F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4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525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526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527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28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29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30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531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532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33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34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35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36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537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538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539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540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541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542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43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44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545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546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47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48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549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550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51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52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53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4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5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6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7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8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9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0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1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2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3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4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5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6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9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0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 type="sldNum" idx="4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80A103A-8D58-467B-8228-528450E1D002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8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609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610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611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12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13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614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615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616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17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18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19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20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621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622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623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624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625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626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27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28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29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630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31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32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33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634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35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36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637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8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9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0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1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2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3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4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5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6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7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8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9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50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65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53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4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D8CF0BF-4AC9-4248-A0BD-2540D251CE6D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2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693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694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695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96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97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698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699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700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01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02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03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04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705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706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07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08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709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710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11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12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13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714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15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16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17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718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19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20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721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2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3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4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5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6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7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8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9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0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1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2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3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4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7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8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3E2E987-21E8-4270-BDD4-8F1BD47D48E4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6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777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778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779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80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81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782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783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784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85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86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87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88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789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790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91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92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793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794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95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96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97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798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99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00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801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802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03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04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805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6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7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8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9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0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1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2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3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4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5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6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7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8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1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2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3" name="PlaceHolder 3"/>
          <p:cNvSpPr>
            <a:spLocks noGrp="1"/>
          </p:cNvSpPr>
          <p:nvPr>
            <p:ph type="sldNum" idx="4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EF73329-FD5B-4A09-8CC7-A6809FF9B72C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0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861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862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863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64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65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866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867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868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69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70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71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72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873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874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875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876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877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878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79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80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881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882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83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84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885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886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87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88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889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0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1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2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3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4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5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6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7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8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9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0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1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2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90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5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6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7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49704B2-D475-4307-AA02-F2AE6AB0CB25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4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945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946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947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48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49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950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951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952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53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54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55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56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957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958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959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960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961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962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63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64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965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966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67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68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969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970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71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72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973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74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75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76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77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78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79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0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1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2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3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4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5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6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98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9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0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1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C5564EA-B9FD-41C7-BE49-E59D0C86F3E2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8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4029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030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4031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32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33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034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035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4036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37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38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39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40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041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4042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043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044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045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4046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47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48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049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4050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51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52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053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4054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55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56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057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58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59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0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1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2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3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4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5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6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7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8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9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70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3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4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5" name="PlaceHolder 3"/>
          <p:cNvSpPr>
            <a:spLocks noGrp="1"/>
          </p:cNvSpPr>
          <p:nvPr>
            <p:ph type="sldNum" idx="49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5B1AD59-89FD-4172-A499-81AF3B30509E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37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38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39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0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1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42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3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44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6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7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8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49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50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51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52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53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54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5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6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57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58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9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0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1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62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3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4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65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6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7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8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9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0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1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4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5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6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7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8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1B8CCCD-6B6E-45BE-97B0-AC93AFD275DD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2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4113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114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4115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16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17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118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119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4120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21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22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23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24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125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4126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127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128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129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4130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31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32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133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4134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35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36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137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4138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39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40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141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2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3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4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5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6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7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8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9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50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51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52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53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54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1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7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8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9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8A22D83-B057-496F-A8B0-0B0B03616511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6" name="Group 1"/>
          <p:cNvGrpSpPr/>
          <p:nvPr/>
        </p:nvGrpSpPr>
        <p:grpSpPr>
          <a:xfrm>
            <a:off x="-39240" y="-338400"/>
            <a:ext cx="9405720" cy="7194960"/>
            <a:chOff x="-39240" y="-338400"/>
            <a:chExt cx="9405720" cy="7194960"/>
          </a:xfrm>
        </p:grpSpPr>
        <p:grpSp>
          <p:nvGrpSpPr>
            <p:cNvPr id="4197" name="Group 2"/>
            <p:cNvGrpSpPr/>
            <p:nvPr/>
          </p:nvGrpSpPr>
          <p:grpSpPr>
            <a:xfrm>
              <a:off x="4833720" y="-338400"/>
              <a:ext cx="4532760" cy="6543360"/>
              <a:chOff x="4833720" y="-338400"/>
              <a:chExt cx="4532760" cy="6543360"/>
            </a:xfrm>
          </p:grpSpPr>
          <p:sp>
            <p:nvSpPr>
              <p:cNvPr id="4198" name="Freeform 3"/>
              <p:cNvSpPr/>
              <p:nvPr/>
            </p:nvSpPr>
            <p:spPr>
              <a:xfrm flipV="1" rot="12000000">
                <a:off x="6247800" y="62280"/>
                <a:ext cx="2780280" cy="24678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99" name="Freeform 4"/>
              <p:cNvSpPr/>
              <p:nvPr/>
            </p:nvSpPr>
            <p:spPr>
              <a:xfrm flipV="1" rot="12000000">
                <a:off x="7352280" y="1752480"/>
                <a:ext cx="1190160" cy="88164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00" name="Freeform 5"/>
              <p:cNvSpPr/>
              <p:nvPr/>
            </p:nvSpPr>
            <p:spPr>
              <a:xfrm flipV="1" rot="12000000">
                <a:off x="6570000" y="2414520"/>
                <a:ext cx="576000" cy="41256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01" name="Freeform 6"/>
              <p:cNvSpPr/>
              <p:nvPr/>
            </p:nvSpPr>
            <p:spPr>
              <a:xfrm flipV="1" rot="12000000">
                <a:off x="7128360" y="403200"/>
                <a:ext cx="509400" cy="57492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02" name="Freeform 7"/>
              <p:cNvSpPr/>
              <p:nvPr/>
            </p:nvSpPr>
            <p:spPr>
              <a:xfrm flipV="1" rot="12000000">
                <a:off x="7001280" y="2467800"/>
                <a:ext cx="212760" cy="34560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03" name="Freeform 8"/>
              <p:cNvSpPr/>
              <p:nvPr/>
            </p:nvSpPr>
            <p:spPr>
              <a:xfrm flipV="1" rot="12000000">
                <a:off x="6980760" y="995400"/>
                <a:ext cx="248400" cy="1479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04" name="Freeform 9"/>
              <p:cNvSpPr/>
              <p:nvPr/>
            </p:nvSpPr>
            <p:spPr>
              <a:xfrm flipV="1" rot="12000000">
                <a:off x="5398560" y="2768040"/>
                <a:ext cx="686880" cy="34221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205" name="Freeform 10"/>
            <p:cNvSpPr/>
            <p:nvPr/>
          </p:nvSpPr>
          <p:spPr>
            <a:xfrm flipH="1" rot="360000">
              <a:off x="12960" y="3107880"/>
              <a:ext cx="512280" cy="102924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6" name="Freeform 11"/>
            <p:cNvSpPr/>
            <p:nvPr/>
          </p:nvSpPr>
          <p:spPr>
            <a:xfrm>
              <a:off x="246600" y="2000160"/>
              <a:ext cx="2001240" cy="243072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7" name="Freeform 12"/>
            <p:cNvSpPr/>
            <p:nvPr/>
          </p:nvSpPr>
          <p:spPr>
            <a:xfrm>
              <a:off x="-20520" y="4143240"/>
              <a:ext cx="1272960" cy="72720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8" name="Freeform 13"/>
            <p:cNvSpPr/>
            <p:nvPr/>
          </p:nvSpPr>
          <p:spPr>
            <a:xfrm flipH="1" rot="360000">
              <a:off x="1407960" y="4533480"/>
              <a:ext cx="561600" cy="7351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9" name="Freeform 14"/>
            <p:cNvSpPr/>
            <p:nvPr/>
          </p:nvSpPr>
          <p:spPr>
            <a:xfrm flipH="1" rot="360000">
              <a:off x="1248120" y="4730400"/>
              <a:ext cx="136440" cy="4338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10" name="Freeform 15"/>
            <p:cNvSpPr/>
            <p:nvPr/>
          </p:nvSpPr>
          <p:spPr>
            <a:xfrm>
              <a:off x="1872720" y="5195880"/>
              <a:ext cx="1761120" cy="166068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211" name="Group 16"/>
            <p:cNvGrpSpPr/>
            <p:nvPr/>
          </p:nvGrpSpPr>
          <p:grpSpPr>
            <a:xfrm>
              <a:off x="3988440" y="920520"/>
              <a:ext cx="1271160" cy="1391400"/>
              <a:chOff x="3988440" y="920520"/>
              <a:chExt cx="1271160" cy="1391400"/>
            </a:xfrm>
          </p:grpSpPr>
          <p:sp>
            <p:nvSpPr>
              <p:cNvPr id="4212" name="Freeform 17"/>
              <p:cNvSpPr/>
              <p:nvPr/>
            </p:nvSpPr>
            <p:spPr>
              <a:xfrm rot="3240000">
                <a:off x="4538520" y="939240"/>
                <a:ext cx="304200" cy="505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13" name="Freeform 18"/>
              <p:cNvSpPr/>
              <p:nvPr/>
            </p:nvSpPr>
            <p:spPr>
              <a:xfrm rot="3240000">
                <a:off x="4676400" y="1518840"/>
                <a:ext cx="522000" cy="417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14" name="Freeform 19"/>
              <p:cNvSpPr/>
              <p:nvPr/>
            </p:nvSpPr>
            <p:spPr>
              <a:xfrm rot="3240000">
                <a:off x="3961800" y="1922400"/>
                <a:ext cx="545760" cy="212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215" name="Group 20"/>
            <p:cNvGrpSpPr/>
            <p:nvPr/>
          </p:nvGrpSpPr>
          <p:grpSpPr>
            <a:xfrm>
              <a:off x="5615280" y="280080"/>
              <a:ext cx="969120" cy="916200"/>
              <a:chOff x="5615280" y="280080"/>
              <a:chExt cx="969120" cy="916200"/>
            </a:xfrm>
          </p:grpSpPr>
          <p:sp>
            <p:nvSpPr>
              <p:cNvPr id="4216" name="Freeform 21"/>
              <p:cNvSpPr/>
              <p:nvPr/>
            </p:nvSpPr>
            <p:spPr>
              <a:xfrm rot="14880000">
                <a:off x="5736960" y="835560"/>
                <a:ext cx="194040" cy="393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17" name="Freeform 22"/>
              <p:cNvSpPr/>
              <p:nvPr/>
            </p:nvSpPr>
            <p:spPr>
              <a:xfrm rot="14880000">
                <a:off x="5680440" y="484200"/>
                <a:ext cx="335520" cy="3258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18" name="Freeform 23"/>
              <p:cNvSpPr/>
              <p:nvPr/>
            </p:nvSpPr>
            <p:spPr>
              <a:xfrm rot="14880000">
                <a:off x="6266520" y="390960"/>
                <a:ext cx="351000" cy="164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219" name="Group 24"/>
            <p:cNvGrpSpPr/>
            <p:nvPr/>
          </p:nvGrpSpPr>
          <p:grpSpPr>
            <a:xfrm>
              <a:off x="932400" y="5155560"/>
              <a:ext cx="1162800" cy="1063080"/>
              <a:chOff x="932400" y="5155560"/>
              <a:chExt cx="1162800" cy="1063080"/>
            </a:xfrm>
          </p:grpSpPr>
          <p:sp>
            <p:nvSpPr>
              <p:cNvPr id="4220" name="Freeform 25"/>
              <p:cNvSpPr/>
              <p:nvPr/>
            </p:nvSpPr>
            <p:spPr>
              <a:xfrm rot="8520000">
                <a:off x="1731240" y="5484240"/>
                <a:ext cx="266040" cy="408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21" name="Freeform 26"/>
              <p:cNvSpPr/>
              <p:nvPr/>
            </p:nvSpPr>
            <p:spPr>
              <a:xfrm rot="8520000">
                <a:off x="1184400" y="5775480"/>
                <a:ext cx="454320" cy="339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22" name="Freeform 27"/>
              <p:cNvSpPr/>
              <p:nvPr/>
            </p:nvSpPr>
            <p:spPr>
              <a:xfrm rot="8520000">
                <a:off x="934920" y="5283000"/>
                <a:ext cx="474840" cy="172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223" name="Group 28"/>
            <p:cNvGrpSpPr/>
            <p:nvPr/>
          </p:nvGrpSpPr>
          <p:grpSpPr>
            <a:xfrm>
              <a:off x="222120" y="369000"/>
              <a:ext cx="1863360" cy="1271880"/>
              <a:chOff x="222120" y="369000"/>
              <a:chExt cx="1863360" cy="1271880"/>
            </a:xfrm>
          </p:grpSpPr>
          <p:sp>
            <p:nvSpPr>
              <p:cNvPr id="4224" name="Freeform 29"/>
              <p:cNvSpPr/>
              <p:nvPr/>
            </p:nvSpPr>
            <p:spPr>
              <a:xfrm flipH="1" rot="4140000">
                <a:off x="1545120" y="1059840"/>
                <a:ext cx="393480" cy="584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25" name="Freeform 30"/>
              <p:cNvSpPr/>
              <p:nvPr/>
            </p:nvSpPr>
            <p:spPr>
              <a:xfrm flipH="1" rot="4140000">
                <a:off x="931680" y="528120"/>
                <a:ext cx="676080" cy="486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26" name="Freeform 31"/>
              <p:cNvSpPr/>
              <p:nvPr/>
            </p:nvSpPr>
            <p:spPr>
              <a:xfrm flipH="1" rot="4140000">
                <a:off x="110880" y="1102320"/>
                <a:ext cx="706320" cy="247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227" name="Group 32"/>
            <p:cNvGrpSpPr/>
            <p:nvPr/>
          </p:nvGrpSpPr>
          <p:grpSpPr>
            <a:xfrm>
              <a:off x="7333560" y="3620520"/>
              <a:ext cx="1260720" cy="1719360"/>
              <a:chOff x="7333560" y="3620520"/>
              <a:chExt cx="1260720" cy="1719360"/>
            </a:xfrm>
          </p:grpSpPr>
          <p:sp>
            <p:nvSpPr>
              <p:cNvPr id="4228" name="Freeform 33"/>
              <p:cNvSpPr/>
              <p:nvPr/>
            </p:nvSpPr>
            <p:spPr>
              <a:xfrm flipH="1" rot="10020000">
                <a:off x="7391880" y="4739040"/>
                <a:ext cx="387000" cy="564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29" name="Freeform 34"/>
              <p:cNvSpPr/>
              <p:nvPr/>
            </p:nvSpPr>
            <p:spPr>
              <a:xfrm flipH="1" rot="10020000">
                <a:off x="7885440" y="4417200"/>
                <a:ext cx="664560" cy="470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30" name="Freeform 35"/>
              <p:cNvSpPr/>
              <p:nvPr/>
            </p:nvSpPr>
            <p:spPr>
              <a:xfrm flipH="1" rot="10020000">
                <a:off x="7553520" y="3695400"/>
                <a:ext cx="694080" cy="239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231" name="Freeform 36"/>
            <p:cNvSpPr/>
            <p:nvPr/>
          </p:nvSpPr>
          <p:spPr>
            <a:xfrm>
              <a:off x="1915920" y="3240"/>
              <a:ext cx="1369440" cy="14047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2" name="Freeform 37"/>
            <p:cNvSpPr/>
            <p:nvPr/>
          </p:nvSpPr>
          <p:spPr>
            <a:xfrm flipV="1" rot="9840000">
              <a:off x="3414240" y="164160"/>
              <a:ext cx="1081440" cy="9396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3" name="Freeform 38"/>
            <p:cNvSpPr/>
            <p:nvPr/>
          </p:nvSpPr>
          <p:spPr>
            <a:xfrm flipV="1" rot="9840000">
              <a:off x="3158280" y="1361880"/>
              <a:ext cx="523080" cy="4392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4" name="Freeform 39"/>
            <p:cNvSpPr/>
            <p:nvPr/>
          </p:nvSpPr>
          <p:spPr>
            <a:xfrm flipV="1" rot="9840000">
              <a:off x="3519360" y="1285200"/>
              <a:ext cx="194040" cy="3682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5" name="Freeform 40"/>
            <p:cNvSpPr/>
            <p:nvPr/>
          </p:nvSpPr>
          <p:spPr>
            <a:xfrm>
              <a:off x="2530080" y="0"/>
              <a:ext cx="195480" cy="1904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6" name="Freeform 41"/>
            <p:cNvSpPr/>
            <p:nvPr/>
          </p:nvSpPr>
          <p:spPr>
            <a:xfrm flipV="1" rot="9840000">
              <a:off x="3439080" y="1964520"/>
              <a:ext cx="623520" cy="365004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7" name="Freeform 42"/>
            <p:cNvSpPr/>
            <p:nvPr/>
          </p:nvSpPr>
          <p:spPr>
            <a:xfrm>
              <a:off x="-20520" y="2933640"/>
              <a:ext cx="55440" cy="20808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23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0" name="Text Box 4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1" name="Text Box 4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2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D0E2644-C2A5-4E31-86F3-8E1FE72A008C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9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4280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281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4282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83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84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285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286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4287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88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89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90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91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292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4293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294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295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296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4297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98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99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300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4301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02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03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304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4305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06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07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308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09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0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1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2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3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4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5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6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7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8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9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20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21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24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5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6" name="PlaceHolder 3"/>
          <p:cNvSpPr>
            <a:spLocks noGrp="1"/>
          </p:cNvSpPr>
          <p:nvPr>
            <p:ph type="sldNum" idx="5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741A62F-64E4-486A-97D4-937E0DE07F8D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3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4364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365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4366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67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68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369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370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4371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72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73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74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75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376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4377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378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379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380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4381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82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83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384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4385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86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87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388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4389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90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91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392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93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94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95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96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97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98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99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00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01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02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03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04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05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40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8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9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0" name="PlaceHolder 3"/>
          <p:cNvSpPr>
            <a:spLocks noGrp="1"/>
          </p:cNvSpPr>
          <p:nvPr>
            <p:ph type="sldNum" idx="5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98158BC-1E41-4583-A4A5-4E9D93787C7D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7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4448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449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4450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51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52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453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454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4455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56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57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58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59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460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4461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462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463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464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4465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66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67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468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4469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70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71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472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4473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74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75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476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77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78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79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0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1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2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3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4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5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6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7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8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9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49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2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3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4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40AF4B7-0BB4-44A3-B733-C8C6E595057D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1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4532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533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4534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35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36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537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538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4539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40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41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42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43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544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4545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546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547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548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4549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50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51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552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4553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54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55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556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4557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58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59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560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1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2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3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4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5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6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7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8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9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0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1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2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3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6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7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8" name="PlaceHolder 3"/>
          <p:cNvSpPr>
            <a:spLocks noGrp="1"/>
          </p:cNvSpPr>
          <p:nvPr>
            <p:ph type="sldNum" idx="5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C980459-E7F7-4A34-9B08-38DD3F241F00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5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4616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617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4618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19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20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621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622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4623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24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25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26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27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628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4629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630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631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632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4633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34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35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636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4637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38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39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640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4641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42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43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644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45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46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47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48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49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0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1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2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3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4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5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6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7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65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0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1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2" name="PlaceHolder 3"/>
          <p:cNvSpPr>
            <a:spLocks noGrp="1"/>
          </p:cNvSpPr>
          <p:nvPr>
            <p:ph type="sldNum" idx="5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4B8C2A4-BCBA-4D13-9B25-D8230579D4BA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9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4700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701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4702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03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04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705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706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4707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08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09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10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11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712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4713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14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15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716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4717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18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19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720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4721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22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23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724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4725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26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27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728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29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0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1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2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3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4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5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6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7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8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9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40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41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74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4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5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6" name="PlaceHolder 3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1DAEA9E-8241-4B15-B684-98251344C997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3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4784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785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4786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87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88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789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790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4791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92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93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94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95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796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4797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98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99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800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4801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02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03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804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4805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06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07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808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4809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10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11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812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13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14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15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16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17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18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19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20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21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22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23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24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25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82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8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9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0" name="PlaceHolder 3"/>
          <p:cNvSpPr>
            <a:spLocks noGrp="1"/>
          </p:cNvSpPr>
          <p:nvPr>
            <p:ph type="sldNum" idx="5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0BFE193-4D3F-472A-8F07-E88F3E7C0B15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7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4868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869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4870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71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72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873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874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4875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76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77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78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79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880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4881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882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883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884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4885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86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87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888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4889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90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91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892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4893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94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95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896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97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98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99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0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1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2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3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4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5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6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7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8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9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1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2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3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4" name="PlaceHolder 3"/>
          <p:cNvSpPr>
            <a:spLocks noGrp="1"/>
          </p:cNvSpPr>
          <p:nvPr>
            <p:ph type="sldNum" idx="59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DC231A8-15D3-44E8-9B83-469FFADCAEC4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1"/>
          <p:cNvGrpSpPr/>
          <p:nvPr/>
        </p:nvGrpSpPr>
        <p:grpSpPr>
          <a:xfrm>
            <a:off x="-39240" y="-338400"/>
            <a:ext cx="9405720" cy="7194960"/>
            <a:chOff x="-39240" y="-338400"/>
            <a:chExt cx="9405720" cy="7194960"/>
          </a:xfrm>
        </p:grpSpPr>
        <p:grpSp>
          <p:nvGrpSpPr>
            <p:cNvPr id="421" name="Group 2"/>
            <p:cNvGrpSpPr/>
            <p:nvPr/>
          </p:nvGrpSpPr>
          <p:grpSpPr>
            <a:xfrm>
              <a:off x="4833720" y="-338400"/>
              <a:ext cx="4532760" cy="6543360"/>
              <a:chOff x="4833720" y="-338400"/>
              <a:chExt cx="4532760" cy="6543360"/>
            </a:xfrm>
          </p:grpSpPr>
          <p:sp>
            <p:nvSpPr>
              <p:cNvPr id="422" name="Freeform 3"/>
              <p:cNvSpPr/>
              <p:nvPr/>
            </p:nvSpPr>
            <p:spPr>
              <a:xfrm flipV="1" rot="12000000">
                <a:off x="6247800" y="62280"/>
                <a:ext cx="2780280" cy="24678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3" name="Freeform 4"/>
              <p:cNvSpPr/>
              <p:nvPr/>
            </p:nvSpPr>
            <p:spPr>
              <a:xfrm flipV="1" rot="12000000">
                <a:off x="7352280" y="1752480"/>
                <a:ext cx="1190160" cy="88164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4" name="Freeform 5"/>
              <p:cNvSpPr/>
              <p:nvPr/>
            </p:nvSpPr>
            <p:spPr>
              <a:xfrm flipV="1" rot="12000000">
                <a:off x="6570000" y="2414520"/>
                <a:ext cx="576000" cy="41256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5" name="Freeform 6"/>
              <p:cNvSpPr/>
              <p:nvPr/>
            </p:nvSpPr>
            <p:spPr>
              <a:xfrm flipV="1" rot="12000000">
                <a:off x="7128360" y="403200"/>
                <a:ext cx="509400" cy="57492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6" name="Freeform 7"/>
              <p:cNvSpPr/>
              <p:nvPr/>
            </p:nvSpPr>
            <p:spPr>
              <a:xfrm flipV="1" rot="12000000">
                <a:off x="7001280" y="2467800"/>
                <a:ext cx="212760" cy="34560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7" name="Freeform 8"/>
              <p:cNvSpPr/>
              <p:nvPr/>
            </p:nvSpPr>
            <p:spPr>
              <a:xfrm flipV="1" rot="12000000">
                <a:off x="6980760" y="995400"/>
                <a:ext cx="248400" cy="1479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8" name="Freeform 9"/>
              <p:cNvSpPr/>
              <p:nvPr/>
            </p:nvSpPr>
            <p:spPr>
              <a:xfrm flipV="1" rot="12000000">
                <a:off x="5398560" y="2768040"/>
                <a:ext cx="686880" cy="34221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29" name="Freeform 10"/>
            <p:cNvSpPr/>
            <p:nvPr/>
          </p:nvSpPr>
          <p:spPr>
            <a:xfrm flipH="1" rot="360000">
              <a:off x="12960" y="3107880"/>
              <a:ext cx="512280" cy="102924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0" name="Freeform 11"/>
            <p:cNvSpPr/>
            <p:nvPr/>
          </p:nvSpPr>
          <p:spPr>
            <a:xfrm>
              <a:off x="246600" y="2000160"/>
              <a:ext cx="2001240" cy="243072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" name="Freeform 12"/>
            <p:cNvSpPr/>
            <p:nvPr/>
          </p:nvSpPr>
          <p:spPr>
            <a:xfrm>
              <a:off x="-20520" y="4143240"/>
              <a:ext cx="1272960" cy="72720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2" name="Freeform 13"/>
            <p:cNvSpPr/>
            <p:nvPr/>
          </p:nvSpPr>
          <p:spPr>
            <a:xfrm flipH="1" rot="360000">
              <a:off x="1407960" y="4533480"/>
              <a:ext cx="561600" cy="7351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3" name="Freeform 14"/>
            <p:cNvSpPr/>
            <p:nvPr/>
          </p:nvSpPr>
          <p:spPr>
            <a:xfrm flipH="1" rot="360000">
              <a:off x="1248120" y="4730400"/>
              <a:ext cx="136440" cy="4338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4" name="Freeform 15"/>
            <p:cNvSpPr/>
            <p:nvPr/>
          </p:nvSpPr>
          <p:spPr>
            <a:xfrm>
              <a:off x="1872720" y="5195880"/>
              <a:ext cx="1761120" cy="166068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35" name="Group 16"/>
            <p:cNvGrpSpPr/>
            <p:nvPr/>
          </p:nvGrpSpPr>
          <p:grpSpPr>
            <a:xfrm>
              <a:off x="3988440" y="920520"/>
              <a:ext cx="1271160" cy="1391400"/>
              <a:chOff x="3988440" y="920520"/>
              <a:chExt cx="1271160" cy="1391400"/>
            </a:xfrm>
          </p:grpSpPr>
          <p:sp>
            <p:nvSpPr>
              <p:cNvPr id="436" name="Freeform 17"/>
              <p:cNvSpPr/>
              <p:nvPr/>
            </p:nvSpPr>
            <p:spPr>
              <a:xfrm rot="3240000">
                <a:off x="4538520" y="939240"/>
                <a:ext cx="304200" cy="505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7" name="Freeform 18"/>
              <p:cNvSpPr/>
              <p:nvPr/>
            </p:nvSpPr>
            <p:spPr>
              <a:xfrm rot="3240000">
                <a:off x="4676400" y="1518840"/>
                <a:ext cx="522000" cy="417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8" name="Freeform 19"/>
              <p:cNvSpPr/>
              <p:nvPr/>
            </p:nvSpPr>
            <p:spPr>
              <a:xfrm rot="3240000">
                <a:off x="3961800" y="1922400"/>
                <a:ext cx="545760" cy="212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39" name="Group 20"/>
            <p:cNvGrpSpPr/>
            <p:nvPr/>
          </p:nvGrpSpPr>
          <p:grpSpPr>
            <a:xfrm>
              <a:off x="5615280" y="280080"/>
              <a:ext cx="969120" cy="916200"/>
              <a:chOff x="5615280" y="280080"/>
              <a:chExt cx="969120" cy="916200"/>
            </a:xfrm>
          </p:grpSpPr>
          <p:sp>
            <p:nvSpPr>
              <p:cNvPr id="440" name="Freeform 21"/>
              <p:cNvSpPr/>
              <p:nvPr/>
            </p:nvSpPr>
            <p:spPr>
              <a:xfrm rot="14880000">
                <a:off x="5736960" y="835560"/>
                <a:ext cx="194040" cy="393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1" name="Freeform 22"/>
              <p:cNvSpPr/>
              <p:nvPr/>
            </p:nvSpPr>
            <p:spPr>
              <a:xfrm rot="14880000">
                <a:off x="5680440" y="484200"/>
                <a:ext cx="335520" cy="3258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2" name="Freeform 23"/>
              <p:cNvSpPr/>
              <p:nvPr/>
            </p:nvSpPr>
            <p:spPr>
              <a:xfrm rot="14880000">
                <a:off x="6266520" y="390960"/>
                <a:ext cx="351000" cy="164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43" name="Group 24"/>
            <p:cNvGrpSpPr/>
            <p:nvPr/>
          </p:nvGrpSpPr>
          <p:grpSpPr>
            <a:xfrm>
              <a:off x="932400" y="5155560"/>
              <a:ext cx="1162800" cy="1063080"/>
              <a:chOff x="932400" y="5155560"/>
              <a:chExt cx="1162800" cy="1063080"/>
            </a:xfrm>
          </p:grpSpPr>
          <p:sp>
            <p:nvSpPr>
              <p:cNvPr id="444" name="Freeform 25"/>
              <p:cNvSpPr/>
              <p:nvPr/>
            </p:nvSpPr>
            <p:spPr>
              <a:xfrm rot="8520000">
                <a:off x="1731240" y="5484240"/>
                <a:ext cx="266040" cy="408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5" name="Freeform 26"/>
              <p:cNvSpPr/>
              <p:nvPr/>
            </p:nvSpPr>
            <p:spPr>
              <a:xfrm rot="8520000">
                <a:off x="1184400" y="5775480"/>
                <a:ext cx="454320" cy="339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6" name="Freeform 27"/>
              <p:cNvSpPr/>
              <p:nvPr/>
            </p:nvSpPr>
            <p:spPr>
              <a:xfrm rot="8520000">
                <a:off x="934920" y="5283000"/>
                <a:ext cx="474840" cy="172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47" name="Group 28"/>
            <p:cNvGrpSpPr/>
            <p:nvPr/>
          </p:nvGrpSpPr>
          <p:grpSpPr>
            <a:xfrm>
              <a:off x="222120" y="369000"/>
              <a:ext cx="1863360" cy="1271880"/>
              <a:chOff x="222120" y="369000"/>
              <a:chExt cx="1863360" cy="1271880"/>
            </a:xfrm>
          </p:grpSpPr>
          <p:sp>
            <p:nvSpPr>
              <p:cNvPr id="448" name="Freeform 29"/>
              <p:cNvSpPr/>
              <p:nvPr/>
            </p:nvSpPr>
            <p:spPr>
              <a:xfrm flipH="1" rot="4140000">
                <a:off x="1545120" y="1059840"/>
                <a:ext cx="393480" cy="584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9" name="Freeform 30"/>
              <p:cNvSpPr/>
              <p:nvPr/>
            </p:nvSpPr>
            <p:spPr>
              <a:xfrm flipH="1" rot="4140000">
                <a:off x="931680" y="528120"/>
                <a:ext cx="676080" cy="486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0" name="Freeform 31"/>
              <p:cNvSpPr/>
              <p:nvPr/>
            </p:nvSpPr>
            <p:spPr>
              <a:xfrm flipH="1" rot="4140000">
                <a:off x="110880" y="1102320"/>
                <a:ext cx="706320" cy="247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51" name="Group 32"/>
            <p:cNvGrpSpPr/>
            <p:nvPr/>
          </p:nvGrpSpPr>
          <p:grpSpPr>
            <a:xfrm>
              <a:off x="7333560" y="3620520"/>
              <a:ext cx="1260720" cy="1719360"/>
              <a:chOff x="7333560" y="3620520"/>
              <a:chExt cx="1260720" cy="1719360"/>
            </a:xfrm>
          </p:grpSpPr>
          <p:sp>
            <p:nvSpPr>
              <p:cNvPr id="452" name="Freeform 33"/>
              <p:cNvSpPr/>
              <p:nvPr/>
            </p:nvSpPr>
            <p:spPr>
              <a:xfrm flipH="1" rot="10020000">
                <a:off x="7391880" y="4739040"/>
                <a:ext cx="387000" cy="564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3" name="Freeform 34"/>
              <p:cNvSpPr/>
              <p:nvPr/>
            </p:nvSpPr>
            <p:spPr>
              <a:xfrm flipH="1" rot="10020000">
                <a:off x="7885440" y="4417200"/>
                <a:ext cx="664560" cy="470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4" name="Freeform 35"/>
              <p:cNvSpPr/>
              <p:nvPr/>
            </p:nvSpPr>
            <p:spPr>
              <a:xfrm flipH="1" rot="10020000">
                <a:off x="7553520" y="3695400"/>
                <a:ext cx="694080" cy="239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55" name="Freeform 36"/>
            <p:cNvSpPr/>
            <p:nvPr/>
          </p:nvSpPr>
          <p:spPr>
            <a:xfrm>
              <a:off x="1915920" y="3240"/>
              <a:ext cx="1369440" cy="14047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" name="Freeform 37"/>
            <p:cNvSpPr/>
            <p:nvPr/>
          </p:nvSpPr>
          <p:spPr>
            <a:xfrm flipV="1" rot="9840000">
              <a:off x="3414240" y="164160"/>
              <a:ext cx="1081440" cy="9396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" name="Freeform 38"/>
            <p:cNvSpPr/>
            <p:nvPr/>
          </p:nvSpPr>
          <p:spPr>
            <a:xfrm flipV="1" rot="9840000">
              <a:off x="3158280" y="1361880"/>
              <a:ext cx="523080" cy="4392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8" name="Freeform 39"/>
            <p:cNvSpPr/>
            <p:nvPr/>
          </p:nvSpPr>
          <p:spPr>
            <a:xfrm flipV="1" rot="9840000">
              <a:off x="3519360" y="1285200"/>
              <a:ext cx="194040" cy="3682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9" name="Freeform 40"/>
            <p:cNvSpPr/>
            <p:nvPr/>
          </p:nvSpPr>
          <p:spPr>
            <a:xfrm>
              <a:off x="2530080" y="0"/>
              <a:ext cx="195480" cy="1904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0" name="Freeform 41"/>
            <p:cNvSpPr/>
            <p:nvPr/>
          </p:nvSpPr>
          <p:spPr>
            <a:xfrm flipV="1" rot="9840000">
              <a:off x="3439080" y="1964520"/>
              <a:ext cx="623520" cy="365004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1" name="Freeform 42"/>
            <p:cNvSpPr/>
            <p:nvPr/>
          </p:nvSpPr>
          <p:spPr>
            <a:xfrm>
              <a:off x="-20520" y="2933640"/>
              <a:ext cx="55440" cy="20808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4" name="Text Box 4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Text Box 4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8F01B5C-A69B-49F3-83D2-AFA2B408963A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1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4952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953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4954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55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56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957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958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4959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60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61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62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63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964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4965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966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967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968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4969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70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71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972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4973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74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75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976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4977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78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79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980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1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2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3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4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5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6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7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8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9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90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91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92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93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9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6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7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8" name="PlaceHolder 3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C9E8699-9A2C-42D7-B0BD-E605D7A75D19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5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5036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37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5038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39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40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041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42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5043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44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45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46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47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5048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5049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050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051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052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5053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54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55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056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5057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58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59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060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5061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62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63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064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65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66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67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68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69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0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1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2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3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4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5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6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7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07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0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1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2" name="PlaceHolder 3"/>
          <p:cNvSpPr>
            <a:spLocks noGrp="1"/>
          </p:cNvSpPr>
          <p:nvPr>
            <p:ph type="sldNum" idx="6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6DD4E2D-E330-4B96-9D5F-450AF3125A6C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9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5120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121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5122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23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24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125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126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5127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28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29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30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31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5132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5133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134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135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136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5137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38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39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140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5141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42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43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144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5145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46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47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148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49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50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51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52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53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54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55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56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57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58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59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60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61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16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4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5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6" name="PlaceHolder 3"/>
          <p:cNvSpPr>
            <a:spLocks noGrp="1"/>
          </p:cNvSpPr>
          <p:nvPr>
            <p:ph type="sldNum" idx="6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0D22BC7-BABF-4014-A607-4B1BAA9C7F2F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504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5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506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7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8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09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10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511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2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3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4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5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516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517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18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19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20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521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2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3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525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6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7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8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529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0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1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32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3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4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5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6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7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8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9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0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1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2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3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4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5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AAE2E05-ADD9-4D7E-968A-C1D995A1D319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588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89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590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1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2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93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94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595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6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7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8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9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00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601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2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3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04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605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6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7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08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609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0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1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12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613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4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5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16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7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8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9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0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1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2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3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4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5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6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7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8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9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2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4F556FE-5427-4F52-931C-475BDFA7AD8F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672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73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674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5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6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77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78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679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0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1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3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84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685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86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87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88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689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0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1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693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4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5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96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697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8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9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00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1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2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3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4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5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6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7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8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9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0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1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2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3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6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DD7D88B-67B7-4654-8350-983C87434DD3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613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1" name="Text Box 1"/>
          <p:cNvSpPr/>
          <p:nvPr/>
        </p:nvSpPr>
        <p:spPr>
          <a:xfrm>
            <a:off x="2556000" y="404640"/>
            <a:ext cx="6192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Verdana"/>
                <a:ea typeface="Arial"/>
              </a:rPr>
              <a:t>ГОТОВНОСТЬ РЕБЕНКА К ШКОЛЬНОМУ ОБУЧЕНИЮ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2" name="Text Box 2"/>
          <p:cNvSpPr/>
          <p:nvPr/>
        </p:nvSpPr>
        <p:spPr>
          <a:xfrm>
            <a:off x="1619280" y="4437000"/>
            <a:ext cx="70833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  <a:ea typeface="Arial"/>
              </a:rPr>
              <a:t>МАОУ Заборьевская СО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1" name="Text Box 1"/>
          <p:cNvSpPr/>
          <p:nvPr/>
        </p:nvSpPr>
        <p:spPr>
          <a:xfrm>
            <a:off x="3643200" y="1341360"/>
            <a:ext cx="462924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ИТАК, что же является самым важным при подготовке ребенка к школ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42" name="Picture 2" descr=""/>
          <p:cNvPicPr/>
          <p:nvPr/>
        </p:nvPicPr>
        <p:blipFill>
          <a:blip r:embed="rId1"/>
          <a:stretch/>
        </p:blipFill>
        <p:spPr>
          <a:xfrm>
            <a:off x="3706920" y="115920"/>
            <a:ext cx="5229000" cy="1073160"/>
          </a:xfrm>
          <a:prstGeom prst="rect">
            <a:avLst/>
          </a:prstGeom>
          <a:ln w="0">
            <a:noFill/>
          </a:ln>
        </p:spPr>
      </p:pic>
      <p:pic>
        <p:nvPicPr>
          <p:cNvPr id="5243" name="Picture 3" descr=""/>
          <p:cNvPicPr/>
          <p:nvPr/>
        </p:nvPicPr>
        <p:blipFill>
          <a:blip r:embed="rId2"/>
          <a:stretch/>
        </p:blipFill>
        <p:spPr>
          <a:xfrm>
            <a:off x="826920" y="2997360"/>
            <a:ext cx="3600720" cy="2449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4" name="Group 1"/>
          <p:cNvGrpSpPr/>
          <p:nvPr/>
        </p:nvGrpSpPr>
        <p:grpSpPr>
          <a:xfrm>
            <a:off x="2305080" y="469800"/>
            <a:ext cx="1679400" cy="1606680"/>
            <a:chOff x="2305080" y="469800"/>
            <a:chExt cx="1679400" cy="1606680"/>
          </a:xfrm>
        </p:grpSpPr>
        <p:pic>
          <p:nvPicPr>
            <p:cNvPr id="5245" name="Picture 2" descr=""/>
            <p:cNvPicPr/>
            <p:nvPr/>
          </p:nvPicPr>
          <p:blipFill>
            <a:blip r:embed="rId1"/>
            <a:stretch/>
          </p:blipFill>
          <p:spPr>
            <a:xfrm>
              <a:off x="2305080" y="469800"/>
              <a:ext cx="167940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6" name="Text Box 3"/>
            <p:cNvSpPr/>
            <p:nvPr/>
          </p:nvSpPr>
          <p:spPr>
            <a:xfrm>
              <a:off x="2587680" y="719280"/>
              <a:ext cx="11095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Здоровье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247" name="Group 4"/>
          <p:cNvGrpSpPr/>
          <p:nvPr/>
        </p:nvGrpSpPr>
        <p:grpSpPr>
          <a:xfrm>
            <a:off x="3803760" y="182520"/>
            <a:ext cx="1681200" cy="1608120"/>
            <a:chOff x="3803760" y="182520"/>
            <a:chExt cx="1681200" cy="1608120"/>
          </a:xfrm>
        </p:grpSpPr>
        <p:pic>
          <p:nvPicPr>
            <p:cNvPr id="5248" name="Picture 5" descr=""/>
            <p:cNvPicPr/>
            <p:nvPr/>
          </p:nvPicPr>
          <p:blipFill>
            <a:blip r:embed="rId2"/>
            <a:stretch/>
          </p:blipFill>
          <p:spPr>
            <a:xfrm>
              <a:off x="3803760" y="182520"/>
              <a:ext cx="168120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9" name="Text Box 6"/>
            <p:cNvSpPr/>
            <p:nvPr/>
          </p:nvSpPr>
          <p:spPr>
            <a:xfrm>
              <a:off x="4087800" y="433440"/>
              <a:ext cx="110952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мять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250" name="Group 7"/>
          <p:cNvGrpSpPr/>
          <p:nvPr/>
        </p:nvGrpSpPr>
        <p:grpSpPr>
          <a:xfrm>
            <a:off x="5443560" y="328680"/>
            <a:ext cx="1681200" cy="1608120"/>
            <a:chOff x="5443560" y="328680"/>
            <a:chExt cx="1681200" cy="1608120"/>
          </a:xfrm>
        </p:grpSpPr>
        <p:pic>
          <p:nvPicPr>
            <p:cNvPr id="5251" name="Picture 8" descr=""/>
            <p:cNvPicPr/>
            <p:nvPr/>
          </p:nvPicPr>
          <p:blipFill>
            <a:blip r:embed="rId3"/>
            <a:stretch/>
          </p:blipFill>
          <p:spPr>
            <a:xfrm>
              <a:off x="5443560" y="328680"/>
              <a:ext cx="168120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2" name="Text Box 9"/>
            <p:cNvSpPr/>
            <p:nvPr/>
          </p:nvSpPr>
          <p:spPr>
            <a:xfrm>
              <a:off x="5730840" y="576360"/>
              <a:ext cx="11095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Мышление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253" name="Group 10"/>
          <p:cNvGrpSpPr/>
          <p:nvPr/>
        </p:nvGrpSpPr>
        <p:grpSpPr>
          <a:xfrm>
            <a:off x="6377040" y="1182600"/>
            <a:ext cx="1606320" cy="1608120"/>
            <a:chOff x="6377040" y="1182600"/>
            <a:chExt cx="1606320" cy="1608120"/>
          </a:xfrm>
        </p:grpSpPr>
        <p:pic>
          <p:nvPicPr>
            <p:cNvPr id="5254" name="Picture 11" descr=""/>
            <p:cNvPicPr/>
            <p:nvPr/>
          </p:nvPicPr>
          <p:blipFill>
            <a:blip r:embed="rId4"/>
            <a:stretch/>
          </p:blipFill>
          <p:spPr>
            <a:xfrm>
              <a:off x="6377040" y="1182600"/>
              <a:ext cx="160632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5" name="Text Box 12"/>
            <p:cNvSpPr/>
            <p:nvPr/>
          </p:nvSpPr>
          <p:spPr>
            <a:xfrm>
              <a:off x="6648480" y="1433520"/>
              <a:ext cx="106056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Внимание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5256" name="Picture 13" descr=""/>
          <p:cNvPicPr/>
          <p:nvPr/>
        </p:nvPicPr>
        <p:blipFill>
          <a:blip r:embed="rId5"/>
          <a:stretch/>
        </p:blipFill>
        <p:spPr>
          <a:xfrm>
            <a:off x="2798640" y="1749600"/>
            <a:ext cx="1754280" cy="1609560"/>
          </a:xfrm>
          <a:prstGeom prst="rect">
            <a:avLst/>
          </a:prstGeom>
          <a:ln w="0">
            <a:noFill/>
          </a:ln>
        </p:spPr>
      </p:pic>
      <p:sp>
        <p:nvSpPr>
          <p:cNvPr id="5257" name="Text Box 14"/>
          <p:cNvSpPr/>
          <p:nvPr/>
        </p:nvSpPr>
        <p:spPr>
          <a:xfrm>
            <a:off x="2987640" y="2004840"/>
            <a:ext cx="127152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рительно-моторная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ординац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58" name="Group 15"/>
          <p:cNvGrpSpPr/>
          <p:nvPr/>
        </p:nvGrpSpPr>
        <p:grpSpPr>
          <a:xfrm>
            <a:off x="4157640" y="1182600"/>
            <a:ext cx="1754280" cy="1608120"/>
            <a:chOff x="4157640" y="1182600"/>
            <a:chExt cx="1754280" cy="1608120"/>
          </a:xfrm>
        </p:grpSpPr>
        <p:pic>
          <p:nvPicPr>
            <p:cNvPr id="5259" name="Picture 16" descr=""/>
            <p:cNvPicPr/>
            <p:nvPr/>
          </p:nvPicPr>
          <p:blipFill>
            <a:blip r:embed="rId6"/>
            <a:stretch/>
          </p:blipFill>
          <p:spPr>
            <a:xfrm>
              <a:off x="4157640" y="1182600"/>
              <a:ext cx="175428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0" name="Text Box 17"/>
            <p:cNvSpPr/>
            <p:nvPr/>
          </p:nvSpPr>
          <p:spPr>
            <a:xfrm>
              <a:off x="4456080" y="1433520"/>
              <a:ext cx="115884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чь,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угозор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261" name="Group 18"/>
          <p:cNvGrpSpPr/>
          <p:nvPr/>
        </p:nvGrpSpPr>
        <p:grpSpPr>
          <a:xfrm>
            <a:off x="5230800" y="2182680"/>
            <a:ext cx="1754280" cy="1606680"/>
            <a:chOff x="5230800" y="2182680"/>
            <a:chExt cx="1754280" cy="1606680"/>
          </a:xfrm>
        </p:grpSpPr>
        <p:pic>
          <p:nvPicPr>
            <p:cNvPr id="5262" name="Picture 19" descr=""/>
            <p:cNvPicPr/>
            <p:nvPr/>
          </p:nvPicPr>
          <p:blipFill>
            <a:blip r:embed="rId7"/>
            <a:stretch/>
          </p:blipFill>
          <p:spPr>
            <a:xfrm>
              <a:off x="5230800" y="2182680"/>
              <a:ext cx="175428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3" name="Text Box 20"/>
            <p:cNvSpPr/>
            <p:nvPr/>
          </p:nvSpPr>
          <p:spPr>
            <a:xfrm>
              <a:off x="5527800" y="2433600"/>
              <a:ext cx="115884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Желание быть школьником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264" name="Group 21"/>
          <p:cNvGrpSpPr/>
          <p:nvPr/>
        </p:nvGrpSpPr>
        <p:grpSpPr>
          <a:xfrm>
            <a:off x="853920" y="1182600"/>
            <a:ext cx="1795680" cy="1608120"/>
            <a:chOff x="853920" y="1182600"/>
            <a:chExt cx="1795680" cy="1608120"/>
          </a:xfrm>
        </p:grpSpPr>
        <p:pic>
          <p:nvPicPr>
            <p:cNvPr id="5265" name="Picture 22" descr=""/>
            <p:cNvPicPr/>
            <p:nvPr/>
          </p:nvPicPr>
          <p:blipFill>
            <a:blip r:embed="rId8"/>
            <a:stretch/>
          </p:blipFill>
          <p:spPr>
            <a:xfrm>
              <a:off x="853920" y="1182600"/>
              <a:ext cx="179568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6" name="Text Box 23"/>
            <p:cNvSpPr/>
            <p:nvPr/>
          </p:nvSpPr>
          <p:spPr>
            <a:xfrm>
              <a:off x="1170000" y="1433520"/>
              <a:ext cx="115884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Самостоятельность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Самоорганизация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267" name="Group 24"/>
          <p:cNvGrpSpPr/>
          <p:nvPr/>
        </p:nvGrpSpPr>
        <p:grpSpPr>
          <a:xfrm>
            <a:off x="1420920" y="2395440"/>
            <a:ext cx="1881000" cy="1614600"/>
            <a:chOff x="1420920" y="2395440"/>
            <a:chExt cx="1881000" cy="1614600"/>
          </a:xfrm>
        </p:grpSpPr>
        <p:pic>
          <p:nvPicPr>
            <p:cNvPr id="5268" name="Picture 25" descr=""/>
            <p:cNvPicPr/>
            <p:nvPr/>
          </p:nvPicPr>
          <p:blipFill>
            <a:blip r:embed="rId9"/>
            <a:stretch/>
          </p:blipFill>
          <p:spPr>
            <a:xfrm>
              <a:off x="1420920" y="2395440"/>
              <a:ext cx="188100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9" name="Text Box 26"/>
            <p:cNvSpPr/>
            <p:nvPr/>
          </p:nvSpPr>
          <p:spPr>
            <a:xfrm>
              <a:off x="1741320" y="2647800"/>
              <a:ext cx="115920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Умение общаться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270" name="AutoShape 27"/>
          <p:cNvSpPr/>
          <p:nvPr/>
        </p:nvSpPr>
        <p:spPr>
          <a:xfrm>
            <a:off x="3429000" y="4286160"/>
            <a:ext cx="2414520" cy="1735200"/>
          </a:xfrm>
          <a:prstGeom prst="pie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Готовность ребенк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к школ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1" name="Freeform 28"/>
          <p:cNvSpPr/>
          <p:nvPr/>
        </p:nvSpPr>
        <p:spPr>
          <a:xfrm>
            <a:off x="4286160" y="38577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cubicBezTo>
                  <a:pt x="709705" y="0"/>
                  <a:pt x="914400" y="204695"/>
                  <a:pt x="914400" y="457200"/>
                </a:cubicBezTo>
                <a:lnTo>
                  <a:pt x="685800" y="457200"/>
                </a:lnTo>
                <a:cubicBezTo>
                  <a:pt x="685800" y="330948"/>
                  <a:pt x="583452" y="228600"/>
                  <a:pt x="457200" y="228600"/>
                </a:cubicBezTo>
                <a:cubicBezTo>
                  <a:pt x="330948" y="228600"/>
                  <a:pt x="228600" y="330948"/>
                  <a:pt x="228600" y="457200"/>
                </a:cubicBezTo>
                <a:lnTo>
                  <a:pt x="0" y="457200"/>
                </a:lnTo>
                <a:close/>
              </a:path>
            </a:pathLst>
          </a:custGeom>
          <a:solidFill>
            <a:srgbClr val="edfad2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2" name="Freeform 29"/>
          <p:cNvSpPr/>
          <p:nvPr/>
        </p:nvSpPr>
        <p:spPr>
          <a:xfrm>
            <a:off x="2924280" y="3700440"/>
            <a:ext cx="722160" cy="652320"/>
          </a:xfrm>
          <a:custGeom>
            <a:avLst/>
            <a:gdLst/>
            <a:ahLst/>
            <a:rect l="l" t="t" r="r" b="b"/>
            <a:pathLst>
              <a:path w="723014" h="652103">
                <a:moveTo>
                  <a:pt x="0" y="0"/>
                </a:moveTo>
                <a:cubicBezTo>
                  <a:pt x="16849" y="2407"/>
                  <a:pt x="104275" y="13493"/>
                  <a:pt x="127591" y="21265"/>
                </a:cubicBezTo>
                <a:cubicBezTo>
                  <a:pt x="294414" y="76872"/>
                  <a:pt x="52199" y="13049"/>
                  <a:pt x="212652" y="53163"/>
                </a:cubicBezTo>
                <a:cubicBezTo>
                  <a:pt x="223284" y="63796"/>
                  <a:pt x="234923" y="73509"/>
                  <a:pt x="244549" y="85061"/>
                </a:cubicBezTo>
                <a:cubicBezTo>
                  <a:pt x="282602" y="130725"/>
                  <a:pt x="272533" y="150551"/>
                  <a:pt x="287080" y="223284"/>
                </a:cubicBezTo>
                <a:cubicBezTo>
                  <a:pt x="293435" y="255056"/>
                  <a:pt x="300825" y="327102"/>
                  <a:pt x="340242" y="340242"/>
                </a:cubicBezTo>
                <a:cubicBezTo>
                  <a:pt x="429502" y="369996"/>
                  <a:pt x="288281" y="321250"/>
                  <a:pt x="435935" y="382772"/>
                </a:cubicBezTo>
                <a:cubicBezTo>
                  <a:pt x="456626" y="391393"/>
                  <a:pt x="478665" y="396377"/>
                  <a:pt x="499731" y="404037"/>
                </a:cubicBezTo>
                <a:cubicBezTo>
                  <a:pt x="517668" y="410560"/>
                  <a:pt x="534957" y="418780"/>
                  <a:pt x="552894" y="425303"/>
                </a:cubicBezTo>
                <a:cubicBezTo>
                  <a:pt x="649249" y="460342"/>
                  <a:pt x="584249" y="430348"/>
                  <a:pt x="659219" y="467833"/>
                </a:cubicBezTo>
                <a:cubicBezTo>
                  <a:pt x="666307" y="478465"/>
                  <a:pt x="675294" y="488053"/>
                  <a:pt x="680484" y="499730"/>
                </a:cubicBezTo>
                <a:cubicBezTo>
                  <a:pt x="689588" y="520214"/>
                  <a:pt x="701749" y="563526"/>
                  <a:pt x="701749" y="563526"/>
                </a:cubicBezTo>
                <a:cubicBezTo>
                  <a:pt x="712822" y="652103"/>
                  <a:pt x="683808" y="648586"/>
                  <a:pt x="723014" y="648586"/>
                </a:cubicBezTo>
              </a:path>
            </a:pathLst>
          </a:custGeom>
          <a:noFill/>
          <a:ln w="28440">
            <a:solidFill>
              <a:srgbClr val="e8f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3" name="Freeform 30"/>
          <p:cNvSpPr/>
          <p:nvPr/>
        </p:nvSpPr>
        <p:spPr>
          <a:xfrm>
            <a:off x="3679920" y="3286080"/>
            <a:ext cx="264960" cy="987480"/>
          </a:xfrm>
          <a:custGeom>
            <a:avLst/>
            <a:gdLst/>
            <a:ahLst/>
            <a:rect l="l" t="t" r="r" b="b"/>
            <a:pathLst>
              <a:path w="265219" h="988828">
                <a:moveTo>
                  <a:pt x="137628" y="0"/>
                </a:moveTo>
                <a:cubicBezTo>
                  <a:pt x="126996" y="7089"/>
                  <a:pt x="117161" y="15551"/>
                  <a:pt x="105731" y="21266"/>
                </a:cubicBezTo>
                <a:cubicBezTo>
                  <a:pt x="95707" y="26278"/>
                  <a:pt x="81758" y="23973"/>
                  <a:pt x="73833" y="31898"/>
                </a:cubicBezTo>
                <a:cubicBezTo>
                  <a:pt x="37274" y="68457"/>
                  <a:pt x="34040" y="87481"/>
                  <a:pt x="20670" y="127591"/>
                </a:cubicBezTo>
                <a:cubicBezTo>
                  <a:pt x="31632" y="237211"/>
                  <a:pt x="0" y="223540"/>
                  <a:pt x="73833" y="255182"/>
                </a:cubicBezTo>
                <a:cubicBezTo>
                  <a:pt x="84135" y="259597"/>
                  <a:pt x="95098" y="262270"/>
                  <a:pt x="105731" y="265814"/>
                </a:cubicBezTo>
                <a:lnTo>
                  <a:pt x="169526" y="308345"/>
                </a:lnTo>
                <a:lnTo>
                  <a:pt x="201424" y="329610"/>
                </a:lnTo>
                <a:lnTo>
                  <a:pt x="243954" y="393405"/>
                </a:lnTo>
                <a:lnTo>
                  <a:pt x="265219" y="425303"/>
                </a:lnTo>
                <a:cubicBezTo>
                  <a:pt x="264168" y="434764"/>
                  <a:pt x="260959" y="524552"/>
                  <a:pt x="243954" y="552893"/>
                </a:cubicBezTo>
                <a:cubicBezTo>
                  <a:pt x="238796" y="561489"/>
                  <a:pt x="229777" y="567070"/>
                  <a:pt x="222689" y="574159"/>
                </a:cubicBezTo>
                <a:cubicBezTo>
                  <a:pt x="219145" y="584791"/>
                  <a:pt x="217499" y="596259"/>
                  <a:pt x="212056" y="606056"/>
                </a:cubicBezTo>
                <a:cubicBezTo>
                  <a:pt x="199644" y="628397"/>
                  <a:pt x="177608" y="645606"/>
                  <a:pt x="169526" y="669852"/>
                </a:cubicBezTo>
                <a:lnTo>
                  <a:pt x="158893" y="701749"/>
                </a:lnTo>
                <a:cubicBezTo>
                  <a:pt x="162437" y="733647"/>
                  <a:pt x="161742" y="766306"/>
                  <a:pt x="169526" y="797442"/>
                </a:cubicBezTo>
                <a:cubicBezTo>
                  <a:pt x="172625" y="809839"/>
                  <a:pt x="185757" y="817594"/>
                  <a:pt x="190791" y="829340"/>
                </a:cubicBezTo>
                <a:cubicBezTo>
                  <a:pt x="231987" y="925463"/>
                  <a:pt x="169302" y="823686"/>
                  <a:pt x="222689" y="903768"/>
                </a:cubicBezTo>
                <a:cubicBezTo>
                  <a:pt x="199182" y="974288"/>
                  <a:pt x="201424" y="945148"/>
                  <a:pt x="201424" y="988828"/>
                </a:cubicBezTo>
              </a:path>
            </a:pathLst>
          </a:custGeom>
          <a:noFill/>
          <a:ln w="28440">
            <a:solidFill>
              <a:srgbClr val="e8f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4" name="Freeform 31"/>
          <p:cNvSpPr/>
          <p:nvPr/>
        </p:nvSpPr>
        <p:spPr>
          <a:xfrm>
            <a:off x="4632480" y="2679840"/>
            <a:ext cx="172800" cy="1190520"/>
          </a:xfrm>
          <a:custGeom>
            <a:avLst/>
            <a:gdLst/>
            <a:ahLst/>
            <a:rect l="l" t="t" r="r" b="b"/>
            <a:pathLst>
              <a:path w="173373" h="1190846">
                <a:moveTo>
                  <a:pt x="173373" y="0"/>
                </a:moveTo>
                <a:cubicBezTo>
                  <a:pt x="162741" y="14177"/>
                  <a:pt x="152821" y="28917"/>
                  <a:pt x="141476" y="42530"/>
                </a:cubicBezTo>
                <a:cubicBezTo>
                  <a:pt x="135058" y="50231"/>
                  <a:pt x="126472" y="55967"/>
                  <a:pt x="120210" y="63795"/>
                </a:cubicBezTo>
                <a:cubicBezTo>
                  <a:pt x="112227" y="73774"/>
                  <a:pt x="106033" y="85060"/>
                  <a:pt x="98945" y="95693"/>
                </a:cubicBezTo>
                <a:cubicBezTo>
                  <a:pt x="79057" y="195138"/>
                  <a:pt x="78635" y="173899"/>
                  <a:pt x="98945" y="329609"/>
                </a:cubicBezTo>
                <a:cubicBezTo>
                  <a:pt x="101844" y="351836"/>
                  <a:pt x="114773" y="371658"/>
                  <a:pt x="120210" y="393404"/>
                </a:cubicBezTo>
                <a:lnTo>
                  <a:pt x="130843" y="435935"/>
                </a:lnTo>
                <a:cubicBezTo>
                  <a:pt x="123097" y="559863"/>
                  <a:pt x="133012" y="566565"/>
                  <a:pt x="109578" y="648586"/>
                </a:cubicBezTo>
                <a:cubicBezTo>
                  <a:pt x="106499" y="659362"/>
                  <a:pt x="105162" y="671158"/>
                  <a:pt x="98945" y="680483"/>
                </a:cubicBezTo>
                <a:cubicBezTo>
                  <a:pt x="90604" y="692994"/>
                  <a:pt x="76674" y="700829"/>
                  <a:pt x="67048" y="712381"/>
                </a:cubicBezTo>
                <a:cubicBezTo>
                  <a:pt x="0" y="792840"/>
                  <a:pt x="86372" y="703692"/>
                  <a:pt x="24517" y="765544"/>
                </a:cubicBezTo>
                <a:cubicBezTo>
                  <a:pt x="11701" y="803996"/>
                  <a:pt x="3132" y="813120"/>
                  <a:pt x="24517" y="861237"/>
                </a:cubicBezTo>
                <a:cubicBezTo>
                  <a:pt x="30624" y="874978"/>
                  <a:pt x="45782" y="882502"/>
                  <a:pt x="56415" y="893135"/>
                </a:cubicBezTo>
                <a:cubicBezTo>
                  <a:pt x="59959" y="903767"/>
                  <a:pt x="62036" y="915008"/>
                  <a:pt x="67048" y="925032"/>
                </a:cubicBezTo>
                <a:cubicBezTo>
                  <a:pt x="72763" y="936462"/>
                  <a:pt x="88313" y="944151"/>
                  <a:pt x="88313" y="956930"/>
                </a:cubicBezTo>
                <a:cubicBezTo>
                  <a:pt x="88313" y="1036673"/>
                  <a:pt x="75908" y="1010979"/>
                  <a:pt x="35150" y="1031358"/>
                </a:cubicBezTo>
                <a:cubicBezTo>
                  <a:pt x="23720" y="1037073"/>
                  <a:pt x="13885" y="1045535"/>
                  <a:pt x="3252" y="1052623"/>
                </a:cubicBezTo>
                <a:cubicBezTo>
                  <a:pt x="16892" y="1148102"/>
                  <a:pt x="13885" y="1101990"/>
                  <a:pt x="13885" y="1190846"/>
                </a:cubicBezTo>
              </a:path>
            </a:pathLst>
          </a:custGeom>
          <a:noFill/>
          <a:ln w="28440">
            <a:solidFill>
              <a:srgbClr val="e8f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5" name="Freeform 32"/>
          <p:cNvSpPr/>
          <p:nvPr/>
        </p:nvSpPr>
        <p:spPr>
          <a:xfrm>
            <a:off x="5219640" y="3625920"/>
            <a:ext cx="405000" cy="647640"/>
          </a:xfrm>
          <a:custGeom>
            <a:avLst/>
            <a:gdLst/>
            <a:ahLst/>
            <a:rect l="l" t="t" r="r" b="b"/>
            <a:pathLst>
              <a:path w="404390" h="648586">
                <a:moveTo>
                  <a:pt x="404390" y="0"/>
                </a:moveTo>
                <a:cubicBezTo>
                  <a:pt x="383558" y="2604"/>
                  <a:pt x="295386" y="11525"/>
                  <a:pt x="266167" y="21265"/>
                </a:cubicBezTo>
                <a:cubicBezTo>
                  <a:pt x="251130" y="26277"/>
                  <a:pt x="237814" y="35442"/>
                  <a:pt x="223637" y="42531"/>
                </a:cubicBezTo>
                <a:cubicBezTo>
                  <a:pt x="216549" y="53163"/>
                  <a:pt x="210553" y="64611"/>
                  <a:pt x="202372" y="74428"/>
                </a:cubicBezTo>
                <a:cubicBezTo>
                  <a:pt x="192746" y="85980"/>
                  <a:pt x="177199" y="92877"/>
                  <a:pt x="170474" y="106326"/>
                </a:cubicBezTo>
                <a:cubicBezTo>
                  <a:pt x="162392" y="122490"/>
                  <a:pt x="163385" y="141768"/>
                  <a:pt x="159841" y="159489"/>
                </a:cubicBezTo>
                <a:cubicBezTo>
                  <a:pt x="156297" y="237461"/>
                  <a:pt x="155433" y="315601"/>
                  <a:pt x="149209" y="393405"/>
                </a:cubicBezTo>
                <a:cubicBezTo>
                  <a:pt x="148315" y="404577"/>
                  <a:pt x="147328" y="418302"/>
                  <a:pt x="138576" y="425303"/>
                </a:cubicBezTo>
                <a:cubicBezTo>
                  <a:pt x="127165" y="434432"/>
                  <a:pt x="110043" y="431736"/>
                  <a:pt x="96046" y="435935"/>
                </a:cubicBezTo>
                <a:cubicBezTo>
                  <a:pt x="74576" y="442376"/>
                  <a:pt x="32251" y="457200"/>
                  <a:pt x="32251" y="457200"/>
                </a:cubicBezTo>
                <a:cubicBezTo>
                  <a:pt x="28707" y="471377"/>
                  <a:pt x="25633" y="485680"/>
                  <a:pt x="21618" y="499731"/>
                </a:cubicBezTo>
                <a:cubicBezTo>
                  <a:pt x="18539" y="510507"/>
                  <a:pt x="12690" y="520551"/>
                  <a:pt x="10986" y="531628"/>
                </a:cubicBezTo>
                <a:cubicBezTo>
                  <a:pt x="0" y="603035"/>
                  <a:pt x="353" y="606160"/>
                  <a:pt x="353" y="648586"/>
                </a:cubicBezTo>
              </a:path>
            </a:pathLst>
          </a:custGeom>
          <a:noFill/>
          <a:ln w="28440">
            <a:solidFill>
              <a:srgbClr val="e8f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6" name="Freeform 33"/>
          <p:cNvSpPr/>
          <p:nvPr/>
        </p:nvSpPr>
        <p:spPr>
          <a:xfrm>
            <a:off x="5751360" y="1849320"/>
            <a:ext cx="351000" cy="425520"/>
          </a:xfrm>
          <a:custGeom>
            <a:avLst/>
            <a:gdLst/>
            <a:ahLst/>
            <a:rect l="l" t="t" r="r" b="b"/>
            <a:pathLst>
              <a:path w="350874" h="425302">
                <a:moveTo>
                  <a:pt x="350874" y="0"/>
                </a:moveTo>
                <a:cubicBezTo>
                  <a:pt x="337254" y="3405"/>
                  <a:pt x="291695" y="13641"/>
                  <a:pt x="276446" y="21265"/>
                </a:cubicBezTo>
                <a:cubicBezTo>
                  <a:pt x="265016" y="26980"/>
                  <a:pt x="255181" y="35442"/>
                  <a:pt x="244549" y="42530"/>
                </a:cubicBezTo>
                <a:cubicBezTo>
                  <a:pt x="248093" y="70884"/>
                  <a:pt x="250069" y="99478"/>
                  <a:pt x="255181" y="127591"/>
                </a:cubicBezTo>
                <a:cubicBezTo>
                  <a:pt x="257186" y="138618"/>
                  <a:pt x="265814" y="148280"/>
                  <a:pt x="265814" y="159488"/>
                </a:cubicBezTo>
                <a:cubicBezTo>
                  <a:pt x="265814" y="177560"/>
                  <a:pt x="269446" y="201556"/>
                  <a:pt x="255181" y="212651"/>
                </a:cubicBezTo>
                <a:cubicBezTo>
                  <a:pt x="232111" y="230594"/>
                  <a:pt x="170121" y="233916"/>
                  <a:pt x="170121" y="233916"/>
                </a:cubicBezTo>
                <a:cubicBezTo>
                  <a:pt x="155944" y="241005"/>
                  <a:pt x="139767" y="245035"/>
                  <a:pt x="127591" y="255182"/>
                </a:cubicBezTo>
                <a:cubicBezTo>
                  <a:pt x="117774" y="263363"/>
                  <a:pt x="114309" y="277101"/>
                  <a:pt x="106326" y="287079"/>
                </a:cubicBezTo>
                <a:cubicBezTo>
                  <a:pt x="100064" y="294907"/>
                  <a:pt x="92149" y="301256"/>
                  <a:pt x="85060" y="308344"/>
                </a:cubicBezTo>
                <a:cubicBezTo>
                  <a:pt x="76950" y="381337"/>
                  <a:pt x="101385" y="425302"/>
                  <a:pt x="10633" y="425302"/>
                </a:cubicBezTo>
                <a:lnTo>
                  <a:pt x="0" y="425302"/>
                </a:lnTo>
              </a:path>
            </a:pathLst>
          </a:custGeom>
          <a:noFill/>
          <a:ln w="28440">
            <a:solidFill>
              <a:srgbClr val="e8f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7" name="Freeform 34"/>
          <p:cNvSpPr/>
          <p:nvPr/>
        </p:nvSpPr>
        <p:spPr>
          <a:xfrm>
            <a:off x="4954680" y="3220920"/>
            <a:ext cx="350640" cy="681120"/>
          </a:xfrm>
          <a:custGeom>
            <a:avLst/>
            <a:gdLst/>
            <a:ahLst/>
            <a:rect l="l" t="t" r="r" b="b"/>
            <a:pathLst>
              <a:path w="350875" h="680484">
                <a:moveTo>
                  <a:pt x="350875" y="0"/>
                </a:moveTo>
                <a:cubicBezTo>
                  <a:pt x="348231" y="529"/>
                  <a:pt x="276710" y="12548"/>
                  <a:pt x="265814" y="21265"/>
                </a:cubicBezTo>
                <a:cubicBezTo>
                  <a:pt x="238417" y="43183"/>
                  <a:pt x="216195" y="70884"/>
                  <a:pt x="191386" y="95693"/>
                </a:cubicBezTo>
                <a:lnTo>
                  <a:pt x="159488" y="127591"/>
                </a:lnTo>
                <a:cubicBezTo>
                  <a:pt x="155262" y="140270"/>
                  <a:pt x="137196" y="191751"/>
                  <a:pt x="138223" y="202019"/>
                </a:cubicBezTo>
                <a:cubicBezTo>
                  <a:pt x="140453" y="224323"/>
                  <a:pt x="159488" y="265814"/>
                  <a:pt x="159488" y="265814"/>
                </a:cubicBezTo>
                <a:cubicBezTo>
                  <a:pt x="157112" y="294331"/>
                  <a:pt x="159940" y="381868"/>
                  <a:pt x="138223" y="425302"/>
                </a:cubicBezTo>
                <a:cubicBezTo>
                  <a:pt x="132508" y="436732"/>
                  <a:pt x="126936" y="449217"/>
                  <a:pt x="116958" y="457200"/>
                </a:cubicBezTo>
                <a:cubicBezTo>
                  <a:pt x="108206" y="464201"/>
                  <a:pt x="95693" y="464289"/>
                  <a:pt x="85061" y="467833"/>
                </a:cubicBezTo>
                <a:cubicBezTo>
                  <a:pt x="67386" y="485507"/>
                  <a:pt x="53260" y="496852"/>
                  <a:pt x="42530" y="520995"/>
                </a:cubicBezTo>
                <a:cubicBezTo>
                  <a:pt x="33426" y="541479"/>
                  <a:pt x="21265" y="584791"/>
                  <a:pt x="21265" y="584791"/>
                </a:cubicBezTo>
                <a:cubicBezTo>
                  <a:pt x="17721" y="606056"/>
                  <a:pt x="15310" y="627541"/>
                  <a:pt x="10633" y="648586"/>
                </a:cubicBezTo>
                <a:cubicBezTo>
                  <a:pt x="8202" y="659527"/>
                  <a:pt x="0" y="680484"/>
                  <a:pt x="0" y="680484"/>
                </a:cubicBezTo>
              </a:path>
            </a:pathLst>
          </a:custGeom>
          <a:noFill/>
          <a:ln w="28440">
            <a:solidFill>
              <a:srgbClr val="e8f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8" name="Freeform 35"/>
          <p:cNvSpPr/>
          <p:nvPr/>
        </p:nvSpPr>
        <p:spPr>
          <a:xfrm>
            <a:off x="4157640" y="3179880"/>
            <a:ext cx="181080" cy="1009440"/>
          </a:xfrm>
          <a:custGeom>
            <a:avLst/>
            <a:gdLst/>
            <a:ahLst/>
            <a:rect l="l" t="t" r="r" b="b"/>
            <a:pathLst>
              <a:path w="180754" h="1010093">
                <a:moveTo>
                  <a:pt x="0" y="0"/>
                </a:moveTo>
                <a:cubicBezTo>
                  <a:pt x="3544" y="28353"/>
                  <a:pt x="3115" y="57493"/>
                  <a:pt x="10633" y="85060"/>
                </a:cubicBezTo>
                <a:cubicBezTo>
                  <a:pt x="13995" y="97389"/>
                  <a:pt x="26864" y="105212"/>
                  <a:pt x="31898" y="116958"/>
                </a:cubicBezTo>
                <a:cubicBezTo>
                  <a:pt x="37654" y="130389"/>
                  <a:pt x="38986" y="145311"/>
                  <a:pt x="42530" y="159488"/>
                </a:cubicBezTo>
                <a:cubicBezTo>
                  <a:pt x="38986" y="191386"/>
                  <a:pt x="37174" y="223524"/>
                  <a:pt x="31898" y="255181"/>
                </a:cubicBezTo>
                <a:cubicBezTo>
                  <a:pt x="30055" y="266236"/>
                  <a:pt x="21265" y="275871"/>
                  <a:pt x="21265" y="287079"/>
                </a:cubicBezTo>
                <a:cubicBezTo>
                  <a:pt x="21265" y="292186"/>
                  <a:pt x="24331" y="394971"/>
                  <a:pt x="42530" y="425302"/>
                </a:cubicBezTo>
                <a:cubicBezTo>
                  <a:pt x="47688" y="433898"/>
                  <a:pt x="57534" y="438739"/>
                  <a:pt x="63796" y="446567"/>
                </a:cubicBezTo>
                <a:cubicBezTo>
                  <a:pt x="104303" y="497200"/>
                  <a:pt x="62275" y="463274"/>
                  <a:pt x="116958" y="499730"/>
                </a:cubicBezTo>
                <a:cubicBezTo>
                  <a:pt x="165050" y="571866"/>
                  <a:pt x="141418" y="545453"/>
                  <a:pt x="180754" y="584791"/>
                </a:cubicBezTo>
                <a:cubicBezTo>
                  <a:pt x="177210" y="620233"/>
                  <a:pt x="175537" y="655912"/>
                  <a:pt x="170121" y="691116"/>
                </a:cubicBezTo>
                <a:cubicBezTo>
                  <a:pt x="166130" y="717055"/>
                  <a:pt x="148021" y="742682"/>
                  <a:pt x="138223" y="765544"/>
                </a:cubicBezTo>
                <a:cubicBezTo>
                  <a:pt x="111808" y="827177"/>
                  <a:pt x="147195" y="768036"/>
                  <a:pt x="106326" y="829339"/>
                </a:cubicBezTo>
                <a:cubicBezTo>
                  <a:pt x="109870" y="843516"/>
                  <a:pt x="111827" y="858187"/>
                  <a:pt x="116958" y="871870"/>
                </a:cubicBezTo>
                <a:cubicBezTo>
                  <a:pt x="125040" y="893424"/>
                  <a:pt x="146077" y="921285"/>
                  <a:pt x="148856" y="946298"/>
                </a:cubicBezTo>
                <a:cubicBezTo>
                  <a:pt x="151204" y="967433"/>
                  <a:pt x="148856" y="988828"/>
                  <a:pt x="148856" y="1010093"/>
                </a:cubicBezTo>
              </a:path>
            </a:pathLst>
          </a:custGeom>
          <a:noFill/>
          <a:ln w="28440">
            <a:solidFill>
              <a:srgbClr val="e8f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9" name="Freeform 36"/>
          <p:cNvSpPr/>
          <p:nvPr/>
        </p:nvSpPr>
        <p:spPr>
          <a:xfrm>
            <a:off x="5378400" y="3678120"/>
            <a:ext cx="438120" cy="617760"/>
          </a:xfrm>
          <a:custGeom>
            <a:avLst/>
            <a:gdLst/>
            <a:ahLst/>
            <a:rect l="l" t="t" r="r" b="b"/>
            <a:pathLst>
              <a:path w="437056" h="616688">
                <a:moveTo>
                  <a:pt x="437056" y="0"/>
                </a:moveTo>
                <a:cubicBezTo>
                  <a:pt x="426424" y="10633"/>
                  <a:pt x="418303" y="24596"/>
                  <a:pt x="405159" y="31898"/>
                </a:cubicBezTo>
                <a:cubicBezTo>
                  <a:pt x="385564" y="42784"/>
                  <a:pt x="341363" y="53163"/>
                  <a:pt x="341363" y="53163"/>
                </a:cubicBezTo>
                <a:cubicBezTo>
                  <a:pt x="330611" y="69291"/>
                  <a:pt x="309466" y="94948"/>
                  <a:pt x="309466" y="116958"/>
                </a:cubicBezTo>
                <a:cubicBezTo>
                  <a:pt x="309466" y="154388"/>
                  <a:pt x="319765" y="179756"/>
                  <a:pt x="330731" y="212651"/>
                </a:cubicBezTo>
                <a:cubicBezTo>
                  <a:pt x="330037" y="215426"/>
                  <a:pt x="315012" y="280147"/>
                  <a:pt x="309466" y="287079"/>
                </a:cubicBezTo>
                <a:cubicBezTo>
                  <a:pt x="301483" y="297058"/>
                  <a:pt x="289245" y="303154"/>
                  <a:pt x="277568" y="308344"/>
                </a:cubicBezTo>
                <a:cubicBezTo>
                  <a:pt x="257085" y="317448"/>
                  <a:pt x="213773" y="329609"/>
                  <a:pt x="213773" y="329609"/>
                </a:cubicBezTo>
                <a:cubicBezTo>
                  <a:pt x="190964" y="398034"/>
                  <a:pt x="221021" y="323714"/>
                  <a:pt x="171242" y="393405"/>
                </a:cubicBezTo>
                <a:cubicBezTo>
                  <a:pt x="162029" y="406303"/>
                  <a:pt x="157065" y="421758"/>
                  <a:pt x="149977" y="435935"/>
                </a:cubicBezTo>
                <a:cubicBezTo>
                  <a:pt x="146433" y="453656"/>
                  <a:pt x="143728" y="471566"/>
                  <a:pt x="139345" y="489098"/>
                </a:cubicBezTo>
                <a:cubicBezTo>
                  <a:pt x="134149" y="509883"/>
                  <a:pt x="128938" y="531515"/>
                  <a:pt x="107447" y="542261"/>
                </a:cubicBezTo>
                <a:cubicBezTo>
                  <a:pt x="87398" y="552286"/>
                  <a:pt x="64917" y="556438"/>
                  <a:pt x="43652" y="563526"/>
                </a:cubicBezTo>
                <a:lnTo>
                  <a:pt x="11754" y="574158"/>
                </a:lnTo>
                <a:cubicBezTo>
                  <a:pt x="0" y="609418"/>
                  <a:pt x="1121" y="594848"/>
                  <a:pt x="1121" y="616688"/>
                </a:cubicBezTo>
              </a:path>
            </a:pathLst>
          </a:custGeom>
          <a:noFill/>
          <a:ln w="28440">
            <a:solidFill>
              <a:srgbClr val="e8f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0" name="Freeform 37"/>
          <p:cNvSpPr/>
          <p:nvPr/>
        </p:nvSpPr>
        <p:spPr>
          <a:xfrm>
            <a:off x="5613480" y="3637080"/>
            <a:ext cx="106200" cy="9360"/>
          </a:xfrm>
          <a:custGeom>
            <a:avLst/>
            <a:gdLst/>
            <a:ahLst/>
            <a:rect l="l" t="t" r="r" b="b"/>
            <a:pathLst>
              <a:path w="106325" h="10632">
                <a:moveTo>
                  <a:pt x="0" y="10632"/>
                </a:moveTo>
                <a:lnTo>
                  <a:pt x="106325" y="0"/>
                </a:lnTo>
              </a:path>
            </a:pathLst>
          </a:custGeom>
          <a:noFill/>
          <a:ln w="28440">
            <a:solidFill>
              <a:srgbClr val="e8f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1" name="Group 2"/>
          <p:cNvGrpSpPr/>
          <p:nvPr/>
        </p:nvGrpSpPr>
        <p:grpSpPr>
          <a:xfrm>
            <a:off x="2571840" y="692280"/>
            <a:ext cx="4952520" cy="5020920"/>
            <a:chOff x="2571840" y="692280"/>
            <a:chExt cx="4952520" cy="5020920"/>
          </a:xfrm>
        </p:grpSpPr>
        <p:pic>
          <p:nvPicPr>
            <p:cNvPr id="5282" name="Picture 3" descr=""/>
            <p:cNvPicPr/>
            <p:nvPr/>
          </p:nvPicPr>
          <p:blipFill>
            <a:blip r:embed="rId1"/>
            <a:stretch/>
          </p:blipFill>
          <p:spPr>
            <a:xfrm>
              <a:off x="2571840" y="692280"/>
              <a:ext cx="4952520" cy="50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3" name="Text Box 4"/>
            <p:cNvSpPr/>
            <p:nvPr/>
          </p:nvSpPr>
          <p:spPr>
            <a:xfrm>
              <a:off x="2571840" y="692280"/>
              <a:ext cx="4952520" cy="50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284" name="Rectangle 5"/>
          <p:cNvSpPr/>
          <p:nvPr/>
        </p:nvSpPr>
        <p:spPr>
          <a:xfrm>
            <a:off x="611280" y="5805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Успехов, терпения и радост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в общении с детьми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14" name="Text Box 2"/>
          <p:cNvSpPr/>
          <p:nvPr/>
        </p:nvSpPr>
        <p:spPr>
          <a:xfrm>
            <a:off x="304920" y="1214280"/>
            <a:ext cx="8686800" cy="48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             </a:t>
            </a: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«Быть готовым к школе –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            </a:t>
            </a: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не значит уметь читать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              </a:t>
            </a: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писать и считать. Быт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               </a:t>
            </a: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готовым к школе – значит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              </a:t>
            </a: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быть готовым всему этому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               </a:t>
            </a: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научиться» (Венгер Л.А.)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5" name="Text Box 1"/>
          <p:cNvSpPr/>
          <p:nvPr/>
        </p:nvSpPr>
        <p:spPr>
          <a:xfrm>
            <a:off x="3857760" y="785880"/>
            <a:ext cx="46368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500" spc="-1" strike="noStrike">
                <a:solidFill>
                  <a:srgbClr val="ff0000"/>
                </a:solidFill>
                <a:latin typeface="Verdana"/>
                <a:ea typeface="Arial"/>
              </a:rPr>
              <a:t>Готовность к школе</a:t>
            </a:r>
            <a:r>
              <a:rPr b="0" lang="ru-RU" sz="5500" spc="-1" strike="noStrike">
                <a:solidFill>
                  <a:srgbClr val="ff0000"/>
                </a:solidFill>
                <a:latin typeface="Verdana"/>
                <a:ea typeface="Arial"/>
              </a:rPr>
              <a:t> -</a:t>
            </a:r>
            <a:r>
              <a:rPr b="0" lang="ru-RU" sz="5500" spc="-1" strike="noStrike">
                <a:solidFill>
                  <a:srgbClr val="006666"/>
                </a:solidFill>
                <a:latin typeface="Verdana"/>
                <a:ea typeface="Arial"/>
              </a:rPr>
              <a:t> </a:t>
            </a: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6" name="Text Box 2"/>
          <p:cNvSpPr/>
          <p:nvPr/>
        </p:nvSpPr>
        <p:spPr>
          <a:xfrm>
            <a:off x="4214880" y="2571840"/>
            <a:ext cx="4279680" cy="3571920"/>
          </a:xfrm>
          <a:prstGeom prst="rect">
            <a:avLst/>
          </a:prstGeom>
          <a:solidFill>
            <a:srgbClr val="fdfefa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4920">
              <a:tabLst>
                <a:tab algn="l" pos="0"/>
                <a:tab algn="l" pos="3492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920">
              <a:buClr>
                <a:srgbClr val="002060"/>
              </a:buClr>
              <a:buFont typeface="Wingdings" charset="2"/>
              <a:buChar char=""/>
              <a:tabLst>
                <a:tab algn="l" pos="3492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это не только набор определенных умений и навыков, которые должны быть сформированы у ребенка к 6-7 года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920">
              <a:tabLst>
                <a:tab algn="l" pos="0"/>
                <a:tab algn="l" pos="3492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920">
              <a:buClr>
                <a:srgbClr val="002060"/>
              </a:buClr>
              <a:buFont typeface="Wingdings" charset="2"/>
              <a:buChar char=""/>
              <a:tabLst>
                <a:tab algn="l" pos="3492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Готовность к школе включает в себя несколько компонент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17" name="Picture 3" descr=""/>
          <p:cNvPicPr/>
          <p:nvPr/>
        </p:nvPicPr>
        <p:blipFill>
          <a:blip r:embed="rId1"/>
          <a:stretch/>
        </p:blipFill>
        <p:spPr>
          <a:xfrm>
            <a:off x="857160" y="3000240"/>
            <a:ext cx="2928960" cy="3116520"/>
          </a:xfrm>
          <a:prstGeom prst="rect">
            <a:avLst/>
          </a:prstGeom>
          <a:ln w="12600">
            <a:solidFill>
              <a:srgbClr val="bfbfbf"/>
            </a:solidFill>
            <a:miter/>
          </a:ln>
        </p:spPr>
      </p:pic>
      <p:pic>
        <p:nvPicPr>
          <p:cNvPr id="5218" name="Picture 4" descr=""/>
          <p:cNvPicPr/>
          <p:nvPr/>
        </p:nvPicPr>
        <p:blipFill>
          <a:blip r:embed="rId2"/>
          <a:stretch/>
        </p:blipFill>
        <p:spPr>
          <a:xfrm>
            <a:off x="757080" y="700200"/>
            <a:ext cx="2183040" cy="1803240"/>
          </a:xfrm>
          <a:prstGeom prst="rect">
            <a:avLst/>
          </a:prstGeom>
          <a:ln w="12600">
            <a:solidFill>
              <a:srgbClr val="006699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Text Box 1"/>
          <p:cNvSpPr/>
          <p:nvPr/>
        </p:nvSpPr>
        <p:spPr>
          <a:xfrm>
            <a:off x="442800" y="330120"/>
            <a:ext cx="824400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Виды готовности 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 школе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0" name="Text Box 2"/>
          <p:cNvSpPr/>
          <p:nvPr/>
        </p:nvSpPr>
        <p:spPr>
          <a:xfrm>
            <a:off x="46836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8920" indent="-98892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1558800"/>
                <a:tab algn="l" pos="2473200"/>
                <a:tab algn="l" pos="3387600"/>
                <a:tab algn="l" pos="4302000"/>
                <a:tab algn="l" pos="5216400"/>
                <a:tab algn="l" pos="6130800"/>
                <a:tab algn="l" pos="7045200"/>
                <a:tab algn="l" pos="7959600"/>
                <a:tab algn="l" pos="8874000"/>
                <a:tab algn="l" pos="9788400"/>
                <a:tab algn="l" pos="10702800"/>
                <a:tab algn="l" pos="1078236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Мотивационна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988920" indent="-98892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1558800"/>
                <a:tab algn="l" pos="2473200"/>
                <a:tab algn="l" pos="3387600"/>
                <a:tab algn="l" pos="4302000"/>
                <a:tab algn="l" pos="5216400"/>
                <a:tab algn="l" pos="6130800"/>
                <a:tab algn="l" pos="7045200"/>
                <a:tab algn="l" pos="7959600"/>
                <a:tab algn="l" pos="8874000"/>
                <a:tab algn="l" pos="9788400"/>
                <a:tab algn="l" pos="10702800"/>
                <a:tab algn="l" pos="1078236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Интеллектуальная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988920" indent="-98892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1558800"/>
                <a:tab algn="l" pos="2473200"/>
                <a:tab algn="l" pos="3387600"/>
                <a:tab algn="l" pos="4302000"/>
                <a:tab algn="l" pos="5216400"/>
                <a:tab algn="l" pos="6130800"/>
                <a:tab algn="l" pos="7045200"/>
                <a:tab algn="l" pos="7959600"/>
                <a:tab algn="l" pos="8874000"/>
                <a:tab algn="l" pos="9788400"/>
                <a:tab algn="l" pos="10702800"/>
                <a:tab algn="l" pos="1078236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Коммуникативна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988920" indent="-98892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1558800"/>
                <a:tab algn="l" pos="2473200"/>
                <a:tab algn="l" pos="3387600"/>
                <a:tab algn="l" pos="4302000"/>
                <a:tab algn="l" pos="5216400"/>
                <a:tab algn="l" pos="6130800"/>
                <a:tab algn="l" pos="7045200"/>
                <a:tab algn="l" pos="7959600"/>
                <a:tab algn="l" pos="8874000"/>
                <a:tab algn="l" pos="9788400"/>
                <a:tab algn="l" pos="10702800"/>
                <a:tab algn="l" pos="1078236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Волева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1" name="Text Box 1"/>
          <p:cNvSpPr/>
          <p:nvPr/>
        </p:nvSpPr>
        <p:spPr>
          <a:xfrm>
            <a:off x="714240" y="299880"/>
            <a:ext cx="7429680" cy="1257480"/>
          </a:xfrm>
          <a:prstGeom prst="rect">
            <a:avLst/>
          </a:prstGeom>
          <a:gradFill rotWithShape="0">
            <a:gsLst>
              <a:gs pos="0">
                <a:srgbClr val="f6fbfe"/>
              </a:gs>
              <a:gs pos="100000">
                <a:srgbClr val="e3f2fc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i="1" lang="ru-RU" sz="2900" spc="-1" strike="noStrike">
                <a:solidFill>
                  <a:srgbClr val="c00000"/>
                </a:solidFill>
                <a:latin typeface="Verdana"/>
                <a:ea typeface="Arial"/>
              </a:rPr>
              <a:t>Интеллектуальная</a:t>
            </a:r>
            <a:r>
              <a:rPr b="0" i="1" lang="ru-RU" sz="2800" spc="-1" strike="noStrike">
                <a:solidFill>
                  <a:srgbClr val="c00000"/>
                </a:solidFill>
                <a:latin typeface="Verdana"/>
                <a:ea typeface="Arial"/>
              </a:rPr>
              <a:t> готовность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2" name="Text Box 2"/>
          <p:cNvSpPr/>
          <p:nvPr/>
        </p:nvSpPr>
        <p:spPr>
          <a:xfrm>
            <a:off x="4143240" y="1571760"/>
            <a:ext cx="4429440" cy="4929120"/>
          </a:xfrm>
          <a:prstGeom prst="rect">
            <a:avLst/>
          </a:prstGeom>
          <a:solidFill>
            <a:srgbClr val="fbf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 algn="ctr">
              <a:spcBef>
                <a:spcPts val="601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2060"/>
              </a:buClr>
              <a:buFont typeface="Verdana"/>
              <a:buChar char="•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Ориентировка ребенка в окружающе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Запас знаний, усвоенных в систем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Желание узнавать новое, любознательнос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Развитие образных представлени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Развитие речи и мышления в соответствии с возрастной нормо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Смысловое запоминани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23" name="Group 3"/>
          <p:cNvGrpSpPr/>
          <p:nvPr/>
        </p:nvGrpSpPr>
        <p:grpSpPr>
          <a:xfrm>
            <a:off x="571680" y="1643040"/>
            <a:ext cx="3369960" cy="4570560"/>
            <a:chOff x="571680" y="1643040"/>
            <a:chExt cx="3369960" cy="4570560"/>
          </a:xfrm>
        </p:grpSpPr>
        <p:pic>
          <p:nvPicPr>
            <p:cNvPr id="5224" name="Picture 4" descr=""/>
            <p:cNvPicPr/>
            <p:nvPr/>
          </p:nvPicPr>
          <p:blipFill>
            <a:blip r:embed="rId1"/>
            <a:stretch/>
          </p:blipFill>
          <p:spPr>
            <a:xfrm>
              <a:off x="571680" y="1643040"/>
              <a:ext cx="3369960" cy="457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5" name="Text Box 5"/>
            <p:cNvSpPr/>
            <p:nvPr/>
          </p:nvSpPr>
          <p:spPr>
            <a:xfrm>
              <a:off x="571680" y="1643040"/>
              <a:ext cx="336996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6" name="Text Box 1"/>
          <p:cNvSpPr/>
          <p:nvPr/>
        </p:nvSpPr>
        <p:spPr>
          <a:xfrm>
            <a:off x="503280" y="698400"/>
            <a:ext cx="7926480" cy="1530360"/>
          </a:xfrm>
          <a:prstGeom prst="rect">
            <a:avLst/>
          </a:prstGeom>
          <a:gradFill rotWithShape="0">
            <a:gsLst>
              <a:gs pos="0">
                <a:srgbClr val="f6fbfe"/>
              </a:gs>
              <a:gs pos="100000">
                <a:srgbClr val="e3f2fc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  <a:ea typeface="Arial"/>
              </a:rPr>
              <a:t>Волевая готовность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Verdana"/>
                <a:ea typeface="Arial"/>
              </a:rPr>
              <a:t> </a:t>
            </a:r>
            <a:r>
              <a:rPr b="0" lang="ru-RU" sz="2900" spc="-1" strike="noStrike">
                <a:solidFill>
                  <a:srgbClr val="c00000"/>
                </a:solidFill>
                <a:latin typeface="Verdana"/>
                <a:ea typeface="Arial"/>
              </a:rPr>
              <a:t>умение сдерживать  и контролировать поведение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7" name="Text Box 2"/>
          <p:cNvSpPr/>
          <p:nvPr/>
        </p:nvSpPr>
        <p:spPr>
          <a:xfrm>
            <a:off x="500040" y="2571840"/>
            <a:ext cx="5214960" cy="4179960"/>
          </a:xfrm>
          <a:prstGeom prst="rect">
            <a:avLst/>
          </a:prstGeom>
          <a:solidFill>
            <a:srgbClr val="f8fded"/>
          </a:solidFill>
          <a:ln w="9360">
            <a:solidFill>
              <a:srgbClr val="fbf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spcBef>
                <a:spcPts val="601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мение сознательно подчинять свои действия правилу, обобщенно определяющему способ действ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мение ориентироваться на заданную систему требовани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мение внимательно слушать говорящего и точно выполнять зада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28" name="Picture 3" descr=""/>
          <p:cNvPicPr/>
          <p:nvPr/>
        </p:nvPicPr>
        <p:blipFill>
          <a:blip r:embed="rId1"/>
          <a:stretch/>
        </p:blipFill>
        <p:spPr>
          <a:xfrm>
            <a:off x="6072120" y="2428920"/>
            <a:ext cx="2419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9" name="Text Box 1"/>
          <p:cNvSpPr/>
          <p:nvPr/>
        </p:nvSpPr>
        <p:spPr>
          <a:xfrm>
            <a:off x="857160" y="500040"/>
            <a:ext cx="7429680" cy="1000080"/>
          </a:xfrm>
          <a:prstGeom prst="rect">
            <a:avLst/>
          </a:prstGeom>
          <a:gradFill rotWithShape="0">
            <a:gsLst>
              <a:gs pos="0">
                <a:srgbClr val="f6fbfe"/>
              </a:gs>
              <a:gs pos="100000">
                <a:srgbClr val="e3f2fc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Verdana"/>
                <a:ea typeface="Arial"/>
              </a:rPr>
              <a:t>Коммуникативная готов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0" name="Text Box 2"/>
          <p:cNvSpPr/>
          <p:nvPr/>
        </p:nvSpPr>
        <p:spPr>
          <a:xfrm>
            <a:off x="3786120" y="1714680"/>
            <a:ext cx="4786560" cy="5529240"/>
          </a:xfrm>
          <a:prstGeom prst="rect">
            <a:avLst/>
          </a:prstGeom>
          <a:solidFill>
            <a:srgbClr val="fbfef6"/>
          </a:solidFill>
          <a:ln w="9360">
            <a:solidFill>
              <a:srgbClr val="c4ee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Verdana"/>
              </a:rPr>
              <a:t>Это умение ребенка строить свои взаимоотношение с другими людьм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грать и общаться с другими ребятам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быть включенным в детский коллектив и уметь жить по его законам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бщаться со взрослыми людьми, соблюдая правила культурного обращени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Доброжелательнос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31" name="Picture 3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300960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2" name="Text Box 1"/>
          <p:cNvSpPr/>
          <p:nvPr/>
        </p:nvSpPr>
        <p:spPr>
          <a:xfrm>
            <a:off x="642960" y="531720"/>
            <a:ext cx="7643880" cy="1079640"/>
          </a:xfrm>
          <a:prstGeom prst="rect">
            <a:avLst/>
          </a:prstGeom>
          <a:solidFill>
            <a:srgbClr val="fbf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Verdana"/>
                <a:ea typeface="Arial"/>
              </a:rPr>
              <a:t>Мотивационная     готовност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3" name="Text Box 2"/>
          <p:cNvSpPr/>
          <p:nvPr/>
        </p:nvSpPr>
        <p:spPr>
          <a:xfrm>
            <a:off x="500040" y="2000160"/>
            <a:ext cx="4714920" cy="3786120"/>
          </a:xfrm>
          <a:prstGeom prst="rect">
            <a:avLst/>
          </a:prstGeom>
          <a:solidFill>
            <a:srgbClr val="fbf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spcBef>
                <a:spcPts val="499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аличие у ребенка познавательных интересов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любит книг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любит решать задачки и кроссворды и др. интеллектуальные задани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любознателен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задает много вопрос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34" name="Group 3"/>
          <p:cNvGrpSpPr/>
          <p:nvPr/>
        </p:nvGrpSpPr>
        <p:grpSpPr>
          <a:xfrm>
            <a:off x="5357880" y="1785960"/>
            <a:ext cx="3332160" cy="4498920"/>
            <a:chOff x="5357880" y="1785960"/>
            <a:chExt cx="3332160" cy="4498920"/>
          </a:xfrm>
        </p:grpSpPr>
        <p:pic>
          <p:nvPicPr>
            <p:cNvPr id="5235" name="Picture 4" descr=""/>
            <p:cNvPicPr/>
            <p:nvPr/>
          </p:nvPicPr>
          <p:blipFill>
            <a:blip r:embed="rId1"/>
            <a:stretch/>
          </p:blipFill>
          <p:spPr>
            <a:xfrm>
              <a:off x="5357880" y="1785960"/>
              <a:ext cx="3332160" cy="44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6" name="Text Box 5"/>
            <p:cNvSpPr/>
            <p:nvPr/>
          </p:nvSpPr>
          <p:spPr>
            <a:xfrm>
              <a:off x="5357880" y="1785960"/>
              <a:ext cx="3332160" cy="44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7" name="Group 1"/>
          <p:cNvGrpSpPr/>
          <p:nvPr/>
        </p:nvGrpSpPr>
        <p:grpSpPr>
          <a:xfrm>
            <a:off x="109440" y="457200"/>
            <a:ext cx="8880480" cy="1009800"/>
            <a:chOff x="109440" y="457200"/>
            <a:chExt cx="8880480" cy="1009800"/>
          </a:xfrm>
        </p:grpSpPr>
        <p:pic>
          <p:nvPicPr>
            <p:cNvPr id="5238" name="Picture 2" descr=""/>
            <p:cNvPicPr/>
            <p:nvPr/>
          </p:nvPicPr>
          <p:blipFill>
            <a:blip r:embed="rId1"/>
            <a:stretch/>
          </p:blipFill>
          <p:spPr>
            <a:xfrm>
              <a:off x="109440" y="457200"/>
              <a:ext cx="8880480" cy="10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9" name="Text Box 3"/>
            <p:cNvSpPr/>
            <p:nvPr/>
          </p:nvSpPr>
          <p:spPr>
            <a:xfrm>
              <a:off x="109440" y="457200"/>
              <a:ext cx="8880480" cy="10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240" name="Text Box 4"/>
          <p:cNvSpPr/>
          <p:nvPr/>
        </p:nvSpPr>
        <p:spPr>
          <a:xfrm>
            <a:off x="304920" y="1554120"/>
            <a:ext cx="868680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6699"/>
                </a:solidFill>
                <a:uFillTx/>
                <a:latin typeface="Arial"/>
              </a:rPr>
              <a:t>Общие зн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Знать свои фамилию, имя, отчество; домашний адрес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Знать состав семьи; фамилию, имя, отчество родных, их место работы и професс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Знания об окружающем мире (растения, домашние и дикие животные, явления природы, люди, техника и т.д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Знать цвета и их оттен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7T07:22:15Z</dcterms:created>
  <dc:creator>user</dc:creator>
  <dc:description/>
  <dc:language>en-US</dc:language>
  <cp:lastModifiedBy>Психолог</cp:lastModifiedBy>
  <dcterms:modified xsi:type="dcterms:W3CDTF">2018-01-27T14:17:39Z</dcterms:modified>
  <cp:revision>19</cp:revision>
  <dc:subject/>
  <dc:title>Презентация PowerPoint</dc:title>
</cp:coreProperties>
</file>