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8D58-5EC0-4273-81B0-48F9E4765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A9F0-EBD1-4CF0-A504-52D6F0D1A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BF73-E8CE-4F00-8A5E-FAF4AF412A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Способность решать учебно-познавательные и учебно-практические задачи средствами учебных предметов на основе научного знания и опыта деятельности по получению,  преобраз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 применению нов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52E-971C-4A23-975F-B112163F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02C-C2A6-4C8D-8380-43076510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F77-092C-4C4D-9A5E-F8008426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BEB-B8DC-4DBF-B0C9-CADFC3D2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D91-C12C-4157-9824-C5F54772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863-2A60-4ABB-84E8-7B82CE73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1F4-4286-491E-92DB-80F6D4FF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7E9-3A87-49F2-ACFF-2F4BB730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5C1-CBFE-459F-8932-FABEE030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AED-B048-4204-962D-844D43A7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F7A-44CF-43F1-8D32-47347E0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A2B-5290-4E1E-9169-1863ED6A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49C3-A176-4240-B120-4EFE9AB88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screen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565360"/>
            <a:ext cx="7705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ка обучающихся к олимпиадам по геогра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35280" y="5251320"/>
            <a:ext cx="47894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Тю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я на умение анализировать, синтезиро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четвёртый лишний» - «белая вор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полевой шпат, мрамор, базальт, квар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Анды, Гималаи, Альпы, Аппал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мордва, чуваши, татары, хака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Волга, Амур, Селенга, Янц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Япония, Исландия, Ирландия, Малагасийская респуб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ти смысловую ошибку в текст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ная зона занимает бассейн реки Конго и побережье Гвинейского залива. Почвы красно-желтые ферраллитные. Растительность леса многоярусна. Резкие колебания температур в течение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на установление причинно-следственных свя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чинить цепочк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ыстроить логическую цепочк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мысловые пропор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глина -глинистые сланцы, гранит-…, песчаник-…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моренный холм – ледник, котловина выдувания - …, морской пляж -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еревод с русского на русск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вис, льянос, пампа, чапараль, рям, прерия, хамады, траппы, самум, моренна, бора, крики, скрэб, гаучо, кебрачо, польдеры, сельва, парамос, сорги, соры, муссон, узбои, хабуб, «вилли-вилли», яйла, чуринги, буш, ф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йша, фуро, мате, кодзики,  танку, сумо, с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фуркация, солифлюкция, эрозия, абразия, аккумуляция, карст, термокарст, альбедо, инверсия, циркуляция, меж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херы, фьорды, булгунняхи, аласы, «сало»,эфе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 … терм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Афри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мум, хабуб, хамсин, шоты, хамады, эрги, латерит, пигмеи, нилоты, масаи, африканеры, бушмены, сафьян, б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Австрал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ринги, вилли-вилли, малли, буш, ксантрии, бумеранг, матты, скрэб, к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Южная Америк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ауканы, кампос, кебрачо, гаучо, мулаты, самбо, метисы, пуна, араваки, мате, сельва, пампа, Сьерра, лья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еверная Амери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рнадо, каньоны, тундра, тайга, прерии, ацтеки, майя, анклав, ковбои.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Евраз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бои, моренные гряды, тайфуны, дельта, фьорды, моренны, смог, чум, игл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7" descr="iCAUKGGE5.jpg"/>
          <p:cNvPicPr/>
          <p:nvPr/>
        </p:nvPicPr>
        <p:blipFill>
          <a:blip r:embed="rId1"/>
          <a:stretch/>
        </p:blipFill>
        <p:spPr>
          <a:xfrm>
            <a:off x="0" y="0"/>
            <a:ext cx="137016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то такое? Кто такой? Где находится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апибара, Атлас, крики, Д.Ливингстон, Мичиган, секвойя, коала, Амазо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рекультивация, каботаж, специализация, Баранский, Геоэс, КАМ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есурсообеспеченность, этнос, НТР, Рур, САН-САН, Гронинген, Роттер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znayka"/>
          <p:cNvPicPr/>
          <p:nvPr/>
        </p:nvPicPr>
        <p:blipFill>
          <a:blip r:embed="rId1"/>
          <a:stretch/>
        </p:blipFill>
        <p:spPr>
          <a:xfrm>
            <a:off x="0" y="0"/>
            <a:ext cx="11556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уктив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ы.jpg"/>
          <p:cNvPicPr/>
          <p:nvPr/>
        </p:nvPicPr>
        <p:blipFill>
          <a:blip r:embed="rId1"/>
          <a:stretch/>
        </p:blipFill>
        <p:spPr>
          <a:xfrm>
            <a:off x="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39640" y="1300320"/>
            <a:ext cx="777744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в одних и тех же широтах тропического климатического пояса Северной Америки на Тихоокеанском побережье расположена Калифорнийская пустыня, а в восточной части материка — п-ов Флорида, который испанцы назвали «цветущим»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чему на о-ве Ньюфаундленд до 120 дней в году туман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крайнем северо-западе США находится штат Вашингтон, который является своеобразным природным феноменом. Лишь за одни сутки тут выпало однажды 3960 мм осадков (в районе Киева за год в среднем выпадает около 600 мм). А лишь один продолжительный снегопад создал снеговой покров толщиной в 2,5 м. Чем можно объяснить такое своеобразие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севере равнинной части США неоднократно наблюдались случаи, когда в течение одних только суток происходило падение температуры более чем на 40 °С. Чем это можно объяснить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те единственный правильный вариант реше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я в виду, что в трех остальных предложенных варианта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-то противоречит здравому смыслу или общекультурной информац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«ступеньки к вершинам интеллект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Январск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ека в северо-восточном Китае, название связано с тем, что в январе у этой реки происходит половод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еревод на русский язык названия города в Южной Америке, в XIX в. бывшего столицей монарх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река в Кении, дважды пересекающая экватор. Название связано с тем, что в конце января — начале декабря солнце над ней стоит в зен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река на Кубе, переименованная в ознаменование 30-летия падения диктатуры Батисты 1 января 1959 г. и установления социалистического режима Фиделя Кастро (прежнее назва-ние — Сосновая река). Река известна тем, что в ее устье находится крупный нефтеэкспортный порт, поставляющий нефть в южные районы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лон рассужде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Январск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веро-востоке Китая зима — почти такая же, как и на большей части России, т.е. морозная. Лежит и не тает снег. Половодье у рек в январе невозможно. Это заставляет отказаться от верси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, дважды или даже трижды пересекающая экватор, в Кении может найтись запросто. Но солнце в зените будет стоять над ней круглый год, поэтому немыслимо, чтобы название реки было произведено именно от январского стояния солнца над этой «Январской рекой». Отбрасыва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убы и США нет внешнеторговых связей, так что о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же следует отказ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б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Рио-де-Жанейро (Январская река). Бoльшую часть XIX века Бразилия была импе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подгот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ческие рекор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е, са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 терр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ческие лабири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611280" y="189000"/>
            <a:ext cx="7596000" cy="2592360"/>
          </a:xfrm>
          <a:prstGeom prst="roundRect">
            <a:avLst>
              <a:gd name="adj" fmla="val 46389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обучающих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76360" y="5730840"/>
            <a:ext cx="57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43080" y="3704760"/>
            <a:ext cx="2481120" cy="132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астие в конкрсах, викторинах, олимпиадных различновго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3225960" y="3667680"/>
            <a:ext cx="2563560" cy="132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рок (дифференцированные, индивидуальные зада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6084720" y="3500280"/>
            <a:ext cx="2770200" cy="171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неурочная подгот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1115640" y="2781360"/>
            <a:ext cx="934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500720" y="2781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>
            <a:off x="7020000" y="278136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255600"/>
          <a:ext cx="862020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600"/>
                    <a:ext cx="862020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11"/>
          <p:cNvSpPr/>
          <p:nvPr/>
        </p:nvSpPr>
        <p:spPr>
          <a:xfrm>
            <a:off x="324000" y="1628640"/>
            <a:ext cx="37432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Стратегия обучения решению нестандартных з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468360" y="1700280"/>
            <a:ext cx="36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кор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чет потребности и возможности определенной категории учащихся, отличающихся разным темпом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кругленный прямоугольник 12"/>
          <p:cNvSpPr/>
          <p:nvPr/>
        </p:nvSpPr>
        <p:spPr>
          <a:xfrm>
            <a:off x="468360" y="2997360"/>
            <a:ext cx="359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глубл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эффективно по отношению к одаренным детям, которые обнаруживают экстраординарный интерес к предмет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кругленный прямоугольник 13"/>
          <p:cNvSpPr/>
          <p:nvPr/>
        </p:nvSpPr>
        <p:spPr>
          <a:xfrm>
            <a:off x="324000" y="436572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огащ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риентир на качественно иное содержание обучения учащихся, изучение нетрадиционных тем за счет установления связей с другими тем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кругленный прямоугольник 14"/>
          <p:cNvSpPr/>
          <p:nvPr/>
        </p:nvSpPr>
        <p:spPr>
          <a:xfrm>
            <a:off x="324000" y="558972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блематизац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тимулирование личностного развития учащих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15"/>
          <p:cNvSpPr/>
          <p:nvPr/>
        </p:nvSpPr>
        <p:spPr>
          <a:xfrm>
            <a:off x="4284720" y="2205000"/>
            <a:ext cx="1439640" cy="2872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трелка вправо 16"/>
          <p:cNvSpPr/>
          <p:nvPr/>
        </p:nvSpPr>
        <p:spPr>
          <a:xfrm>
            <a:off x="4284720" y="3357720"/>
            <a:ext cx="1439640" cy="2872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трелка вправо 17"/>
          <p:cNvSpPr/>
          <p:nvPr/>
        </p:nvSpPr>
        <p:spPr>
          <a:xfrm>
            <a:off x="4284720" y="4653000"/>
            <a:ext cx="1439640" cy="28872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трелка вправо 18"/>
          <p:cNvSpPr/>
          <p:nvPr/>
        </p:nvSpPr>
        <p:spPr>
          <a:xfrm>
            <a:off x="4284720" y="5877000"/>
            <a:ext cx="1439640" cy="28872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19"/>
          <p:cNvSpPr/>
          <p:nvPr/>
        </p:nvSpPr>
        <p:spPr>
          <a:xfrm>
            <a:off x="6012000" y="1700280"/>
            <a:ext cx="2736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ужения, творческие мастерские, мастер-класс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6012000" y="2997360"/>
            <a:ext cx="2736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глубокое изучение тем конкретной области знаний, обучение в школе, классе с углубленным изучением предме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012000" y="4292640"/>
            <a:ext cx="2736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гружение учащихся в исследовательские проекты, интеллектуальные турниры и конкур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кругленный прямоугольник 22"/>
          <p:cNvSpPr/>
          <p:nvPr/>
        </p:nvSpPr>
        <p:spPr>
          <a:xfrm>
            <a:off x="6012000" y="5589720"/>
            <a:ext cx="2736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облемных ситуаций, оригинальных объяснений, поиск новых трактовок и альтернативных интерпретаций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Скругленный прямоугольник 7"/>
          <p:cNvSpPr/>
          <p:nvPr/>
        </p:nvSpPr>
        <p:spPr>
          <a:xfrm>
            <a:off x="1619280" y="404640"/>
            <a:ext cx="5761080" cy="14400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Формирование умений учащихся по обработке и интерпретации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кругленный прямоугольник 10"/>
          <p:cNvSpPr/>
          <p:nvPr/>
        </p:nvSpPr>
        <p:spPr>
          <a:xfrm>
            <a:off x="971640" y="2637000"/>
            <a:ext cx="3168720" cy="107928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Работа с терминами, определение понятий, выявление этимологии термина, соотнесение термина с понятие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кругленный прямоугольник 11"/>
          <p:cNvSpPr/>
          <p:nvPr/>
        </p:nvSpPr>
        <p:spPr>
          <a:xfrm>
            <a:off x="4716360" y="2637000"/>
            <a:ext cx="3456000" cy="107928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Закрепление изученного материала, составлением письменных ответов на вопросы, для выработки краткого и развернутого ответ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кругленный прямоугольник 13"/>
          <p:cNvSpPr/>
          <p:nvPr/>
        </p:nvSpPr>
        <p:spPr>
          <a:xfrm>
            <a:off x="2411280" y="5516640"/>
            <a:ext cx="4321440" cy="108108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Сравнительно-аналитическая работа с информаци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Прямая со стрелкой 15"/>
          <p:cNvCxnSpPr/>
          <p:nvPr/>
        </p:nvCxnSpPr>
        <p:spPr>
          <a:xfrm flipH="1">
            <a:off x="3058560" y="1915920"/>
            <a:ext cx="433800" cy="649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>
            <a:off x="5508360" y="1915920"/>
            <a:ext cx="432360" cy="649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2" name="Прямая со стрелкой 22"/>
          <p:cNvCxnSpPr/>
          <p:nvPr/>
        </p:nvCxnSpPr>
        <p:spPr>
          <a:xfrm flipH="1">
            <a:off x="5508360" y="5157360"/>
            <a:ext cx="28800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83" name="Скругленный прямоугольник 9"/>
          <p:cNvSpPr/>
          <p:nvPr/>
        </p:nvSpPr>
        <p:spPr>
          <a:xfrm>
            <a:off x="971640" y="4005360"/>
            <a:ext cx="3168720" cy="11523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Заполнение простых и комбинированных таблиц для развития умения отбора необходимой информаци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12"/>
          <p:cNvSpPr/>
          <p:nvPr/>
        </p:nvSpPr>
        <p:spPr>
          <a:xfrm>
            <a:off x="4716360" y="4005360"/>
            <a:ext cx="3527640" cy="11523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Работа с иллюстрациями, рисунками, схемами, диаграммам для систематизации информации по заданными признакам, выделение главной мысл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Прямая со стрелкой 25"/>
          <p:cNvCxnSpPr/>
          <p:nvPr/>
        </p:nvCxnSpPr>
        <p:spPr>
          <a:xfrm>
            <a:off x="3131640" y="5157360"/>
            <a:ext cx="36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6" name="Прямая со стрелкой 27"/>
          <p:cNvCxnSpPr/>
          <p:nvPr/>
        </p:nvCxnSpPr>
        <p:spPr>
          <a:xfrm flipH="1">
            <a:off x="2267640" y="3789360"/>
            <a:ext cx="143640" cy="216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7" name="Прямая со стрелкой 31"/>
          <p:cNvCxnSpPr/>
          <p:nvPr/>
        </p:nvCxnSpPr>
        <p:spPr>
          <a:xfrm>
            <a:off x="6659280" y="3789360"/>
            <a:ext cx="144720" cy="216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боты по подготовке обучающихся к олимпиадам муниципального уров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66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ллектуальные игры в рамках недели естественно-математического цик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«Самый …» ко Дню Российской науки 8 февра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-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интеллектуальный марафо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1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ые олимпи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ие задач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 В. Рогачев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экономической и социальной географии зарубежных стран, географический факультет Московского государственного университета им. М.В. Ломоносова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батывающие умения работы с физической, административной и тематической картами, развивающие аналитические способности и логику, формирующие знания по реальной геогра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 Х имеет сухопутную границу с несколькими другими. Определите Х, основываясь на следующих сведениях о соседних странах (их названия впишите в правую колонку таблицы):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1680" y="1600200"/>
          <a:ext cx="8540640" cy="4498920"/>
        </p:xfrm>
        <a:graphic>
          <a:graphicData uri="http://schemas.openxmlformats.org/drawingml/2006/table">
            <a:tbl>
              <a:tblPr/>
              <a:tblGrid>
                <a:gridCol w="1533600"/>
                <a:gridCol w="700704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пер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есь находится высшая точка Афр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втор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есь из самого большого озера Африки выходит Ни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реть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ее территории проходит большая часть течения самой полноводной реки Афр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четверт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ет выход к северо-восточной части побережья второго по глубине озера ми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анд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на формирование географической зоркости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оверку качества географическ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5404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ntitled"/>
          <p:cNvPicPr/>
          <p:nvPr/>
        </p:nvPicPr>
        <p:blipFill>
          <a:blip r:embed="rId1"/>
          <a:stretch/>
        </p:blipFill>
        <p:spPr>
          <a:xfrm>
            <a:off x="395280" y="2276640"/>
            <a:ext cx="84978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7:56:33Z</dcterms:created>
  <dc:creator>USER</dc:creator>
  <dc:description/>
  <dc:language>en-US</dc:language>
  <cp:lastModifiedBy>User</cp:lastModifiedBy>
  <dcterms:modified xsi:type="dcterms:W3CDTF">2023-01-19T04:15:07Z</dcterms:modified>
  <cp:revision>86</cp:revision>
  <dc:subject/>
  <dc:title>Подготовка обучающихся к олимпиадам по географии</dc:title>
</cp:coreProperties>
</file>