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435-D7EA-4104-9D78-E8D86D57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AB6-1C5E-41A5-93F1-6364B5E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2AB-7E5E-40FA-B381-2A7216CF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402-9E20-4DCD-82A8-7E1F7659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487-BA04-48C9-8FAE-E6E334FC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C7F-2820-4BA0-88F8-BE80942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19B-D82A-402E-B791-2B4C74B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D60-1633-42D0-927D-F4EB825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307-6B07-40EB-8A1E-60388861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8B2-0812-43DD-9EDA-F8E10F7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CDD-C129-4DCB-B751-3B30376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6BE-BE7A-4FF7-B05E-7737AB9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45462D-77A3-4591-837C-BDEE92CDFA6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Концепция преподавания предметной области «Технология» в общеобразовательных организациях Российской Федерации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нченко С.В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7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опуляр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довых практик технологического образова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тимул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знообразия форм технологического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Основные направления реализации Концепции предметной области «Технология»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5680" y="2277000"/>
            <a:ext cx="7497720" cy="39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ременных и традиционных технологий в инновационной деятель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рудовое воспит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хождение в мир професс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е самоопределение, профессиональные пробы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Формирование универсальных учебных действий в предметной области «Технология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й формой учебной деятельности обучающихся  являетс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ектная исследовательская деятельность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 цикле дизайн – процесса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«потребность – цель – способ – результат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5680" y="2277000"/>
            <a:ext cx="7497720" cy="39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оспит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ственного отношения к труду и навыков сотрудничеств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зовых навыков использования основных видов ручного проектирование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менение технологий поддержки инфраструктуры образовательной организации в соответствии с её профил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накомство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с историей развития технологий и традиционными ремеслами,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потребностями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местного производства,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современными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перспективными технологиями и освоение их важнейших базовых элементов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5680" y="2133000"/>
            <a:ext cx="749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цикла «дизайн-процесса»,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наком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жизненным циклом продукта и методами инженерного проектирования, дизайн-анализа, решения изобретательских задач;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азовых навыков применения ИКТ в учебных предметах «Технология» и «Информатика и ИКТ» с их закреплением в других учебных предметах;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хнологий программирования, обработки и анализа больших массивов данных и машинного обучения, освоение фундаментальных основ этих технологий в предметной области «Математика и информатика»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Содержание предметной области «Технология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39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осваивается через учебные предметы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нформа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нформацион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муникационные технолог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ществен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зный труд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ворческу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ь в пространстве образовательной организац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неклассну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внешкольную работу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ополните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раз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572314"/>
                </a:solidFill>
                <a:latin typeface="Times New Roman"/>
              </a:rPr>
              <a:t>Для эффективной реализации основных задач предметной области «Технология» необходимо</a:t>
            </a:r>
            <a:br>
              <a:rPr sz="4300"/>
            </a:b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5680" y="2565000"/>
            <a:ext cx="7497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овершенствовать федеральные государственные образовательные стандарты общего образования и примерные основные общеобразовательные програм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45920" y="260640"/>
            <a:ext cx="7497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845000"/>
            <a:ext cx="7497720" cy="44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о всех учебных предметах проектного компонент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коллективных, многопредметных и метапредметных проектов в учебном планировании для обучающихся и учителей урочное и внеурочное врем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5680" y="2061000"/>
            <a:ext cx="7497720" cy="41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ить обучающимся возможность использовать ИКТ во всей образовательной деятельности, включая процедуры итоговой аттеста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Концепция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лат. concepti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«понимание», «система»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ённый способ понимания, трактовки каких-либо явлений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ая точка зрения, руководящая идея для их освеще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 взглядов на явления — в мире, природе, обществ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Оптимальным образом использовать ресурс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рганиз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полнительного образования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нт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хнологической поддержки образования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етских технопар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ванториум»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пециализированных центров компетенц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лдскиллс и Джуниорскиллс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Skil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и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iorSkil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)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узе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рганизаций профессионального образования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нт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лодежного инновационного творчества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етско-взросл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ах и школьных фирм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Началь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я и технологические проекты выступают в роли пространства для развития творческого потенциала детей и изобретательства, а также мотивирующего фактора для освоения других предметных област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 настойчивости  и трудолюб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Формирование технологического мышления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актическое знакомство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териальными технологиями прошлых эпох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художественными промыслами народов Росси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тивно с изобразительным искусством,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ехнологиями  дом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именение во всех учебных предметах ИКТ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текста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иск в интернете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ный дизайн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имац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еосъем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е в предметной области «Математика и информатика» программирования (дизайна алгоритмов) для наглядных виртуальных сред и движущихся мод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5680" y="2061000"/>
            <a:ext cx="7497720" cy="41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ирование и изготовление самодельных приборов и устройств для проведения учебных исследований, сбора и компьютерного анализа данных при изучении «Окружающего мира»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неурочной деятельности и дополнительном образовании организуются образовательные путешествия (экскурсии), где обучающиеся знакомятся с трудовыми процессами, технологической оснащенностью обществ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готовление объект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знакомящее с профессиональными компетенциями и практикам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ежегодное практическое знакомств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3-4 видами профессиональной деятельности из разных сфер (с использованием современных технологий), более углубленно – с одним видом деятель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актических умений и опыта, необходимых для разумной организации собственной жизн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ниверсальных учебных действий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воение проект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схеме цикла дизайн-процесса и жизненного цикла продук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бретательская деятельность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иск принципиально новых решен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ключевых компетентносте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ормацион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муникативная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контроля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выки работы в коллективе и сотрудничестве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ициативность,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бкость мышления,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риимчивость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ль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2277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 условий для формирования у обучающихся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й грамотн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й компетент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го и креативного мышл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2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</a:rPr>
              <a:t>Учебный предмет «Технология» обеспечивает оперативное введение в образовательную деятельность содержа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5680" y="1772640"/>
            <a:ext cx="7497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ьютерное черче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ышленный дизайн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D-моделирова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типирова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овое производство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дитивные технологии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бототехнику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умного дома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интернета вещей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</a:rPr>
              <a:t>Учебный предмет «Технология» обеспечивает оперативное введение в образовательную деятельность содержа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и в области механической обработки материалов (ручной и станочной, в том числе станками с ЧПУ)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техники и электроники, электроэнергетики, автоматики; строительств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спор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гро - и биотехнолог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ботки пищевых продукт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И, рекламы, маркетинг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2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 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ная программа, по которой идет изучение учебного предмета «Технология», должна быть составлена с учетом профиля, реализуемого в рамках основной образовательной програм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учающимся предоставляются возможности одновременно с получением среднего общего образования пройти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 обучени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отдельные модули среднего профессионального и высшего образования, в соответствии с профилем обучения по выбранным ими профессиям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основы предпринимательств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пользованием инфраструктуры организаций среднего профессионального и высше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дение государственной итоговой аттестации по технологии (по выбору обучающихся) в форме экспертной оценки цифрового портфолио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жен быть создан механизм ресурсного обеспечения реализации индивидуальных и коллективных проектов обучающихся, прежде всего – межпредметны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90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Yu Gothic"/>
              </a:rPr>
              <a:t>Создание возможностей для выявления талантливой молодежи, построения успешной карьеры в области науки, технологий, инноваций и развитие интеллектуального потенциала страны достигаются путем формирования современной системы научно-технического творчества детей и молодежи, включая систему оценивания индивидуальных достижений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5680" y="2709000"/>
            <a:ext cx="7497720" cy="35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условий для фиксации хода и результатов проектов, выполненных</a:t>
            </a:r>
            <a:r>
              <a:rPr b="0" lang="ru-RU" sz="3200" spc="-1" strike="sng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мися, в информационной среде образовательной организа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целостной национальной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граммы технологической подготовк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едстав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ющимися выполненных проектов и открытых презентаций в социальных сетях и на специализированных порталах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ставленных проектов и презентаций  в соревнованиях и конкурса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системе известных изобретателей, ученых, бизнесменов будет содействовать популяризации технологическо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одерн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ния всероссийской олимпиады школьников по технологии по наиболее перспективным технологическим направлениям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ве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андного формата инженерных соревнований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ад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ыявляющие принципы и способности обучающихся осваивать,   формулировать прикладные задачи и проектировать их решен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35680" y="2205000"/>
            <a:ext cx="7497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истемы преемственног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го образования на всех уровнях обще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Создание всероссийского конкурса профессиональных компетенций, на основе родившегося в России Джуниорскиллс («</a:t>
            </a: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JuniorSkills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»)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5680" y="3069000"/>
            <a:ext cx="7497720" cy="31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ранней профориентации и основной профессиональной подготовки школьников, которая связана с обучением будущих профессионал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ru-RU" sz="3100" spc="-1" strike="noStrike">
                <a:solidFill>
                  <a:srgbClr val="572314"/>
                </a:solidFill>
                <a:latin typeface="Times New Roman"/>
              </a:rPr>
              <a:t>Подготовка кадров и эффективное использование человеческого потенциала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ческое образование в общеобразовательных организациях должно опиратьс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кадровые ресурс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ей технологии, информатики и ИКТ, других учебных предмет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ого образова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го образова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реальную экономик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иона  и проживания обучающихс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ru-RU" sz="27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ческое образование в общеобразовательных организациях должно опираться</a:t>
            </a:r>
            <a:br>
              <a:rPr sz="4300"/>
            </a:br>
            <a:endParaRPr b="0" lang="ru-RU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39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пережающую  подготовку педагогов дополнительного профессионального образования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и развитие основных образовательных программ двухпрофильных бакалавриатов педагогического образовани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тика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ка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я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кусство и технолог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одготовка бакалавриатов двух направл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е направление и педагогическо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истерской подготовки учителей технологии из числа специалистов, имеющих высшее образование и опыт работы в области управления современными технологическими процессами и оборудовани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Модернизация материально-информационной среды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ащение учебного предмета «Технология» может размещаться как в общеобразовательных организациях, так и в организациях-партнерах, в том числе – в модели учебно-производственных комбинатов и технопарк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Реализация Концепции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изация настоящей Концепции обеспечит переход технологического образования на уровень, адекватный задачам страны в области технологического развития, будет способствовать развитию всех уровней системы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</a:rPr>
              <a:t>Планируемые механизмы реализации Концепции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соответствующих задач в разработку нормативных и методических документов, регламентирующих эту предметную область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оприятия  осуществляемые в целевых федеральных и региональных программах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 развития отдельных образовательных организаций, финансируемых за счет средств федерального, региональных и муниципальных бюджето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35680" y="1268640"/>
            <a:ext cx="7497720" cy="49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  <a:ea typeface="Times New Roman"/>
              </a:rPr>
              <a:t>Тесная связь обучения с жизнью, с трудом, с практикой, должна являться ведущим началом образования и воспитания подрастающего поколен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пасибо за внимание!!!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2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менение статуса предметной области «Технология» в соответствии с ее ключевой ролью: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вязи фундаментального знания с преобразующей деятельностью человека;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заимодейств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между содержанием общего образования и окружающим миром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3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одерниза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я, методик и технологий преподавания предметной области «Технология»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уси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ного эффекта предметной области «Технолог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у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ов наиболее перспективных технологических направлен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4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обучающихся культуры проектной и исследовательской деятельн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ектного метода во всех видах образовательной деятельност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5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ключевых навыков в сфере информационных и коммуникационных технологий в рамках учебных предметов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Технология»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Информатик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ИКТ» и их использование в ходе изучения других учебных предме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6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5680" y="2205000"/>
            <a:ext cx="7497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движ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хся обладающих с высокой мотивацией и способностями в инженерно-технологической сфер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510</TotalTime>
  <Application>LibreOffice/7.4.7.2$Linux_X86_64 LibreOffice_project/40$Build-2</Application>
  <AppVersion>15.0000</AppVersion>
  <Words>1502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8:02:53Z</dcterms:created>
  <dc:creator>210</dc:creator>
  <dc:description/>
  <dc:language>en-US</dc:language>
  <cp:lastModifiedBy>Persona</cp:lastModifiedBy>
  <dcterms:modified xsi:type="dcterms:W3CDTF">2023-01-01T16:53:18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8</vt:r8>
  </property>
</Properties>
</file>