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762-AF9F-4BDA-B877-11D223C3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C1E-FAFC-4ED5-A3E2-AB3939B3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DA1-F72C-457B-9141-F8D341F4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821-C736-4FDA-B586-ECAB596C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633-2522-4246-B9B2-86B3091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F59-41A5-40FF-B220-01FADF44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DEC-7352-4855-97A9-D64F880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2CB-EDFA-499F-9351-FCC06C9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44C-D00B-4F7A-BAF7-8F64C10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BFC-1803-4D81-ABD5-0ED10C6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49E-F996-45C2-AFA2-762EEA8D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A05-BE7B-4DAB-8EDF-CC5CB36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034-43AE-4AAA-9F2C-8252871604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8DDB-40C7-4CFA-A438-FE62A0C61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2786040"/>
            <a:ext cx="81439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2323"/>
                </a:solidFill>
                <a:latin typeface="Open Sans"/>
              </a:rPr>
              <a:t>     </a:t>
            </a: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Классный час в 3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Open Sans"/>
              </a:rPr>
              <a:t>«</a:t>
            </a:r>
            <a:r>
              <a:rPr b="1" lang="ru-RU" sz="4000" spc="-1" strike="noStrike">
                <a:solidFill>
                  <a:srgbClr val="0070c0"/>
                </a:solidFill>
                <a:latin typeface="Open Sans"/>
              </a:rPr>
              <a:t>Освобождение</a:t>
            </a:r>
            <a:r>
              <a:rPr b="1" lang="ru-RU" sz="4400" spc="-1" strike="noStrike">
                <a:solidFill>
                  <a:srgbClr val="0070c0"/>
                </a:solidFill>
                <a:latin typeface="Open Sans"/>
              </a:rPr>
              <a:t> города Ленинграда от блока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Кирьянова Галина Никола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МБОУ «Приреченская СОШ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Республика Мордов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137-FC4B-4720-B740-2B676344A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https://www.uchportal.ru/_ld/150/s27474615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2781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2FA-0371-4BD4-B230-1199AAD48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57CB-0F7C-4658-AC36-31198B990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6E4-A6EC-4850-A6D6-CE83F2C5D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AF6-E8C4-4806-95F9-5AEF37706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BA0-7AF7-4905-8D48-8F588CE64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ÐÐÐ ÐÐÐ Ð§ÐÐ ÐÐ ÐÐÐÐÐÐ£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D3C-4DE5-4B1F-80F7-4054F648E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ÐÐÐÐÐÐÐ ÐÐ ÐÐÐ ÐÐ - ÐÐÐ ÐÐ 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83236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1189-B393-4708-930C-426A284AF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F436-1CF8-4EC3-8A05-4F9B79F32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039-C67D-4013-AC43-829B243AA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F06-37D1-42BD-BF19-7A31B9402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1F53-6532-4F90-9172-161E4AF27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27 Ð¯ÐÐÐÐ Ð¯ ÐÐÐÐ¬ ÐÐÐÐÐ¡ÐÐÐ Ð¡ÐÐÐÐ« Ð ÐÐ¡Ð¡ÐÐ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203-CE44-46B3-945A-F6752EBC2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ÐÐÐÐ£ÐÐÐÐ¢ Â«Ð ÐÐÐÐ ÐÐÐÐÐÐ ÐÐÐÐ¬Ð¦ÐÂ» Ð Ð§ÐÐ¡Ð¢Ð¬ ÐÐ¡ÐÐÐÐÐÐÐÐÐÐ¯ ÐÐÐÐÐÐÐ ÐÐÐ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9A0-1DA3-437B-A222-C58E6D064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F59-0354-441D-927B-D447BC844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CE93-E968-48EB-97F2-20B130908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C8A-CDD2-4251-9F02-70DD0E2F3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00C8-BD3B-4799-A9A7-47B15B03A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ÐÐÐÐÐÐÐ ÐÐÐ Ð£ÐÐÐÐÐ ÐÐÐ ÐÐÐ Ð¡Ð ÐÐ¡ÐÐ¥ Ð¡Ð¢ÐÐ ÐÐ 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F9C8-A072-402E-8D4F-3EA8FCE77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AE48-1579-420D-9592-E17A894E4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 "/>
          <p:cNvPicPr/>
          <p:nvPr/>
        </p:nvPicPr>
        <p:blipFill>
          <a:blip r:embed="rId1"/>
          <a:stretch/>
        </p:blipFill>
        <p:spPr>
          <a:xfrm>
            <a:off x="468360" y="287280"/>
            <a:ext cx="8209080" cy="590400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CCB-95AD-4E8F-8D14-A12812507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0A4-68BD-4CC9-A341-FC1004969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C24-B41B-4221-83D2-3654B6ADB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6T11:47:46Z</dcterms:created>
  <dc:creator>админ</dc:creator>
  <dc:description/>
  <dc:language>en-US</dc:language>
  <cp:lastModifiedBy>W7</cp:lastModifiedBy>
  <dcterms:modified xsi:type="dcterms:W3CDTF">2023-01-01T16:54:05Z</dcterms:modified>
  <cp:revision>10</cp:revision>
  <dc:subject/>
  <dc:title>Презентация PowerPoint</dc:title>
</cp:coreProperties>
</file>