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BCF-0EC8-485F-B3C7-3006E0AE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06A-F4AF-4EA0-8ED1-54E39BFC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270-E430-48EC-9FEA-63A50F07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10E-9126-4E97-8DA9-B92C8ADD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263-7A6B-4299-8E89-02524554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F91-9A8D-4172-9410-95BB212A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FEE-A8EE-4C57-9698-05FB8CC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1C8-A86B-481E-96BF-9E0860A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7C2-1B30-46B2-941E-2C084CA2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E9E-9E3B-425D-B5E1-32E0849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96D-CF6F-4564-A9AF-223240C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07E-79AF-46A7-9FBF-71B3E0E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CC63-6B64-43CC-ABF5-EB3D898BE5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3AB-4564-47BF-83BD-FE34A4C90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2786040"/>
            <a:ext cx="81439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2323"/>
                </a:solidFill>
                <a:latin typeface="Open Sans"/>
              </a:rPr>
              <a:t>     </a:t>
            </a: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Классный час в 3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Open Sans"/>
              </a:rPr>
              <a:t>«</a:t>
            </a:r>
            <a:r>
              <a:rPr b="1" lang="ru-RU" sz="4000" spc="-1" strike="noStrike">
                <a:solidFill>
                  <a:srgbClr val="0070c0"/>
                </a:solidFill>
                <a:latin typeface="Open Sans"/>
              </a:rPr>
              <a:t>Освобождение</a:t>
            </a:r>
            <a:r>
              <a:rPr b="1" lang="ru-RU" sz="4400" spc="-1" strike="noStrike">
                <a:solidFill>
                  <a:srgbClr val="0070c0"/>
                </a:solidFill>
                <a:latin typeface="Open Sans"/>
              </a:rPr>
              <a:t> города Ленинграда от блока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Кирьянова Галина Никола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МБОУ «Приреченская СОШ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Open Sans"/>
              </a:rPr>
              <a:t>Республика Мордов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910-9108-460E-B9A7-48049071C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https://www.uchportal.ru/_ld/150/s27474615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2781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A60-5BE8-4310-969A-FF8AED282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CEF4-1FBE-458F-BA6F-5A6876362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628-74CE-4BBB-ABA0-9F8FD8D97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D659-974D-4435-80A8-488CB9774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2834-0003-487C-A8D7-7CE0C9E03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ÐÐÐ ÐÐÐ Ð§ÐÐ ÐÐ ÐÐÐÐÐÐ£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967-0C8F-4B95-AD8A-D87F1A212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ÐÐÐÐÐÐÐ ÐÐ ÐÐÐ ÐÐ - ÐÐÐ ÐÐ 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83236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5195-24EA-454D-8502-F13BCF300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4EB-C061-46E1-8A72-DAA99276B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004E-C13D-4E7E-B492-225388707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AAC-7D7A-483D-8C8F-BF144067A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7970-28B6-4819-AB52-4CA1335A0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27 Ð¯ÐÐÐÐ Ð¯ ÐÐÐÐ¬ ÐÐÐÐÐ¡ÐÐÐ Ð¡ÐÐÐÐ« Ð ÐÐ¡Ð¡ÐÐ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B56F-4CE1-48CC-B7A9-AAF250A2C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ÐÐÐÐ£ÐÐÐÐ¢ Â«Ð ÐÐÐÐ ÐÐÐÐÐÐ ÐÐÐÐ¬Ð¦ÐÂ» Ð Ð§ÐÐ¡Ð¢Ð¬ ÐÐ¡ÐÐÐÐÐÐÐÐÐÐ¯ ÐÐÐÐÐÐÐ ÐÐÐ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FF05-6DDE-43AD-9810-B74AFF9BC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E72-B3D0-4F2C-876F-B46B8213B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4EA-89EB-4AA0-A544-5E42B4A0F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228-1A55-4C4E-93AA-4B1BDC91FF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 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C77E-0A44-479B-A538-4B2E4993A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ÐÐÐÐÐÐÐ ÐÐÐ Ð£ÐÐÐÐÐ ÐÐÐ ÐÐÐ Ð¡Ð ÐÐ¡ÐÐ¥ Ð¡Ð¢ÐÐ ÐÐ 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0435-AB25-46E6-84EA-F51706E9E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47BA-3F89-4379-A4E2-7702754A7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 "/>
          <p:cNvPicPr/>
          <p:nvPr/>
        </p:nvPicPr>
        <p:blipFill>
          <a:blip r:embed="rId1"/>
          <a:stretch/>
        </p:blipFill>
        <p:spPr>
          <a:xfrm>
            <a:off x="468360" y="287280"/>
            <a:ext cx="8209080" cy="590400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8AB0-3781-49E8-9DD1-4FA19004A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7BFF-9D0D-4A33-B21B-29D4F14E2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 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9CE-818B-40C7-92EE-5BE246AB0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6T11:47:46Z</dcterms:created>
  <dc:creator>админ</dc:creator>
  <dc:description/>
  <dc:language>en-US</dc:language>
  <cp:lastModifiedBy>W7</cp:lastModifiedBy>
  <dcterms:modified xsi:type="dcterms:W3CDTF">2023-01-01T16:54:05Z</dcterms:modified>
  <cp:revision>10</cp:revision>
  <dc:subject/>
  <dc:title>Презентация PowerPoint</dc:title>
</cp:coreProperties>
</file>