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98DE-CD83-4EEC-9659-E7DE47AEC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C28D-61ED-4D29-842D-D29703CC76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1D1B-38DA-4393-AD0E-9C11705F49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3440-68D5-451F-AD99-3A75C31B5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F5CD-7549-4D2B-8413-99B731FB63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B05-7E36-42BE-8F8A-8D7DF904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335F-96D9-4AF5-A66D-47A4D9F8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E6E-7FFF-4F5F-8810-8B4E5004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14D-9660-422D-A9B0-4B83CACD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195-D69E-4443-96FA-C7683FC6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0C9-AE2B-4ECF-AD53-DE117081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B5E-09E1-469B-8174-774D9473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DE0-6854-4EE2-97EF-EDBAECEF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0E5-8D70-4D95-8E70-7484FD03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1F6-34B4-4504-B7B2-207BF5E0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597-CD45-466E-A777-A425B11A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BBC-7BA2-46B4-96B8-44A2BFBD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8CC7-3898-4CB0-ADAC-ABC3A920C1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2;&#1077;&#1093;&#1072;&#1085;&#1080;&#1095;&#1077;&#1089;&#1082;&#1072;&#1103;_&#1087;&#1077;&#1088;&#1077;&#1076;&#1072;&#1095;&#1072;" TargetMode="External"/><Relationship Id="rId2" Type="http://schemas.openxmlformats.org/officeDocument/2006/relationships/hyperlink" Target="https://ru.wikipedia.org/wiki/&#1042;&#1088;&#1072;&#1097;&#1072;&#1090;&#1077;&#1083;&#1100;&#1085;&#1086;&#1077;_&#1076;&#1074;&#1080;&#1078;&#1077;&#1085;&#1080;&#1077;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2;&#1077;&#1093;&#1072;&#1085;&#1080;&#1095;&#1077;&#1089;&#1082;&#1072;&#1103;_&#1101;&#1085;&#1077;&#1088;&#1075;&#1080;&#1103;" TargetMode="External"/><Relationship Id="rId2" Type="http://schemas.openxmlformats.org/officeDocument/2006/relationships/hyperlink" Target="https://ru.wikipedia.org/wiki/&#1069;&#1085;&#1077;&#1088;&#1075;&#1077;&#1090;&#1080;&#1095;&#1077;&#1089;&#1082;&#1072;&#1103;_&#1084;&#1072;&#1096;&#1080;&#1085;&#1072;" TargetMode="External"/><Relationship Id="rId3" Type="http://schemas.openxmlformats.org/officeDocument/2006/relationships/hyperlink" Target="https://ru.wikipedia.org/wiki/&#1052;&#1077;&#1093;&#1072;&#1085;&#1080;&#1095;&#1077;&#1089;&#1082;&#1086;&#1077;_&#1076;&#1074;&#1080;&#1078;&#1077;&#1085;&#1080;&#1077;" TargetMode="External"/><Relationship Id="rId4" Type="http://schemas.openxmlformats.org/officeDocument/2006/relationships/hyperlink" Target="https://ru.wikipedia.org/wiki/&#1057;&#1080;&#1083;&#1072;" TargetMode="External"/><Relationship Id="rId5" Type="http://schemas.openxmlformats.org/officeDocument/2006/relationships/hyperlink" Target="https://ru.wikipedia.org/wiki/&#1057;&#1082;&#1086;&#1088;&#1086;&#1089;&#1090;&#1100;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33"/>
                </a:solidFill>
                <a:latin typeface="Georgia"/>
              </a:rPr>
              <a:t>Механические передач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70581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alibri"/>
              </a:rPr>
              <a:t>Учитель технологии: Панченко С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нтовая пере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дача «винт — гайка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— винтовая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механическая передач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реобразующая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вращательное движ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в поступательное, или наоборот. В общем случае она состоит из винта и гай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s://molibden-wolfram.ru/wp-content/uploads/1/a/1/1a1b1dcf0922a17aae38f034812ab259.jpeg"/>
          <p:cNvPicPr/>
          <p:nvPr/>
        </p:nvPicPr>
        <p:blipFill>
          <a:blip r:embed="rId3"/>
          <a:stretch/>
        </p:blipFill>
        <p:spPr>
          <a:xfrm>
            <a:off x="4648320" y="2627280"/>
            <a:ext cx="446076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нтовая пере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нтовые передачи делятся 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ачи 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кольж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ачи 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ч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риковинтовые передачи качения (ШВП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ликовинтовые передачи ка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Lead of trapezoidal spindel "/>
          <p:cNvPicPr/>
          <p:nvPr/>
        </p:nvPicPr>
        <p:blipFill>
          <a:blip r:embed="rId1"/>
          <a:stretch/>
        </p:blipFill>
        <p:spPr>
          <a:xfrm>
            <a:off x="5199120" y="1600200"/>
            <a:ext cx="2666880" cy="24051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2"/>
          <a:stretch/>
        </p:blipFill>
        <p:spPr>
          <a:xfrm>
            <a:off x="3959280" y="4292640"/>
            <a:ext cx="248436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2556000" cy="23763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3695760" y="32446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Советская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менная пере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1880" y="1417680"/>
            <a:ext cx="34624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остой механизм, передающий движение от одного шкива другому посредством ремня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форме сечения различают: круглоременные,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иноременные, плоскоременные, зубчаторемен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s://avatars.mds.yandex.net/i?id=8d2b411d77d15f37959a2c393c1e3874ab00c315-7174559-images-thumbs&amp;n=13"/>
          <p:cNvPicPr/>
          <p:nvPr/>
        </p:nvPicPr>
        <p:blipFill>
          <a:blip r:embed="rId1"/>
          <a:stretch/>
        </p:blipFill>
        <p:spPr>
          <a:xfrm>
            <a:off x="3780000" y="2133720"/>
            <a:ext cx="5256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пная пере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ханизм, в котором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дач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механической энергии на расстояние осуществля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пь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хватывающей звёздочки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пн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зубчатые колёса)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s://present5.com/presentation/-61723217_437026541/image-8.jpg"/>
          <p:cNvPicPr/>
          <p:nvPr/>
        </p:nvPicPr>
        <p:blipFill>
          <a:blip r:embed="rId1"/>
          <a:stretch/>
        </p:blipFill>
        <p:spPr>
          <a:xfrm>
            <a:off x="3708360" y="1600200"/>
            <a:ext cx="53276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ханические передачи известны со времен зарождения техники, прошли вместе с ней длительный путь развития и совершенствования и имеют сейчас очень широкое применение. Грамотная эксплуатация механических передач требует знание основ и особенностей их проектирования и методов расч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ханическая передача - э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ройство для передачи и преобразования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механической энерг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о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энергетической машин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до исполнительного механизма (органа), как правило, с одновременным изменением характера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движ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изменения направления,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и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моментов и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скорост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ификация механических передач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висимости от принципа действия все передачи делятся на две групп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передачи трением – фрикционные и реме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передачи зацеплением – зубчатые, червячные, планетарные, волновые, цеп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2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ассификация механических передач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висимости от способа соединения ведущего и ведомого звеньев передачи быва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передачи непосредственного контакта – фрикционные, зубчатые и червяч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ередачи с гибкой связью – ременные, цеп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рикционная передача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ханическа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дач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ужащая для передачи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ащательного движения (или для преобразования вращательного движения в поступательное) между валами с помощью сил трения, возникающих между дисками, цилиндрами или конусами, насаженными на валы и прижимаемыми один к друг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5637240" y="2421000"/>
            <a:ext cx="3492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фрикционных пере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Фрикционная передача."/>
          <p:cNvPicPr/>
          <p:nvPr/>
        </p:nvPicPr>
        <p:blipFill>
          <a:blip r:embed="rId1"/>
          <a:stretch/>
        </p:blipFill>
        <p:spPr>
          <a:xfrm>
            <a:off x="684360" y="1417680"/>
            <a:ext cx="7848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убчатая пере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это механизм, который с помощью зубчатого зацепления передает или преобразует дви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s://illustrators.ru/uploads/illustration/image/1182267/%D0%9A%D0%BE%D0%BB%D0%BB%D0%B0%D0%B6_%D0%BD%D0%B0_%D1%82%D0%B5%D0%BC%D1%83_%D0%B4%D0%B5%D1%82%D0%B0%D0%BB%D0%B8_%D0%BC%D0%B0%D1%88%D0%B8%D0%BD_32.jpg"/>
          <p:cNvPicPr/>
          <p:nvPr/>
        </p:nvPicPr>
        <p:blipFill>
          <a:blip r:embed="rId1"/>
          <a:stretch/>
        </p:blipFill>
        <p:spPr>
          <a:xfrm>
            <a:off x="4140360" y="1989000"/>
            <a:ext cx="4752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Виды зубчатых передач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вячная пере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3322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это механизм для передачи вращения между валами посредством винта – червяка и сопряженного с ним червячного коле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Необходимо принимать во внимание тот факт, что для червячной передачи прису..."/>
          <p:cNvPicPr/>
          <p:nvPr/>
        </p:nvPicPr>
        <p:blipFill>
          <a:blip r:embed="rId1"/>
          <a:stretch/>
        </p:blipFill>
        <p:spPr>
          <a:xfrm>
            <a:off x="3780000" y="1844640"/>
            <a:ext cx="5256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7:49:18Z</dcterms:created>
  <dc:creator>Admin</dc:creator>
  <dc:description/>
  <dc:language>en-US</dc:language>
  <cp:lastModifiedBy>Persona</cp:lastModifiedBy>
  <dcterms:modified xsi:type="dcterms:W3CDTF">2022-12-26T18:57:49Z</dcterms:modified>
  <cp:revision>36</cp:revision>
  <dc:subject/>
  <dc:title>Выпиливание лобзиком забавных поделок</dc:title>
</cp:coreProperties>
</file>