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7F5-C67E-48F6-BC7E-65848255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953-0F9C-444D-B998-F844D139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2B8-CB6C-4577-A450-DF002F06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554-B485-42A4-B6CD-E4C1C171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162C-F2D9-4E2D-8A9C-7DA1568F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209F-C322-4FF9-BED6-C4C7CC5C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31CF-4547-403A-92B2-B52FB4BF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80C6-A166-4DD9-B7E3-CDD6A04D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9984-330D-4FBD-A66B-972C46E6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787B-858A-4BE3-B081-6C07E417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3887-8FF2-4B06-AD7E-7C6A7513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429-63E9-4421-9635-43C11C2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047D-57F3-45A8-BA68-54F5760B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31DE-8140-4794-9D5F-93CB5AC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99F1-6AB0-44EF-AC3D-052B44E7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9BD9-A5F2-48F7-AAF2-035641A5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2395-503A-4671-9056-74F2F8F4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3A1-D29C-43E0-8801-C677B55C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A1F-991B-4B23-8F43-B906797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DC6-662B-4647-A1F1-770335B4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055-24B1-4219-964A-1C9AA1B6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979-AC7F-4E42-83E1-4C514119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9FF-C843-4B4F-BABA-CDF31C55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033-F729-4873-B222-9A93D0D3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1A8F-4473-42B7-9183-BE418514A0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A239-A79E-4E41-9030-A95EDF8BF43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иды двигател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971800" y="57909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ология 5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: Панченко С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Рисунок 1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6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Двигатель внутреннего сгорания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Двигатель внутреннего сгора́ния (ДВС)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 — </a:t>
            </a:r>
            <a:r>
              <a:rPr b="0" lang="ru-RU" sz="2400" spc="-1" strike="noStrike">
                <a:solidFill>
                  <a:srgbClr val="ffffff"/>
                </a:solidFill>
                <a:latin typeface="YS Text"/>
              </a:rPr>
              <a:t>это тепловой двигатель, в котором химическая энергия топлива, сгорающего в его рабочей полости (камере сгорания), преобразуется в механическую рабо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Рисунок 3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562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ahoma"/>
              </a:rPr>
              <a:t>Электродвигател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Электрический двигатель</a:t>
            </a:r>
            <a:r>
              <a:rPr b="0" lang="ru-RU" sz="2800" spc="-1" strike="noStrike">
                <a:solidFill>
                  <a:srgbClr val="d60093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 это электрическая машина (электромеханический преобразователь), в которой электрическая энергия преобразуется в механическ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Рисунок 1" descr=""/>
          <p:cNvPicPr/>
          <p:nvPr/>
        </p:nvPicPr>
        <p:blipFill>
          <a:blip r:embed="rId1"/>
          <a:srcRect l="-2427" t="0" r="2432" b="-57377"/>
          <a:stretch/>
        </p:blipFill>
        <p:spPr>
          <a:xfrm>
            <a:off x="1371600" y="2590920"/>
            <a:ext cx="6186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ahoma"/>
              </a:rPr>
              <a:t>Пневматический двигатель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невмодвигатель, пневмомотор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нергосиловая машина, преобразующая энергию сжатого воздуха в механическую рабо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Рисунок 1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05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ahoma"/>
              </a:rPr>
              <a:t>Гидравлический двигат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Гидравлический двигате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(гидродвигатель) —гидравлическая машина, предназначенная для преобразования гидравлической энергии в механическу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Рисунок 1" descr=""/>
          <p:cNvPicPr/>
          <p:nvPr/>
        </p:nvPicPr>
        <p:blipFill>
          <a:blip r:embed="rId1"/>
          <a:stretch/>
        </p:blipFill>
        <p:spPr>
          <a:xfrm>
            <a:off x="301680" y="3124080"/>
            <a:ext cx="3889440" cy="30481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2" descr=""/>
          <p:cNvPicPr/>
          <p:nvPr/>
        </p:nvPicPr>
        <p:blipFill>
          <a:blip r:embed="rId2"/>
          <a:stretch/>
        </p:blipFill>
        <p:spPr>
          <a:xfrm>
            <a:off x="4784760" y="3124080"/>
            <a:ext cx="4057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28600" y="15998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Tahoma"/>
              </a:rPr>
              <a:t>Спасибо за внимание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Цель урока: 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знакомить учащихся с понятием двигатель, классификацией двиг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Рисунок 1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6400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ahoma"/>
              </a:rPr>
              <a:t>Двигат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́гател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устройство, преобразующе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-либо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ерги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ческую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работу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ин мотор заимствован в первой половине XIX века из немецкого языка (нем. Motor — «двигатель», от лат. mōtor — «приводящий в движение») и преимущественно им называют электрические двигатели и двигатели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ahoma"/>
              </a:rPr>
              <a:t>Классификация</a:t>
            </a:r>
            <a:r>
              <a:rPr b="1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b0f0"/>
                </a:solidFill>
                <a:latin typeface="Tahoma"/>
              </a:rPr>
              <a:t>двигател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гатели подразделяют на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ервич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торич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первичным относят непосредственно преобразующие природные энергетические ресурсы в механическую работу, а ко вторичным — преобразующие энергию, выработанную или накопленную другими источни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ервич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вигателям (ПД) относятся: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ветряное колес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водяное колесо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гиревой механизм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тепловые двигател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торич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вигателям относятся (ВД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ическ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пневматические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гидравличе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ahoma"/>
              </a:rPr>
              <a:t>Классификация двигател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источнику энерг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ическ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ческ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ер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витацион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вматическ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дравлическ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зерные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algn="just">
              <a:lnSpc>
                <a:spcPct val="107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ahoma"/>
              </a:rPr>
              <a:t>Классификация двигател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устройств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вигатели внешнего сгора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— класс двигателей, где источник тепла или процесс сгорания топлива отделены от рабочего тел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·  поршневые паровые двигател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·  паровые турби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·  паровой двига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ahoma"/>
              </a:rPr>
              <a:t>Классификация двигател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игатели внутреннего сгоран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класс двигателей, у которых образование рабочего тела и подвод к нему тепла объединены в одном процессе и происходят в одном технологическом объём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гатели с герметично запираемыми рабочими камер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гатели с камерами, откуда рабочее тело имеет свободный выход в атмосфер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ahoma"/>
              </a:rPr>
              <a:t>Ветряной двигател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71840" y="1066320"/>
            <a:ext cx="26701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ройство для преобразования кинетической энергии ветрового потока в механическую энергию вращения ротора с последующим её преобразованием в электрическую энерг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Рисунок 2" descr=""/>
          <p:cNvPicPr/>
          <p:nvPr/>
        </p:nvPicPr>
        <p:blipFill>
          <a:blip r:embed="rId1"/>
          <a:stretch/>
        </p:blipFill>
        <p:spPr>
          <a:xfrm>
            <a:off x="301680" y="1447920"/>
            <a:ext cx="5718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64600" y="0"/>
            <a:ext cx="854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ahoma"/>
              </a:rPr>
              <a:t>Водяное колес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240" y="4267080"/>
            <a:ext cx="8613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одяное колесо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механическое устройство для преобразования энергии падающей воды (гидроэнергии) в энергию вращательного движения с тем, чтобы на оси колеса можно было совершать работ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Рисунок 1" descr=""/>
          <p:cNvPicPr/>
          <p:nvPr/>
        </p:nvPicPr>
        <p:blipFill>
          <a:blip r:embed="rId1"/>
          <a:stretch/>
        </p:blipFill>
        <p:spPr>
          <a:xfrm>
            <a:off x="2462040" y="838080"/>
            <a:ext cx="4219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5T11:45:22Z</dcterms:created>
  <dc:creator>Бизон</dc:creator>
  <dc:description/>
  <dc:language>en-US</dc:language>
  <cp:lastModifiedBy>Persona</cp:lastModifiedBy>
  <dcterms:modified xsi:type="dcterms:W3CDTF">2022-12-25T15:57:01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