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5D0-467B-4521-932D-84B2F090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BC9-F560-4AC5-8314-FD39A76C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897-961B-4941-8F19-ED49A5F4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E6E-5468-4E0A-A91B-125F062E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64F6-1E72-4220-A54A-A0CD3C91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E33A-AE7B-4BFC-8277-335FCE11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1F8F-F534-4ADC-A7F9-5479F1E7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147D-9D26-4700-9A81-986829BD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CED3-6800-4B6A-89D3-D63455FF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B471-E07F-46A8-B9C7-AADC57FD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CC7E-1AE6-4DA9-BAD6-88A7EBA4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7B4-92F7-443A-BA33-D987A2A6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B44D-62B2-4500-9C44-63321B4B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525F-6426-4A5B-957F-D54F59B3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4E2E-53B8-4562-9229-5ACB5799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B234-A54D-42FF-8ED9-EDC366D4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7D1A-0A0C-4228-AAE5-E3373F48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F84-57DF-4120-ADC4-DC8F1A55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C56-92FA-4D9A-89F4-E5D4E649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7E1-FFD9-4289-9CA7-215612F2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E83-EF82-464D-9B58-80B615B2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4E8-6BBF-484C-B4E5-E31C1C50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9D5-A447-4FE7-9663-CB38DC6B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AB8-2692-4DF2-8431-F21629CD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3749-C23A-410A-B60C-E60D4D2FD6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6C58-ED36-41C8-B05A-5BA88228A1B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иды двигател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971800" y="57909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я 5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: Панченко С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Рисунок 1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6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Двигатель внутреннего сгорания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Двигатель внутреннего сгора́ния (ДВС)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 — </a:t>
            </a:r>
            <a:r>
              <a:rPr b="0" lang="ru-RU" sz="2400" spc="-1" strike="noStrike">
                <a:solidFill>
                  <a:srgbClr val="ffffff"/>
                </a:solidFill>
                <a:latin typeface="YS Text"/>
              </a:rPr>
              <a:t>это тепловой двигатель, в котором химическая энергия топлива, сгорающего в его рабочей полости (камере сгорания), преобразуется в механическую рабо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Рисунок 3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562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ahoma"/>
              </a:rPr>
              <a:t>Электродвигател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Электрический двигатель</a:t>
            </a:r>
            <a:r>
              <a:rPr b="0" lang="ru-RU" sz="2800" spc="-1" strike="noStrike">
                <a:solidFill>
                  <a:srgbClr val="d60093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 это электрическая машина (электромеханический преобразователь), в которой электрическая энергия преобразуется в механическ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Рисунок 1" descr=""/>
          <p:cNvPicPr/>
          <p:nvPr/>
        </p:nvPicPr>
        <p:blipFill>
          <a:blip r:embed="rId1"/>
          <a:srcRect l="-2427" t="0" r="2432" b="-57377"/>
          <a:stretch/>
        </p:blipFill>
        <p:spPr>
          <a:xfrm>
            <a:off x="1371600" y="2590920"/>
            <a:ext cx="6186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ahoma"/>
              </a:rPr>
              <a:t>Пневматический двигатель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невмодвигатель, пневмомотор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нергосиловая машина, преобразующая энергию сжатого воздуха в механическую рабо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Рисунок 1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05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ahoma"/>
              </a:rPr>
              <a:t>Гидравлический двигат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Гидравлический двигате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(гидродвигатель) —гидравлическая машина, предназначенная для преобразования гидравлической энергии в механическу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Рисунок 1" descr=""/>
          <p:cNvPicPr/>
          <p:nvPr/>
        </p:nvPicPr>
        <p:blipFill>
          <a:blip r:embed="rId1"/>
          <a:stretch/>
        </p:blipFill>
        <p:spPr>
          <a:xfrm>
            <a:off x="301680" y="3124080"/>
            <a:ext cx="3889440" cy="30481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2" descr=""/>
          <p:cNvPicPr/>
          <p:nvPr/>
        </p:nvPicPr>
        <p:blipFill>
          <a:blip r:embed="rId2"/>
          <a:stretch/>
        </p:blipFill>
        <p:spPr>
          <a:xfrm>
            <a:off x="4784760" y="3124080"/>
            <a:ext cx="4057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28600" y="15998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Tahoma"/>
              </a:rPr>
              <a:t>Спасибо за внимание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Цель урока: 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знакомить учащихся с понятием двигатель, классификацией двиг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Рисунок 1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6400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ahoma"/>
              </a:rPr>
              <a:t>Двигат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́гател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устройство, преобразующе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-либо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ерги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ческую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работу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ин мотор заимствован в первой половине XIX века из немецкого языка (нем. Motor — «двигатель», от лат. mōtor — «приводящий в движение») и преимущественно им называют электрические двигатели и двигатели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ahoma"/>
              </a:rPr>
              <a:t>Классификация</a:t>
            </a:r>
            <a:r>
              <a:rPr b="1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b0f0"/>
                </a:solidFill>
                <a:latin typeface="Tahoma"/>
              </a:rPr>
              <a:t>двигател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гатели подразделяют на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ервич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торич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первичным относят непосредственно преобразующие природные энергетические ресурсы в механическую работу, а ко вторичным — преобразующие энергию, выработанную или накопленную другими источни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ервич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вигателям (ПД) относятся: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ветряное колес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водяное колесо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гиревой механизм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тепловые двигател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торич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вигателям относятся (ВД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ическ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пневматические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гидравличе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ahoma"/>
              </a:rPr>
              <a:t>Классификация двигател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источнику энерг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ическ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ческ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ер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витацион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вматическ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дравлическ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зерные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ahoma"/>
              </a:rPr>
              <a:t>Классификация двигател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устройств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вигатели внешнего сгора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— класс двигателей, где источник тепла или процесс сгорания топлива отделены от рабочего тел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·  поршневые паровые двигател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·  паровые турби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·  паровой двига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ahoma"/>
              </a:rPr>
              <a:t>Классификация двигател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игатели внутреннего сгоран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класс двигателей, у которых образование рабочего тела и подвод к нему тепла объединены в одном процессе и происходят в одном технологическом объём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гатели с герметично запираемыми рабочими камер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гатели с камерами, откуда рабочее тело имеет свободный выход в атмосфер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ahoma"/>
              </a:rPr>
              <a:t>Ветряной двигател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71840" y="1066320"/>
            <a:ext cx="26701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ройство для преобразования кинетической энергии ветрового потока в механическую энергию вращения ротора с последующим её преобразованием в электрическую энерг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Рисунок 2" descr=""/>
          <p:cNvPicPr/>
          <p:nvPr/>
        </p:nvPicPr>
        <p:blipFill>
          <a:blip r:embed="rId1"/>
          <a:stretch/>
        </p:blipFill>
        <p:spPr>
          <a:xfrm>
            <a:off x="301680" y="1447920"/>
            <a:ext cx="5718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64600" y="0"/>
            <a:ext cx="854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ahoma"/>
              </a:rPr>
              <a:t>Водяное колес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240" y="4267080"/>
            <a:ext cx="8613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одяное колесо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механическое устройство для преобразования энергии падающей воды (гидроэнергии) в энергию вращательного движения с тем, чтобы на оси колеса можно было совершать работ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Рисунок 1" descr=""/>
          <p:cNvPicPr/>
          <p:nvPr/>
        </p:nvPicPr>
        <p:blipFill>
          <a:blip r:embed="rId1"/>
          <a:stretch/>
        </p:blipFill>
        <p:spPr>
          <a:xfrm>
            <a:off x="2462040" y="838080"/>
            <a:ext cx="4219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5T11:45:22Z</dcterms:created>
  <dc:creator>Бизон</dc:creator>
  <dc:description/>
  <dc:language>en-US</dc:language>
  <cp:lastModifiedBy>Persona</cp:lastModifiedBy>
  <dcterms:modified xsi:type="dcterms:W3CDTF">2022-12-25T15:57:01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