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8BA-5BA8-4AB8-B08A-96E8A740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D47-BF78-4CE8-8CA3-C0A3254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95F-021C-4EDC-A015-E4D0E48C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984-0F37-4875-80A3-8C80D7BD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533-526C-4599-87AB-C1D470C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BB2F-BF83-492D-8203-6C2EB29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FF23-3DF1-4779-8B1E-DE4018A8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12B8-476D-478B-8567-78BF4370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E0DE-9B5B-4D8E-BDC2-B2DDC14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FA9-F2E4-4068-BCC4-BD13FB3F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F2F4-497A-40B7-9CEE-3089FDE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E02-AA19-4756-842C-463FAE6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50F-EC6C-400F-92B9-6591E6EB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878-3EEF-4E3C-A36A-E843F23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4E2-E8C8-4CE2-90B5-2857EFA5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C416-96A8-4F68-8FE5-D8C42312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3E46-35D0-4BD9-ACA2-18A666EC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E2BB-D2D5-4DB6-ACBA-18DDF7C8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D673-BB5E-42E2-9D3B-D96BB4E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4487-1CEE-4F17-98CA-E21E250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D69D-4B8E-4DED-98B4-DB32BCC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7021-807D-4509-B3CB-071682A0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271-AB6E-462A-B83E-229E3D07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ABC6-F824-4B95-BE6E-4683AC68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E850-DB80-4E5D-AE2C-E13BFB5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C442-FEE0-405B-8C1D-DE30233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39E5-1ECB-4D5B-8D4C-DE2EC1F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C425-561E-4CBF-8A55-A4B36A9A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52D3-13C8-4BB2-8698-BF0ECF7D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1C35-99D2-4FF6-8853-D095E089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F6D5-66DB-4B11-AA47-53F730CD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665FF-4BD7-4BFD-BCBB-CC5295F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51DF-E833-4694-9E0F-39A487C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5B7-5332-47AF-9F36-DB7E03A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5A0B-73C1-400E-8E94-C0BFC976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BE79-3B65-43D6-89D6-1118DCAE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A168-177E-4ED5-8288-9EB71728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EE4E-51C1-414D-B0C4-B401825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EC41-B020-4189-A29D-E2DF25E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8E6C-6601-4384-B76D-ADE549C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FAFA-E08F-47A5-9E25-8F9ADE0E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9A6D-6FAE-43F6-962F-0C49E15B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D5D3-D9A3-4335-9560-A0C28069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354A-5B93-4494-BFB1-8DE7459E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4BD-3562-482C-82DE-9651E9A0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C16B-E7ED-4EE3-B781-58A01E8D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4EEB-E75F-471C-9FDE-6A243617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7CAC5-F099-4855-BD6D-AEE08A8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8BC4-2814-4791-B169-409AB9D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BFB9A-DCA4-4BC7-9A9D-40A5CE72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F04D-D4D2-448A-8EA8-C190B0E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E157-3520-4CDC-B758-D2C3422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53D1-5AE5-4B6C-8503-1C96F90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EF2A-8DEE-421C-8538-FA5082DF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2482-0A52-41BE-8F5B-93B91C0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328-6523-485D-8D9D-6663BB13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526B-CAE8-48C8-8055-1B82EC6E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BD4-5A24-4E32-A250-1058C741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171-A640-4FB0-B22D-BB7DBEA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E08-6051-42B2-B0BB-E2A4989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34B6-888C-414B-8860-AE3A2CCB824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46B6-409E-4715-9B3E-2A27BBECCEC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44D-287C-4840-8AC8-55EEF5CE46B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AE2E-0D8F-4EAF-B653-DA01A728FE5E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7B13-5CEC-408C-9398-27909F25AB7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5" descr=""/>
          <p:cNvPicPr/>
          <p:nvPr/>
        </p:nvPicPr>
        <p:blipFill>
          <a:blip r:embed="rId1"/>
          <a:stretch/>
        </p:blipFill>
        <p:spPr>
          <a:xfrm>
            <a:off x="865080" y="1504800"/>
            <a:ext cx="79678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Users\User\Desktop\тропинки знаний\800px-Afanasiy_Nikitin_Monument_in_Tver.jpg"/>
          <p:cNvPicPr/>
          <p:nvPr/>
        </p:nvPicPr>
        <p:blipFill>
          <a:blip r:embed="rId2"/>
          <a:stretch/>
        </p:blipFill>
        <p:spPr>
          <a:xfrm>
            <a:off x="395280" y="620640"/>
            <a:ext cx="6913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Users\User\Desktop\тропинки знаний\казанский собор.jpg"/>
          <p:cNvPicPr/>
          <p:nvPr/>
        </p:nvPicPr>
        <p:blipFill>
          <a:blip r:embed="rId2"/>
          <a:stretch/>
        </p:blipFill>
        <p:spPr>
          <a:xfrm>
            <a:off x="395280" y="476280"/>
            <a:ext cx="7201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128520" y="-212760"/>
            <a:ext cx="7577280" cy="1681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User\Desktop\тропинки знаний\храм.jpg"/>
          <p:cNvPicPr/>
          <p:nvPr/>
        </p:nvPicPr>
        <p:blipFill>
          <a:blip r:embed="rId2"/>
          <a:stretch/>
        </p:blipFill>
        <p:spPr>
          <a:xfrm>
            <a:off x="1042920" y="476280"/>
            <a:ext cx="61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User\Desktop\тропинки знаний\эзимний дворец.jpg"/>
          <p:cNvPicPr/>
          <p:nvPr/>
        </p:nvPicPr>
        <p:blipFill>
          <a:blip r:embed="rId2"/>
          <a:stretch/>
        </p:blipFill>
        <p:spPr>
          <a:xfrm>
            <a:off x="468360" y="404640"/>
            <a:ext cx="6696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User\Desktop\тропинки знаний\кижи.JPG"/>
          <p:cNvPicPr/>
          <p:nvPr/>
        </p:nvPicPr>
        <p:blipFill>
          <a:blip r:embed="rId2"/>
          <a:stretch/>
        </p:blipFill>
        <p:spPr>
          <a:xfrm>
            <a:off x="539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User\Desktop\тропинки знаний\ключ.сопка.jpg"/>
          <p:cNvPicPr/>
          <p:nvPr/>
        </p:nvPicPr>
        <p:blipFill>
          <a:blip r:embed="rId2"/>
          <a:stretch/>
        </p:blipFill>
        <p:spPr>
          <a:xfrm>
            <a:off x="539640" y="1197000"/>
            <a:ext cx="7620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тропинки знаний\байкал.jpg"/>
          <p:cNvPicPr/>
          <p:nvPr/>
        </p:nvPicPr>
        <p:blipFill>
          <a:blip r:embed="rId2"/>
          <a:stretch/>
        </p:blipFill>
        <p:spPr>
          <a:xfrm>
            <a:off x="0" y="476280"/>
            <a:ext cx="817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User\Desktop\тропинки знаний\большой театр.jpg"/>
          <p:cNvPicPr/>
          <p:nvPr/>
        </p:nvPicPr>
        <p:blipFill>
          <a:blip r:embed="rId2"/>
          <a:stretch/>
        </p:blipFill>
        <p:spPr>
          <a:xfrm>
            <a:off x="539640" y="333360"/>
            <a:ext cx="7056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User\Desktop\тропинки знаний\казань мечеть.jpg"/>
          <p:cNvPicPr/>
          <p:nvPr/>
        </p:nvPicPr>
        <p:blipFill>
          <a:blip r:embed="rId2"/>
          <a:stretch/>
        </p:blipFill>
        <p:spPr>
          <a:xfrm>
            <a:off x="324000" y="620640"/>
            <a:ext cx="7127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c22ea4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User\Desktop\тропинки знаний\photo_file_19995_l.jpg"/>
          <p:cNvPicPr/>
          <p:nvPr/>
        </p:nvPicPr>
        <p:blipFill>
          <a:blip r:embed="rId2"/>
          <a:stretch/>
        </p:blipFill>
        <p:spPr>
          <a:xfrm>
            <a:off x="539640" y="333360"/>
            <a:ext cx="72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16:56:05Z</dcterms:created>
  <dc:creator>User</dc:creator>
  <dc:description/>
  <dc:language>en-US</dc:language>
  <cp:lastModifiedBy>User</cp:lastModifiedBy>
  <dcterms:modified xsi:type="dcterms:W3CDTF">2016-12-20T17:04:58Z</dcterms:modified>
  <cp:revision>3</cp:revision>
  <dc:subject/>
  <dc:title>Знаешь  ли ты Россию ?</dc:title>
</cp:coreProperties>
</file>