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255-CEB5-4C8A-BFAF-1EE833AB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90F-722B-4F2F-B13D-C6ABE323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654-AFF5-4824-938A-4C84837C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E2F-302D-4D25-80E3-D0308B51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FDAF-23DC-4C96-BACB-703C09F4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208-81DC-42B0-BB57-F58F2505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EE91-85A3-4A4E-A127-9F77D04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944D-4BEF-4E75-A330-BD1A106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2E46-61C3-4C81-8A59-8C260ED2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BF0E-CDCB-4B6B-B284-3C76302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7434-7261-46C1-A1D6-2751FF9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9DD-5850-4416-B986-28613FD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BD3E-439F-4BDB-B27B-F45856B5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6BB3-34CB-4DBE-9F78-571DCA5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C6B-1DAB-420E-A2D6-EB4E7AE0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A632-AB66-470B-B27C-86D10C74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60F8-0626-446C-AC20-AC071917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5549-12F9-4437-8430-3910E09F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84ED-23C7-451B-8A4A-C3F2D13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1002-0F18-45AC-A10F-F71C0421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B548-35A1-4883-948B-7C1FC9A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320E-6CB9-46A7-AFB2-67973579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200-F072-495F-AD23-24D7668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D8B1-F3F0-449F-A5AC-637291A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55FA-A45F-4BE4-9282-FA1E6B2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CF3A-B216-4412-A6E9-5E4DC6D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5A1B-3014-46A5-B2B5-4C1F2BE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B3F5-18C4-42B8-902C-B423E77D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5D4F-1C38-444F-943B-CDFF50D4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A53A-BFA5-4874-B3D5-1341247D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3D88-CC61-48B7-BFD4-C5C79629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5343-4F35-4070-B727-F913B642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5839-B0A4-44FF-BFF6-DC20EC0C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010-50BA-46EE-A810-A2C43C07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009F-4547-4134-8E03-F070415B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83FC-E783-4143-9C22-0860641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E940-E5DC-4736-9382-58E1ADE2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08A4-566C-4612-970B-1DAF531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5EF1-0891-405E-9A27-36C0C06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8B04-1C69-4E30-BC02-5665069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2929-A95C-46D0-BFFD-AAC8C8C4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09EC-E28E-4B39-A6B8-E73C8A87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B9F9-E902-439A-A21F-7BFF0205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ACB9-ED18-4822-97E3-9ECC900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372-2B06-4A41-B92E-6D7FE8A9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09C0-E1E2-4855-ADA1-88AB853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3AB0-3D1E-444C-98AB-74FEB5E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800E0-869C-4CD8-85C4-8CAA990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52D57-9E37-406F-8B24-50ABCD74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9B80-4D75-49C7-8BC2-8E362964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1E78-8A2A-4EA0-849A-C12A03F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93FF-6AC1-4AA6-8163-C2B3492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9CAD-38CE-4F30-9490-B7D2316F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5380-46BF-412C-BB7A-48C70C9D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45BC-F7BE-4CA4-8B0B-0E33885B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688-7B9B-45DB-87B9-CF8E7384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C017-FAC8-463E-B527-EBFA9514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3F3-7257-40AD-BB5C-24F57CA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F90-914F-4238-93B9-106B11E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436-7BDD-4460-9674-AE9B75B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60C-F251-4945-B577-74BDC8D5D1E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C33F-58CF-4558-9113-2CB8D1267B1B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3E8-5705-4091-B9EE-6F05E0D4126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65D6-B54A-48EF-B502-564281732AB3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2FF1-0DC6-464D-9E16-154CD723FAF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5" descr=""/>
          <p:cNvPicPr/>
          <p:nvPr/>
        </p:nvPicPr>
        <p:blipFill>
          <a:blip r:embed="rId1"/>
          <a:stretch/>
        </p:blipFill>
        <p:spPr>
          <a:xfrm>
            <a:off x="865080" y="1504800"/>
            <a:ext cx="79678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User\Desktop\тропинки знаний\800px-Afanasiy_Nikitin_Monument_in_Tver.jpg"/>
          <p:cNvPicPr/>
          <p:nvPr/>
        </p:nvPicPr>
        <p:blipFill>
          <a:blip r:embed="rId2"/>
          <a:stretch/>
        </p:blipFill>
        <p:spPr>
          <a:xfrm>
            <a:off x="395280" y="620640"/>
            <a:ext cx="6913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Users\User\Desktop\тропинки знаний\казанский собор.jpg"/>
          <p:cNvPicPr/>
          <p:nvPr/>
        </p:nvPicPr>
        <p:blipFill>
          <a:blip r:embed="rId2"/>
          <a:stretch/>
        </p:blipFill>
        <p:spPr>
          <a:xfrm>
            <a:off x="395280" y="476280"/>
            <a:ext cx="7201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28520" y="-212760"/>
            <a:ext cx="7577280" cy="16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User\Desktop\тропинки знаний\храм.jpg"/>
          <p:cNvPicPr/>
          <p:nvPr/>
        </p:nvPicPr>
        <p:blipFill>
          <a:blip r:embed="rId2"/>
          <a:stretch/>
        </p:blipFill>
        <p:spPr>
          <a:xfrm>
            <a:off x="1042920" y="476280"/>
            <a:ext cx="61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User\Desktop\тропинки знаний\эзимний дворец.jpg"/>
          <p:cNvPicPr/>
          <p:nvPr/>
        </p:nvPicPr>
        <p:blipFill>
          <a:blip r:embed="rId2"/>
          <a:stretch/>
        </p:blipFill>
        <p:spPr>
          <a:xfrm>
            <a:off x="468360" y="404640"/>
            <a:ext cx="6696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User\Desktop\тропинки знаний\кижи.JPG"/>
          <p:cNvPicPr/>
          <p:nvPr/>
        </p:nvPicPr>
        <p:blipFill>
          <a:blip r:embed="rId2"/>
          <a:stretch/>
        </p:blipFill>
        <p:spPr>
          <a:xfrm>
            <a:off x="539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User\Desktop\тропинки знаний\ключ.сопка.jpg"/>
          <p:cNvPicPr/>
          <p:nvPr/>
        </p:nvPicPr>
        <p:blipFill>
          <a:blip r:embed="rId2"/>
          <a:stretch/>
        </p:blipFill>
        <p:spPr>
          <a:xfrm>
            <a:off x="539640" y="1197000"/>
            <a:ext cx="7620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тропинки знаний\байкал.jpg"/>
          <p:cNvPicPr/>
          <p:nvPr/>
        </p:nvPicPr>
        <p:blipFill>
          <a:blip r:embed="rId2"/>
          <a:stretch/>
        </p:blipFill>
        <p:spPr>
          <a:xfrm>
            <a:off x="0" y="476280"/>
            <a:ext cx="817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User\Desktop\тропинки знаний\большой театр.jpg"/>
          <p:cNvPicPr/>
          <p:nvPr/>
        </p:nvPicPr>
        <p:blipFill>
          <a:blip r:embed="rId2"/>
          <a:stretch/>
        </p:blipFill>
        <p:spPr>
          <a:xfrm>
            <a:off x="539640" y="333360"/>
            <a:ext cx="7056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User\Desktop\тропинки знаний\казань мечеть.jpg"/>
          <p:cNvPicPr/>
          <p:nvPr/>
        </p:nvPicPr>
        <p:blipFill>
          <a:blip r:embed="rId2"/>
          <a:stretch/>
        </p:blipFill>
        <p:spPr>
          <a:xfrm>
            <a:off x="324000" y="620640"/>
            <a:ext cx="7127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User\Desktop\тропинки знаний\photo_file_19995_l.jpg"/>
          <p:cNvPicPr/>
          <p:nvPr/>
        </p:nvPicPr>
        <p:blipFill>
          <a:blip r:embed="rId2"/>
          <a:stretch/>
        </p:blipFill>
        <p:spPr>
          <a:xfrm>
            <a:off x="539640" y="333360"/>
            <a:ext cx="72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16:56:05Z</dcterms:created>
  <dc:creator>User</dc:creator>
  <dc:description/>
  <dc:language>en-US</dc:language>
  <cp:lastModifiedBy>User</cp:lastModifiedBy>
  <dcterms:modified xsi:type="dcterms:W3CDTF">2016-12-20T17:04:58Z</dcterms:modified>
  <cp:revision>3</cp:revision>
  <dc:subject/>
  <dc:title>Знаешь  ли ты Россию ?</dc:title>
</cp:coreProperties>
</file>