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1.wmf" ContentType="image/x-wmf"/>
  <Override PartName="/ppt/media/image19.gif" ContentType="image/gif"/>
  <Override PartName="/ppt/media/image5.png" ContentType="image/png"/>
  <Override PartName="/ppt/media/image20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BD2-2D9F-4A2D-926C-29AE01F0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488-B5D4-4523-8D0F-CE7F8F5C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87A-46AF-4BB1-9C65-7FCDDD93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590-E66A-4F59-8DDD-AC7CF246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AD3-EB76-4602-88A6-B669DB36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71B-32F2-43CA-8EB8-DE4185BC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6AB-3A7E-45F4-ADEB-6E301597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C2A-090D-440D-894D-E1C2770A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609-AE04-415F-AE52-E18DCE1A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274-A4FF-4AF3-8FDC-660EF72A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84A-A0F4-4263-BB02-0BE13881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EA6-9D84-4917-8591-1CD22A7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A6CF-155F-4E66-A231-0B7223257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Ы  И ИСПОЛН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484360" y="692280"/>
            <a:ext cx="3962520" cy="54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758880" y="909720"/>
            <a:ext cx="172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755640" y="907920"/>
            <a:ext cx="0" cy="460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4859280" y="1413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решения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ён на отдельны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4859280" y="234936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 состои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, входящих в 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4859280" y="328464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по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значн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4859280" y="4221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полу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ого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4859280" y="5157720"/>
            <a:ext cx="4103640" cy="935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 с различными исход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4138560" y="1701720"/>
            <a:ext cx="504720" cy="71640"/>
          </a:xfrm>
          <a:prstGeom prst="rightArrow">
            <a:avLst>
              <a:gd name="adj1" fmla="val 50000"/>
              <a:gd name="adj2" fmla="val 23630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4138560" y="270972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3"/>
          <p:cNvSpPr/>
          <p:nvPr/>
        </p:nvSpPr>
        <p:spPr>
          <a:xfrm>
            <a:off x="4138560" y="3645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4"/>
          <p:cNvSpPr/>
          <p:nvPr/>
        </p:nvSpPr>
        <p:spPr>
          <a:xfrm>
            <a:off x="4138560" y="4653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5"/>
          <p:cNvSpPr/>
          <p:nvPr/>
        </p:nvSpPr>
        <p:spPr>
          <a:xfrm>
            <a:off x="4138560" y="551808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>
            <a:hlinkClick r:id="rId2" action="ppaction://hlinksldjump"/>
          </p:cNvPr>
          <p:cNvSpPr/>
          <p:nvPr/>
        </p:nvSpPr>
        <p:spPr>
          <a:xfrm>
            <a:off x="1295280" y="1457280"/>
            <a:ext cx="28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>
            <a:hlinkClick r:id="rId3" action="ppaction://hlinksldjump"/>
          </p:cNvPr>
          <p:cNvSpPr/>
          <p:nvPr/>
        </p:nvSpPr>
        <p:spPr>
          <a:xfrm>
            <a:off x="1258920" y="24210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>
            <a:hlinkClick r:id="rId4" action="ppaction://hlinksldjump"/>
          </p:cNvPr>
          <p:cNvSpPr/>
          <p:nvPr/>
        </p:nvSpPr>
        <p:spPr>
          <a:xfrm>
            <a:off x="1258920" y="3284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>
            <a:hlinkClick r:id="rId5" action="ppaction://hlinksldjump"/>
          </p:cNvPr>
          <p:cNvSpPr/>
          <p:nvPr/>
        </p:nvSpPr>
        <p:spPr>
          <a:xfrm>
            <a:off x="1258920" y="4292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>
            <a:hlinkClick r:id="rId6" action="ppaction://hlinksldjump"/>
          </p:cNvPr>
          <p:cNvSpPr/>
          <p:nvPr/>
        </p:nvSpPr>
        <p:spPr>
          <a:xfrm>
            <a:off x="1262160" y="52722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H="1">
            <a:off x="755640" y="17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755640" y="27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755640" y="35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 flipH="1">
            <a:off x="755640" y="45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755640" y="551808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6"/>
          <p:cNvSpPr/>
          <p:nvPr/>
        </p:nvSpPr>
        <p:spPr>
          <a:xfrm>
            <a:off x="7812000" y="630864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3794"/>
                </a:moveTo>
                <a:lnTo>
                  <a:pt x="32978" y="10800"/>
                </a:lnTo>
                <a:lnTo>
                  <a:pt x="1896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9"/>
          <p:cNvSpPr/>
          <p:nvPr/>
        </p:nvSpPr>
        <p:spPr>
          <a:xfrm>
            <a:off x="468360" y="26028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discretu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азделенный, прерывистый) означает, что путь решения задачи разделён на отдельные шаги (действия). Каждому действию соответствует предписание (команда). Только выполнив одну команду, исполнитель сможет приступить к выполнению следующ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556000" y="364500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76720" y="357336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2124000" y="4005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3348000" y="2421000"/>
            <a:ext cx="151308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1"/>
          <p:cNvSpPr/>
          <p:nvPr/>
        </p:nvSpPr>
        <p:spPr>
          <a:xfrm>
            <a:off x="3276720" y="587700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2"/>
          <p:cNvSpPr/>
          <p:nvPr/>
        </p:nvSpPr>
        <p:spPr>
          <a:xfrm>
            <a:off x="3348000" y="3068640"/>
            <a:ext cx="14367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3"/>
          <p:cNvSpPr/>
          <p:nvPr/>
        </p:nvSpPr>
        <p:spPr>
          <a:xfrm>
            <a:off x="3348000" y="5300640"/>
            <a:ext cx="1436760" cy="36036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3348000" y="3716280"/>
            <a:ext cx="1440000" cy="57636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140328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6400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788000" y="4005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212400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>
            <a:off x="608472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>
            <a:off x="4067280" y="2852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4067280" y="35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406728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2124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4"/>
          <p:cNvSpPr/>
          <p:nvPr/>
        </p:nvSpPr>
        <p:spPr>
          <a:xfrm>
            <a:off x="60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4067280" y="501336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6"/>
          <p:cNvSpPr/>
          <p:nvPr/>
        </p:nvSpPr>
        <p:spPr>
          <a:xfrm>
            <a:off x="2124000" y="5013360"/>
            <a:ext cx="19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7"/>
          <p:cNvSpPr/>
          <p:nvPr/>
        </p:nvSpPr>
        <p:spPr>
          <a:xfrm>
            <a:off x="4067280" y="50133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8"/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468360" y="26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я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состоит только из команд, входящих в систему команд исполнителя, т. е. из таких команд, которые исполнитель может воспринять и по которым может выполнить требуемые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140360" y="17733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ошка «Мяс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4067280" y="220500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1.5 л кв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 г картоф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кол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яй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 г ред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6443640" y="220500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огур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ь по вк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395280" y="436572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отварить до гот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удить, почист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басу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йца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ис тонко наре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цы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4716360" y="43657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ать картофель, колбасу, яйца, редис, огурц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лить, попер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ложить в тар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квасом, посыпать зелен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вать со смета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8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41920" cy="2441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9"/>
          <p:cNvSpPr/>
          <p:nvPr/>
        </p:nvSpPr>
        <p:spPr>
          <a:xfrm>
            <a:off x="2340000" y="3860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цепт при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8"/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68360" y="26028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в алгоритме нет команд, смысл которых может быть истолкован исполнителем неоднозначно; недопустимы ситуации, когда после выполнения очередной команды исполнителю неясно, какую команду выполнять на следующем ша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411280" y="2205000"/>
            <a:ext cx="47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ехать до стади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916360" y="2924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90600" y="4797360"/>
            <a:ext cx="8786880" cy="3682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ая последовательность действий не обладает свойством определённо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28760" y="564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ую сторону поверну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28760" y="60008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й автобус се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2916360" y="328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916360" y="357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916360" y="3860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ь в авто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2916360" y="4221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ехать до остановки «Стади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9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2349360" cy="2755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1" descr="http://www.rupark.com/jpg1464976727"/>
          <p:cNvPicPr/>
          <p:nvPr/>
        </p:nvPicPr>
        <p:blipFill>
          <a:blip r:embed="rId3"/>
          <a:stretch/>
        </p:blipFill>
        <p:spPr>
          <a:xfrm>
            <a:off x="5786280" y="5072040"/>
            <a:ext cx="1436760" cy="1544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7" descr=""/>
          <p:cNvPicPr/>
          <p:nvPr/>
        </p:nvPicPr>
        <p:blipFill>
          <a:blip r:embed="rId4"/>
          <a:stretch/>
        </p:blipFill>
        <p:spPr>
          <a:xfrm>
            <a:off x="5435640" y="2565360"/>
            <a:ext cx="3348000" cy="1725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428760" y="52862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расстояние нужно пройти пря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a09f"/>
                                      </p:to>
                                    </p:animClr>
                                    <p:set>
                                      <p:cBhvr>
                                        <p:cTn id="5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bcbb"/>
                                      </p:to>
                                    </p:animClr>
                                    <p:set>
                                      <p:cBhvr>
                                        <p:cTn id="5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5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18"/>
          <p:cNvSpPr/>
          <p:nvPr/>
        </p:nvSpPr>
        <p:spPr>
          <a:xfrm>
            <a:off x="802800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8360" y="26028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получения результата после конечного, возможно, очень большого, числа шагов. При этом результатом считается не только обусловленный постановкой задачи ответ, но и вывод о невозможности продолжения по какой-либо причине решения данной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28760" y="5749920"/>
            <a:ext cx="6960960" cy="10994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ая последовательность команд не обладает свойством результативности. Что нужно измени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572000" y="3070080"/>
            <a:ext cx="42480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 кни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не конец книги выполнять следующи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1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2 Перелистнуть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2556000" y="2492280"/>
            <a:ext cx="47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ение 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572000" y="4869000"/>
            <a:ext cx="42480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3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4 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0" descr="http://img-fotki.yandex.ru/get/4406/cadi-1986.51a/0_802d8_53263e94_XL"/>
          <p:cNvPicPr/>
          <p:nvPr/>
        </p:nvPicPr>
        <p:blipFill>
          <a:blip r:embed="rId2"/>
          <a:stretch/>
        </p:blipFill>
        <p:spPr>
          <a:xfrm>
            <a:off x="395280" y="2492280"/>
            <a:ext cx="4006800" cy="329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18"/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68360" y="260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его применения для решения любой задачи из некоторого класса задач с различными исходными дан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1042920" y="148428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оритм вычисления корней квадратного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3564000" y="6165720"/>
            <a:ext cx="1512720" cy="43200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508720" y="3860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3276720" y="4508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4356000" y="2349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3564000" y="191628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3270240" y="2492280"/>
            <a:ext cx="2165400" cy="43200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4"/>
          <p:cNvSpPr/>
          <p:nvPr/>
        </p:nvSpPr>
        <p:spPr>
          <a:xfrm>
            <a:off x="3635280" y="314172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6"/>
          <p:cNvSpPr/>
          <p:nvPr/>
        </p:nvSpPr>
        <p:spPr>
          <a:xfrm>
            <a:off x="3348000" y="3716280"/>
            <a:ext cx="2016000" cy="10080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ьше 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3419640" y="4869000"/>
            <a:ext cx="187308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ений кор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8"/>
          <p:cNvSpPr/>
          <p:nvPr/>
        </p:nvSpPr>
        <p:spPr>
          <a:xfrm>
            <a:off x="5940360" y="5516640"/>
            <a:ext cx="18003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орней 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3413160" y="5516640"/>
            <a:ext cx="18795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од кор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5364000" y="422100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6877080" y="4221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2"/>
          <p:cNvSpPr/>
          <p:nvPr/>
        </p:nvSpPr>
        <p:spPr>
          <a:xfrm>
            <a:off x="4356000" y="609300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3"/>
          <p:cNvSpPr/>
          <p:nvPr/>
        </p:nvSpPr>
        <p:spPr>
          <a:xfrm>
            <a:off x="6877080" y="59500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4"/>
          <p:cNvSpPr/>
          <p:nvPr/>
        </p:nvSpPr>
        <p:spPr>
          <a:xfrm>
            <a:off x="4356000" y="29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5"/>
          <p:cNvSpPr/>
          <p:nvPr/>
        </p:nvSpPr>
        <p:spPr>
          <a:xfrm>
            <a:off x="4356000" y="357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6"/>
          <p:cNvSpPr/>
          <p:nvPr/>
        </p:nvSpPr>
        <p:spPr>
          <a:xfrm>
            <a:off x="4356000" y="47242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>
            <a:off x="435600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8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3" descr="http://900igr.net/datai/algebra/Koren-uravnenija/0011-016-Naprimer-reshaju-kvadratnoe-uravnenie.png"/>
          <p:cNvPicPr/>
          <p:nvPr/>
        </p:nvPicPr>
        <p:blipFill>
          <a:blip r:embed="rId2"/>
          <a:stretch/>
        </p:blipFill>
        <p:spPr>
          <a:xfrm>
            <a:off x="755640" y="3429000"/>
            <a:ext cx="2087640" cy="292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4" descr=""/>
          <p:cNvPicPr/>
          <p:nvPr/>
        </p:nvPicPr>
        <p:blipFill>
          <a:blip r:embed="rId3"/>
          <a:stretch/>
        </p:blipFill>
        <p:spPr>
          <a:xfrm>
            <a:off x="5651640" y="1773360"/>
            <a:ext cx="3128760" cy="215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Object 47"/>
              <p:cNvSpPr txBox="1"/>
              <p:nvPr/>
            </p:nvSpPr>
            <p:spPr>
              <a:xfrm>
                <a:off x="539640" y="2133720"/>
                <a:ext cx="2448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Picture 49" descr="signobalanca"/>
          <p:cNvPicPr/>
          <p:nvPr/>
        </p:nvPicPr>
        <p:blipFill>
          <a:blip r:embed="rId4"/>
          <a:stretch/>
        </p:blipFill>
        <p:spPr>
          <a:xfrm>
            <a:off x="5508720" y="4437000"/>
            <a:ext cx="841320" cy="131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0" descr="WHATNOW"/>
          <p:cNvPicPr/>
          <p:nvPr/>
        </p:nvPicPr>
        <p:blipFill>
          <a:blip r:embed="rId5"/>
          <a:stretch/>
        </p:blipFill>
        <p:spPr>
          <a:xfrm>
            <a:off x="7667640" y="3933720"/>
            <a:ext cx="126360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71640" y="1197000"/>
            <a:ext cx="72007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то Эратосф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ject 5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11280" y="2060640"/>
            <a:ext cx="82818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енная последовательность действий является алгоритмом, так как она удовлетворяет свойств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оцесс нахождения простых чисел разбит на шаг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понятна ученику 8 класса, выполняющему этот алгорит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трактуется и выполняется исполнителем однозначно; имеются указания об очерёдности выполнения коман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через некоторое число шагов достигается результа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оследовательность действий применима для любого натурально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то Эратосф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39640" y="105264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зможность автоматизации деятель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1268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е задачи по готовому алгоритму требует от исполнителя только строгого следования заданным предписан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68360" y="2492280"/>
            <a:ext cx="8424720" cy="76428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е исполнение алгоритма обеспечивает возможность автоматизации деятельности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1908000" y="364500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решения задачи предста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иде последовательности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1908000" y="47242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ся машина, способная выпол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операции в указанной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1908000" y="57340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освобождается от рутинной раб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которой поручается автом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643280" y="328464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4716360" y="436572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4716360" y="5444280"/>
            <a:ext cx="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0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http://dic.academic.ru/pictures/enc_colier/ph08781.jpg"/>
          <p:cNvPicPr/>
          <p:nvPr/>
        </p:nvPicPr>
        <p:blipFill>
          <a:blip r:embed="rId2"/>
          <a:stretch/>
        </p:blipFill>
        <p:spPr>
          <a:xfrm>
            <a:off x="900000" y="620640"/>
            <a:ext cx="6985080" cy="48895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539640" y="551664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оботизированная линия сборки, управляемая компьютером и запрограммированная на производство сварных швов на корпусе каждого автомоби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Автоматизация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http://un-vrn.ru/images/img/r3.jpg"/>
          <p:cNvPicPr/>
          <p:nvPr/>
        </p:nvPicPr>
        <p:blipFill>
          <a:blip r:embed="rId3"/>
          <a:stretch/>
        </p:blipFill>
        <p:spPr>
          <a:xfrm>
            <a:off x="1403280" y="836640"/>
            <a:ext cx="6553440" cy="4303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684360" y="5229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втоматизация гости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фессиональная система «UCS-Shelter». Автоматизированы такие процессы как бронирование, поселение, выселение, работа со счетами г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0" descr="http://www.chopper-bike.ru/images_for_articles/1/334.jpg"/>
          <p:cNvPicPr/>
          <p:nvPr/>
        </p:nvPicPr>
        <p:blipFill>
          <a:blip r:embed="rId4"/>
          <a:stretch/>
        </p:blipFill>
        <p:spPr>
          <a:xfrm>
            <a:off x="1547640" y="620640"/>
            <a:ext cx="6266160" cy="46990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1"/>
          <p:cNvSpPr/>
          <p:nvPr/>
        </p:nvSpPr>
        <p:spPr>
          <a:xfrm>
            <a:off x="324000" y="5229360"/>
            <a:ext cx="86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торгов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услуг в сфере торговли делает скорость работы персонала значительно выше, поднимает уровень обслуживания покупателей, позволяет вести учет това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http://img12.nnm.ru/2/f/c/9/4/447395d53243cf8c6bf158cac12.jpg"/>
          <p:cNvPicPr/>
          <p:nvPr/>
        </p:nvPicPr>
        <p:blipFill>
          <a:blip r:embed="rId5"/>
          <a:stretch/>
        </p:blipFill>
        <p:spPr>
          <a:xfrm>
            <a:off x="1332000" y="692280"/>
            <a:ext cx="6769080" cy="48844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3"/>
          <p:cNvSpPr/>
          <p:nvPr/>
        </p:nvSpPr>
        <p:spPr>
          <a:xfrm>
            <a:off x="1835280" y="5877000"/>
            <a:ext cx="60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0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898560"/>
            <a:ext cx="741672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искре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ня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ё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ссов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стики исполни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уг решаемы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р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жим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е исполнение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4"/>
          <p:cNvSpPr/>
          <p:nvPr/>
        </p:nvSpPr>
        <p:spPr>
          <a:xfrm>
            <a:off x="395280" y="907920"/>
            <a:ext cx="8497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ый исполнитель одну и ту же команду всегда выполняет одинаково. Для каждого формального исполнителя можно указать: круг решаемых задач, среду, систему команд и режим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дискретности, понятности, определённости, результативности и массов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исполнителя действовать формально обеспечивает возможность автоматизации деятельности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61"/>
          <p:cNvSpPr/>
          <p:nvPr/>
        </p:nvSpPr>
        <p:spPr>
          <a:xfrm>
            <a:off x="53964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алгоритм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62"/>
          <p:cNvSpPr/>
          <p:nvPr/>
        </p:nvSpPr>
        <p:spPr>
          <a:xfrm>
            <a:off x="395280" y="1484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те синонимы к слову «предписа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63"/>
          <p:cNvSpPr/>
          <p:nvPr/>
        </p:nvSpPr>
        <p:spPr>
          <a:xfrm>
            <a:off x="468360" y="1484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алгоритмов, изучаемых вам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4"/>
          <p:cNvSpPr/>
          <p:nvPr/>
        </p:nvSpPr>
        <p:spPr>
          <a:xfrm>
            <a:off x="468360" y="1268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может быть исполнителем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65"/>
          <p:cNvSpPr/>
          <p:nvPr/>
        </p:nvSpPr>
        <p:spPr>
          <a:xfrm>
            <a:off x="468360" y="1484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, когда человек выступает в роли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66"/>
          <p:cNvSpPr/>
          <p:nvPr/>
        </p:nvSpPr>
        <p:spPr>
          <a:xfrm>
            <a:off x="468360" y="1484280"/>
            <a:ext cx="835344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должны быть у робота, выполняющего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кассира в мага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вор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хран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67"/>
          <p:cNvSpPr/>
          <p:nvPr/>
        </p:nvSpPr>
        <p:spPr>
          <a:xfrm>
            <a:off x="53964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чего зависит круг решаемых задач исполн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мпьютер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68"/>
          <p:cNvSpPr/>
          <p:nvPr/>
        </p:nvSpPr>
        <p:spPr>
          <a:xfrm>
            <a:off x="539640" y="1341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те в качестве исполнителя текстовый процессор, имеющийся на вашем компьютере. Охарактеризуйте круг решаемых этим исполнителем задач и его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69"/>
          <p:cNvSpPr/>
          <p:nvPr/>
        </p:nvSpPr>
        <p:spPr>
          <a:xfrm>
            <a:off x="468360" y="1628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анда, система команд исполн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70"/>
          <p:cNvSpPr/>
          <p:nvPr/>
        </p:nvSpPr>
        <p:spPr>
          <a:xfrm>
            <a:off x="46836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свойства алго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71"/>
          <p:cNvSpPr/>
          <p:nvPr/>
        </p:nvSpPr>
        <p:spPr>
          <a:xfrm>
            <a:off x="539640" y="1341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чему может привести отсутствие какого-либо свойства у алгоритм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72"/>
          <p:cNvSpPr/>
          <p:nvPr/>
        </p:nvSpPr>
        <p:spPr>
          <a:xfrm>
            <a:off x="46836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важность возможности формального ис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73"/>
          <p:cNvSpPr/>
          <p:nvPr/>
        </p:nvSpPr>
        <p:spPr>
          <a:xfrm>
            <a:off x="468360" y="1628640"/>
            <a:ext cx="83534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чисел строится по следующему  алгорит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два числа последовательности принимаются равными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следующее число последовательности принимается равным сумме двух предыдущи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10 первых членов этой 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74"/>
          <p:cNvSpPr/>
          <p:nvPr/>
        </p:nvSpPr>
        <p:spPr>
          <a:xfrm>
            <a:off x="468360" y="836640"/>
            <a:ext cx="83534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оторый алгоритм получает из одной цепочки символов новую цепочку следующим образ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чала записывается исходная цепочка символов, после нее записывается исходная цепочка символов в обратном порядке, затем записывается буква, следующая в русском алфавите за той буквой, которая в исходной цепочке стояла на последнем месте. Если в исходной цепочке на последнем месте стоит буква Я, то в качестве следующ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квы записывается буква 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вшаяся цепочка является результатом работы алгоритма. Например, если исходная цепочка символов была ДОМ, то результатом работы алгоритма будет цепочка ДОММОД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а цепочка символов КОМ. Сколько букв О будет в цепочке символов, которая получится, если применить алгоритм к данной цепочке, а затем ещё раз применить алгоритм к результату его работ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75"/>
          <p:cNvSpPr/>
          <p:nvPr/>
        </p:nvSpPr>
        <p:spPr>
          <a:xfrm>
            <a:off x="395280" y="907920"/>
            <a:ext cx="849780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Черепашка перемещается на экране компьютера, оставляя след в виде ли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Черепашки состоит из двух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ёд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передвижение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гов в направлении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направлении, куда развёрнуты её голова и корп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целое число) - вызывает изменение направления движения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дусов по часовой стр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удет результатом исполнения Черепашкой алгорит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45 Вперёд 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76"/>
          <p:cNvSpPr/>
          <p:nvPr/>
        </p:nvSpPr>
        <p:spPr>
          <a:xfrm>
            <a:off x="468360" y="907920"/>
            <a:ext cx="83516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Вычислитель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вычти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умножь н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из них уменьшает число на 1, втор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 число в 3 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писи алгоритмов для краткости указываются лишь номера кома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для исполнителя Вычислитель, содержащий не более 5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лучения из числа 3 числа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олучения из числа 1 числа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77"/>
          <p:cNvSpPr/>
          <p:nvPr/>
        </p:nvSpPr>
        <p:spPr>
          <a:xfrm>
            <a:off x="539640" y="907920"/>
            <a:ext cx="835344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Конструктор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приписат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разделить н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ервой из них к числу приписывается справа 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торой число делится н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удет преобразовано число 8, если исполнитель выполнит алгоритм 2221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в системе команд этого исполнителя, по которому число 1 будет преобразовано в число 16 (в алгоритме должно быть не более 5 коман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8"/>
          <p:cNvSpPr/>
          <p:nvPr/>
        </p:nvSpPr>
        <p:spPr>
          <a:xfrm>
            <a:off x="468360" y="981000"/>
            <a:ext cx="835164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нитель Робот действует на клетчатом поле, между соседними клетками которого могут стоять стены. Робот передвигается по клеткам поля и может выполнять следующие команды, которым присвоены  номер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 - Ввер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 - Вни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 - Впра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 - Вле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выполнении каждой такой команды Робот перемещается в соседнюю клетку в указанном направлении. Если же в этом направлении между клетками стоит стена, то Робот разруш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какой клетке должен находиться исполнитель Робот, чтобы после выполнения алгоритма 3241 в неё же и вернуться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564000" y="2492280"/>
          <a:ext cx="1944720" cy="15843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5640"/>
                <a:gridCol w="4860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825640" y="3495600"/>
            <a:ext cx="288000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 flipV="1">
            <a:off x="2286000" y="371592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2789280" y="2637000"/>
            <a:ext cx="352908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2286000" y="299556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2789280" y="4124160"/>
            <a:ext cx="2879640" cy="424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789280" y="46879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789280" y="53467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789280" y="5959440"/>
            <a:ext cx="287964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V="1">
            <a:off x="2286000" y="2995200"/>
            <a:ext cx="1440" cy="315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 flipH="1" flipV="1">
            <a:off x="2286000" y="4265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"/>
          <p:cNvSpPr/>
          <p:nvPr/>
        </p:nvSpPr>
        <p:spPr>
          <a:xfrm flipH="1" flipV="1">
            <a:off x="2286000" y="48308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 flipH="1" flipV="1">
            <a:off x="2286000" y="5489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 flipH="1" flipV="1">
            <a:off x="2286000" y="614628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539640" y="765000"/>
            <a:ext cx="8353440" cy="16185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скретности, понятности, определённости, результативности   и   массов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Заголовок 2"/>
          <p:cNvSpPr/>
          <p:nvPr/>
        </p:nvSpPr>
        <p:spPr>
          <a:xfrm>
            <a:off x="428760" y="189000"/>
            <a:ext cx="8715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Электронные образователь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468360" y="1197000"/>
            <a:ext cx="842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chool-collection.edu.ru/catalog/res/07e215ef-cd48-450d-8cf4-f5777cd832b2/?interface=catalog – решето Эратосф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iles.school-collection.edu.ru/dlrstore/58e9a0c3-11df-4c94-a5eb-b0a7b359ea35/9_32.swf - исполнители алгорит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ижний колонтитул 2"/>
          <p:cNvSpPr/>
          <p:nvPr/>
        </p:nvSpPr>
        <p:spPr>
          <a:xfrm>
            <a:off x="1187280" y="476280"/>
            <a:ext cx="7056720" cy="5740200"/>
          </a:xfrm>
          <a:prstGeom prst="wedgeRoundRectCallout">
            <a:avLst>
              <a:gd name="adj1" fmla="val -40402"/>
              <a:gd name="adj2" fmla="val 56328"/>
              <a:gd name="adj3" fmla="val 16667"/>
            </a:avLst>
          </a:prstGeom>
          <a:solidFill>
            <a:srgbClr val="ffffe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описание последовательности действий, приводящих от исходных данных к требуемому результат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7"/>
          <p:cNvSpPr/>
          <p:nvPr/>
        </p:nvSpPr>
        <p:spPr>
          <a:xfrm>
            <a:off x="1214280" y="692280"/>
            <a:ext cx="66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полнение счёта телефона через термин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http://www.7756908.ru/sites/default/files/images/terminal.jpg"/>
          <p:cNvPicPr/>
          <p:nvPr/>
        </p:nvPicPr>
        <p:blipFill>
          <a:blip r:embed="rId2"/>
          <a:stretch/>
        </p:blipFill>
        <p:spPr>
          <a:xfrm>
            <a:off x="5929200" y="1571760"/>
            <a:ext cx="3019680" cy="4522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642960" y="1785960"/>
            <a:ext cx="5500800" cy="4361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йти к терминалу по оплате плате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ть оператора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номер телеф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ить правильность введённого но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ить денежную купюру в купюроприём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ждаться сообщения о зачислении денег на сч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8"/>
          <p:cNvSpPr/>
          <p:nvPr/>
        </p:nvSpPr>
        <p:spPr>
          <a:xfrm>
            <a:off x="2843280" y="83664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исование лош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1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2047680" cy="16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"/>
          <p:cNvPicPr/>
          <p:nvPr/>
        </p:nvPicPr>
        <p:blipFill>
          <a:blip r:embed="rId3"/>
          <a:stretch/>
        </p:blipFill>
        <p:spPr>
          <a:xfrm>
            <a:off x="6084720" y="1557360"/>
            <a:ext cx="261972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"/>
          <p:cNvPicPr/>
          <p:nvPr/>
        </p:nvPicPr>
        <p:blipFill>
          <a:blip r:embed="rId4"/>
          <a:stretch/>
        </p:blipFill>
        <p:spPr>
          <a:xfrm>
            <a:off x="1763640" y="3860640"/>
            <a:ext cx="256212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2590560" cy="234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"/>
          <p:cNvPicPr/>
          <p:nvPr/>
        </p:nvPicPr>
        <p:blipFill>
          <a:blip r:embed="rId6"/>
          <a:stretch/>
        </p:blipFill>
        <p:spPr>
          <a:xfrm>
            <a:off x="3276720" y="1700280"/>
            <a:ext cx="2619360" cy="176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539640" y="5805360"/>
            <a:ext cx="237492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4067280" y="5877000"/>
            <a:ext cx="1368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6516720" y="5877000"/>
            <a:ext cx="237492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298764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550872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1908000" y="51577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схема работы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403280" y="2708280"/>
            <a:ext cx="7056360" cy="216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ть два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жить задан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делить сумму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1476360" y="907920"/>
            <a:ext cx="676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числительный 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403280" y="1557360"/>
            <a:ext cx="7056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еднее арифметическое дву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68360" y="765000"/>
            <a:ext cx="842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 - это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H="1" flipV="1">
            <a:off x="4893840" y="2393640"/>
            <a:ext cx="86508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80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ормальны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04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форм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 flipV="1">
            <a:off x="4032360" y="2393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564000" y="1844640"/>
            <a:ext cx="280836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нитель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800360" y="340200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 решаем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1476360" y="299700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476360" y="299736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1476360" y="3645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835280" y="407664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а исполн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835280" y="537372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ы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1476360" y="429264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1476360" y="5661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4"/>
          <p:cNvSpPr/>
          <p:nvPr/>
        </p:nvSpPr>
        <p:spPr>
          <a:xfrm>
            <a:off x="5292720" y="472428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редствен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5"/>
          <p:cNvSpPr/>
          <p:nvPr/>
        </p:nvSpPr>
        <p:spPr>
          <a:xfrm>
            <a:off x="5292720" y="5372280"/>
            <a:ext cx="3600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>
            <a:off x="5292720" y="392580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, обстановка,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4859280" y="4071960"/>
            <a:ext cx="426960" cy="2937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4859280" y="5013000"/>
            <a:ext cx="43344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859280" y="5661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042920" y="6165720"/>
            <a:ext cx="5184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полнители алгоритм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4"/>
          <p:cNvGraphicFramePr/>
          <p:nvPr/>
        </p:nvGraphicFramePr>
        <p:xfrm>
          <a:off x="5435640" y="6165720"/>
          <a:ext cx="720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5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6165720"/>
                    <a:ext cx="720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6"/>
          <p:cNvSpPr/>
          <p:nvPr/>
        </p:nvSpPr>
        <p:spPr>
          <a:xfrm>
            <a:off x="1835280" y="4724280"/>
            <a:ext cx="2987640" cy="43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76360" y="494172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404200" cy="450720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Ро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1258920" y="1844640"/>
            <a:ext cx="338436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объект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азанных в зад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692360" y="12682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120760" y="981000"/>
            <a:ext cx="49723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алгоритм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258920" y="3213000"/>
            <a:ext cx="33843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свой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ктов,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ействий с объек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1258920" y="4797360"/>
            <a:ext cx="3384360" cy="8650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исход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х и результ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5364000" y="2708280"/>
            <a:ext cx="3384720" cy="107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5435640" y="4292640"/>
            <a:ext cx="3384360" cy="1511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с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анд С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003640" y="2205000"/>
            <a:ext cx="2016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5003640" y="2205000"/>
            <a:ext cx="0" cy="388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2916360" y="27075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692360" y="126828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43280" y="436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916360" y="5661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2916360" y="6093000"/>
            <a:ext cx="20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7020000" y="2205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7093080" y="3788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501480" y="6165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– модель деятельности исполнителя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работк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ADMIN</cp:lastModifiedBy>
  <dcterms:modified xsi:type="dcterms:W3CDTF">2023-01-19T05:59:12Z</dcterms:modified>
  <cp:revision>122</cp:revision>
  <dc:subject/>
  <dc:title>Презентация PowerPoint</dc:title>
</cp:coreProperties>
</file>