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7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B1C-089C-476A-9E13-7A68DDA0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A29-74B9-4091-8022-6147B07F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29B-E416-4A81-B9C2-0504E4C4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638-9A34-4239-A988-E04B3363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611-3E7F-48DC-A8E4-AA72F7B5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C34-2260-427C-B1CF-709E5DD6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10B-4A6A-4B0A-B417-497A3AC2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38E-CCC5-4C57-927D-9A3330C8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F62-CE7F-4348-A743-CF1F3B87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395-B7C9-4292-AA6F-B215CE13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C47-BDA8-40E3-86A9-79751059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5D48-A0AD-40A3-ACA7-2538B442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8375-A1B3-47AB-9ECE-C0E4BA6A0F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MMj02837290000[1]"/>
          <p:cNvPicPr/>
          <p:nvPr/>
        </p:nvPicPr>
        <p:blipFill>
          <a:blip r:embed="rId1"/>
          <a:stretch/>
        </p:blipFill>
        <p:spPr>
          <a:xfrm>
            <a:off x="539640" y="-243000"/>
            <a:ext cx="1668600" cy="1752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BOOK2"/>
          <p:cNvPicPr/>
          <p:nvPr/>
        </p:nvPicPr>
        <p:blipFill>
          <a:blip r:embed="rId2"/>
          <a:stretch/>
        </p:blipFill>
        <p:spPr>
          <a:xfrm>
            <a:off x="4500720" y="4149720"/>
            <a:ext cx="3744720" cy="2158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12"/>
          <p:cNvSpPr txBox="1"/>
          <p:nvPr/>
        </p:nvSpPr>
        <p:spPr>
          <a:xfrm>
            <a:off x="900000" y="1484280"/>
            <a:ext cx="7272360" cy="256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геометрии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 8  классе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-108000" y="1440"/>
            <a:ext cx="9252000" cy="6856560"/>
          </a:xfrm>
          <a:prstGeom prst="rect">
            <a:avLst/>
          </a:prstGeom>
          <a:ln w="0">
            <a:noFill/>
          </a:ln>
        </p:spPr>
      </p:pic>
      <p:pic>
        <p:nvPicPr>
          <p:cNvPr id="47" name="WordArt 6" descr=""/>
          <p:cNvPicPr/>
          <p:nvPr/>
        </p:nvPicPr>
        <p:blipFill>
          <a:blip r:embed="rId2"/>
          <a:stretch/>
        </p:blipFill>
        <p:spPr>
          <a:xfrm>
            <a:off x="249120" y="2487600"/>
            <a:ext cx="7851960" cy="2816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200160" y="-255240"/>
            <a:ext cx="88200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линия трапеции АВС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С </a:t>
            </a:r>
            <a:r>
              <a:rPr b="1" lang="ru-RU" sz="3500" spc="-1" strike="noStrike">
                <a:solidFill>
                  <a:srgbClr val="000000"/>
                </a:solidFill>
                <a:latin typeface="Symbol"/>
                <a:ea typeface="Symbol"/>
              </a:rPr>
              <a:t>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равна 24 см, а ее диагонали пересекаются в точке О. Найдите основания трапеции, если АО : ОС = 5 : 3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971640" y="2666880"/>
            <a:ext cx="6780240" cy="4038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62000" y="32760"/>
            <a:ext cx="8820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. Докажите, что если хорды АВ и С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ружности пересекаются в точке М, то 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∙MB=DM∙M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1835280" y="1930320"/>
            <a:ext cx="5303880" cy="477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433400" y="1710000"/>
            <a:ext cx="276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Объект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66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ребята дружно вст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месте зашагал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осочках потянули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назад прогнулис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ужинки мы прис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ихонько вместе се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CRCTR027"/>
          <p:cNvPicPr/>
          <p:nvPr/>
        </p:nvPicPr>
        <p:blipFill>
          <a:blip r:embed="rId1"/>
          <a:stretch/>
        </p:blipFill>
        <p:spPr>
          <a:xfrm>
            <a:off x="7429680" y="571680"/>
            <a:ext cx="1099800" cy="191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4152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(№ 45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1"/>
          <a:stretch/>
        </p:blipFill>
        <p:spPr>
          <a:xfrm>
            <a:off x="909720" y="2441520"/>
            <a:ext cx="6423120" cy="3821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499680"/>
            <a:ext cx="867888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тему мы сегодня повторяли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задачи мы сегодня ставили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задачи выполнены 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57200" y="6858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448400" y="4143240"/>
            <a:ext cx="1695600" cy="23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9680" y="857160"/>
            <a:ext cx="8643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кончен урок и выполнен план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асибо, ребята, огромное ва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 то, что упорно и дружно трудилис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знания точно уж вам пригоди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57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MMj02837290000[1]"/>
          <p:cNvPicPr/>
          <p:nvPr/>
        </p:nvPicPr>
        <p:blipFill>
          <a:blip r:embed="rId1"/>
          <a:stretch/>
        </p:blipFill>
        <p:spPr>
          <a:xfrm>
            <a:off x="3071880" y="2714760"/>
            <a:ext cx="2516040" cy="264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8:29:52Z</dcterms:created>
  <dc:creator>Бритикова Лариса Алексеевна</dc:creator>
  <dc:description/>
  <dc:language>en-US</dc:language>
  <cp:lastModifiedBy>Валентина Албычакова</cp:lastModifiedBy>
  <dcterms:modified xsi:type="dcterms:W3CDTF">2023-01-09T09:22:58Z</dcterms:modified>
  <cp:revision>141</cp:revision>
  <dc:subject/>
  <dc:title>Слайд 1</dc:title>
</cp:coreProperties>
</file>