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48F-009B-4BDA-A8C7-DF385C99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4C-8033-4760-A5AE-39267A46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03C-E864-4CF7-A30D-AECDEDD3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06F-2B44-4CA2-A7A8-EEA1FCA1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C6A-F419-4922-812D-D58DBF71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EA3-8325-4EC9-8DF9-580DE3E2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FAF-83B3-4C5A-8A6C-DF02602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67A-6113-4880-A523-94B536ED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8D6-8134-45C3-8B65-E649BE6A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4AA-3ADB-4830-937A-EBC10DE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05A-157A-4252-8505-9875941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8DD-25E5-4FA2-AD98-0B50426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7A6-361A-4358-98CE-B7E738107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9e997f40-f285-4369-aa7d-88b892beca45/?interface=catalog&amp;class=51&amp;subject=19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060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ЛЕМЕНТЫ АЛГЕБРЫ ЛОГ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5"/>
          <p:cNvSpPr/>
          <p:nvPr/>
        </p:nvSpPr>
        <p:spPr>
          <a:xfrm>
            <a:off x="4681440" y="3355920"/>
            <a:ext cx="381636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836640"/>
            <a:ext cx="835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ому высказыванию ставит в соответствие новое высказывание, значение которого противоположно исход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отриц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65080" y="3571920"/>
          <a:ext cx="2656080" cy="1281240"/>
        </p:xfrm>
        <a:graphic>
          <a:graphicData uri="http://schemas.openxmlformats.org/drawingml/2006/table">
            <a:tbl>
              <a:tblPr/>
              <a:tblGrid>
                <a:gridCol w="1328760"/>
                <a:gridCol w="132732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0"/>
          <p:cNvSpPr/>
          <p:nvPr/>
        </p:nvSpPr>
        <p:spPr>
          <a:xfrm>
            <a:off x="468360" y="57340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2852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427640" y="2852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6"/>
          <p:cNvSpPr/>
          <p:nvPr/>
        </p:nvSpPr>
        <p:spPr>
          <a:xfrm>
            <a:off x="5761080" y="3571920"/>
            <a:ext cx="1727280" cy="172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4968720" y="44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11280" y="836640"/>
            <a:ext cx="82818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крейсер"»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линкор"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котором сегменте сети Интернет 5000000 Web-страниц. В нём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тинно для 4800 страниц,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4500 страниц, а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7000 стран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кого количества Web-страниц в этом случае будут истинны следующие выражения и высказыв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Web-странице встречается слово "крейсер"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стречается слово "линкор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711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395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0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993 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692360" y="4726080"/>
            <a:ext cx="60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, B = 45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+ 4500 = 9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474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00 – 2300 =  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условие задачи графичес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57120" y="5286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2500 Web-страница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крейсер"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линко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1042920" y="907920"/>
            <a:ext cx="4032360" cy="4032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83528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114640" cy="1571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6084720" y="2997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763640" y="378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258920" y="50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43084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3348000" y="2638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356000" y="2638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619280" y="580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8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4319640" cy="3106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2916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3276720" y="256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3635280" y="2565360"/>
            <a:ext cx="362160" cy="459720"/>
            <a:chOff x="3635280" y="2565360"/>
            <a:chExt cx="362160" cy="459720"/>
          </a:xfrm>
        </p:grpSpPr>
        <p:sp>
          <p:nvSpPr>
            <p:cNvPr id="122" name="Line 30"/>
            <p:cNvSpPr/>
            <p:nvPr/>
          </p:nvSpPr>
          <p:spPr>
            <a:xfrm>
              <a:off x="3708360" y="263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3"/>
            <p:cNvSpPr/>
            <p:nvPr/>
          </p:nvSpPr>
          <p:spPr>
            <a:xfrm>
              <a:off x="3635280" y="2565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9"/>
          <p:cNvSpPr/>
          <p:nvPr/>
        </p:nvSpPr>
        <p:spPr>
          <a:xfrm>
            <a:off x="6086520" y="40784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-0.46076 -0.00185 E">
                                      <p:cBhvr>
                                        <p:cTn id="3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45417 -0.00972 E">
                                      <p:cBhvr>
                                        <p:cTn id="3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3699E-006 L -0.47657 -0.22219 E">
                                      <p:cBhvr>
                                        <p:cTn id="32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395280" y="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остроение таблиц истинности для логических выраж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547640" y="1122480"/>
            <a:ext cx="6337440" cy="361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исло переменных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73080" y="1700280"/>
            <a:ext cx="734400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общее число логических операций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9640" y="2421000"/>
            <a:ext cx="8353440" cy="358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оследовательность выполнения логически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270160" y="3068640"/>
            <a:ext cx="47498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олбцов в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41440" y="3716280"/>
            <a:ext cx="82072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ь шапку таблицы, включив в неё переменные 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333440" y="4363920"/>
            <a:ext cx="6623280" cy="505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рок в таблице без шап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124000" y="5157720"/>
            <a:ext cx="518184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наборы входных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68360" y="5877000"/>
            <a:ext cx="8353440" cy="64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заполнение таблицы по столбцам, выполняя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в соответствии с установленной последова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716360" y="1484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4716360" y="3500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4716360" y="486900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4716360" y="558972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14280" y="2714760"/>
          <a:ext cx="7000920" cy="500040"/>
        </p:xfrm>
        <a:graphic>
          <a:graphicData uri="http://schemas.openxmlformats.org/drawingml/2006/table">
            <a:tbl>
              <a:tblPr/>
              <a:tblGrid>
                <a:gridCol w="1697040"/>
                <a:gridCol w="1731960"/>
                <a:gridCol w="1805040"/>
                <a:gridCol w="17668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4280" y="3214800"/>
          <a:ext cx="6985080" cy="17064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10080"/>
                <a:gridCol w="17460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50"/>
          <p:cNvSpPr/>
          <p:nvPr/>
        </p:nvSpPr>
        <p:spPr>
          <a:xfrm>
            <a:off x="285840" y="128592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= 2, m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 операц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,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2"/>
          <p:cNvSpPr/>
          <p:nvPr/>
        </p:nvSpPr>
        <p:spPr>
          <a:xfrm>
            <a:off x="214200" y="0"/>
            <a:ext cx="90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ример построения таблицы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46836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логическ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684360" y="1125360"/>
            <a:ext cx="0" cy="489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84360" y="1125360"/>
            <a:ext cx="2592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76720" y="981000"/>
            <a:ext cx="3671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ы алгебры-лог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684360" y="206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B = B &amp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 = 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&amp;(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= (A&amp;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&amp;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43280" y="50133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&amp;C) = 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&amp;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 &amp; B) &amp; C = A &amp; ( B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 V B) V C =A V ( B V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ст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3851280" y="6021360"/>
            <a:ext cx="720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чет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4572000" y="5734080"/>
            <a:ext cx="3456000" cy="574560"/>
            <a:chOff x="4572000" y="5734080"/>
            <a:chExt cx="3456000" cy="574560"/>
          </a:xfrm>
        </p:grpSpPr>
        <p:sp>
          <p:nvSpPr>
            <p:cNvPr id="171" name="Rectangle 4"/>
            <p:cNvSpPr/>
            <p:nvPr/>
          </p:nvSpPr>
          <p:spPr>
            <a:xfrm>
              <a:off x="4572000" y="5734080"/>
              <a:ext cx="3456000" cy="5745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Ā =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6013440" y="5805360"/>
              <a:ext cx="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0=0;   A &amp;1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43280" y="494172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= A; 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A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 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ь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H="1">
            <a:off x="3851280" y="5805360"/>
            <a:ext cx="792000" cy="14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3780000" y="5949720"/>
            <a:ext cx="86328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б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5"/>
          <p:cNvGrpSpPr/>
          <p:nvPr/>
        </p:nvGrpSpPr>
        <p:grpSpPr>
          <a:xfrm>
            <a:off x="4643280" y="5589720"/>
            <a:ext cx="3456000" cy="431640"/>
            <a:chOff x="4643280" y="5589720"/>
            <a:chExt cx="3456000" cy="431640"/>
          </a:xfrm>
        </p:grpSpPr>
        <p:sp>
          <p:nvSpPr>
            <p:cNvPr id="195" name="Rectangle 4"/>
            <p:cNvSpPr/>
            <p:nvPr/>
          </p:nvSpPr>
          <p:spPr>
            <a:xfrm>
              <a:off x="4643280" y="5589720"/>
              <a:ext cx="345600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&amp; B = Ā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>
              <a:off x="5580000" y="566100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>
              <a:off x="7020000" y="56610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9"/>
          <p:cNvGrpSpPr/>
          <p:nvPr/>
        </p:nvGrpSpPr>
        <p:grpSpPr>
          <a:xfrm>
            <a:off x="4643280" y="6165720"/>
            <a:ext cx="3456000" cy="432000"/>
            <a:chOff x="4643280" y="6165720"/>
            <a:chExt cx="3456000" cy="432000"/>
          </a:xfrm>
        </p:grpSpPr>
        <p:sp>
          <p:nvSpPr>
            <p:cNvPr id="199" name="Rectangle 4"/>
            <p:cNvSpPr/>
            <p:nvPr/>
          </p:nvSpPr>
          <p:spPr>
            <a:xfrm>
              <a:off x="4643280" y="6165720"/>
              <a:ext cx="3456000" cy="432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B  = Ā &amp; 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1"/>
            <p:cNvSpPr/>
            <p:nvPr/>
          </p:nvSpPr>
          <p:spPr>
            <a:xfrm>
              <a:off x="5435640" y="623736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2"/>
            <p:cNvSpPr/>
            <p:nvPr/>
          </p:nvSpPr>
          <p:spPr>
            <a:xfrm>
              <a:off x="7020000" y="62373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68360" y="1413000"/>
          <a:ext cx="8351640" cy="3600360"/>
        </p:xfrm>
        <a:graphic>
          <a:graphicData uri="http://schemas.openxmlformats.org/drawingml/2006/table">
            <a:tbl>
              <a:tblPr/>
              <a:tblGrid>
                <a:gridCol w="571320"/>
                <a:gridCol w="641520"/>
                <a:gridCol w="714240"/>
                <a:gridCol w="857520"/>
                <a:gridCol w="1569960"/>
                <a:gridCol w="1000080"/>
                <a:gridCol w="836640"/>
                <a:gridCol w="21603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&amp;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(B &amp;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v B) &amp; (A v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02"/>
          <p:cNvSpPr/>
          <p:nvPr/>
        </p:nvSpPr>
        <p:spPr>
          <a:xfrm>
            <a:off x="468360" y="765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ительный закон для логического сложе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B &amp;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Заголовок 2"/>
          <p:cNvSpPr/>
          <p:nvPr/>
        </p:nvSpPr>
        <p:spPr>
          <a:xfrm>
            <a:off x="539640" y="260280"/>
            <a:ext cx="83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казательство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539640" y="530064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4"/>
          <p:cNvSpPr/>
          <p:nvPr/>
        </p:nvSpPr>
        <p:spPr>
          <a:xfrm>
            <a:off x="2627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5"/>
          <p:cNvSpPr/>
          <p:nvPr/>
        </p:nvSpPr>
        <p:spPr>
          <a:xfrm>
            <a:off x="2627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6"/>
          <p:cNvSpPr/>
          <p:nvPr/>
        </p:nvSpPr>
        <p:spPr>
          <a:xfrm>
            <a:off x="2627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7"/>
          <p:cNvSpPr/>
          <p:nvPr/>
        </p:nvSpPr>
        <p:spPr>
          <a:xfrm>
            <a:off x="2627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8"/>
          <p:cNvSpPr/>
          <p:nvPr/>
        </p:nvSpPr>
        <p:spPr>
          <a:xfrm>
            <a:off x="2627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9"/>
          <p:cNvSpPr/>
          <p:nvPr/>
        </p:nvSpPr>
        <p:spPr>
          <a:xfrm>
            <a:off x="2627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0"/>
          <p:cNvSpPr/>
          <p:nvPr/>
        </p:nvSpPr>
        <p:spPr>
          <a:xfrm>
            <a:off x="2627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1"/>
          <p:cNvSpPr/>
          <p:nvPr/>
        </p:nvSpPr>
        <p:spPr>
          <a:xfrm>
            <a:off x="262728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3851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4"/>
          <p:cNvSpPr/>
          <p:nvPr/>
        </p:nvSpPr>
        <p:spPr>
          <a:xfrm>
            <a:off x="3851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3851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7"/>
          <p:cNvSpPr/>
          <p:nvPr/>
        </p:nvSpPr>
        <p:spPr>
          <a:xfrm>
            <a:off x="3851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8"/>
          <p:cNvSpPr/>
          <p:nvPr/>
        </p:nvSpPr>
        <p:spPr>
          <a:xfrm>
            <a:off x="385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9"/>
          <p:cNvSpPr/>
          <p:nvPr/>
        </p:nvSpPr>
        <p:spPr>
          <a:xfrm>
            <a:off x="3851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0"/>
          <p:cNvSpPr/>
          <p:nvPr/>
        </p:nvSpPr>
        <p:spPr>
          <a:xfrm>
            <a:off x="3851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1"/>
          <p:cNvSpPr/>
          <p:nvPr/>
        </p:nvSpPr>
        <p:spPr>
          <a:xfrm>
            <a:off x="3851280" y="465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3"/>
          <p:cNvSpPr/>
          <p:nvPr/>
        </p:nvSpPr>
        <p:spPr>
          <a:xfrm>
            <a:off x="507672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4"/>
          <p:cNvSpPr/>
          <p:nvPr/>
        </p:nvSpPr>
        <p:spPr>
          <a:xfrm>
            <a:off x="507672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5"/>
          <p:cNvSpPr/>
          <p:nvPr/>
        </p:nvSpPr>
        <p:spPr>
          <a:xfrm>
            <a:off x="5076720" y="256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6"/>
          <p:cNvSpPr/>
          <p:nvPr/>
        </p:nvSpPr>
        <p:spPr>
          <a:xfrm>
            <a:off x="5076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7"/>
          <p:cNvSpPr/>
          <p:nvPr/>
        </p:nvSpPr>
        <p:spPr>
          <a:xfrm>
            <a:off x="5076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8"/>
          <p:cNvSpPr/>
          <p:nvPr/>
        </p:nvSpPr>
        <p:spPr>
          <a:xfrm>
            <a:off x="507672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9"/>
          <p:cNvSpPr/>
          <p:nvPr/>
        </p:nvSpPr>
        <p:spPr>
          <a:xfrm>
            <a:off x="507672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0"/>
          <p:cNvSpPr/>
          <p:nvPr/>
        </p:nvSpPr>
        <p:spPr>
          <a:xfrm>
            <a:off x="507672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1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2"/>
          <p:cNvSpPr/>
          <p:nvPr/>
        </p:nvSpPr>
        <p:spPr>
          <a:xfrm>
            <a:off x="615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3"/>
          <p:cNvSpPr/>
          <p:nvPr/>
        </p:nvSpPr>
        <p:spPr>
          <a:xfrm>
            <a:off x="615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4"/>
          <p:cNvSpPr/>
          <p:nvPr/>
        </p:nvSpPr>
        <p:spPr>
          <a:xfrm>
            <a:off x="615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5"/>
          <p:cNvSpPr/>
          <p:nvPr/>
        </p:nvSpPr>
        <p:spPr>
          <a:xfrm>
            <a:off x="615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6"/>
          <p:cNvSpPr/>
          <p:nvPr/>
        </p:nvSpPr>
        <p:spPr>
          <a:xfrm>
            <a:off x="615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7"/>
          <p:cNvSpPr/>
          <p:nvPr/>
        </p:nvSpPr>
        <p:spPr>
          <a:xfrm>
            <a:off x="6156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8"/>
          <p:cNvSpPr/>
          <p:nvPr/>
        </p:nvSpPr>
        <p:spPr>
          <a:xfrm>
            <a:off x="615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9"/>
          <p:cNvSpPr/>
          <p:nvPr/>
        </p:nvSpPr>
        <p:spPr>
          <a:xfrm>
            <a:off x="615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0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3"/>
          <p:cNvSpPr/>
          <p:nvPr/>
        </p:nvSpPr>
        <p:spPr>
          <a:xfrm>
            <a:off x="759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74"/>
          <p:cNvSpPr/>
          <p:nvPr/>
        </p:nvSpPr>
        <p:spPr>
          <a:xfrm>
            <a:off x="759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5"/>
          <p:cNvSpPr/>
          <p:nvPr/>
        </p:nvSpPr>
        <p:spPr>
          <a:xfrm>
            <a:off x="759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6"/>
          <p:cNvSpPr/>
          <p:nvPr/>
        </p:nvSpPr>
        <p:spPr>
          <a:xfrm>
            <a:off x="759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7"/>
          <p:cNvSpPr/>
          <p:nvPr/>
        </p:nvSpPr>
        <p:spPr>
          <a:xfrm>
            <a:off x="759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8"/>
          <p:cNvSpPr/>
          <p:nvPr/>
        </p:nvSpPr>
        <p:spPr>
          <a:xfrm>
            <a:off x="759636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9"/>
          <p:cNvSpPr/>
          <p:nvPr/>
        </p:nvSpPr>
        <p:spPr>
          <a:xfrm>
            <a:off x="759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0"/>
          <p:cNvSpPr/>
          <p:nvPr/>
        </p:nvSpPr>
        <p:spPr>
          <a:xfrm>
            <a:off x="759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2"/>
          <p:cNvSpPr/>
          <p:nvPr/>
        </p:nvSpPr>
        <p:spPr>
          <a:xfrm>
            <a:off x="468360" y="5300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ыделенных столбцов доказывает распределительный зак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4"/>
          <p:cNvSpPr/>
          <p:nvPr/>
        </p:nvSpPr>
        <p:spPr>
          <a:xfrm>
            <a:off x="3203640" y="1413000"/>
            <a:ext cx="165564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5"/>
          <p:cNvSpPr/>
          <p:nvPr/>
        </p:nvSpPr>
        <p:spPr>
          <a:xfrm>
            <a:off x="6659640" y="1413000"/>
            <a:ext cx="216036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256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3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264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267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270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273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перв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6"/>
          <p:cNvSpPr/>
          <p:nvPr/>
        </p:nvSpPr>
        <p:spPr>
          <a:xfrm>
            <a:off x="2916360" y="3639960"/>
            <a:ext cx="187164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7"/>
          <p:cNvSpPr/>
          <p:nvPr/>
        </p:nvSpPr>
        <p:spPr>
          <a:xfrm>
            <a:off x="5148360" y="364320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0"/>
          <p:cNvSpPr/>
          <p:nvPr/>
        </p:nvSpPr>
        <p:spPr>
          <a:xfrm>
            <a:off x="7020000" y="3639960"/>
            <a:ext cx="158436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395280" y="164304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й элемен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устройство, которое после обработки двоичных сигналов выдаёт значение одной из ло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655560" y="3000240"/>
            <a:ext cx="2344680" cy="1997640"/>
            <a:chOff x="655560" y="3000240"/>
            <a:chExt cx="2344680" cy="1997640"/>
          </a:xfrm>
        </p:grpSpPr>
        <p:sp>
          <p:nvSpPr>
            <p:cNvPr id="282" name="Line 7"/>
            <p:cNvSpPr/>
            <p:nvPr/>
          </p:nvSpPr>
          <p:spPr>
            <a:xfrm>
              <a:off x="826920" y="40798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1403280" y="3143160"/>
              <a:ext cx="865080" cy="136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826920" y="343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268360" y="37926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1835280" y="3216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755640" y="300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55640" y="3648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655560" y="4599000"/>
              <a:ext cx="234468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кон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3624120" y="3000240"/>
            <a:ext cx="2376720" cy="2002320"/>
            <a:chOff x="3624120" y="3000240"/>
            <a:chExt cx="2376720" cy="2002320"/>
          </a:xfrm>
        </p:grpSpPr>
        <p:sp>
          <p:nvSpPr>
            <p:cNvPr id="291" name="Rectangle 16"/>
            <p:cNvSpPr/>
            <p:nvPr/>
          </p:nvSpPr>
          <p:spPr>
            <a:xfrm>
              <a:off x="4500720" y="3144960"/>
              <a:ext cx="865080" cy="13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3924360" y="3433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924360" y="4081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5365800" y="379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4932360" y="321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3925800" y="300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3925800" y="3648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3624120" y="4603680"/>
              <a:ext cx="237672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Л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диз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4"/>
          <p:cNvGrpSpPr/>
          <p:nvPr/>
        </p:nvGrpSpPr>
        <p:grpSpPr>
          <a:xfrm>
            <a:off x="6516720" y="3071880"/>
            <a:ext cx="2087640" cy="1902960"/>
            <a:chOff x="6516720" y="3071880"/>
            <a:chExt cx="2087640" cy="1902960"/>
          </a:xfrm>
        </p:grpSpPr>
        <p:sp>
          <p:nvSpPr>
            <p:cNvPr id="300" name="Rectangle 25"/>
            <p:cNvSpPr/>
            <p:nvPr/>
          </p:nvSpPr>
          <p:spPr>
            <a:xfrm>
              <a:off x="7093080" y="3071880"/>
              <a:ext cx="865080" cy="142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6516720" y="3762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7958160" y="3695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8"/>
            <p:cNvSpPr/>
            <p:nvPr/>
          </p:nvSpPr>
          <p:spPr>
            <a:xfrm>
              <a:off x="7885080" y="3624840"/>
              <a:ext cx="1429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9"/>
            <p:cNvSpPr/>
            <p:nvPr/>
          </p:nvSpPr>
          <p:spPr>
            <a:xfrm>
              <a:off x="6588000" y="4575960"/>
              <a:ext cx="201636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Е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инвер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6516720" y="3347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Заголовок 2"/>
          <p:cNvSpPr/>
          <p:nvPr/>
        </p:nvSpPr>
        <p:spPr>
          <a:xfrm>
            <a:off x="900000" y="189000"/>
            <a:ext cx="77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85"/>
          <p:cNvSpPr/>
          <p:nvPr/>
        </p:nvSpPr>
        <p:spPr>
          <a:xfrm>
            <a:off x="539640" y="1341360"/>
            <a:ext cx="828036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сигнал должен быть на выходе при каждом возможном наборе сигналов на вход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нализ электронной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39640" y="981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возможные комбинации сигналов на входа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сём в таблицу истинности. Проследим преобразование каждой пары сигналов при прохождении их через логические элементы и запишем полученный результат в таблицу. Заполненная таблица истинности полностью описывает рассматриваемую электронную сх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4027320" y="3963960"/>
            <a:ext cx="51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00040" y="3214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95280" y="393228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934920" y="3346560"/>
            <a:ext cx="4680000" cy="1653840"/>
            <a:chOff x="934920" y="3346560"/>
            <a:chExt cx="4680000" cy="1653840"/>
          </a:xfrm>
        </p:grpSpPr>
        <p:sp>
          <p:nvSpPr>
            <p:cNvPr id="314" name="Rectangle 11"/>
            <p:cNvSpPr/>
            <p:nvPr/>
          </p:nvSpPr>
          <p:spPr>
            <a:xfrm>
              <a:off x="3224160" y="3346560"/>
              <a:ext cx="774720" cy="12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3639960" y="341640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934920" y="4306680"/>
              <a:ext cx="5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4284720" y="3486240"/>
              <a:ext cx="13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6"/>
            <p:cNvSpPr/>
            <p:nvPr/>
          </p:nvSpPr>
          <p:spPr>
            <a:xfrm>
              <a:off x="1449360" y="3752640"/>
              <a:ext cx="774720" cy="1247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2224080" y="4238640"/>
              <a:ext cx="96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2157480" y="4146480"/>
              <a:ext cx="128520" cy="13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519280" y="3860640"/>
              <a:ext cx="863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"/>
          <p:cNvGraphicFramePr/>
          <p:nvPr/>
        </p:nvGraphicFramePr>
        <p:xfrm>
          <a:off x="5796000" y="3141720"/>
          <a:ext cx="2616120" cy="223200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Text Box 46"/>
          <p:cNvSpPr/>
          <p:nvPr/>
        </p:nvSpPr>
        <p:spPr>
          <a:xfrm>
            <a:off x="684360" y="54450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инвертор поступает сигнал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6"/>
          <p:cNvSpPr/>
          <p:nvPr/>
        </p:nvSpPr>
        <p:spPr>
          <a:xfrm>
            <a:off x="684360" y="5805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ъюнктор поступают сигналы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от  инвертора. Таким образом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2"/>
          <p:cNvSpPr/>
          <p:nvPr/>
        </p:nvSpPr>
        <p:spPr>
          <a:xfrm>
            <a:off x="5508720" y="6165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1000080" y="3643200"/>
            <a:ext cx="22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250920" y="907920"/>
            <a:ext cx="86421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это предложение на любом языке, содержание которого можно однозначно определить как истинное или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пределённые над высказываниями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3068640"/>
          <a:ext cx="8351640" cy="2473200"/>
        </p:xfrm>
        <a:graphic>
          <a:graphicData uri="http://schemas.openxmlformats.org/drawingml/2006/table">
            <a:tbl>
              <a:tblPr/>
              <a:tblGrid>
                <a:gridCol w="3382920"/>
                <a:gridCol w="2736720"/>
                <a:gridCol w="2232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, «неверно, ч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¬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, «а», «но», «хот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29" name="Text Box 72"/>
          <p:cNvSpPr/>
          <p:nvPr/>
        </p:nvSpPr>
        <p:spPr>
          <a:xfrm>
            <a:off x="324000" y="1052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 истинности для основных логических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00000" y="2060640"/>
          <a:ext cx="2832120" cy="151272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4211640" y="2060640"/>
          <a:ext cx="4272120" cy="242892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67040"/>
                <a:gridCol w="106848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119"/>
          <p:cNvSpPr/>
          <p:nvPr/>
        </p:nvSpPr>
        <p:spPr>
          <a:xfrm>
            <a:off x="611280" y="4653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и логических выражений сначала выполня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я в скобках. Приоритет выполнения логических операций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3"/>
          <p:cNvSpPr/>
          <p:nvPr/>
        </p:nvSpPr>
        <p:spPr>
          <a:xfrm>
            <a:off x="647640" y="1052640"/>
            <a:ext cx="8496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следующие предложения не являются высказы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превосходит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смотрите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ейте томатный 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Эта тема ску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икки Мартин - самый популярный пе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 были в теат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5"/>
          <p:cNvSpPr/>
          <p:nvPr/>
        </p:nvSpPr>
        <p:spPr>
          <a:xfrm>
            <a:off x="250920" y="19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истинных и ложных высказываний из биологии, географии, информатики, истории, математики,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6"/>
          <p:cNvSpPr/>
          <p:nvPr/>
        </p:nvSpPr>
        <p:spPr>
          <a:xfrm>
            <a:off x="395280" y="836640"/>
            <a:ext cx="84963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х высказываниях выделите простые высказывания, обозначив каждое из них буквой. Запиш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укв и знаков логических операций каждое состав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исло 376 чётное и трёхзна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имой дети катаются на коньках или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овый год мы встретим на даче или на Красной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еверно, что Солнце движется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Земля имеет форму шара, который из космоса кажется голу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На уроке математики старшеклассники отвечали на вопросы учителя, а также писали самостоя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7"/>
          <p:cNvSpPr/>
          <p:nvPr/>
        </p:nvSpPr>
        <p:spPr>
          <a:xfrm>
            <a:off x="611280" y="119700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ицания следующ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годня в театре идёт опера «Евгений Онег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исло 1 есть прост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туральные числа, оканчивающиеся цифрой 0, не являются прост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еверно, что число 3 не является делителем числа 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оля решил все задания контро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Во всякой школе некоторые ученики интересуютс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Некоторые млекопитающие не живут на с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8"/>
          <p:cNvSpPr/>
          <p:nvPr/>
        </p:nvSpPr>
        <p:spPr>
          <a:xfrm>
            <a:off x="39528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= «Ане нравятся уроки математики», а В = «Ане нравятся уроки химии». Выразите следующие формулы на обычн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9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6095880" cy="10285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03"/>
          <p:cNvSpPr/>
          <p:nvPr/>
        </p:nvSpPr>
        <p:spPr>
          <a:xfrm>
            <a:off x="611280" y="1268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сните, какой сигнал должен быть на выхо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ой схемы при каждом возможном набо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ов на входах. Составьте таблицу работы схемы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м логическим выражением описывается схем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04"/>
          <p:cNvGrpSpPr/>
          <p:nvPr/>
        </p:nvGrpSpPr>
        <p:grpSpPr>
          <a:xfrm>
            <a:off x="2771640" y="2924280"/>
            <a:ext cx="3745080" cy="2760480"/>
            <a:chOff x="2771640" y="2924280"/>
            <a:chExt cx="3745080" cy="2760480"/>
          </a:xfrm>
        </p:grpSpPr>
        <p:grpSp>
          <p:nvGrpSpPr>
            <p:cNvPr id="343" name="Group 205"/>
            <p:cNvGrpSpPr/>
            <p:nvPr/>
          </p:nvGrpSpPr>
          <p:grpSpPr>
            <a:xfrm>
              <a:off x="2771640" y="2924280"/>
              <a:ext cx="3745080" cy="2760480"/>
              <a:chOff x="2771640" y="2924280"/>
              <a:chExt cx="3745080" cy="2760480"/>
            </a:xfrm>
          </p:grpSpPr>
          <p:sp>
            <p:nvSpPr>
              <p:cNvPr id="344" name="Line 206"/>
              <p:cNvSpPr/>
              <p:nvPr/>
            </p:nvSpPr>
            <p:spPr>
              <a:xfrm>
                <a:off x="5756400" y="382104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207"/>
              <p:cNvSpPr/>
              <p:nvPr/>
            </p:nvSpPr>
            <p:spPr>
              <a:xfrm>
                <a:off x="5003640" y="3213000"/>
                <a:ext cx="774720" cy="130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208"/>
              <p:cNvSpPr/>
              <p:nvPr/>
            </p:nvSpPr>
            <p:spPr>
              <a:xfrm>
                <a:off x="5369040" y="32734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209"/>
              <p:cNvSpPr/>
              <p:nvPr/>
            </p:nvSpPr>
            <p:spPr>
              <a:xfrm>
                <a:off x="6013440" y="33433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10"/>
              <p:cNvGrpSpPr/>
              <p:nvPr/>
            </p:nvGrpSpPr>
            <p:grpSpPr>
              <a:xfrm>
                <a:off x="2771640" y="2924280"/>
                <a:ext cx="2253960" cy="1247760"/>
                <a:chOff x="2771640" y="2924280"/>
                <a:chExt cx="2253960" cy="1247760"/>
              </a:xfrm>
            </p:grpSpPr>
            <p:sp>
              <p:nvSpPr>
                <p:cNvPr id="349" name="Line 211"/>
                <p:cNvSpPr/>
                <p:nvPr/>
              </p:nvSpPr>
              <p:spPr>
                <a:xfrm>
                  <a:off x="2771640" y="3610080"/>
                  <a:ext cx="51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12"/>
                <p:cNvSpPr/>
                <p:nvPr/>
              </p:nvSpPr>
              <p:spPr>
                <a:xfrm>
                  <a:off x="3285720" y="2924280"/>
                  <a:ext cx="774720" cy="1247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13"/>
                <p:cNvSpPr/>
                <p:nvPr/>
              </p:nvSpPr>
              <p:spPr>
                <a:xfrm>
                  <a:off x="4060440" y="3541680"/>
                  <a:ext cx="96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214"/>
                <p:cNvSpPr/>
                <p:nvPr/>
              </p:nvSpPr>
              <p:spPr>
                <a:xfrm>
                  <a:off x="3993840" y="3449520"/>
                  <a:ext cx="128520" cy="131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Line 215"/>
              <p:cNvSpPr/>
              <p:nvPr/>
            </p:nvSpPr>
            <p:spPr>
              <a:xfrm>
                <a:off x="2843280" y="512280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216"/>
              <p:cNvSpPr/>
              <p:nvPr/>
            </p:nvSpPr>
            <p:spPr>
              <a:xfrm>
                <a:off x="3357720" y="443700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17"/>
              <p:cNvSpPr/>
              <p:nvPr/>
            </p:nvSpPr>
            <p:spPr>
              <a:xfrm>
                <a:off x="4065480" y="496260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218"/>
              <p:cNvSpPr/>
              <p:nvPr/>
            </p:nvSpPr>
            <p:spPr>
              <a:xfrm>
                <a:off x="4140360" y="501336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19"/>
              <p:cNvSpPr/>
              <p:nvPr/>
            </p:nvSpPr>
            <p:spPr>
              <a:xfrm flipV="1">
                <a:off x="4643280" y="3573360"/>
                <a:ext cx="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220"/>
            <p:cNvSpPr/>
            <p:nvPr/>
          </p:nvSpPr>
          <p:spPr>
            <a:xfrm>
              <a:off x="2843280" y="3213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1"/>
            <p:cNvSpPr/>
            <p:nvPr/>
          </p:nvSpPr>
          <p:spPr>
            <a:xfrm>
              <a:off x="2843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11280" y="1052640"/>
            <a:ext cx="820872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ется дело Джона, Брауна и Смита. Известно, что один из них нашёл и утаил клад. На следствии каждый из подозреваемых сделал два зая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Браун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Браун не виновен. Смит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у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Джон не делал эт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 установил, что один из них дважды солгал, другой дважды сказал правду, третий один раз солгал, один раз сказал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подозреваемых должен быть оправ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539640" y="836640"/>
            <a:ext cx="82090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, Боря и Гриша нашли в земле старинный сосуд. Рассматривая удивительную находку, каждый высказал по два пред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греческий и изготовлен в 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финикийский и изготовлен в III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не греческий и изготовлен в I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сказал ребятам, что каждый из них прав только в одном из двух предположений. Где и в каком веке изготовлен сос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97164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78000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6443640" y="328464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 flipV="1">
            <a:off x="2340000" y="2781360"/>
            <a:ext cx="244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4788000" y="2781360"/>
            <a:ext cx="27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 flipV="1">
            <a:off x="4788000" y="2781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39640" y="907920"/>
            <a:ext cx="842508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42920" y="393372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708360" y="3933720"/>
          <a:ext cx="2089080" cy="198144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516720" y="3933720"/>
          <a:ext cx="2016000" cy="1981440"/>
        </p:xfrm>
        <a:graphic>
          <a:graphicData uri="http://schemas.openxmlformats.org/drawingml/2006/table">
            <a:tbl>
              <a:tblPr/>
              <a:tblGrid>
                <a:gridCol w="565200"/>
                <a:gridCol w="658800"/>
                <a:gridCol w="7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 Box 114"/>
          <p:cNvSpPr/>
          <p:nvPr/>
        </p:nvSpPr>
        <p:spPr>
          <a:xfrm>
            <a:off x="61128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ритет выполнения логических операц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419640" y="213372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Заголовок 2"/>
          <p:cNvSpPr/>
          <p:nvPr/>
        </p:nvSpPr>
        <p:spPr>
          <a:xfrm>
            <a:off x="357120" y="189000"/>
            <a:ext cx="8786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Электронные образователь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68360" y="1197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9e997f40-f285-4369-aa7d-88b892beca45/?interface=catalog&amp;class=51&amp;subject=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лементарные логически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41128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16-2001). Его исследования позволили применить алгебру логики в вычислительной тех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гик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411280" y="90792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www.physics.ru/courses/op25part2/content/scientist/images/aristotel.jpg"/>
          <p:cNvPicPr/>
          <p:nvPr/>
        </p:nvPicPr>
        <p:blipFill>
          <a:blip r:embed="rId2"/>
          <a:stretch/>
        </p:blipFill>
        <p:spPr>
          <a:xfrm>
            <a:off x="611280" y="26028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2411280" y="2708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http://www.mathematics.ru/courses/algebra/content/scientist/images/boole.jpg"/>
          <p:cNvPicPr/>
          <p:nvPr/>
        </p:nvPicPr>
        <p:blipFill>
          <a:blip r:embed="rId3"/>
          <a:stretch/>
        </p:blipFill>
        <p:spPr>
          <a:xfrm>
            <a:off x="576360" y="2349360"/>
            <a:ext cx="162072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trinity.se-ua.net/images/shannonc.jpg"/>
          <p:cNvPicPr/>
          <p:nvPr/>
        </p:nvPicPr>
        <p:blipFill>
          <a:blip r:embed="rId4"/>
          <a:stretch/>
        </p:blipFill>
        <p:spPr>
          <a:xfrm>
            <a:off x="611280" y="4869000"/>
            <a:ext cx="144756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90792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предложение на любом языке, содержание которого можно однознач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ин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ж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95280" y="48578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5280" y="3500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11"/>
          <p:cNvSpPr/>
          <p:nvPr/>
        </p:nvSpPr>
        <p:spPr>
          <a:xfrm>
            <a:off x="684360" y="13413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илиния 12"/>
          <p:cNvSpPr/>
          <p:nvPr/>
        </p:nvSpPr>
        <p:spPr>
          <a:xfrm>
            <a:off x="684360" y="19731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илиния 13"/>
          <p:cNvSpPr/>
          <p:nvPr/>
        </p:nvSpPr>
        <p:spPr>
          <a:xfrm>
            <a:off x="684360" y="326700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42960" y="1428840"/>
            <a:ext cx="82090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алгебре логики высказывания обозначают буквами 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перемен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сказывание истинно, то значение соответствующей ему логической переменной обозначают единицей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а если ложно - нулём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знач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395280" y="189000"/>
            <a:ext cx="820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стые и сложны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95280" y="1557360"/>
            <a:ext cx="8497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я бывают простые и слож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е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никакая его часть сама не является высказы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ставные) высказывания строятся из простых с помощью логических опер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3860640"/>
          <a:ext cx="8353440" cy="2248200"/>
        </p:xfrm>
        <a:graphic>
          <a:graphicData uri="http://schemas.openxmlformats.org/drawingml/2006/table">
            <a:tbl>
              <a:tblPr/>
              <a:tblGrid>
                <a:gridCol w="5112000"/>
                <a:gridCol w="32414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; «а»; «но»; «хот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»; «неверно, чт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9640" y="907920"/>
            <a:ext cx="8425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умн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73160" y="4148280"/>
          <a:ext cx="2928960" cy="21351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34290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427640" y="34290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6696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6300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8360" y="765000"/>
            <a:ext cx="84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ым двум высказываниям ставит в соответствие новое высказывание, являющееся ложным тогда и только тогда, когда оба исходных высказывания лож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сло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400536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427640" y="3284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3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676680" cy="242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622764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ADMIN</cp:lastModifiedBy>
  <dcterms:modified xsi:type="dcterms:W3CDTF">2022-11-12T06:29:35Z</dcterms:modified>
  <cp:revision>142</cp:revision>
  <dc:subject/>
  <dc:title>Презентация PowerPoint</dc:title>
</cp:coreProperties>
</file>