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41EB-CCCD-49AB-A56F-C84C089B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0DA-D079-4E8F-8CDC-59D1DC2B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BAA-7E9A-4186-BBB8-E9CC5627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DE4-182E-4B06-91D6-85C31AB0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75F-1358-4691-AD8D-9E7BAB41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98F-A2D8-45FC-93A3-7270D9A5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EDC-1DD9-499E-8E6F-6712874B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3C4-8B6A-469D-81D0-0EE13FAF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D505-3FD4-432B-9BED-B8C6EACC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020-DFFC-468A-9A26-13CD3960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6A4-B5D7-48E6-B2CE-87901C9A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69C-108A-45BE-A7E8-9319CD76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F238-60FD-4847-8256-A5BEA956DB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chool-collection.edu.ru/catalog/res/9e997f40-f285-4369-aa7d-88b892beca45/?interface=catalog&amp;class=51&amp;subject=19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060640"/>
            <a:ext cx="640728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ЭЛЕМЕНТЫ АЛГЕБРЫ ЛОГ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05360"/>
            <a:ext cx="6481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МАТИЧЕСКИЕ ОСНОВЫ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5"/>
          <p:cNvSpPr/>
          <p:nvPr/>
        </p:nvSpPr>
        <p:spPr>
          <a:xfrm>
            <a:off x="4681440" y="3355920"/>
            <a:ext cx="3816360" cy="216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68360" y="836640"/>
            <a:ext cx="835164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верс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логическая операция, которая каждому высказыванию ставит в соответствие новое высказывание, значение которого противоположно исходно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ое название: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ое отриц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ения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¯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65080" y="3571920"/>
          <a:ext cx="2656080" cy="1281240"/>
        </p:xfrm>
        <a:graphic>
          <a:graphicData uri="http://schemas.openxmlformats.org/drawingml/2006/table">
            <a:tbl>
              <a:tblPr/>
              <a:tblGrid>
                <a:gridCol w="1328760"/>
                <a:gridCol w="132732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20"/>
          <p:cNvSpPr/>
          <p:nvPr/>
        </p:nvSpPr>
        <p:spPr>
          <a:xfrm>
            <a:off x="468360" y="5734080"/>
            <a:ext cx="84247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ческие операции имеют следующий приорит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версия, конъюнкция, дизъюнк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68360" y="285264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427640" y="285264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6"/>
          <p:cNvSpPr/>
          <p:nvPr/>
        </p:nvSpPr>
        <p:spPr>
          <a:xfrm>
            <a:off x="5761080" y="3571920"/>
            <a:ext cx="1727280" cy="1727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6408720" y="4148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7"/>
          <p:cNvSpPr/>
          <p:nvPr/>
        </p:nvSpPr>
        <p:spPr>
          <a:xfrm>
            <a:off x="4968720" y="44355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11280" y="836640"/>
            <a:ext cx="8281800" cy="52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«На Web-странице встречается слово "крейсер"»,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«На Web-странице встречается слово "линкор"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котором сегменте сети Интернет 5000000 Web-страниц. В нём высказывани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стинно для 4800 страниц, высказывани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для 4500 страниц, а высказывани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для 7000 страниц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какого количества Web-страниц в этом случае будут истинны следующие выражения и высказыва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 Web-странице встречается слово "крейсер"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встречается слово "линкор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2"/>
          <p:cNvSpPr/>
          <p:nvPr/>
        </p:nvSpPr>
        <p:spPr>
          <a:xfrm>
            <a:off x="711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аем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7"/>
          <p:cNvSpPr/>
          <p:nvPr/>
        </p:nvSpPr>
        <p:spPr>
          <a:xfrm>
            <a:off x="395280" y="5300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000 – 7000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993 0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трани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692360" y="4726080"/>
            <a:ext cx="608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00, B = 45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00 + 4500 = 9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474920" y="436572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800 – 2300 =  25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395280" y="260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м условие задачи графичес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57120" y="528624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2500 Web-страницах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тречаетс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лово "крейсер"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тречаетс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лово "линкор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1042920" y="907920"/>
            <a:ext cx="4032360" cy="4032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835280" y="1700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00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"/>
          <p:cNvPicPr/>
          <p:nvPr/>
        </p:nvPicPr>
        <p:blipFill>
          <a:blip r:embed="rId2"/>
          <a:stretch/>
        </p:blipFill>
        <p:spPr>
          <a:xfrm>
            <a:off x="5796000" y="2205000"/>
            <a:ext cx="2114640" cy="15717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8"/>
          <p:cNvSpPr/>
          <p:nvPr/>
        </p:nvSpPr>
        <p:spPr>
          <a:xfrm>
            <a:off x="6084720" y="299736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1763640" y="3789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1258920" y="5084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мен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3" descr=""/>
          <p:cNvPicPr/>
          <p:nvPr/>
        </p:nvPicPr>
        <p:blipFill>
          <a:blip r:embed="rId3"/>
          <a:stretch/>
        </p:blipFill>
        <p:spPr>
          <a:xfrm>
            <a:off x="2700360" y="1341360"/>
            <a:ext cx="4308480" cy="3200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4"/>
          <p:cNvSpPr/>
          <p:nvPr/>
        </p:nvSpPr>
        <p:spPr>
          <a:xfrm>
            <a:off x="3348000" y="26384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6012000" y="2638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4356000" y="26384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&amp;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619280" y="580536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300 – 7000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3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трани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&amp;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8" descr=""/>
          <p:cNvPicPr/>
          <p:nvPr/>
        </p:nvPicPr>
        <p:blipFill>
          <a:blip r:embed="rId4"/>
          <a:stretch/>
        </p:blipFill>
        <p:spPr>
          <a:xfrm>
            <a:off x="2627280" y="1413000"/>
            <a:ext cx="4319640" cy="3106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9"/>
          <p:cNvSpPr/>
          <p:nvPr/>
        </p:nvSpPr>
        <p:spPr>
          <a:xfrm>
            <a:off x="2916360" y="256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2"/>
          <p:cNvSpPr/>
          <p:nvPr/>
        </p:nvSpPr>
        <p:spPr>
          <a:xfrm>
            <a:off x="3276720" y="2565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4"/>
          <p:cNvGrpSpPr/>
          <p:nvPr/>
        </p:nvGrpSpPr>
        <p:grpSpPr>
          <a:xfrm>
            <a:off x="3635280" y="2565360"/>
            <a:ext cx="362160" cy="459720"/>
            <a:chOff x="3635280" y="2565360"/>
            <a:chExt cx="362160" cy="459720"/>
          </a:xfrm>
        </p:grpSpPr>
        <p:sp>
          <p:nvSpPr>
            <p:cNvPr id="122" name="Line 30"/>
            <p:cNvSpPr/>
            <p:nvPr/>
          </p:nvSpPr>
          <p:spPr>
            <a:xfrm>
              <a:off x="3708360" y="263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3"/>
            <p:cNvSpPr/>
            <p:nvPr/>
          </p:nvSpPr>
          <p:spPr>
            <a:xfrm>
              <a:off x="3635280" y="256536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Box 9"/>
          <p:cNvSpPr/>
          <p:nvPr/>
        </p:nvSpPr>
        <p:spPr>
          <a:xfrm>
            <a:off x="6086520" y="407844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037E-007 L -0.46076 -0.00185 E">
                                      <p:cBhvr>
                                        <p:cTn id="31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11111E-006 L -0.45417 -0.00972 E">
                                      <p:cBhvr>
                                        <p:cTn id="31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23699E-006 L -0.47657 -0.22219 E">
                                      <p:cBhvr>
                                        <p:cTn id="32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Заголовок 2"/>
          <p:cNvSpPr/>
          <p:nvPr/>
        </p:nvSpPr>
        <p:spPr>
          <a:xfrm>
            <a:off x="395280" y="0"/>
            <a:ext cx="853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f497d"/>
                </a:solidFill>
                <a:latin typeface="Calibri"/>
              </a:rPr>
              <a:t>Построение таблиц истинности для логических выражени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547640" y="1122480"/>
            <a:ext cx="6337440" cy="361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читат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число переменных в выра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973080" y="1700280"/>
            <a:ext cx="734400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читать общее число логических операций в выра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539640" y="2421000"/>
            <a:ext cx="8353440" cy="3585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ь последовательность выполнения логических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270160" y="3068640"/>
            <a:ext cx="47498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число столбцов в таб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541440" y="3716280"/>
            <a:ext cx="820728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лнить шапку таблицы, включив в неё переменные и 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1333440" y="4363920"/>
            <a:ext cx="6623280" cy="5050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число строк в таблице без шапки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2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124000" y="5157720"/>
            <a:ext cx="518184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исать наборы входных перем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468360" y="5877000"/>
            <a:ext cx="8353440" cy="647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заполнение таблицы по столбцам, выполняя 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в соответствии с установленной последова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4716360" y="148428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4716360" y="2133720"/>
            <a:ext cx="0" cy="287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716360" y="2781360"/>
            <a:ext cx="0" cy="287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4716360" y="350028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4716360" y="414972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4716360" y="4869000"/>
            <a:ext cx="0" cy="28872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4716360" y="5589720"/>
            <a:ext cx="0" cy="28872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214280" y="2714760"/>
          <a:ext cx="7000920" cy="500040"/>
        </p:xfrm>
        <a:graphic>
          <a:graphicData uri="http://schemas.openxmlformats.org/drawingml/2006/table">
            <a:tbl>
              <a:tblPr/>
              <a:tblGrid>
                <a:gridCol w="1697040"/>
                <a:gridCol w="1731960"/>
                <a:gridCol w="1805040"/>
                <a:gridCol w="1766880"/>
              </a:tblGrid>
              <a:tr h="500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amp;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amp;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214280" y="3214800"/>
          <a:ext cx="6985080" cy="17064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810080"/>
                <a:gridCol w="17460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50"/>
          <p:cNvSpPr/>
          <p:nvPr/>
        </p:nvSpPr>
        <p:spPr>
          <a:xfrm>
            <a:off x="285840" y="1285920"/>
            <a:ext cx="86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= 2, m 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ритет операций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, 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Заголовок 2"/>
          <p:cNvSpPr/>
          <p:nvPr/>
        </p:nvSpPr>
        <p:spPr>
          <a:xfrm>
            <a:off x="214200" y="0"/>
            <a:ext cx="90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f497d"/>
                </a:solidFill>
                <a:latin typeface="Calibri"/>
              </a:rPr>
              <a:t>Пример построения таблицы истин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Заголовок 2"/>
          <p:cNvSpPr/>
          <p:nvPr/>
        </p:nvSpPr>
        <p:spPr>
          <a:xfrm>
            <a:off x="468360" y="260280"/>
            <a:ext cx="838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войства логических опер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 flipV="1">
            <a:off x="684360" y="1125360"/>
            <a:ext cx="0" cy="489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684360" y="1125360"/>
            <a:ext cx="2592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76720" y="981000"/>
            <a:ext cx="36716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аконы алгебры-лог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H="1">
            <a:off x="684360" y="206064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H="1">
            <a:off x="684360" y="6021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H="1">
            <a:off x="684360" y="342900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 flipH="1">
            <a:off x="684360" y="4797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643280" y="155592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amp; B = B &amp;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643280" y="220356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 = B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643280" y="429264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&amp;(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= (A&amp;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&amp;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643280" y="501336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&amp;C) = (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&amp;(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643280" y="292428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 &amp; B) &amp; C = A &amp; ( B &amp;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643280" y="3500280"/>
            <a:ext cx="3456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 V B) V C =A V ( B V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3780000" y="177336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 flipH="1" flipV="1">
            <a:off x="3780000" y="206028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971640" y="170028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мести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 flipH="1">
            <a:off x="3780000" y="314172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 flipH="1" flipV="1">
            <a:off x="3780000" y="342864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 flipH="1">
            <a:off x="3851280" y="443700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 flipH="1" flipV="1">
            <a:off x="3851280" y="472392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 flipH="1">
            <a:off x="3851280" y="6021360"/>
            <a:ext cx="7207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971640" y="306864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чета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042920" y="436572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предели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042920" y="558972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двой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7"/>
          <p:cNvGrpSpPr/>
          <p:nvPr/>
        </p:nvGrpSpPr>
        <p:grpSpPr>
          <a:xfrm>
            <a:off x="4572000" y="5734080"/>
            <a:ext cx="3456000" cy="574560"/>
            <a:chOff x="4572000" y="5734080"/>
            <a:chExt cx="3456000" cy="574560"/>
          </a:xfrm>
        </p:grpSpPr>
        <p:sp>
          <p:nvSpPr>
            <p:cNvPr id="171" name="Rectangle 4"/>
            <p:cNvSpPr/>
            <p:nvPr/>
          </p:nvSpPr>
          <p:spPr>
            <a:xfrm>
              <a:off x="4572000" y="5734080"/>
              <a:ext cx="3456000" cy="5745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Ā =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9"/>
            <p:cNvSpPr/>
            <p:nvPr/>
          </p:nvSpPr>
          <p:spPr>
            <a:xfrm>
              <a:off x="6013440" y="5805360"/>
              <a:ext cx="7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Line 7"/>
          <p:cNvSpPr/>
          <p:nvPr/>
        </p:nvSpPr>
        <p:spPr>
          <a:xfrm flipH="1">
            <a:off x="684360" y="6021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 flipH="1">
            <a:off x="684360" y="342900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 flipH="1">
            <a:off x="684360" y="4797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4643280" y="155592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amp; Ā =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4643280" y="220356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Ā =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643280" y="429264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amp; 0=0;   A &amp;1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643280" y="4941720"/>
            <a:ext cx="3456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 = A;  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643280" y="292428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amp; A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643280" y="3500280"/>
            <a:ext cx="3456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 A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 flipH="1">
            <a:off x="3780000" y="177336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 flipH="1" flipV="1">
            <a:off x="3780000" y="206028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971640" y="170028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исклю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еть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 flipH="1">
            <a:off x="3780000" y="314172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 flipH="1" flipV="1">
            <a:off x="3780000" y="342864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 flipH="1">
            <a:off x="3851280" y="443700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H="1" flipV="1">
            <a:off x="3851280" y="472392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 flipH="1">
            <a:off x="3851280" y="5805360"/>
            <a:ext cx="792000" cy="14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971640" y="306864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овт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1042920" y="436572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0 и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 flipV="1">
            <a:off x="3780000" y="5949720"/>
            <a:ext cx="86328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042920" y="558972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об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вер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55"/>
          <p:cNvGrpSpPr/>
          <p:nvPr/>
        </p:nvGrpSpPr>
        <p:grpSpPr>
          <a:xfrm>
            <a:off x="4643280" y="5589720"/>
            <a:ext cx="3456000" cy="431640"/>
            <a:chOff x="4643280" y="5589720"/>
            <a:chExt cx="3456000" cy="431640"/>
          </a:xfrm>
        </p:grpSpPr>
        <p:sp>
          <p:nvSpPr>
            <p:cNvPr id="195" name="Rectangle 4"/>
            <p:cNvSpPr/>
            <p:nvPr/>
          </p:nvSpPr>
          <p:spPr>
            <a:xfrm>
              <a:off x="4643280" y="5589720"/>
              <a:ext cx="3456000" cy="431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 &amp; B = Ā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57"/>
            <p:cNvSpPr/>
            <p:nvPr/>
          </p:nvSpPr>
          <p:spPr>
            <a:xfrm>
              <a:off x="5580000" y="5661000"/>
              <a:ext cx="647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8"/>
            <p:cNvSpPr/>
            <p:nvPr/>
          </p:nvSpPr>
          <p:spPr>
            <a:xfrm>
              <a:off x="7020000" y="566100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59"/>
          <p:cNvGrpSpPr/>
          <p:nvPr/>
        </p:nvGrpSpPr>
        <p:grpSpPr>
          <a:xfrm>
            <a:off x="4643280" y="6165720"/>
            <a:ext cx="3456000" cy="432000"/>
            <a:chOff x="4643280" y="6165720"/>
            <a:chExt cx="3456000" cy="432000"/>
          </a:xfrm>
        </p:grpSpPr>
        <p:sp>
          <p:nvSpPr>
            <p:cNvPr id="199" name="Rectangle 4"/>
            <p:cNvSpPr/>
            <p:nvPr/>
          </p:nvSpPr>
          <p:spPr>
            <a:xfrm>
              <a:off x="4643280" y="6165720"/>
              <a:ext cx="3456000" cy="43200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B  = Ā &amp; 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61"/>
            <p:cNvSpPr/>
            <p:nvPr/>
          </p:nvSpPr>
          <p:spPr>
            <a:xfrm>
              <a:off x="5435640" y="6237360"/>
              <a:ext cx="647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62"/>
            <p:cNvSpPr/>
            <p:nvPr/>
          </p:nvSpPr>
          <p:spPr>
            <a:xfrm>
              <a:off x="7020000" y="623736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468360" y="1413000"/>
          <a:ext cx="8351640" cy="3600360"/>
        </p:xfrm>
        <a:graphic>
          <a:graphicData uri="http://schemas.openxmlformats.org/drawingml/2006/table">
            <a:tbl>
              <a:tblPr/>
              <a:tblGrid>
                <a:gridCol w="571320"/>
                <a:gridCol w="641520"/>
                <a:gridCol w="714240"/>
                <a:gridCol w="857520"/>
                <a:gridCol w="1569960"/>
                <a:gridCol w="1000080"/>
                <a:gridCol w="836640"/>
                <a:gridCol w="21603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&amp;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 (B &amp;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v B) &amp; (A v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Text Box 102"/>
          <p:cNvSpPr/>
          <p:nvPr/>
        </p:nvSpPr>
        <p:spPr>
          <a:xfrm>
            <a:off x="468360" y="7650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ительный закон для логического сложения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B &amp; 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Заголовок 2"/>
          <p:cNvSpPr/>
          <p:nvPr/>
        </p:nvSpPr>
        <p:spPr>
          <a:xfrm>
            <a:off x="539640" y="260280"/>
            <a:ext cx="838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казательство зак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9"/>
          <p:cNvSpPr/>
          <p:nvPr/>
        </p:nvSpPr>
        <p:spPr>
          <a:xfrm>
            <a:off x="539640" y="5300640"/>
            <a:ext cx="77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ножа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4"/>
          <p:cNvSpPr/>
          <p:nvPr/>
        </p:nvSpPr>
        <p:spPr>
          <a:xfrm>
            <a:off x="262728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5"/>
          <p:cNvSpPr/>
          <p:nvPr/>
        </p:nvSpPr>
        <p:spPr>
          <a:xfrm>
            <a:off x="262728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6"/>
          <p:cNvSpPr/>
          <p:nvPr/>
        </p:nvSpPr>
        <p:spPr>
          <a:xfrm>
            <a:off x="262728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7"/>
          <p:cNvSpPr/>
          <p:nvPr/>
        </p:nvSpPr>
        <p:spPr>
          <a:xfrm>
            <a:off x="262728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8"/>
          <p:cNvSpPr/>
          <p:nvPr/>
        </p:nvSpPr>
        <p:spPr>
          <a:xfrm>
            <a:off x="262728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9"/>
          <p:cNvSpPr/>
          <p:nvPr/>
        </p:nvSpPr>
        <p:spPr>
          <a:xfrm>
            <a:off x="262728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0"/>
          <p:cNvSpPr/>
          <p:nvPr/>
        </p:nvSpPr>
        <p:spPr>
          <a:xfrm>
            <a:off x="262728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41"/>
          <p:cNvSpPr/>
          <p:nvPr/>
        </p:nvSpPr>
        <p:spPr>
          <a:xfrm>
            <a:off x="262728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2"/>
          <p:cNvSpPr/>
          <p:nvPr/>
        </p:nvSpPr>
        <p:spPr>
          <a:xfrm>
            <a:off x="468360" y="53006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ладыва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3"/>
          <p:cNvSpPr/>
          <p:nvPr/>
        </p:nvSpPr>
        <p:spPr>
          <a:xfrm>
            <a:off x="385128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4"/>
          <p:cNvSpPr/>
          <p:nvPr/>
        </p:nvSpPr>
        <p:spPr>
          <a:xfrm>
            <a:off x="385128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6"/>
          <p:cNvSpPr/>
          <p:nvPr/>
        </p:nvSpPr>
        <p:spPr>
          <a:xfrm>
            <a:off x="385128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7"/>
          <p:cNvSpPr/>
          <p:nvPr/>
        </p:nvSpPr>
        <p:spPr>
          <a:xfrm>
            <a:off x="385128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8"/>
          <p:cNvSpPr/>
          <p:nvPr/>
        </p:nvSpPr>
        <p:spPr>
          <a:xfrm>
            <a:off x="385128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9"/>
          <p:cNvSpPr/>
          <p:nvPr/>
        </p:nvSpPr>
        <p:spPr>
          <a:xfrm>
            <a:off x="385128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0"/>
          <p:cNvSpPr/>
          <p:nvPr/>
        </p:nvSpPr>
        <p:spPr>
          <a:xfrm>
            <a:off x="385128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1"/>
          <p:cNvSpPr/>
          <p:nvPr/>
        </p:nvSpPr>
        <p:spPr>
          <a:xfrm>
            <a:off x="3851280" y="4653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2"/>
          <p:cNvSpPr/>
          <p:nvPr/>
        </p:nvSpPr>
        <p:spPr>
          <a:xfrm>
            <a:off x="468360" y="53006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ладыва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3"/>
          <p:cNvSpPr/>
          <p:nvPr/>
        </p:nvSpPr>
        <p:spPr>
          <a:xfrm>
            <a:off x="507672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54"/>
          <p:cNvSpPr/>
          <p:nvPr/>
        </p:nvSpPr>
        <p:spPr>
          <a:xfrm>
            <a:off x="507672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55"/>
          <p:cNvSpPr/>
          <p:nvPr/>
        </p:nvSpPr>
        <p:spPr>
          <a:xfrm>
            <a:off x="5076720" y="256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6"/>
          <p:cNvSpPr/>
          <p:nvPr/>
        </p:nvSpPr>
        <p:spPr>
          <a:xfrm>
            <a:off x="507672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7"/>
          <p:cNvSpPr/>
          <p:nvPr/>
        </p:nvSpPr>
        <p:spPr>
          <a:xfrm>
            <a:off x="507672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8"/>
          <p:cNvSpPr/>
          <p:nvPr/>
        </p:nvSpPr>
        <p:spPr>
          <a:xfrm>
            <a:off x="507672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9"/>
          <p:cNvSpPr/>
          <p:nvPr/>
        </p:nvSpPr>
        <p:spPr>
          <a:xfrm>
            <a:off x="507672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60"/>
          <p:cNvSpPr/>
          <p:nvPr/>
        </p:nvSpPr>
        <p:spPr>
          <a:xfrm>
            <a:off x="507672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1"/>
          <p:cNvSpPr/>
          <p:nvPr/>
        </p:nvSpPr>
        <p:spPr>
          <a:xfrm>
            <a:off x="468360" y="53006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ладыва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2"/>
          <p:cNvSpPr/>
          <p:nvPr/>
        </p:nvSpPr>
        <p:spPr>
          <a:xfrm>
            <a:off x="615636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3"/>
          <p:cNvSpPr/>
          <p:nvPr/>
        </p:nvSpPr>
        <p:spPr>
          <a:xfrm>
            <a:off x="615636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4"/>
          <p:cNvSpPr/>
          <p:nvPr/>
        </p:nvSpPr>
        <p:spPr>
          <a:xfrm>
            <a:off x="615636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5"/>
          <p:cNvSpPr/>
          <p:nvPr/>
        </p:nvSpPr>
        <p:spPr>
          <a:xfrm>
            <a:off x="615636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6"/>
          <p:cNvSpPr/>
          <p:nvPr/>
        </p:nvSpPr>
        <p:spPr>
          <a:xfrm>
            <a:off x="615636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7"/>
          <p:cNvSpPr/>
          <p:nvPr/>
        </p:nvSpPr>
        <p:spPr>
          <a:xfrm>
            <a:off x="615636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8"/>
          <p:cNvSpPr/>
          <p:nvPr/>
        </p:nvSpPr>
        <p:spPr>
          <a:xfrm>
            <a:off x="615636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9"/>
          <p:cNvSpPr/>
          <p:nvPr/>
        </p:nvSpPr>
        <p:spPr>
          <a:xfrm>
            <a:off x="615636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0"/>
          <p:cNvSpPr/>
          <p:nvPr/>
        </p:nvSpPr>
        <p:spPr>
          <a:xfrm>
            <a:off x="468360" y="53006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ножае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3"/>
          <p:cNvSpPr/>
          <p:nvPr/>
        </p:nvSpPr>
        <p:spPr>
          <a:xfrm>
            <a:off x="759636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74"/>
          <p:cNvSpPr/>
          <p:nvPr/>
        </p:nvSpPr>
        <p:spPr>
          <a:xfrm>
            <a:off x="759636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75"/>
          <p:cNvSpPr/>
          <p:nvPr/>
        </p:nvSpPr>
        <p:spPr>
          <a:xfrm>
            <a:off x="759636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6"/>
          <p:cNvSpPr/>
          <p:nvPr/>
        </p:nvSpPr>
        <p:spPr>
          <a:xfrm>
            <a:off x="759636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77"/>
          <p:cNvSpPr/>
          <p:nvPr/>
        </p:nvSpPr>
        <p:spPr>
          <a:xfrm>
            <a:off x="759636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8"/>
          <p:cNvSpPr/>
          <p:nvPr/>
        </p:nvSpPr>
        <p:spPr>
          <a:xfrm>
            <a:off x="7596360" y="3789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9"/>
          <p:cNvSpPr/>
          <p:nvPr/>
        </p:nvSpPr>
        <p:spPr>
          <a:xfrm>
            <a:off x="759636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0"/>
          <p:cNvSpPr/>
          <p:nvPr/>
        </p:nvSpPr>
        <p:spPr>
          <a:xfrm>
            <a:off x="759636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2"/>
          <p:cNvSpPr/>
          <p:nvPr/>
        </p:nvSpPr>
        <p:spPr>
          <a:xfrm>
            <a:off x="468360" y="5300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венство выделенных столбцов доказывает распределительный зак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84"/>
          <p:cNvSpPr/>
          <p:nvPr/>
        </p:nvSpPr>
        <p:spPr>
          <a:xfrm>
            <a:off x="3203640" y="1413000"/>
            <a:ext cx="1655640" cy="3600360"/>
          </a:xfrm>
          <a:prstGeom prst="rect">
            <a:avLst/>
          </a:prstGeom>
          <a:noFill/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85"/>
          <p:cNvSpPr/>
          <p:nvPr/>
        </p:nvSpPr>
        <p:spPr>
          <a:xfrm>
            <a:off x="6659640" y="1413000"/>
            <a:ext cx="2160360" cy="3600360"/>
          </a:xfrm>
          <a:prstGeom prst="rect">
            <a:avLst/>
          </a:prstGeom>
          <a:noFill/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468360" y="692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оля, Вася и Серёжа гостили летом у бабушки. Однажды один из мальчиков нечаянно разбил любимую бабушкину ваз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ение логически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6"/>
          <p:cNvGrpSpPr/>
          <p:nvPr/>
        </p:nvGrpSpPr>
        <p:grpSpPr>
          <a:xfrm>
            <a:off x="5881680" y="3645000"/>
            <a:ext cx="3144960" cy="2705040"/>
            <a:chOff x="5881680" y="3645000"/>
            <a:chExt cx="3144960" cy="2705040"/>
          </a:xfrm>
        </p:grpSpPr>
        <p:pic>
          <p:nvPicPr>
            <p:cNvPr id="256" name="Picture 10" descr=""/>
            <p:cNvPicPr/>
            <p:nvPr/>
          </p:nvPicPr>
          <p:blipFill>
            <a:blip r:embed="rId2"/>
            <a:stretch/>
          </p:blipFill>
          <p:spPr>
            <a:xfrm>
              <a:off x="6515280" y="5229360"/>
              <a:ext cx="225720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2" descr="http://mdou-teremok.moy.su/kartinki/ab2a40ef409a-1-.png"/>
            <p:cNvPicPr/>
            <p:nvPr/>
          </p:nvPicPr>
          <p:blipFill>
            <a:blip r:embed="rId3"/>
            <a:stretch/>
          </p:blipFill>
          <p:spPr>
            <a:xfrm>
              <a:off x="8078760" y="4292640"/>
              <a:ext cx="94788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4" descr="http://falconsscience.files.wordpress.com/2007/10/cartoon-boys.jpg%3Fw%3D283%26h%3D494"/>
            <p:cNvPicPr/>
            <p:nvPr/>
          </p:nvPicPr>
          <p:blipFill>
            <a:blip r:embed="rId4"/>
            <a:stretch/>
          </p:blipFill>
          <p:spPr>
            <a:xfrm>
              <a:off x="5881680" y="3860640"/>
              <a:ext cx="1265400" cy="22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22" descr="malch55"/>
            <p:cNvPicPr/>
            <p:nvPr/>
          </p:nvPicPr>
          <p:blipFill>
            <a:blip r:embed="rId5"/>
            <a:stretch/>
          </p:blipFill>
          <p:spPr>
            <a:xfrm>
              <a:off x="6767640" y="3645000"/>
              <a:ext cx="1619280" cy="17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Text Box 4"/>
          <p:cNvSpPr/>
          <p:nvPr/>
        </p:nvSpPr>
        <p:spPr>
          <a:xfrm>
            <a:off x="395280" y="1844640"/>
            <a:ext cx="842472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вопрос, кто разбил вазу, они дали такие отве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рёж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1) Я не разбивал. 2) Вася не разбив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а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3) Серёжа не разбивал. 4) Вазу разбил Ко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л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5) Я не разбивал. 6) Вазу разбил Серёж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395280" y="3789360"/>
            <a:ext cx="5472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абушка знала, что один из её внуков (правдивый), оба раза сказал правду; второй (шутник) оба раза сказал неправду; третий (хитрец) один раз сказал правду, а другой раз - неправду. Назовите имена правдивого, шутника и хитрец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то из внуков разбил вазу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539640" y="2492280"/>
          <a:ext cx="8280360" cy="2327400"/>
        </p:xfrm>
        <a:graphic>
          <a:graphicData uri="http://schemas.openxmlformats.org/drawingml/2006/table">
            <a:tbl>
              <a:tblPr/>
              <a:tblGrid>
                <a:gridCol w="719280"/>
                <a:gridCol w="792000"/>
                <a:gridCol w="720720"/>
                <a:gridCol w="1449360"/>
                <a:gridCol w="638280"/>
                <a:gridCol w="1200240"/>
                <a:gridCol w="817560"/>
                <a:gridCol w="1022400"/>
                <a:gridCol w="92052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е Серё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е Ва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е Ко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3" name="Group 72"/>
          <p:cNvGrpSpPr/>
          <p:nvPr/>
        </p:nvGrpSpPr>
        <p:grpSpPr>
          <a:xfrm>
            <a:off x="3203640" y="3213000"/>
            <a:ext cx="431640" cy="429120"/>
            <a:chOff x="3203640" y="3213000"/>
            <a:chExt cx="431640" cy="429120"/>
          </a:xfrm>
        </p:grpSpPr>
        <p:sp>
          <p:nvSpPr>
            <p:cNvPr id="264" name="Text Box 73"/>
            <p:cNvSpPr/>
            <p:nvPr/>
          </p:nvSpPr>
          <p:spPr>
            <a:xfrm>
              <a:off x="320364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4"/>
            <p:cNvSpPr/>
            <p:nvPr/>
          </p:nvSpPr>
          <p:spPr>
            <a:xfrm>
              <a:off x="327672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75"/>
          <p:cNvGrpSpPr/>
          <p:nvPr/>
        </p:nvGrpSpPr>
        <p:grpSpPr>
          <a:xfrm>
            <a:off x="4356000" y="3213000"/>
            <a:ext cx="431640" cy="429120"/>
            <a:chOff x="4356000" y="3213000"/>
            <a:chExt cx="431640" cy="429120"/>
          </a:xfrm>
        </p:grpSpPr>
        <p:sp>
          <p:nvSpPr>
            <p:cNvPr id="267" name="Text Box 76"/>
            <p:cNvSpPr/>
            <p:nvPr/>
          </p:nvSpPr>
          <p:spPr>
            <a:xfrm>
              <a:off x="435600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77"/>
            <p:cNvSpPr/>
            <p:nvPr/>
          </p:nvSpPr>
          <p:spPr>
            <a:xfrm>
              <a:off x="442908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78"/>
          <p:cNvGrpSpPr/>
          <p:nvPr/>
        </p:nvGrpSpPr>
        <p:grpSpPr>
          <a:xfrm>
            <a:off x="7164360" y="3213000"/>
            <a:ext cx="431640" cy="429120"/>
            <a:chOff x="7164360" y="3213000"/>
            <a:chExt cx="431640" cy="429120"/>
          </a:xfrm>
        </p:grpSpPr>
        <p:sp>
          <p:nvSpPr>
            <p:cNvPr id="270" name="Text Box 79"/>
            <p:cNvSpPr/>
            <p:nvPr/>
          </p:nvSpPr>
          <p:spPr>
            <a:xfrm>
              <a:off x="716436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80"/>
            <p:cNvSpPr/>
            <p:nvPr/>
          </p:nvSpPr>
          <p:spPr>
            <a:xfrm>
              <a:off x="723744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81"/>
          <p:cNvGrpSpPr/>
          <p:nvPr/>
        </p:nvGrpSpPr>
        <p:grpSpPr>
          <a:xfrm>
            <a:off x="5219640" y="3213000"/>
            <a:ext cx="431640" cy="429120"/>
            <a:chOff x="5219640" y="3213000"/>
            <a:chExt cx="431640" cy="429120"/>
          </a:xfrm>
        </p:grpSpPr>
        <p:sp>
          <p:nvSpPr>
            <p:cNvPr id="273" name="Text Box 82"/>
            <p:cNvSpPr/>
            <p:nvPr/>
          </p:nvSpPr>
          <p:spPr>
            <a:xfrm>
              <a:off x="521964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3"/>
            <p:cNvSpPr/>
            <p:nvPr/>
          </p:nvSpPr>
          <p:spPr>
            <a:xfrm>
              <a:off x="529272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84"/>
          <p:cNvSpPr/>
          <p:nvPr/>
        </p:nvSpPr>
        <p:spPr>
          <a:xfrm>
            <a:off x="468360" y="189000"/>
            <a:ext cx="842472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усть К =«Коля разбил вазу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=«Вася разбил вазу»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=«Серёжа разбил вазу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м в таблице истинности высказывания каждого мальчика. Так как </a:t>
            </a: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ваза разбита одним внуком, составим не всю таблицу, а только её фрагмент, содержащий наборы входных переменных: 001, 010, 10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5"/>
          <p:cNvSpPr/>
          <p:nvPr/>
        </p:nvSpPr>
        <p:spPr>
          <a:xfrm>
            <a:off x="500040" y="5000760"/>
            <a:ext cx="828036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ходя из того, что знает о внуках бабушка, следует искать в таблице строки, содержащие в каком-либо порядке три комбинации значений: 00, 11, 01 (или 10). Это первая стр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зу разбил Серёжа, он - хитрец. Шутником оказался Вася. Имя правдивого внука - Ко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6"/>
          <p:cNvSpPr/>
          <p:nvPr/>
        </p:nvSpPr>
        <p:spPr>
          <a:xfrm>
            <a:off x="2916360" y="3639960"/>
            <a:ext cx="1871640" cy="3607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7"/>
          <p:cNvSpPr/>
          <p:nvPr/>
        </p:nvSpPr>
        <p:spPr>
          <a:xfrm>
            <a:off x="5148360" y="3643200"/>
            <a:ext cx="1584360" cy="360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0"/>
          <p:cNvSpPr/>
          <p:nvPr/>
        </p:nvSpPr>
        <p:spPr>
          <a:xfrm>
            <a:off x="7020000" y="3639960"/>
            <a:ext cx="1584360" cy="3607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5"/>
          <p:cNvSpPr/>
          <p:nvPr/>
        </p:nvSpPr>
        <p:spPr>
          <a:xfrm>
            <a:off x="395280" y="1643040"/>
            <a:ext cx="87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й элемент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устройство, которое после обработки двоичных сигналов выдаёт значение одной из логических опер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655560" y="3000240"/>
            <a:ext cx="2344680" cy="1997640"/>
            <a:chOff x="655560" y="3000240"/>
            <a:chExt cx="2344680" cy="1997640"/>
          </a:xfrm>
        </p:grpSpPr>
        <p:sp>
          <p:nvSpPr>
            <p:cNvPr id="282" name="Line 7"/>
            <p:cNvSpPr/>
            <p:nvPr/>
          </p:nvSpPr>
          <p:spPr>
            <a:xfrm>
              <a:off x="826920" y="407988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8"/>
            <p:cNvSpPr/>
            <p:nvPr/>
          </p:nvSpPr>
          <p:spPr>
            <a:xfrm>
              <a:off x="1403280" y="3143160"/>
              <a:ext cx="865080" cy="136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9"/>
            <p:cNvSpPr/>
            <p:nvPr/>
          </p:nvSpPr>
          <p:spPr>
            <a:xfrm>
              <a:off x="826920" y="343224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0"/>
            <p:cNvSpPr/>
            <p:nvPr/>
          </p:nvSpPr>
          <p:spPr>
            <a:xfrm>
              <a:off x="2268360" y="379260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1"/>
            <p:cNvSpPr/>
            <p:nvPr/>
          </p:nvSpPr>
          <p:spPr>
            <a:xfrm>
              <a:off x="1835280" y="3216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2"/>
            <p:cNvSpPr/>
            <p:nvPr/>
          </p:nvSpPr>
          <p:spPr>
            <a:xfrm>
              <a:off x="755640" y="3000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3"/>
            <p:cNvSpPr/>
            <p:nvPr/>
          </p:nvSpPr>
          <p:spPr>
            <a:xfrm>
              <a:off x="755640" y="3648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4"/>
            <p:cNvSpPr/>
            <p:nvPr/>
          </p:nvSpPr>
          <p:spPr>
            <a:xfrm>
              <a:off x="655560" y="4599000"/>
              <a:ext cx="2344680" cy="3988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И</a:t>
              </a: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 (конъюнктор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5"/>
          <p:cNvGrpSpPr/>
          <p:nvPr/>
        </p:nvGrpSpPr>
        <p:grpSpPr>
          <a:xfrm>
            <a:off x="3624120" y="3000240"/>
            <a:ext cx="2376720" cy="2002320"/>
            <a:chOff x="3624120" y="3000240"/>
            <a:chExt cx="2376720" cy="2002320"/>
          </a:xfrm>
        </p:grpSpPr>
        <p:sp>
          <p:nvSpPr>
            <p:cNvPr id="291" name="Rectangle 16"/>
            <p:cNvSpPr/>
            <p:nvPr/>
          </p:nvSpPr>
          <p:spPr>
            <a:xfrm>
              <a:off x="4500720" y="3144960"/>
              <a:ext cx="865080" cy="136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7"/>
            <p:cNvSpPr/>
            <p:nvPr/>
          </p:nvSpPr>
          <p:spPr>
            <a:xfrm>
              <a:off x="3924360" y="343368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8"/>
            <p:cNvSpPr/>
            <p:nvPr/>
          </p:nvSpPr>
          <p:spPr>
            <a:xfrm>
              <a:off x="3924360" y="408132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>
              <a:off x="5365800" y="379404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0"/>
            <p:cNvSpPr/>
            <p:nvPr/>
          </p:nvSpPr>
          <p:spPr>
            <a:xfrm>
              <a:off x="4932360" y="32180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1"/>
            <p:cNvSpPr/>
            <p:nvPr/>
          </p:nvSpPr>
          <p:spPr>
            <a:xfrm>
              <a:off x="3925800" y="30002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2"/>
            <p:cNvSpPr/>
            <p:nvPr/>
          </p:nvSpPr>
          <p:spPr>
            <a:xfrm>
              <a:off x="3925800" y="36482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3"/>
            <p:cNvSpPr/>
            <p:nvPr/>
          </p:nvSpPr>
          <p:spPr>
            <a:xfrm>
              <a:off x="3624120" y="4603680"/>
              <a:ext cx="2376720" cy="3988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ИЛИ</a:t>
              </a: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 (дизъюнктор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24"/>
          <p:cNvGrpSpPr/>
          <p:nvPr/>
        </p:nvGrpSpPr>
        <p:grpSpPr>
          <a:xfrm>
            <a:off x="6516720" y="3071880"/>
            <a:ext cx="2087640" cy="1902960"/>
            <a:chOff x="6516720" y="3071880"/>
            <a:chExt cx="2087640" cy="1902960"/>
          </a:xfrm>
        </p:grpSpPr>
        <p:sp>
          <p:nvSpPr>
            <p:cNvPr id="300" name="Rectangle 25"/>
            <p:cNvSpPr/>
            <p:nvPr/>
          </p:nvSpPr>
          <p:spPr>
            <a:xfrm>
              <a:off x="7093080" y="3071880"/>
              <a:ext cx="865080" cy="1429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6"/>
            <p:cNvSpPr/>
            <p:nvPr/>
          </p:nvSpPr>
          <p:spPr>
            <a:xfrm>
              <a:off x="6516720" y="376200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7"/>
            <p:cNvSpPr/>
            <p:nvPr/>
          </p:nvSpPr>
          <p:spPr>
            <a:xfrm>
              <a:off x="7958160" y="369504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8"/>
            <p:cNvSpPr/>
            <p:nvPr/>
          </p:nvSpPr>
          <p:spPr>
            <a:xfrm>
              <a:off x="7885080" y="3624840"/>
              <a:ext cx="14292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9"/>
            <p:cNvSpPr/>
            <p:nvPr/>
          </p:nvSpPr>
          <p:spPr>
            <a:xfrm>
              <a:off x="6588000" y="4575960"/>
              <a:ext cx="2016360" cy="3988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НЕ</a:t>
              </a: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 (инвертор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30"/>
            <p:cNvSpPr/>
            <p:nvPr/>
          </p:nvSpPr>
          <p:spPr>
            <a:xfrm>
              <a:off x="6516720" y="3347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Заголовок 2"/>
          <p:cNvSpPr/>
          <p:nvPr/>
        </p:nvSpPr>
        <p:spPr>
          <a:xfrm>
            <a:off x="900000" y="189000"/>
            <a:ext cx="7786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е эле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0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1143000" y="857160"/>
            <a:ext cx="718668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гебра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каз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ическая оп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ъю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ическое вы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 ист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85"/>
          <p:cNvSpPr/>
          <p:nvPr/>
        </p:nvSpPr>
        <p:spPr>
          <a:xfrm>
            <a:off x="539640" y="1341360"/>
            <a:ext cx="8280360" cy="764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сигнал должен быть на выходе при каждом возможном наборе сигналов на входах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Анализ электронной сх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539640" y="98100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се возможные комбинации сигналов на входах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несём в таблицу истинности. Проследим преобразование каждой пары сигналов при прохождении их через логические элементы и запишем полученный результат в таблицу. Заполненная таблица истинности полностью описывает рассматриваемую электронную схе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"/>
          <p:cNvSpPr/>
          <p:nvPr/>
        </p:nvSpPr>
        <p:spPr>
          <a:xfrm>
            <a:off x="4027320" y="3963960"/>
            <a:ext cx="516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500040" y="3214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95280" y="393228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0"/>
          <p:cNvGrpSpPr/>
          <p:nvPr/>
        </p:nvGrpSpPr>
        <p:grpSpPr>
          <a:xfrm>
            <a:off x="934920" y="3346560"/>
            <a:ext cx="4680000" cy="1653840"/>
            <a:chOff x="934920" y="3346560"/>
            <a:chExt cx="4680000" cy="1653840"/>
          </a:xfrm>
        </p:grpSpPr>
        <p:sp>
          <p:nvSpPr>
            <p:cNvPr id="314" name="Rectangle 11"/>
            <p:cNvSpPr/>
            <p:nvPr/>
          </p:nvSpPr>
          <p:spPr>
            <a:xfrm>
              <a:off x="3224160" y="3346560"/>
              <a:ext cx="774720" cy="1299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3"/>
            <p:cNvSpPr/>
            <p:nvPr/>
          </p:nvSpPr>
          <p:spPr>
            <a:xfrm>
              <a:off x="3639960" y="3416400"/>
              <a:ext cx="32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934920" y="4306680"/>
              <a:ext cx="515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5"/>
            <p:cNvSpPr/>
            <p:nvPr/>
          </p:nvSpPr>
          <p:spPr>
            <a:xfrm>
              <a:off x="4284720" y="3486240"/>
              <a:ext cx="133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6"/>
            <p:cNvSpPr/>
            <p:nvPr/>
          </p:nvSpPr>
          <p:spPr>
            <a:xfrm>
              <a:off x="1449360" y="3752640"/>
              <a:ext cx="774720" cy="1247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7"/>
            <p:cNvSpPr/>
            <p:nvPr/>
          </p:nvSpPr>
          <p:spPr>
            <a:xfrm>
              <a:off x="2224080" y="4238640"/>
              <a:ext cx="96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2157480" y="4146480"/>
              <a:ext cx="128520" cy="131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2519280" y="3860640"/>
              <a:ext cx="863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2" name=""/>
          <p:cNvGraphicFramePr/>
          <p:nvPr/>
        </p:nvGraphicFramePr>
        <p:xfrm>
          <a:off x="5796000" y="3141720"/>
          <a:ext cx="2616120" cy="2232000"/>
        </p:xfrm>
        <a:graphic>
          <a:graphicData uri="http://schemas.openxmlformats.org/drawingml/2006/table">
            <a:tbl>
              <a:tblPr/>
              <a:tblGrid>
                <a:gridCol w="871560"/>
                <a:gridCol w="873000"/>
                <a:gridCol w="87156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Text Box 46"/>
          <p:cNvSpPr/>
          <p:nvPr/>
        </p:nvSpPr>
        <p:spPr>
          <a:xfrm>
            <a:off x="684360" y="544500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инвертор поступает сигнал от вход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6"/>
          <p:cNvSpPr/>
          <p:nvPr/>
        </p:nvSpPr>
        <p:spPr>
          <a:xfrm>
            <a:off x="684360" y="580536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онъюнктор поступают сигналы от вход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от  инвертора. Таким образом,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2"/>
          <p:cNvSpPr/>
          <p:nvPr/>
        </p:nvSpPr>
        <p:spPr>
          <a:xfrm>
            <a:off x="5508720" y="616572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1000080" y="3643200"/>
            <a:ext cx="22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250920" y="907920"/>
            <a:ext cx="864216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ысказы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это предложение на любом языке, содержание которого можно однозначно определить как истинное или лож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ы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е опер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определённые над высказываниями: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версия, конъюнкция, дизъюнк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24000" y="3068640"/>
          <a:ext cx="8351640" cy="2473200"/>
        </p:xfrm>
        <a:graphic>
          <a:graphicData uri="http://schemas.openxmlformats.org/drawingml/2006/table">
            <a:tbl>
              <a:tblPr/>
              <a:tblGrid>
                <a:gridCol w="3382920"/>
                <a:gridCol w="2736720"/>
                <a:gridCol w="2232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логической оп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ая связ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ер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, «неверно, чт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¬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», «а», «но», «хот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329" name="Text Box 72"/>
          <p:cNvSpPr/>
          <p:nvPr/>
        </p:nvSpPr>
        <p:spPr>
          <a:xfrm>
            <a:off x="324000" y="1052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блицы истинности для основных логических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900000" y="2060640"/>
          <a:ext cx="2832120" cy="1512720"/>
        </p:xfrm>
        <a:graphic>
          <a:graphicData uri="http://schemas.openxmlformats.org/drawingml/2006/table">
            <a:tbl>
              <a:tblPr/>
              <a:tblGrid>
                <a:gridCol w="1416240"/>
                <a:gridCol w="14158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4211640" y="2060640"/>
          <a:ext cx="4272120" cy="2428920"/>
        </p:xfrm>
        <a:graphic>
          <a:graphicData uri="http://schemas.openxmlformats.org/drawingml/2006/table">
            <a:tbl>
              <a:tblPr/>
              <a:tblGrid>
                <a:gridCol w="1068480"/>
                <a:gridCol w="1068120"/>
                <a:gridCol w="1067040"/>
                <a:gridCol w="1068480"/>
              </a:tblGrid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332" name="Text Box 119"/>
          <p:cNvSpPr/>
          <p:nvPr/>
        </p:nvSpPr>
        <p:spPr>
          <a:xfrm>
            <a:off x="611280" y="4653000"/>
            <a:ext cx="80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ычислении логических выражений сначала выполняютс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ия в скобках. Приоритет выполнения логических операций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¬, &amp;, 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3"/>
          <p:cNvSpPr/>
          <p:nvPr/>
        </p:nvSpPr>
        <p:spPr>
          <a:xfrm>
            <a:off x="647640" y="1052640"/>
            <a:ext cx="849636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ите, почему следующие предложения не являются высказыв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Какого цвета этот д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Числ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превосходит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4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Посмотрите в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Пейте томатный с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Эта тема скуч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Рикки Мартин - самый популярный пев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) Вы были в теат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5"/>
          <p:cNvSpPr/>
          <p:nvPr/>
        </p:nvSpPr>
        <p:spPr>
          <a:xfrm>
            <a:off x="250920" y="1989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о одному примеру истинных и ложных высказываний из биологии, географии, информатики, истории, математики, лит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6"/>
          <p:cNvSpPr/>
          <p:nvPr/>
        </p:nvSpPr>
        <p:spPr>
          <a:xfrm>
            <a:off x="395280" y="836640"/>
            <a:ext cx="849636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едующих высказываниях выделите простые высказывания, обозначив каждое из них буквой. Запиш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букв и знаков логических операций каждое составное высказы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Число 376 чётное и трёхзнач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Зимой дети катаются на коньках или на лыж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Новый год мы встретим на даче или на Красной площ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Неверно, что Солнце движется вокруг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Земля имеет форму шара, который из космоса кажется голуб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На уроке математики старшеклассники отвечали на вопросы учителя, а также писали самостоятельну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7"/>
          <p:cNvSpPr/>
          <p:nvPr/>
        </p:nvSpPr>
        <p:spPr>
          <a:xfrm>
            <a:off x="611280" y="1197000"/>
            <a:ext cx="824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отрицания следующих высказы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Сегодня в театре идёт опера «Евгений Онег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Каждый охотник желает знать, где сидит фаз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Число 1 есть прост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Натуральные числа, оканчивающиеся цифрой 0, не являются простыми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Неверно, что число 3 не является делителем числа 1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Коля решил все задания контроль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Во всякой школе некоторые ученики интересуются спор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) Некоторые млекопитающие не живут на су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38"/>
          <p:cNvSpPr/>
          <p:nvPr/>
        </p:nvSpPr>
        <p:spPr>
          <a:xfrm>
            <a:off x="395280" y="17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А = «Ане нравятся уроки математики», а В = «Ане нравятся уроки химии». Выразите следующие формулы на обычном язы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39" descr=""/>
          <p:cNvPicPr/>
          <p:nvPr/>
        </p:nvPicPr>
        <p:blipFill>
          <a:blip r:embed="rId2"/>
          <a:stretch/>
        </p:blipFill>
        <p:spPr>
          <a:xfrm>
            <a:off x="1476360" y="3284640"/>
            <a:ext cx="6095880" cy="102852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03"/>
          <p:cNvSpPr/>
          <p:nvPr/>
        </p:nvSpPr>
        <p:spPr>
          <a:xfrm>
            <a:off x="611280" y="126828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сните, какой сигнал должен быть на выход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лектронной схемы при каждом возможном набор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гналов на входах. Составьте таблицу работы схемы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аким логическим выражением описывается схем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204"/>
          <p:cNvGrpSpPr/>
          <p:nvPr/>
        </p:nvGrpSpPr>
        <p:grpSpPr>
          <a:xfrm>
            <a:off x="2771640" y="2924280"/>
            <a:ext cx="3745080" cy="2760480"/>
            <a:chOff x="2771640" y="2924280"/>
            <a:chExt cx="3745080" cy="2760480"/>
          </a:xfrm>
        </p:grpSpPr>
        <p:grpSp>
          <p:nvGrpSpPr>
            <p:cNvPr id="343" name="Group 205"/>
            <p:cNvGrpSpPr/>
            <p:nvPr/>
          </p:nvGrpSpPr>
          <p:grpSpPr>
            <a:xfrm>
              <a:off x="2771640" y="2924280"/>
              <a:ext cx="3745080" cy="2760480"/>
              <a:chOff x="2771640" y="2924280"/>
              <a:chExt cx="3745080" cy="2760480"/>
            </a:xfrm>
          </p:grpSpPr>
          <p:sp>
            <p:nvSpPr>
              <p:cNvPr id="344" name="Line 206"/>
              <p:cNvSpPr/>
              <p:nvPr/>
            </p:nvSpPr>
            <p:spPr>
              <a:xfrm>
                <a:off x="5756400" y="3821040"/>
                <a:ext cx="5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207"/>
              <p:cNvSpPr/>
              <p:nvPr/>
            </p:nvSpPr>
            <p:spPr>
              <a:xfrm>
                <a:off x="5003640" y="3213000"/>
                <a:ext cx="774720" cy="1300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208"/>
              <p:cNvSpPr/>
              <p:nvPr/>
            </p:nvSpPr>
            <p:spPr>
              <a:xfrm>
                <a:off x="5369040" y="3273480"/>
                <a:ext cx="32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209"/>
              <p:cNvSpPr/>
              <p:nvPr/>
            </p:nvSpPr>
            <p:spPr>
              <a:xfrm>
                <a:off x="6013440" y="334332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Group 210"/>
              <p:cNvGrpSpPr/>
              <p:nvPr/>
            </p:nvGrpSpPr>
            <p:grpSpPr>
              <a:xfrm>
                <a:off x="2771640" y="2924280"/>
                <a:ext cx="2253960" cy="1247760"/>
                <a:chOff x="2771640" y="2924280"/>
                <a:chExt cx="2253960" cy="1247760"/>
              </a:xfrm>
            </p:grpSpPr>
            <p:sp>
              <p:nvSpPr>
                <p:cNvPr id="349" name="Line 211"/>
                <p:cNvSpPr/>
                <p:nvPr/>
              </p:nvSpPr>
              <p:spPr>
                <a:xfrm>
                  <a:off x="2771640" y="3610080"/>
                  <a:ext cx="515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12"/>
                <p:cNvSpPr/>
                <p:nvPr/>
              </p:nvSpPr>
              <p:spPr>
                <a:xfrm>
                  <a:off x="3285720" y="2924280"/>
                  <a:ext cx="774720" cy="12477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213"/>
                <p:cNvSpPr/>
                <p:nvPr/>
              </p:nvSpPr>
              <p:spPr>
                <a:xfrm>
                  <a:off x="4060440" y="3541680"/>
                  <a:ext cx="965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214"/>
                <p:cNvSpPr/>
                <p:nvPr/>
              </p:nvSpPr>
              <p:spPr>
                <a:xfrm>
                  <a:off x="3993840" y="3449520"/>
                  <a:ext cx="128520" cy="1317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Line 215"/>
              <p:cNvSpPr/>
              <p:nvPr/>
            </p:nvSpPr>
            <p:spPr>
              <a:xfrm>
                <a:off x="2843280" y="5122800"/>
                <a:ext cx="5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216"/>
              <p:cNvSpPr/>
              <p:nvPr/>
            </p:nvSpPr>
            <p:spPr>
              <a:xfrm>
                <a:off x="3357720" y="4437000"/>
                <a:ext cx="774720" cy="1247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17"/>
              <p:cNvSpPr/>
              <p:nvPr/>
            </p:nvSpPr>
            <p:spPr>
              <a:xfrm>
                <a:off x="4065480" y="4962600"/>
                <a:ext cx="128520" cy="131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218"/>
              <p:cNvSpPr/>
              <p:nvPr/>
            </p:nvSpPr>
            <p:spPr>
              <a:xfrm>
                <a:off x="4140360" y="5013360"/>
                <a:ext cx="5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219"/>
              <p:cNvSpPr/>
              <p:nvPr/>
            </p:nvSpPr>
            <p:spPr>
              <a:xfrm flipV="1">
                <a:off x="4643280" y="3573360"/>
                <a:ext cx="0" cy="144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Text Box 220"/>
            <p:cNvSpPr/>
            <p:nvPr/>
          </p:nvSpPr>
          <p:spPr>
            <a:xfrm>
              <a:off x="2843280" y="3213000"/>
              <a:ext cx="4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221"/>
            <p:cNvSpPr/>
            <p:nvPr/>
          </p:nvSpPr>
          <p:spPr>
            <a:xfrm>
              <a:off x="2843280" y="47242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0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611280" y="1052640"/>
            <a:ext cx="820872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рается дело Джона, Брауна и Смита. Известно, что один из них нашёл и утаил клад. На следствии каждый из подозреваемых сделал два зая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ми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«Я не делал этого. Браун сделал эт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жо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«Браун не виновен. Смит сделал эт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рау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«Я не делал этого. Джон не делал эт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 установил, что один из них дважды солгал, другой дважды сказал правду, третий один раз солгал, один раз сказал прав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из подозреваемых должен быть оправд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539640" y="836640"/>
            <a:ext cx="820908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ёша, Боря и Гриша нашли в земле старинный сосуд. Рассматривая удивительную находку, каждый высказал по два пред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еш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сосуд греческий и изготовлен в V ве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сосуд финикийский и изготовлен в III ве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иш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сосуд не греческий и изготовлен в IV ве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сказал ребятам, что каждый из них прав только в одном из двух предположений. Где и в каком веке изготовлен сосу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0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971640" y="3284640"/>
            <a:ext cx="1942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вер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3780000" y="3284640"/>
            <a:ext cx="1942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ъ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6443640" y="3284640"/>
            <a:ext cx="1943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зъ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8"/>
          <p:cNvSpPr/>
          <p:nvPr/>
        </p:nvSpPr>
        <p:spPr>
          <a:xfrm flipV="1">
            <a:off x="2340000" y="2781360"/>
            <a:ext cx="244800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4788000" y="2781360"/>
            <a:ext cx="2736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 flipV="1">
            <a:off x="4788000" y="278136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539640" y="907920"/>
            <a:ext cx="8425080" cy="86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казыва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это предложение на любом языке, содержание котор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жно однозначно определить как истинное или лож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042920" y="3933720"/>
          <a:ext cx="1728720" cy="1366920"/>
        </p:xfrm>
        <a:graphic>
          <a:graphicData uri="http://schemas.openxmlformats.org/drawingml/2006/table">
            <a:tbl>
              <a:tblPr/>
              <a:tblGrid>
                <a:gridCol w="865080"/>
                <a:gridCol w="86364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708360" y="3933720"/>
          <a:ext cx="2089080" cy="198144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86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6516720" y="3933720"/>
          <a:ext cx="2016000" cy="1981440"/>
        </p:xfrm>
        <a:graphic>
          <a:graphicData uri="http://schemas.openxmlformats.org/drawingml/2006/table">
            <a:tbl>
              <a:tblPr/>
              <a:tblGrid>
                <a:gridCol w="565200"/>
                <a:gridCol w="658800"/>
                <a:gridCol w="79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Text Box 114"/>
          <p:cNvSpPr/>
          <p:nvPr/>
        </p:nvSpPr>
        <p:spPr>
          <a:xfrm>
            <a:off x="611280" y="61657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оритет выполнения логических операций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¬, &amp;,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3419640" y="2133720"/>
            <a:ext cx="2952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0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Заголовок 2"/>
          <p:cNvSpPr/>
          <p:nvPr/>
        </p:nvSpPr>
        <p:spPr>
          <a:xfrm>
            <a:off x="357120" y="189000"/>
            <a:ext cx="8786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Электронные образователь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468360" y="11970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chool-collection.edu.ru/catalog/res/9e997f40-f285-4369-aa7d-88b892beca45/?interface=catalog&amp;class=51&amp;subject=1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лементарные логические 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2411280" y="4724280"/>
            <a:ext cx="64087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лод Шенно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1916-2001). Его исследования позволили применить алгебру логики в вычислительной техн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Л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гик</a:t>
            </a: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411280" y="90792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384-322 до н.э.).  Основоположник формальной логики (понятие, суждение, умозаключение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http://www.physics.ru/courses/op25part2/content/scientist/images/aristotel.jpg"/>
          <p:cNvPicPr/>
          <p:nvPr/>
        </p:nvPicPr>
        <p:blipFill>
          <a:blip r:embed="rId2"/>
          <a:stretch/>
        </p:blipFill>
        <p:spPr>
          <a:xfrm>
            <a:off x="611280" y="260280"/>
            <a:ext cx="1708200" cy="219708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2"/>
          <p:cNvSpPr/>
          <p:nvPr/>
        </p:nvSpPr>
        <p:spPr>
          <a:xfrm>
            <a:off x="2411280" y="2708280"/>
            <a:ext cx="640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жордж Бул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1815-1864). Создал новую область науки - Математическую логику (Булеву алгебру или Алгебру высказываний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http://www.mathematics.ru/courses/algebra/content/scientist/images/boole.jpg"/>
          <p:cNvPicPr/>
          <p:nvPr/>
        </p:nvPicPr>
        <p:blipFill>
          <a:blip r:embed="rId3"/>
          <a:stretch/>
        </p:blipFill>
        <p:spPr>
          <a:xfrm>
            <a:off x="576360" y="2349360"/>
            <a:ext cx="1620720" cy="215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http://www.trinity.se-ua.net/images/shannonc.jpg"/>
          <p:cNvPicPr/>
          <p:nvPr/>
        </p:nvPicPr>
        <p:blipFill>
          <a:blip r:embed="rId4"/>
          <a:stretch/>
        </p:blipFill>
        <p:spPr>
          <a:xfrm>
            <a:off x="611280" y="4869000"/>
            <a:ext cx="1447560" cy="16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95280" y="907920"/>
            <a:ext cx="849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ысказы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предложение на любом языке, содержание которого можно однозначно определить как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тинно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ожно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98900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усском языке высказывания выражаются повествовательными предложения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Земля вращается вокруг Солнца</a:t>
            </a:r>
            <a:r>
              <a:rPr b="0" i="1" lang="ru-RU" sz="22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Москва - столиц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95280" y="4857840"/>
            <a:ext cx="849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будительные и вопросительные предложения высказываниями не являю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Без стука не входит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Откройте учебн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Ты выучил стихотворе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сказы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95280" y="3500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 не всякое повествовательное предложение является высказывани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Это высказывание лож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Заголовок 2"/>
          <p:cNvSpPr/>
          <p:nvPr/>
        </p:nvSpPr>
        <p:spPr>
          <a:xfrm>
            <a:off x="324000" y="189000"/>
            <a:ext cx="8362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сказывание или н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68360" y="1197000"/>
            <a:ext cx="81406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имой идет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негири живут в Кры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то к нам прише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треугольника 5 сто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пройти в библиоте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ведите число в десятич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ишите 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1116000" y="2765520"/>
            <a:ext cx="32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1116000" y="4024440"/>
            <a:ext cx="4392720" cy="3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V="1">
            <a:off x="1116000" y="4710240"/>
            <a:ext cx="6940440" cy="25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1116000" y="5357880"/>
            <a:ext cx="504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илиния 11"/>
          <p:cNvSpPr/>
          <p:nvPr/>
        </p:nvSpPr>
        <p:spPr>
          <a:xfrm>
            <a:off x="684360" y="1341360"/>
            <a:ext cx="282600" cy="273240"/>
          </a:xfrm>
          <a:custGeom>
            <a:avLst/>
            <a:gdLst>
              <a:gd name="textAreaLeft" fmla="*/ 0 w 282600"/>
              <a:gd name="textAreaRight" fmla="*/ 282960 w 282600"/>
              <a:gd name="textAreaTop" fmla="*/ 0 h 273240"/>
              <a:gd name="textAreaBottom" fmla="*/ 273240 h 273240"/>
            </a:gdLst>
            <a:ahLst/>
            <a:rect l="textAreaLeft" t="textAreaTop" r="textAreaRight" b="textAreaBottom"/>
            <a:pathLst>
              <a:path w="564204" h="671208">
                <a:moveTo>
                  <a:pt x="68093" y="204281"/>
                </a:moveTo>
                <a:lnTo>
                  <a:pt x="262647" y="505838"/>
                </a:lnTo>
                <a:lnTo>
                  <a:pt x="535021" y="0"/>
                </a:lnTo>
                <a:lnTo>
                  <a:pt x="564204" y="48638"/>
                </a:lnTo>
                <a:lnTo>
                  <a:pt x="282102" y="671208"/>
                </a:lnTo>
                <a:lnTo>
                  <a:pt x="0" y="369651"/>
                </a:lnTo>
                <a:lnTo>
                  <a:pt x="68093" y="20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олилиния 12"/>
          <p:cNvSpPr/>
          <p:nvPr/>
        </p:nvSpPr>
        <p:spPr>
          <a:xfrm>
            <a:off x="684360" y="1973160"/>
            <a:ext cx="282600" cy="273240"/>
          </a:xfrm>
          <a:custGeom>
            <a:avLst/>
            <a:gdLst>
              <a:gd name="textAreaLeft" fmla="*/ 0 w 282600"/>
              <a:gd name="textAreaRight" fmla="*/ 282960 w 282600"/>
              <a:gd name="textAreaTop" fmla="*/ 0 h 273240"/>
              <a:gd name="textAreaBottom" fmla="*/ 273240 h 273240"/>
            </a:gdLst>
            <a:ahLst/>
            <a:rect l="textAreaLeft" t="textAreaTop" r="textAreaRight" b="textAreaBottom"/>
            <a:pathLst>
              <a:path w="564204" h="671208">
                <a:moveTo>
                  <a:pt x="68093" y="204281"/>
                </a:moveTo>
                <a:lnTo>
                  <a:pt x="262647" y="505838"/>
                </a:lnTo>
                <a:lnTo>
                  <a:pt x="535021" y="0"/>
                </a:lnTo>
                <a:lnTo>
                  <a:pt x="564204" y="48638"/>
                </a:lnTo>
                <a:lnTo>
                  <a:pt x="282102" y="671208"/>
                </a:lnTo>
                <a:lnTo>
                  <a:pt x="0" y="369651"/>
                </a:lnTo>
                <a:lnTo>
                  <a:pt x="68093" y="20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олилиния 13"/>
          <p:cNvSpPr/>
          <p:nvPr/>
        </p:nvSpPr>
        <p:spPr>
          <a:xfrm>
            <a:off x="684360" y="3267000"/>
            <a:ext cx="282600" cy="273240"/>
          </a:xfrm>
          <a:custGeom>
            <a:avLst/>
            <a:gdLst>
              <a:gd name="textAreaLeft" fmla="*/ 0 w 282600"/>
              <a:gd name="textAreaRight" fmla="*/ 282960 w 282600"/>
              <a:gd name="textAreaTop" fmla="*/ 0 h 273240"/>
              <a:gd name="textAreaBottom" fmla="*/ 273240 h 273240"/>
            </a:gdLst>
            <a:ahLst/>
            <a:rect l="textAreaLeft" t="textAreaTop" r="textAreaRight" b="textAreaBottom"/>
            <a:pathLst>
              <a:path w="564204" h="671208">
                <a:moveTo>
                  <a:pt x="68093" y="204281"/>
                </a:moveTo>
                <a:lnTo>
                  <a:pt x="262647" y="505838"/>
                </a:lnTo>
                <a:lnTo>
                  <a:pt x="535021" y="0"/>
                </a:lnTo>
                <a:lnTo>
                  <a:pt x="564204" y="48638"/>
                </a:lnTo>
                <a:lnTo>
                  <a:pt x="282102" y="671208"/>
                </a:lnTo>
                <a:lnTo>
                  <a:pt x="0" y="369651"/>
                </a:lnTo>
                <a:lnTo>
                  <a:pt x="68093" y="20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642960" y="1428840"/>
            <a:ext cx="820908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гебра лог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пределяет правила записи, вычисления значений, упрощения и преобразования высказыв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алгебре логики высказывания обозначают буквами и называю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ми переменны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высказывание истинно, то значение соответствующей ему логической переменной обозначают единицей 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а если ложно - нулём 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называю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ми значения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2"/>
          <p:cNvSpPr/>
          <p:nvPr/>
        </p:nvSpPr>
        <p:spPr>
          <a:xfrm>
            <a:off x="324000" y="189000"/>
            <a:ext cx="8362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лгебра лог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2"/>
          <p:cNvSpPr/>
          <p:nvPr/>
        </p:nvSpPr>
        <p:spPr>
          <a:xfrm>
            <a:off x="395280" y="189000"/>
            <a:ext cx="8209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Простые и сложные высказы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95280" y="1557360"/>
            <a:ext cx="84978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казывания бывают простые и слож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казывание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сты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если никакая его часть сама не является высказывание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ож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составные) высказывания строятся из простых с помощью логических опер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9640" y="3860640"/>
          <a:ext cx="8353440" cy="2248200"/>
        </p:xfrm>
        <a:graphic>
          <a:graphicData uri="http://schemas.openxmlformats.org/drawingml/2006/table">
            <a:tbl>
              <a:tblPr/>
              <a:tblGrid>
                <a:gridCol w="5112000"/>
                <a:gridCol w="324144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логической опера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ая связ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ъюнк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»; «а»; «но»; «хотя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ъюнк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ли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ерс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»; «неверно, что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39640" y="907920"/>
            <a:ext cx="842508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нъюнк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логическая операция, ставящая в соответствие каждым двум высказываниям новое высказывание, являющееся истинным тогда и только тогда, когда оба исходных высказывания истин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ое название: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ое умнож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ения: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&amp;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73160" y="4148280"/>
          <a:ext cx="2928960" cy="213516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14652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68360" y="342900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427640" y="342900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6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3666960" cy="2409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5364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8"/>
          <p:cNvSpPr/>
          <p:nvPr/>
        </p:nvSpPr>
        <p:spPr>
          <a:xfrm>
            <a:off x="752472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9"/>
          <p:cNvSpPr/>
          <p:nvPr/>
        </p:nvSpPr>
        <p:spPr>
          <a:xfrm>
            <a:off x="6084720" y="6308640"/>
            <a:ext cx="13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0"/>
          <p:cNvSpPr/>
          <p:nvPr/>
        </p:nvSpPr>
        <p:spPr>
          <a:xfrm>
            <a:off x="6300720" y="4941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68360" y="765000"/>
            <a:ext cx="842472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изъюнкц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логическая операция, которая каждым двум высказываниям ставит в соответствие новое высказывание, являющееся ложным тогда и только тогда, когда оба исходных высказывания лож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ое название: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ое слож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ения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|,  ИЛИ, +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4360" y="4005360"/>
          <a:ext cx="3240000" cy="2135160"/>
        </p:xfrm>
        <a:graphic>
          <a:graphicData uri="http://schemas.openxmlformats.org/drawingml/2006/table">
            <a:tbl>
              <a:tblPr/>
              <a:tblGrid>
                <a:gridCol w="1081080"/>
                <a:gridCol w="1077840"/>
                <a:gridCol w="10810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68360" y="328464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427640" y="328464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3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3676680" cy="2428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4"/>
          <p:cNvSpPr/>
          <p:nvPr/>
        </p:nvSpPr>
        <p:spPr>
          <a:xfrm>
            <a:off x="5364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752472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622764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ADMIN</cp:lastModifiedBy>
  <dcterms:modified xsi:type="dcterms:W3CDTF">2022-11-12T06:29:35Z</dcterms:modified>
  <cp:revision>142</cp:revision>
  <dc:subject/>
  <dc:title>Презентация PowerPoint</dc:title>
</cp:coreProperties>
</file>