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17D-54E3-4F2A-8003-F37B282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5E7-AF79-4171-8879-A3E1C71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07B-A9A2-4526-9640-67D94135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C6C-A6D0-4B8F-92B5-59D202CD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DDD-6CF4-4766-A702-FE2B7BC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E21-870E-443E-BEC0-8783A7C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243-81E2-4D99-A4CF-01C035D5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08D-8AA7-444A-A728-E51B5B0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78B-6DAB-4E1A-B46F-6F4CCF8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BE4-7B49-4FA2-9034-339752F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8C4-18E1-4AF3-A5A0-2491A99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B3F-9E94-45CC-8275-6DCD616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B898-805A-49F9-B935-C08E302F5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403280" y="2637000"/>
            <a:ext cx="7561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2b29"/>
                </a:solidFill>
                <a:latin typeface="Times New Roman"/>
                <a:ea typeface="Times New Roman"/>
              </a:rPr>
              <a:t>Пути повышения качества подготовки обучающихся к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2b29"/>
                </a:solidFill>
                <a:latin typeface="Arial"/>
              </a:rPr>
              <a:t>Гилязова Ильнара Саги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2" descr=""/>
          <p:cNvPicPr/>
          <p:nvPr/>
        </p:nvPicPr>
        <p:blipFill>
          <a:blip r:embed="rId2"/>
          <a:stretch/>
        </p:blipFill>
        <p:spPr>
          <a:xfrm>
            <a:off x="208080" y="61596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-3743640"/>
            <a:ext cx="19621440" cy="79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тических тес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включают в себя все формы заданий, содержащиеся в структуре КИМа, но ориентированные на конкретный блок вопросов. На этом этапе использую различные  тестовые пособия, презентации-тренажёры, составляю тренировочные  тематические тесты сама. Перед решением теста обязательно повторяем теорию темы, просматривая презентацию по данному блоку вопро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VI эта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ет решение демонстрационных и тренировочных тестов, идёт отработка навыков решения тестов экзамена. Решение тестов может быть индивидуальным, каждый в своей тетради выполняет тестовые задания самостоятельно, для этого распечатываю несколько вариантов. Считаю необходимым внимательно читать задание любой части теста, выделять ключевые слова в вопросе, понимать, что от вас требуется, пытаться исключить лишний вариант, т.к. из меньшего количества вариантов легче выбрать. Либо решение тестов может быть и групповым, когда возможно и желательно обсуждение вариантов ответа, т.е. решаем с комментариями; группа работает по одному варианту печатному или электронном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атизация теоретического 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презентаций п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ам вопросов кодифик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 и сводных таблиц по различным тем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работка навыков решения различных зада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тренировочных тестов ОГЭ, ЕГЭ как в печатном, так и электронном вариа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тических тес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й различных ти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4874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ервой консультации знакомимся с Кодификатором и Специфика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план зан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ю пособия по подготовке к ГИА, называю ссылки на полезные сай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Й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450720" y="1011240"/>
            <a:ext cx="82425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pi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занимается разработкой заданий для ЕГЭ. Сайт пригодится каждому выпускнику, чтобы найти и скачать демоверсии, спецификации и кодификаторы по выбранным предметам и получить всю актуальную информацию об экзаменах. Обычно отсюда берут задания остальные сайты для подготовки к ЕГЭ и ОГЭ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-версии тестов выкладывает государственный «Федеральный институт педагогических измерений» (ФИПИ). На сайте ФИПИ также можно читать важные новости о предстоящих экзамен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портал 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edu.ru/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ртале представлена вся официальная информация об экзаменах. Расписание, подача апелляций, демонстрационные задания, результаты экзаменов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sdamgia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можно не только решать тесты, но и задавать вопросы, на которые регулярно отвечают администраторы портала. В разделе «Каталог заданий» собрано большое количество тематических задач: можно выбрать определённую тему и решать десятки типовых заданий, чтобы её отработать или составить свой собственный тест. Каждый месяц на сайте публикуют 15 новых вариантов тестов по каждому предмет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пулярном приложении «Решу ЕГЭ: задания офлайн» представлены почти все предметы ЕГЭ, приложение беспла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59920"/>
            <a:ext cx="8229600" cy="6481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xford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xford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ами онлайн школы «Фоксфорд» воспользовались уже более миллиона школьников и большинство из них получили неплохие результаты по ЕГ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м предлагается пройти обучение по программам от 3 до 11 класса, они могут всесторонне подготовиться к сдаче ЕГЭ, ОГЭ, ГИА, а их родители – посетить занятия и узнать о развитии дет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компания проводит свою олимпиаду, организует образовательные лагеря, где дети могут удобно совмещать развлечения и обуч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оксфорд есть школа на дому с персональными учителями. В отличие от обычного экстерната в Фоксфорде с ребенком будут работать преподаватели из известных ВУЗов России, а также члены жюри олимпиад и эксперты ЕГЭ/ОГЭ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dom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doma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можно не только подготовиться к ЕГЭ онлайн, но и восполнить пробелы в школьных знаниях начиная с 6 класса, включая расширенный, «олимпиадный» вариан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ы по подготовке к ЕГЭ отличаются продуманной структурой и тщательностью, которая поможет уложить все знания в стройную систему и хорошо натренирова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декс.ЕГ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e.yandex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висе Яндекса представлена большая база тестов ЕГЭ и ОГЭ. На сайте можно пройти тестирование, сделать задания по определенным темам разных уровней сложности, а также ознакомиться с тщательным разбором заданий ЕГЭ по основным школьным предметам – от математики до русского языка. Кроме самих тестов, на сайте есть раздел с видеолекциями (вебинарами) по каждому предмету с разборами заданий от опытных преподавате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79280" y="-1735920"/>
            <a:ext cx="896472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онсультациях  даю лекции по всем блокам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кция сопровождается показом презен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конкретному бл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лектронном ресурсе материал представлен систематизировано – опорные схемы, таблицы, по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и записывают материал, либо скачивают на фле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800" y="-50472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2" descr=""/>
          <p:cNvPicPr/>
          <p:nvPr/>
        </p:nvPicPr>
        <p:blipFill>
          <a:blip r:embed="rId2"/>
          <a:stretch/>
        </p:blipFill>
        <p:spPr>
          <a:xfrm>
            <a:off x="208080" y="13525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971640" y="-675000"/>
            <a:ext cx="81723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ботка основных понятий бл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этого составлены тематические таблицы основных  пон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материал ребята скачивают на флешку и учат, прежде всего, поня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060640"/>
          <a:ext cx="9144000" cy="4919760"/>
        </p:xfrm>
        <a:graphic>
          <a:graphicData uri="http://schemas.openxmlformats.org/drawingml/2006/table">
            <a:tbl>
              <a:tblPr/>
              <a:tblGrid>
                <a:gridCol w="1235160"/>
                <a:gridCol w="2057400"/>
                <a:gridCol w="2579760"/>
                <a:gridCol w="3271680"/>
              </a:tblGrid>
              <a:tr h="309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я по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предложения с информацией о пон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58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.  Об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 (в широком смысл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обособившаяся от природы, но тесно с ней связанная часть материального мира, которая включает в себя способы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аимодействия  и формы объединения люд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Общество обособляется от природы в результате материальной и духовной деятельности человека, т.к. эта деятельность создает особый мир – мир культуры, мир всего того, что не существует в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Всесторонняя зависимость людей друг от друга образует общество как их особую форму жизне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 (в узком смысл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 людей, объединенных общностью цели, интересов, происхождения (например, дворянское общество, общество нумизма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ьное конкретное общество (например, современное российское обще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ческий этап в развитии человечества (например, феодальное обще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Рассматривая общество в узком смысле, используют конкретно-исторический уров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Общество в узком смысле можно рассматривать как определённый тип социальной системы (например, индустриальное общество); определённую форму социальных отнош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II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Администратор\Рабочий стол\5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2" descr=""/>
          <p:cNvPicPr/>
          <p:nvPr/>
        </p:nvPicPr>
        <p:blipFill>
          <a:blip r:embed="rId2"/>
          <a:stretch/>
        </p:blipFill>
        <p:spPr>
          <a:xfrm>
            <a:off x="208080" y="61596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50920" y="2358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IV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17002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 решения  различных 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ятки  «Как работать с текстом», «Методика составления сложного плана»; презентации-тренажёры для отработки  навыков  решения конкретных зад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7:29:39Z</dcterms:created>
  <dc:creator>МАОУ СОШ №3</dc:creator>
  <dc:description/>
  <dc:language>en-US</dc:language>
  <cp:lastModifiedBy>1</cp:lastModifiedBy>
  <dcterms:modified xsi:type="dcterms:W3CDTF">2022-01-11T11:22:24Z</dcterms:modified>
  <cp:revision>63</cp:revision>
  <dc:subject/>
  <dc:title>Система работы учителя истории и обществознания по подготовке учащихся к государственной итоговой аттестации в форме ЕГЭ</dc:title>
</cp:coreProperties>
</file>