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E46-29E6-4BD7-A013-39A0F652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29D-6F38-4E7A-9A2D-AC901246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113-747D-44F0-9B4C-38C371AD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44C-AA74-4E04-97CA-B0355DA4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FE0-43D6-493C-9086-47A3C1F1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C12-B23B-426F-B32A-36B0669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C94-5EB5-412E-836A-861064E0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D44-4856-4B0D-B0E3-E5CF8460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123-ED42-42D8-B563-D2F8E2B5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D2E-18A4-4665-895D-60431E8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EB4-C70B-402B-87A8-2A5F7475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BCC-E28C-4B82-86E0-90444130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A137-1B70-4B8C-AAD7-73E6F1688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1403280" y="2637000"/>
            <a:ext cx="7561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2b29"/>
                </a:solidFill>
                <a:latin typeface="Times New Roman"/>
                <a:ea typeface="Times New Roman"/>
              </a:rPr>
              <a:t>Пути повышения качества подготовки обучающихся к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2b29"/>
                </a:solidFill>
                <a:latin typeface="Arial"/>
              </a:rPr>
              <a:t>Гилязова Ильнара Саги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2" descr=""/>
          <p:cNvPicPr/>
          <p:nvPr/>
        </p:nvPicPr>
        <p:blipFill>
          <a:blip r:embed="rId2"/>
          <a:stretch/>
        </p:blipFill>
        <p:spPr>
          <a:xfrm>
            <a:off x="208080" y="61596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250920" y="2358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-3743640"/>
            <a:ext cx="19621440" cy="79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реше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тических тес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включают в себя все формы заданий, содержащиеся в структуре КИМа, но ориентированные на конкретный блок вопросов. На этом этапе использую различные  тестовые пособия, презентации-тренажёры, составляю тренировочные  тематические тесты сама. Перед решением теста обязательно повторяем теорию темы, просматривая презентацию по данному блоку вопро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VI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ет решение демонстрационных и тренировочных тестов, идёт отработка навыков решения тестов экзамена. Решение тестов может быть индивидуальным, каждый в своей тетради выполняет тестовые задания самостоятельно, для этого распечатываю несколько вариантов. Считаю необходимым внимательно читать задание любой части теста, выделять ключевые слова в вопросе, понимать, что от вас требуется, пытаться исключить лишний вариант, т.к. из меньшего количества вариантов легче выбрать. Либо решение тестов может быть и групповым, когда возможно и желательно обсуждение вариантов ответа, т.е. решаем с комментариями; группа работает по одному варианту печатному или электронном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стематизация теоретического матери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презентаций п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ам вопросов кодифик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хем и сводных таблиц по различным тем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работка навыков решения различных зада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тренировочных тестов ОГЭ, ЕГЭ как в печатном, так и электронном вариа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тических тес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й различных тип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КИ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208080" y="13525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4874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ервой консультации знакомимся с Кодификатором и Специфика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агаю план за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ую пособия по подготовке к ГИА, называю ссылки на полезные сай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I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Й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450720" y="1011240"/>
            <a:ext cx="824256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П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pi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ПИ занимается разработкой заданий для ЕГЭ. Сайт пригодится каждому выпускнику, чтобы найти и скачать демоверсии, спецификации и кодификаторы по выбранным предметам и получить всю актуальную информацию об экзаменах. Обычно отсюда берут задания остальные сайты для подготовки к ЕГЭ и ОГЭ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-версии тестов выкладывает государственный «Федеральный институт педагогических измерений» (ФИПИ). На сайте ФИПИ также можно читать важные новости о предстоящих экзамен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портал ЕГ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ge.edu.ru/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ртале представлена вся официальная информация об экзаменах. Расписание, подача апелляций, демонстрационные задания, результаты экзаменов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у ЕГ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ge.sdamgia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можно не только решать тесты, но и задавать вопросы, на которые регулярно отвечают администраторы портала. В разделе «Каталог заданий» собрано большое количество тематических задач: можно выбрать определённую тему и решать десятки типовых заданий, чтобы её отработать или составить свой собственный тест. Каждый месяц на сайте публикуют 15 новых вариантов тестов по каждому предмет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пулярном приложении «Решу ЕГЭ: задания офлайн» представлены почти все предметы ЕГЭ, приложение бесплат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59920"/>
            <a:ext cx="8229600" cy="6481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xford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xford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ами онлайн школы «Фоксфорд» воспользовались уже более миллиона школьников и большинство из них получили неплохие результаты по ЕГ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м предлагается пройти обучение по программам от 3 до 11 класса, они могут всесторонне подготовиться к сдаче ЕГЭ, ОГЭ, ГИА, а их родители – посетить занятия и узнать о развитии дет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компания проводит свою олимпиаду, организует образовательные лагеря, где дети могут удобно совмещать развлечения и обуч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оксфорд есть школа на дому с персональными учителями. В отличие от обычного экстерната в Фоксфорде с ребенком будут работать преподаватели из известных ВУЗов России, а также члены жюри олимпиад и эксперты ЕГЭ/ОГЭ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doma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doma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можно не только подготовиться к ЕГЭ онлайн, но и восполнить пробелы в школьных знаниях начиная с 6 класса, включая расширенный, «олимпиадный» вариан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ы по подготовке к ЕГЭ отличаются продуманной структурой и тщательностью, которая поможет уложить все знания в стройную систему и хорошо натренировать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декс.ЕГ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ge.yandex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рвисе Яндекса представлена большая база тестов ЕГЭ и ОГЭ. На сайте можно пройти тестирование, сделать задания по определенным темам разных уровней сложности, а также ознакомиться с тщательным разбором заданий ЕГЭ по основным школьным предметам – от математики до русского языка. Кроме самих тестов, на сайте есть раздел с видеолекциями (вебинарами) по каждому предмету с разборами заданий от опытных преподава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208080" y="13525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250920" y="2358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79280" y="-1735920"/>
            <a:ext cx="896472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онсультациях  даю лекции по всем блокам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кция сопровождается показом презен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конкретному бл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электронном ресурсе материал представлен систематизировано – опорные схемы, таблицы, пон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и записывают материал, либо скачивают на фле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800" y="-504720"/>
            <a:ext cx="1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II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2" descr=""/>
          <p:cNvPicPr/>
          <p:nvPr/>
        </p:nvPicPr>
        <p:blipFill>
          <a:blip r:embed="rId2"/>
          <a:stretch/>
        </p:blipFill>
        <p:spPr>
          <a:xfrm>
            <a:off x="208080" y="13525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250920" y="2358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971640" y="-675000"/>
            <a:ext cx="817236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аботка основных понятий бл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этого составлены тематические таблицы основных  поня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материал ребята скачивают на флешку и учат, прежде всего, поня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060640"/>
          <a:ext cx="9144000" cy="4919760"/>
        </p:xfrm>
        <a:graphic>
          <a:graphicData uri="http://schemas.openxmlformats.org/drawingml/2006/table">
            <a:tbl>
              <a:tblPr/>
              <a:tblGrid>
                <a:gridCol w="1235160"/>
                <a:gridCol w="2057400"/>
                <a:gridCol w="2579760"/>
                <a:gridCol w="3271680"/>
              </a:tblGrid>
              <a:tr h="309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по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я по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а предложения с информацией о понят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58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.  Об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 (в широком смысл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обособившаяся от природы, но тесно с ней связанная часть материального мира, которая включает в себя способы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заимодействия  и формы объединения люд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 Общество обособляется от природы в результате материальной и духовной деятельности человека, т.к. эта деятельность создает особый мир – мир культуры, мир всего того, что не существует в приро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 Всесторонняя зависимость людей друг от друга образует общество как их особую форму жизне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36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 (в узком смысл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 людей, объединенных общностью цели, интересов, происхождения (например, дворянское общество, общество нумизма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ьное конкретное общество (например, современное российское обще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ческий этап в развитии человечества (например, феодальное обще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 Рассматривая общество в узком смысле, используют конкретно-исторический уров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 Общество в узком смысле можно рассматривать как определённый тип социальной системы (например, индустриальное общество); определённую форму социальных отнош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III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2" descr=""/>
          <p:cNvPicPr/>
          <p:nvPr/>
        </p:nvPicPr>
        <p:blipFill>
          <a:blip r:embed="rId2"/>
          <a:stretch/>
        </p:blipFill>
        <p:spPr>
          <a:xfrm>
            <a:off x="208080" y="61596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250920" y="2358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IV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17002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 решения  различных 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мятки  «Как работать с текстом», «Методика составления сложного плана»; презентации-тренажёры для отработки  навыков  решения конкретных зад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7:29:39Z</dcterms:created>
  <dc:creator>МАОУ СОШ №3</dc:creator>
  <dc:description/>
  <dc:language>en-US</dc:language>
  <cp:lastModifiedBy>1</cp:lastModifiedBy>
  <dcterms:modified xsi:type="dcterms:W3CDTF">2022-01-11T11:22:24Z</dcterms:modified>
  <cp:revision>63</cp:revision>
  <dc:subject/>
  <dc:title>Система работы учителя истории и обществознания по подготовке учащихся к государственной итоговой аттестации в форме ЕГЭ</dc:title>
</cp:coreProperties>
</file>