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gif" ContentType="image/gif"/>
  <Override PartName="/ppt/media/image26.gif" ContentType="image/gif"/>
  <Override PartName="/ppt/media/image24.jpeg" ContentType="image/jpeg"/>
  <Override PartName="/ppt/media/image22.png" ContentType="image/png"/>
  <Override PartName="/ppt/media/image11.png" ContentType="image/png"/>
  <Override PartName="/ppt/media/image10.png" ContentType="image/png"/>
  <Override PartName="/ppt/media/image19.jpeg" ContentType="image/jpeg"/>
  <Override PartName="/ppt/media/image32.gif" ContentType="image/gif"/>
  <Override PartName="/ppt/media/image5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30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1.gif" ContentType="image/gif"/>
  <Override PartName="/ppt/media/image9.png" ContentType="image/png"/>
  <Override PartName="/ppt/media/image33.gif" ContentType="image/gif"/>
  <Override PartName="/ppt/media/image34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D78A-076B-4C2C-A524-04EC05A1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6152-EB29-4127-9714-08A2E7C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3825-EA49-4765-863E-A254B4A4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934D-B186-4E71-9B03-7C1560E5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672B-42DA-42A4-95C5-CE4CF8D3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4D55-6C0C-4317-B3B2-111E3FB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D93-5F71-47AC-9B2E-6EC8BB9D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5CE4-F1DE-46C6-AC6B-A0658411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A585-DFCF-4C15-957A-B138DE3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E9B1-131F-458D-8371-32B0AC8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4135-EE07-4263-946B-B099A79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90F2-E576-4D73-B63A-3ED4B15A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D520-25E9-4A98-892F-8BA77E0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A77-8EFB-4BBC-B0CF-B425786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75A-6207-46CE-8292-2D6E552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B923-709C-494D-A24A-3F3749F9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D7C-FD13-43E1-B54A-BBFE1622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4CA1-0E8A-4E6F-8B45-716E491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3A93-5ED4-49F0-B06D-01BBC525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F1CE-8E4E-4532-B4D0-E520C6E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557B-C0EA-40F1-9918-BBC2133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5E6B-EE54-4FE6-ADC3-1EB7B04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0628-AD48-4C0D-89F4-0086772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0EA7-36F1-4A37-8643-A8E24AB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902-B001-4D99-AFED-12B0948DAE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D3E-C76E-4096-B14B-560826F015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7;&#1083;&#1103;%20&#1074;&#1086;&#1076;&#1099;&amp;img_url=i1.i.ua%2Fprikol%2Fpic%2F9%2F5%2F742459_852912.jpg&amp;pos=33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3&amp;text=&#1074;&#1086;&#1076;&#1103;&#1085;&#1086;&#1081;%20&#1087;&#1072;&#1088;&amp;img_url=www.id4.ru%2Fidea%2Fpic%2Fzemlya%2F90%2Fobrazovanie-oblakov.jpg&amp;pos=115&amp;rpt=simage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90;&#1072;&#1102;&#1097;&#1072;&#1103;%20&#1089;&#1074;&#1077;&#1095;&#1072;&amp;img_url=static.diary.ru%2Fuserdir%2F5%2F6%2F9%2F7%2F569792%2F71876812.jpg&amp;pos=123&amp;rpt=simage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images.yandex.ru/yandsearch?text=&#1075;&#1077;&#1086;&#1084;&#1077;&#1090;&#1088;&#1080;&#1095;&#1077;&#1089;&#1082;&#1080;&#1077;%20&#1092;&#1080;&#1075;&#1091;&#1088;&#1099;&amp;img_url=img0.liveinternet.ru%2Fimages%2Fattach%2Fc%2F3%2F76%2F172%2F76172666_large_sdrcgs.jpg&amp;pos=1&amp;rpt=simage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00" y="547200"/>
            <a:ext cx="51483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к -презентация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ри состояния вещества. Различие в молекулярном строении твердых тел, жидкостей и газов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71280" y="5445000"/>
            <a:ext cx="61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ихтеева Г.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x_e3c8d0fd"/>
          <p:cNvPicPr/>
          <p:nvPr/>
        </p:nvPicPr>
        <p:blipFill>
          <a:blip r:embed="rId2"/>
          <a:stretch/>
        </p:blipFill>
        <p:spPr>
          <a:xfrm>
            <a:off x="4643280" y="4365720"/>
            <a:ext cx="1513080" cy="119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x_e3c8d0fd"/>
          <p:cNvPicPr/>
          <p:nvPr/>
        </p:nvPicPr>
        <p:blipFill>
          <a:blip r:embed="rId3"/>
          <a:stretch/>
        </p:blipFill>
        <p:spPr>
          <a:xfrm>
            <a:off x="1692360" y="5516640"/>
            <a:ext cx="1512720" cy="119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x_e3c8d0fd"/>
          <p:cNvPicPr/>
          <p:nvPr/>
        </p:nvPicPr>
        <p:blipFill>
          <a:blip r:embed="rId4"/>
          <a:stretch/>
        </p:blipFill>
        <p:spPr>
          <a:xfrm>
            <a:off x="2916360" y="4365720"/>
            <a:ext cx="1512720" cy="119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1327436963366784361water%20droplet%20image%20png-hi"/>
          <p:cNvPicPr/>
          <p:nvPr/>
        </p:nvPicPr>
        <p:blipFill>
          <a:blip r:embed="rId5"/>
          <a:stretch/>
        </p:blipFill>
        <p:spPr>
          <a:xfrm>
            <a:off x="250920" y="25653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327436963366784361water%20droplet%20image%20png-hi"/>
          <p:cNvPicPr/>
          <p:nvPr/>
        </p:nvPicPr>
        <p:blipFill>
          <a:blip r:embed="rId6"/>
          <a:stretch/>
        </p:blipFill>
        <p:spPr>
          <a:xfrm>
            <a:off x="324000" y="5921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1327436963366784361water%20droplet%20image%20png-hi"/>
          <p:cNvPicPr/>
          <p:nvPr/>
        </p:nvPicPr>
        <p:blipFill>
          <a:blip r:embed="rId7"/>
          <a:stretch/>
        </p:blipFill>
        <p:spPr>
          <a:xfrm>
            <a:off x="755640" y="436572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5111640" cy="34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войства твердых, жидких и газообразных тел зависят 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68360" y="5013360"/>
            <a:ext cx="5040360" cy="172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51280" y="3500280"/>
            <a:ext cx="4175280" cy="1514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64000" y="1773360"/>
            <a:ext cx="363564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64000" y="1989000"/>
            <a:ext cx="3780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780000" y="3716280"/>
            <a:ext cx="432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11280" y="5229360"/>
            <a:ext cx="47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газ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483920"/>
            <a:ext cx="478800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газа, двигаясь во всех направлениях, почти не притягиваются друг к другу и быстро заполняют весь сосуд, поэтому газ не имеет собственной формы и постоянного объема. Газ легко с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ranslational_motion"/>
          <p:cNvPicPr/>
          <p:nvPr/>
        </p:nvPicPr>
        <p:blipFill>
          <a:blip r:embed="rId1"/>
          <a:stretch/>
        </p:blipFill>
        <p:spPr>
          <a:xfrm>
            <a:off x="5148360" y="1557360"/>
            <a:ext cx="334944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dia"/>
          <p:cNvPicPr/>
          <p:nvPr/>
        </p:nvPicPr>
        <p:blipFill>
          <a:blip r:embed="rId2"/>
          <a:stretch/>
        </p:blipFill>
        <p:spPr>
          <a:xfrm>
            <a:off x="5435640" y="4338720"/>
            <a:ext cx="28083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456840"/>
            <a:ext cx="8642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жидк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Анимации, анимашки Вода"/>
          <p:cNvPicPr/>
          <p:nvPr/>
        </p:nvPicPr>
        <p:blipFill>
          <a:blip r:embed="rId1"/>
          <a:stretch/>
        </p:blipFill>
        <p:spPr>
          <a:xfrm>
            <a:off x="5580000" y="1557360"/>
            <a:ext cx="3313080" cy="4967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395280" y="1484280"/>
            <a:ext cx="47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жидкости расположены близко друг к другу, притяжение между ними не так велико и они могут скачками менять свое положение, поэтому жидкость сохраняет свой объем и принимает форму сосуда. Жидкости текучи;  их трудно с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твердого те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844640"/>
            <a:ext cx="435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в твердых телах притягиваются друг к другу еще больше, чем в жидкостях, совершая колебания около определенной точки, поэтому твердые тела сохраняют не только объем, но и форм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?id=90826050-64-72&amp;n=17"/>
          <p:cNvPicPr/>
          <p:nvPr/>
        </p:nvPicPr>
        <p:blipFill>
          <a:blip r:embed="rId1"/>
          <a:stretch/>
        </p:blipFill>
        <p:spPr>
          <a:xfrm>
            <a:off x="5940360" y="458136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krreshco"/>
          <p:cNvPicPr/>
          <p:nvPr/>
        </p:nvPicPr>
        <p:blipFill>
          <a:blip r:embed="rId2"/>
          <a:stretch/>
        </p:blipFill>
        <p:spPr>
          <a:xfrm>
            <a:off x="4284720" y="2349360"/>
            <a:ext cx="2952720" cy="2233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5219640" y="1557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0" y="1268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ические реш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маза     и   хлорида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64000" y="1916280"/>
            <a:ext cx="216000" cy="502920"/>
          </a:xfrm>
          <a:prstGeom prst="downArrow">
            <a:avLst>
              <a:gd name="adj1" fmla="val 50000"/>
              <a:gd name="adj2" fmla="val 581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51640" y="1916280"/>
            <a:ext cx="216000" cy="2447640"/>
          </a:xfrm>
          <a:prstGeom prst="downArrow">
            <a:avLst>
              <a:gd name="adj1" fmla="val 50000"/>
              <a:gd name="adj2" fmla="val 2831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Organization Chart 2"/>
          <p:cNvGrpSpPr/>
          <p:nvPr/>
        </p:nvGrpSpPr>
        <p:grpSpPr>
          <a:xfrm>
            <a:off x="0" y="620640"/>
            <a:ext cx="9143640" cy="3815280"/>
            <a:chOff x="0" y="620640"/>
            <a:chExt cx="9143640" cy="3815280"/>
          </a:xfrm>
        </p:grpSpPr>
        <p:sp>
          <p:nvSpPr>
            <p:cNvPr id="173" name="AutoShape 3"/>
            <p:cNvSpPr/>
            <p:nvPr/>
          </p:nvSpPr>
          <p:spPr>
            <a:xfrm>
              <a:off x="0" y="620640"/>
              <a:ext cx="9143640" cy="38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H="1" flipV="1">
              <a:off x="4570920" y="2145960"/>
              <a:ext cx="320076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>
              <a:off x="4564800" y="2135160"/>
              <a:ext cx="324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V="1">
              <a:off x="1370880" y="2145960"/>
              <a:ext cx="320076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6" name="_s1031"/>
            <p:cNvSpPr/>
            <p:nvPr/>
          </p:nvSpPr>
          <p:spPr>
            <a:xfrm>
              <a:off x="3200040" y="62064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>
              <a:off x="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3"/>
            <p:cNvSpPr/>
            <p:nvPr/>
          </p:nvSpPr>
          <p:spPr>
            <a:xfrm>
              <a:off x="320004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4"/>
            <p:cNvSpPr/>
            <p:nvPr/>
          </p:nvSpPr>
          <p:spPr>
            <a:xfrm>
              <a:off x="640044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1"/>
          <p:cNvSpPr/>
          <p:nvPr/>
        </p:nvSpPr>
        <p:spPr>
          <a:xfrm>
            <a:off x="2987640" y="47628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положение,  особенности движения молекул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08000" y="321300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з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203640" y="2781360"/>
            <a:ext cx="273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ид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443640" y="3213000"/>
            <a:ext cx="27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ёр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" descr="жидкость"/>
          <p:cNvPicPr/>
          <p:nvPr/>
        </p:nvPicPr>
        <p:blipFill>
          <a:blip r:embed="rId1"/>
          <a:stretch/>
        </p:blipFill>
        <p:spPr>
          <a:xfrm>
            <a:off x="3708360" y="4869000"/>
            <a:ext cx="1800360" cy="1366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газ"/>
          <p:cNvPicPr/>
          <p:nvPr/>
        </p:nvPicPr>
        <p:blipFill>
          <a:blip r:embed="rId2"/>
          <a:stretch/>
        </p:blipFill>
        <p:spPr>
          <a:xfrm>
            <a:off x="468360" y="494172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твердое тело"/>
          <p:cNvPicPr/>
          <p:nvPr/>
        </p:nvPicPr>
        <p:blipFill>
          <a:blip r:embed="rId3"/>
          <a:stretch/>
        </p:blipFill>
        <p:spPr>
          <a:xfrm>
            <a:off x="7020000" y="4869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09680" y="1844640"/>
          <a:ext cx="8713800" cy="4653000"/>
        </p:xfrm>
        <a:graphic>
          <a:graphicData uri="http://schemas.openxmlformats.org/drawingml/2006/table">
            <a:tbl>
              <a:tblPr/>
              <a:tblGrid>
                <a:gridCol w="2017800"/>
                <a:gridCol w="1727280"/>
                <a:gridCol w="2736720"/>
                <a:gridCol w="22320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стоя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ые свой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стояния между молекулами и характер их взаимо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положение молек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азооб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верд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208720" cy="32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Домашнее задание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Aparajita"/>
              </a:rPr>
              <a:t>§</a:t>
            </a: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11,12</a:t>
            </a: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Задание </a:t>
            </a:r>
            <a:r>
              <a:rPr b="1" lang="ru-RU" sz="4000" spc="-1" strike="noStrike">
                <a:solidFill>
                  <a:srgbClr val="0066ff"/>
                </a:solidFill>
                <a:latin typeface="Aparajita"/>
              </a:rPr>
              <a:t>№</a:t>
            </a: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Clown_loop3"/>
          <p:cNvPicPr/>
          <p:nvPr/>
        </p:nvPicPr>
        <p:blipFill>
          <a:blip r:embed="rId1"/>
          <a:stretch/>
        </p:blipFill>
        <p:spPr>
          <a:xfrm>
            <a:off x="0" y="3500280"/>
            <a:ext cx="914400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: объяснить с точки зрения молекулярной теории характерные особенности внутреннего строения веществ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азообразном, жидк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твердом состоя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3284640"/>
            <a:ext cx="8218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6144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 вещества состоят из отдельных мельчайших частиц: молекул и ато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446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оположником идеи дискретного строения вещества (т.е. состоящего из отдельных частиц) считается древнегреческий философ Демокрит, живший  около 470 года до н. э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iez_t26"/>
          <p:cNvPicPr/>
          <p:nvPr/>
        </p:nvPicPr>
        <p:blipFill>
          <a:blip r:embed="rId1"/>
          <a:stretch/>
        </p:blipFill>
        <p:spPr>
          <a:xfrm>
            <a:off x="5364000" y="2708280"/>
            <a:ext cx="3305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тиц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спорядочно движутся и взаимодействуют друг с дру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2133360"/>
            <a:ext cx="52196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научную идею эта теория превратилась только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, большой вклад в развитие которой был сделан Михаилом Васильевичем Ломоносов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64000" y="1789200"/>
            <a:ext cx="3600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?id=649336222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645000"/>
            <a:ext cx="3149640" cy="273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i?id=10377374-1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3645000"/>
            <a:ext cx="302400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539640" y="2637000"/>
            <a:ext cx="15112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95280" y="692280"/>
            <a:ext cx="81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 состояния вещества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3203640" y="2708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5435640" y="2637000"/>
            <a:ext cx="349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яной пар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3"/>
          <a:stretch/>
        </p:blipFill>
        <p:spPr>
          <a:xfrm rot="3292200">
            <a:off x="1808280" y="1306440"/>
            <a:ext cx="311040" cy="1441440"/>
          </a:xfrm>
          <a:prstGeom prst="rect">
            <a:avLst/>
          </a:prstGeom>
          <a:ln w="0">
            <a:noFill/>
          </a:ln>
        </p:spPr>
      </p:pic>
      <p:sp>
        <p:nvSpPr>
          <p:cNvPr id="130" name="Стрелка вниз 2"/>
          <p:cNvSpPr/>
          <p:nvPr/>
        </p:nvSpPr>
        <p:spPr>
          <a:xfrm>
            <a:off x="4211640" y="1557360"/>
            <a:ext cx="216000" cy="107964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4"/>
          <a:stretch/>
        </p:blipFill>
        <p:spPr>
          <a:xfrm rot="18741000">
            <a:off x="6716520" y="1420560"/>
            <a:ext cx="288720" cy="127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15"/>
          <a:stretch/>
        </p:blipFill>
        <p:spPr>
          <a:xfrm>
            <a:off x="0" y="3500280"/>
            <a:ext cx="2670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природе каждое вещество может находится в трех состояниях:  твердом, жидком и газообразн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?id=348178635-1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05000"/>
            <a:ext cx="4140000" cy="41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101229072927_12ornament"/>
          <p:cNvPicPr/>
          <p:nvPr/>
        </p:nvPicPr>
        <p:blipFill>
          <a:blip r:embed="rId3"/>
          <a:stretch/>
        </p:blipFill>
        <p:spPr>
          <a:xfrm>
            <a:off x="4716360" y="2205000"/>
            <a:ext cx="4249800" cy="41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8785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6960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ердые тела имеют собственную форму и объ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hermigit"/>
          <p:cNvPicPr/>
          <p:nvPr/>
        </p:nvPicPr>
        <p:blipFill>
          <a:blip r:embed="rId1"/>
          <a:stretch/>
        </p:blipFill>
        <p:spPr>
          <a:xfrm>
            <a:off x="250920" y="4941720"/>
            <a:ext cx="194472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148360" y="2752560"/>
            <a:ext cx="3995640" cy="410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?id=892499810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2060640"/>
            <a:ext cx="3384720" cy="2520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5"/>
          <a:stretch/>
        </p:blipFill>
        <p:spPr>
          <a:xfrm>
            <a:off x="2556000" y="4724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55450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дкости легко меняют свою форму, но сохраняют объ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2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4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44800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1327436963366784361water%20droplet%20image%20png-hi"/>
          <p:cNvPicPr/>
          <p:nvPr/>
        </p:nvPicPr>
        <p:blipFill>
          <a:blip r:embed="rId3"/>
          <a:stretch/>
        </p:blipFill>
        <p:spPr>
          <a:xfrm>
            <a:off x="6084720" y="476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572 L 0.00764 0.62928 E">
                                      <p:cBhvr>
                                        <p:cTn id="112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6049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зы не имеют собственной формы и постоянного объема. Они заполняют полностью всю предоставленную им ем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160360" cy="338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a85e95b69918ac4a1009f05e366c0b6b"/>
          <p:cNvPicPr/>
          <p:nvPr/>
        </p:nvPicPr>
        <p:blipFill>
          <a:blip r:embed="rId2"/>
          <a:stretch/>
        </p:blipFill>
        <p:spPr>
          <a:xfrm>
            <a:off x="3276720" y="3068640"/>
            <a:ext cx="3671640" cy="356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19544168"/>
          <p:cNvPicPr/>
          <p:nvPr/>
        </p:nvPicPr>
        <p:blipFill>
          <a:blip r:embed="rId3"/>
          <a:stretch/>
        </p:blipFill>
        <p:spPr>
          <a:xfrm>
            <a:off x="539640" y="486900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9:51:15Z</dcterms:created>
  <dc:creator>Светлана</dc:creator>
  <dc:description/>
  <dc:language>en-US</dc:language>
  <cp:lastModifiedBy>1</cp:lastModifiedBy>
  <dcterms:modified xsi:type="dcterms:W3CDTF">2023-01-19T10:18:26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B842CBDC15444E9917CECAB8DA0553E</vt:lpwstr>
  </property>
  <property fmtid="{D5CDD505-2E9C-101B-9397-08002B2CF9AE}" pid="3" name="KSOProductBuildVer">
    <vt:lpwstr>1049-11.2.0.11440</vt:lpwstr>
  </property>
</Properties>
</file>