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F0B-2973-4933-8851-0817B6B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5EE-F0F3-4421-B440-9247613D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2D904-7C0A-470F-8D57-157551E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D604C-2655-4393-9991-7198785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FB7E2-7DF9-4993-BDB3-284F6ED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9AFE7-C46E-4CD2-965E-C993A0E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C8D26-E0EB-4080-85A6-2518DDB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85471-9E17-486D-92AF-86D2DC6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80090-F5B3-48B2-9F48-2106A8C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7EFCF-2569-4DCA-9B15-000A899E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9570F-17D5-4672-8CC3-287489CD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77D43-CD71-45DF-99C8-82F6A10E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BE8-DFCA-47B4-BB0F-A8A418E3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82CD5-0802-42DF-9CD0-42B2AF7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56382-EC70-432F-8F36-38DBFEDB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1C333-8966-433A-96A4-B07759EF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A00DD-3195-42FE-82D6-011B1BC4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3E049-C291-4847-B345-1F840F2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48DFD-8978-4691-9CDE-FB2BA1E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8D25A-388C-404E-8AAC-818C7135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C0B35-0207-4E47-899B-470E9EF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C2196-8C29-4810-938B-33488A8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7C140-CF3E-4EE1-B119-3437ED4F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347-7D01-42C6-88E7-75629E5F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9ABD2-7A98-4C6E-929A-836E2D2E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001D6-9719-4EE7-936D-B047E9D4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56F5C-9529-49FF-AD0A-D30A9D78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DE2DE-A15F-4D87-BDD6-D0D7A367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545A0-2B06-468F-8B8B-36D2730F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E723D-80EE-402C-8F33-EE63B937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7A552-151C-4D64-9C2A-8C6D5928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27360-A613-44E8-8DAD-F2A79FC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A116F-F4F9-469E-B316-D1F2A526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A2579-FF93-4C14-B811-339F396F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9769-4245-4246-B281-147C5A2C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DF11C-A7C5-471C-9A0D-3EFE1121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B04A-1C42-415F-9BD9-95699CDF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8AF2-4438-4E48-AF70-6991A8FF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86545-6751-4419-AF95-C7514ADF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6F901-FEA5-4505-A697-311FDCBE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46F64-D756-4CDC-A492-DFFE0BD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F88E4-4248-4CE4-8420-1CDC4AE0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6288F-0884-4791-92EF-AD31A0B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50B25-281F-4F2D-BF57-2F46A8B0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E9AF6-9287-4E6F-A2C9-31518D9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849-67D0-4E1B-BAA2-61142E2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62E9A-3A27-4DE6-9C84-DACDFE02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D7AC1-A038-424E-8AD2-0447738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353BE-4078-4536-BC64-6203706C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BD3A6-232A-4E76-92C3-50357D33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05233-7995-4C7F-AD5D-548C57C3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E8FC0-50C5-4942-8579-1C550E49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AACA6-3E5A-44A8-95E5-387A9D86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8F2FC-A257-42F4-85C4-2670A7FC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2EC9-E963-47AC-A198-BA949535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FABC3-977E-4D72-B513-AEC0F76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ED5D-1BA9-43EE-A625-7A5A80AA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EBC13-7D5C-4003-9049-059D619B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A860D-1337-463F-BA64-F68F997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565E2-267C-4B76-A929-633AF846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2CAC4-BD0F-445F-B8A9-9ACED37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D84FD-D579-46E4-823F-66DB07B5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1C25B-25F6-4931-BE52-A37E98C6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902A8-F0DB-4036-B1FD-126DD3B6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9358-C67B-4E02-8AD1-32997A6A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42AC-C94E-432A-8112-B9EC7E2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E723-11AD-4496-AAB7-678CC07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C78-791F-4B7A-882C-65074C6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3EB-9B60-4A19-90FA-AFD2595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E487-13AF-4EDC-821A-B81E90D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890-36E8-4012-A2A8-D6B7DFF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19BB-DC11-418F-933F-64F9E9D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8E8B-7EEE-45E9-938A-3777B2FC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152E-FBC2-4B16-B828-754725F6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D9BF-8A84-495C-8807-6906165A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1085-7B9A-48F1-8938-122A0FB9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814E-6AC7-48D6-96D3-FE626832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309B-89CE-45CB-945D-78878FD0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C895-C28E-47F8-8B62-AE421E1A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469-91C2-4BE7-9A47-2DEB750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6C53-34F3-41BB-A2D8-8AB0A728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C782-558E-47D3-BA13-51A8CA8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A362-81EA-4917-BAD9-67DE52F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7C14-C2DF-4CB8-AC4A-550B5984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3A81-4DA7-454E-B8C0-868BD01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75FF-E811-460F-9BDF-4D682963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986F-9161-417D-B9D5-831466B4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1C54-ED36-4470-BC0F-A0D063EB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C53B-5A74-4C43-B158-FB85533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70C8-FE8F-4F81-B633-35CFE52A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BAC-D2B1-4F8E-AF80-ACCAAA6D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6850-974A-4F68-9E52-E9DDA74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4E67B-E00C-4E99-823F-7B9F966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B9BC-FCE2-461C-B3B8-7D3AC4BC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B826-4711-4C8C-8B5D-F1F1AAD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A0CE-6515-43AF-8D0C-693A1FA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D0FF-C85B-4B62-9AB7-D2E721D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412D-2700-4675-8B18-8A1F586A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C3B3-DA2C-4576-B2B4-9AD1850E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DC0A-72DA-4E7D-A16D-FC37950D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BF1C-5028-47F5-86D3-2A7CF2F8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B4B-BC41-49E6-A46D-1CE584F9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36A8D-B11A-43CE-92FD-2700974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FB488-193E-43CD-9877-A5F05EE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394A-8572-4157-84A8-FCD3920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2BEB-ECED-4246-B391-02A207FB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61D5-BCCD-4742-B981-985347CB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6D3CE-EEFE-4775-BE42-F5EEB45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34310-70C5-4B52-9165-B729E959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185B-970C-43A8-88C3-C671D0C1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CA63-7AB7-47DB-BCCD-3F64210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086F-38A9-454D-97D7-E1A1A758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CDD-CC1E-4FE7-8F11-B5E2E4DB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04145-D2F7-4958-9A76-515F0FA2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A5233-D7B6-47BA-A7DF-A855F49D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9D5D-8418-46C0-BBF4-3A2E66A1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E4F2-30BB-4769-8AAE-5063862A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6879-7096-4DB8-8A1E-63C66171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EDFF-7DC3-4C4D-B575-0D25BF2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ECAF-AFC8-4429-B23D-048081F5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E8D26-7B3F-40AB-BBF0-11EBF6E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CFEA-1E10-4759-8299-18587FA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7DC3-05C5-4EDE-A2AE-7A13D46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6F4-E4F1-46CC-A868-13EADB3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1DAE-8E23-4B0C-8DD2-ED758CE8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6462-612F-43DC-B6C6-C42FB525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388E-1AD1-4C60-8E53-31A64E75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894B5-0FF9-47BD-8360-574EF2BC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1E12F-470D-477C-BF6C-B97E60C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D3206-5ED1-483B-97D3-1CED14EB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EB52-B041-4C9A-A6D5-E2A4630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489A-19C2-4582-9B0F-4D4C829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2322-EC51-49A6-964B-BA216D7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C4299-8118-4F5D-9C1C-FDEE517C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56A-82EB-44E9-8850-EBEB4A8D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8827-7089-496C-B4D3-2DAEE6C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2095D-71CB-4EEB-B0DF-73669FA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0EBE-0DFD-4D96-9505-B34A441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D0C7A-B954-463D-A23D-EC1ED713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D41B5-EA06-480D-B25A-B2E5749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5E1DE-1F0F-478C-A629-5A94493B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97BA3-7632-41ED-9CAE-235CD7B6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AFEE-F9C3-4CC8-9F40-C53B7799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A3054-92F0-4748-A0EC-F560D8A9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95AED-58FA-43A2-99E6-44336B6C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5BC-98B2-4CA6-BAFA-09890A0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8D47-9615-484A-8580-95362E8D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2ABB5-B688-4E1B-B9A3-13949CB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84C42-ABA7-4DE4-B2DE-B9CFF60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8C6CF-9C40-4E57-8575-25F6B89A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F019-A226-4AD2-BFD1-FC9EFBA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E4544-BFB5-4EB4-9717-6E73540F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48544-0FC4-4C07-9EED-8211DB38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2693B-83C4-4244-AEB4-A85A0FEF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45DFC-64ED-4799-B575-F53605F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2465A-F9EF-4A16-A2D5-88A6337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9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CB6D-BC75-4B1E-9452-8B12DAAF36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52280" y="533520"/>
            <a:ext cx="8832960" cy="360"/>
            <a:chOff x="152280" y="533520"/>
            <a:chExt cx="8832960" cy="360"/>
          </a:xfrm>
        </p:grpSpPr>
        <p:sp>
          <p:nvSpPr>
            <p:cNvPr id="475" name="Прямая соединительная линия 15"/>
            <p:cNvSpPr/>
            <p:nvPr/>
          </p:nvSpPr>
          <p:spPr>
            <a:xfrm>
              <a:off x="152280" y="53352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52280" y="53352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41AF-1F80-4F34-82C3-4C6B8C2FF3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535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A7A-B99F-4B23-BB39-D166F1CBA02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143480" y="155520"/>
            <a:ext cx="360" cy="6245280"/>
            <a:chOff x="7143480" y="155520"/>
            <a:chExt cx="360" cy="6245280"/>
          </a:xfrm>
        </p:grpSpPr>
        <p:sp>
          <p:nvSpPr>
            <p:cNvPr id="587" name="Прямая соединительная линия 21"/>
            <p:cNvSpPr/>
            <p:nvPr/>
          </p:nvSpPr>
          <p:spPr>
            <a:xfrm>
              <a:off x="7143840" y="155520"/>
              <a:ext cx="0" cy="624528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 rot="5400000">
              <a:off x="4020840" y="3277800"/>
              <a:ext cx="624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942C-8D0D-46D9-AC8D-BD3061A99A2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639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9D0-0B66-4CF1-9DD0-8863F450284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5520" y="2419200"/>
            <a:ext cx="8832960" cy="360"/>
            <a:chOff x="155520" y="2419200"/>
            <a:chExt cx="8832960" cy="360"/>
          </a:xfrm>
        </p:grpSpPr>
        <p:sp>
          <p:nvSpPr>
            <p:cNvPr id="58" name="Прямая соединительная линия 20"/>
            <p:cNvSpPr/>
            <p:nvPr/>
          </p:nvSpPr>
          <p:spPr>
            <a:xfrm>
              <a:off x="155520" y="241920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55520" y="2419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A257-8C53-4F97-957F-7DF99F8D930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111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D10-A956-48FE-AB1C-D533368AE3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2280" y="2438280"/>
            <a:ext cx="8832960" cy="360"/>
            <a:chOff x="152280" y="2438280"/>
            <a:chExt cx="8832960" cy="360"/>
          </a:xfrm>
        </p:grpSpPr>
        <p:sp>
          <p:nvSpPr>
            <p:cNvPr id="165" name="Прямая соединительная линия 24"/>
            <p:cNvSpPr/>
            <p:nvPr/>
          </p:nvSpPr>
          <p:spPr>
            <a:xfrm>
              <a:off x="152280" y="243828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2280" y="243828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827F-8ED9-4EE5-9290-EE5DA6F90D0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217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62640" y="1576080"/>
            <a:ext cx="9360" cy="4817880"/>
            <a:chOff x="4562640" y="1576080"/>
            <a:chExt cx="9360" cy="4817880"/>
          </a:xfrm>
        </p:grpSpPr>
        <p:sp>
          <p:nvSpPr>
            <p:cNvPr id="222" name="Прямая соединительная линия 19"/>
            <p:cNvSpPr/>
            <p:nvPr/>
          </p:nvSpPr>
          <p:spPr>
            <a:xfrm flipV="1">
              <a:off x="4562640" y="1576080"/>
              <a:ext cx="9360" cy="4817880"/>
            </a:xfrm>
            <a:prstGeom prst="line">
              <a:avLst/>
            </a:prstGeom>
            <a:ln w="9360">
              <a:solidFill>
                <a:srgbClr val="646b8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4562640" y="1576080"/>
              <a:ext cx="9360" cy="481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2CFD-E488-437D-8364-457CE71B3AC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4571640" y="2199960"/>
            <a:ext cx="360" cy="4187880"/>
            <a:chOff x="4571640" y="2199960"/>
            <a:chExt cx="360" cy="4187880"/>
          </a:xfrm>
        </p:grpSpPr>
        <p:sp>
          <p:nvSpPr>
            <p:cNvPr id="266" name="Прямая соединительная линия 19"/>
            <p:cNvSpPr/>
            <p:nvPr/>
          </p:nvSpPr>
          <p:spPr>
            <a:xfrm flipV="1">
              <a:off x="4572000" y="2199960"/>
              <a:ext cx="0" cy="4187880"/>
            </a:xfrm>
            <a:prstGeom prst="line">
              <a:avLst/>
            </a:prstGeom>
            <a:ln w="9360">
              <a:solidFill>
                <a:srgbClr val="646b8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10800000">
              <a:off x="4571640" y="2199960"/>
              <a:ext cx="360" cy="418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52280" y="1279440"/>
            <a:ext cx="8832960" cy="360"/>
            <a:chOff x="152280" y="1279440"/>
            <a:chExt cx="8832960" cy="360"/>
          </a:xfrm>
        </p:grpSpPr>
        <p:sp>
          <p:nvSpPr>
            <p:cNvPr id="275" name="Прямая соединительная линия 23"/>
            <p:cNvSpPr/>
            <p:nvPr/>
          </p:nvSpPr>
          <p:spPr>
            <a:xfrm>
              <a:off x="152280" y="127944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52280" y="127944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2E0B-0744-404A-80CC-79FDE0FC63E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280" y="1276200"/>
            <a:ext cx="8832960" cy="360"/>
            <a:chOff x="152280" y="1276200"/>
            <a:chExt cx="8832960" cy="360"/>
          </a:xfrm>
        </p:grpSpPr>
        <p:sp>
          <p:nvSpPr>
            <p:cNvPr id="328" name="Прямая соединительная линия 9"/>
            <p:cNvSpPr/>
            <p:nvPr/>
          </p:nvSpPr>
          <p:spPr>
            <a:xfrm>
              <a:off x="152280" y="1276200"/>
              <a:ext cx="8832960" cy="0"/>
            </a:xfrm>
            <a:prstGeom prst="line">
              <a:avLst/>
            </a:prstGeom>
            <a:ln w="936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52280" y="127620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FF9-7750-4B8A-9A8F-67D1749182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C6B1-392F-4B17-973E-94621710EF6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52280" y="533520"/>
            <a:ext cx="8832960" cy="360"/>
            <a:chOff x="152280" y="533520"/>
            <a:chExt cx="8832960" cy="360"/>
          </a:xfrm>
        </p:grpSpPr>
        <p:sp>
          <p:nvSpPr>
            <p:cNvPr id="428" name="Прямая соединительная линия 23"/>
            <p:cNvSpPr/>
            <p:nvPr/>
          </p:nvSpPr>
          <p:spPr>
            <a:xfrm>
              <a:off x="152280" y="533520"/>
              <a:ext cx="8832960" cy="0"/>
            </a:xfrm>
            <a:prstGeom prst="line">
              <a:avLst/>
            </a:prstGeom>
            <a:ln w="11520">
              <a:solidFill>
                <a:srgbClr val="7b989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152280" y="533520"/>
              <a:ext cx="8832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0655-6CDA-4936-A2CE-76089D431C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bilmusic.ru/file.php?id=10154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molodguard.narod.ru/monument88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21&amp;part=1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52&amp;part=5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trip-guide.ru/Spb/index.php?town=Spb&amp;page=a51&amp;part=4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pl-mugestva.ucoz.ru/photo/1-0-2-3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trip-guide.ru/Spb/index.php?town=Spb&amp;page=a18&amp;part=1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molodguard.narod.ru/monument84.jpg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Классный час</a:t>
            </a:r>
            <a:br>
              <a:rPr sz="4200"/>
            </a:br>
            <a:r>
              <a:rPr b="1" lang="ru-RU" sz="4200" spc="-1" strike="noStrike">
                <a:solidFill>
                  <a:srgbClr val="d16349"/>
                </a:solidFill>
                <a:latin typeface="Georgia"/>
              </a:rPr>
              <a:t>«Блокада Ленинграда»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5" name="Picture 7" descr="101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857240"/>
            <a:ext cx="35719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Прямоугольник 3"/>
          <p:cNvSpPr/>
          <p:nvPr/>
        </p:nvSpPr>
        <p:spPr>
          <a:xfrm>
            <a:off x="4357800" y="5572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Рисунок6"/>
          <p:cNvPicPr/>
          <p:nvPr/>
        </p:nvPicPr>
        <p:blipFill>
          <a:blip r:embed="rId1"/>
          <a:stretch/>
        </p:blipFill>
        <p:spPr>
          <a:xfrm>
            <a:off x="990720" y="42876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рога Жизни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928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ля подвоза продовольствия и боеприпасов оставалась единственная коммуникация - по Ладожскому озеру. К началу войны оно было мало освоено и практически не изучено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148360" y="5734080"/>
          <a:ext cx="3668760" cy="39672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 ЖИЗН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4" name="Picture 10" descr="ДОРОГА ЖИЗНИ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427640" y="1434960"/>
            <a:ext cx="4537080" cy="3403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ботники дорожной службы ежедневно измеряли толщину льда на всём озере, но были не в силах ускорить его нарастание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0 ноября толщина льда достигла 180 мм. На лёд вышли конные обозы…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7" descr="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5" descr="image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54328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"</a:t>
            </a:r>
            <a:r>
              <a:rPr b="1" lang="ru-RU" sz="3300" spc="-1" strike="noStrike">
                <a:solidFill>
                  <a:srgbClr val="ffffff"/>
                </a:solidFill>
                <a:latin typeface="Georgia"/>
              </a:rPr>
              <a:t>Дорога жизни"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advTm="6000">
    <p:newsflash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3" descr="''Дорога жизни''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2936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32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- как легенд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к песня, как знамя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 этой дороги не будет конца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на навсегда пролегла через пам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веки прошла через наши серд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толий Молчан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1" name="Picture 3" descr="1487"/>
          <p:cNvPicPr/>
          <p:nvPr/>
        </p:nvPicPr>
        <p:blipFill>
          <a:blip r:embed="rId1"/>
          <a:stretch/>
        </p:blipFill>
        <p:spPr>
          <a:xfrm>
            <a:off x="4932360" y="3643200"/>
            <a:ext cx="367200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395280" y="393372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 13 ноября 1941 года норма выдачи хлеба населению была снижена. Теперь рабочие и инженерно-технические работники получали по 300 граммов хлеба, все остальные - по 150. 20 ноября и этот скудный паёк пришлось урезать. Население стало получать самую низкую норму за всё время блокады - 250 граммов на рабочую карточку и 125 граммов - на все остальные. В Ленинграде начался голод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3" name="Picture 8" descr="БОМБЕЖКА ЛЕНИНГРАДА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1547640" y="260280"/>
            <a:ext cx="5832720" cy="347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9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25 блокадных грам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76328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шумите вокруг - он дыши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 живой еще, он все слышит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из недр его вопли: "Хлеба!"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о седьмого доходят неба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о безжалостна эта твер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глядит из всех окон - смер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1456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-384480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илас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2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 8 сентября 1941 по 27 января 1944 г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42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(прорвана 18 января 1943) — 871 день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3" descr="12bi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2438280"/>
            <a:ext cx="4114800" cy="3705480"/>
          </a:xfrm>
          <a:prstGeom prst="rect">
            <a:avLst/>
          </a:prstGeom>
          <a:ln w="0">
            <a:noFill/>
          </a:ln>
        </p:spPr>
      </p:pic>
    </p:spTree>
  </p:cSld>
  <p:transition advTm="11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pic4"/>
          <p:cNvPicPr/>
          <p:nvPr/>
        </p:nvPicPr>
        <p:blipFill>
          <a:blip r:embed="rId1"/>
          <a:stretch/>
        </p:blipFill>
        <p:spPr>
          <a:xfrm>
            <a:off x="1214280" y="285840"/>
            <a:ext cx="7000920" cy="5857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IMG_4673_500"/>
          <p:cNvPicPr/>
          <p:nvPr/>
        </p:nvPicPr>
        <p:blipFill>
          <a:blip r:embed="rId1"/>
          <a:stretch/>
        </p:blipFill>
        <p:spPr>
          <a:xfrm>
            <a:off x="2286000" y="285840"/>
            <a:ext cx="4700520" cy="5715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5" descr="1941_10"/>
          <p:cNvPicPr/>
          <p:nvPr/>
        </p:nvPicPr>
        <p:blipFill>
          <a:blip r:embed="rId1"/>
          <a:stretch/>
        </p:blipFill>
        <p:spPr>
          <a:xfrm>
            <a:off x="1905120" y="357120"/>
            <a:ext cx="5308560" cy="59295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Город и его борьба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14200" y="1689120"/>
            <a:ext cx="36417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город жил и боролся. Заводы продолжали выпускать военную продукцию. Голодные измученные люди находили в себе силы работать. Мужчины, женщины и подростки стояли у станков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Rectangle 238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39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37" descr="КОЛОННА САУ СУ-122 НАПРАВЛЯЕТСЯ НА ФРОНТ. Фото из архивов Министерства обороны СССР "/>
          <p:cNvPicPr/>
          <p:nvPr/>
        </p:nvPicPr>
        <p:blipFill>
          <a:blip r:embed="rId1"/>
          <a:stretch/>
        </p:blipFill>
        <p:spPr>
          <a:xfrm>
            <a:off x="4284720" y="1214280"/>
            <a:ext cx="4608360" cy="43578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241"/>
          <p:cNvSpPr/>
          <p:nvPr/>
        </p:nvSpPr>
        <p:spPr>
          <a:xfrm>
            <a:off x="1901880" y="2643120"/>
            <a:ext cx="2160360" cy="36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4" descr="Рисунок2а"/>
          <p:cNvPicPr/>
          <p:nvPr/>
        </p:nvPicPr>
        <p:blipFill>
          <a:blip r:embed="rId1"/>
          <a:stretch/>
        </p:blipFill>
        <p:spPr>
          <a:xfrm>
            <a:off x="493560" y="285840"/>
            <a:ext cx="8156880" cy="607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prospekt"/>
          <p:cNvPicPr/>
          <p:nvPr/>
        </p:nvPicPr>
        <p:blipFill>
          <a:blip r:embed="rId1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evakuacia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073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female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1563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«Ленинградская» симфо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 августа 1941 года немцы обещали занять Ленинград. Ровно год спустя в несломленном городе состоялась премьера 7-й симфонии Шостаковича, которую впоследствии назовут "Ленинградской". Зал был полон - очереди за билетами в Большой зал городской филармонии были длиннее, чем в булоч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2" name="Picture 7" descr="blokadaf"/>
          <p:cNvPicPr/>
          <p:nvPr/>
        </p:nvPicPr>
        <p:blipFill>
          <a:blip r:embed="rId1"/>
          <a:stretch/>
        </p:blipFill>
        <p:spPr>
          <a:xfrm>
            <a:off x="4834080" y="1628640"/>
            <a:ext cx="4039920" cy="46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2" descr="shostakovich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0724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Блокада Ленинграда - это неслыханное испытание человека на человечность, достоинство, любовь к близким, сострадание, сердечность. Эти испытания были ежедневными, страшными, потому что голод представить вообще невозможно, не пережив его…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1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Рисунок14"/>
          <p:cNvPicPr/>
          <p:nvPr/>
        </p:nvPicPr>
        <p:blipFill>
          <a:blip r:embed="rId1"/>
          <a:stretch/>
        </p:blipFill>
        <p:spPr>
          <a:xfrm>
            <a:off x="457200" y="214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 момент установки блокады в городе находилось 2 миллиона 544 тысячи человек гражданского населения, в том числе около 400 тысяч детей. Кроме того, в пригородных районах (в кольце блокады) осталось 343 тысячи человек. В сентябре, когда начались систематические бомбардировки, обстрелы и пожары, многие тысячи семей хотели бы выехать, но пути были отрезаны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Рисунок10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5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Маленькая записная книж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8" name="Picture 4" descr="blokadae"/>
          <p:cNvPicPr/>
          <p:nvPr/>
        </p:nvPicPr>
        <p:blipFill>
          <a:blip r:embed="rId1"/>
          <a:stretch/>
        </p:blipFill>
        <p:spPr>
          <a:xfrm>
            <a:off x="2484360" y="1500120"/>
            <a:ext cx="4243320" cy="464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8" descr="Рисунок8"/>
          <p:cNvPicPr/>
          <p:nvPr/>
        </p:nvPicPr>
        <p:blipFill>
          <a:blip r:embed="rId1"/>
          <a:stretch/>
        </p:blipFill>
        <p:spPr>
          <a:xfrm>
            <a:off x="135000" y="260280"/>
            <a:ext cx="2344680" cy="3241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Рисунок9"/>
          <p:cNvPicPr/>
          <p:nvPr/>
        </p:nvPicPr>
        <p:blipFill>
          <a:blip r:embed="rId2"/>
          <a:stretch/>
        </p:blipFill>
        <p:spPr>
          <a:xfrm>
            <a:off x="2484360" y="271440"/>
            <a:ext cx="6659640" cy="32338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" descr="Рисунок8"/>
          <p:cNvPicPr/>
          <p:nvPr/>
        </p:nvPicPr>
        <p:blipFill>
          <a:blip r:embed="rId3"/>
          <a:stretch/>
        </p:blipFill>
        <p:spPr>
          <a:xfrm>
            <a:off x="0" y="3733920"/>
            <a:ext cx="5370480" cy="29350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1" descr="Рисунок9"/>
          <p:cNvPicPr/>
          <p:nvPr/>
        </p:nvPicPr>
        <p:blipFill>
          <a:blip r:embed="rId4"/>
          <a:stretch/>
        </p:blipFill>
        <p:spPr>
          <a:xfrm>
            <a:off x="5334120" y="3733920"/>
            <a:ext cx="3809880" cy="293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Рисунок12"/>
          <p:cNvPicPr/>
          <p:nvPr/>
        </p:nvPicPr>
        <p:blipFill>
          <a:blip r:embed="rId1"/>
          <a:stretch/>
        </p:blipFill>
        <p:spPr>
          <a:xfrm>
            <a:off x="1127160" y="357120"/>
            <a:ext cx="646920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комплекс Дневник Тани Савичевой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5" name="Picture 3" descr="Дневник Тани Савичев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557360"/>
            <a:ext cx="7561440" cy="4043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орыв и снятие блокады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1197000"/>
            <a:ext cx="421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27 января 1944 года войска Ленинградского и Волховского фронтов взломали оборону 18-й немецкой армии, разгромили её основные силы и продвинулись на 60 километров в глубину. Видя реальную угрозу окружения, немцы отступили. С освобождением Пушкина, Гатчины и Чудово блокада Ленинграда была полностью снят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8" name="Picture 8" descr="002"/>
          <p:cNvPicPr/>
          <p:nvPr/>
        </p:nvPicPr>
        <p:blipFill>
          <a:blip r:embed="rId1"/>
          <a:stretch/>
        </p:blipFill>
        <p:spPr>
          <a:xfrm>
            <a:off x="4619520" y="981000"/>
            <a:ext cx="4280040" cy="568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6" descr="1943_25"/>
          <p:cNvPicPr/>
          <p:nvPr/>
        </p:nvPicPr>
        <p:blipFill>
          <a:blip r:embed="rId1"/>
          <a:stretch/>
        </p:blipFill>
        <p:spPr>
          <a:xfrm>
            <a:off x="762120" y="380880"/>
            <a:ext cx="7596000" cy="6024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6" descr="1943_15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6" descr="1941_43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image"/>
          <p:cNvPicPr/>
          <p:nvPr/>
        </p:nvPicPr>
        <p:blipFill>
          <a:blip r:embed="rId1"/>
          <a:stretch/>
        </p:blipFill>
        <p:spPr>
          <a:xfrm>
            <a:off x="0" y="0"/>
            <a:ext cx="8988480" cy="62150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4" descr="На Неве во время праздничного салюта в День Победы. 9 мая  1945 г. Место съемки: г.Ленинград. Автор съемки:   Федосеев В. . ЦГАКФФД СПб,ед. хр. Ар-62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-384480">
              <a:lnSpc>
                <a:spcPct val="10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 годы блокады погибло по разным данным от 400 тыс. до 1 млн. человек. Причем только 3% из них от бомбежек, артобстрелов и т.д., а остальные 97% от голод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642960" y="28584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"Разорванное кольцо" на Ладожском озере у Вагановского спус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490860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Санкт-Петербург, Крестовский остров, Приморский парк Побед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286000"/>
            <a:ext cx="6286680" cy="400536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83908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иморский парк Победы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ыл заложен в октябре 1945 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честь морских военных побед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рх. А.С.Никольский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90560" y="69228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Мемориальный ансамбль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 на Пискаревском кладбище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9" name="Picture 3" descr="Санкт-Петербург, Улицы и события, Мемориальный ансамбль на Пискаревском кладбищ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133720"/>
            <a:ext cx="6480000" cy="3970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Санкт-Петербург, Памятники, Мемориал &quot;Защитникам Ленинграда&quot; (1969-1975 г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404640"/>
            <a:ext cx="4056120" cy="58104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нсамбль площади Победы.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онумент героическим защитникам Ленингра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1974-75гг.</a:t>
            </a:r>
            <a:br>
              <a:rPr sz="32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кульптор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М.К. Аникушин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арх.С.Б. Сперанский, В.А.Каменский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2" descr="11700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914400"/>
            <a:ext cx="8358120" cy="53722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3"/>
          <p:cNvSpPr/>
          <p:nvPr/>
        </p:nvSpPr>
        <p:spPr>
          <a:xfrm>
            <a:off x="1763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самбль площади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Санкт-Петербург, Московский проспект, Мемориал &quot;Защитникам Ленинграда&quot; (1969-1975 г.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304920"/>
            <a:ext cx="7816680" cy="591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0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Героическая оборона Ленинграда - это массовый, всенародный подвиг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6" name="Picture 3" descr="Фрагмент памятн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057400"/>
            <a:ext cx="6642000" cy="4419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blokada4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17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локадное объявление - предупреждение сохраняется в наши дни на Невском пр., - уже как памятная дос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8" name="Picture 3" descr="monument82"/>
          <p:cNvPicPr/>
          <p:nvPr/>
        </p:nvPicPr>
        <p:blipFill>
          <a:blip r:embed="rId1"/>
          <a:stretch/>
        </p:blipFill>
        <p:spPr>
          <a:xfrm>
            <a:off x="4716360" y="357120"/>
            <a:ext cx="3810240" cy="578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4"/>
          <p:cNvSpPr/>
          <p:nvPr/>
        </p:nvSpPr>
        <p:spPr>
          <a:xfrm>
            <a:off x="395280" y="44208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, кто пережил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всег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0"/>
          <p:cNvPicPr/>
          <p:nvPr/>
        </p:nvPicPr>
        <p:blipFill>
          <a:blip r:embed="rId1"/>
          <a:stretch/>
        </p:blipFill>
        <p:spPr>
          <a:xfrm>
            <a:off x="6300720" y="4157640"/>
            <a:ext cx="2556000" cy="2459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Georgia"/>
              </a:rPr>
              <a:t>Из тезисов немецкого доклада "О блокаде Ленинграда", 21 сентября</a:t>
            </a:r>
            <a:r>
              <a:rPr b="1" lang="ru-RU" sz="29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начала мы блокируем Ленинград и разрушаем город артиллерией и авиацией... Весной мы проникнем в город... вывезем всё, что осталось живое, в глубь России или возьмём в плен, сровняем Ленинград с землёй и передадим район севернее Невы Финлянд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учи над городом встали...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93200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 момент установления блокады в городе находилось 2 миллиона 544 тысячи человек, в том числе около 400 тысяч детей. Кроме того, в пригородных районах, то есть тоже в кольце блокады, осталось 343 тысячи человек. В сентябре, когда начались систематические бомбардировки, обстрелы и пожары, многие хотели выехать, но пути уже были отрезан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6" name="Picture 8" descr="blokada"/>
          <p:cNvPicPr/>
          <p:nvPr/>
        </p:nvPicPr>
        <p:blipFill>
          <a:blip r:embed="rId1"/>
          <a:stretch/>
        </p:blipFill>
        <p:spPr>
          <a:xfrm>
            <a:off x="179280" y="1989000"/>
            <a:ext cx="5077080" cy="3418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005%5B1%5D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32628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leningrad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5748120"/>
          </a:xfrm>
          <a:prstGeom prst="rect">
            <a:avLst/>
          </a:prstGeom>
          <a:ln w="0">
            <a:noFill/>
          </a:ln>
        </p:spPr>
      </p:pic>
    </p:spTree>
  </p:cSld>
  <p:transition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20:41Z</dcterms:created>
  <dc:creator>1</dc:creator>
  <dc:description/>
  <dc:language>en-US</dc:language>
  <cp:lastModifiedBy>1</cp:lastModifiedBy>
  <dcterms:modified xsi:type="dcterms:W3CDTF">2023-01-19T10:24:28Z</dcterms:modified>
  <cp:revision>23</cp:revision>
  <dc:subject/>
  <dc:title>Блокада Ленингр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F12447D9A64414C93E4E3810EF15472</vt:lpwstr>
  </property>
  <property fmtid="{D5CDD505-2E9C-101B-9397-08002B2CF9AE}" pid="3" name="KSOProductBuildVer">
    <vt:lpwstr>1049-11.2.0.11440</vt:lpwstr>
  </property>
</Properties>
</file>