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gif" ContentType="image/gif"/>
  <Override PartName="/ppt/media/image1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4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2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48.png" ContentType="image/png"/>
  <Override PartName="/ppt/media/image9.jpeg" ContentType="image/jpeg"/>
  <Override PartName="/ppt/media/image30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0.png" ContentType="image/png"/>
  <Override PartName="/ppt/media/image3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064F-7FE8-45B9-9664-FF548C091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FC87-D8A2-4E2E-8A2B-EDB17FD1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2B7CDB-39AB-41CB-90B2-4743905A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321C9F-2DD1-4034-B304-EB50FB3F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860DC0-E817-4F07-8321-11B0E20A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37E80B-6D3E-4415-995C-20361271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632A33-1E72-48A2-8228-0F18AF70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400F83-A15E-40DE-ABE0-4E5308A2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DADAFA-6617-4B17-B928-106F2236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A3CED3-CC1B-46D2-867C-DCBF993F7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25F4F8-B7CA-496E-A5E3-023CF08F0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3BE28E-B2D6-46A9-835B-20A7F4EDF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65A7-0E08-4077-8D02-F02AC5094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9CA8BA-786D-440A-89F8-D3148423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4312F4-8BD0-4538-9EA8-EAB9E52E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F990EC-28C8-4E8A-B893-BC43B160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F55A04-96CE-4C44-B81B-9D5CDB0B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425D44-F969-48BB-8858-88C4DFF6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5104DD-9A45-40CF-BF06-BEC96089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4BBDAC-95AC-4166-AB1A-18974EF8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D0D7BA-1547-4485-828B-5DB30DA7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289F6E-3B7F-412D-B8A5-5F493309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9CBCB0-3DCA-47C3-B12C-70FDC652E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B520-600F-49FB-AD95-0AC039E1C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AA9580-CE2F-4C21-ADF2-7D67E0BE2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6CFBCA-B7DB-4AE0-8A52-501C5C241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B9C5B7-2706-44BB-9594-1A124B83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82612-4A30-4FAA-A738-FED7FDA5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CB4DCB-4A77-4BB1-9F1B-054F22E9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46A42-6B37-406F-972B-3A520E68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ABDB1-880B-4945-B882-8A2D6A13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16C4A-52B7-4B65-8DEF-4595955C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EF9DCB-5AAE-48FB-B4DE-20249EC8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9D2E8-DF5B-4B33-B7A6-8B1B9962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DB903-17C9-4136-A3C2-9EBF5F763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8B19FF-7B0D-4241-85BC-C47FFC9E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97BF8-4694-4914-9023-6867E9622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1FEF92-32D3-4716-860E-A68725075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E7AF97-E54D-41E5-B9B8-FB650C20B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86495E-5D2C-42AF-BAC4-FEF2724A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DCA145-F398-4838-8412-252F9FF9D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B28412-FDF1-43A7-B348-26CC80E3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9EE843-1923-4CBE-80A3-D1F08034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477CDA-FB78-4936-BD67-6631BF5E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D03733-A39A-4900-B411-BBB40C80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90AE-82B8-4309-86DE-B8CE0E1C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0AA4FA-1A28-4C43-991A-F0E23E53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CBAE7F-80F4-4BDC-8011-2038CA49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134C6E-92C8-4EAE-BB93-BA3BCEDE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9E0E0C-D82B-4875-BB84-23E2834BD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237DC5-FA70-4F45-A2E2-53FCF4D06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61669D-9E15-4F93-9230-AE041CA60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6E002D-BAD8-4686-B2AB-2E41DA7D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9E2129-0233-464A-A9AA-74D7C89D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1CC9BD-C6B1-48DC-9512-931C890F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554512-C8DA-4197-A75B-37BA35BF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5CBF-DB79-4814-B84D-4BBDBC91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FF84AB-0110-41F1-9A9E-E407369F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584C51-924E-4022-B98B-1A02C08B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BDFEE0-05E9-4905-8B4D-A1FEA7EB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DC4951-E9B6-4DE3-AF37-ADE0E0C2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1E334D-A54C-4A5C-9E10-3DA5E9FC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4CC120-C073-4319-A25F-53880F529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D75850-3F0D-49C2-AAA3-87394743A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F1091-092D-42DE-B5A0-84DBEEBB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5A3D-F2B1-4021-ACC3-9644F3A5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7D68-FD16-4F37-8CC1-F704A7A0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136E-D110-4633-B3E2-EA999555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86A9-4485-4B7E-AFE0-715F4AF5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B83DE-8AD0-4A38-8560-E16C26C5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20C4-23E1-4587-B7CF-24906BD5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1EEBF-0E14-46A5-903F-CD3BB59E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6D36-0D0F-41A0-A201-24E732722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48732-A481-4130-9217-C45C2C2CE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EC004-4E12-4FD3-A030-489021550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09EF2-2A7D-433A-A84D-28979B89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F0704-0804-4452-9B61-6FAF9D17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C28FF-9931-4597-BB21-6D4C3257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0D111-6A4F-4E44-846A-9543DB7F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2BF3-1923-4CE4-8B49-5503187C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B69AA-1983-4C65-8F15-26007274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5D607-D455-495A-98BF-AD25B1E5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6B494-D9DF-430E-9FF4-A01F0DDD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CFD02-4DD3-493F-A9C6-63717CFC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9487C-6BAB-45A8-8DF5-797D2D8E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AD88D-6284-4013-A57B-894FBCD66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AC8FD-7A8E-44FF-97C0-730336954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DCE79-CAAA-4B1C-9F19-9A268E4CF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5F6DB-AFD2-4D55-AC88-E862531B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3CC7D-0F2D-4870-A60F-28C196A6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59C9-DD8F-4DD0-8710-03EFBC3E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66FE4-2353-4DA6-8E0F-705FAE03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32F13-A7CC-4042-9B53-BACD1FF4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BDA7C-465E-43FA-B464-F6A0F0DF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B51FB-2AA2-4AC3-8DF5-1135A4C0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E02E9-9CAA-404D-8CF1-94823BBC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CB183-510E-4123-B79B-B7F196DD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843BC-1D7F-4130-92D9-FF8C0835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D4E5C-417D-485D-8DDC-4C513D7C5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0BD31-8FC2-42A5-9F38-5522160FC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94EC1-F573-40DD-9F35-6586EADAB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838B-BCA1-46A7-9960-631AB6E7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D97AB-EFEA-43E9-8AD9-742DDDE0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8DC2C-5283-44DE-BB65-C65C653A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98323-6227-4BAB-A096-3A3F14A6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85F85-2F6C-47AA-ADE4-4420F0F7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22E57-E755-4ED5-ADC9-FDBBC01A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5429A-5223-4A07-8D3F-966C3C5A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8ADA0-AEC1-46E5-8A8F-B7689246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8E7A8-8DBF-420C-99B4-22CE13D2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EECFF-6104-48B5-AF4C-EA5FAD4F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EC3E1-BE7D-4631-BCE4-F0493AEF6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B0A9-502A-4BB5-8866-9C352051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B6C74-FABA-4317-9EA8-4FD9D5600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85AE7-1732-4F3B-AE38-9435092B4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E0130-2E6C-4803-8795-D4ED5678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8D6E6-64B0-464C-9CF7-CEC0CA30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E2C57-FE24-4338-959F-56EF740D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12040-E81D-40C4-89E6-C057BA33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24BF5-B2E8-46FD-8C65-8D3449DD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B1A40-9752-4A20-AC8E-8C19A75C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996AA-2B06-41A0-9AB2-277B395A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A714E-E3F6-4F05-B139-A6842DAE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8C7F-DD3F-4D89-B659-B2E2AB22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D06A0-0690-4C76-804D-60F79F6A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0C12B-316E-474D-A2E5-92A525FCD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46F38-0DD6-4530-BE48-59442FAD9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8FA84-E2E2-4E59-9412-C793CC851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AC9F7-F02A-4D04-A047-6C3E1D52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64734-5A71-41D3-B57D-F1267B1B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39BA8-B774-41C4-ACC2-8A90691D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4454E-BE05-40A1-9B8C-68C455D5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5DD0D-E8B6-46BE-8419-774EA5BD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7AAD5-D829-46CF-B4BB-476E133E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475D-2E35-4E69-93E8-AB4B62BF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0A015-7361-4BED-9736-9A9A2B2D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95BC0-FEC9-44F7-BEA4-C32E558A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F4FDF-5990-4FBD-86E4-64E22230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CD7A0-A177-4B46-9439-1727B24B8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E7ED6-91A6-4438-883B-5D7F9E64F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CE2E7-E42A-4BE4-BBC0-F192DC480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7BDD8-5E5D-494C-A2B0-DCA48CF0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7E127-F647-4487-A77B-BFB84E38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53471-ACE8-43A6-8C6A-C9721BE5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520BE-CCBA-4993-A839-F5B1F2E8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530B-D3E5-4386-A534-E03AA438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89E3B-9C98-422E-B722-6F537CED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8295E-CC72-4889-82EF-3830ABC8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54AFD-4E7B-4A20-956F-BDF92B27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A048D-1C3E-4A0F-B6EC-971E98FA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42169-776F-4325-98CF-8AE67F6A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0D889-4311-4DA7-BB90-6CD1C6F67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62002-3971-48CB-90F7-8CC9F8A4B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D01B6E-CCF3-438D-8A0C-4E5E27BF2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15C49D-4AFA-4CBC-BAE3-5D539BF8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37BE24-B4F9-4974-821A-55042ADA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152280" y="1276200"/>
            <a:ext cx="8832960" cy="360"/>
            <a:chOff x="152280" y="1276200"/>
            <a:chExt cx="8832960" cy="360"/>
          </a:xfrm>
        </p:grpSpPr>
        <p:sp>
          <p:nvSpPr>
            <p:cNvPr id="9" name="Прямая соединительная линия 9"/>
            <p:cNvSpPr/>
            <p:nvPr/>
          </p:nvSpPr>
          <p:spPr>
            <a:xfrm>
              <a:off x="152280" y="1276200"/>
              <a:ext cx="8832960" cy="0"/>
            </a:xfrm>
            <a:prstGeom prst="line">
              <a:avLst/>
            </a:prstGeom>
            <a:ln w="9360">
              <a:solidFill>
                <a:srgbClr val="7b9899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 txBox="1"/>
            <p:nvPr/>
          </p:nvSpPr>
          <p:spPr>
            <a:xfrm>
              <a:off x="152280" y="1276200"/>
              <a:ext cx="8832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3C11-7C0D-4066-8A1E-9184C018FFE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"/>
          <p:cNvGrpSpPr/>
          <p:nvPr/>
        </p:nvGrpSpPr>
        <p:grpSpPr>
          <a:xfrm>
            <a:off x="152280" y="533520"/>
            <a:ext cx="8832960" cy="360"/>
            <a:chOff x="152280" y="533520"/>
            <a:chExt cx="8832960" cy="360"/>
          </a:xfrm>
        </p:grpSpPr>
        <p:sp>
          <p:nvSpPr>
            <p:cNvPr id="475" name="Прямая соединительная линия 15"/>
            <p:cNvSpPr/>
            <p:nvPr/>
          </p:nvSpPr>
          <p:spPr>
            <a:xfrm>
              <a:off x="152280" y="533520"/>
              <a:ext cx="8832960" cy="0"/>
            </a:xfrm>
            <a:prstGeom prst="line">
              <a:avLst/>
            </a:prstGeom>
            <a:ln w="11520">
              <a:solidFill>
                <a:srgbClr val="7b9899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 txBox="1"/>
            <p:nvPr/>
          </p:nvSpPr>
          <p:spPr>
            <a:xfrm>
              <a:off x="152280" y="533520"/>
              <a:ext cx="8832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F21F-0C1A-4C28-9CBF-CE2EE0F0FAF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152280" y="1276200"/>
            <a:ext cx="8832960" cy="360"/>
            <a:chOff x="152280" y="1276200"/>
            <a:chExt cx="8832960" cy="360"/>
          </a:xfrm>
        </p:grpSpPr>
        <p:sp>
          <p:nvSpPr>
            <p:cNvPr id="535" name="Прямая соединительная линия 9"/>
            <p:cNvSpPr/>
            <p:nvPr/>
          </p:nvSpPr>
          <p:spPr>
            <a:xfrm>
              <a:off x="152280" y="1276200"/>
              <a:ext cx="8832960" cy="0"/>
            </a:xfrm>
            <a:prstGeom prst="line">
              <a:avLst/>
            </a:prstGeom>
            <a:ln w="9360">
              <a:solidFill>
                <a:srgbClr val="7b9899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 txBox="1"/>
            <p:nvPr/>
          </p:nvSpPr>
          <p:spPr>
            <a:xfrm>
              <a:off x="152280" y="1276200"/>
              <a:ext cx="8832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E5F0-A975-432E-B9A5-E9206EEB18F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7143480" y="155520"/>
            <a:ext cx="360" cy="6245280"/>
            <a:chOff x="7143480" y="155520"/>
            <a:chExt cx="360" cy="6245280"/>
          </a:xfrm>
        </p:grpSpPr>
        <p:sp>
          <p:nvSpPr>
            <p:cNvPr id="587" name="Прямая соединительная линия 21"/>
            <p:cNvSpPr/>
            <p:nvPr/>
          </p:nvSpPr>
          <p:spPr>
            <a:xfrm>
              <a:off x="7143840" y="155520"/>
              <a:ext cx="0" cy="6245280"/>
            </a:xfrm>
            <a:prstGeom prst="line">
              <a:avLst/>
            </a:prstGeom>
            <a:ln w="9360">
              <a:solidFill>
                <a:srgbClr val="7b9899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 txBox="1"/>
            <p:nvPr/>
          </p:nvSpPr>
          <p:spPr>
            <a:xfrm rot="5400000">
              <a:off x="4020840" y="3277800"/>
              <a:ext cx="6245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E668-E7CB-4CBB-AEAD-5712B183C72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152280" y="1276200"/>
            <a:ext cx="8832960" cy="360"/>
            <a:chOff x="152280" y="1276200"/>
            <a:chExt cx="8832960" cy="360"/>
          </a:xfrm>
        </p:grpSpPr>
        <p:sp>
          <p:nvSpPr>
            <p:cNvPr id="639" name="Прямая соединительная линия 9"/>
            <p:cNvSpPr/>
            <p:nvPr/>
          </p:nvSpPr>
          <p:spPr>
            <a:xfrm>
              <a:off x="152280" y="1276200"/>
              <a:ext cx="8832960" cy="0"/>
            </a:xfrm>
            <a:prstGeom prst="line">
              <a:avLst/>
            </a:prstGeom>
            <a:ln w="9360">
              <a:solidFill>
                <a:srgbClr val="7b9899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 txBox="1"/>
            <p:nvPr/>
          </p:nvSpPr>
          <p:spPr>
            <a:xfrm>
              <a:off x="152280" y="1276200"/>
              <a:ext cx="8832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dt" idx="3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ftr" idx="3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 type="sldNum" idx="39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7A65-4E9C-4167-8DD5-268E02A14D6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55520" y="2419200"/>
            <a:ext cx="8832960" cy="360"/>
            <a:chOff x="155520" y="2419200"/>
            <a:chExt cx="8832960" cy="360"/>
          </a:xfrm>
        </p:grpSpPr>
        <p:sp>
          <p:nvSpPr>
            <p:cNvPr id="58" name="Прямая соединительная линия 20"/>
            <p:cNvSpPr/>
            <p:nvPr/>
          </p:nvSpPr>
          <p:spPr>
            <a:xfrm>
              <a:off x="155520" y="2419200"/>
              <a:ext cx="8832960" cy="0"/>
            </a:xfrm>
            <a:prstGeom prst="line">
              <a:avLst/>
            </a:prstGeom>
            <a:ln w="11520">
              <a:solidFill>
                <a:srgbClr val="7b9899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 txBox="1"/>
            <p:nvPr/>
          </p:nvSpPr>
          <p:spPr>
            <a:xfrm>
              <a:off x="155520" y="2419200"/>
              <a:ext cx="8832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4702-810B-4C5D-B782-CA7C1EED4FB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52280" y="1276200"/>
            <a:ext cx="8832960" cy="360"/>
            <a:chOff x="152280" y="1276200"/>
            <a:chExt cx="8832960" cy="360"/>
          </a:xfrm>
        </p:grpSpPr>
        <p:sp>
          <p:nvSpPr>
            <p:cNvPr id="111" name="Прямая соединительная линия 9"/>
            <p:cNvSpPr/>
            <p:nvPr/>
          </p:nvSpPr>
          <p:spPr>
            <a:xfrm>
              <a:off x="152280" y="1276200"/>
              <a:ext cx="8832960" cy="0"/>
            </a:xfrm>
            <a:prstGeom prst="line">
              <a:avLst/>
            </a:prstGeom>
            <a:ln w="9360">
              <a:solidFill>
                <a:srgbClr val="7b9899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152280" y="1276200"/>
              <a:ext cx="8832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FB59-371B-41D0-9CB7-81E1A2171F0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52280" y="2438280"/>
            <a:ext cx="8832960" cy="360"/>
            <a:chOff x="152280" y="2438280"/>
            <a:chExt cx="8832960" cy="360"/>
          </a:xfrm>
        </p:grpSpPr>
        <p:sp>
          <p:nvSpPr>
            <p:cNvPr id="165" name="Прямая соединительная линия 24"/>
            <p:cNvSpPr/>
            <p:nvPr/>
          </p:nvSpPr>
          <p:spPr>
            <a:xfrm>
              <a:off x="152280" y="2438280"/>
              <a:ext cx="8832960" cy="0"/>
            </a:xfrm>
            <a:prstGeom prst="line">
              <a:avLst/>
            </a:prstGeom>
            <a:ln w="11520">
              <a:solidFill>
                <a:srgbClr val="7b9899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152280" y="2438280"/>
              <a:ext cx="8832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6691-EFA5-4DA8-8942-E9CD140FE63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52280" y="1276200"/>
            <a:ext cx="8832960" cy="360"/>
            <a:chOff x="152280" y="1276200"/>
            <a:chExt cx="8832960" cy="360"/>
          </a:xfrm>
        </p:grpSpPr>
        <p:sp>
          <p:nvSpPr>
            <p:cNvPr id="217" name="Прямая соединительная линия 9"/>
            <p:cNvSpPr/>
            <p:nvPr/>
          </p:nvSpPr>
          <p:spPr>
            <a:xfrm>
              <a:off x="152280" y="1276200"/>
              <a:ext cx="8832960" cy="0"/>
            </a:xfrm>
            <a:prstGeom prst="line">
              <a:avLst/>
            </a:prstGeom>
            <a:ln w="9360">
              <a:solidFill>
                <a:srgbClr val="7b9899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>
              <a:off x="152280" y="1276200"/>
              <a:ext cx="8832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62640" y="1576080"/>
            <a:ext cx="9360" cy="4817880"/>
            <a:chOff x="4562640" y="1576080"/>
            <a:chExt cx="9360" cy="4817880"/>
          </a:xfrm>
        </p:grpSpPr>
        <p:sp>
          <p:nvSpPr>
            <p:cNvPr id="222" name="Прямая соединительная линия 19"/>
            <p:cNvSpPr/>
            <p:nvPr/>
          </p:nvSpPr>
          <p:spPr>
            <a:xfrm flipV="1">
              <a:off x="4562640" y="1576080"/>
              <a:ext cx="9360" cy="4817880"/>
            </a:xfrm>
            <a:prstGeom prst="line">
              <a:avLst/>
            </a:prstGeom>
            <a:ln w="9360">
              <a:solidFill>
                <a:srgbClr val="646b86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 rot="10800000">
              <a:off x="4562640" y="1576080"/>
              <a:ext cx="9360" cy="4817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8953-2101-49EC-8A90-03D650E1521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4571640" y="2199960"/>
            <a:ext cx="360" cy="4187880"/>
            <a:chOff x="4571640" y="2199960"/>
            <a:chExt cx="360" cy="4187880"/>
          </a:xfrm>
        </p:grpSpPr>
        <p:sp>
          <p:nvSpPr>
            <p:cNvPr id="266" name="Прямая соединительная линия 19"/>
            <p:cNvSpPr/>
            <p:nvPr/>
          </p:nvSpPr>
          <p:spPr>
            <a:xfrm flipV="1">
              <a:off x="4572000" y="2199960"/>
              <a:ext cx="0" cy="4187880"/>
            </a:xfrm>
            <a:prstGeom prst="line">
              <a:avLst/>
            </a:prstGeom>
            <a:ln w="9360">
              <a:solidFill>
                <a:srgbClr val="646b86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 rot="10800000">
              <a:off x="4571640" y="2199960"/>
              <a:ext cx="360" cy="4187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52280" y="1279440"/>
            <a:ext cx="8832960" cy="360"/>
            <a:chOff x="152280" y="1279440"/>
            <a:chExt cx="8832960" cy="360"/>
          </a:xfrm>
        </p:grpSpPr>
        <p:sp>
          <p:nvSpPr>
            <p:cNvPr id="275" name="Прямая соединительная линия 23"/>
            <p:cNvSpPr/>
            <p:nvPr/>
          </p:nvSpPr>
          <p:spPr>
            <a:xfrm>
              <a:off x="152280" y="1279440"/>
              <a:ext cx="8832960" cy="0"/>
            </a:xfrm>
            <a:prstGeom prst="line">
              <a:avLst/>
            </a:prstGeom>
            <a:ln w="11520">
              <a:solidFill>
                <a:srgbClr val="7b9899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>
              <a:off x="152280" y="1279440"/>
              <a:ext cx="8832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0673-B90F-45BC-AB0B-08C95007409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152280" y="1276200"/>
            <a:ext cx="8832960" cy="360"/>
            <a:chOff x="152280" y="1276200"/>
            <a:chExt cx="8832960" cy="360"/>
          </a:xfrm>
        </p:grpSpPr>
        <p:sp>
          <p:nvSpPr>
            <p:cNvPr id="328" name="Прямая соединительная линия 9"/>
            <p:cNvSpPr/>
            <p:nvPr/>
          </p:nvSpPr>
          <p:spPr>
            <a:xfrm>
              <a:off x="152280" y="1276200"/>
              <a:ext cx="8832960" cy="0"/>
            </a:xfrm>
            <a:prstGeom prst="line">
              <a:avLst/>
            </a:prstGeom>
            <a:ln w="9360">
              <a:solidFill>
                <a:srgbClr val="7b9899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152280" y="1276200"/>
              <a:ext cx="8832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AD59-A0F3-4A6F-810F-6C8C5261F9F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F088-1D34-406E-99EC-7BF8D82254AE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152280" y="533520"/>
            <a:ext cx="8832960" cy="360"/>
            <a:chOff x="152280" y="533520"/>
            <a:chExt cx="8832960" cy="360"/>
          </a:xfrm>
        </p:grpSpPr>
        <p:sp>
          <p:nvSpPr>
            <p:cNvPr id="428" name="Прямая соединительная линия 23"/>
            <p:cNvSpPr/>
            <p:nvPr/>
          </p:nvSpPr>
          <p:spPr>
            <a:xfrm>
              <a:off x="152280" y="533520"/>
              <a:ext cx="8832960" cy="0"/>
            </a:xfrm>
            <a:prstGeom prst="line">
              <a:avLst/>
            </a:prstGeom>
            <a:ln w="11520">
              <a:solidFill>
                <a:srgbClr val="7b9899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 txBox="1"/>
            <p:nvPr/>
          </p:nvSpPr>
          <p:spPr>
            <a:xfrm>
              <a:off x="152280" y="533520"/>
              <a:ext cx="8832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505F-0B92-4A84-889B-397D496BBF1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obilmusic.ru/file.php?id=101540" TargetMode="Externa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molodguard.narod.ru/monument88.jpg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4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trip-guide.ru/Spb/index.php?town=Spb&amp;page=a21&amp;part=1" TargetMode="External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trip-guide.ru/Spb/index.php?town=Spb&amp;page=a52&amp;part=5" TargetMode="External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.trip-guide.ru/Spb/index.php?town=Spb&amp;page=a51&amp;part=4" TargetMode="External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pl-mugestva.ucoz.ru/photo/1-0-2-3" TargetMode="External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trip-guide.ru/Spb/index.php?town=Spb&amp;page=a18&amp;part=1" TargetMode="External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molodguard.narod.ru/monument84.jpg" TargetMode="External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d16349"/>
                </a:solidFill>
                <a:latin typeface="Georgia"/>
              </a:rPr>
              <a:t>Классный час</a:t>
            </a:r>
            <a:br>
              <a:rPr sz="4200"/>
            </a:br>
            <a:r>
              <a:rPr b="1" lang="ru-RU" sz="4200" spc="-1" strike="noStrike">
                <a:solidFill>
                  <a:srgbClr val="d16349"/>
                </a:solidFill>
                <a:latin typeface="Georgia"/>
              </a:rPr>
              <a:t>«Блокада Ленинграда»</a:t>
            </a:r>
            <a:br>
              <a:rPr sz="4200"/>
            </a:b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85" name="Picture 7" descr="1015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86040" y="1857240"/>
            <a:ext cx="3571920" cy="4071960"/>
          </a:xfrm>
          <a:prstGeom prst="rect">
            <a:avLst/>
          </a:prstGeom>
          <a:ln w="0">
            <a:noFill/>
          </a:ln>
        </p:spPr>
      </p:pic>
      <p:sp>
        <p:nvSpPr>
          <p:cNvPr id="686" name="Прямоугольник 3"/>
          <p:cNvSpPr/>
          <p:nvPr/>
        </p:nvSpPr>
        <p:spPr>
          <a:xfrm>
            <a:off x="4357800" y="55720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Picture 4" descr="Рисунок6"/>
          <p:cNvPicPr/>
          <p:nvPr/>
        </p:nvPicPr>
        <p:blipFill>
          <a:blip r:embed="rId1"/>
          <a:stretch/>
        </p:blipFill>
        <p:spPr>
          <a:xfrm>
            <a:off x="990720" y="428760"/>
            <a:ext cx="6933960" cy="5715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Дорога Жизни</a:t>
            </a:r>
            <a:br>
              <a:rPr sz="3600"/>
            </a:b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179280" y="1600200"/>
            <a:ext cx="410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Для подвоза продовольствия и боеприпасов оставалась единственная коммуникация - по Ладожскому озеру. К началу войны оно было мало освоено и практически не изучено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2" name="Rectangle 8"/>
          <p:cNvSpPr/>
          <p:nvPr/>
        </p:nvSpPr>
        <p:spPr>
          <a:xfrm>
            <a:off x="0" y="223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3" name=""/>
          <p:cNvGraphicFramePr/>
          <p:nvPr/>
        </p:nvGraphicFramePr>
        <p:xfrm>
          <a:off x="5148360" y="5734080"/>
          <a:ext cx="3668760" cy="396720"/>
        </p:xfrm>
        <a:graphic>
          <a:graphicData uri="http://schemas.openxmlformats.org/drawingml/2006/table">
            <a:tbl>
              <a:tblPr/>
              <a:tblGrid>
                <a:gridCol w="3668760"/>
              </a:tblGrid>
              <a:tr h="396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ОГА ЖИЗНИ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4" name="Picture 10" descr="ДОРОГА ЖИЗНИ. Фото из архивов Министерства обороны СССР "/>
          <p:cNvPicPr/>
          <p:nvPr/>
        </p:nvPicPr>
        <p:blipFill>
          <a:blip r:embed="rId1"/>
          <a:stretch/>
        </p:blipFill>
        <p:spPr>
          <a:xfrm>
            <a:off x="4427640" y="1434960"/>
            <a:ext cx="4537080" cy="3403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/>
          </p:nvPr>
        </p:nvSpPr>
        <p:spPr>
          <a:xfrm>
            <a:off x="-360" y="333000"/>
            <a:ext cx="89154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Работники дорожной службы ежедневно измеряли толщину льда на всём озере, но были не в силах ускорить его нарастание.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20 ноября толщина льда достигла 180 мм. На лёд вышли конные обозы…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advTm="11000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7" descr="image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089760"/>
          </a:xfrm>
          <a:prstGeom prst="rect">
            <a:avLst/>
          </a:prstGeom>
          <a:ln w="0">
            <a:noFill/>
          </a:ln>
        </p:spPr>
      </p:pic>
    </p:spTree>
  </p:cSld>
  <p:transition advTm="7000">
    <p:newsflash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5" descr="image"/>
          <p:cNvPicPr/>
          <p:nvPr/>
        </p:nvPicPr>
        <p:blipFill>
          <a:blip r:embed="rId1"/>
          <a:stretch/>
        </p:blipFill>
        <p:spPr>
          <a:xfrm>
            <a:off x="285840" y="428760"/>
            <a:ext cx="8572320" cy="5543280"/>
          </a:xfrm>
          <a:prstGeom prst="rect">
            <a:avLst/>
          </a:prstGeom>
          <a:ln w="0">
            <a:noFill/>
          </a:ln>
        </p:spPr>
      </p:pic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Georgia"/>
              </a:rPr>
              <a:t>"</a:t>
            </a:r>
            <a:r>
              <a:rPr b="1" lang="ru-RU" sz="3300" spc="-1" strike="noStrike">
                <a:solidFill>
                  <a:srgbClr val="ffffff"/>
                </a:solidFill>
                <a:latin typeface="Georgia"/>
              </a:rPr>
              <a:t>Дорога жизни"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 advTm="6000">
    <p:newsflash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0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3" descr="''Дорога жизни''"/>
          <p:cNvPicPr/>
          <p:nvPr/>
        </p:nvPicPr>
        <p:blipFill>
          <a:blip r:embed="rId1"/>
          <a:stretch/>
        </p:blipFill>
        <p:spPr>
          <a:xfrm>
            <a:off x="228600" y="228600"/>
            <a:ext cx="8915400" cy="6129360"/>
          </a:xfrm>
          <a:prstGeom prst="rect">
            <a:avLst/>
          </a:prstGeom>
          <a:ln w="0">
            <a:noFill/>
          </a:ln>
        </p:spPr>
      </p:pic>
    </p:spTree>
  </p:cSld>
  <p:transition advTm="6000">
    <p:newsflash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3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675640" cy="323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Она - как легенда,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как песня, как знамя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У этой дороги не будет конца -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Она навсегда пролегла через память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Навеки прошла через наши сердц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Анатолий Молчанов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11" name="Picture 3" descr="1487"/>
          <p:cNvPicPr/>
          <p:nvPr/>
        </p:nvPicPr>
        <p:blipFill>
          <a:blip r:embed="rId1"/>
          <a:stretch/>
        </p:blipFill>
        <p:spPr>
          <a:xfrm>
            <a:off x="4932360" y="3643200"/>
            <a:ext cx="3672000" cy="25718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0"/>
                            </p:stCondLst>
                            <p:childTnLst>
                              <p:par>
                                <p:cTn id="6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 txBox="1"/>
          <p:nvPr/>
        </p:nvSpPr>
        <p:spPr>
          <a:xfrm>
            <a:off x="395280" y="3933720"/>
            <a:ext cx="829152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С 13 ноября 1941 года норма выдачи хлеба населению была снижена. Теперь рабочие и инженерно-технические работники получали по 300 граммов хлеба, все остальные - по 150. 20 ноября и этот скудный паёк пришлось урезать. Население стало получать самую низкую норму за всё время блокады - 250 граммов на рабочую карточку и 125 граммов - на все остальные. В Ленинграде начался голод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13" name="Picture 8" descr="БОМБЕЖКА ЛЕНИНГРАДА. Фото из архивов Министерства обороны СССР "/>
          <p:cNvPicPr/>
          <p:nvPr/>
        </p:nvPicPr>
        <p:blipFill>
          <a:blip r:embed="rId1"/>
          <a:stretch/>
        </p:blipFill>
        <p:spPr>
          <a:xfrm>
            <a:off x="1547640" y="260280"/>
            <a:ext cx="5832720" cy="3475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91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125 блокадных грамм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1763280" y="1600200"/>
            <a:ext cx="61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е шумите вокруг - он дышит,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Он живой еще, он все слышит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ак из недр его вопли: "Хлеба!" -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о седьмого доходят неба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о безжалостна эта твердь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И глядит из всех окон - смерть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Анна Ахматов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Picture 2" descr="1456"/>
          <p:cNvPicPr/>
          <p:nvPr/>
        </p:nvPicPr>
        <p:blipFill>
          <a:blip r:embed="rId1"/>
          <a:stretch/>
        </p:blipFill>
        <p:spPr>
          <a:xfrm>
            <a:off x="214200" y="285840"/>
            <a:ext cx="8643960" cy="5929200"/>
          </a:xfrm>
          <a:prstGeom prst="rect">
            <a:avLst/>
          </a:prstGeom>
          <a:ln w="0">
            <a:noFill/>
          </a:ln>
        </p:spPr>
      </p:pic>
    </p:spTree>
  </p:cSld>
  <p:transition advTm="6000">
    <p:newsflash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0840" indent="-384480">
              <a:lnSpc>
                <a:spcPct val="100000"/>
              </a:lnSpc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БЛОКАДА ЛЕНИНГРАДА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длилась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42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с 8 сентября 1941 по 27 января 1944 г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42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(прорвана 18 января 1943) — 871 день.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8" name="Picture 3" descr="12big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362320" y="2438280"/>
            <a:ext cx="4114800" cy="3705480"/>
          </a:xfrm>
          <a:prstGeom prst="rect">
            <a:avLst/>
          </a:prstGeom>
          <a:ln w="0">
            <a:noFill/>
          </a:ln>
        </p:spPr>
      </p:pic>
    </p:spTree>
  </p:cSld>
  <p:transition advTm="11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200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2000"/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2000"/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2" descr="pic4"/>
          <p:cNvPicPr/>
          <p:nvPr/>
        </p:nvPicPr>
        <p:blipFill>
          <a:blip r:embed="rId1"/>
          <a:stretch/>
        </p:blipFill>
        <p:spPr>
          <a:xfrm>
            <a:off x="1214280" y="285840"/>
            <a:ext cx="7000920" cy="5857920"/>
          </a:xfrm>
          <a:prstGeom prst="rect">
            <a:avLst/>
          </a:prstGeom>
          <a:ln w="0">
            <a:noFill/>
          </a:ln>
        </p:spPr>
      </p:pic>
    </p:spTree>
  </p:cSld>
  <p:transition advTm="4000"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2" descr="IMG_4673_500"/>
          <p:cNvPicPr/>
          <p:nvPr/>
        </p:nvPicPr>
        <p:blipFill>
          <a:blip r:embed="rId1"/>
          <a:stretch/>
        </p:blipFill>
        <p:spPr>
          <a:xfrm>
            <a:off x="2286000" y="285840"/>
            <a:ext cx="4700520" cy="5715000"/>
          </a:xfrm>
          <a:prstGeom prst="rect">
            <a:avLst/>
          </a:prstGeom>
          <a:ln w="0">
            <a:noFill/>
          </a:ln>
        </p:spPr>
      </p:pic>
    </p:spTree>
  </p:cSld>
  <p:transition advTm="5000">
    <p:newsflash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3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5" descr="1941_10"/>
          <p:cNvPicPr/>
          <p:nvPr/>
        </p:nvPicPr>
        <p:blipFill>
          <a:blip r:embed="rId1"/>
          <a:stretch/>
        </p:blipFill>
        <p:spPr>
          <a:xfrm>
            <a:off x="1905120" y="357120"/>
            <a:ext cx="5308560" cy="5929560"/>
          </a:xfrm>
          <a:prstGeom prst="rect">
            <a:avLst/>
          </a:prstGeom>
          <a:ln w="0">
            <a:noFill/>
          </a:ln>
        </p:spPr>
      </p:pic>
    </p:spTree>
  </p:cSld>
  <p:transition advTm="5000">
    <p:newsflash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2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b9899"/>
                </a:solidFill>
                <a:latin typeface="Georgia"/>
              </a:rPr>
              <a:t>Город и его борьба</a:t>
            </a:r>
            <a:br>
              <a:rPr sz="3600"/>
            </a:b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214200" y="1689120"/>
            <a:ext cx="364176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Но город жил и боролся. Заводы продолжали выпускать военную продукцию. Голодные измученные люди находили в себе силы работать. Мужчины, женщины и подростки стояли у станков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Rectangle 238"/>
          <p:cNvSpPr/>
          <p:nvPr/>
        </p:nvSpPr>
        <p:spPr>
          <a:xfrm>
            <a:off x="1901880" y="2643120"/>
            <a:ext cx="2160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239"/>
          <p:cNvSpPr/>
          <p:nvPr/>
        </p:nvSpPr>
        <p:spPr>
          <a:xfrm>
            <a:off x="1901880" y="2643120"/>
            <a:ext cx="2160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Picture 237" descr="КОЛОННА САУ СУ-122 НАПРАВЛЯЕТСЯ НА ФРОНТ. Фото из архивов Министерства обороны СССР "/>
          <p:cNvPicPr/>
          <p:nvPr/>
        </p:nvPicPr>
        <p:blipFill>
          <a:blip r:embed="rId1"/>
          <a:stretch/>
        </p:blipFill>
        <p:spPr>
          <a:xfrm>
            <a:off x="4284720" y="1214280"/>
            <a:ext cx="4608360" cy="4357800"/>
          </a:xfrm>
          <a:prstGeom prst="rect">
            <a:avLst/>
          </a:prstGeom>
          <a:ln w="0">
            <a:noFill/>
          </a:ln>
        </p:spPr>
      </p:pic>
      <p:sp>
        <p:nvSpPr>
          <p:cNvPr id="725" name="Rectangle 241"/>
          <p:cNvSpPr/>
          <p:nvPr/>
        </p:nvSpPr>
        <p:spPr>
          <a:xfrm>
            <a:off x="1901880" y="2643120"/>
            <a:ext cx="2160360" cy="360"/>
          </a:xfrm>
          <a:prstGeom prst="rect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4" descr="Рисунок2а"/>
          <p:cNvPicPr/>
          <p:nvPr/>
        </p:nvPicPr>
        <p:blipFill>
          <a:blip r:embed="rId1"/>
          <a:stretch/>
        </p:blipFill>
        <p:spPr>
          <a:xfrm>
            <a:off x="493560" y="285840"/>
            <a:ext cx="8156880" cy="6072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Picture 2" descr="prospekt"/>
          <p:cNvPicPr/>
          <p:nvPr/>
        </p:nvPicPr>
        <p:blipFill>
          <a:blip r:embed="rId1"/>
          <a:stretch/>
        </p:blipFill>
        <p:spPr>
          <a:xfrm>
            <a:off x="0" y="0"/>
            <a:ext cx="9144000" cy="615780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2" descr="evakuacia"/>
          <p:cNvPicPr/>
          <p:nvPr/>
        </p:nvPicPr>
        <p:blipFill>
          <a:blip r:embed="rId1"/>
          <a:stretch/>
        </p:blipFill>
        <p:spPr>
          <a:xfrm>
            <a:off x="155520" y="46080"/>
            <a:ext cx="8759880" cy="607356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Picture 2" descr="female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15636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Georgia"/>
              </a:rPr>
              <a:t>«Ленинградская» симфония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9 августа 1941 года немцы обещали занять Ленинград. Ровно год спустя в несломленном городе состоялась премьера 7-й симфонии Шостаковича, которую впоследствии назовут "Ленинградской". Зал был полон - очереди за билетами в Большой зал городской филармонии были длиннее, чем в булочные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32" name="Picture 7" descr="blokadaf"/>
          <p:cNvPicPr/>
          <p:nvPr/>
        </p:nvPicPr>
        <p:blipFill>
          <a:blip r:embed="rId1"/>
          <a:stretch/>
        </p:blipFill>
        <p:spPr>
          <a:xfrm>
            <a:off x="4834080" y="1628640"/>
            <a:ext cx="4039920" cy="4680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3" name="Picture 2" descr="shostakovich"/>
          <p:cNvPicPr/>
          <p:nvPr/>
        </p:nvPicPr>
        <p:blipFill>
          <a:blip r:embed="rId1"/>
          <a:stretch/>
        </p:blipFill>
        <p:spPr>
          <a:xfrm>
            <a:off x="357120" y="214200"/>
            <a:ext cx="8429760" cy="6072480"/>
          </a:xfrm>
          <a:prstGeom prst="rect">
            <a:avLst/>
          </a:prstGeom>
          <a:ln w="0">
            <a:noFill/>
          </a:ln>
        </p:spPr>
      </p:pic>
    </p:spTree>
  </p:cSld>
  <p:transition advTm="4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/>
          </p:nvPr>
        </p:nvSpPr>
        <p:spPr>
          <a:xfrm>
            <a:off x="0" y="60948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Блокада Ленинграда - это неслыханное испытание человека на человечность, достоинство, любовь к близким, сострадание, сердечность. Эти испытания были ежедневными, страшными, потому что голод представить вообще невозможно, не пережив его…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advTm="13000">
    <p:newsflash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Picture 4" descr="Рисунок14"/>
          <p:cNvPicPr/>
          <p:nvPr/>
        </p:nvPicPr>
        <p:blipFill>
          <a:blip r:embed="rId1"/>
          <a:stretch/>
        </p:blipFill>
        <p:spPr>
          <a:xfrm>
            <a:off x="457200" y="214200"/>
            <a:ext cx="8001000" cy="60008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lnSpc>
                <a:spcPct val="8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На момент установки блокады в городе находилось 2 миллиона 544 тысячи человек гражданского населения, в том числе около 400 тысяч детей. Кроме того, в пригородных районах (в кольце блокады) осталось 343 тысячи человек. В сентябре, когда начались систематические бомбардировки, обстрелы и пожары, многие тысячи семей хотели бы выехать, но пути были отрезаны.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advTm="20000">
    <p:newsflash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4" descr="Рисунок10"/>
          <p:cNvPicPr/>
          <p:nvPr/>
        </p:nvPicPr>
        <p:blipFill>
          <a:blip r:embed="rId1"/>
          <a:stretch/>
        </p:blipFill>
        <p:spPr>
          <a:xfrm>
            <a:off x="0" y="603360"/>
            <a:ext cx="9144000" cy="5651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Georgia"/>
              </a:rPr>
              <a:t>Маленькая записная книжк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38" name="Picture 4" descr="blokadae"/>
          <p:cNvPicPr/>
          <p:nvPr/>
        </p:nvPicPr>
        <p:blipFill>
          <a:blip r:embed="rId1"/>
          <a:stretch/>
        </p:blipFill>
        <p:spPr>
          <a:xfrm>
            <a:off x="2484360" y="1500120"/>
            <a:ext cx="4243320" cy="4643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Picture 8" descr="Рисунок8"/>
          <p:cNvPicPr/>
          <p:nvPr/>
        </p:nvPicPr>
        <p:blipFill>
          <a:blip r:embed="rId1"/>
          <a:stretch/>
        </p:blipFill>
        <p:spPr>
          <a:xfrm>
            <a:off x="135000" y="260280"/>
            <a:ext cx="2344680" cy="324180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9" descr="Рисунок9"/>
          <p:cNvPicPr/>
          <p:nvPr/>
        </p:nvPicPr>
        <p:blipFill>
          <a:blip r:embed="rId2"/>
          <a:stretch/>
        </p:blipFill>
        <p:spPr>
          <a:xfrm>
            <a:off x="2484360" y="271440"/>
            <a:ext cx="6659640" cy="323388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10" descr="Рисунок8"/>
          <p:cNvPicPr/>
          <p:nvPr/>
        </p:nvPicPr>
        <p:blipFill>
          <a:blip r:embed="rId3"/>
          <a:stretch/>
        </p:blipFill>
        <p:spPr>
          <a:xfrm>
            <a:off x="0" y="3733920"/>
            <a:ext cx="5370480" cy="293508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11" descr="Рисунок9"/>
          <p:cNvPicPr/>
          <p:nvPr/>
        </p:nvPicPr>
        <p:blipFill>
          <a:blip r:embed="rId4"/>
          <a:stretch/>
        </p:blipFill>
        <p:spPr>
          <a:xfrm>
            <a:off x="5334120" y="3733920"/>
            <a:ext cx="3809880" cy="2935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Picture 4" descr="Рисунок12"/>
          <p:cNvPicPr/>
          <p:nvPr/>
        </p:nvPicPr>
        <p:blipFill>
          <a:blip r:embed="rId1"/>
          <a:stretch/>
        </p:blipFill>
        <p:spPr>
          <a:xfrm>
            <a:off x="1127160" y="357120"/>
            <a:ext cx="6469200" cy="5857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Мемориальный комплекс Дневник Тани Савичевой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45" name="Picture 3" descr="Дневник Тани Савичевой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1557360"/>
            <a:ext cx="7561440" cy="4043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8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Прорыв и снятие блокады</a:t>
            </a:r>
            <a:br>
              <a:rPr sz="3600"/>
            </a:b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-360" y="1197000"/>
            <a:ext cx="4211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 27 января 1944 года войска Ленинградского и Волховского фронтов взломали оборону 18-й немецкой армии, разгромили её основные силы и продвинулись на 60 километров в глубину. Видя реальную угрозу окружения, немцы отступили. С освобождением Пушкина, Гатчины и Чудово блокада Ленинграда была полностью снята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48" name="Picture 8" descr="002"/>
          <p:cNvPicPr/>
          <p:nvPr/>
        </p:nvPicPr>
        <p:blipFill>
          <a:blip r:embed="rId1"/>
          <a:stretch/>
        </p:blipFill>
        <p:spPr>
          <a:xfrm>
            <a:off x="4619520" y="981000"/>
            <a:ext cx="4280040" cy="5688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Picture 6" descr="1943_25"/>
          <p:cNvPicPr/>
          <p:nvPr/>
        </p:nvPicPr>
        <p:blipFill>
          <a:blip r:embed="rId1"/>
          <a:stretch/>
        </p:blipFill>
        <p:spPr>
          <a:xfrm>
            <a:off x="762120" y="380880"/>
            <a:ext cx="7596000" cy="6024600"/>
          </a:xfrm>
          <a:prstGeom prst="rect">
            <a:avLst/>
          </a:prstGeom>
          <a:ln w="0">
            <a:noFill/>
          </a:ln>
        </p:spPr>
      </p:pic>
    </p:spTree>
  </p:cSld>
  <p:transition advTm="5000">
    <p:newsflash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Picture 6" descr="1943_15"/>
          <p:cNvPicPr/>
          <p:nvPr/>
        </p:nvPicPr>
        <p:blipFill>
          <a:blip r:embed="rId1"/>
          <a:stretch/>
        </p:blipFill>
        <p:spPr>
          <a:xfrm>
            <a:off x="285840" y="357120"/>
            <a:ext cx="8572320" cy="5857920"/>
          </a:xfrm>
          <a:prstGeom prst="rect">
            <a:avLst/>
          </a:prstGeom>
          <a:ln w="0">
            <a:noFill/>
          </a:ln>
        </p:spPr>
      </p:pic>
    </p:spTree>
  </p:cSld>
  <p:transition advTm="7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6" descr="1941_43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072120"/>
          </a:xfrm>
          <a:prstGeom prst="rect">
            <a:avLst/>
          </a:prstGeom>
          <a:ln w="0">
            <a:noFill/>
          </a:ln>
        </p:spPr>
      </p:pic>
    </p:spTree>
  </p:cSld>
  <p:transition advTm="5000">
    <p:newsflash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Picture 6" descr="image"/>
          <p:cNvPicPr/>
          <p:nvPr/>
        </p:nvPicPr>
        <p:blipFill>
          <a:blip r:embed="rId1"/>
          <a:stretch/>
        </p:blipFill>
        <p:spPr>
          <a:xfrm>
            <a:off x="0" y="0"/>
            <a:ext cx="8988480" cy="621504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3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Picture 4" descr="На Неве во время праздничного салюта в День Победы. 9 мая  1945 г. Место съемки: г.Ленинград. Автор съемки:   Федосеев В. . ЦГАКФФД СПб,ед. хр. Ар-62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/>
          </p:nvPr>
        </p:nvSpPr>
        <p:spPr>
          <a:xfrm>
            <a:off x="609120" y="533520"/>
            <a:ext cx="85345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0840" indent="-384480">
              <a:lnSpc>
                <a:spcPct val="100000"/>
              </a:lnSpc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За годы блокады погибло по разным данным от 400 тыс. до 1 млн. человек. Причем только 3% из них от бомбежек, артобстрелов и т.д., а остальные 97% от голода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newsflash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642960" y="28584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"Разорванное кольцо" на Ладожском озере у Вагановского спуск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55" name="Picture 4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4908600" cy="469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2" descr="Санкт-Петербург, Крестовский остров, Приморский парк Победы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00120" y="2286000"/>
            <a:ext cx="6286680" cy="4005360"/>
          </a:xfrm>
          <a:prstGeom prst="rect">
            <a:avLst/>
          </a:prstGeom>
          <a:ln w="0">
            <a:noFill/>
          </a:ln>
        </p:spPr>
      </p:pic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839080" cy="171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Приморский парк Победы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br>
              <a:rPr sz="36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был заложен в октябре 1945 г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честь морских военных побед.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Арх. А.С.Никольский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>
    <p:newsflash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790560" y="692280"/>
            <a:ext cx="8353440" cy="15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Мемориальный ансамбль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 на Пискаревском кладбище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 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59" name="Picture 3" descr="Санкт-Петербург, Улицы и события, Мемориальный ансамбль на Пискаревском кладбищ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2133720"/>
            <a:ext cx="6480000" cy="3970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Picture 2" descr="Санкт-Петербург, Памятники, Мемориал &quot;Защитникам Ленинграда&quot; (1969-1975 г.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9280" y="404640"/>
            <a:ext cx="4056120" cy="5810400"/>
          </a:xfrm>
          <a:prstGeom prst="rect">
            <a:avLst/>
          </a:prstGeom>
          <a:ln w="0">
            <a:noFill/>
          </a:ln>
        </p:spPr>
      </p:pic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329000" cy="596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Ансамбль площади Победы.</a:t>
            </a:r>
            <a:br>
              <a:rPr sz="3200"/>
            </a:b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Монумент героическим защитникам Ленинград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1974-75гг.</a:t>
            </a:r>
            <a:br>
              <a:rPr sz="3200"/>
            </a:br>
            <a:r>
              <a:rPr b="0" lang="ru-RU" sz="2900" spc="-1" strike="noStrike">
                <a:solidFill>
                  <a:srgbClr val="000000"/>
                </a:solidFill>
                <a:latin typeface="Georgia"/>
              </a:rPr>
              <a:t>Скульптор 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Georgia"/>
              </a:rPr>
              <a:t>М.К. Аникушин,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Georgia"/>
              </a:rPr>
              <a:t>арх.С.Б. Сперанский, В.А.Каменский</a:t>
            </a:r>
            <a:endParaRPr b="0" lang="en-US" sz="29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>
    <p:newsflash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3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2" descr="117001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120" y="914400"/>
            <a:ext cx="8358120" cy="5372280"/>
          </a:xfrm>
          <a:prstGeom prst="rect">
            <a:avLst/>
          </a:prstGeom>
          <a:ln w="0">
            <a:noFill/>
          </a:ln>
        </p:spPr>
      </p:pic>
      <p:sp>
        <p:nvSpPr>
          <p:cNvPr id="763" name="Rectangle 3"/>
          <p:cNvSpPr/>
          <p:nvPr/>
        </p:nvSpPr>
        <p:spPr>
          <a:xfrm>
            <a:off x="1763640" y="33336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самбль площади Поб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Picture 2" descr="Санкт-Петербург, Московский проспект, Мемориал &quot;Защитникам Ленинграда&quot; (1969-1975 г.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680" y="304920"/>
            <a:ext cx="7816680" cy="5910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0" y="213840"/>
            <a:ext cx="9144000" cy="59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08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Героическая оборона Ленинграда - это массовый, всенародный подвиг.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66" name="Picture 3" descr="Фрагмент памятник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2057400"/>
            <a:ext cx="6642000" cy="4419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Picture 2" descr="blokada4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097680"/>
          </a:xfrm>
          <a:prstGeom prst="rect">
            <a:avLst/>
          </a:prstGeom>
          <a:ln w="0">
            <a:noFill/>
          </a:ln>
        </p:spPr>
      </p:pic>
    </p:spTree>
  </p:cSld>
  <p:transition advTm="8000">
    <p:newsflash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4176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Блокадное объявление - предупреждение сохраняется в наши дни на Невском пр., - уже как памятная доска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68" name="Picture 3" descr="monument82"/>
          <p:cNvPicPr/>
          <p:nvPr/>
        </p:nvPicPr>
        <p:blipFill>
          <a:blip r:embed="rId1"/>
          <a:stretch/>
        </p:blipFill>
        <p:spPr>
          <a:xfrm>
            <a:off x="4716360" y="357120"/>
            <a:ext cx="3810240" cy="5786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4"/>
          <p:cNvSpPr/>
          <p:nvPr/>
        </p:nvSpPr>
        <p:spPr>
          <a:xfrm>
            <a:off x="395280" y="442080"/>
            <a:ext cx="7056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, кто пережил блокаду, были обычными людьми. Они сумели совершить невозможное - пережить ледяной ад. И не только пережить, но и остаться людьми. Они уходят, и вместе с ними уходит история. От нас зависит, чтобы она не ушл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всегд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8" descr="0"/>
          <p:cNvPicPr/>
          <p:nvPr/>
        </p:nvPicPr>
        <p:blipFill>
          <a:blip r:embed="rId1"/>
          <a:stretch/>
        </p:blipFill>
        <p:spPr>
          <a:xfrm>
            <a:off x="6300720" y="4157640"/>
            <a:ext cx="2556000" cy="24591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48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1" i="1" lang="ru-RU" sz="2900" spc="-1" strike="noStrike">
                <a:solidFill>
                  <a:srgbClr val="000000"/>
                </a:solidFill>
                <a:latin typeface="Georgia"/>
              </a:rPr>
              <a:t>Из тезисов немецкого доклада "О блокаде Ленинграда", 21 сентября</a:t>
            </a:r>
            <a:r>
              <a:rPr b="1" lang="ru-RU" sz="2900" spc="-1" strike="noStrike">
                <a:solidFill>
                  <a:srgbClr val="000000"/>
                </a:solidFill>
                <a:latin typeface="Georgia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Сначала мы блокируем Ленинград и разрушаем город артиллерией и авиацией... Весной мы проникнем в город... вывезем всё, что осталось живое, в глубь России или возьмём в плен, сровняем Ленинград с землёй и передадим район севернее Невы Финляндии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Тучи над городом встали...</a:t>
            </a:r>
            <a:br>
              <a:rPr sz="4000"/>
            </a:b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4932000" y="1600200"/>
            <a:ext cx="40323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На момент установления блокады в городе находилось 2 миллиона 544 тысячи человек, в том числе около 400 тысяч детей. Кроме того, в пригородных районах, то есть тоже в кольце блокады, осталось 343 тысячи человек. В сентябре, когда начались систематические бомбардировки, обстрелы и пожары, многие хотели выехать, но пути уже были отрезаны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96" name="Picture 8" descr="blokada"/>
          <p:cNvPicPr/>
          <p:nvPr/>
        </p:nvPicPr>
        <p:blipFill>
          <a:blip r:embed="rId1"/>
          <a:stretch/>
        </p:blipFill>
        <p:spPr>
          <a:xfrm>
            <a:off x="179280" y="1989000"/>
            <a:ext cx="5077080" cy="3418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Picture 2" descr="005%5B1%5D"/>
          <p:cNvPicPr/>
          <p:nvPr/>
        </p:nvPicPr>
        <p:blipFill>
          <a:blip r:embed="rId1"/>
          <a:stretch/>
        </p:blipFill>
        <p:spPr>
          <a:xfrm>
            <a:off x="155520" y="46080"/>
            <a:ext cx="8836200" cy="6326280"/>
          </a:xfrm>
          <a:prstGeom prst="rect">
            <a:avLst/>
          </a:prstGeom>
          <a:ln w="0">
            <a:noFill/>
          </a:ln>
        </p:spPr>
      </p:pic>
    </p:spTree>
  </p:cSld>
  <p:transition advTm="4000">
    <p:newsflash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2" descr="leningrad1"/>
          <p:cNvPicPr/>
          <p:nvPr/>
        </p:nvPicPr>
        <p:blipFill>
          <a:blip r:embed="rId1"/>
          <a:stretch/>
        </p:blipFill>
        <p:spPr>
          <a:xfrm>
            <a:off x="0" y="46080"/>
            <a:ext cx="9144000" cy="5748120"/>
          </a:xfrm>
          <a:prstGeom prst="rect">
            <a:avLst/>
          </a:prstGeom>
          <a:ln w="0">
            <a:noFill/>
          </a:ln>
        </p:spPr>
      </p:pic>
    </p:spTree>
  </p:cSld>
  <p:transition advTm="6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3:20:41Z</dcterms:created>
  <dc:creator>1</dc:creator>
  <dc:description/>
  <dc:language>en-US</dc:language>
  <cp:lastModifiedBy>1</cp:lastModifiedBy>
  <dcterms:modified xsi:type="dcterms:W3CDTF">2023-01-19T10:24:28Z</dcterms:modified>
  <cp:revision>23</cp:revision>
  <dc:subject/>
  <dc:title>Блокада Ленингра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6F12447D9A64414C93E4E3810EF15472</vt:lpwstr>
  </property>
  <property fmtid="{D5CDD505-2E9C-101B-9397-08002B2CF9AE}" pid="3" name="KSOProductBuildVer">
    <vt:lpwstr>1049-11.2.0.11440</vt:lpwstr>
  </property>
</Properties>
</file>