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3AD-85F0-49BA-8A21-A22291F8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95D-8246-4221-94FD-F1BC42C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6D1-5705-4F51-8770-42BB7E01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613-EA85-40C3-BB50-E8C49FA0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32A-C8D4-458E-975F-D44A40F0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6B8-A03B-48AC-AE3B-16C6147D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35E-B9E2-4E70-8D40-CE900249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240-9160-4FF6-981D-DDAA91D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0B5-95DC-4563-9386-9D76A782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3EA-7733-49CB-9E73-86A9D41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A17-F0CD-4067-BD79-9BC1C19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FB8-FC06-4700-B273-686B7556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44F5-4403-4D1B-8E32-99B27A15D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шины для уборки сахарной свеклы. БМ -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408720" cy="612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6985080" cy="5905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288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.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Создан комплекс машин для раздельной уборки сахарной свёклы, состоящий из ботвоуборочной машины БМ-6 и корнеуборочной машины КС-6. Машина БМ-6 убирает ботву с 6 рядков (междурядья 45 </a:t>
            </a: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см)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и грузит её в трансп.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Устройство БМ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8680" y="404640"/>
            <a:ext cx="6686640" cy="4537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твоуборочная машина БМ-6А: 1 - рама; 2 - ботвосрезающий аппарат; 3 - копирующий механизм; 4 -  приёмный  транспортёр;    5 - опорное колесо; 6 - погрузочный транспортёр;  7 – очиститель головок корн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1. Повторение изуч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Классификация машин для          возделывания и уборки сахарной свеклы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Способы уборки сахарной свеклы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Машины для уборки сахарной свек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97800" cy="5904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688000" cy="6337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612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626436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2. 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7417080" cy="5977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00:31Z</dcterms:created>
  <dc:creator>Admin</dc:creator>
  <dc:description/>
  <dc:language>en-US</dc:language>
  <cp:lastModifiedBy>User</cp:lastModifiedBy>
  <dcterms:modified xsi:type="dcterms:W3CDTF">2002-01-13T18:45:52Z</dcterms:modified>
  <cp:revision>3</cp:revision>
  <dc:subject/>
  <dc:title>Машины для уборки сахарной свеклы. БМ - 6</dc:title>
</cp:coreProperties>
</file>