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5F16-E43E-4D1A-8C30-C376E703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C8D-7249-4A73-9659-BAB8E7F2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8DF-4308-4828-A6E7-EC70C441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9AFC-A278-4978-83ED-D7AF0A49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865F-1B99-4363-BE55-C0ED1FF5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910-597C-45F9-98E2-7AA40793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7395-F43B-4F3D-9145-CE9CFF34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179-4157-46A3-A1DB-77F38AE8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BDE-2626-4D03-B330-A2E58CAE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BA03-0628-424D-A1F0-83D8A023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5BBA-61B8-4E40-AAE2-8B1D48BB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504-0AA0-4160-8993-6769690D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20CD-AE53-411C-B16C-04198AA48F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Машины для уборки сахарной свеклы. БМ -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408720" cy="612000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6985080" cy="590544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892880"/>
            <a:ext cx="813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.На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Создан комплекс машин для раздельной уборки сахарной свёклы, состоящий из ботвоуборочной машины БМ-6 и корнеуборочной машины КС-6. Машина БМ-6 убирает ботву с 6 рядков (междурядья 45 </a:t>
            </a: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см)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и грузит её в трансп. сред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Устройство БМ -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28680" y="404640"/>
            <a:ext cx="6686640" cy="453708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157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твоуборочная машина БМ-6А: 1 - рама; 2 - ботвосрезающий аппарат; 3 - копирующий механизм; 4 -  приёмный  транспортёр;    5 - опорное колесо; 6 - погрузочный транспортёр;  7 – очиститель головок корн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1. Повторение изученного матери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Классификация машин для          возделывания и уборки сахарной свеклы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Способы уборки сахарной свеклы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Машины для уборки сахарной свекл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697800" cy="590400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5688000" cy="633744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5113440" cy="612000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697800" cy="626436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2. Изучение нового матери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fcc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7417080" cy="597708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5:00:31Z</dcterms:created>
  <dc:creator>Admin</dc:creator>
  <dc:description/>
  <dc:language>en-US</dc:language>
  <cp:lastModifiedBy>User</cp:lastModifiedBy>
  <dcterms:modified xsi:type="dcterms:W3CDTF">2002-01-13T18:45:52Z</dcterms:modified>
  <cp:revision>3</cp:revision>
  <dc:subject/>
  <dc:title>Машины для уборки сахарной свеклы. БМ - 6</dc:title>
</cp:coreProperties>
</file>