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93C-5CF8-4C17-8F21-3FC7FA53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484-1DF0-4AA3-82F5-10E96D67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BEB-F624-427B-BAA5-E2295EA9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C37-0477-4913-9C24-1874FC09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CBC-9577-40D5-B750-50A002A1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61F-F7AE-494E-87A4-173C5C18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ED3-9F4E-4F65-BA55-3784FDFA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A14-DDA6-46A6-A41C-F9671F78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F98-32DD-4089-81DA-02557D7A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5EF-A3A2-4FF8-AB59-BBAC35C6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6BA-B577-406F-A70E-800E541C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605-6F43-4848-B149-7EE53E5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2F1-A819-439A-84B3-F3EB6B0F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8229600" cy="1641600"/>
          </a:xfrm>
          <a:prstGeom prst="rect">
            <a:avLst/>
          </a:prstGeom>
          <a:solidFill>
            <a:srgbClr val="663300"/>
          </a:solidFill>
          <a:ln w="7632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Расчёт предельных размеров,  допусков и величин зазора, натяга (посад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-  Построение полей допусков разм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адача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Дано отверстие Ø 10 мм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ить графическое изображение полей допусков для данного отверстия с отклонениями: </a:t>
            </a:r>
            <a:br>
              <a:rPr sz="40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а) ES=+0,2 EI=-0,1; 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б)ES=0,1 EI=0 ; в)ES=0 EI=-0,1; г)ES=0,2 EI=-0,2 ; 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д)ES=+0,4 EI=+0,2;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е)ES=-0,1 EI=-0,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4968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ить допуск по предель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ам и отклоне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а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, 989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мк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i  = -11 мк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d = dmax – dm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Td = es - e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мотрим на примере для отверстия ø10 ES=+0.015  EI = 0    для вала Ø 10  es = -0,025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 = -0,040.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46638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Задача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читать предельные размеры деталей, допуски размеров, величины зазоров (натягов),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ь графическое построение расположения полей допусков сопряженных деталей относительно нулевой линии с указанием номинального размера, отклонений, допусков предельных зазоров (натягов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ля выполнения задачи необходимо пользоваться таблицами допусков и посадок по стандартам: ГОСТ 25347-82 (СТ СЭВ 144-75), ГОСТ 25346-82 (СТ СЭВ 144-75) [2]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к домашней задаче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Td = 20,010 - 19,989 = 0,021 м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d = 10 - (-11) = 0,021 м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72400" cy="18003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Arial"/>
              </a:rPr>
              <a:t>1. 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351640" cy="4680000"/>
          </a:xfrm>
          <a:prstGeom prst="rect">
            <a:avLst/>
          </a:prstGeom>
          <a:solidFill>
            <a:srgbClr val="cc3300"/>
          </a:solidFill>
          <a:ln w="7632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99"/>
                </a:solidFill>
                <a:uFillTx/>
                <a:latin typeface="Arial"/>
              </a:rPr>
              <a:t>Вопросы для повтор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Что такое номинальный разм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Что такое действительный разм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Что такое допус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Что такое зазор и натя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848720" cy="6264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Зазор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зывают разность между действительными размерами отверстия и вала, когда отверстие больше вал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тяго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зывают разность между действительными размерами вала и отверстия, когда вал больше отверст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адача 1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Дан вал Ø 75+0,008 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ить номинальный размер, предельные отклонения, предельные размеры, допуск. вал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Решение 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75,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+ 0,008, 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e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- 0 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 ma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d + es =75+ 0,008 = 75,008 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 m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d + ei = 75 + 0 = 75  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dmax - dmin = 75,008 - 75= 0,00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ma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ий допускаемый размер вал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mi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ий допускаемый размер вал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max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ий допускаемый размер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mi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ий допускаемый размер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=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инальный размер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 на изготовление вал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 на изготовление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S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нее предельное отклонение от номинального размера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s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нее предельное отклонение от номинального размера вала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нее предельное отклонение от номинального размера отверстия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i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нее предельное отклонение от номинального размеравал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2:22:01Z</dcterms:created>
  <dc:creator>Admin</dc:creator>
  <dc:description/>
  <dc:language>en-US</dc:language>
  <cp:lastModifiedBy>User</cp:lastModifiedBy>
  <dcterms:modified xsi:type="dcterms:W3CDTF">2013-02-14T05:11:46Z</dcterms:modified>
  <cp:revision>4</cp:revision>
  <dc:subject/>
  <dc:title>Задача - Рассчитать предельные размеры деталей, допуски размеров, величины зазоров (натягов),  - Выполнить графическое построение расположения полей допусков сопряженных деталей относительно нулевой линии с указанием номинального размера, отклонений, допусков предельных зазоров (натягов).</dc:title>
</cp:coreProperties>
</file>