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ABE6-A6D0-4D19-90D1-95241BB8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5C13-0DAD-4991-9445-ACC01B36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1357-F0DB-4FA5-8A8A-BBD92F42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E7A3-4165-45BB-AB43-1DEB5046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0F12-583B-4ED9-87DF-C8CDFB43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EC6A-27CC-4543-9D83-F930E679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643-FE9F-445C-B67A-A97FE05A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7302-180F-4E38-BCC1-9CD04DF1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DC7B-7B82-4D4D-AFB0-989E9046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76A4-1D53-48C0-9962-35155BDA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FAC1-999D-4356-A856-5112039B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DB5F-01FF-4065-9B52-3C2DA8BE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6D11-3CD9-420D-9838-5BA579A33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1641600"/>
          </a:xfrm>
          <a:prstGeom prst="rect">
            <a:avLst/>
          </a:prstGeom>
          <a:solidFill>
            <a:srgbClr val="663300"/>
          </a:solidFill>
          <a:ln w="7632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Расчёт предельных размеров,  допусков и величин зазора, натяга (посад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-  Построение полей допусков раз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Задача 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Дано отверстие Ø 10 мм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полнить графическое изображение полей допусков для данного отверстия с отклонениями: </a:t>
            </a:r>
            <a:br>
              <a:rPr sz="4000"/>
            </a:b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а) ES=+0,2 EI=-0,1; </a:t>
            </a:r>
            <a:br>
              <a:rPr sz="3600"/>
            </a:b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б)ES=0,1 EI=0 ; в)ES=0 EI=-0,1; г)ES=0,2 EI=-0,2 ; </a:t>
            </a:r>
            <a:br>
              <a:rPr sz="3600"/>
            </a:b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д)ES=+0,4 EI=+0,2;</a:t>
            </a:r>
            <a:br>
              <a:rPr sz="3600"/>
            </a:b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е)ES=-0,1 EI=-0,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80360" cy="49687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числить допуск по предель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ерам и отклонени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Дан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01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m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, 989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мк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ei  = -11 мк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Td = dmax – dmin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 Td = es - e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2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смотрим на примере для отверстия ø10 ES=+0.015  EI = 0    для вала Ø 10  es = -0,025 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 = -0,040.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46638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Задача</a:t>
            </a:r>
            <a:br>
              <a:rPr sz="3600"/>
            </a:b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читать предельные размеры деталей, допуски размеров, величины зазоров (натягов), </a:t>
            </a:r>
            <a:br>
              <a:rPr sz="3600"/>
            </a:b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полнить графическое построение расположения полей допусков сопряженных деталей относительно нулевой линии с указанием номинального размера, отклонений, допусков предельных зазоров (натягов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ля выполнения задачи необходимо пользоваться таблицами допусков и посадок по стандартам: ГОСТ 25347-82 (СТ СЭВ 144-75), ГОСТ 25346-82 (СТ СЭВ 144-75) [2]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к домашней задаче</a:t>
            </a: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Td = 20,010 - 19,989 = 0,021 м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Td = 10 - (-11) = 0,021 м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772400" cy="1800360"/>
          </a:xfrm>
          <a:prstGeom prst="rect">
            <a:avLst/>
          </a:prstGeom>
          <a:solidFill>
            <a:srgbClr val="663300"/>
          </a:solidFill>
          <a:ln w="7632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Arial"/>
              </a:rPr>
              <a:t>1. ПОВТО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351640" cy="4680000"/>
          </a:xfrm>
          <a:prstGeom prst="rect">
            <a:avLst/>
          </a:prstGeom>
          <a:solidFill>
            <a:srgbClr val="cc3300"/>
          </a:solidFill>
          <a:ln w="76320">
            <a:solidFill>
              <a:srgbClr val="cc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99"/>
                </a:solidFill>
                <a:uFillTx/>
                <a:latin typeface="Arial"/>
              </a:rPr>
              <a:t>Вопросы для повтор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Что такое номинальный разме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Что такое действительный разме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Что такое допус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Что такое зазор и натя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848720" cy="62643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Зазоро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называют разность между действительными размерами отверстия и вала, когда отверстие больше вала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Натяго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называют разность между действительными размерами вала и отверстия, когда вал больше отверсти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Задача 1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Дан вал Ø 75+0,008 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  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ить номинальный размер, предельные отклонения, предельные размеры, допуск. вал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Решение 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75, 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+ 0,008,  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e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- 0  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d ma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d + es =75+ 0,008 = 75,008  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d mi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d + ei = 75 + 0 = 75  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dmax - dmin = 75,008 - 75= 0,00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2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max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ьший допускаемый размер вала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min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меньший допускаемый размер вала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max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ьший допускаемый размер отверстия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min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меньший допускаемый размер отверстия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=d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инальный размер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d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к на изготовление вала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D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к на изготовление отверстия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S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хнее предельное отклонение от номинального размера отверстия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s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хнее предельное отклонение от номинального размера вала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I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жнее предельное отклонение от номинального размера отверстия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i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жнее предельное отклонение от номинального размеравал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2:22:01Z</dcterms:created>
  <dc:creator>Admin</dc:creator>
  <dc:description/>
  <dc:language>en-US</dc:language>
  <cp:lastModifiedBy>User</cp:lastModifiedBy>
  <dcterms:modified xsi:type="dcterms:W3CDTF">2013-02-14T05:11:46Z</dcterms:modified>
  <cp:revision>4</cp:revision>
  <dc:subject/>
  <dc:title>Задача - Рассчитать предельные размеры деталей, допуски размеров, величины зазоров (натягов),  - Выполнить графическое построение расположения полей допусков сопряженных деталей относительно нулевой линии с указанием номинального размера, отклонений, допусков предельных зазоров (натягов).</dc:title>
</cp:coreProperties>
</file>