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media/image1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70FEF-19FF-4CB1-8D2B-9B7CB160E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1F3C8-61A6-4668-AB33-A60B75F95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6D49D-A946-437F-AFBA-CCCE642A9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26284-6B31-49B2-9E86-9B53851FF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2E83A-0372-4144-BA04-AB627C6C9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24819-237A-4847-920C-21375B97A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1DD21-06DD-429E-BF4F-025DAF25D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AE553-B04C-495D-9142-DB7F66E89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43FA2-0768-4192-AF13-0FC19B5B2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CB884-E87E-4A2E-B735-C4372434E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2F02A-9B39-4E52-B04B-414459A9B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A88F2-0CB6-4B49-B51F-22B98D92A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1C9B4-35DA-481D-864B-D1285B3475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3240">
            <a:solidFill>
              <a:srgbClr val="008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8000"/>
                </a:solidFill>
                <a:latin typeface="Times New Roman"/>
              </a:rPr>
              <a:t>Прямое комбайниров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3357720"/>
            <a:ext cx="4724280" cy="3352680"/>
          </a:xfrm>
          <a:prstGeom prst="rect">
            <a:avLst/>
          </a:prstGeom>
          <a:ln w="76320">
            <a:solidFill>
              <a:srgbClr val="008000"/>
            </a:solidFill>
            <a:miter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4067280" y="1628640"/>
            <a:ext cx="4895640" cy="3264120"/>
          </a:xfrm>
          <a:prstGeom prst="rect">
            <a:avLst/>
          </a:prstGeom>
          <a:ln w="76320">
            <a:solidFill>
              <a:srgbClr val="008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3240">
            <a:solidFill>
              <a:srgbClr val="3333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ff"/>
                </a:solidFill>
                <a:latin typeface="Times New Roman"/>
              </a:rPr>
              <a:t>Копнитель, соломотря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1116000" y="1628640"/>
            <a:ext cx="6945480" cy="4992840"/>
          </a:xfrm>
          <a:prstGeom prst="rect">
            <a:avLst/>
          </a:prstGeom>
          <a:ln w="76320">
            <a:solidFill>
              <a:srgbClr val="3333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3240">
            <a:solidFill>
              <a:srgbClr val="008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ff"/>
                </a:solidFill>
                <a:latin typeface="Times New Roman"/>
              </a:rPr>
              <a:t>Валковая жат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0" y="3881520"/>
            <a:ext cx="5292720" cy="2976480"/>
          </a:xfrm>
          <a:prstGeom prst="rect">
            <a:avLst/>
          </a:prstGeom>
          <a:ln w="76320">
            <a:solidFill>
              <a:srgbClr val="008000"/>
            </a:solidFill>
            <a:miter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3995640" y="1268280"/>
            <a:ext cx="4962600" cy="3722760"/>
          </a:xfrm>
          <a:prstGeom prst="rect">
            <a:avLst/>
          </a:prstGeom>
          <a:ln w="76320">
            <a:solidFill>
              <a:srgbClr val="008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3240">
            <a:solidFill>
              <a:srgbClr val="3333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ff"/>
                </a:solidFill>
                <a:latin typeface="Times New Roman"/>
              </a:rPr>
              <a:t>Валковая жат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539640" y="1844640"/>
            <a:ext cx="8213760" cy="4657680"/>
          </a:xfrm>
          <a:prstGeom prst="rect">
            <a:avLst/>
          </a:prstGeom>
          <a:ln w="76320">
            <a:solidFill>
              <a:srgbClr val="3333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8920" y="260280"/>
            <a:ext cx="871380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79280" y="5516280"/>
            <a:ext cx="878544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1- мотовило; 2 - барабан; 3 - отбойный битер; 4 - бункер; 5 - соломотряс; 6 - верхнее решето; 7 - колосовой шнек; 8 - нижнее решето;9 - подбараба-нье; 10 - стрясная доска; 11 - транспортер наклонной камеры; 12 - битер проставки; 13 - шнек жатки; 14 - режущий аппарат</a:t>
            </a:r>
            <a:br>
              <a:rPr sz="1600"/>
            </a:b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1116000" y="2205000"/>
            <a:ext cx="685800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4960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8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8000"/>
                </a:solidFill>
                <a:latin typeface="Times New Roman"/>
              </a:rPr>
              <a:t>Раздельное комбайниров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24000" y="1557360"/>
            <a:ext cx="8424720" cy="5076720"/>
          </a:xfrm>
          <a:prstGeom prst="rect">
            <a:avLst/>
          </a:prstGeom>
          <a:ln w="76320">
            <a:solidFill>
              <a:srgbClr val="008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8642160" cy="1143000"/>
          </a:xfrm>
          <a:prstGeom prst="rect">
            <a:avLst/>
          </a:prstGeom>
          <a:solidFill>
            <a:srgbClr val="ffffff"/>
          </a:solidFill>
          <a:ln w="3240">
            <a:solidFill>
              <a:srgbClr val="3333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8000"/>
                </a:solidFill>
                <a:latin typeface="Times New Roman"/>
              </a:rPr>
              <a:t>Общее устройство комбай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24000" y="1628640"/>
            <a:ext cx="8496000" cy="4896000"/>
          </a:xfrm>
          <a:prstGeom prst="rect">
            <a:avLst/>
          </a:prstGeom>
          <a:ln w="76320">
            <a:solidFill>
              <a:srgbClr val="3333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324000" y="476280"/>
            <a:ext cx="8618400" cy="6048360"/>
          </a:xfrm>
          <a:prstGeom prst="rect">
            <a:avLst/>
          </a:prstGeom>
          <a:ln w="76320">
            <a:solidFill>
              <a:srgbClr val="3333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39640" y="404640"/>
            <a:ext cx="8280360" cy="6264360"/>
          </a:xfrm>
          <a:prstGeom prst="rect">
            <a:avLst/>
          </a:prstGeom>
          <a:ln w="76320">
            <a:solidFill>
              <a:srgbClr val="3333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8920" y="260280"/>
            <a:ext cx="871380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Times New Roman"/>
              </a:rPr>
              <a:t>Жатка</a:t>
            </a:r>
            <a:br>
              <a:rPr sz="24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отовило 1 (рисунок) подводит порцию стеблей к режущему аппарату 14. Срезанные стебли транспортируются шнеком жатки 13 к центру жатки, где выдвигающимися из шнека пальцами захватываются и перемещаются к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омежуточному битеру проставки 12 и транспортеру наклонной камеры 11, который подает хлебную массу в молотильное устройство к барабану 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79280" y="5516280"/>
            <a:ext cx="878544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1- мотовило; 2 - барабан; 3 - отбойный битер; 4 - бункер; 5 - соломотряс; 6 - верхнее решето; 7 - колосовой шнек; 8 - нижнее решето;9 - подбараба-нье; 10 - стрясная доска; 11 - транспортер наклонной камеры; 12 - битер проставки; 13 - шнек жатки; 14 - режущий аппарат</a:t>
            </a:r>
            <a:br>
              <a:rPr sz="1600"/>
            </a:b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1116000" y="2205000"/>
            <a:ext cx="6858000" cy="3311640"/>
          </a:xfrm>
          <a:prstGeom prst="rect">
            <a:avLst/>
          </a:prstGeom>
          <a:ln w="76320">
            <a:solidFill>
              <a:srgbClr val="3333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8920" y="260280"/>
            <a:ext cx="871380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Times New Roman"/>
              </a:rPr>
              <a:t>Молотильное устройство</a:t>
            </a:r>
            <a:br>
              <a:rPr sz="24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олотильный барабан и подбарабанье выполняют обмолот. При обмолоте основная часть зерна, выделенная из колосьев, вместе со значительной частью половы и сбоины сепарируется через решетку подбарабанья 9 на стряс-ную доску 10. Остальной ворох отбрасывается отбойным битером 3 на соломотряс 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79280" y="5516280"/>
            <a:ext cx="878544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1- мотовило; 2 - барабан; 3 - отбойный битер; 4 - бункер; 5 - соломотряс; 6 - верхнее решето; 7 - колосовой шнек; 8 - нижнее решето;9 - подбараба-нье; 10 - стрясная доска; 11 - транспортер наклонной камеры; 12 - битер проставки; 13 - шнек жатки; 14 - режущий аппарат</a:t>
            </a:r>
            <a:br>
              <a:rPr sz="1600"/>
            </a:b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1116000" y="2205000"/>
            <a:ext cx="6858000" cy="3311640"/>
          </a:xfrm>
          <a:prstGeom prst="rect">
            <a:avLst/>
          </a:prstGeom>
          <a:ln w="76320">
            <a:solidFill>
              <a:srgbClr val="3333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8920" y="260280"/>
            <a:ext cx="871380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Соломотряс</a:t>
            </a:r>
            <a:br>
              <a:rPr sz="24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На клавишах соломотряса происходит дальнейшее выделение зерна из соломистого вороха. Солома транспортируется клавишами соломотряса к выходу молотилки. Высыпавшиеся зерна попадают на решетный стан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79280" y="5516280"/>
            <a:ext cx="878544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1- мотовило; 2 - барабан; 3 - отбойный битер; 4 - бункер; 5 - соломотряс; 6 - верхнее решето; 7 - колосовой шнек; 8 - нижнее решето;9 - подбараба-нье; 10 - стрясная доска; 11 - транспортер наклонной камеры; 12 - битер проставки; 13 - шнек жатки; 14 - режущий аппарат</a:t>
            </a:r>
            <a:br>
              <a:rPr sz="1600"/>
            </a:b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1116000" y="2205000"/>
            <a:ext cx="6858000" cy="3311640"/>
          </a:xfrm>
          <a:prstGeom prst="rect">
            <a:avLst/>
          </a:prstGeom>
          <a:ln w="76320">
            <a:solidFill>
              <a:srgbClr val="3333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8920" y="260280"/>
            <a:ext cx="871380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Очистка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осле сепарации тонкий зерновой ворох попадает на стрясную доску 10 и транспортируется к верхнему решету 6. В процессе транспортирования ворох предварительно разделяется на фракции, зерно перемещается вниз, а сбоина -вверх. В зоне перепада между стрясной доской и верхним решетом происходит его продувка. Полова и мелкие примеси воздушным потоком выдуваются их очистки. Проваливаясь через решето, зерно попадает в зерновой шнек и далее в элеватор, в загрузочный шнек и попадает в бункер 4. Недомолоченные колоски, проваливаясь через верхнее решето и удлинитель верхнего решета на нижнее решето 8, транспортируются в колосовой шнек 7, колосовой элеватор, повторно обмолачиваются в домолачивающем устройстве и распределительным шнеком выбрасываются на стрясную доску.</a:t>
            </a:r>
            <a:br>
              <a:rPr sz="14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79280" y="5516280"/>
            <a:ext cx="878544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1- мотовило; 2 - барабан; 3 - отбойный битер; 4 - бункер; 5 - соломотряс; 6 - верхнее решето; 7 - колосовой шнек; 8 - нижнее решето;9 - подбараба-нье; 10 - стрясная доска; 11 - транспортер наклонной камеры; 12 - битер проставки; 13 - шнек жатки; 14 - режущий аппарат</a:t>
            </a:r>
            <a:br>
              <a:rPr sz="1600"/>
            </a:b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1116000" y="2205000"/>
            <a:ext cx="685800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2-04T06:24:10Z</dcterms:created>
  <dc:creator>User</dc:creator>
  <dc:description/>
  <dc:language>en-US</dc:language>
  <cp:lastModifiedBy>User</cp:lastModifiedBy>
  <dcterms:modified xsi:type="dcterms:W3CDTF">2001-12-31T21:17:12Z</dcterms:modified>
  <cp:revision>5</cp:revision>
  <dc:subject/>
  <dc:title>Слайд 1</dc:title>
</cp:coreProperties>
</file>