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31B3-9572-4ADD-AAC6-718D899B9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62E5-7CB4-43CA-8AF4-C1773A7D9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A4CF-784D-4FBD-9209-1E071383C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4663-E651-4787-B902-19B7362EE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23D0-E385-4587-BCFF-E6C7832A7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78AB-5FE3-4988-9D0E-6ADC1FB5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C619-BA86-4A5E-89A3-3D38AD14A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877F-EE7C-4289-B283-2DD68223E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5316-F28D-440D-8A4A-EAF8B0CA0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3547-4150-49C1-9B6E-528FE16D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6272-FBD9-4D9E-BA35-04E9500D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BF0F-5CB6-41D4-AC63-C917B390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1FD1E-4B7F-4738-A4EA-C6F709142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8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8000"/>
                </a:solidFill>
                <a:latin typeface="Times New Roman"/>
              </a:rPr>
              <a:t>Прямое комбайнир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3357720"/>
            <a:ext cx="4724280" cy="335268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067280" y="1628640"/>
            <a:ext cx="4895640" cy="326412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240">
            <a:solidFill>
              <a:srgbClr val="3333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ff"/>
                </a:solidFill>
                <a:latin typeface="Times New Roman"/>
              </a:rPr>
              <a:t>Копнитель, соломотря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116000" y="1628640"/>
            <a:ext cx="6945480" cy="4992840"/>
          </a:xfrm>
          <a:prstGeom prst="rect">
            <a:avLst/>
          </a:prstGeom>
          <a:ln w="76320">
            <a:solidFill>
              <a:srgbClr val="3333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8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ff"/>
                </a:solidFill>
                <a:latin typeface="Times New Roman"/>
              </a:rPr>
              <a:t>Валковая жа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3881520"/>
            <a:ext cx="5292720" cy="297648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995640" y="1268280"/>
            <a:ext cx="4962600" cy="372276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240">
            <a:solidFill>
              <a:srgbClr val="3333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ff"/>
                </a:solidFill>
                <a:latin typeface="Times New Roman"/>
              </a:rPr>
              <a:t>Валковая жа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39640" y="1844640"/>
            <a:ext cx="8213760" cy="4657680"/>
          </a:xfrm>
          <a:prstGeom prst="rect">
            <a:avLst/>
          </a:prstGeom>
          <a:ln w="76320">
            <a:solidFill>
              <a:srgbClr val="3333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7138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79280" y="5516280"/>
            <a:ext cx="87854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1- мотовило; 2 - барабан; 3 - отбойный битер; 4 - бункер; 5 - соломотряс; 6 - верхнее решето; 7 - колосовой шнек; 8 - нижнее решето;9 - подбараба-нье; 10 - стрясная доска; 11 - транспортер наклонной камеры; 12 - битер проставки; 13 - шнек жатки; 14 - режущий аппарат</a:t>
            </a:r>
            <a:br>
              <a:rPr sz="1600"/>
            </a:b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116000" y="2205000"/>
            <a:ext cx="685800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96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8000"/>
                </a:solidFill>
                <a:latin typeface="Times New Roman"/>
              </a:rPr>
              <a:t>Раздельное комбайнир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8424720" cy="507672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solidFill>
            <a:srgbClr val="ffffff"/>
          </a:solidFill>
          <a:ln w="3240">
            <a:solidFill>
              <a:srgbClr val="3333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8000"/>
                </a:solidFill>
                <a:latin typeface="Times New Roman"/>
              </a:rPr>
              <a:t>Общее устройство комбай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24000" y="1628640"/>
            <a:ext cx="8496000" cy="4896000"/>
          </a:xfrm>
          <a:prstGeom prst="rect">
            <a:avLst/>
          </a:prstGeom>
          <a:ln w="76320">
            <a:solidFill>
              <a:srgbClr val="3333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24000" y="476280"/>
            <a:ext cx="8618400" cy="6048360"/>
          </a:xfrm>
          <a:prstGeom prst="rect">
            <a:avLst/>
          </a:prstGeom>
          <a:ln w="76320">
            <a:solidFill>
              <a:srgbClr val="3333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39640" y="404640"/>
            <a:ext cx="8280360" cy="6264360"/>
          </a:xfrm>
          <a:prstGeom prst="rect">
            <a:avLst/>
          </a:prstGeom>
          <a:ln w="76320">
            <a:solidFill>
              <a:srgbClr val="3333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7138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Times New Roman"/>
              </a:rPr>
              <a:t>Жатка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товило 1 (рисунок) подводит порцию стеблей к режущему аппарату 14. Срезанные стебли транспортируются шнеком жатки 13 к центру жатки, где выдвигающимися из шнека пальцами захватываются и перемещаются к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межуточному битеру проставки 12 и транспортеру наклонной камеры 11, который подает хлебную массу в молотильное устройство к барабану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79280" y="5516280"/>
            <a:ext cx="87854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1- мотовило; 2 - барабан; 3 - отбойный битер; 4 - бункер; 5 - соломотряс; 6 - верхнее решето; 7 - колосовой шнек; 8 - нижнее решето;9 - подбараба-нье; 10 - стрясная доска; 11 - транспортер наклонной камеры; 12 - битер проставки; 13 - шнек жатки; 14 - режущий аппарат</a:t>
            </a:r>
            <a:br>
              <a:rPr sz="1600"/>
            </a:b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116000" y="2205000"/>
            <a:ext cx="6858000" cy="3311640"/>
          </a:xfrm>
          <a:prstGeom prst="rect">
            <a:avLst/>
          </a:prstGeom>
          <a:ln w="76320">
            <a:solidFill>
              <a:srgbClr val="3333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7138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Times New Roman"/>
              </a:rPr>
              <a:t>Молотильное устройство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лотильный барабан и подбарабанье выполняют обмолот. При обмолоте основная часть зерна, выделенная из колосьев, вместе со значительной частью половы и сбоины сепарируется через решетку подбарабанья 9 на стряс-ную доску 10. Остальной ворох отбрасывается отбойным битером 3 на соломотряс 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79280" y="5516280"/>
            <a:ext cx="87854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1- мотовило; 2 - барабан; 3 - отбойный битер; 4 - бункер; 5 - соломотряс; 6 - верхнее решето; 7 - колосовой шнек; 8 - нижнее решето;9 - подбараба-нье; 10 - стрясная доска; 11 - транспортер наклонной камеры; 12 - битер проставки; 13 - шнек жатки; 14 - режущий аппарат</a:t>
            </a:r>
            <a:br>
              <a:rPr sz="1600"/>
            </a:b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116000" y="2205000"/>
            <a:ext cx="6858000" cy="3311640"/>
          </a:xfrm>
          <a:prstGeom prst="rect">
            <a:avLst/>
          </a:prstGeom>
          <a:ln w="76320">
            <a:solidFill>
              <a:srgbClr val="3333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7138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Соломотряс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а клавишах соломотряса происходит дальнейшее выделение зерна из соломистого вороха. Солома транспортируется клавишами соломотряса к выходу молотилки. Высыпавшиеся зерна попадают на решетный стан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79280" y="5516280"/>
            <a:ext cx="87854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1- мотовило; 2 - барабан; 3 - отбойный битер; 4 - бункер; 5 - соломотряс; 6 - верхнее решето; 7 - колосовой шнек; 8 - нижнее решето;9 - подбараба-нье; 10 - стрясная доска; 11 - транспортер наклонной камеры; 12 - битер проставки; 13 - шнек жатки; 14 - режущий аппарат</a:t>
            </a:r>
            <a:br>
              <a:rPr sz="1600"/>
            </a:b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116000" y="2205000"/>
            <a:ext cx="6858000" cy="3311640"/>
          </a:xfrm>
          <a:prstGeom prst="rect">
            <a:avLst/>
          </a:prstGeom>
          <a:ln w="76320">
            <a:solidFill>
              <a:srgbClr val="3333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7138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чистка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сле сепарации тонкий зерновой ворох попадает на стрясную доску 10 и транспортируется к верхнему решету 6. В процессе транспортирования ворох предварительно разделяется на фракции, зерно перемещается вниз, а сбоина -вверх. В зоне перепада между стрясной доской и верхним решетом происходит его продувка. Полова и мелкие примеси воздушным потоком выдуваются их очистки. Проваливаясь через решето, зерно попадает в зерновой шнек и далее в элеватор, в загрузочный шнек и попадает в бункер 4. Недомолоченные колоски, проваливаясь через верхнее решето и удлинитель верхнего решета на нижнее решето 8, транспортируются в колосовой шнек 7, колосовой элеватор, повторно обмолачиваются в домолачивающем устройстве и распределительным шнеком выбрасываются на стрясную доску.</a:t>
            </a:r>
            <a:br>
              <a:rPr sz="14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79280" y="5516280"/>
            <a:ext cx="87854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1- мотовило; 2 - барабан; 3 - отбойный битер; 4 - бункер; 5 - соломотряс; 6 - верхнее решето; 7 - колосовой шнек; 8 - нижнее решето;9 - подбараба-нье; 10 - стрясная доска; 11 - транспортер наклонной камеры; 12 - битер проставки; 13 - шнек жатки; 14 - режущий аппарат</a:t>
            </a:r>
            <a:br>
              <a:rPr sz="1600"/>
            </a:b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116000" y="2205000"/>
            <a:ext cx="685800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4T06:24:10Z</dcterms:created>
  <dc:creator>User</dc:creator>
  <dc:description/>
  <dc:language>en-US</dc:language>
  <cp:lastModifiedBy>User</cp:lastModifiedBy>
  <dcterms:modified xsi:type="dcterms:W3CDTF">2001-12-31T21:17:12Z</dcterms:modified>
  <cp:revision>5</cp:revision>
  <dc:subject/>
  <dc:title>Слайд 1</dc:title>
</cp:coreProperties>
</file>