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627-0396-4F0F-807A-EE944B3D4A3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F1AA7DC-AA25-4C28-87F1-F26EF11616E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C9CCA5-5FAD-4B55-93B8-A56B3CBFE97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0680" y="2710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0680" y="2710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BE3C7791-0966-430C-A4E6-E0A56237B5A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0880" y="3632040"/>
            <a:ext cx="7713360" cy="224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тинг школ по итогам ЕГЭ по математике за 20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цинском районе</a:t>
            </a:r>
            <a:br>
              <a:rPr sz="2800"/>
            </a:br>
            <a:br>
              <a:rPr sz="1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219240" y="177840"/>
            <a:ext cx="841500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3406680" y="3746520"/>
            <a:ext cx="31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731880" y="1665360"/>
            <a:ext cx="61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13. Выполнение действий с геометрическими фигурами, координатами и вект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3372840" y="346068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человек – 2 бал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933480" y="1682640"/>
            <a:ext cx="61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14. Решение показательного не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95160" y="2921040"/>
            <a:ext cx="6162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15. Умение использовать приобретённые знания и умения в прак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деятельности и повседнев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7 человек – 2 балла       1 чел- 1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1830600" y="57913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31880" y="2921040"/>
            <a:ext cx="61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</a:rPr>
              <a:t>16. Умение выполнять действия с геометрическими фигурами, координатами и вект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206360" y="307512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</a:rPr>
              <a:t>17. Умение решать уравнения и не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1419480" y="405144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017720" y="1886040"/>
            <a:ext cx="65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</a:rPr>
              <a:t>18. Умение  строить и исследовать простейшие математически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753120" y="1506600"/>
            <a:ext cx="5542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 Тацинском  рай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Средний балл – 50,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2году средний балл – 63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ос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Средний балл – 55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2году средний балл – 56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5084640" y="0"/>
            <a:ext cx="4059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3936240" y="250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250920" y="1189080"/>
            <a:ext cx="8893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результатов ЕГЭ-2022 по профильной математике показал, что в этом году математическая подготовка подавляющего большинства выпускников Тацинского района отвечает требованиям государственного образовательного стандарта среднего общего образования по математике. ЕГЭ по профильной математике остается в числе востребованных экзаменов по выбору. Статистика выполнения работы в целом и отдельных заданий позволяет выявить основные тенденции и проблемные зоны в математической подготовке экзаменующихся. Выполнение заданий: </a:t>
            </a:r>
            <a:r>
              <a:rPr b="0" lang="ru-RU" sz="2000" spc="-1" strike="noStrike">
                <a:solidFill>
                  <a:srgbClr val="181818"/>
                </a:solidFill>
                <a:latin typeface="Times New Roman"/>
                <a:ea typeface="Calibri"/>
              </a:rPr>
              <a:t>Умение решать уравнения, умение строить и исследовать простейшие математические модели ( простейшие задачи на вероятность), использовать приобретенные знания и умения в практической деятельности и повседневной жизни, выполнять действия с функци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монстрирует хорошее усвоение на базовом уровне (более 90% и более) чуть хуже справились с заданиями на умение выполнять действия с геометрическими фигурами  и использования вероятностей и статистики при решении прикладных задач ( 84%) задач из различных областей науки и прак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0" y="1014480"/>
            <a:ext cx="914400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а достаточном уровне (60-79%) выполнены задания, соответствующие элементам содержания: - Понятие о производной функции, геометрический смысл производной;  решение задач на объёмы , умение строить и исследовать простейшие математические модели (задачи на движение, проценты, сплавы, смеси, рабо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месте с тем результаты экзамена свидетельствуют о наличии определенного числа недостаточно усвоенных элементов содержания: -Умение выполнять вычисления и преобразования задание №4 и выполнять действия с функциями (нахождение наибольшего, наименьшего значения функции, максимума, минимума) задание №11( 40%-50%) Требуют коррекции и дальнейшей отработки умения: - Выполнять арифметические действия, сочетая устные и письменные приемы; - Проводить по известным формулам и правилам преобразования буквенных выражений, включающих тригонометрические функции. Сравнение результатов 2021 и предыдущих годов показывает улучшение показателей решаемости заданий с кратким ответом только по разделу «Элементы комбинаторики, статистики и теории вероятностей» и стабильность результатов по разделу «Геометр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0" y="276552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ыполнении заданий с развернутым ответом участники ЕГЭ-2022 года показали, что по-прежнему остаются пробелы в геометрической подготовке выпускников: выпускники не приступают или не справляется с решением геометрических задач повышенного уровня сложности как на доказательство утверждений, так и на вычисление геометрических величин. Таким образом, необходимо существенно изменить подходы в преподавании геометрии. Нужно помнить, что важным является умение не только решать по формулам вычислительные задачи с геометрическим содержанием, но и формировать геометрические представления о фигурах. Учащиеся должны научиться устанавливать взаимосвязи элементов геометрической конструкции, выстраивать логически обоснованное и грамотно оформленное реш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3936240" y="250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0" y="1190520"/>
            <a:ext cx="914400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ается отрицательная динамика по содержательным разделам «Геометрия» «Начала математического анализа. Эти задания предназначены для учащихся, претендующих на продолжение образования по техническим специальностям и специальностям, требующих повышенной и высокой математ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7840" y="2426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йтинг  школ  по итогам ЕГЭ                                               (математика профильный уровень)  2022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97000" y="1050840"/>
          <a:ext cx="8550000" cy="5346720"/>
        </p:xfrm>
        <a:graphic>
          <a:graphicData uri="http://schemas.openxmlformats.org/drawingml/2006/table">
            <a:tbl>
              <a:tblPr/>
              <a:tblGrid>
                <a:gridCol w="2925720"/>
                <a:gridCol w="928440"/>
                <a:gridCol w="1343160"/>
                <a:gridCol w="1176480"/>
                <a:gridCol w="1103040"/>
                <a:gridCol w="1073160"/>
              </a:tblGrid>
              <a:tr h="517680"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тельная организ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в рейтинг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. бал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. бал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  <a:tc>
                  <a:txBody>
                    <a:bodyPr lIns="46440" rIns="46440" tIns="23040" bIns="23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501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Тацинская СОШ №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Тацинская СОШ №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40032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сыр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Углегор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Жирнов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Крюковская СОШ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40032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Тацинская СОШ №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Ермаквская 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Михайлов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399960"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БОУ Качалиская СОШ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  <a:tr h="828720">
                <a:tc gridSpan="2">
                  <a:txBody>
                    <a:bodyPr lIns="46440" rIns="46440" tIns="23040" bIns="230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айон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 gridSpan="2">
                  <a:txBody>
                    <a:bodyPr lIns="46440" rIns="46440" tIns="23040" bIns="2304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ая границ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23040" bIns="230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fea501"/>
                      </a:solidFill>
                    </a:lnL>
                    <a:lnR w="5760">
                      <a:solidFill>
                        <a:srgbClr val="fea501"/>
                      </a:solidFill>
                    </a:lnR>
                    <a:lnT w="5760">
                      <a:solidFill>
                        <a:srgbClr val="fea501"/>
                      </a:solidFill>
                    </a:lnT>
                    <a:lnB w="5760">
                      <a:solidFill>
                        <a:srgbClr val="fea501"/>
                      </a:solidFill>
                    </a:lnB>
                    <a:solidFill>
                      <a:srgbClr val="ff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68200" y="3338640"/>
            <a:ext cx="896472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мотря на сложности этого года учителям математики района удалось выстроить систему подготовки учащихся различного уровня мотивации на заключительном этапе с использованием современных педагогических технологий, грамотно используя возможности различных интерактивных ресурсов. Для повышения качества математического образования выпускников и правильного выбора уровня ЕГЭ по математики необходимо на протяжении всего процесса обучения проводить текущие мониторинги знаний, тренировочные и диагностические работы, как по предмету, так и по содержательным разделам и способам действий, отслеживая динамику результатов по каждому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3936240" y="250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0" y="1255680"/>
            <a:ext cx="923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динственными заданиями с развернутым ответом, по которое ребята решали и пытались решать  -уравнение(тригонометрически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 №12(37%) , Решение показательного неравенства (20%) и Умение использовать приобретённые знания и умения в прак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и и повседневной жизни ( 1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Такой результат был получен благодаря грамотной методической работе учителей.. Большую роль в подготовке к экзамену играет правильная 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406680" y="32220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41280" y="1413000"/>
            <a:ext cx="851544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рганизацию работы по подготовке к ЕГЭ-2023 по математике на муниципальном уровне и уровне ОО следует начать с анализа результатов ЕГЭ-2022: обсуждения статистических и методических материалов, сравнения результатов региона и муниципалитета с результатами школы и класса, определения типичных ошибок, допущенных учащими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 региональном и муниципальном уровнях предусмотреть корректировку содержания дополнительных профессиональных программ для учителей математики с учётом анализа результатов ЕГЭ, проведение семинаров и круглых столов по вопросам «ЕГЭ по математике: типичные ошибки, опыт, проблемы», «Эффективные методики подготовки в ЕГЭ», мастер-классов учителей школ с высоки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0" y="1063800"/>
            <a:ext cx="9286920" cy="52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Методистам и учителям, ведущим преподавание и подготовку к экзаменам, необходимо своевременно ознакомиться и использовать в работе нормативно-правовые документы ЕГЭ, обращать внимание не только на демонстрационный вариант, но и на содержание кодификаторов и спецификацию, уметь с ними работать. Вся необходимая информация располагается на сайте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www.fipi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На первом этапе подготовки к экзамену необходимо провести опрос учащихся и их родителей для определения уровня, и ожидаемых результатов сдачи ЕГЭ, а также комплекс диагностических работ по математике. Они помогут учителю определить реальный уровень математических знаний учащихся, владения необходимыми умениями и навыками по предмету, а также пробелы в математическом образовании. Исходя из полученных результатов, необходимо составить план и программу подготовки обучающихся к ЕГЭ, а также индивидуальные образовательные маршруты для каждого ученика, учитывая статистические данные и методические рекомендации по итогам проведения ЕГЭ по математике на профильн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0" y="912960"/>
            <a:ext cx="901872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В содержание подготовки должны, прежде всего, включаться те разделы, темы и отдельные вопросы, которые постоянно вызывают затруднения у выпускников. В 2022 году это задания по темам «Преобразование тригонометрических выражений и решение тригонометрических уравнений», «Применение производной к исследованию функции», геометрические задачи на доказательство, применение различных методов решения уравнений и неравенств повышенной сл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Систематически обучать учащихся приемам работы с различными типами тестовых заданий, аналогичных заданиям контрольно-измерительных материалов ЕГЭ. Обращать внимание на особенности вопросов в тестовых заданиях и их влияние на ход решения, показать эффективность использования рациональных способов решения, приемов быстрого сч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Уделить в работе с учащимися достаточное внимание организационной и психологической составляющей подготовки к экзамену. Обучать постоянному жёсткому контролю времени и применению простых приемов самоконтроля, формировать привычку заниматься математикой несколько часов под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25280" y="1243080"/>
            <a:ext cx="901872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В процессе обучения необходимо развивать самостоятельность мышления учащихся, использовать проблемные методы обучения, включать в работу на уроках и факультативах задания, которые направлены не на репродукцию, не на воспроизведение знаний, не на тренировку памяти, а на формирование творческих способностей школьников, их способности мыслить, рассуждать, использовать и развивать свой интеллектуальный потенц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0" y="538200"/>
            <a:ext cx="914400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ЕМЫЕ РЕСУРСЫ СЕТИ ИНТЕРН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фициальный информационный портал единого государственного экзамена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www.ege.edu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Образовательный портал для подготовки к экзаменам «Решу ЕГЭ»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s://ege.sdamgia.r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ткрытый банк заданий ЕГЭ базового уровня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fipi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Демонстрационные варианты КИМ 2019–2021 гг.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fipi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Справочные материалы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www.mathnet.spb.ru/texts/ege_part_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Тренировочные варианты сайта Александра Ларина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alexlarin.net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Система «ФИС ОКО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s://fis-oko.obrnadzor.gov.ru/sig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Справочные материалы для заданий с кратким ответом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www.mathnet.spb.ru/texts/ege_part_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Рабочие тетради и иные пособия по каждому заданию ЕГЭ 10. Материалы сайта И.В. Яковлева – </a:t>
            </a:r>
            <a:r>
              <a:rPr b="0" lang="ru-RU" sz="20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</a:rPr>
              <a:t>http://mathus.ru/math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174600" y="6284880"/>
            <a:ext cx="1538280" cy="34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Диаграмма 2"/>
          <p:cNvGraphicFramePr/>
          <p:nvPr/>
        </p:nvGraphicFramePr>
        <p:xfrm>
          <a:off x="-101520" y="-101520"/>
          <a:ext cx="9204120" cy="706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1520" y="-101520"/>
                    <a:ext cx="9204120" cy="70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0680" y="2710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5200" y="1488600"/>
            <a:ext cx="8524800" cy="45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Диаграмма 3"/>
          <p:cNvGraphicFramePr/>
          <p:nvPr/>
        </p:nvGraphicFramePr>
        <p:xfrm>
          <a:off x="163440" y="163440"/>
          <a:ext cx="8817120" cy="467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440" y="163440"/>
                    <a:ext cx="881712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Прямоугольник 4"/>
          <p:cNvSpPr/>
          <p:nvPr/>
        </p:nvSpPr>
        <p:spPr>
          <a:xfrm>
            <a:off x="246240" y="6327720"/>
            <a:ext cx="914400" cy="27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633760" y="4900680"/>
            <a:ext cx="35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6360"/>
                <a:tab algn="l" pos="265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знаний  - 69,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6360"/>
                <a:tab algn="l" pos="265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ность         - 93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6360"/>
                <a:tab algn="l" pos="265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балл – 3,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0880" y="3632040"/>
            <a:ext cx="7713360" cy="224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ЕГЭ по математике профильного уровня за 2022 год в Тацинском районе</a:t>
            </a:r>
            <a:br>
              <a:rPr sz="2800"/>
            </a:br>
            <a:br>
              <a:rPr sz="1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3127320" y="225360"/>
            <a:ext cx="569592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406440" y="189000"/>
            <a:ext cx="856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uisseIntl"/>
              </a:rPr>
              <a:t>Профильную математику по стране сдавали 302 тыс. челов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uisseIntl"/>
              </a:rPr>
              <a:t>В Ростовской области – 9,3 тыс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38160" y="19692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цинском районе  ЕГЭ по профильной математике в 2022году сдав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Диаграмма 6"/>
          <p:cNvGraphicFramePr/>
          <p:nvPr/>
        </p:nvGraphicFramePr>
        <p:xfrm>
          <a:off x="182520" y="2006640"/>
          <a:ext cx="8693280" cy="46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006640"/>
                    <a:ext cx="869328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400480" y="30492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перв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Диаграмма 3" descr=""/>
          <p:cNvPicPr/>
          <p:nvPr/>
        </p:nvPicPr>
        <p:blipFill>
          <a:blip r:embed="rId1"/>
          <a:stretch/>
        </p:blipFill>
        <p:spPr>
          <a:xfrm>
            <a:off x="236520" y="1222200"/>
            <a:ext cx="88153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396520" y="30492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ия второй част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220760" y="3532320"/>
            <a:ext cx="68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человек – 2 балла               8 человека – 1 ба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1220760" y="1765440"/>
            <a:ext cx="74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1818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81818"/>
                </a:solidFill>
                <a:latin typeface="Times New Roman"/>
              </a:rPr>
              <a:t>12. Решение уравнений (тригонометрические, логарифмические, показательные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asus</dc:creator>
  <dc:description>PresentationLoad.com</dc:description>
  <dc:language>en-US</dc:language>
  <cp:lastModifiedBy>User</cp:lastModifiedBy>
  <dcterms:modified xsi:type="dcterms:W3CDTF">2010-12-13T21:45:16Z</dcterms:modified>
  <cp:revision>144</cp:revision>
  <dc:subject/>
  <dc:title>PowerPoint Template</dc:title>
</cp:coreProperties>
</file>