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8EE-13A5-4D3A-AD47-776BE949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01D-B4BA-44F2-BF80-3289668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0E5-4363-441D-830E-BE3352A4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454-16B0-4082-96AA-A2945F7B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64BB-C822-49F2-8C66-8692AB4E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244B-F8F1-4FE9-85CE-070035BB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9FA-A1FE-4095-BAC1-A380669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CDEC-DFD3-4D27-B949-91862224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CD1-29C1-4C4D-A39E-850747A8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E3D5-D544-49D3-BD2C-1149E44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5DC-6B57-440F-975E-B7E9546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7BD-762D-4DE7-BE5C-D6BDA80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2B87-D6E6-4F16-B9C7-EFDA7DE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9E2A-CDA4-4A15-AA5C-8194B9E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881B-2FFA-46EC-8CF0-685A09E6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1772-E267-490D-BFB0-B6A88F22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FE3D-D713-429E-A4F6-9F73E083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E4F-5C5F-487D-98DE-6B6A4901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42E-C789-4902-963D-45F10840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239-D5A0-43D4-9A4A-5EEB810E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A74-0F1A-4AC7-A0FE-7171EEF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311-915F-4CDD-9391-A570B38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38D-0D7C-4DB4-868B-0879258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1D2-F194-4FCF-8B8A-1833F80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d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9AA187-94B7-4192-8DEC-D4A37DD057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2120" y="1709640"/>
              <a:ext cx="76946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d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752480" y="3567240"/>
            <a:ext cx="54086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Для добавления текста щелкните мышью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1C488A-B626-42F2-8656-B0F357A9F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ribka74.ru/392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1196640"/>
            <a:ext cx="80294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4342a"/>
                </a:solidFill>
                <a:latin typeface="Times New Roman"/>
              </a:rPr>
              <a:t>ИСПОЛЬЗОВАНИЕ ИКТ НА УРОКАХ И ВО ВНЕУРОЧНОЙ ДЕЯТЕЛЬНОСТИ  В УСЛОВИЯХ РЕАЛИЗАЦИИ ФГОС  НОО</a:t>
            </a:r>
            <a:br>
              <a:rPr sz="2800"/>
            </a:b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92000" y="2846160"/>
            <a:ext cx="763776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нёв А.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тегория высшая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моленск 202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  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7" name="Picture 8" descr="C:\Users\1\Desktop\выступление\DSC00043.JPG"/>
          <p:cNvPicPr/>
          <p:nvPr/>
        </p:nvPicPr>
        <p:blipFill>
          <a:blip r:embed="rId1"/>
          <a:stretch/>
        </p:blipFill>
        <p:spPr>
          <a:xfrm>
            <a:off x="2124000" y="476280"/>
            <a:ext cx="524988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:\Users\1\Desktop\выступление\IMAG0207.jpg"/>
          <p:cNvPicPr/>
          <p:nvPr/>
        </p:nvPicPr>
        <p:blipFill>
          <a:blip r:embed="rId2"/>
          <a:stretch/>
        </p:blipFill>
        <p:spPr>
          <a:xfrm>
            <a:off x="4643280" y="3409920"/>
            <a:ext cx="3880080" cy="2921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C:\Users\1\Desktop\выступление\SAM_6144.JPG"/>
          <p:cNvPicPr/>
          <p:nvPr/>
        </p:nvPicPr>
        <p:blipFill>
          <a:blip r:embed="rId3"/>
          <a:stretch/>
        </p:blipFill>
        <p:spPr>
          <a:xfrm rot="21270600">
            <a:off x="739800" y="3532320"/>
            <a:ext cx="379872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1828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2971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41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2" descr="C:\Users\1\Desktop\выступление\DSC01110.JPG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C:\Users\1\Desktop\выступление\DSC01200.JPG"/>
          <p:cNvPicPr/>
          <p:nvPr/>
        </p:nvPicPr>
        <p:blipFill>
          <a:blip r:embed="rId2"/>
          <a:stretch/>
        </p:blipFill>
        <p:spPr>
          <a:xfrm>
            <a:off x="4716360" y="765000"/>
            <a:ext cx="3781440" cy="283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C:\Users\1\Desktop\выступление\DSC01211.JPG"/>
          <p:cNvPicPr/>
          <p:nvPr/>
        </p:nvPicPr>
        <p:blipFill>
          <a:blip r:embed="rId3"/>
          <a:stretch/>
        </p:blipFill>
        <p:spPr>
          <a:xfrm>
            <a:off x="468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C:\Users\1\Desktop\выступление\DSCF7791.JPG"/>
          <p:cNvPicPr/>
          <p:nvPr/>
        </p:nvPicPr>
        <p:blipFill>
          <a:blip r:embed="rId4"/>
          <a:stretch/>
        </p:blipFill>
        <p:spPr>
          <a:xfrm>
            <a:off x="4572000" y="3556080"/>
            <a:ext cx="410364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1429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9" descr="C:\Users\1\Desktop\выступление\IMG_6983.JPG"/>
          <p:cNvPicPr/>
          <p:nvPr/>
        </p:nvPicPr>
        <p:blipFill>
          <a:blip r:embed="rId1"/>
          <a:stretch/>
        </p:blipFill>
        <p:spPr>
          <a:xfrm>
            <a:off x="395280" y="404640"/>
            <a:ext cx="4321080" cy="288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Users\1\Desktop\выступление\IMG_6989.JPG"/>
          <p:cNvPicPr/>
          <p:nvPr/>
        </p:nvPicPr>
        <p:blipFill>
          <a:blip r:embed="rId2"/>
          <a:stretch/>
        </p:blipFill>
        <p:spPr>
          <a:xfrm>
            <a:off x="324000" y="335772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:\Users\1\Desktop\выступление\IMG_6993.JPG"/>
          <p:cNvPicPr/>
          <p:nvPr/>
        </p:nvPicPr>
        <p:blipFill>
          <a:blip r:embed="rId3"/>
          <a:stretch/>
        </p:blipFill>
        <p:spPr>
          <a:xfrm>
            <a:off x="4716360" y="476280"/>
            <a:ext cx="42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C:\Users\1\Desktop\выступление\IMG_7054.JPG"/>
          <p:cNvPicPr/>
          <p:nvPr/>
        </p:nvPicPr>
        <p:blipFill>
          <a:blip r:embed="rId4"/>
          <a:stretch/>
        </p:blipFill>
        <p:spPr>
          <a:xfrm>
            <a:off x="4788000" y="3500280"/>
            <a:ext cx="4032000" cy="26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1\Desktop\выступление\SAM_6503.JPG"/>
          <p:cNvPicPr/>
          <p:nvPr/>
        </p:nvPicPr>
        <p:blipFill>
          <a:blip r:embed="rId1"/>
          <a:stretch/>
        </p:blipFill>
        <p:spPr>
          <a:xfrm>
            <a:off x="539640" y="476280"/>
            <a:ext cx="4335480" cy="325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1\Desktop\выступление\SAM_6520.JPG"/>
          <p:cNvPicPr/>
          <p:nvPr/>
        </p:nvPicPr>
        <p:blipFill>
          <a:blip r:embed="rId2"/>
          <a:stretch/>
        </p:blipFill>
        <p:spPr>
          <a:xfrm>
            <a:off x="755640" y="378936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1\Desktop\выступление\Фото0390.jpg"/>
          <p:cNvPicPr/>
          <p:nvPr/>
        </p:nvPicPr>
        <p:blipFill>
          <a:blip r:embed="rId3"/>
          <a:stretch/>
        </p:blipFill>
        <p:spPr>
          <a:xfrm>
            <a:off x="4859280" y="3716280"/>
            <a:ext cx="3591000" cy="269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1\Desktop\выступление\Фото0398.jpg"/>
          <p:cNvPicPr/>
          <p:nvPr/>
        </p:nvPicPr>
        <p:blipFill>
          <a:blip r:embed="rId4"/>
          <a:stretch/>
        </p:blipFill>
        <p:spPr>
          <a:xfrm>
            <a:off x="4932360" y="692280"/>
            <a:ext cx="3757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C:\Users\1\Desktop\DSC01375.JPG"/>
          <p:cNvPicPr/>
          <p:nvPr/>
        </p:nvPicPr>
        <p:blipFill>
          <a:blip r:embed="rId1"/>
          <a:stretch/>
        </p:blipFill>
        <p:spPr>
          <a:xfrm>
            <a:off x="468360" y="549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Users\1\Desktop\DSC01376.JPG"/>
          <p:cNvPicPr/>
          <p:nvPr/>
        </p:nvPicPr>
        <p:blipFill>
          <a:blip r:embed="rId2"/>
          <a:stretch/>
        </p:blipFill>
        <p:spPr>
          <a:xfrm>
            <a:off x="4859280" y="227664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Users\1\Desktop\DSC01385.JPG"/>
          <p:cNvPicPr/>
          <p:nvPr/>
        </p:nvPicPr>
        <p:blipFill>
          <a:blip r:embed="rId3"/>
          <a:stretch/>
        </p:blipFill>
        <p:spPr>
          <a:xfrm>
            <a:off x="900000" y="3933720"/>
            <a:ext cx="34941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01240"/>
            <a:ext cx="77724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100"/>
            </a:br>
            <a:br>
              <a:rPr sz="4100"/>
            </a:br>
            <a:endParaRPr b="1" i="1" lang="en-US" sz="41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0" name="Picture 5" descr="C:\Users\1\Desktop\выступление\DSC00378.JPG"/>
          <p:cNvPicPr/>
          <p:nvPr/>
        </p:nvPicPr>
        <p:blipFill>
          <a:blip r:embed="rId1"/>
          <a:stretch/>
        </p:blipFill>
        <p:spPr>
          <a:xfrm>
            <a:off x="468360" y="4762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1\Desktop\выступление\DSC00373.JPG"/>
          <p:cNvPicPr/>
          <p:nvPr/>
        </p:nvPicPr>
        <p:blipFill>
          <a:blip r:embed="rId2"/>
          <a:stretch/>
        </p:blipFill>
        <p:spPr>
          <a:xfrm>
            <a:off x="4716360" y="47628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1\Desktop\выступление\DSC00537.JPG"/>
          <p:cNvPicPr/>
          <p:nvPr/>
        </p:nvPicPr>
        <p:blipFill>
          <a:blip r:embed="rId3"/>
          <a:stretch/>
        </p:blipFill>
        <p:spPr>
          <a:xfrm>
            <a:off x="684360" y="3735360"/>
            <a:ext cx="3684600" cy="276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1\Desktop\выступление\DSC00385.JPG"/>
          <p:cNvPicPr/>
          <p:nvPr/>
        </p:nvPicPr>
        <p:blipFill>
          <a:blip r:embed="rId4"/>
          <a:stretch/>
        </p:blipFill>
        <p:spPr>
          <a:xfrm>
            <a:off x="4643280" y="357336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Результаты</a:t>
            </a: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Я услышал – и забыл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увидел – и запомнил».</a:t>
            </a:r>
            <a:br>
              <a:rPr sz="32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Английская пословица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2923920"/>
            <a:ext cx="867564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По данным учёных ребенок запоминает: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20%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услышанного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30%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увиденного,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олее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50%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того, что он види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 слышит одновременно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800"/>
                            </p:stCondLst>
                            <p:childTnLst>
                              <p:par>
                                <p:cTn id="1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70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Результаты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6280" y="4941720"/>
            <a:ext cx="76356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6" descr="C:\Users\1\Desktop\0043-043-Effektivnost-ispolzovanija-IK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000" y="3933720"/>
            <a:ext cx="8459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рименение ИКТ на уроках и во внеурочной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еятельности позволяет решить одну из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ажных задач обучения –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4000" spc="-1" strike="noStrike">
                <a:solidFill>
                  <a:srgbClr val="ff3300"/>
                </a:solidFill>
                <a:latin typeface="Monotype Corsiva"/>
              </a:rPr>
              <a:t>повышение уровня знани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7" descr="MCj04282610000[1]"/>
          <p:cNvPicPr/>
          <p:nvPr/>
        </p:nvPicPr>
        <p:blipFill>
          <a:blip r:embed="rId1"/>
          <a:stretch/>
        </p:blipFill>
        <p:spPr>
          <a:xfrm>
            <a:off x="971640" y="1341360"/>
            <a:ext cx="2663640" cy="253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Картинка 29 из 48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549360"/>
            <a:ext cx="2533680" cy="33782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1042920" y="765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539640" y="98100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 расширяют возможности учителя для введения учеников в увлекательный мир, где им предстоит самостоятельно добывать, анализировать и передавать другим информацию. Научить ребёнка работать с информацией,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учиться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ажная задача современной начальной шк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1557000"/>
            <a:ext cx="78073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"Скажи мне, и я забуду. 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окажи мне, - я смогу запомнить. 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озволь мне это сделать самому,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и это станет моим навсегда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500720" y="501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евняя мудр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04640" y="549360"/>
            <a:ext cx="8055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у в настоящее время необходимо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ся пользоватьс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ой техникой, так же, как он использует сегодня авторучку или мел для работы на уроке,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еть ИК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ми и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ело применя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ые знания и навыки для совершенствования методики урока.  Для учителя компьютер -  это уже не роскошь – это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ХОДИМОСТЬ.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Users\1\Desktop\17117_html_69114b4b.gif"/>
          <p:cNvPicPr/>
          <p:nvPr/>
        </p:nvPicPr>
        <p:blipFill>
          <a:blip r:embed="rId1"/>
          <a:stretch/>
        </p:blipFill>
        <p:spPr>
          <a:xfrm>
            <a:off x="7308720" y="4797360"/>
            <a:ext cx="1978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8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Цель: </a:t>
            </a:r>
            <a:br>
              <a:rPr sz="2400"/>
            </a:br>
            <a:r>
              <a:rPr b="1" i="1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Times New Roman"/>
              </a:rPr>
              <a:t>повысить качества использования ИКТ на уроках и во внеурочной деятельности в условиях реализации ФГОС  НОО </a:t>
            </a:r>
            <a:br>
              <a:rPr sz="3200"/>
            </a:b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36360" y="3455640"/>
            <a:ext cx="72039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роки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13-2017 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Актуальност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ование ИКТ является одним из приоритетов образования. 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5920" y="1557360"/>
            <a:ext cx="7637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недрение ИКТ призвано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лучшить качество обучения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высить мотивацию детей к получению новых знаний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скорить процесс усвоения знаний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звивать логическое мышление учащихся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высить активность и инициативности младших школьников на уроке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высить уровень комфортности обучения</a:t>
            </a: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792000"/>
            <a:ext cx="780912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Индивидуальный план работы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303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изучить теоретические источники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– 2013г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познакомиться с направлениями ИКТ -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2013-2014 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 algn="just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применить на уроках и во внеурочной деятельности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- 2014-2015 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проанализировать результаты -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2015-2016 </a:t>
            </a: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г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обобщить опыт работы по проблеме -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2016-2017 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164360" y="4797360"/>
            <a:ext cx="7192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395280" y="836640"/>
            <a:ext cx="8209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Теоретические источ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Федеральный государственный образовательный стандарт начального общего образования – 2-е изд. – М., 20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И. Архангельский. Школьные технологии (С. И. Архангель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// Школьные технологии. – 2006.-№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Григорьев Д.В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. Внеурочная деятельность школьников. Методический конструктор: пособие для учителя. -М., 201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оронцов А.Б.,Заславский В.М.,Егоркина С.В.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ИКТ технологии в начальной школе: пособие для учителя.- М., 201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елевко Г.К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. Современные образовательные технологии // Нар. образование.- 199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ванова Н.В.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Возможности и специфика применения ИКТ технологий в начальной школе.// Нач. школа.-2004 -№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ергеев И.С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. Как организовать ИКТ  деятельность учащихся.- М., 200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Маркова А.К., Матис Т.А., Орлов Б.А., Формирования мотивации учения. М.: 2009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ершинская  О.Н.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ИКТ и общество. // М.: Наука, 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Arial Black"/>
              </a:rPr>
              <a:t>   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Отработанные теоретические вопросы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6280" y="1700280"/>
            <a:ext cx="76356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Знакомство со средствами ИК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Виды учебно – познавательной деятельности на урок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Проблемы применения ИКТ на урок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Варианты использования средств ИК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Формирование ИКТ- компетенций во внеурочной деятельност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Направления ИКТ на уроках и во внеурочной деятельност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9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ИКТ технологии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могут быть использованы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на любом </a:t>
            </a:r>
            <a:r>
              <a:rPr b="1" i="1" lang="ru-RU" sz="3600" spc="-1" strike="noStrike" u="sng">
                <a:solidFill>
                  <a:srgbClr val="99284c"/>
                </a:solidFill>
                <a:uFillTx/>
                <a:latin typeface="Arial"/>
              </a:rPr>
              <a:t>этапе урока: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ля обозначения темы уро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 начале урока с помощью вопросов по   изучаемой теме, создавая проблемную  ситуацию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к сопровождение объяснения учителя (презентации, формулы, схемы, рисунки, видеофрагменты и т.д.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ля контроля учащихся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8073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Практический опыт</a:t>
            </a: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4" name="Picture 6" descr="C:\Users\1\Desktop\DSC01390.JPG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DSC01389.JPG"/>
          <p:cNvPicPr/>
          <p:nvPr/>
        </p:nvPicPr>
        <p:blipFill>
          <a:blip r:embed="rId2"/>
          <a:stretch/>
        </p:blipFill>
        <p:spPr>
          <a:xfrm>
            <a:off x="4572000" y="3357720"/>
            <a:ext cx="3925800" cy="29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1</cp:lastModifiedBy>
  <dcterms:modified xsi:type="dcterms:W3CDTF">2023-01-02T05:57:3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