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B97-F9C3-45BA-84E4-1B7A0C1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C49-8434-4C0D-9F93-03E8067A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9DB-1EC5-4C07-A3B8-8CA41557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08-1F08-4D59-89DE-4DB93589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8AA1-5BAC-4EE5-900F-ED3CBA27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7A8-F6AC-44DF-B6FE-5D17F482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8907-C3CF-4F92-B382-BF44DC1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3F49-FB8B-4573-9CFA-F5D3D70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C06-785F-4B7B-BF9C-93CA1961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587-1F73-42DE-9EF7-0F9A84D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828D-22B9-44F7-A44A-6458495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D9E-0514-43EB-8BA1-FBB6F58A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B7C-F41E-4C53-8B6C-54CDFFA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DE03-2827-4DB8-A881-ACE2C4F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861-008B-4013-BBF6-0B7CCA6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C22-5116-415B-B510-2ABC4CFD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102-CEFB-43AB-A0AC-022F6491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526-6C03-48E0-A814-B4838049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BD3-168B-497E-9D1E-1F32DD0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277-B095-4046-86EB-D7002AE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CB1-1386-46C8-9C1B-CFBBC114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23-23F4-4603-AE63-A5847B5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12E-7F7A-4CF5-9055-FB339BF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C0F-29D0-4926-B4CA-095982F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d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BF8C36-A992-4177-8C7D-CE538B3C0A3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2120" y="1709640"/>
              <a:ext cx="76946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d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752480" y="3567240"/>
            <a:ext cx="54086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8A3313-5442-45D3-82FC-2657D5DE21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hyperlink" Target="http://ribka74.ru/392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1196640"/>
            <a:ext cx="80294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4342a"/>
                </a:solidFill>
                <a:latin typeface="Times New Roman"/>
              </a:rPr>
              <a:t>ИСПОЛЬЗОВАНИЕ ИКТ НА УРОКАХ И ВО ВНЕУРОЧНОЙ ДЕЯТЕЛЬНОСТИ  В УСЛОВИЯХ РЕАЛИЗАЦИИ ФГОС  НОО</a:t>
            </a:r>
            <a:br>
              <a:rPr sz="2800"/>
            </a:b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92000" y="2846160"/>
            <a:ext cx="763776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нёв А.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тегория высшая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моленск 202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  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7" name="Picture 8" descr="C:\Users\1\Desktop\выступление\DSC00043.JPG"/>
          <p:cNvPicPr/>
          <p:nvPr/>
        </p:nvPicPr>
        <p:blipFill>
          <a:blip r:embed="rId1"/>
          <a:stretch/>
        </p:blipFill>
        <p:spPr>
          <a:xfrm>
            <a:off x="2124000" y="476280"/>
            <a:ext cx="524988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:\Users\1\Desktop\выступление\IMAG0207.jpg"/>
          <p:cNvPicPr/>
          <p:nvPr/>
        </p:nvPicPr>
        <p:blipFill>
          <a:blip r:embed="rId2"/>
          <a:stretch/>
        </p:blipFill>
        <p:spPr>
          <a:xfrm>
            <a:off x="4643280" y="3409920"/>
            <a:ext cx="3880080" cy="2921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C:\Users\1\Desktop\выступление\SAM_6144.JPG"/>
          <p:cNvPicPr/>
          <p:nvPr/>
        </p:nvPicPr>
        <p:blipFill>
          <a:blip r:embed="rId3"/>
          <a:stretch/>
        </p:blipFill>
        <p:spPr>
          <a:xfrm rot="21270600">
            <a:off x="739800" y="3532320"/>
            <a:ext cx="37987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1828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2971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41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2" descr="C:\Users\1\Desktop\выступление\DSC01110.JPG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C:\Users\1\Desktop\выступление\DSC01200.JPG"/>
          <p:cNvPicPr/>
          <p:nvPr/>
        </p:nvPicPr>
        <p:blipFill>
          <a:blip r:embed="rId2"/>
          <a:stretch/>
        </p:blipFill>
        <p:spPr>
          <a:xfrm>
            <a:off x="4716360" y="765000"/>
            <a:ext cx="3781440" cy="283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Users\1\Desktop\выступление\DSC01211.JPG"/>
          <p:cNvPicPr/>
          <p:nvPr/>
        </p:nvPicPr>
        <p:blipFill>
          <a:blip r:embed="rId3"/>
          <a:stretch/>
        </p:blipFill>
        <p:spPr>
          <a:xfrm>
            <a:off x="468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C:\Users\1\Desktop\выступление\DSCF7791.JPG"/>
          <p:cNvPicPr/>
          <p:nvPr/>
        </p:nvPicPr>
        <p:blipFill>
          <a:blip r:embed="rId4"/>
          <a:stretch/>
        </p:blipFill>
        <p:spPr>
          <a:xfrm>
            <a:off x="4572000" y="3556080"/>
            <a:ext cx="410364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142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9" descr="C:\Users\1\Desktop\выступление\IMG_6983.JPG"/>
          <p:cNvPicPr/>
          <p:nvPr/>
        </p:nvPicPr>
        <p:blipFill>
          <a:blip r:embed="rId1"/>
          <a:stretch/>
        </p:blipFill>
        <p:spPr>
          <a:xfrm>
            <a:off x="395280" y="404640"/>
            <a:ext cx="4321080" cy="288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Users\1\Desktop\выступление\IMG_6989.JPG"/>
          <p:cNvPicPr/>
          <p:nvPr/>
        </p:nvPicPr>
        <p:blipFill>
          <a:blip r:embed="rId2"/>
          <a:stretch/>
        </p:blipFill>
        <p:spPr>
          <a:xfrm>
            <a:off x="324000" y="3357720"/>
            <a:ext cx="43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:\Users\1\Desktop\выступление\IMG_6993.JPG"/>
          <p:cNvPicPr/>
          <p:nvPr/>
        </p:nvPicPr>
        <p:blipFill>
          <a:blip r:embed="rId3"/>
          <a:stretch/>
        </p:blipFill>
        <p:spPr>
          <a:xfrm>
            <a:off x="4716360" y="476280"/>
            <a:ext cx="421164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C:\Users\1\Desktop\выступление\IMG_7054.JPG"/>
          <p:cNvPicPr/>
          <p:nvPr/>
        </p:nvPicPr>
        <p:blipFill>
          <a:blip r:embed="rId4"/>
          <a:stretch/>
        </p:blipFill>
        <p:spPr>
          <a:xfrm>
            <a:off x="4788000" y="3500280"/>
            <a:ext cx="4032000" cy="26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1\Desktop\выступление\SAM_6503.JPG"/>
          <p:cNvPicPr/>
          <p:nvPr/>
        </p:nvPicPr>
        <p:blipFill>
          <a:blip r:embed="rId1"/>
          <a:stretch/>
        </p:blipFill>
        <p:spPr>
          <a:xfrm>
            <a:off x="539640" y="476280"/>
            <a:ext cx="4335480" cy="325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1\Desktop\выступление\SAM_6520.JPG"/>
          <p:cNvPicPr/>
          <p:nvPr/>
        </p:nvPicPr>
        <p:blipFill>
          <a:blip r:embed="rId2"/>
          <a:stretch/>
        </p:blipFill>
        <p:spPr>
          <a:xfrm>
            <a:off x="755640" y="3789360"/>
            <a:ext cx="3632040" cy="272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1\Desktop\выступление\Фото0390.jpg"/>
          <p:cNvPicPr/>
          <p:nvPr/>
        </p:nvPicPr>
        <p:blipFill>
          <a:blip r:embed="rId3"/>
          <a:stretch/>
        </p:blipFill>
        <p:spPr>
          <a:xfrm>
            <a:off x="4859280" y="3716280"/>
            <a:ext cx="3591000" cy="269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1\Desktop\выступление\Фото0398.jpg"/>
          <p:cNvPicPr/>
          <p:nvPr/>
        </p:nvPicPr>
        <p:blipFill>
          <a:blip r:embed="rId4"/>
          <a:stretch/>
        </p:blipFill>
        <p:spPr>
          <a:xfrm>
            <a:off x="4932360" y="692280"/>
            <a:ext cx="3757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C:\Users\1\Desktop\DSC01375.JPG"/>
          <p:cNvPicPr/>
          <p:nvPr/>
        </p:nvPicPr>
        <p:blipFill>
          <a:blip r:embed="rId1"/>
          <a:stretch/>
        </p:blipFill>
        <p:spPr>
          <a:xfrm>
            <a:off x="468360" y="5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Users\1\Desktop\DSC01376.JPG"/>
          <p:cNvPicPr/>
          <p:nvPr/>
        </p:nvPicPr>
        <p:blipFill>
          <a:blip r:embed="rId2"/>
          <a:stretch/>
        </p:blipFill>
        <p:spPr>
          <a:xfrm>
            <a:off x="4859280" y="2276640"/>
            <a:ext cx="3840120" cy="288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1\Desktop\DSC01385.JPG"/>
          <p:cNvPicPr/>
          <p:nvPr/>
        </p:nvPicPr>
        <p:blipFill>
          <a:blip r:embed="rId3"/>
          <a:stretch/>
        </p:blipFill>
        <p:spPr>
          <a:xfrm>
            <a:off x="900000" y="3933720"/>
            <a:ext cx="34941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01240"/>
            <a:ext cx="77724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100"/>
            </a:br>
            <a:br>
              <a:rPr sz="4100"/>
            </a:br>
            <a:endParaRPr b="1" i="1" lang="en-US" sz="41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0" name="Picture 5" descr="C:\Users\1\Desktop\выступление\DSC00378.JPG"/>
          <p:cNvPicPr/>
          <p:nvPr/>
        </p:nvPicPr>
        <p:blipFill>
          <a:blip r:embed="rId1"/>
          <a:stretch/>
        </p:blipFill>
        <p:spPr>
          <a:xfrm>
            <a:off x="468360" y="4762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1\Desktop\выступление\DSC00373.JPG"/>
          <p:cNvPicPr/>
          <p:nvPr/>
        </p:nvPicPr>
        <p:blipFill>
          <a:blip r:embed="rId2"/>
          <a:stretch/>
        </p:blipFill>
        <p:spPr>
          <a:xfrm>
            <a:off x="4716360" y="476280"/>
            <a:ext cx="41403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1\Desktop\выступление\DSC00537.JPG"/>
          <p:cNvPicPr/>
          <p:nvPr/>
        </p:nvPicPr>
        <p:blipFill>
          <a:blip r:embed="rId3"/>
          <a:stretch/>
        </p:blipFill>
        <p:spPr>
          <a:xfrm>
            <a:off x="684360" y="3735360"/>
            <a:ext cx="3684600" cy="276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1\Desktop\выступление\DSC00385.JPG"/>
          <p:cNvPicPr/>
          <p:nvPr/>
        </p:nvPicPr>
        <p:blipFill>
          <a:blip r:embed="rId4"/>
          <a:stretch/>
        </p:blipFill>
        <p:spPr>
          <a:xfrm>
            <a:off x="4643280" y="357336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Результаты</a:t>
            </a: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Я услышал – и забыл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увидел – и запомнил».</a:t>
            </a:r>
            <a:br>
              <a:rPr sz="32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Английская пословица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2923920"/>
            <a:ext cx="867564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По данным учёных ребенок запоминает: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2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услышанного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3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увиденного,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олее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50%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того, что он види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 слышит одновременно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00"/>
                            </p:stCondLst>
                            <p:childTnLst>
                              <p:par>
                                <p:cTn id="1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7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Результаты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6280" y="4941720"/>
            <a:ext cx="7635600" cy="1316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6" descr="C:\Users\1\Desktop\0043-043-Effektivnost-ispolzovanija-IK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000" y="3933720"/>
            <a:ext cx="8459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менение ИКТ на уроках и во внеурочной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еятельности позволяет решить одну из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ажных задач обучения –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4000" spc="-1" strike="noStrike">
                <a:solidFill>
                  <a:srgbClr val="ff3300"/>
                </a:solidFill>
                <a:latin typeface="Monotype Corsiva"/>
              </a:rPr>
              <a:t>повышение уровня знан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7" descr="MCj04282610000[1]"/>
          <p:cNvPicPr/>
          <p:nvPr/>
        </p:nvPicPr>
        <p:blipFill>
          <a:blip r:embed="rId1"/>
          <a:stretch/>
        </p:blipFill>
        <p:spPr>
          <a:xfrm>
            <a:off x="971640" y="1341360"/>
            <a:ext cx="2663640" cy="253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Картинка 29 из 48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549360"/>
            <a:ext cx="2533680" cy="33782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042920" y="765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539640" y="98100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 расширяют возможности учителя для введения учеников в увлекательный мир, где им предстоит самостоятельно добывать, анализировать и передавать другим информацию. Научить ребёнка работать с информацией,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учиться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ажная задача современной начальной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1557000"/>
            <a:ext cx="78073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"Скажи мне, и я забуду. 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окажи мне, - я смогу запомнить. 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Позволь мне это сделать самому,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и это станет моим навсегда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500720" y="501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евняя мудр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404640" y="549360"/>
            <a:ext cx="8055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у в настоящее время необходимо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ся пользоватьс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ой техникой, так же, как он использует сегодня авторучку или мел для работы на уроке,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еть ИК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ми 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ело применя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ые знания и навыки для совершенствования методики урока.  Для учителя компьютер -  это уже не роскошь – это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ХОДИМОСТЬ.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Users\1\Desktop\17117_html_69114b4b.gif"/>
          <p:cNvPicPr/>
          <p:nvPr/>
        </p:nvPicPr>
        <p:blipFill>
          <a:blip r:embed="rId1"/>
          <a:stretch/>
        </p:blipFill>
        <p:spPr>
          <a:xfrm>
            <a:off x="7308720" y="4797360"/>
            <a:ext cx="1978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8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Цель: </a:t>
            </a:r>
            <a:br>
              <a:rPr sz="2400"/>
            </a:br>
            <a:r>
              <a:rPr b="1" i="1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Times New Roman"/>
              </a:rPr>
              <a:t>повысить качества использования ИКТ на уроках и во внеурочной деятельности в условиях реализации ФГОС  НОО </a:t>
            </a:r>
            <a:br>
              <a:rPr sz="3200"/>
            </a:b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36360" y="3455640"/>
            <a:ext cx="72039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Сроки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13-2017 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Актуальность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пользование ИКТ является одним из приоритетов образования. </a:t>
            </a: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5920" y="1557360"/>
            <a:ext cx="763740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недрение ИКТ призвано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лучшить качество обучения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мотивацию детей к получению новых знаний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скорить процесс усвоения знаний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звивать логическое мышление учащихся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активность и инициативности младших школьников на уроке;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высить уровень комфортности обучения</a:t>
            </a: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792000"/>
            <a:ext cx="780912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Индивидуальный план работы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303280"/>
            <a:ext cx="79884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изучить теоретические источники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– 2013г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ознакомиться с направлениями ИКТ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3-2014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 algn="just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рименить на уроках и во внеурочной деятельности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- 2014-2015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проанализировать результаты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5-2016 </a:t>
            </a: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г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Arial"/>
              </a:rPr>
              <a:t>обобщить опыт работы по проблеме - </a:t>
            </a: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2016-2017 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164360" y="4797360"/>
            <a:ext cx="7192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395280" y="836640"/>
            <a:ext cx="8209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Теоретические источ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Федеральный государственный образовательный стандарт начального общего образования – 2-е изд. – М., 201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И. Архангельский. Школьные технологии (С. И. Архангель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// Школьные технологии. – 2006.-№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Григорьев Д.В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Внеурочная деятельность школьников. Методический конструктор: пособие для учителя. -М., 201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оронцов А.Б.,Заславский В.М.,Егоркина С.В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ИКТ технологии в начальной школе: пособие для учителя.- М., 201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елевко Г.К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Современные образовательные технологии // Нар. образование.- 199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Иванова Н.В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Возможности и специфика применения ИКТ технологий в начальной школе.// Нач. школа.-2004 -№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Сергеев И.С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. Как организовать ИКТ  деятельность учащихся.- М., 200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Маркова А.К., Матис Т.А., Орлов Б.А., Формирования мотивации учения. М.: 2009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333333"/>
              </a:buClr>
              <a:buFont typeface="Aria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Вершинская  О.Н. 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</a:rPr>
              <a:t>ИКТ и общество. // М.: Наука, 200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3333"/>
                </a:solidFill>
                <a:latin typeface="Arial Black"/>
              </a:rPr>
              <a:t>               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Отработанные теоретические вопросы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6280" y="1700280"/>
            <a:ext cx="76356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Знакомство со средствами ИК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Виды учебно – познавательной деятельности на урок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Проблемы применения ИКТ на урок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Варианты использования средств ИК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Формирование ИКТ- компетенций во внеурочной деятель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Arial"/>
              </a:rPr>
              <a:t>Направления ИКТ на уроках и во внеурочной деятель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9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ИКТ технологии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могут быть использованы 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на любом </a:t>
            </a:r>
            <a:r>
              <a:rPr b="1" i="1" lang="ru-RU" sz="3600" spc="-1" strike="noStrike" u="sng">
                <a:solidFill>
                  <a:srgbClr val="99284c"/>
                </a:solidFill>
                <a:uFillTx/>
                <a:latin typeface="Arial"/>
              </a:rPr>
              <a:t>этапе урока: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ля обозначения темы уро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 начале урока с помощью вопросов по   изучаемой теме, создавая проблемную  ситуацию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к сопровождение объяснения учителя (презентации, формулы, схемы, рисунки, видеофрагменты и т.д.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ля контроля учащихся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8073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284c"/>
                </a:solidFill>
                <a:latin typeface="Arial"/>
              </a:rPr>
              <a:t>Практический опыт</a:t>
            </a:r>
            <a:r>
              <a:rPr b="1" i="1" lang="ru-RU" sz="4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4" name="Picture 6" descr="C:\Users\1\Desktop\DSC01390.JPG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DSC01389.JPG"/>
          <p:cNvPicPr/>
          <p:nvPr/>
        </p:nvPicPr>
        <p:blipFill>
          <a:blip r:embed="rId2"/>
          <a:stretch/>
        </p:blipFill>
        <p:spPr>
          <a:xfrm>
            <a:off x="4572000" y="3357720"/>
            <a:ext cx="39258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1</cp:lastModifiedBy>
  <dcterms:modified xsi:type="dcterms:W3CDTF">2023-01-02T05:57:3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