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7" initials="7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8-04-17T10:58:24.459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E66-3DD1-434C-AF8C-8263A2D6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BDF-F68A-42AB-B64E-EE07ECAD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A2D-CC82-4457-A4D2-FB91EE70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14B-A30D-47A8-A3E0-758287B3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A261-6C0F-453B-85C4-5E6C56D0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5279-B8A2-4E8E-86A2-879D16E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E9DA-CFF9-47EF-9221-BD9CAB47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A553-2644-4C31-B5D4-2DE2DEB6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34FC-2F06-467B-83DA-CA529AE1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72BE-1595-455A-80CC-65A4739C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9F4F-22B0-415B-9CAB-BA6BB3CA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760-BB60-4D76-9285-5128E34A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1851-0AE2-445E-860F-9ECD6B8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A887-1605-42E0-B118-286D73B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124E-AA02-4EED-A7EB-AB7545E3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45B4-7EDB-4486-9565-4D3199FA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046B-1FFC-42BA-8BDB-FFF33B62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73807-CDED-4B37-8E2C-A56F8006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EF210-4E54-4B68-9F4E-DAC2D692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9575-9CE7-43CA-A5D0-62175AF8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F6A8-F0A2-4665-A091-4AD9FE0A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4444-41F3-4AB9-81B0-4BF8F8F9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A11-DD7D-4068-9D36-56DC8BFA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AC7C-C63E-4D58-A3F0-3945BAB1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4359-1077-47DB-9B3D-76F84279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E8A9-F20E-4B96-A69D-6A5BBF30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9CD0-34EA-44CC-8E4E-80B7596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65FF-8B8B-46E7-A65D-7557110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33B9-158B-4D45-83B4-AE3D8611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BFA8-3941-4EB2-B218-CC528B67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46C9-49A6-411D-9534-D9C8D3E8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57E6-A4F7-4D52-90C8-62AB04BF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7C6E-5383-4569-823D-0BC17B7C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71D-64A2-4967-B1B9-57696B1C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7E1C2-FFE9-4B15-81BA-FC38C024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8C2E-24C1-4D41-8094-F21C48B3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47A5-94D2-4388-BAFE-167E5045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EB8C-60DD-4099-B22F-55D4841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1942-FFCE-4AED-B148-F015B62A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7965D-6DFC-43F8-90A7-25E6A17B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B8F24-3249-4DFB-8983-8AF6A5C2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06288-033C-4DE9-940D-84B04711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D41BB-DE4E-4FD3-BEE7-B31ADAFF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BF2E-A0EC-4234-840D-F8E6592E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3D0-4B09-4180-BE88-80F66137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19F6D-8D00-4763-9F2D-910E3B08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20F09-C1A9-406A-8951-A3C78A52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BB004-BC45-452C-9BC1-E66DB426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FF31-9109-47CD-94E6-F42325F9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52ED5-ADD0-414D-AD1E-D79B9BDD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44C88-4266-4AC0-AFC8-FC708DE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7962-1E48-4818-A957-2C546E7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A2DE6-CD61-4F56-A3DB-47581B1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FD5E-C6B5-4649-BE34-BDA68482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E587-13D9-44CB-A46C-29745BD1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B27-BEB3-4D61-9044-5B21C100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2DD2-5B10-49BE-80E3-AF6F7614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F0020-056B-4323-92AD-A9039E2D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5767-21B0-4D2A-82D7-A9587485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17FE9-0B92-47B8-B8B1-AC57C72F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63261-E2D3-48AF-8814-27164432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21A9B-8E21-470C-9770-DF2174A0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C154B-5B7C-4E3D-A89F-C2BD989B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48F4-2ACF-4DED-90E4-70BD802D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863E6-72D8-42A3-88DA-E05705AE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6D91-B58A-4878-9DCC-44FE675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6DC-6CD8-4DEB-80A2-2BDBA98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6235-3CAC-4088-8208-E9F34DAE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42614-E8CA-40D6-84C6-8FEA254D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B04EE-944C-4450-95C6-AF0486D9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CA8E6-0878-41B8-9AC7-8BB3276E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3245-5AD6-44BE-860A-A11D34F3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05B44-25B0-4A3C-A2D6-AFD59D6A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2AA6A-7D3E-4E0C-92FE-0AA9FCAE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37942-ACF6-4E13-9F12-3A9E1884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F12A8-E90E-41B8-99F0-B4F38C7D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190F-E123-4D04-A099-17C3D84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40A-DD86-46B5-9B33-B872DA6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33A4-8787-49DA-93D9-0E8ADF6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B7882-25F9-40DA-9662-06603E09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33163-DA50-45DC-A173-5EF5322A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DACD-7DD5-4155-8627-A22C2F1D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C655-C488-4F62-9157-1B9DF831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A6B-3FBA-4626-B392-CBA07BA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189E-EDCB-4B9D-8912-61B6E19B31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1846-71FA-4D82-A4B2-A9A3D09FB8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8A5A-7091-4B56-9747-4C82BE833B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12EC-D8C5-48E5-BA1C-3F16E16D7F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62A3-44E7-41CC-855E-4B9E5BCCDC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57B4-4F81-493C-AF02-C7D4689CD4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CE67-0FBB-4FEE-896A-7B92B34FF6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705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казённое общеобразовательное  учреждение Черновская СОШ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203280" y="4653000"/>
            <a:ext cx="5608440" cy="151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работу: ученик 10кл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еев Владими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русского языка и литературы Фокина Галина Викторовн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780000" y="76500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5003640" y="234936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395280" y="2276640"/>
            <a:ext cx="84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1332000" y="162864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Times New Roman"/>
              </a:rPr>
              <a:t>«Жаргонизмы в нашей реч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Социологический опрос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03280" y="1557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оведения анкетирования послужило следующее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пределить круг наиболее часто употребляемых жаргонизмов в реч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ределить мотивы употребления жаргонизмов в реч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пределить отношение школьников к жаргонным словам, употребляемым ими в собственной реч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ыявить наличие или отсутствие стремления обойтись без жаргонизм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6"/>
          <p:cNvSpPr/>
          <p:nvPr/>
        </p:nvSpPr>
        <p:spPr>
          <a:xfrm>
            <a:off x="324000" y="3254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203"/>
                </a:solidFill>
                <a:latin typeface="Times New Roman"/>
              </a:rPr>
              <a:t>Употребляете ли вы жаргонизмы в своей реч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7"/>
          <p:cNvGraphicFramePr/>
          <p:nvPr/>
        </p:nvGraphicFramePr>
        <p:xfrm>
          <a:off x="1033560" y="2205000"/>
          <a:ext cx="71150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560" y="2205000"/>
                    <a:ext cx="71150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324000" y="6922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2124000" y="2436840"/>
            <a:ext cx="492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Для чего Вы используете жаргонизмы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43120" y="301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10"/>
          <p:cNvGraphicFramePr/>
          <p:nvPr/>
        </p:nvGraphicFramePr>
        <p:xfrm>
          <a:off x="1219320" y="1523880"/>
          <a:ext cx="731520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73152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203"/>
                </a:solidFill>
                <a:latin typeface="Corbel"/>
              </a:rPr>
              <a:t>Как вы считаете, нужны ли жаргонизмы в речи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5"/>
          <p:cNvGraphicFramePr/>
          <p:nvPr/>
        </p:nvGraphicFramePr>
        <p:xfrm>
          <a:off x="971640" y="1417680"/>
          <a:ext cx="75596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7680"/>
                    <a:ext cx="75596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Как вы считаете, в результате речь становится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2" name="Object 5"/>
          <p:cNvGraphicFramePr/>
          <p:nvPr/>
        </p:nvGraphicFramePr>
        <p:xfrm>
          <a:off x="1116000" y="1557360"/>
          <a:ext cx="75596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75596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26960" y="1052280"/>
            <a:ext cx="33829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ехать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обманывать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ирусняк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мпьютерный вирус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пендриваться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воображать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он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лная бессмыслица, неправда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ка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– домашнее задание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дорова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вид приветствия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ва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мпьютерная клавиатура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нтакт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циальная сеть «</a:t>
            </a:r>
            <a:r>
              <a:rPr b="0" lang="en-US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vkontakte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ru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»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уто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одобрение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реш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друг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теша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тематика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бильник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мобильный телефон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нэт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нтернет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алдеть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восхищение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кно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свободное время между уроками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имон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миллион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паня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папа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кольно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одобрение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мойся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уйди, не мешай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пс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спасибо, благодарность за что-то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унка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стройная фигура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упит </a:t>
            </a:r>
            <a:r>
              <a:rPr b="0" lang="en-US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отводить глаза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чилка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учительница/преподаватель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Шандарахнет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сильно ударит.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115640" y="30240"/>
            <a:ext cx="74055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ловарь жаргонизмов (составлен на основании анкетирования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вод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значно относиться к влиянию жаргона на речь нельзя, запрещать употреблять жаргонизмы бессмысленно, но и невозможно не видеть опасные тенденции жаргонизации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Список литератур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31640" y="14173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шков А.И. Русская словесность. - Москва, 200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рский С.А. О культуре языка и речи молодежи. Русская речь.-1991.-№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егов С. И., Шведова Н. Ю. Толковый словарь русского языка. – Москва: ООО «ИТИ ТЕХНОЛОГИИ»,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яловский Н. Г. Очерки бурс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тик Л. Г. Лексика современного русского языка. Учебное пособ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шин В. М. Далёкие зимние вече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шин В. М. Демагог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гаков М. А. Собачье сердц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И.Солженицын «На представку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1116000" y="155736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Два предположе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22521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, жаргонизмы обогащают нашу речь и способствуют неформальному общению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, жаргонизмы искажают речь и заменяют литературные слов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C:\Users\1\Desktop\Рисунок5.jpg"/>
          <p:cNvPicPr/>
          <p:nvPr/>
        </p:nvPicPr>
        <p:blipFill>
          <a:blip r:embed="rId1"/>
          <a:stretch/>
        </p:blipFill>
        <p:spPr>
          <a:xfrm>
            <a:off x="6300720" y="4653000"/>
            <a:ext cx="220356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12320" y="2276640"/>
            <a:ext cx="729468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ью данной работы является характеристика такого понятия как «чистота речи», рассматривается её значение для современного литературного языка, а также подробно анализируются разнообразное использование слов ненормативной лексики в нашей речи; а также будет проанализирована речь современных школьников (обучающихся МКОУ «Черновской СОШ»), взрослых людей с точки зрения количественного и качественного использования ими жаргонизмов, определен круг часто употребляемых жаргонных слов.</a:t>
            </a:r>
            <a:br>
              <a:rPr sz="20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22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971640" y="404640"/>
            <a:ext cx="7319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</a:rPr>
              <a:t>Проблема исследования:</a:t>
            </a:r>
            <a:br>
              <a:rPr sz="40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жаргонизмов в речи школьников и взрослых людей.</a:t>
            </a:r>
            <a:br>
              <a:rPr sz="24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42560" y="-171360"/>
            <a:ext cx="7705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f271c"/>
                </a:solidFill>
                <a:uFillTx/>
                <a:latin typeface="Times New Roman"/>
              </a:rPr>
              <a:t>Задачи</a:t>
            </a:r>
            <a:r>
              <a:rPr b="0" lang="ru-RU" sz="4000" spc="-1" strike="noStrike">
                <a:solidFill>
                  <a:srgbClr val="4f271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онятия «жаргон» и «арго», сопоставить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кетирование, чтобы исследовать речь школьников и взрослых люд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круг наиболее употребительных жаргонных с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причины употребления жаргонизм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1039680" y="2997360"/>
            <a:ext cx="792000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b1d15"/>
                </a:solidFill>
                <a:uFillTx/>
                <a:latin typeface="Calibri"/>
                <a:ea typeface="Times New Roman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гонизмы часто используются в нашей речи, их употребление связано с желанием выделиться среди людей; употребление жаргонных слов школьников и взрослых людей различаются; они связаны с жизнью и деятельностью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37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1800"/>
            </a:br>
            <a:br>
              <a:rPr sz="18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395280" y="620640"/>
            <a:ext cx="806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755640" y="508464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1536840" y="2263680"/>
            <a:ext cx="69120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f271c"/>
                </a:solidFill>
                <a:uFillTx/>
                <a:latin typeface="Times New Roman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и анализ литературы, анкетирование, опрос, анализ анк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44480" y="2887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Corbel"/>
              </a:rPr>
              <a:t>Понятие «жаргон», его истоки, характеристика и особенности.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58560" y="1341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ёжная культур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вой, ни на что не похожий мир. Он отличается от взрослого эмоциональностью, порой даже резкой и грубой, манерой выражать мысли, чувства, неким словесным абсурдом, который могут употреблять только молодые люди, смелые и решительные, настроенные против всего мира и создавшие свой неповторимый ми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оугольник 1"/>
          <p:cNvSpPr/>
          <p:nvPr/>
        </p:nvSpPr>
        <p:spPr>
          <a:xfrm>
            <a:off x="1258920" y="3357720"/>
            <a:ext cx="749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аргонизм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лова искусственного языка, понятного лишь определённому кругу людей, связанных между собой общими целями и интере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о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фр. argot) — язык какой-либо социально замкнутой группы лиц, характеризующийся специфичностью используемой лексики, своеобразием ее употребления, но не имеющий собственной фонетической и граммат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499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Группы жаргонов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Прямоугольник 1"/>
          <p:cNvSpPr/>
          <p:nvPr/>
        </p:nvSpPr>
        <p:spPr>
          <a:xfrm>
            <a:off x="1168560" y="1557360"/>
            <a:ext cx="7777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рмейский жаргон: дембель, дед, сала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портивный жаргон: Спартачи, финт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Жаргон людей, связанных с музыкальной средой: музон, фан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Жаргон байкеров: Косуха, хар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Жаргон «новых русских», представителей криминальных структур: брателло, кинуть, наехать, забить стрелку, предъя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69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Corbel"/>
              </a:rPr>
              <a:t>Факторы, влияющие на появление жаргонов.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699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товой телефонной связи, компьютерных технологи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, его широкие возможности, быстро развивающиеся компьютерные технологии всегда привлекали молодых людей. В связи с этим появляется много новых жаргонизмов. Вот некоторые из них: вирусняк – компьютерный вирус; нэт – Интернет; смайлы – смешные мордочки в чатах; глючит – неполадки в работе компьютера; мыло – e-mail; блохи – ошибки в программе; мыха – компьютерная мышка; юзер – пользователь компьютеро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7120" y="5157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  </a:t>
            </a: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57120" y="3567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музыкальная культу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увлечений школьников – музыка. Она является частью их жизни. Жаргонизмы, относящиеся к сфере музыки, содержат названия различных музыкальных стилей: попса, попсятина – поп-музыка; свежак – новая музыка; название действий музыкантов – сбаца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школьников сейчас более популярна зарубежная музыка, а русские исполнители и композиции порой воспринимаются с презрением. Часто школьники придумывают прозвища музыкальным группам и исполнителям: Мармеладзе, Ваньки International,Фил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бби и увлечения молодых люд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 времена среди  школьников  популярным остаётся футбол, и в связи с этим тоже не обойтись без жаргонных слов (финтовать, гонять финты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01:20Z</dcterms:created>
  <dc:creator>WinXPProSP3</dc:creator>
  <dc:description/>
  <dc:language>en-US</dc:language>
  <cp:lastModifiedBy>PC INF</cp:lastModifiedBy>
  <dcterms:modified xsi:type="dcterms:W3CDTF">2021-01-18T09:47:16Z</dcterms:modified>
  <cp:revision>49</cp:revision>
  <dc:subject/>
  <dc:title>Молодежный сленг – «прикол» или проблема общества?</dc:title>
</cp:coreProperties>
</file>