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7" initials="7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8-04-17T10:58:24.459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F4C-9BE3-43E6-BCF8-93C9C8BF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7DE-FC1D-4DF1-8BB5-74F56978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BBD-53E4-40B5-9B16-F3773FDE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F4C-D2A7-4E2A-86CA-BCF3905F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9035-8BCC-429B-B900-6B9D9878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6740-4C20-4C3E-A1E7-2C0760AC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9AF3-75C9-4D7E-8844-0D0D3D94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68C5-F4BC-4EE9-9E62-3D7F4919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DCA4-7A0D-48B3-A7E1-35FA0D1D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117F-6B01-4048-A9A3-920EC774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B0AC-B07E-4C9A-A847-32682DA2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0D2-02D9-4EED-BCB6-A54FB910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80C1-05D6-4D59-AEB8-F584F8B9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A419-C724-46D7-814C-4721067E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034E-11ED-481A-AECD-A2AB4D90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D6AE-E237-4C95-954E-96F442E3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5349-5101-47AB-B4C9-0FBC3EF8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C905-8528-48E8-B650-8EE65095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20DB4-9F90-4373-BD09-F37243E7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8707D-35F7-4443-AF72-D1FBD7DA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9BC5D-4B18-4649-9406-C0250469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AB3C-76BE-4B11-8CB6-1791FAD9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41E-A495-4AB4-BB8E-88C40309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1489A-74EE-4D4D-8ECF-DB6E6C57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989C-5DDB-4260-8E27-7A232260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26FE-F6E6-4DEF-8BED-EFF4441E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08DC0-D7FE-458B-AB09-D50EC3F8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98A74-B827-4605-9BD4-56E9945C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02A69-C238-425D-9CAD-1379B43D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D27B1-5888-4798-A371-818713D3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4D28D-DA11-4551-A771-1B5C9EAF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0FE02-CB05-4810-9AA8-621BECCB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672A9-3F1A-4B5F-B4B5-13C0F7E4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E8E-7F98-46C9-BF3A-0A60C6D6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76B40-F728-49A5-867F-5A26D3D4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7CD68-113C-4C3D-B04D-10A30DF4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BC558-310B-4ED1-B8D4-25A27908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02877-1CD4-481F-899C-0F05690D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D337F-1440-4D9B-BD0F-984D4CC4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31F2F-C39F-4856-96C0-1DF9C723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F1440-271A-4C45-B5F8-2CA81575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C50A7-3F44-44F0-B8BA-D0B9DBD5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7B48E-A07D-4F9C-82F8-CA6C60C9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05E1C-B3B8-476A-BED4-08263804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087-B013-47A7-B520-CC0BFD0B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EAB7A-E270-425A-824C-2F2BFFB1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6826F-12EF-4FBF-80E1-3BD22ABE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023F4-91B6-4D4F-A8E1-B6A451B6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202A1-E18C-46A4-BE3B-79A08F01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DC734-58A7-4845-99DB-01573E13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003C7-7DF0-4E40-84CB-54DDEEAD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C9171-6816-4454-9BE6-47AEA54F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1A192-6CAF-4528-B9E5-B069842E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7508A-6DC6-4239-ABAF-4C6B13D4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4CC2A-3F06-4D2A-A0CB-3319B9A7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FE7-C2B6-40EA-AA3D-C832F2EA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69362-C770-4CE4-ADA1-9D4205B5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0A199-F83F-4423-B918-857C2640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E1317-8FF5-499A-BA06-70210BCD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08902-2BBD-4FA7-8507-27B2433C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1FF4A-FEEF-4E2C-A13B-FCC05638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9162C-882F-4F01-AEE5-82652111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BCCE7-FFCE-43A3-87EA-ECF7EEF0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848D0-6F41-4F4B-8915-45F6828E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021AE-DEBB-4E51-93E0-E620FC25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573C6-7C2A-4A74-8C47-5731BF10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5697-AC07-428A-AB68-FE6DE912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E3F63-3113-478A-B533-695CD753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ED9A0-026A-4884-9F7F-2F296ED8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F7831-55B3-4747-8EA5-B752DB09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99F6A-3705-4866-B991-1EB55485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2733F-0CC7-4E79-93ED-AD541A4A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9B86F-A003-42D7-A1EF-64F21EE3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46575-2FD1-4DCE-92A8-32194FF0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41B1D-881E-4580-93D7-0F4E8CC0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04514-172F-4B0F-B95C-C7C5E4B2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46440-D116-463B-BA7A-82BE575C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266-D5D4-456B-A9E0-500C8573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F07D9-306C-4E4A-A5FA-F935F7E2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23E3C-A134-41E1-B38D-FC84344E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457FE-A7B1-49DB-A1B9-53803C53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CBA6E-C9F7-4A1E-9FA1-0A6A39B9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843E5-C95D-4ED5-B37B-607A881E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827-D165-44E7-9C82-D663384B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CEC9-683B-4067-9D1E-37BC56D3740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927D-A46B-4FBF-99A9-E065FB39B0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CDCA-6434-4677-867D-99E78131724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2173-9BD0-4051-B182-07BEB2D7760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CA10-A58B-4F69-A3C3-8DDFDA90F9E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303B-7E80-4B9F-841C-F7A9131F522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1247-39E8-4302-B644-54A245CC3C8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7705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казённое общеобразовательное  учреждение Черновская СОШ.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203280" y="4653000"/>
            <a:ext cx="5608440" cy="1512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работу: ученик 10кл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еев Владими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учитель русского языка и литературы Фокина Галина Викторовн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3780000" y="76500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5003640" y="234936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395280" y="2276640"/>
            <a:ext cx="849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1332000" y="162864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Times New Roman"/>
              </a:rPr>
              <a:t>«Жаргонизмы в нашей реч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572314"/>
                </a:solidFill>
                <a:uFillTx/>
                <a:latin typeface="Corbel"/>
              </a:rPr>
              <a:t>Социологический опрос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03280" y="1557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проведения анкетирования послужило следующее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пределить круг наиболее часто употребляемых жаргонизмов в реч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пределить мотивы употребления жаргонизмов в реч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пределить отношение школьников к жаргонным словам, употребляемым ими в собственной речи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ыявить наличие или отсутствие стремления обойтись без жаргонизм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6"/>
          <p:cNvSpPr/>
          <p:nvPr/>
        </p:nvSpPr>
        <p:spPr>
          <a:xfrm>
            <a:off x="324000" y="3254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b2203"/>
                </a:solidFill>
                <a:latin typeface="Times New Roman"/>
              </a:rPr>
              <a:t>Употребляете ли вы жаргонизмы в своей реч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Object 7"/>
          <p:cNvGraphicFramePr/>
          <p:nvPr/>
        </p:nvGraphicFramePr>
        <p:xfrm>
          <a:off x="1033560" y="2205000"/>
          <a:ext cx="711504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560" y="2205000"/>
                    <a:ext cx="71150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4"/>
          <p:cNvSpPr/>
          <p:nvPr/>
        </p:nvSpPr>
        <p:spPr>
          <a:xfrm>
            <a:off x="324000" y="6922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2124000" y="2436840"/>
            <a:ext cx="492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0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</a:rPr>
              <a:t>Для чего Вы используете жаргонизмы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1743120" y="301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10"/>
          <p:cNvGraphicFramePr/>
          <p:nvPr/>
        </p:nvGraphicFramePr>
        <p:xfrm>
          <a:off x="1219320" y="1523880"/>
          <a:ext cx="731520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731520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b2203"/>
                </a:solidFill>
                <a:latin typeface="Corbel"/>
              </a:rPr>
              <a:t>Как вы считаете, нужны ли жаргонизмы в речи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5"/>
          <p:cNvGraphicFramePr/>
          <p:nvPr/>
        </p:nvGraphicFramePr>
        <p:xfrm>
          <a:off x="971640" y="1417680"/>
          <a:ext cx="755964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7680"/>
                    <a:ext cx="75596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Как вы считаете, в результате речь становится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2" name="Object 5"/>
          <p:cNvGraphicFramePr/>
          <p:nvPr/>
        </p:nvGraphicFramePr>
        <p:xfrm>
          <a:off x="1116000" y="1557360"/>
          <a:ext cx="755964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57360"/>
                    <a:ext cx="75596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126960" y="1052280"/>
            <a:ext cx="33829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рехать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обманывать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ирусняк – 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мпьютерный вирус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ыпендриваться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воображать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он – 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лная бессмыслица, неправда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машка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– домашнее задание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дорова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вид приветствия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лава – 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мпьютерная клавиатура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нтакт – 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циальная сеть «</a:t>
            </a:r>
            <a:r>
              <a:rPr b="0" lang="en-US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vkontakte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ru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»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руто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одобрение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реш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друг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атеша – 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атематика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обильник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мобильный телефон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нэт – 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нтернет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балдеть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восхищение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кно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свободное время между уроками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Лимон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миллион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апаня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папа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кольно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одобрение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мойся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уйди, не мешай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пс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спасибо, благодарность за что-то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трунка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стройная фигура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упит </a:t>
            </a:r>
            <a:r>
              <a:rPr b="0" lang="en-US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отводить глаза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чилка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учительница/преподаватель.</a:t>
            </a:r>
            <a:br>
              <a:rPr sz="1400"/>
            </a:b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Шандарахнет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– сильно ударит.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115640" y="30240"/>
            <a:ext cx="74055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ловарь жаргонизмов (составлен на основании анкетирования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ывод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значно относиться к влиянию жаргона на речь нельзя, запрещать употреблять жаргонизмы бессмысленно, но и невозможно не видеть опасные тенденции жаргонизации литературного язы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Список литературы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31640" y="14173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шков А.И. Русская словесность. - Москва, 200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орский С.А. О культуре языка и речи молодежи. Русская речь.-1991.-№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егов С. И., Шведова Н. Ю. Толковый словарь русского языка. – Москва: ООО «ИТИ ТЕХНОЛОГИИ», 200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яловский Н. Г. Очерки бурс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тик Л. Г. Лексика современного русского языка. Учебное пособ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кшин В. М. Далёкие зимние вече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кшин В. М. Демагог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лгаков М. А. Собачье сердц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И.Солженицын «На представку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1"/>
          <p:cNvSpPr/>
          <p:nvPr/>
        </p:nvSpPr>
        <p:spPr>
          <a:xfrm>
            <a:off x="1116000" y="1557360"/>
            <a:ext cx="69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Два предположен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22521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, жаргонизмы обогащают нашу речь и способствуют неформальному общению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, жаргонизмы искажают речь и заменяют литературные слов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4" descr="C:\Users\1\Desktop\Рисунок5.jpg"/>
          <p:cNvPicPr/>
          <p:nvPr/>
        </p:nvPicPr>
        <p:blipFill>
          <a:blip r:embed="rId1"/>
          <a:stretch/>
        </p:blipFill>
        <p:spPr>
          <a:xfrm>
            <a:off x="6300720" y="4653000"/>
            <a:ext cx="220356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12320" y="2276640"/>
            <a:ext cx="7294680" cy="50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лью данной работы является характеристика такого понятия как «чистота речи», рассматривается её значение для современного литературного языка, а также подробно анализируются разнообразное использование слов ненормативной лексики в нашей речи; а также будет проанализирована речь современных школьников (обучающихся МКОУ «Черновской СОШ»), взрослых людей с точки зрения количественного и качественного использования ими жаргонизмов, определен круг часто употребляемых жаргонных слов.</a:t>
            </a:r>
            <a:br>
              <a:rPr sz="20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22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971640" y="404640"/>
            <a:ext cx="7319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</a:rPr>
              <a:t>Проблема исследования:</a:t>
            </a:r>
            <a:br>
              <a:rPr sz="40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жаргонизмов в речи школьников и взрослых людей.</a:t>
            </a:r>
            <a:br>
              <a:rPr sz="24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42560" y="-171360"/>
            <a:ext cx="7705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f271c"/>
                </a:solidFill>
                <a:uFillTx/>
                <a:latin typeface="Times New Roman"/>
              </a:rPr>
              <a:t>Задачи</a:t>
            </a:r>
            <a:r>
              <a:rPr b="0" lang="ru-RU" sz="4000" spc="-1" strike="noStrike">
                <a:solidFill>
                  <a:srgbClr val="4f271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понятия «жаргон» и «арго», сопоставить 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анкетирование, чтобы исследовать речь школьников и взрослых люде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круг наиболее употребительных жаргонных с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причины употребления жаргонизм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1039680" y="2997360"/>
            <a:ext cx="7920000" cy="31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b1d15"/>
                </a:solidFill>
                <a:uFillTx/>
                <a:latin typeface="Calibri"/>
                <a:ea typeface="Times New Roman"/>
              </a:rPr>
              <a:t>Гипоте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гонизмы часто используются в нашей речи, их употребление связано с желанием выделиться среди людей; употребление жаргонных слов школьников и взрослых людей различаются; они связаны с жизнью и деятельностью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37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1800"/>
            </a:br>
            <a:br>
              <a:rPr sz="18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395280" y="620640"/>
            <a:ext cx="806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755640" y="508464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1536840" y="2263680"/>
            <a:ext cx="69120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f271c"/>
                </a:solidFill>
                <a:uFillTx/>
                <a:latin typeface="Times New Roman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и анализ литературы, анкетирование, опрос, анализ анк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44480" y="2887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572314"/>
                </a:solidFill>
                <a:uFillTx/>
                <a:latin typeface="Corbel"/>
              </a:rPr>
              <a:t>Понятие «жаргон», его истоки, характеристика и особенности.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258560" y="134100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ёжная культур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вой, ни на что не похожий мир. Он отличается от взрослого эмоциональностью, порой даже резкой и грубой, манерой выражать мысли, чувства, неким словесным абсурдом, который могут употреблять только молодые люди, смелые и решительные, настроенные против всего мира и создавшие свой неповторимый ми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оугольник 1"/>
          <p:cNvSpPr/>
          <p:nvPr/>
        </p:nvSpPr>
        <p:spPr>
          <a:xfrm>
            <a:off x="1258920" y="3357720"/>
            <a:ext cx="749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аргонизм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лова искусственного языка, понятного лишь определённому кругу людей, связанных между собой общими целями и интере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о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фр. argot) — язык какой-либо социально замкнутой группы лиц, характеризующийся специфичностью используемой лексики, своеобразием ее употребления, но не имеющий собственной фонетической и граммат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7499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Группы жаргонов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Прямоугольник 1"/>
          <p:cNvSpPr/>
          <p:nvPr/>
        </p:nvSpPr>
        <p:spPr>
          <a:xfrm>
            <a:off x="1168560" y="1557360"/>
            <a:ext cx="7777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рмейский жаргон: дембель, дед, сала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портивный жаргон: Спартачи, финти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Жаргон людей, связанных с музыкальной средой: музон, фане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Жаргон байкеров: Косуха, хар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Жаргон «новых русских», представителей криминальных структур: брателло, кинуть, наехать, забить стрелку, предъя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691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Corbel"/>
              </a:rPr>
              <a:t>Факторы, влияющие на появление жаргонов.</a:t>
            </a: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699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отовой телефонной связи, компьютерных технологи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, его широкие возможности, быстро развивающиеся компьютерные технологии всегда привлекали молодых людей. В связи с этим появляется много новых жаргонизмов. Вот некоторые из них: вирусняк – компьютерный вирус; нэт – Интернет; смайлы – смешные мордочки в чатах; глючит – неполадки в работе компьютера; мыло – e-mail; блохи – ошибки в программе; мыха – компьютерная мышка; юзер – пользователь компьютеро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57120" y="5157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  </a:t>
            </a:r>
            <a:br>
              <a:rPr sz="3900"/>
            </a:b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57120" y="3567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ая музыкальная культу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увлечений школьников – музыка. Она является частью их жизни. Жаргонизмы, относящиеся к сфере музыки, содержат названия различных музыкальных стилей: попса, попсятина – поп-музыка; свежак – новая музыка; название действий музыкантов – сбацать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школьников сейчас более популярна зарубежная музыка, а русские исполнители и композиции порой воспринимаются с презрением. Часто школьники придумывают прозвища музыкальным группам и исполнителям: Мармеладзе, Ваньки International,Фил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бби и увлечения молодых люде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 времена среди  школьников  популярным остаётся футбол, и в связи с этим тоже не обойтись без жаргонных слов (финтовать, гонять финты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01:20Z</dcterms:created>
  <dc:creator>WinXPProSP3</dc:creator>
  <dc:description/>
  <dc:language>en-US</dc:language>
  <cp:lastModifiedBy>PC INF</cp:lastModifiedBy>
  <dcterms:modified xsi:type="dcterms:W3CDTF">2021-01-18T09:47:16Z</dcterms:modified>
  <cp:revision>49</cp:revision>
  <dc:subject/>
  <dc:title>Молодежный сленг – «прикол» или проблема общества?</dc:title>
</cp:coreProperties>
</file>