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A89-002A-4261-B4B9-52CB9217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63D-7BEE-4D8D-B90F-25E26CD1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889-B139-4D19-847E-72AC797E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FC6-44DB-45BD-88FC-2185E616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43C-A41A-487F-893A-DA894B33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795-C5A9-41BE-B1A4-13530178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CB4-0031-4187-8845-F26FA999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4E7-5FA5-4B71-9BAE-D34BCA4C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AFE-CD64-4F13-927A-E08D3D3B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090-E2CC-4D2B-B765-E005AAAD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F95-2B22-4055-AEE5-BD7E23C2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A41-C8EF-460A-A3EC-3D2F52B3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61B4-DC7A-4EE7-B8F8-042EB89BC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4936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692280"/>
            <a:ext cx="7489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. Географические координаты (1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708360" y="4076640"/>
            <a:ext cx="5111280" cy="2447640"/>
            <a:chOff x="3708360" y="4076640"/>
            <a:chExt cx="5111280" cy="2447640"/>
          </a:xfrm>
        </p:grpSpPr>
        <p:sp>
          <p:nvSpPr>
            <p:cNvPr id="45" name=""/>
            <p:cNvSpPr/>
            <p:nvPr/>
          </p:nvSpPr>
          <p:spPr>
            <a:xfrm>
              <a:off x="3708360" y="4076640"/>
              <a:ext cx="5111280" cy="24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Для чего нужны географ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координаты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2. Что значит определя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географическую широту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5567400" y="4245840"/>
              <a:ext cx="1162440" cy="33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знаем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ля чего нужны географические координа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133720"/>
            <a:ext cx="374328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еографические координ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любой точки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Земном шаре – её широ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олг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tebulb"/>
          <p:cNvSpPr/>
          <p:nvPr/>
        </p:nvSpPr>
        <p:spPr>
          <a:xfrm>
            <a:off x="3635280" y="1917720"/>
            <a:ext cx="457200" cy="576360"/>
          </a:xfrm>
          <a:prstGeom prst="pi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941720"/>
            <a:ext cx="84978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юбая точка на земном шаре имеет свой географический адр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т адрес состоит из двух частей. Две части географ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дреса – широта и долгота. Пересечение широты и долгот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ть нужный нам адрес – географические координ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11640" y="1268280"/>
            <a:ext cx="4772160" cy="31528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239840" y="692280"/>
            <a:ext cx="67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Что такое географические координа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ля чего нужны географические координа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07000" y="836640"/>
            <a:ext cx="724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рофессии где нужно знать  как опреде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еографические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916280"/>
            <a:ext cx="5400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тур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2492280"/>
            <a:ext cx="540072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068640"/>
            <a:ext cx="5400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е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645000"/>
            <a:ext cx="5400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еодез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4221000"/>
            <a:ext cx="540072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ртогра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797360"/>
            <a:ext cx="5400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нженер-ге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5950080"/>
            <a:ext cx="8785440" cy="718920"/>
          </a:xfrm>
          <a:prstGeom prst="roundRect">
            <a:avLst>
              <a:gd name="adj" fmla="val 16667"/>
            </a:avLst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Географические координаты необходимы для точ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пределения положения любого объекта на земном ш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589720"/>
            <a:ext cx="1800360" cy="433080"/>
          </a:xfrm>
          <a:prstGeom prst="roundRect">
            <a:avLst>
              <a:gd name="adj" fmla="val 16667"/>
            </a:avLst>
          </a:prstGeom>
          <a:solidFill>
            <a:srgbClr val="00004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 значит определить географическую широ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133720"/>
            <a:ext cx="381636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еографическая широта – велич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уги меридиана (в градусах)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экватора до заданной т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ывает северной и юж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т 0 до 90 граду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tebulb"/>
          <p:cNvSpPr/>
          <p:nvPr/>
        </p:nvSpPr>
        <p:spPr>
          <a:xfrm>
            <a:off x="3564000" y="1916280"/>
            <a:ext cx="457200" cy="576000"/>
          </a:xfrm>
          <a:prstGeom prst="pi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4836960" cy="46195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634040" y="98100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Что такое географическая широ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 значит определить географическую широ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4480" y="90792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ак определить географическую шир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481800" cy="32860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921040" y="2421000"/>
            <a:ext cx="34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4c"/>
                </a:solidFill>
                <a:latin typeface="Arial"/>
              </a:rPr>
              <a:t>Северная ши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5600" y="4149720"/>
            <a:ext cx="30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Южная ши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373720"/>
            <a:ext cx="84978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ая широта может быть северной и юж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ий объект находящийся </a:t>
            </a:r>
            <a:r>
              <a:rPr b="1" i="1" lang="en-US" sz="1800" spc="-1" strike="noStrike">
                <a:solidFill>
                  <a:srgbClr val="00004c"/>
                </a:solidFill>
                <a:latin typeface="Arial"/>
              </a:rPr>
              <a:t>северне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Экватора, бу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меть </a:t>
            </a:r>
            <a:r>
              <a:rPr b="1" i="1" lang="en-US" sz="1800" spc="-1" strike="noStrike">
                <a:solidFill>
                  <a:srgbClr val="00004c"/>
                </a:solidFill>
                <a:latin typeface="Arial"/>
              </a:rPr>
              <a:t>северную широту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южне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южную широту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3573360"/>
            <a:ext cx="0" cy="1366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596360" y="2060280"/>
            <a:ext cx="0" cy="1366920"/>
          </a:xfrm>
          <a:prstGeom prst="line">
            <a:avLst/>
          </a:prstGeom>
          <a:ln w="57240">
            <a:solidFill>
              <a:srgbClr val="0000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 значит определить географическую широ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94480" y="90792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ак определить географическую шир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836960" cy="46198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140360" y="3573360"/>
            <a:ext cx="431640" cy="432000"/>
          </a:xfrm>
          <a:prstGeom prst="ellipse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3141720"/>
            <a:ext cx="431640" cy="43164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0720" y="2349360"/>
            <a:ext cx="431640" cy="43200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2708280"/>
            <a:ext cx="431640" cy="43164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989000"/>
            <a:ext cx="431640" cy="43200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1628640"/>
            <a:ext cx="431640" cy="43200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1484280"/>
            <a:ext cx="432000" cy="43200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1989000"/>
            <a:ext cx="431640" cy="43200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1916280"/>
            <a:ext cx="431640" cy="431640"/>
          </a:xfrm>
          <a:prstGeom prst="ellipse">
            <a:avLst/>
          </a:prstGeom>
          <a:noFill/>
          <a:ln w="5724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4005360"/>
            <a:ext cx="431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443700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580536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479736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508464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5373720"/>
            <a:ext cx="431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5589720"/>
            <a:ext cx="432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5734080"/>
            <a:ext cx="431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628640"/>
            <a:ext cx="3745080" cy="468000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4680000"/>
              <a:gd name="textAreaBottom" fmla="*/ 4497480 h 4680000"/>
            </a:gdLst>
            <a:ahLst/>
            <a:rect l="textAreaLeft" t="textAreaTop" r="textAreaRight" b="textAreaBottom"/>
            <a:pathLst>
              <a:path w="21600" h="26992">
                <a:moveTo>
                  <a:pt x="3600" y="0"/>
                </a:moveTo>
                <a:arcTo wR="3600" hR="3600" stAng="16200000" swAng="-5400000"/>
                <a:lnTo>
                  <a:pt x="0" y="23392"/>
                </a:lnTo>
                <a:arcTo wR="3600" hR="3600" stAng="10800000" swAng="-5400000"/>
                <a:lnTo>
                  <a:pt x="18000" y="269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любой карте (где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адусная сетка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адусное значение каж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араллели. На рису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синим кружочке обознач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адусные значения севе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ты, красным – ю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пример: широта Санк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тербурга имеет зна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0 градусов северной шир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анция Мирный – 70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южной шир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89000"/>
            <a:ext cx="878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 значит определить географическую широ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12560" y="907920"/>
            <a:ext cx="671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Основные параллели имеют следующ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еографическую широ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5950080"/>
            <a:ext cx="8785440" cy="718920"/>
          </a:xfrm>
          <a:prstGeom prst="roundRect">
            <a:avLst>
              <a:gd name="adj" fmla="val 16667"/>
            </a:avLst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пределить географическую широту точки – это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йти параллель, на которой она располож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5589720"/>
            <a:ext cx="1800360" cy="433080"/>
          </a:xfrm>
          <a:prstGeom prst="roundRect">
            <a:avLst>
              <a:gd name="adj" fmla="val 16667"/>
            </a:avLst>
          </a:prstGeom>
          <a:solidFill>
            <a:srgbClr val="00004c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133720"/>
            <a:ext cx="86421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верный полярный круг (66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северной шир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708280"/>
            <a:ext cx="86421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верный тропик (23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северной шир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284640"/>
            <a:ext cx="86421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кватор (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860640"/>
            <a:ext cx="86421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Южный тропик (23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южной шир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437000"/>
            <a:ext cx="86421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Южный полярный круг (66,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южной широ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9T14:46:48Z</dcterms:created>
  <dc:creator>Admin</dc:creator>
  <dc:description/>
  <dc:language>en-US</dc:language>
  <cp:lastModifiedBy>Admin</cp:lastModifiedBy>
  <dcterms:modified xsi:type="dcterms:W3CDTF">2023-01-02T06:30:36Z</dcterms:modified>
  <cp:revision>21</cp:revision>
  <dc:subject/>
  <dc:title>1</dc:title>
</cp:coreProperties>
</file>