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F03-A987-4551-89CA-F49121C0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8CC-404B-411C-A4FA-B604A42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EEB-760A-49F8-9869-CD6E831A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046-A860-447B-993C-4E7BAC10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835-3C33-4F92-8F40-58D3518D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D4B-01AD-4200-8FF1-676D608A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9E0-3EB8-43AC-B00F-C7686AE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50C-3543-4B1B-AE47-C568C4CC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DE4-4963-4B5A-A07E-36C51EF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7CE-D007-423B-AA43-EB54F25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06F-7643-4F9B-9B98-038E686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44E-E334-4EFB-9868-458CE93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225-C66C-4501-88A1-A3DFF57AD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936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692280"/>
            <a:ext cx="7489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. Географические координаты (1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08360" y="4076640"/>
            <a:ext cx="5111280" cy="2447640"/>
            <a:chOff x="3708360" y="4076640"/>
            <a:chExt cx="5111280" cy="2447640"/>
          </a:xfrm>
        </p:grpSpPr>
        <p:sp>
          <p:nvSpPr>
            <p:cNvPr id="45" name=""/>
            <p:cNvSpPr/>
            <p:nvPr/>
          </p:nvSpPr>
          <p:spPr>
            <a:xfrm>
              <a:off x="3708360" y="4076640"/>
              <a:ext cx="5111280" cy="24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Для чего нужны географ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оординаты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. Что значит определя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географическую широт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5567400" y="4245840"/>
              <a:ext cx="1162440" cy="3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знаем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чего нужны географические координа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133720"/>
            <a:ext cx="37432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еографические координ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юбой точки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емном шаре – её широ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олг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tebulb"/>
          <p:cNvSpPr/>
          <p:nvPr/>
        </p:nvSpPr>
        <p:spPr>
          <a:xfrm>
            <a:off x="3635280" y="1917720"/>
            <a:ext cx="457200" cy="576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941720"/>
            <a:ext cx="84978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ая точка на земном шаре имеет свой географический ад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т адрес состоит из двух частей. Две части географ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дреса – широта и долгота. Пересечение широты и долгот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нужный нам адрес – географические коорди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772160" cy="31528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239840" y="69228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то такое географические коорди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чего нужны географические координа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07000" y="836640"/>
            <a:ext cx="724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офессии где нужно знать  как опреде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еографически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91628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тур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492280"/>
            <a:ext cx="54007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06864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е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64500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еодез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221000"/>
            <a:ext cx="54007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рто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79736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нженер-ге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950080"/>
            <a:ext cx="8785440" cy="71892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еографические координаты необходимы для то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пределения положения любого объекта на земном ш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589720"/>
            <a:ext cx="1800360" cy="43308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133720"/>
            <a:ext cx="381636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еографическая широта – вел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уги меридиана (в градусах)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экватора до заданной 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ывает северной и юж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 0 до 90 граду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tebulb"/>
          <p:cNvSpPr/>
          <p:nvPr/>
        </p:nvSpPr>
        <p:spPr>
          <a:xfrm>
            <a:off x="3564000" y="1916280"/>
            <a:ext cx="457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836960" cy="4619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634040" y="98100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то такое географическая шир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4480" y="90792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определить географическую шир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1800" cy="3286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921040" y="242100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c"/>
                </a:solidFill>
                <a:latin typeface="Arial"/>
              </a:rPr>
              <a:t>Северная ши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5600" y="414972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Южная ши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373720"/>
            <a:ext cx="84978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ая широта может быть северной и юж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 объект находящийся </a:t>
            </a:r>
            <a:r>
              <a:rPr b="1" i="1" lang="en-US" sz="1800" spc="-1" strike="noStrike">
                <a:solidFill>
                  <a:srgbClr val="00004c"/>
                </a:solidFill>
                <a:latin typeface="Arial"/>
              </a:rPr>
              <a:t>северне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Экватора,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меть </a:t>
            </a:r>
            <a:r>
              <a:rPr b="1" i="1" lang="en-US" sz="1800" spc="-1" strike="noStrike">
                <a:solidFill>
                  <a:srgbClr val="00004c"/>
                </a:solidFill>
                <a:latin typeface="Arial"/>
              </a:rPr>
              <a:t>северную широ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южне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южную широ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3573360"/>
            <a:ext cx="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596360" y="2060280"/>
            <a:ext cx="0" cy="1366920"/>
          </a:xfrm>
          <a:prstGeom prst="line">
            <a:avLst/>
          </a:prstGeom>
          <a:ln w="57240">
            <a:solidFill>
              <a:srgbClr val="0000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94480" y="90792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определить географическую шир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836960" cy="46198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40360" y="3573360"/>
            <a:ext cx="431640" cy="432000"/>
          </a:xfrm>
          <a:prstGeom prst="ellipse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314172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234936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270828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98900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62864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484280"/>
            <a:ext cx="43200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8900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191628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00536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443700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580536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479736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508464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37372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5589720"/>
            <a:ext cx="432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573408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628640"/>
            <a:ext cx="3745080" cy="468000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680000"/>
              <a:gd name="textAreaBottom" fmla="*/ 4497480 h 4680000"/>
            </a:gdLst>
            <a:ahLst/>
            <a:rect l="textAreaLeft" t="textAreaTop" r="textAreaRight" b="textAreaBottom"/>
            <a:pathLst>
              <a:path w="21600" h="26992">
                <a:moveTo>
                  <a:pt x="3600" y="0"/>
                </a:moveTo>
                <a:arcTo wR="3600" hR="3600" stAng="16200000" swAng="-5400000"/>
                <a:lnTo>
                  <a:pt x="0" y="23392"/>
                </a:lnTo>
                <a:arcTo wR="3600" hR="3600" stAng="10800000" swAng="-5400000"/>
                <a:lnTo>
                  <a:pt x="18000" y="269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любой карте (где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ая сетка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ое значение ка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аллели. На рису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синим кружочке обознач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ые значения севе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ты, красным – ю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ример: широта Санк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тербурга имеет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0 градусов северной шир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анция Мирный – 7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южной шир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2560" y="907920"/>
            <a:ext cx="671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сновные параллели имеют следующ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еографическую широ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950080"/>
            <a:ext cx="8785440" cy="71892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пределить географическую широту точки – это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йти параллель, на которой она располож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589720"/>
            <a:ext cx="1800360" cy="43308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3372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верный полярный круг (66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евер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70828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верный тропик (23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евер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28464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кватор (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860640"/>
            <a:ext cx="86421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Южный тропик (23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юж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43700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Южный полярный круг (66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юж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14:46:48Z</dcterms:created>
  <dc:creator>Admin</dc:creator>
  <dc:description/>
  <dc:language>en-US</dc:language>
  <cp:lastModifiedBy>Admin</cp:lastModifiedBy>
  <dcterms:modified xsi:type="dcterms:W3CDTF">2023-01-02T06:30:36Z</dcterms:modified>
  <cp:revision>21</cp:revision>
  <dc:subject/>
  <dc:title>1</dc:title>
</cp:coreProperties>
</file>