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70E-634F-44AD-B9A9-809A667E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E18-A12E-4101-8D98-5596B8E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3DB-AB79-454B-BA5E-6D554FD6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214-5229-4890-AED4-6F4EA2E9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F65A-44E4-4413-890E-36CC985B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E4D6-F6CB-4922-99D8-EF09FF1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DC37-8368-4BC3-9F69-60B1B17C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DE39-EB27-4F75-8FBC-6A88EE4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3486-005F-47CB-ADB6-5DB99BE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29D9-CE31-4455-A5DD-D3B5C9CB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6F3-F620-486C-B418-272195F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1DA-A987-446A-B47E-4C2FE695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C8A-51D0-4F11-B111-AF60872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BE58-3D0A-4FD0-ADA0-77C7F4F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2CAF-AAEC-4B2A-A853-507A77D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CDB5-BCA4-429B-8FCD-FEAC3A55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9D74-D3A9-43AA-8016-D86F1044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B8C6-447A-44CC-875C-5D851EB9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A847-B62D-48C8-A720-5D813794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28F4-7E8F-44CF-AA0F-797F1005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2CFD-A54F-4114-9886-BBBF057C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6E680-40AD-44E8-997B-71A003B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30D-8C24-4431-97D3-CAF2C9EB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A984-A26E-4D04-8840-2377119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9FA25-780D-47F4-99FB-B1B8E50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8D7A-27BA-4594-B709-0172ABC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F533-77CE-44A2-BE56-03AC578D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4587-E2A1-43E8-A0AB-7D40556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7286-13C7-4E32-87BE-70BABD74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13BD-EA17-4B2A-B260-CBC9EF0C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59C4-0E59-43D1-BBE6-1D0D0E6D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C75E-5D6B-45C9-9878-774AB8A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DEE6-B690-4FD5-AE81-2BA5624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FD2-DAA3-4ED1-A453-2D051DF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65A6-81B9-4C83-B134-68B85F5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7CBB-199B-4F47-9E44-CA38ECA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83B9-B060-42E8-81A0-75EDA9C1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88BD-9886-43D7-B2B0-859360B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BEC0-6F7C-4A80-8AD1-58F3DBE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EC6A-DE30-4183-9ED5-2BBC30D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2B5E-8F06-43BF-917F-DC8BB9C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C240-5019-42E0-A4ED-B037523F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B61E-62A1-402D-8474-17AC49C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4A3A-F673-40A8-9D13-B02E98CE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E34-7D65-4DEC-B8F0-C8EBD933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8C19-63EB-4AC8-AC90-3E1E6694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588F-DCDF-4A2F-80DA-0D70F432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7091-D2D1-40A8-B36A-4B8FD158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9F284-A961-41F9-B8EC-75626B4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683B-CEBC-4F92-9911-CA32F922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D868-38F0-48C2-B684-E33E083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3BA8D-6FF6-4F4F-9DC5-6A5E7E15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99E3-80B4-4163-A7CA-F10DE6A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B939A-9FBB-471B-8E01-E0B7FA4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ED66-5E41-4EA8-B69C-137E6B0C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E34-9DBF-4F1D-9D42-4179ADB3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1635-42E6-43A6-B14B-1A83616E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515-45B6-4118-B3BC-06E0B14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25B-FD71-40D5-BD66-59E7F99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F51-FF0F-45F4-A7D1-B736974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89D-433E-40D1-B598-A587AA89081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FA6E-E497-496D-A474-6E7CE9EE180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29D-19C3-40AB-BAB9-8D0410E5A20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8F34-5B6C-4059-935E-656AB440DA0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F7C7-A088-4BE8-8384-4D3A967B184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94440" cy="34812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4932360" y="4653000"/>
            <a:ext cx="3743280" cy="1728720"/>
          </a:xfrm>
          <a:prstGeom prst="rect">
            <a:avLst/>
          </a:prstGeom>
          <a:gradFill rotWithShape="0">
            <a:gsLst>
              <a:gs pos="0">
                <a:srgbClr val="ffeaf4"/>
              </a:gs>
              <a:gs pos="100000">
                <a:srgbClr val="f8c4dd"/>
              </a:gs>
            </a:gsLst>
            <a:lin ang="5400000"/>
          </a:gradFill>
          <a:ln w="11520">
            <a:solidFill>
              <a:srgbClr val="cf6da4"/>
            </a:solidFill>
            <a:miter/>
          </a:ln>
          <a:effectLst>
            <a:outerShdw dist="24840" dir="5400000" blurRad="0" rotWithShape="0">
              <a:srgbClr val="872e6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оставила: Гукова Е.Л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читель нач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ьных классов              МБОУ «Шахтёрская СШ№2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9.Запиши главных героев сказки В.В.Бианки «Сова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356000" y="2373480"/>
            <a:ext cx="33609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10. Какой наказ дал своим детям Маркел-Самодел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4388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Старик, сова, мыши, шмели, кор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(Разные руки по разному хватки, во всякой голове- свои задатк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1.Когда Пушкин был маленьким ему никто не читал сказок. Почему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не умели чита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их рассказывал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не было книг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2. Кто рассказывал маленькому Пушкину сказки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мам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бабуш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 ) нян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3589200" y="3860640"/>
            <a:ext cx="3562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1760"/>
            <a:ext cx="7238880" cy="51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3.Как звали самого младшего брата Пушкина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Николень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Лёвуш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Савушка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067280" y="3716280"/>
            <a:ext cx="35146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4.  Сколько персонажей в стихотворении Л.И.Кузьмина «Дом с колокольчиком»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810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5. За что мама похвалила сына  в рассказе В.В.Галявкина «Этот мальчик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он помог ей прибраться в дом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он хорошо учился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за храбр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59200" y="3860640"/>
            <a:ext cx="3041640" cy="2997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0" y="4581360"/>
            <a:ext cx="2176560" cy="2276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259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6. Почему Кузьма Шапкин из рассказа «Медаль» С.П.Алексеева решил вернуть медал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он хотел, чтоб его похвалил генерал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ему было стыдно за свой первый б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он побоялся товарище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91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7. Что за подарок получил дедушка в рассказе М.В.Дружининой «Очень полезный подарок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телевизо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компьюте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телефо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8. О чём спросил внук у бабушки по телефону в рассказе «Стрекот кузнечиков» С.Г.Георгиев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А) как себя чувствует бабуш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Б) когда она к ним приедет в г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) стрекочут ли у бабушки возле дома кузнечик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4427640" y="4676760"/>
            <a:ext cx="3259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1T06:22:17Z</dcterms:created>
  <dc:creator>Пользователь Windows</dc:creator>
  <dc:description/>
  <dc:language>en-US</dc:language>
  <cp:lastModifiedBy>Пользователь Windows</cp:lastModifiedBy>
  <dcterms:modified xsi:type="dcterms:W3CDTF">2023-01-02T08:39:38Z</dcterms:modified>
  <cp:revision>10</cp:revision>
  <dc:subject/>
  <dc:title>Тест-опрос по сказкам</dc:title>
</cp:coreProperties>
</file>