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ACFF-88C2-4209-9D1A-04AC5829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AB7-7536-4FA4-85BE-0AB40F8C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9439-9290-4BA9-90CC-4ACA66A1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4F70-E596-414E-89E1-D64FD27C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CEAC-9816-47C8-BA9E-1ADE5704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8483-0CB2-4A35-B583-B93F4C06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A9A3-90FF-4828-A82F-4E91EA54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DE08-7372-4980-A4A4-A9EF9862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F6B5-96B5-41A2-93A5-37585B7C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5B29-6681-48D2-B015-EDE26B00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2BC4-B75F-414A-ADF6-7DF9947E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933-35EF-4A46-9B8D-52E48F6E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7168-CBF9-40A7-9C67-9CAB6E39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55C9-1F15-4223-965B-01B99131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DB16-9429-43AA-8596-654DB097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2F56-7E8B-43AA-ABC4-65C06BA0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F50F-A1E3-45F4-B332-FAB3777E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F3094-24E2-405B-9EB9-08FF63C1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80161-FDB3-4495-9106-542892F7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221EE-0D84-4D00-8C1B-E2DC170A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65D2B-185F-4C49-B164-4BE0C574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6C358-48C8-4D31-A366-879D70BC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78B-7D89-41E3-999D-FA0A0531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DAA95-943A-4D4F-934A-A118D713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51442-1129-4F77-9996-D5B72EEE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E97BE-F75D-4AC6-83B8-7EFFEDC5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6B860-D81F-48D6-A368-F90B2E7E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335FD-CCF4-4D9D-8B44-20FAEA24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C939E-EC29-459C-ACB6-EE919BED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EB9C7-8E9D-4C92-8E61-AFFA0A7A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DBBB5-6A5C-4AE9-B7BD-350C92E3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72BAA-BB3C-404F-83E4-C9C8BBBB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10E2C-D6F5-4738-96D2-3E51F827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B7EF-9697-4396-BA17-2F537F0F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D5642-E52C-4ABA-9314-187D528D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33986-8BB1-41D8-A441-FEEF9035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00244-95C9-42E6-ABC9-766E5E62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BD5BA-FE1A-4AC0-90E3-2877AED2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8C668-6534-4C66-90C5-9764F496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A3C1B-ADE3-4607-91F3-E7FB3768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A0A7B-9AE0-4E73-8E29-2EDDFD5D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0F73A-1FAC-4F63-9722-8BE89609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A0833-3C80-4843-8C68-B3FD5274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164E4-EBED-4265-9E49-48FBE708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4E41-CB96-4508-8AA1-EA419D16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1543C-A927-49B7-A81F-6DF0F67F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A1BA9-0AA1-461D-9DD0-7B715644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A7BE1-56CD-4B2A-BDDC-04C88BBA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6B407-C375-42E4-8A62-18651673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197A9-CBC1-4915-838A-2A3DE535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3E816-A367-4286-A02E-EE829591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C9453-A501-4750-9D6C-1573838B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15D32-701D-4DAB-A2A9-3ACDD207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46865-F596-4240-AA98-F0CF265B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0CAA6-3621-4503-A1E9-D9066152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FBD-0678-4CE6-BA5E-5E38B18F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4D873-475E-4094-ACDC-7DD44049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46F6-14F8-463E-8308-7C2D68B3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B57A-CE84-434B-96EB-83EFE277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34B-A3E8-47DB-8AA7-D59BA562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E0BB-0695-49BA-BD9B-6C9096ED3CA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1AA7-6B9D-4B36-AD53-9031F65DD1C4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20E6-829D-4A69-A54F-2F379365D3F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6BF7-45EC-4C1C-82BA-D3F7038DDCB3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1872-5676-4C57-9DC5-9E12D874E30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94440" cy="348120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2"/>
          <p:cNvSpPr/>
          <p:nvPr/>
        </p:nvSpPr>
        <p:spPr>
          <a:xfrm>
            <a:off x="4932360" y="4653000"/>
            <a:ext cx="3743280" cy="1728720"/>
          </a:xfrm>
          <a:prstGeom prst="rect">
            <a:avLst/>
          </a:prstGeom>
          <a:gradFill rotWithShape="0">
            <a:gsLst>
              <a:gs pos="0">
                <a:srgbClr val="ffeaf4"/>
              </a:gs>
              <a:gs pos="100000">
                <a:srgbClr val="f8c4dd"/>
              </a:gs>
            </a:gsLst>
            <a:lin ang="5400000"/>
          </a:gradFill>
          <a:ln w="11520">
            <a:solidFill>
              <a:srgbClr val="cf6da4"/>
            </a:solidFill>
            <a:miter/>
          </a:ln>
          <a:effectLst>
            <a:outerShdw dist="24840" dir="5400000" blurRad="0" rotWithShape="0">
              <a:srgbClr val="872e6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оставила: Гукова Е.Л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учитель нач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льных классов              МБОУ «Шахтёрская СШ№2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9.Запиши главных героев сказки В.В.Бианки «Сова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4356000" y="2373480"/>
            <a:ext cx="33609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10. Какой наказ дал своим детям Маркел-Самодел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643880" cy="11764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267920"/>
            <a:ext cx="7238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Старик, сова, мыши, шмели, коро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(Разные руки по разному хватки, во всякой голове- свои задатки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1.Когда Пушкин был маленьким ему никто не читал сказок. Почему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А) не умели читать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Б) их рассказывал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) не было книг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2. Кто рассказывал маленькому Пушкину сказки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А) мам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Б) бабушк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 ) няня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3589200" y="3860640"/>
            <a:ext cx="35625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41760"/>
            <a:ext cx="7238880" cy="51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3.Как звали самого младшего брата Пушкина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А) Николеньк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Б) Лёвушк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) Савушка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4067280" y="3716280"/>
            <a:ext cx="35146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4.  Сколько персонажей в стихотворении Л.И.Кузьмина «Дом с колокольчиком»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А) 3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Б) 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) 4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8102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5. За что мама похвалила сына  в рассказе В.В.Галявкина «Этот мальчик»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А) он помог ей прибраться в доме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Б) он хорошо учился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) за храбрость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4759200" y="3860640"/>
            <a:ext cx="3041640" cy="2997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0" y="4581360"/>
            <a:ext cx="2176560" cy="2276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22590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6. Почему Кузьма Шапкин из рассказа «Медаль» С.П.Алексеева решил вернуть медаль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А) он хотел, чтоб его похвалил генерал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Б) ему было стыдно за свой первый бой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) он побоялся товарищей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6732720" y="4076640"/>
            <a:ext cx="9144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7. Что за подарок получил дедушка в рассказе М.В.Дружининой «Очень полезный подарок»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А) телевизор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Б) компьютер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) телефо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8. О чём спросил внук у бабушки по телефону в рассказе «Стрекот кузнечиков» С.Г.Георгиева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А) как себя чувствует бабушк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Б) когда она к ним приедет в гост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) стрекочут ли у бабушки возле дома кузнечик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4427640" y="4676760"/>
            <a:ext cx="32590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11T06:22:17Z</dcterms:created>
  <dc:creator>Пользователь Windows</dc:creator>
  <dc:description/>
  <dc:language>en-US</dc:language>
  <cp:lastModifiedBy>Пользователь Windows</cp:lastModifiedBy>
  <dcterms:modified xsi:type="dcterms:W3CDTF">2023-01-02T08:39:38Z</dcterms:modified>
  <cp:revision>10</cp:revision>
  <dc:subject/>
  <dc:title>Тест-опрос по сказкам</dc:title>
</cp:coreProperties>
</file>