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CC2-BBC8-4494-8D68-FE2FDAD2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E8F-F75D-466D-864C-CCAF4330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1AE-09B5-4C62-B87F-1662BEA0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43A-7662-4497-A154-542FE74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F2434-389C-45DF-B582-BDC9E6AE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619ED-E5EA-4C27-8CF7-DF0ECC1A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20FC6-7772-431B-926A-A0B66D33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C978A-E5A9-421F-9610-21F92FC1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56441-17F2-4C9E-B01B-7C7667AE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FA25B-BCC0-4CD2-A465-FDAE6AD3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25562-1324-45DB-AD42-B04B996B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823-9150-4432-8998-6A1D9280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2341A-0DE6-4C19-879C-8A287D2C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A8DC2-46D1-4EA8-9ADF-8AA52BD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913C9-B958-4A98-BA5A-F10BF5C7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1EF49-CA5C-4B2F-A507-32B626DA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4F2DD-C4B7-4DFC-A3C6-1EA56581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501-77CC-45F9-809C-F880435D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F3D-1263-435B-9C4E-F30D5E31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FFA-3F10-4D6C-8C9F-C346D6F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575-EC94-4A07-9E91-3A8031DE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107-1FDF-407A-90AC-FF6B69E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570-D5E7-4998-B0DF-609B30EA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2D4-D4DE-421E-A406-5FD50AFD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B6D5-C146-4954-BDE9-A68FB9128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27F1-CE22-450A-9E0C-85E57A426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РЕНИНГОВЫЕ УПРАЖНЕН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ры и  коррекционные упражнения разработаны дл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-го класс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-логопед: Мухаматиевой И. Ч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Угадай!"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фонематического слуха, внимания, мыш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Угадай!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К доске вызывается группа из трех-четырех детей. Одного из них просят на некоторое время выйти за дверь, остальные получают карточки со словами предложения, которые они должны произнести по сигналу учителя одновременно - каждый свое слово. Задача "отгадчика" - понять и произнести предложение целиком. Проводится игра несколько раз - так, чтобы приняли участие все дети. Если "отгадчик" не понимает сразу, можно повторять. Выигрывает тот, кто расслышал предложение с наименьшим количеством повтор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овая ситуация угадывания побуждает детей к максимальному слуховому сосредоточению. Кроме того, отгадчику нужно не только воспринять всю информацию целиком - услышать предложение, но и сообразить, из чего она складывается, разбить ее на составляющие элементы - слова, то есть проделать мысленно операцию анализа. У детей, составляющих "хор", необходимость одновременно произнести каждому свое слово требует умения согласовывать свои действия, почувствовать готовность партнеров к общему действию, а это способствует развитию такого важного качества личности, как эмпатия. Слияние слов в момент их произнесения хором закрепляет в сознании детей идею объединения слов в предложение, выделение из целостного речевого потока предложения как самостоятельной смысловой един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На что похоже?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зрительного сосредоточения, воображения, письменной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На что похоже?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Детям предлагают рассмотреть изображение с бесформенными цветными или чернильными пятнами (можно получить его, капнув на лист бумаги краской одного или нескольких цветов, а затем сложить этот лист пополам и половинки прижать друг к другу). Задание: увидеть в этом изображении сюжет и написать предложение или короткий рассказ. o Необходимость словами выразить свои впечатления, чувства описать образы, возникающие в воображении, - все это активизирует словарный запас. Здесь также происходит тренировка умения осознанно согласовывать слова в предложении в процессе письменной реч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"Мячик - согласователъ"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внимания, быстроты мыслительных операций,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"Мячик-согласователъ"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читель бросает мяч кому-нибудь из детей произнося при этом несогласованные слова, например: "Собака, гулять". Ученик, поймав мяч, правильно произносит предложение, составленное из этих слов и бросает мяч обратно учителю. Броски повторяются от 10 до 20 раз - в зависимости от ситуации и состояния де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вижение мячика активизирует непроизвольное внимание, а то что он может быть брошен любому из детей, мобилизует также и произвольное внимание. Кроме того, внимание играющих детей направляется каждый раз на того, кто поймал мяч, и их ожидание ответа и следующего броска усиливает у поймавшего потребность ответить как можно скоре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У кого смешнее?"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воображения, устной и письменной речи, чувства юмора, мыш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У кого смешнее?"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Дается задание: придумать смешные предложения (усложненный вариант - придумать смешной рассказ). Можно использовать в качестве домашнего задания. Письменные работы анализируются учителем с целью отбора самых смешных и не смешных - не для оценки, а для последующего обсуждения вместе с детьми' почему одно смешно, а другое нет. o Условие "чтобы было смешно" создает положительное эмоциональное состояние, позволяет снизить страх ошибки у тревожных и неуспешных детей, так как "ошибочные", нелепые предложения могут быть смешными, а именно это и требуется по условию. Когда нет боязни ошибиться, расцветает фантазия, и могут проявиться все речевые и мыслительные способности, которые блокировались до сих пор страхом пориц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Общее сочинение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воображения, устной речи, памя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десь в процессе придумывания ответа непроизвольно закрепляется понимание разницы между простым набором слов и предложением. Очередность ответов "по пространственному положению" снимает с учителя функцию "вызывающего к доске" и делает ситуацию игровой. Соревновательная игра командой (один ряд против другого) усиливает мотивацию для произвольного запоминания, а необходимость дать слово для продолжения активизирует словарный запа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Отгадаем знак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витие слухового сосредоточения, мышления, закрепление учебного материала через двигательный анализатор и подраж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читель читает текст, делая паузы в конце предложений. Дети молча руками изображают нужный знак. Например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!" - две вытянутые руки соединены над голов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?" - правая рука поднята и согнута полукругом, левый кулачок перед грудью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." - кулачки прижаты друг к друг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Форму изображения знака можно обсудить с учениками и принять их предложения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Общее сочинение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читель произносит два слова, например: "Слон, дерево". Ученик, которого он называет, дополнив, связывает эти слова в одно предложение, например: "У слона ноги толщиной с дерево" - и называет свое слово, с которым должно связаться второе из предложенной учителем пары; эту связь-предложение придумывает следующий в ряду и предлагает дальше свое слово и так до конца ряда. Затем члены ряда вспоминают все использованные слова. То же делает другой ряд. Выигрывает ряд, запомнивший больше с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Два слова"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Развитие письменной речи, вообра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Два слова"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ва ученика выходят к доске, становятся так, чтобы не видеть друг друга, и по сигналу учителя одновременно записывают каждый свое слово. Соединение этих слов - тема для сочи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туация случайности соединения двух слов в теме сочинения очень наглядно показывает детям, что писать действительно можно любые предложения, какие придут им в голову в связи с этой темой. Ведь учитель тоже не знал, какая получится тема, и не может быть указаний и ожиданий того, "что надо" на эту,тему писать. Без опасения сделать "не так" раскрепощается воображение и легче появляются различные речевые ассоци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Отгадаем знак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ариант текста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(Л.Куклин "На один звук")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Вот сколько на "К" я сумею сказать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стрюля, кофейник, коробка, крова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рова, квартира, картина, ковер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адовка, калитка, комод, коридор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й, хватит! И звук тоже может устат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вот что на "Т" ты сумеешь назвать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Топор, табуретка, тарелка и ложк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й, кажется, я тут напутал немножко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у ладно, я больше сбиваться не буду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лушай, на "С" назову я посуду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акан, сковородка, солонка и... кошка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А кошка откуда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Залезла в окошко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Спроси лучше кошку - откуда пришла?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вся ли посуда на кухне цела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мечание к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Отгадаем знак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провождение движениями слушания текста не отвлекает внимания, а наоборот, активизирует, поддерживает его. Самостоятельное, осознанное управление своей умственной деятельностью ("произвольное внимание") для многих детей этого возраста еще затруднено, и простые указания учителя: "Слушайте внимательно!" - оказывают на них слабое воздействие. Когда же слушание имеет конкретную цель - заметить нечто и отметить замеченное движением, тогда содержание текста из чисто внешней информации превращается в руководство для собственных действий, можно сказать, организует внутренний план действия. Если же и это для некоторых детей затруднительно, они могут просто подражать движениям других, но материал все равно будет закрепляться (в этом случае - способом непроизвольного запоминания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Соединяемся и меняемся"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операций мышления (анализ, синтез, сравнение), закрепление учебного материала невербальными средств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 доске выходят 10 детей, каждый из них получает небольшой плакатик, содержащий слово или знак, например такие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Т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ШЕ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ДРАВСТВУ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ДУШ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ТЯ ЛЮБИТ ЦВЕ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явшись за руки, они составляют три группы - предложения со знаками. Дети, оставшиеся на местах, читают эти предложения. Затем учитель спрашивает, что получится, если поменять местами какие-нибудь "слова" и "знаки", и предлагает кому-нибудь из класса это сделать. При этом каждый раз обсуждается изменение смысла предложения и возможность перестановок (если переставить слова нельзя, то почем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ариант текста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Дедушка пришел? Дедушка пришел! Кто любит цветы? Дедушка любит цветы? Кто дедушка? Кто Катя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же сама возможность подвигаться на уроке для ребенка благотворна. Движение с помощью собственного тела помогает почувствовать значение слова и знака в предложении. Ребенок, несущий слово или знак, осознает, что его перемещение изменяет смысл всего предложения. Соединение рук помогает детям ощутить единство слов и знаков в предложении, что способствует предупреждению очень распространенных ошибок, когда дети забывают ставить знаки препинания или ставят их где попало, так как не понимают их зна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Кто больше придумает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воображения, устной и письменной речи, закрепление учебного материала посредством использования игровой мотив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Кто больше придумает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исание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Каждый ребенок получает сюжетную картинку (можно использовать наборы открыток по сказкам). Задание: написать предложения про эту картинку. Выигрывает тот, кто напишет больше всех предложений. Выигравшего определяет учитель, который наблюдает за выполнением задания и предлагает прочитать самую удачную работу. Варианты заданий: А. Дать в виде домашнего сочинения. Б. Предложить сделать рисунок и придумать предложения или рассказ про собственный рисунок. o Самостоятельное придумывание предложений - довольно сложная умственная деятельность. Опора на картинки помогает "сдвинуться с мертвой точки", в первую очередь, тем детям, чье воображение бедно от недостатка опыта или заблокировано страхом неудачи. Кроме того, мотив соревнования способствует включению в работу тех детей, у которых собственно учебные, познавательные мотивы еще не сформировались или сла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ffi</cp:lastModifiedBy>
  <dcterms:modified xsi:type="dcterms:W3CDTF">2008-06-13T14:49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