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EE1B-3D0E-4EFB-9227-274C7C1616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537C-2A45-4BE6-8B5F-79006D72E0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A5A-91AF-4902-A9B0-62724B0D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D24-244B-48B2-A51D-E560E878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BFA-9D12-4C94-9814-51735112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82F9-BA07-4711-8AD3-85D9C88F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3157-ECCB-46A0-ADAB-B4C0E27E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D517-AD74-456E-810C-357E972C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BB27-044A-450F-A585-0A144ADB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0C7C-E8C1-4E27-B62C-5C50FBE7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C0FD-EF16-4E82-84A2-7B9BAC17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6CF2-46AC-40A0-9341-B48EF2D9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4CEA-D6CD-4491-ABF3-01C9BF0D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84C7-6CD2-4772-A65E-C8AEBEC8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3968-3F49-4148-A909-D7642011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0F47-ECF1-4680-8658-001C907F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C911-E2AD-4451-98CC-2A86FF15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D9C0-2BAD-489E-9DA8-F65305E0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E593-25D3-4820-A552-B6460A9C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2D04C-74C1-4944-A314-59057CF4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EF2BE-AC40-47AB-958A-28DACBE4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A64FF-0247-4F51-BFDC-838280F8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A2690-92D8-4E96-85AC-9A878948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82C0F-DDA4-49A3-8F88-C2868EBD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1C8-89F7-43DA-AFC3-3D883539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3E9E1-0B51-439B-86D7-58107D59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BF6FF-8CF1-4ACD-823E-4630A833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3F7C5-2095-4C01-A5AB-7906DDE2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592F7-7C75-4358-B047-3DBD0EC5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6C4B1-5660-41C0-AC6D-76F36B12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1CB9D-8B6B-45EF-894E-B27E14A0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E3D7C-2F96-4A91-B975-FE9BE68D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7A0A3-95A8-403C-88BB-01F2D2C5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4913F-15BD-4E77-A0E4-1A16A405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41A0B-5BE1-40D5-BA96-98350C28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F35-93ED-4498-AC99-84A99B00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B1AD8-848E-474C-87BB-74800159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CE2E4-CFF4-4708-9F15-1B050D64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A8B96-0428-4B6B-8024-0BB90E0D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9B0D9-1B5A-4DC8-B594-77FBC93F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9E574-61D7-4964-82CF-C1398572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B29EF-206B-4C80-919D-48FB83EA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AABB1-78BC-4841-AE30-206AFB76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2AA5C-0374-49F0-BC1F-6DE4FEF9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E7C92-CBCC-4E58-B911-79D6922D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20AAE-D3B0-4B5C-B592-23F682F7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A0D-AFB8-42C0-A58B-71B56C54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2EF6B-9A2C-42A8-AFCF-217C78FE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90C20-9A61-48BC-901B-E5BB6F4C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222E3-E09C-4F11-9002-39815366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9DA84-B7D2-4881-923D-4080C39A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0F610-379F-436C-B536-778E3A59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9D9D7-A615-4BC2-A379-DD988E18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D7649-3065-4B90-B6B5-5227F259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7285C-F6C9-44E9-84BB-9C337FB0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4E3E1-EBFD-4053-813F-1519C384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248BF-721B-4EBF-8A03-EFE6E83D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475-B2E9-47B5-82F7-64529AA3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561BA-85C4-43FD-A381-4FEF7C2D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54F1E-8B59-4D50-BE37-7FD13B6B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11060-9101-4B8A-9258-96774E5C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2C7FE-CE1E-4A0A-A443-DBA8A3B7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1D359-06AC-4B5A-A183-279433FA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7D49C-73BB-4E58-B57A-461AE77D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4A4E1-96F3-48DA-91F2-398D07DF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8CC4B-A480-4263-845F-42ED57F9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D1CF5-04F0-4254-9FCA-6B6CF5BB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A5559-F396-41F2-BD94-936FB3AF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0FB-29A8-4D5E-B196-F3ACF253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BFA46-8AE3-4E41-8938-CAA35191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8958F-0303-4F65-98FF-818E5BB5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3D25C-51C9-4CE0-9342-E504410C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142B9-3897-4243-A36D-156A17AD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87FAC-0225-4D37-8336-883AADF9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83C53-ED18-4E50-8B47-37030F6A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954FA-FDB1-49D9-98D5-A0059931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227DF-E553-4017-A0A2-51B3FECC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096BA-081A-4B63-B0AD-A5B484CF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A309D-075E-448F-8E0F-354C6BB0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882-9280-4277-A064-24F7EC20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DE2C5-7069-4773-9610-74B8E117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2A2F7-8053-4E8C-8B4D-48F54A5B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D497D-ABBF-413F-B399-86BD12FF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3F72E-B35C-499D-848E-50BDF732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B4FEC-9A22-4C69-B4D4-842DDD27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210F-8BA8-46D8-B2D2-4B267204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227A-CA7E-472D-A750-E9EAD771344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821B-22B2-4F1F-AE5D-C82DB487652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9FB7-A8B3-4C56-8AA5-3B793D07DC3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5DE6-FFB4-4DC1-AADA-978684F2276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F5B1-A52E-4633-948A-99BB4F9D4B5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78B6-73D8-4B0B-A743-11FA730373E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EEE7-5363-47A0-ADEA-77E463A744D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14320" y="2214720"/>
            <a:ext cx="7072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br>
              <a:rPr sz="3900"/>
            </a:b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ество: понятие, типы и основные сферы жизни общества</a:t>
            </a:r>
            <a:br>
              <a:rPr sz="39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класс. Обществознан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643040" y="4714560"/>
            <a:ext cx="6858000" cy="1785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готовила: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истории и обществознани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Бурметьевская СОШ» Нурлатского района Республики Татарстан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Юсупова Венера Феликсовн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000080" y="357120"/>
            <a:ext cx="25351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129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адиционное общес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55280" y="907560"/>
            <a:ext cx="75438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адиционное общество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бщество, которое регулируется традицией. Сохранение традиций является в нём более высокой ценностью, чем развитие. Общественный уклад в нём основывается на традициях, обычаях. Данная организация общества стремится сохранить в неизменном виде социокультурные устои жизни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0" y="3641760"/>
            <a:ext cx="4643280" cy="3227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4643280" y="3571920"/>
            <a:ext cx="4500720" cy="3308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928800" y="0"/>
            <a:ext cx="82152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34920" y="2571840"/>
            <a:ext cx="8066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c000"/>
                </a:solidFill>
                <a:latin typeface="Corbel"/>
              </a:rPr>
              <a:t>Индустриальное общество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28800" y="3499920"/>
            <a:ext cx="8215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дустриальное общество </a:t>
            </a:r>
            <a:r>
              <a:rPr b="0" lang="ru-RU" sz="2600" spc="-1" strike="noStrike">
                <a:solidFill>
                  <a:srgbClr val="ffff00"/>
                </a:solidFill>
                <a:latin typeface="Corbel"/>
              </a:rPr>
              <a:t>—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общество, сформировавшееся в процессе и в результате индустриализации, развития машинного производства, возникновения адекватных ему форм  организации труда, применени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ижений научно-технологического прогресс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о, в котором энергия и машинная технология используется для производства товаров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0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56800" y="3499920"/>
            <a:ext cx="80773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индустриальное обществ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тип общества, в экономике которого преобладает инновационный сектор с высокопроизводительной промышленностью, индустрией знаний, с высокой долей в ВВП высокотехнологичных и инновационных услуг, а также более высокой долей населения, занятого в сфере услуг, нежели в промышленном производстве.</a:t>
            </a:r>
            <a:r>
              <a:rPr b="1" lang="ru-RU" sz="22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rbel"/>
              </a:rPr>
              <a:t>Постиндустриальное обществ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тип общества, в котором телекоммуникации и компьютеры выполняют основную роль в производстве и обмене информацией и знаниям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8" name="Picture 2" descr="https://putc.org/wp-content/uploads/2021/07/1024x683-vitaliy3-3-720x340.jpg"/>
          <p:cNvPicPr/>
          <p:nvPr/>
        </p:nvPicPr>
        <p:blipFill>
          <a:blip r:embed="rId1"/>
          <a:stretch/>
        </p:blipFill>
        <p:spPr>
          <a:xfrm>
            <a:off x="1000080" y="0"/>
            <a:ext cx="80010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14880" y="1714320"/>
            <a:ext cx="471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жданское обществ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феноменов современного общества, совокупность неполитических отношений и социальных образований (групп, коллективов), объединенных специфическими интересами (экономическими, этническими, культурными и так далее), реализуемыми вне сферы деятельности властно-государственных структур и позволяющими контролировать действия государственной машин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AutoShape 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4" descr="https://rosinfostat.ru/wp-content/uploads/2021/12/raob.jpg"/>
          <p:cNvPicPr/>
          <p:nvPr/>
        </p:nvPicPr>
        <p:blipFill>
          <a:blip r:embed="rId1"/>
          <a:stretch/>
        </p:blipFill>
        <p:spPr>
          <a:xfrm>
            <a:off x="1214280" y="0"/>
            <a:ext cx="7715520" cy="2000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25.05 КБ"/>
          <p:cNvPicPr/>
          <p:nvPr/>
        </p:nvPicPr>
        <p:blipFill>
          <a:blip r:embed="rId2"/>
          <a:stretch/>
        </p:blipFill>
        <p:spPr>
          <a:xfrm>
            <a:off x="1071720" y="321480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Picture 2" descr="https://present5.com/presentation/3/122872545_144367720.pdf-img/122872545_144367720.pdf-6.jpg"/>
          <p:cNvPicPr/>
          <p:nvPr/>
        </p:nvPicPr>
        <p:blipFill>
          <a:blip r:embed="rId1"/>
          <a:stretch/>
        </p:blipFill>
        <p:spPr>
          <a:xfrm>
            <a:off x="1000080" y="285840"/>
            <a:ext cx="79297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феры жизни обществ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8" name="Picture 2" descr="http://www.husain-off.ru/bibl/pravo10-11/images/14-1-n10-11.png"/>
          <p:cNvPicPr/>
          <p:nvPr/>
        </p:nvPicPr>
        <p:blipFill>
          <a:blip r:embed="rId1"/>
          <a:stretch/>
        </p:blipFill>
        <p:spPr>
          <a:xfrm>
            <a:off x="642960" y="1428840"/>
            <a:ext cx="850104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феры жизни обществ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213920" y="1071720"/>
            <a:ext cx="387828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rbel"/>
              </a:rPr>
              <a:t>Экономическая сфер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производство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обмен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потребле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распределе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5428800" y="1214280"/>
            <a:ext cx="3714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Политическая сфер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Государств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Полити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Прав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влас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2" descr="https://assets-global.website-files.com/599873abab717100012c91ea/60212a1a22731415755aea6d_LSR6Fx3E49s.jpg"/>
          <p:cNvPicPr/>
          <p:nvPr/>
        </p:nvPicPr>
        <p:blipFill>
          <a:blip r:embed="rId1"/>
          <a:stretch/>
        </p:blipFill>
        <p:spPr>
          <a:xfrm>
            <a:off x="1500120" y="3429000"/>
            <a:ext cx="3657600" cy="2714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Quiz image"/>
          <p:cNvPicPr/>
          <p:nvPr/>
        </p:nvPicPr>
        <p:blipFill>
          <a:blip r:embed="rId2"/>
          <a:stretch/>
        </p:blipFill>
        <p:spPr>
          <a:xfrm>
            <a:off x="5357880" y="1214280"/>
            <a:ext cx="33004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феры жизни обществ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071360" y="785520"/>
            <a:ext cx="4020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ая сфер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носы, нац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воспитательные учрежде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, занимающиеся здравоохранением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культур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е организац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е обеспече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альные услуг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ажирский транспорт, связ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286240" y="785880"/>
            <a:ext cx="365760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82600" algn="ctr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уховная сфера = культур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892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892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892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л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892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892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892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7" name="Picture 2" descr="http://hmrn.ru/raion/socs/logosoczach.jpg"/>
          <p:cNvPicPr/>
          <p:nvPr/>
        </p:nvPicPr>
        <p:blipFill>
          <a:blip r:embed="rId1"/>
          <a:stretch/>
        </p:blipFill>
        <p:spPr>
          <a:xfrm>
            <a:off x="1071720" y="4929120"/>
            <a:ext cx="2025360" cy="1785960"/>
          </a:xfrm>
          <a:prstGeom prst="rect">
            <a:avLst/>
          </a:prstGeom>
          <a:ln w="0">
            <a:noFill/>
          </a:ln>
        </p:spPr>
      </p:pic>
      <p:sp>
        <p:nvSpPr>
          <p:cNvPr id="398" name="AutoShape 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16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18" descr="https://images.onlinetestpad.com/d7/8a/cacbbdc5461790a638ac4bfbd702.jpg"/>
          <p:cNvPicPr/>
          <p:nvPr/>
        </p:nvPicPr>
        <p:blipFill>
          <a:blip r:embed="rId2"/>
          <a:stretch/>
        </p:blipFill>
        <p:spPr>
          <a:xfrm>
            <a:off x="5929200" y="4000680"/>
            <a:ext cx="3214800" cy="27144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0" descr="https://borovsk.org/wp-content/uploads/2018/09/36380_1%D0%B2%D0%B2200_1.png"/>
          <p:cNvPicPr/>
          <p:nvPr/>
        </p:nvPicPr>
        <p:blipFill>
          <a:blip r:embed="rId3"/>
          <a:stretch/>
        </p:blipFill>
        <p:spPr>
          <a:xfrm>
            <a:off x="3429000" y="4857840"/>
            <a:ext cx="2100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1213920" y="285840"/>
            <a:ext cx="75438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Что такое «общество в широком» и «узком смысле слова»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2640" indent="-512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Структура обществ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2640" indent="-512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Типы обществ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2640" indent="-51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Основные сферы жизни обществ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2640" indent="-51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2640" indent="-51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2640" indent="-51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512640" indent="-51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2640" indent="-51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1"/>
          <a:stretch/>
        </p:blipFill>
        <p:spPr>
          <a:xfrm>
            <a:off x="0" y="2643120"/>
            <a:ext cx="9144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те тест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000080" y="714240"/>
            <a:ext cx="79344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обившаяся от природы, но тесно связанная с ней часть мира, которая включает способы взаимодействия людей и формы их объединения, называетс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государством   2) обществом   3) цивилизацией   4) племенем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ука, изучающая развитие человеческого общества и его закономерности, называется         1) обществознанием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философией      3) политологией        4) историе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щество - эт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направленное развитие от менее совершенного к более совершенном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пособы взаимодействия и формы объединения люде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часть природы                   4) материальный мир в целом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ой из признаков характеризует общество как систем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обособление от природы                   2) постоянное развит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пособы взаимодействия людей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охранение связи с природо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1000080"/>
            <a:ext cx="816768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ество в широком смысле слова </a:t>
            </a: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это </a:t>
            </a:r>
            <a:br>
              <a:rPr sz="2500"/>
            </a:b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особившаяся от природы, но тесно с ней взаимосвязанная часть материального мира, которая включает в себя способы взаимодействия людей и формы их объединения.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ество в узком смысле слова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уппа людей, объединённых общими интересами</a:t>
            </a:r>
            <a:br>
              <a:rPr sz="25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взаимодействия и формы объединения люде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ана или государство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сё человечество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еделённый этап в развитии человечества; 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28440" y="213840"/>
            <a:ext cx="7543800" cy="8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ество </a:t>
            </a: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широком  и узком смысле слов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5" descr=""/>
          <p:cNvPicPr/>
          <p:nvPr/>
        </p:nvPicPr>
        <p:blipFill>
          <a:blip r:embed="rId1"/>
          <a:stretch/>
        </p:blipFill>
        <p:spPr>
          <a:xfrm>
            <a:off x="0" y="5072040"/>
            <a:ext cx="9144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те тест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000080" y="857160"/>
            <a:ext cx="7858080" cy="547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ерны ли следующие суждения о взаимосвязи сфер общественной жизн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Рост государственных ассигнований на производство новых видов вооружений является примером связи политической и экономической сфер общест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Финансирование меценатом деятельности музея является примером связи экономической и духовной сфер общест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о только А                2) верно только Б    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ерны оба суж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4) оба суждения неверн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ерны ли следующие суждения о взаимосвязи сфер общественной жизн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Спад производства вызывает снижение уровня жизни большинства населе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Политическая власть может способствовать успешному экономическому развитию стран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о только А             2) верно только Б   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ерны оба суж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4) оба суждения неверн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те тест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00080" y="785880"/>
            <a:ext cx="79344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ерны ли суждения о путях и формах общественного развит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В постиндустриальном обществе завершается промышленный переворот, формируется массовое промышленное производств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В традиционном обществе право как регулятор общественных отношений еще не сложилось, его место занимали традиции и обыча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ерно только А       2) верно только Б    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ерны оба суж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4) оба суждения неверн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Что из ниже перечисленного является особенностью постиндустриального общест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елигиозный характер культуры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ереход от натурального к товарному производств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завершение промышленного переворота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азвитие информационных технологи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644480" y="285840"/>
            <a:ext cx="7499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ючи к тесту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9" name="Picture 2" descr="https://s1.slide-share.ru/s_slide/0b14c15093a234898327a2e6735782e5/528ca528-eec9-41ae-bf22-972f5d11bb2f.jpeg"/>
          <p:cNvPicPr/>
          <p:nvPr/>
        </p:nvPicPr>
        <p:blipFill>
          <a:blip r:embed="rId1"/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10920" y="115560"/>
            <a:ext cx="33037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 </a:t>
            </a: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ан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10920" y="981000"/>
            <a:ext cx="81039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ан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территория, имеющая определённые национальные, климатические (климатические страны и области), культурные (культурные страны и области), исторические (исторические страны и области) или политические границ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1000080" y="2928960"/>
            <a:ext cx="814392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5786280" y="1000080"/>
            <a:ext cx="2786400" cy="178596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143160" y="0"/>
            <a:ext cx="499104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сударс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85840" y="2785680"/>
            <a:ext cx="80848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основной институт политической системы обществ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ысшая организация общества, задача которого состоит в обеспечении соблюдения прав и реализации интересов лиц, проживающих на одной территории, взаимоотношения между которых регулируются на основе единых законов (или традиций), осуществляется охрана границ; регулируются тем или иным образом взаимоотношения с другими государствами и народа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2" descr="https://avatars.mds.yandex.net/i?id=734cc4b960ccfb2527d9534d040c0cf6effd86a0-7763602-images-thumbs&amp;n=13"/>
          <p:cNvPicPr/>
          <p:nvPr/>
        </p:nvPicPr>
        <p:blipFill>
          <a:blip r:embed="rId2"/>
          <a:stretch/>
        </p:blipFill>
        <p:spPr>
          <a:xfrm>
            <a:off x="0" y="285840"/>
            <a:ext cx="41432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61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язь общества, государства, страны и территори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0" y="1571760"/>
            <a:ext cx="6929280" cy="52862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6715080" y="4286160"/>
            <a:ext cx="24289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6760" y="713880"/>
            <a:ext cx="857268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бытный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владельческий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56800" y="-360"/>
            <a:ext cx="754380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этапы развития общест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5572080" cy="28576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рабовладельческое общество"/>
          <p:cNvPicPr/>
          <p:nvPr/>
        </p:nvPicPr>
        <p:blipFill>
          <a:blip r:embed="rId2"/>
          <a:stretch/>
        </p:blipFill>
        <p:spPr>
          <a:xfrm>
            <a:off x="3286080" y="3929040"/>
            <a:ext cx="56437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этапы развития обществ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71360" y="785520"/>
            <a:ext cx="40208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еодальны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276880" y="785880"/>
            <a:ext cx="3657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питалистически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2" descr="Феодальное общество - фото 1"/>
          <p:cNvPicPr/>
          <p:nvPr/>
        </p:nvPicPr>
        <p:blipFill>
          <a:blip r:embed="rId1"/>
          <a:stretch/>
        </p:blipFill>
        <p:spPr>
          <a:xfrm>
            <a:off x="1071720" y="1357200"/>
            <a:ext cx="3643200" cy="521496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10" descr="Капитализм - что это такое и его суть простыми словами"/>
          <p:cNvPicPr/>
          <p:nvPr/>
        </p:nvPicPr>
        <p:blipFill>
          <a:blip r:embed="rId2"/>
          <a:stretch/>
        </p:blipFill>
        <p:spPr>
          <a:xfrm>
            <a:off x="4643280" y="135720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13840"/>
            <a:ext cx="7499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этапы развития общества</a:t>
            </a: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999720"/>
            <a:ext cx="3657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143680" y="713880"/>
            <a:ext cx="3790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истическое обществ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Picture 2" descr="Материалы Президентской библиотеки – к годовщине Октябрьской революции |  ИМА-ПРЕСС"/>
          <p:cNvPicPr/>
          <p:nvPr/>
        </p:nvPicPr>
        <p:blipFill>
          <a:blip r:embed="rId1"/>
          <a:stretch/>
        </p:blipFill>
        <p:spPr>
          <a:xfrm>
            <a:off x="5000760" y="1714680"/>
            <a:ext cx="3786120" cy="4857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БУРЖУАЗНОЕ КАПИТАЛИСТИЧЕСКОЕ ГОСУДАРСТВО"/>
          <p:cNvPicPr/>
          <p:nvPr/>
        </p:nvPicPr>
        <p:blipFill>
          <a:blip r:embed="rId2"/>
          <a:stretch/>
        </p:blipFill>
        <p:spPr>
          <a:xfrm>
            <a:off x="142920" y="857160"/>
            <a:ext cx="5095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"/>
          <p:cNvPicPr/>
          <p:nvPr/>
        </p:nvPicPr>
        <p:blipFill>
          <a:blip r:embed="rId1"/>
          <a:stretch/>
        </p:blipFill>
        <p:spPr>
          <a:xfrm>
            <a:off x="6026040" y="4124160"/>
            <a:ext cx="3117960" cy="2733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2"/>
          <a:stretch/>
        </p:blipFill>
        <p:spPr>
          <a:xfrm>
            <a:off x="0" y="3954600"/>
            <a:ext cx="3203640" cy="2909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"/>
          <p:cNvPicPr/>
          <p:nvPr/>
        </p:nvPicPr>
        <p:blipFill>
          <a:blip r:embed="rId3"/>
          <a:stretch/>
        </p:blipFill>
        <p:spPr>
          <a:xfrm>
            <a:off x="0" y="1700280"/>
            <a:ext cx="3203640" cy="22543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4"/>
          <a:stretch/>
        </p:blipFill>
        <p:spPr>
          <a:xfrm>
            <a:off x="6026040" y="1700280"/>
            <a:ext cx="3117960" cy="2520720"/>
          </a:xfrm>
          <a:prstGeom prst="rect">
            <a:avLst/>
          </a:prstGeom>
          <a:ln w="0">
            <a:noFill/>
          </a:ln>
        </p:spPr>
      </p:pic>
      <p:sp>
        <p:nvSpPr>
          <p:cNvPr id="361" name="Выноска с четырьмя стрелками 6"/>
          <p:cNvSpPr/>
          <p:nvPr/>
        </p:nvSpPr>
        <p:spPr>
          <a:xfrm>
            <a:off x="2340000" y="2421000"/>
            <a:ext cx="4176720" cy="3744720"/>
          </a:xfrm>
          <a:custGeom>
            <a:avLst/>
            <a:gdLst>
              <a:gd name="textAreaLeft" fmla="*/ 1083240 w 4176720"/>
              <a:gd name="textAreaRight" fmla="*/ 3093480 w 4176720"/>
              <a:gd name="textAreaTop" fmla="*/ 971280 h 3744720"/>
              <a:gd name="textAreaBottom" fmla="*/ 2773440 h 3744720"/>
            </a:gdLst>
            <a:ahLst/>
            <a:rect l="textAreaLeft" t="textAreaTop" r="textAreaRight" b="textAreaBottom"/>
            <a:pathLst>
              <a:path w="4176713" h="3744912">
                <a:moveTo>
                  <a:pt x="0" y="1872456"/>
                </a:moveTo>
                <a:lnTo>
                  <a:pt x="693371" y="1179085"/>
                </a:lnTo>
                <a:lnTo>
                  <a:pt x="693371" y="1525771"/>
                </a:lnTo>
                <a:lnTo>
                  <a:pt x="1083377" y="1525771"/>
                </a:lnTo>
                <a:lnTo>
                  <a:pt x="1083377" y="971374"/>
                </a:lnTo>
                <a:lnTo>
                  <a:pt x="1741671" y="971374"/>
                </a:lnTo>
                <a:lnTo>
                  <a:pt x="1741671" y="693371"/>
                </a:lnTo>
                <a:lnTo>
                  <a:pt x="1394986" y="693371"/>
                </a:lnTo>
                <a:lnTo>
                  <a:pt x="2088357" y="0"/>
                </a:lnTo>
                <a:lnTo>
                  <a:pt x="2781727" y="693371"/>
                </a:lnTo>
                <a:lnTo>
                  <a:pt x="2435042" y="693371"/>
                </a:lnTo>
                <a:lnTo>
                  <a:pt x="2435042" y="971374"/>
                </a:lnTo>
                <a:lnTo>
                  <a:pt x="3093336" y="971374"/>
                </a:lnTo>
                <a:lnTo>
                  <a:pt x="3093336" y="1525771"/>
                </a:lnTo>
                <a:lnTo>
                  <a:pt x="3483342" y="1525771"/>
                </a:lnTo>
                <a:lnTo>
                  <a:pt x="3483342" y="1179085"/>
                </a:lnTo>
                <a:lnTo>
                  <a:pt x="4176713" y="1872456"/>
                </a:lnTo>
                <a:lnTo>
                  <a:pt x="3483342" y="2565827"/>
                </a:lnTo>
                <a:lnTo>
                  <a:pt x="3483342" y="2219141"/>
                </a:lnTo>
                <a:lnTo>
                  <a:pt x="3093336" y="2219141"/>
                </a:lnTo>
                <a:lnTo>
                  <a:pt x="3093336" y="2773538"/>
                </a:lnTo>
                <a:lnTo>
                  <a:pt x="2435042" y="2773538"/>
                </a:lnTo>
                <a:lnTo>
                  <a:pt x="2435042" y="3051541"/>
                </a:lnTo>
                <a:lnTo>
                  <a:pt x="2781727" y="3051541"/>
                </a:lnTo>
                <a:lnTo>
                  <a:pt x="2088357" y="3744912"/>
                </a:lnTo>
                <a:lnTo>
                  <a:pt x="1394986" y="3051541"/>
                </a:lnTo>
                <a:lnTo>
                  <a:pt x="1741671" y="3051541"/>
                </a:lnTo>
                <a:lnTo>
                  <a:pt x="1741671" y="2773538"/>
                </a:lnTo>
                <a:lnTo>
                  <a:pt x="1083377" y="2773538"/>
                </a:lnTo>
                <a:lnTo>
                  <a:pt x="1083377" y="2219141"/>
                </a:lnTo>
                <a:lnTo>
                  <a:pt x="693371" y="2219141"/>
                </a:lnTo>
                <a:lnTo>
                  <a:pt x="693371" y="2565827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Прямоугольник 3"/>
          <p:cNvSpPr/>
          <p:nvPr/>
        </p:nvSpPr>
        <p:spPr>
          <a:xfrm>
            <a:off x="1116000" y="0"/>
            <a:ext cx="6840720" cy="17002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02840" y="189000"/>
            <a:ext cx="6782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ая система общества. Типы обществ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Прямоугольник 4"/>
          <p:cNvSpPr/>
          <p:nvPr/>
        </p:nvSpPr>
        <p:spPr>
          <a:xfrm>
            <a:off x="3427560" y="3933720"/>
            <a:ext cx="2160360" cy="7192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rbel"/>
              </a:rPr>
              <a:t>Об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Прямоугольник 7"/>
          <p:cNvSpPr/>
          <p:nvPr/>
        </p:nvSpPr>
        <p:spPr>
          <a:xfrm>
            <a:off x="2843280" y="1857240"/>
            <a:ext cx="3168720" cy="5637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традиционное общ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Прямоугольник 9"/>
          <p:cNvSpPr/>
          <p:nvPr/>
        </p:nvSpPr>
        <p:spPr>
          <a:xfrm>
            <a:off x="6516720" y="3786120"/>
            <a:ext cx="2627280" cy="10000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Постиндустриальное общ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Прямоугольник 10"/>
          <p:cNvSpPr/>
          <p:nvPr/>
        </p:nvSpPr>
        <p:spPr>
          <a:xfrm>
            <a:off x="0" y="3714840"/>
            <a:ext cx="2357280" cy="10792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Индустриальное общ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Прямоугольник 11"/>
          <p:cNvSpPr/>
          <p:nvPr/>
        </p:nvSpPr>
        <p:spPr>
          <a:xfrm>
            <a:off x="3059280" y="6165720"/>
            <a:ext cx="3230280" cy="6922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Гражданское общ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5:57:17Z</dcterms:created>
  <dc:creator>User</dc:creator>
  <dc:description/>
  <dc:language>en-US</dc:language>
  <cp:lastModifiedBy>Зария</cp:lastModifiedBy>
  <dcterms:modified xsi:type="dcterms:W3CDTF">2023-01-02T12:45:05Z</dcterms:modified>
  <cp:revision>32</cp:revision>
  <dc:subject/>
  <dc:title>Общество</dc:title>
</cp:coreProperties>
</file>