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D68C-0E74-4980-AD18-BE51440950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9A07-6439-4AAC-B8E8-ED62894C63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FC3-8F42-4C2B-93C5-5795F798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BF86-4AC6-457C-8258-2BAADBF2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56D3-8572-434F-89DC-B4D3E7E9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B8E-C455-4313-9E2D-08FBF642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9DEC-6D4D-4A8F-9FD8-B7B45F97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D69C-9988-46A6-ACE6-0BBB35E9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6DBD-A37B-47C9-BF41-7F0A6AAA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27C3-0FAF-406B-9980-81D325A5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46A7-4C93-4DDA-A057-51B033E5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F6C8-8363-44D7-AC00-22109F57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8022-C912-450B-9629-9CEA5799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486-9BBF-4555-971D-052B0236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AE50-1F19-45B9-AFA1-084247FF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5223-A3DE-461F-943D-A29D0386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4B3B-5B01-4C1C-8F1E-CE1DDA85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E391-8111-488D-B031-5F280508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95B3-D132-4FA0-8581-426EF726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A6020-01CD-45DB-B826-180A857B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D57AF-5338-43E0-8741-6DC77A0B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6C924-D71C-4EF0-82E8-344A76C2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8572E-D48A-42F2-BF25-67427455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34484-65D9-4115-A65F-45B143FF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7BD-E0FE-4CD0-878C-6CE9BB02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05F12-3CEA-4F51-A6BB-078EACC6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4B9EE-DC29-4B2C-9138-7C4310E9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00813-D00C-4C0F-BF2A-BC4AFE64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DB475-D1CB-4F05-910B-4ED1EF1C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DA879-9122-41A9-86F3-17B6AB23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FA612-BF2F-480F-81EC-4DFDC676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AEAA6-7B76-4F97-8A6B-26CD14D5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B2013-3CA0-4007-9CF4-3D23737E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2019E-2C04-47AC-81E7-F0E3556B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4120F-F4A1-4C8F-A15D-A0945E5D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AE7-7B97-4EBB-B184-0D74ED83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7FF32-FE53-45FB-BBB4-1D0F82F6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44B56-E7BE-48CE-89F8-C857B8C9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A6A61-F15A-4BD7-9FFC-830FD917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D2B22-D6EC-4EAB-B303-3A0A9FF7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840A1-F999-412B-9DF0-4DE92696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90CD4-C604-4220-A3E9-93314284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DD2F1-109D-4DC6-9A3D-95F6D847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A387E-9B91-4A5C-ADF6-C59CBD8F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F5295-D424-4345-AC68-8234897A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DF48E-E19F-4B58-901C-E7EB605F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E14-35F5-4428-803C-A3E59720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529A3-57DB-4184-BCF9-F056394C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658C6-48AB-4728-8FDC-124BB5D1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4A8CC-41E8-405B-9F43-59B6CC10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37D72-08FC-4BA8-856B-ECB37EC7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4F2CB-AC53-47AF-8FF0-F9FBAB37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AA086-5E60-4B9E-A113-A36A4401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35CCD-F760-4B82-93AD-3B6E7399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50C60-A3A4-41A5-A9A0-B55438EE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50A10-12E8-4A83-840E-E66B1614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59412-D369-4302-9E72-06EC8B3E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4F3-0EE2-4EEB-9E6F-129FB0B0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83646-C8AA-486E-B48A-41FD66B6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E3F66-D422-4FB7-9A36-C19B556A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5E7EF-3FFE-440F-AA88-092C4BB7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306CB-8D76-4B62-BFC4-153AC03D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83FB6-5DCD-4654-9540-D8561094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4099E-7173-427E-A208-1219FED7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A4442-A40D-48EA-A7E4-6244328F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8D30E-15A7-408B-B232-78246996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BEBD7-675D-4D6A-97DD-EA2A7CBB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368D2-4ECD-4CD3-ACBA-1F756DE8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20E-F879-4F66-8ECC-22A68F82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F1DD6-71DD-4095-B0BA-7B9E335D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5257C-8403-4E41-82D2-B03A25FD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A4AE8-98B7-4096-8065-794A6751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E0C05-4276-4667-8C97-52330912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57343-37F9-451F-BAEE-419B467B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8F818-9A49-4D76-9D4C-C8F4C0FB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48910-9C26-4E61-A599-BAFB5BAA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C3E78-FF7A-469F-B9C7-E71FC8EA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FDC03-5320-4AE3-9A6F-890555BC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CAF7F-E47D-4B17-B942-CBDCC4D3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C79-B29F-4F7F-91FD-851E7562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12852-6B48-48B1-9390-00F7373D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3A7BC-71C0-4A5B-A663-406FB655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3366B-7D0D-4526-AB75-7DF1716F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58276-4EA7-4AC8-891A-16F88B22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24A78-135E-4C9A-8C6A-88DF67BB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7EB-6592-4EBF-AFAA-8FD9DE2A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3FC4-F0AF-4087-93F7-6635CE3E881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13D3-8F61-4502-ACE3-00E452A831C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919A-66B1-4191-99A4-DE64696990C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8122-DB38-4B01-A242-53B6E3533E5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CBAF-6536-4E87-91F0-EE44F8F2FF5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4DF5-4B65-445B-8876-9FCFF4A1BAC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A94C-BCD5-4ACE-B389-924DEECCF8A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14320" y="2214720"/>
            <a:ext cx="7072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br>
              <a:rPr sz="3900"/>
            </a:b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ество: понятие, типы и основные сферы жизни общества</a:t>
            </a:r>
            <a:br>
              <a:rPr sz="39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класс. Обществознан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643040" y="4714560"/>
            <a:ext cx="6858000" cy="1785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готовила: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истории и обществознани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Бурметьевская СОШ» Нурлатского района Республики Татарстан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Юсупова Венера Феликсовн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000080" y="357120"/>
            <a:ext cx="25351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129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адиционное общес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55280" y="907560"/>
            <a:ext cx="75438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адиционное общество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бщество, которое регулируется традицией. Сохранение традиций является в нём более высокой ценностью, чем развитие. Общественный уклад в нём основывается на традициях, обычаях. Данная организация общества стремится сохранить в неизменном виде социокультурные устои жизни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0" y="3641760"/>
            <a:ext cx="4643280" cy="3227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4643280" y="3571920"/>
            <a:ext cx="4500720" cy="3308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928800" y="0"/>
            <a:ext cx="82152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34920" y="2571840"/>
            <a:ext cx="8066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c000"/>
                </a:solidFill>
                <a:latin typeface="Corbel"/>
              </a:rPr>
              <a:t>Индустриальное общество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28800" y="3499920"/>
            <a:ext cx="8215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дустриальное общество </a:t>
            </a:r>
            <a:r>
              <a:rPr b="0" lang="ru-RU" sz="2600" spc="-1" strike="noStrike">
                <a:solidFill>
                  <a:srgbClr val="ffff00"/>
                </a:solidFill>
                <a:latin typeface="Corbel"/>
              </a:rPr>
              <a:t>— 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общество, сформировавшееся в процессе и в результате индустриализации, развития машинного производства, возникновения адекватных ему форм  организации труда, применени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ижений научно-технологического прогресс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о, в котором энергия и машинная технология используется для производства товаров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0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56800" y="3499920"/>
            <a:ext cx="80773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индустриальное обществ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тип общества, в экономике которого преобладает инновационный сектор с высокопроизводительной промышленностью, индустрией знаний, с высокой долей в ВВП высокотехнологичных и инновационных услуг, а также более высокой долей населения, занятого в сфере услуг, нежели в промышленном производстве.</a:t>
            </a:r>
            <a:r>
              <a:rPr b="1" lang="ru-RU" sz="22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rbel"/>
              </a:rPr>
              <a:t>Постиндустриальное обществ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тип общества, в котором телекоммуникации и компьютеры выполняют основную роль в производстве и обмене информацией и знаниям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Picture 2" descr="https://putc.org/wp-content/uploads/2021/07/1024x683-vitaliy3-3-720x340.jpg"/>
          <p:cNvPicPr/>
          <p:nvPr/>
        </p:nvPicPr>
        <p:blipFill>
          <a:blip r:embed="rId1"/>
          <a:stretch/>
        </p:blipFill>
        <p:spPr>
          <a:xfrm>
            <a:off x="1000080" y="0"/>
            <a:ext cx="80010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14880" y="1714320"/>
            <a:ext cx="471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жданское обществ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феноменов современного общества, совокупность неполитических отношений и социальных образований (групп, коллективов), объединенных специфическими интересами (экономическими, этническими, культурными и так далее), реализуемыми вне сферы деятельности властно-государственных структур и позволяющими контролировать действия государственной машин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4" descr="https://rosinfostat.ru/wp-content/uploads/2021/12/raob.jpg"/>
          <p:cNvPicPr/>
          <p:nvPr/>
        </p:nvPicPr>
        <p:blipFill>
          <a:blip r:embed="rId1"/>
          <a:stretch/>
        </p:blipFill>
        <p:spPr>
          <a:xfrm>
            <a:off x="1214280" y="0"/>
            <a:ext cx="7715520" cy="2000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25.05 КБ"/>
          <p:cNvPicPr/>
          <p:nvPr/>
        </p:nvPicPr>
        <p:blipFill>
          <a:blip r:embed="rId2"/>
          <a:stretch/>
        </p:blipFill>
        <p:spPr>
          <a:xfrm>
            <a:off x="1071720" y="321480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Picture 2" descr="https://present5.com/presentation/3/122872545_144367720.pdf-img/122872545_144367720.pdf-6.jpg"/>
          <p:cNvPicPr/>
          <p:nvPr/>
        </p:nvPicPr>
        <p:blipFill>
          <a:blip r:embed="rId1"/>
          <a:stretch/>
        </p:blipFill>
        <p:spPr>
          <a:xfrm>
            <a:off x="1000080" y="285840"/>
            <a:ext cx="79297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феры жизни обществ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8" name="Picture 2" descr="http://www.husain-off.ru/bibl/pravo10-11/images/14-1-n10-11.png"/>
          <p:cNvPicPr/>
          <p:nvPr/>
        </p:nvPicPr>
        <p:blipFill>
          <a:blip r:embed="rId1"/>
          <a:stretch/>
        </p:blipFill>
        <p:spPr>
          <a:xfrm>
            <a:off x="642960" y="1428840"/>
            <a:ext cx="850104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феры жизни обществ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213920" y="1071720"/>
            <a:ext cx="387828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rbel"/>
              </a:rPr>
              <a:t>Экономическая сфер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производство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обмен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потребле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распределе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5428800" y="1214280"/>
            <a:ext cx="3714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Политическая сфер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Государств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Полити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Прав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</a:rPr>
              <a:t>вла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2" descr="https://assets-global.website-files.com/599873abab717100012c91ea/60212a1a22731415755aea6d_LSR6Fx3E49s.jpg"/>
          <p:cNvPicPr/>
          <p:nvPr/>
        </p:nvPicPr>
        <p:blipFill>
          <a:blip r:embed="rId1"/>
          <a:stretch/>
        </p:blipFill>
        <p:spPr>
          <a:xfrm>
            <a:off x="1500120" y="3429000"/>
            <a:ext cx="3657600" cy="2714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Quiz image"/>
          <p:cNvPicPr/>
          <p:nvPr/>
        </p:nvPicPr>
        <p:blipFill>
          <a:blip r:embed="rId2"/>
          <a:stretch/>
        </p:blipFill>
        <p:spPr>
          <a:xfrm>
            <a:off x="5357880" y="1214280"/>
            <a:ext cx="33004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феры жизни обществ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071360" y="785520"/>
            <a:ext cx="4020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ая сфер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носы, нац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воспитательные учрежде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, занимающиеся здравоохранение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культур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е организац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е обеспече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альные услуг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ажирский транспорт, связ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286240" y="785880"/>
            <a:ext cx="365760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82600" algn="ctr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уховная сфера = культур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892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892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892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л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892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892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8920" indent="-2826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7" name="Picture 2" descr="http://hmrn.ru/raion/socs/logosoczach.jpg"/>
          <p:cNvPicPr/>
          <p:nvPr/>
        </p:nvPicPr>
        <p:blipFill>
          <a:blip r:embed="rId1"/>
          <a:stretch/>
        </p:blipFill>
        <p:spPr>
          <a:xfrm>
            <a:off x="1071720" y="4929120"/>
            <a:ext cx="2025360" cy="1785960"/>
          </a:xfrm>
          <a:prstGeom prst="rect">
            <a:avLst/>
          </a:prstGeom>
          <a:ln w="0">
            <a:noFill/>
          </a:ln>
        </p:spPr>
      </p:pic>
      <p:sp>
        <p:nvSpPr>
          <p:cNvPr id="398" name="AutoShape 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16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8" descr="https://images.onlinetestpad.com/d7/8a/cacbbdc5461790a638ac4bfbd702.jpg"/>
          <p:cNvPicPr/>
          <p:nvPr/>
        </p:nvPicPr>
        <p:blipFill>
          <a:blip r:embed="rId2"/>
          <a:stretch/>
        </p:blipFill>
        <p:spPr>
          <a:xfrm>
            <a:off x="5929200" y="4000680"/>
            <a:ext cx="3214800" cy="27144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0" descr="https://borovsk.org/wp-content/uploads/2018/09/36380_1%D0%B2%D0%B2200_1.png"/>
          <p:cNvPicPr/>
          <p:nvPr/>
        </p:nvPicPr>
        <p:blipFill>
          <a:blip r:embed="rId3"/>
          <a:stretch/>
        </p:blipFill>
        <p:spPr>
          <a:xfrm>
            <a:off x="3429000" y="4857840"/>
            <a:ext cx="2100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213920" y="285840"/>
            <a:ext cx="75438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Что такое «общество в широком» и «узком смысле слова»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2640" indent="-512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Структура обществ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2640" indent="-512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Типы обществ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2640" indent="-51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Основные сферы жизни обществ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2640" indent="-51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2640" indent="-51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2640" indent="-51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512640" indent="-51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2640" indent="-51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1"/>
          <a:stretch/>
        </p:blipFill>
        <p:spPr>
          <a:xfrm>
            <a:off x="0" y="2643120"/>
            <a:ext cx="9144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те тест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000080" y="714240"/>
            <a:ext cx="79344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обившаяся от природы, но тесно связанная с ней часть мира, которая включает способы взаимодействия людей и формы их объединения, называетс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государством   2) обществом   3) цивилизацией   4) племене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ука, изучающая развитие человеческого общества и его закономерности, называется         1) обществознанием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философией      3) политологией        4) историе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щество - эт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аправленное развитие от менее совершенного к более совершенном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пособы взаимодействия и формы объединения люде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часть природы                   4) материальный мир в цело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ой из признаков характеризует общество как систем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обособление от природы                   2) постоянное развит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пособы взаимодействия людей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охранение связи с природо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1000080"/>
            <a:ext cx="816768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ество в широком смысле слова </a:t>
            </a: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это </a:t>
            </a:r>
            <a:br>
              <a:rPr sz="2500"/>
            </a:b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особившаяся от природы, но тесно с ней взаимосвязанная часть материального мира, которая включает в себя способы взаимодействия людей и формы их объединения.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ество в узком смысле слова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уппа людей, объединённых общими интересами</a:t>
            </a:r>
            <a:br>
              <a:rPr sz="25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взаимодействия и формы объединения людей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ана или государство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сё человечество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еделённый этап в развитии человечества; 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28440" y="213840"/>
            <a:ext cx="7543800" cy="8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ество </a:t>
            </a: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широком  и узком смысле слов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5" descr=""/>
          <p:cNvPicPr/>
          <p:nvPr/>
        </p:nvPicPr>
        <p:blipFill>
          <a:blip r:embed="rId1"/>
          <a:stretch/>
        </p:blipFill>
        <p:spPr>
          <a:xfrm>
            <a:off x="0" y="5072040"/>
            <a:ext cx="9144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те тест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000080" y="857160"/>
            <a:ext cx="7858080" cy="547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ерны ли следующие суждения о взаимосвязи сфер общественной жизн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Рост государственных ассигнований на производство новых видов вооружений является примером связи политической и экономической сфер общест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Финансирование меценатом деятельности музея является примером связи экономической и духовной сфер общест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о только А                2) верно только Б    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ерны оба суж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4) оба суждения неверн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ерны ли следующие суждения о взаимосвязи сфер общественной жизн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Спад производства вызывает снижение уровня жизни большинства населе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Политическая власть может способствовать успешному экономическому развитию стран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о только А             2) верно только Б   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ерны оба суж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4) оба суждения неверн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те тест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00080" y="785880"/>
            <a:ext cx="79344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ерны ли суждения о путях и формах общественного развит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В постиндустриальном обществе завершается промышленный переворот, формируется массовое промышленное производств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В традиционном обществе право как регулятор общественных отношений еще не сложилось, его место занимали традиции и обыча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ерно только А       2) верно только Б    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ерны оба суж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4) оба суждения неверн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Что из ниже перечисленного является особенностью постиндустриального общест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елигиозный характер культуры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ереход от натурального к товарному производств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завершение промышленного переворота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азвитие информационных технологи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644480" y="28584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ючи к тесту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9" name="Picture 2" descr="https://s1.slide-share.ru/s_slide/0b14c15093a234898327a2e6735782e5/528ca528-eec9-41ae-bf22-972f5d11bb2f.jpeg"/>
          <p:cNvPicPr/>
          <p:nvPr/>
        </p:nvPicPr>
        <p:blipFill>
          <a:blip r:embed="rId1"/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10920" y="115560"/>
            <a:ext cx="33037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 </a:t>
            </a: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ан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10920" y="981000"/>
            <a:ext cx="81039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ан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территория, имеющая определённые национальные, климатические (климатические страны и области), культурные (культурные страны и области), исторические (исторические страны и области) или политические границ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1000080" y="2928960"/>
            <a:ext cx="814392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5786280" y="1000080"/>
            <a:ext cx="2786400" cy="178596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143160" y="0"/>
            <a:ext cx="499104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сударс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85840" y="2785680"/>
            <a:ext cx="80848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основной институт политической системы обществ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ысшая организация общества, задача которого состоит в обеспечении соблюдения прав и реализации интересов лиц, проживающих на одной территории, взаимоотношения между которых регулируются на основе единых законов (или традиций), осуществляется охрана границ; регулируются тем или иным образом взаимоотношения с другими государствами и народа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2" descr="https://avatars.mds.yandex.net/i?id=734cc4b960ccfb2527d9534d040c0cf6effd86a0-7763602-images-thumbs&amp;n=13"/>
          <p:cNvPicPr/>
          <p:nvPr/>
        </p:nvPicPr>
        <p:blipFill>
          <a:blip r:embed="rId2"/>
          <a:stretch/>
        </p:blipFill>
        <p:spPr>
          <a:xfrm>
            <a:off x="0" y="285840"/>
            <a:ext cx="41432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61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язь общества, государства, страны и территори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0" y="1571760"/>
            <a:ext cx="6929280" cy="52862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6715080" y="4286160"/>
            <a:ext cx="24289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6760" y="713880"/>
            <a:ext cx="857268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бытный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владельческий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56800" y="-360"/>
            <a:ext cx="754380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этапы развития общест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5572080" cy="28576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рабовладельческое общество"/>
          <p:cNvPicPr/>
          <p:nvPr/>
        </p:nvPicPr>
        <p:blipFill>
          <a:blip r:embed="rId2"/>
          <a:stretch/>
        </p:blipFill>
        <p:spPr>
          <a:xfrm>
            <a:off x="3286080" y="3929040"/>
            <a:ext cx="56437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этапы развития обществ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71360" y="785520"/>
            <a:ext cx="40208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еодальны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276880" y="785880"/>
            <a:ext cx="3657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питалистическ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2" descr="Феодальное общество - фото 1"/>
          <p:cNvPicPr/>
          <p:nvPr/>
        </p:nvPicPr>
        <p:blipFill>
          <a:blip r:embed="rId1"/>
          <a:stretch/>
        </p:blipFill>
        <p:spPr>
          <a:xfrm>
            <a:off x="1071720" y="1357200"/>
            <a:ext cx="3643200" cy="521496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10" descr="Капитализм - что это такое и его суть простыми словами"/>
          <p:cNvPicPr/>
          <p:nvPr/>
        </p:nvPicPr>
        <p:blipFill>
          <a:blip r:embed="rId2"/>
          <a:stretch/>
        </p:blipFill>
        <p:spPr>
          <a:xfrm>
            <a:off x="4643280" y="135720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13840"/>
            <a:ext cx="7499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этапы развития общества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999720"/>
            <a:ext cx="3657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143680" y="713880"/>
            <a:ext cx="3790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истическое обществ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Picture 2" descr="Материалы Президентской библиотеки – к годовщине Октябрьской революции |  ИМА-ПРЕСС"/>
          <p:cNvPicPr/>
          <p:nvPr/>
        </p:nvPicPr>
        <p:blipFill>
          <a:blip r:embed="rId1"/>
          <a:stretch/>
        </p:blipFill>
        <p:spPr>
          <a:xfrm>
            <a:off x="5000760" y="1714680"/>
            <a:ext cx="3786120" cy="4857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БУРЖУАЗНОЕ КАПИТАЛИСТИЧЕСКОЕ ГОСУДАРСТВО"/>
          <p:cNvPicPr/>
          <p:nvPr/>
        </p:nvPicPr>
        <p:blipFill>
          <a:blip r:embed="rId2"/>
          <a:stretch/>
        </p:blipFill>
        <p:spPr>
          <a:xfrm>
            <a:off x="142920" y="857160"/>
            <a:ext cx="5095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"/>
          <p:cNvPicPr/>
          <p:nvPr/>
        </p:nvPicPr>
        <p:blipFill>
          <a:blip r:embed="rId1"/>
          <a:stretch/>
        </p:blipFill>
        <p:spPr>
          <a:xfrm>
            <a:off x="6026040" y="4124160"/>
            <a:ext cx="3117960" cy="2733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2"/>
          <a:stretch/>
        </p:blipFill>
        <p:spPr>
          <a:xfrm>
            <a:off x="0" y="3954600"/>
            <a:ext cx="3203640" cy="2909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"/>
          <p:cNvPicPr/>
          <p:nvPr/>
        </p:nvPicPr>
        <p:blipFill>
          <a:blip r:embed="rId3"/>
          <a:stretch/>
        </p:blipFill>
        <p:spPr>
          <a:xfrm>
            <a:off x="0" y="1700280"/>
            <a:ext cx="3203640" cy="22543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4"/>
          <a:stretch/>
        </p:blipFill>
        <p:spPr>
          <a:xfrm>
            <a:off x="6026040" y="1700280"/>
            <a:ext cx="3117960" cy="2520720"/>
          </a:xfrm>
          <a:prstGeom prst="rect">
            <a:avLst/>
          </a:prstGeom>
          <a:ln w="0">
            <a:noFill/>
          </a:ln>
        </p:spPr>
      </p:pic>
      <p:sp>
        <p:nvSpPr>
          <p:cNvPr id="361" name="Выноска с четырьмя стрелками 6"/>
          <p:cNvSpPr/>
          <p:nvPr/>
        </p:nvSpPr>
        <p:spPr>
          <a:xfrm>
            <a:off x="2340000" y="2421000"/>
            <a:ext cx="4176720" cy="3744720"/>
          </a:xfrm>
          <a:custGeom>
            <a:avLst/>
            <a:gdLst>
              <a:gd name="textAreaLeft" fmla="*/ 1083240 w 4176720"/>
              <a:gd name="textAreaRight" fmla="*/ 3093480 w 4176720"/>
              <a:gd name="textAreaTop" fmla="*/ 971280 h 3744720"/>
              <a:gd name="textAreaBottom" fmla="*/ 2773440 h 3744720"/>
            </a:gdLst>
            <a:ahLst/>
            <a:rect l="textAreaLeft" t="textAreaTop" r="textAreaRight" b="textAreaBottom"/>
            <a:pathLst>
              <a:path w="4176713" h="3744912">
                <a:moveTo>
                  <a:pt x="0" y="1872456"/>
                </a:moveTo>
                <a:lnTo>
                  <a:pt x="693371" y="1179085"/>
                </a:lnTo>
                <a:lnTo>
                  <a:pt x="693371" y="1525771"/>
                </a:lnTo>
                <a:lnTo>
                  <a:pt x="1083377" y="1525771"/>
                </a:lnTo>
                <a:lnTo>
                  <a:pt x="1083377" y="971374"/>
                </a:lnTo>
                <a:lnTo>
                  <a:pt x="1741671" y="971374"/>
                </a:lnTo>
                <a:lnTo>
                  <a:pt x="1741671" y="693371"/>
                </a:lnTo>
                <a:lnTo>
                  <a:pt x="1394986" y="693371"/>
                </a:lnTo>
                <a:lnTo>
                  <a:pt x="2088357" y="0"/>
                </a:lnTo>
                <a:lnTo>
                  <a:pt x="2781727" y="693371"/>
                </a:lnTo>
                <a:lnTo>
                  <a:pt x="2435042" y="693371"/>
                </a:lnTo>
                <a:lnTo>
                  <a:pt x="2435042" y="971374"/>
                </a:lnTo>
                <a:lnTo>
                  <a:pt x="3093336" y="971374"/>
                </a:lnTo>
                <a:lnTo>
                  <a:pt x="3093336" y="1525771"/>
                </a:lnTo>
                <a:lnTo>
                  <a:pt x="3483342" y="1525771"/>
                </a:lnTo>
                <a:lnTo>
                  <a:pt x="3483342" y="1179085"/>
                </a:lnTo>
                <a:lnTo>
                  <a:pt x="4176713" y="1872456"/>
                </a:lnTo>
                <a:lnTo>
                  <a:pt x="3483342" y="2565827"/>
                </a:lnTo>
                <a:lnTo>
                  <a:pt x="3483342" y="2219141"/>
                </a:lnTo>
                <a:lnTo>
                  <a:pt x="3093336" y="2219141"/>
                </a:lnTo>
                <a:lnTo>
                  <a:pt x="3093336" y="2773538"/>
                </a:lnTo>
                <a:lnTo>
                  <a:pt x="2435042" y="2773538"/>
                </a:lnTo>
                <a:lnTo>
                  <a:pt x="2435042" y="3051541"/>
                </a:lnTo>
                <a:lnTo>
                  <a:pt x="2781727" y="3051541"/>
                </a:lnTo>
                <a:lnTo>
                  <a:pt x="2088357" y="3744912"/>
                </a:lnTo>
                <a:lnTo>
                  <a:pt x="1394986" y="3051541"/>
                </a:lnTo>
                <a:lnTo>
                  <a:pt x="1741671" y="3051541"/>
                </a:lnTo>
                <a:lnTo>
                  <a:pt x="1741671" y="2773538"/>
                </a:lnTo>
                <a:lnTo>
                  <a:pt x="1083377" y="2773538"/>
                </a:lnTo>
                <a:lnTo>
                  <a:pt x="1083377" y="2219141"/>
                </a:lnTo>
                <a:lnTo>
                  <a:pt x="693371" y="2219141"/>
                </a:lnTo>
                <a:lnTo>
                  <a:pt x="693371" y="2565827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Прямоугольник 3"/>
          <p:cNvSpPr/>
          <p:nvPr/>
        </p:nvSpPr>
        <p:spPr>
          <a:xfrm>
            <a:off x="1116000" y="0"/>
            <a:ext cx="6840720" cy="17002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02840" y="189000"/>
            <a:ext cx="6782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ая система общества. Типы обществ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Прямоугольник 4"/>
          <p:cNvSpPr/>
          <p:nvPr/>
        </p:nvSpPr>
        <p:spPr>
          <a:xfrm>
            <a:off x="3427560" y="3933720"/>
            <a:ext cx="2160360" cy="7192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rbel"/>
              </a:rPr>
              <a:t>Об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Прямоугольник 7"/>
          <p:cNvSpPr/>
          <p:nvPr/>
        </p:nvSpPr>
        <p:spPr>
          <a:xfrm>
            <a:off x="2843280" y="1857240"/>
            <a:ext cx="3168720" cy="5637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традиционное общ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Прямоугольник 9"/>
          <p:cNvSpPr/>
          <p:nvPr/>
        </p:nvSpPr>
        <p:spPr>
          <a:xfrm>
            <a:off x="6516720" y="3786120"/>
            <a:ext cx="2627280" cy="10000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Постиндустриальное общ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Прямоугольник 10"/>
          <p:cNvSpPr/>
          <p:nvPr/>
        </p:nvSpPr>
        <p:spPr>
          <a:xfrm>
            <a:off x="0" y="3714840"/>
            <a:ext cx="2357280" cy="10792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Индустриальное общ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Прямоугольник 11"/>
          <p:cNvSpPr/>
          <p:nvPr/>
        </p:nvSpPr>
        <p:spPr>
          <a:xfrm>
            <a:off x="3059280" y="6165720"/>
            <a:ext cx="3230280" cy="6922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Гражданское общ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5:57:17Z</dcterms:created>
  <dc:creator>User</dc:creator>
  <dc:description/>
  <dc:language>en-US</dc:language>
  <cp:lastModifiedBy>Зария</cp:lastModifiedBy>
  <dcterms:modified xsi:type="dcterms:W3CDTF">2023-01-02T12:45:05Z</dcterms:modified>
  <cp:revision>32</cp:revision>
  <dc:subject/>
  <dc:title>Общество</dc:title>
</cp:coreProperties>
</file>