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6.wmf" ContentType="image/x-wmf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A29-8750-4A67-9A0B-FD81414F7E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31FD-1BE7-4C6E-8D92-4A225DE9A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291B-0854-48FE-BB55-F75B49DD6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287-2567-461E-9F17-11C45DD0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B95-2B07-4642-AA87-4EC5C8A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F4C-E7AB-4461-9999-0645B227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B06-3A1E-4BD8-89DE-2776C283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B547-20E7-474C-B7C6-5C83A576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7665-34FF-4F9F-B925-9BA0BAD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A698-55EE-4140-A477-08EF7297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EE7-4254-419E-9EB3-F114C1A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FD5-14C6-4E5D-912C-EB822D7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4940-D5F8-4622-9D1E-5DBCD5BA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DFA-E908-420D-BC10-AF7ADF6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2AD-0FE7-43C7-A8F2-B0A6EA1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7366-4AF6-4928-9878-3001491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547-B91B-43C5-B9D0-B4F18FB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C30F-FCEC-4AF7-AC1C-B558070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714-4250-423A-87E5-B74F854A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431-F0CB-4B19-93AB-8CE3565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311A-8676-4DC2-B758-3B2D6F3D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035C-7BD1-4090-BADC-FC68C793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D0C9-5027-4CA6-8C31-A694216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8F60-06A3-4784-8F2D-8AE73B9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0927-885E-45A7-9DD5-820FB38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466-35D5-4F7A-980A-A3494A87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0424-637E-4066-B38B-03475FF4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6BA5-3A27-4379-A1AC-BF60D8F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A96D-DF91-486B-9AEE-A18B3E5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2E60-1CB5-451D-AE1E-746B07F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5C74-BA23-4691-8491-194C2FA0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01AB-AF21-4FDC-940F-7502291A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3E1F-2728-4C20-B6A8-2041A74B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54C9A-169B-4499-B7F7-823FAA7D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70DE-F17E-4B31-8ED3-C1F6D18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17D6-09DC-4983-AE61-3F69376F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DBB-A8BD-4CFC-B6D3-E4A0CC4D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BD6C-96DF-48C5-8CE9-220D6B02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8D5D9-1E5B-401D-9660-7C1E5ED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16D9-4E0D-4D3C-B69E-D3D99636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CC440-5096-4E62-A389-3E78AA5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AA5D-EC8E-4A51-A1D0-D59D8E7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0490-D795-42B7-9F4A-83EA5B27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4C54-7F27-4932-9209-F67D70E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DD96-B467-4040-9287-24165E62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222A-877D-420D-961A-052B8FC3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C52-6782-49AE-8A23-D34A6A65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E49-264D-472B-B8F3-CFFAF979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351-E1D2-4D10-9632-DC0B3E4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694-36EF-47DF-8003-E7A9AD3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08D-E1A6-49AE-984B-1555A480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513-52E9-4103-BB40-19DF816706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701F-EDE0-4593-88C4-001E461F97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BD8-8FE0-4FF4-9520-BAE397A4633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980-70D7-4B3F-8764-0A6BF8A2F2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ilkroadshop.ru/pic/trik70/A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kidmoda.ru/file/10969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all-katalog.ru/images/product_images/popup_images/15592_0.jpg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fiya.ru/photo/big/3-14-1-640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novosel.ru/i/481553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txk-era.ru/file/katalog/242_4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0lik.ru/uploads/posts/2012-01/1327703401_0lik.ru_min_design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0lik.ru/uploads/posts/2012-01/1327703401_0lik.ru_min_design.jp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www.0lik.ru/uploads/posts/2012-01/1327703401_0lik.ru_min_design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4shopping.ru/media/coll/2010/10/2754/paninter-2754-fall-winter-10-11-0007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4shopping.ru/media/coll/2011/02/3054/paninter-3054-spring-summer-2011-0034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4shopping.ru/media/coll/2011/02/2995/paninter-2995-spring-summer-2011-0056.jpg" TargetMode="External"/><Relationship Id="rId7" Type="http://schemas.openxmlformats.org/officeDocument/2006/relationships/image" Target="../media/image34.jpeg"/><Relationship Id="rId8" Type="http://schemas.openxmlformats.org/officeDocument/2006/relationships/hyperlink" Target="http://club.season.ru/uploads/post-8327-1285737467_thumb.jpg" TargetMode="External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orfiati.ru/wp-content/uploads/2010/11/215.gif" TargetMode="External"/><Relationship Id="rId2" Type="http://schemas.openxmlformats.org/officeDocument/2006/relationships/image" Target="../media/image37.png"/><Relationship Id="rId3" Type="http://schemas.openxmlformats.org/officeDocument/2006/relationships/hyperlink" Target="http://www.korfiati.ru/wp-content/uploads/2010/11/Marc-by-Marc-Jacobs1.jpg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pics.livejournal.com/onlady/pic/0001f11x/s640x480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menstalk.ru/wp-content/uploads/2011/11/0272t.png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open-krasnodar.ru/subdomains/files/shop_images/915_big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storage2.gloria-jeans.ru/sites/default/files/products/images/95261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wingoutfits.com/pictures/koko_blouse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wingoutfits.com/pictures/koko_blouse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orfiati.ru/wp-content/uploads/2010/03/k2.gif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olga-orlova.ru/models/66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dmoda.ru/pictures/129110125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chudoland.ru/UserFiles/ProductGalery/163/700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mycomanda.com/prd_lib/images/PETTISKIRTS.jp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lyubimoy.ru/files/products/569_0.jpg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4shopping.ru/colls/2995/paninter-office-spring-summer-2011-women-4shopping-ru_18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shanya.ru/system/i/goods/images/2794-7360512194big_original.jpg?1298173710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vous.com.ua/images/products/345x522/fw130422-red-1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papag.net/wp-content/imeges/2012/001/bruki_dlya_polnih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t-crimea.com/public/upload/products/9793-popup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shstrana.ru/imgcatalog/catalog168big1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64560" cy="1835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362320" y="3657600"/>
            <a:ext cx="5263920" cy="1752480"/>
          </a:xfrm>
          <a:prstGeom prst="rect">
            <a:avLst/>
          </a:prstGeom>
          <a:solidFill>
            <a:srgbClr val="02303e"/>
          </a:solidFill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БОУ « Адаптированная  школа № 1» Подготовила: Феофанова В.Н. учитель профильного труда. 8 класс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83808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Картинка 260 из 44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505320"/>
            <a:ext cx="2389320" cy="251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2" name="Picture 7" descr="Картинка 268 из 44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00200"/>
            <a:ext cx="2392200" cy="2895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3" name="Picture 9" descr="Картинка 11 из 443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1523880"/>
            <a:ext cx="2085840" cy="2895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4" name="Text Box 10"/>
          <p:cNvSpPr/>
          <p:nvPr/>
        </p:nvSpPr>
        <p:spPr>
          <a:xfrm>
            <a:off x="457200" y="609480"/>
            <a:ext cx="815328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о фор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нижнего ср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52280" y="4495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ря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429000" y="5943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фигу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6477120" y="44956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в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6"/>
          <p:cNvSpPr/>
          <p:nvPr/>
        </p:nvSpPr>
        <p:spPr>
          <a:xfrm>
            <a:off x="380880" y="914400"/>
            <a:ext cx="8458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тделка нижнего к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609480" y="4495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ан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6172200" y="4572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6324480" y="4419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круже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3-14-1-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760" y="1905120"/>
            <a:ext cx="2590560" cy="245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35" descr="4815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828800"/>
            <a:ext cx="2533680" cy="2438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4" name="Picture 39" descr="242_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429000"/>
            <a:ext cx="2590920" cy="2438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5" name="Text Box 40"/>
          <p:cNvSpPr/>
          <p:nvPr/>
        </p:nvSpPr>
        <p:spPr>
          <a:xfrm>
            <a:off x="3200400" y="5943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бор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676520" y="990720"/>
            <a:ext cx="6248160" cy="1600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Times New Roman"/>
              </a:rPr>
              <a:t>Моделирова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-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то творческий процесс создания новых 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роцесс 6"/>
          <p:cNvSpPr/>
          <p:nvPr/>
        </p:nvSpPr>
        <p:spPr>
          <a:xfrm>
            <a:off x="1066680" y="3276720"/>
            <a:ext cx="2895840" cy="13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удожественн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роцесс 7"/>
          <p:cNvSpPr/>
          <p:nvPr/>
        </p:nvSpPr>
        <p:spPr>
          <a:xfrm>
            <a:off x="5562720" y="3276720"/>
            <a:ext cx="2871720" cy="13665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хническое 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9"/>
          <p:cNvCxnSpPr/>
          <p:nvPr/>
        </p:nvCxnSpPr>
        <p:spPr>
          <a:xfrm>
            <a:off x="6171840" y="2743200"/>
            <a:ext cx="610200" cy="53424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0" name="Прямая со стрелкой 11"/>
          <p:cNvCxnSpPr/>
          <p:nvPr/>
        </p:nvCxnSpPr>
        <p:spPr>
          <a:xfrm flipH="1">
            <a:off x="2513880" y="2743200"/>
            <a:ext cx="610200" cy="53424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71" name="Прямоугольник 14"/>
          <p:cNvSpPr/>
          <p:nvPr/>
        </p:nvSpPr>
        <p:spPr>
          <a:xfrm>
            <a:off x="990720" y="5334120"/>
            <a:ext cx="281916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удожник-модел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5638680" y="5410080"/>
            <a:ext cx="2786040" cy="1067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нженер- констру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 стрелкой 17"/>
          <p:cNvCxnSpPr/>
          <p:nvPr/>
        </p:nvCxnSpPr>
        <p:spPr>
          <a:xfrm>
            <a:off x="2284920" y="4724280"/>
            <a:ext cx="35640" cy="57240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4" name="Прямая со стрелкой 21"/>
          <p:cNvCxnSpPr/>
          <p:nvPr/>
        </p:nvCxnSpPr>
        <p:spPr>
          <a:xfrm flipH="1">
            <a:off x="7086240" y="4800240"/>
            <a:ext cx="15120" cy="610200"/>
          </a:xfrm>
          <a:prstGeom prst="straightConnector1">
            <a:avLst/>
          </a:prstGeom>
          <a:ln w="51480">
            <a:solidFill>
              <a:srgbClr val="0000ff"/>
            </a:solidFill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1327703401_0lik">
            <a:hlinkClick r:id="rId1"/>
          </p:cNvPr>
          <p:cNvPicPr/>
          <p:nvPr/>
        </p:nvPicPr>
        <p:blipFill>
          <a:blip r:embed="rId2">
            <a:lum bright="-6000"/>
          </a:blip>
          <a:srcRect l="0" t="0" r="0" b="71442"/>
          <a:stretch/>
        </p:blipFill>
        <p:spPr>
          <a:xfrm>
            <a:off x="304920" y="1066680"/>
            <a:ext cx="4987800" cy="335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6" name="Picture 5" descr="1327703401_0lik">
            <a:hlinkClick r:id="rId3"/>
          </p:cNvPr>
          <p:cNvPicPr/>
          <p:nvPr/>
        </p:nvPicPr>
        <p:blipFill>
          <a:blip r:embed="rId4">
            <a:lum bright="-12000"/>
          </a:blip>
          <a:srcRect l="0" t="71819" r="0" b="5745"/>
          <a:stretch/>
        </p:blipFill>
        <p:spPr>
          <a:xfrm>
            <a:off x="5105520" y="4114800"/>
            <a:ext cx="3809880" cy="2014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7" name="Picture 6" descr="1327703401_0lik">
            <a:hlinkClick r:id="rId5"/>
          </p:cNvPr>
          <p:cNvPicPr/>
          <p:nvPr/>
        </p:nvPicPr>
        <p:blipFill>
          <a:blip r:embed="rId6"/>
          <a:srcRect l="0" t="42860" r="0" b="28574"/>
          <a:stretch/>
        </p:blipFill>
        <p:spPr>
          <a:xfrm>
            <a:off x="5867280" y="1905120"/>
            <a:ext cx="2266920" cy="1523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78" name="Text Box 7"/>
          <p:cNvSpPr/>
          <p:nvPr/>
        </p:nvSpPr>
        <p:spPr>
          <a:xfrm>
            <a:off x="0" y="4724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Художник-модельер за рабо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457200" y="757800"/>
            <a:ext cx="831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актическая работа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оделирование кок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ожить шаблон полочки на свободное место во второй графе таблицы. Обвести контур детали до линии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нести на обведённом контуре линию фасона кокетки, подписать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ния груди, раз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ещё раз элементы моделирования на шаблоне из цветной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зать полученные детали выкр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клеить в последнюю графу таблицы готовую выкройку, закрыв нагрудную выта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29718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Успехов в рабо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paninter-2754-fall-winter-10-11-0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752480"/>
            <a:ext cx="2208240" cy="266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2" name="Picture 9" descr="paninter-3054-spring-summer-2011-00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7640" y="1752480"/>
            <a:ext cx="1749600" cy="2438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3" name="Picture 15" descr="paninter-2995-spring-summer-2011-005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3040" y="1752480"/>
            <a:ext cx="2363760" cy="27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4" name="Picture 17" descr="post-8327-1285737467_thum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05320" y="4343400"/>
            <a:ext cx="2495520" cy="2279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85" name="Text Box 19"/>
          <p:cNvSpPr/>
          <p:nvPr/>
        </p:nvSpPr>
        <p:spPr>
          <a:xfrm>
            <a:off x="2057400" y="7621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Фигурные кок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914400" y="838080"/>
            <a:ext cx="7543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Давай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Times New Roman"/>
              </a:rPr>
              <a:t>повторим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BD06630_"/>
          <p:cNvPicPr/>
          <p:nvPr/>
        </p:nvPicPr>
        <p:blipFill>
          <a:blip r:embed="rId1"/>
          <a:stretch/>
        </p:blipFill>
        <p:spPr>
          <a:xfrm>
            <a:off x="3429000" y="4114800"/>
            <a:ext cx="24382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4"/>
          <p:cNvSpPr/>
          <p:nvPr/>
        </p:nvSpPr>
        <p:spPr>
          <a:xfrm>
            <a:off x="533520" y="2286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685800" y="685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ое платье на фото соответствует представленному чертеж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4114800" y="5181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6019920" y="5257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8001000" y="5181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0" descr="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05120"/>
            <a:ext cx="309420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Picture 22" descr="как сшить плать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362320"/>
            <a:ext cx="1676520" cy="2895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5" name="Picture 28" descr="s640x4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8880" y="1905120"/>
            <a:ext cx="1720800" cy="3049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6" name="Picture 30" descr="gen__vyr_1152DRG321"/>
          <p:cNvPicPr/>
          <p:nvPr/>
        </p:nvPicPr>
        <p:blipFill>
          <a:blip r:embed="rId7"/>
          <a:stretch/>
        </p:blipFill>
        <p:spPr>
          <a:xfrm>
            <a:off x="3506760" y="1905120"/>
            <a:ext cx="1751040" cy="304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7" name="Text Box 31"/>
          <p:cNvSpPr/>
          <p:nvPr/>
        </p:nvSpPr>
        <p:spPr>
          <a:xfrm>
            <a:off x="4724280" y="56386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6858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кет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отрезная деталь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5800" y="2438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кетки могут быть расположены на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лоч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пинке, на полотнищах юбки, на половинках брю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кетки раскраивают из основной или отделочной тка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85800" y="3657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форме нижнего среза кокетки бывают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я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в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фигу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685800" y="4419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нижнему краю кокеток можно расположить кант, кружево или обор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858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кокеток выполняют на деталях переда (полочке) и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пин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кройки цельнокроеного пл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676520" y="9907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авайте 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-228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80880" y="144720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Задание №1: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асон кок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иг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bluza-s-koketkoj-iz-gipjura-i-pyshnymi-rukavami-artikul-952"/>
          <p:cNvPicPr/>
          <p:nvPr/>
        </p:nvPicPr>
        <p:blipFill>
          <a:blip r:embed="rId1"/>
          <a:stretch/>
        </p:blipFill>
        <p:spPr>
          <a:xfrm>
            <a:off x="5029200" y="1600200"/>
            <a:ext cx="3009960" cy="3733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8"/>
          <p:cNvSpPr/>
          <p:nvPr/>
        </p:nvSpPr>
        <p:spPr>
          <a:xfrm>
            <a:off x="457200" y="9144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Кокетка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 отрезная деталь из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0272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048120"/>
            <a:ext cx="2133720" cy="315576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16" name="Picture 14" descr="915_bi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2286000"/>
            <a:ext cx="2481120" cy="297180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17" name="Picture 16" descr="9526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48520" y="2286000"/>
            <a:ext cx="2384280" cy="30481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28600" y="1294920"/>
            <a:ext cx="5029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Отделка нижнего края кокет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Кан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Круже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3. Обор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masteriua.ru/EMBROIDE/otdel/bluz/images/100102.gif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81480" y="1219320"/>
            <a:ext cx="3300480" cy="4190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609480" y="-36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Кокетка – это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. Припуск на застёж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. Полоска ткани для отделки, собранная на сборку посеред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3. Отрезная деталь из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0" descr="yubka-0230"/>
          <p:cNvPicPr/>
          <p:nvPr/>
        </p:nvPicPr>
        <p:blipFill>
          <a:blip r:embed="rId2"/>
          <a:stretch/>
        </p:blipFill>
        <p:spPr>
          <a:xfrm>
            <a:off x="4038480" y="4495680"/>
            <a:ext cx="1446480" cy="205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2" name="Picture 12" descr="1321776139_235"/>
          <p:cNvPicPr/>
          <p:nvPr/>
        </p:nvPicPr>
        <p:blipFill>
          <a:blip r:embed="rId3"/>
          <a:stretch/>
        </p:blipFill>
        <p:spPr>
          <a:xfrm>
            <a:off x="990720" y="4419720"/>
            <a:ext cx="1901880" cy="19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3" name="Picture 14" descr="list"/>
          <p:cNvPicPr/>
          <p:nvPr/>
        </p:nvPicPr>
        <p:blipFill>
          <a:blip r:embed="rId4"/>
          <a:stretch/>
        </p:blipFill>
        <p:spPr>
          <a:xfrm>
            <a:off x="6477120" y="4419720"/>
            <a:ext cx="1981080" cy="19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066680" y="685800"/>
            <a:ext cx="69343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Молодцы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Times New Roman"/>
              </a:rPr>
              <a:t>Дальнейших успех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http://24mix.ru/images/x_6171595311.jpg"/>
          <p:cNvPicPr/>
          <p:nvPr/>
        </p:nvPicPr>
        <p:blipFill>
          <a:blip r:embed="rId1"/>
          <a:stretch/>
        </p:blipFill>
        <p:spPr>
          <a:xfrm>
            <a:off x="3657600" y="20574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ED00039_"/>
          <p:cNvPicPr/>
          <p:nvPr/>
        </p:nvPicPr>
        <p:blipFill>
          <a:blip r:embed="rId1"/>
          <a:stretch/>
        </p:blipFill>
        <p:spPr>
          <a:xfrm>
            <a:off x="1523880" y="2743200"/>
            <a:ext cx="2743200" cy="23367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1066680" y="10666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Запишите в те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800600" y="31240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оке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457200" y="609480"/>
            <a:ext cx="8305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                             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38080" y="57913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257800" y="5791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спин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koko_blouse">
            <a:hlinkClick r:id="rId1"/>
          </p:cNvPr>
          <p:cNvPicPr/>
          <p:nvPr/>
        </p:nvPicPr>
        <p:blipFill>
          <a:blip r:embed="rId2"/>
          <a:srcRect l="53957" t="0" r="0" b="50042"/>
          <a:stretch/>
        </p:blipFill>
        <p:spPr>
          <a:xfrm>
            <a:off x="915840" y="2362320"/>
            <a:ext cx="3151440" cy="3349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25" name="Picture 13" descr="koko_blouse">
            <a:hlinkClick r:id="rId3"/>
          </p:cNvPr>
          <p:cNvPicPr/>
          <p:nvPr/>
        </p:nvPicPr>
        <p:blipFill>
          <a:blip r:embed="rId4"/>
          <a:srcRect l="53957" t="51251" r="0" b="0"/>
          <a:stretch/>
        </p:blipFill>
        <p:spPr>
          <a:xfrm>
            <a:off x="5183280" y="2362320"/>
            <a:ext cx="3230640" cy="3352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Картинка 18 из 11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057400"/>
            <a:ext cx="3657600" cy="392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Картинка 15 из 115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057400"/>
            <a:ext cx="3962160" cy="3962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8" name="Text Box 8"/>
          <p:cNvSpPr/>
          <p:nvPr/>
        </p:nvSpPr>
        <p:spPr>
          <a:xfrm>
            <a:off x="457200" y="30492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04920" y="4572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14400" y="59436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тнищах ю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артинка 49 из 116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744640"/>
            <a:ext cx="2390760" cy="243684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2" name="Picture 9" descr="i?id=332367751-52-72"/>
          <p:cNvPicPr/>
          <p:nvPr/>
        </p:nvPicPr>
        <p:blipFill>
          <a:blip r:embed="rId3"/>
          <a:stretch/>
        </p:blipFill>
        <p:spPr>
          <a:xfrm>
            <a:off x="6246720" y="3962520"/>
            <a:ext cx="2355840" cy="266688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3" name="Picture 15" descr="Картинка 20 из 116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1143000"/>
            <a:ext cx="2590920" cy="25909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sp>
        <p:nvSpPr>
          <p:cNvPr id="234" name="Text Box 16"/>
          <p:cNvSpPr/>
          <p:nvPr/>
        </p:nvSpPr>
        <p:spPr>
          <a:xfrm>
            <a:off x="2895480" y="7621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Юб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кок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9" descr="PETTISKIRT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1143000"/>
            <a:ext cx="2590920" cy="257796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36" name="Picture 23" descr="569_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" y="3886200"/>
            <a:ext cx="2325600" cy="274320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Построение выкройки трикотажных брюк | © RedCafe.ru"/>
          <p:cNvPicPr/>
          <p:nvPr/>
        </p:nvPicPr>
        <p:blipFill>
          <a:blip r:embed="rId1"/>
          <a:srcRect l="14969" t="0" r="4558" b="12000"/>
          <a:stretch/>
        </p:blipFill>
        <p:spPr>
          <a:xfrm>
            <a:off x="914400" y="1905120"/>
            <a:ext cx="3276720" cy="38862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38" name="Picture 7" descr="Картинка 206 из 49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81080"/>
            <a:ext cx="3124080" cy="3845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39" name="Text Box 8"/>
          <p:cNvSpPr/>
          <p:nvPr/>
        </p:nvSpPr>
        <p:spPr>
          <a:xfrm>
            <a:off x="609480" y="30492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90720" y="59436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половинках брю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90720" y="38088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располож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4"/>
          <p:cNvSpPr/>
          <p:nvPr/>
        </p:nvSpPr>
        <p:spPr>
          <a:xfrm>
            <a:off x="3276720" y="762120"/>
            <a:ext cx="2895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Брюк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а кок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6" descr="2794-7360512194big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143000"/>
            <a:ext cx="2514600" cy="35053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44" name="Picture 18" descr="fw130422-red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143000"/>
            <a:ext cx="2514600" cy="358128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  <p:pic>
        <p:nvPicPr>
          <p:cNvPr id="245" name="Picture 20" descr="bruki_dlya_polni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2743200"/>
            <a:ext cx="2506680" cy="3505320"/>
          </a:xfrm>
          <a:prstGeom prst="rect">
            <a:avLst/>
          </a:prstGeom>
          <a:ln w="25560">
            <a:solidFill>
              <a:srgbClr val="00ccff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Картинка 88 из 4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2320" y="2360520"/>
            <a:ext cx="2592360" cy="3354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7" name="Text Box 12"/>
          <p:cNvSpPr/>
          <p:nvPr/>
        </p:nvSpPr>
        <p:spPr>
          <a:xfrm>
            <a:off x="685800" y="609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окетки</a:t>
            </a: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огут быть выполнены из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catalog168big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362320"/>
            <a:ext cx="2514600" cy="3352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Text Box 18"/>
          <p:cNvSpPr/>
          <p:nvPr/>
        </p:nvSpPr>
        <p:spPr>
          <a:xfrm>
            <a:off x="1143000" y="57913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снов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4724280" y="57913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тделоч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162-2</dc:creator>
  <dc:description/>
  <dc:language>en-US</dc:language>
  <cp:lastModifiedBy>Man2 Black</cp:lastModifiedBy>
  <dcterms:modified xsi:type="dcterms:W3CDTF">2023-01-19T08:49:0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