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42.png" ContentType="image/pn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5.jpeg" ContentType="image/jpeg"/>
  <Override PartName="/ppt/media/image2.png" ContentType="image/png"/>
  <Override PartName="/ppt/media/image17.jpeg" ContentType="image/jpeg"/>
  <Override PartName="/ppt/media/image10.jpeg" ContentType="image/jpeg"/>
  <Override PartName="/ppt/media/image2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45.jpeg" ContentType="image/jpeg"/>
  <Override PartName="/ppt/media/image33.jpeg" ContentType="image/jpeg"/>
  <Override PartName="/ppt/media/image18.png" ContentType="image/png"/>
  <Override PartName="/ppt/media/image28.jpeg" ContentType="image/jpeg"/>
  <Override PartName="/ppt/media/image34.jpeg" ContentType="image/jpeg"/>
  <Override PartName="/ppt/media/image37.png" ContentType="image/png"/>
  <Override PartName="/ppt/media/image36.wmf" ContentType="image/x-wmf"/>
  <Override PartName="/ppt/media/image44.jpeg" ContentType="image/jpeg"/>
  <Override PartName="/ppt/media/image7.jpeg" ContentType="image/jpeg"/>
  <Override PartName="/ppt/media/image38.jpeg" ContentType="image/jpeg"/>
  <Override PartName="/ppt/media/image46.jpeg" ContentType="image/jpeg"/>
  <Override PartName="/ppt/media/image5.png" ContentType="image/png"/>
  <Override PartName="/ppt/media/image43.jpeg" ContentType="image/jpeg"/>
  <Override PartName="/ppt/media/image9.wmf" ContentType="image/x-wmf"/>
  <Override PartName="/ppt/media/image11.png" ContentType="image/png"/>
  <Override PartName="/ppt/media/image19.jpeg" ContentType="image/jpeg"/>
  <Override PartName="/ppt/media/image6.png" ContentType="image/pn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87B81-8A6C-4B1D-8DDC-1CB2D2C41C9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558D3-28B7-4B34-8612-CBDF041EDB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62554-E672-4983-82D4-33BCC855EB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BEB1-E8EB-4A84-991A-B3A7EF0EA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B4B0-4C5F-48F8-962A-DEDB30D4B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A6B9-B1E9-4521-B39E-B3D0F6AE9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CC08-501B-4C18-A809-D40EA6155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D4DD4-D709-435D-9B1B-29E613F53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D410B-67D3-46C3-849F-A27EF01C7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E591B-A881-4349-9B0A-1F75DD58A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D31AB-9751-4664-B21E-1F6BDFD83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FD9E1-AB47-4F7F-8B38-FD29525D9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18A5F-FA0D-4C4F-9C7F-F92AB1405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AE59D-AC0A-4DAB-8FD1-C1C546DF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0CB4-FEFD-490B-BC9F-587299D40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8C5CD-CE4B-47DC-ACD0-3486BB61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9EC7B-23F0-49F7-9906-EEDDF29D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94798-8A2D-4FBE-ACEA-CEF76513C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0DB2F-F6C2-4804-9225-B70E2AA41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04866-1330-4D64-8AFB-E32B0D7B9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814A0-7929-4832-9A32-D5827C692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02B13-F90F-4D94-972C-8C950605E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408C7-D768-4797-B0AC-2EEBD46FB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AC9B8-67D1-49BF-9D46-391D66DF6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B03B2-18BF-486C-BDB6-72E440E61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E3AC-8F00-480E-83B0-86810B670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3EB1A-77E4-4B97-A1ED-DBEA79141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CE353-7387-48C4-B8A8-8223A3DE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EA96D-628B-4DC5-9D9E-62BD3FCC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3E45E-E52B-4887-91B5-9662DDC0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20423-B1BF-4FB1-9DE6-F10DEF65B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0CC8D-5EF2-4AED-A2B3-3DBEEA5C9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0839E-641E-4CD5-BCF0-25647B6F0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C35A2-09B4-4951-A379-B09B6F886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0F5E5-0F69-4E54-A942-58FFF8B0E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949D4-CA93-402C-AEE7-63DC6CC5E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3154-FCE1-436B-B347-6F66F0B8B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DFA84-D8C7-4CAD-BB53-F7D4C702D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64610-64A5-4F2E-B3E2-F66A5F6E5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2B54C-7CF6-49BB-99A9-CC7BAD7EE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9592E-0CE4-4B4E-94A1-F34AEA81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B5A87-93AF-4F61-8912-3E259089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A29BE-814B-48FC-A2E2-224B0962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7EBCC-EF64-4152-8142-C63E4D6F3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E0138-2D07-4FF9-B357-B90A8C32E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EDE60-71AA-4DB8-9CCD-F8E84B860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3348-E4E8-499E-99BD-A980B843F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5583-8D46-42F3-B8DD-E958AB74D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C01D-4E9D-44D5-BE75-20E7593C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C547-E44D-44DD-AB6C-2E5C23C6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196F-417F-4111-9041-1D245452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EF1FF-78AA-4B7C-B702-EE199011153F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9BF5D-6E06-403E-AB02-743967556E90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3F2B1-DBEE-4125-A9EE-72E9A8DDAE49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ый треугольник 2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88CD2-9600-409C-8E25-F176522CF295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ilkroadshop.ru/pic/trik70/A.jpg" TargetMode="External"/><Relationship Id="rId2" Type="http://schemas.openxmlformats.org/officeDocument/2006/relationships/image" Target="../media/image25.jpeg"/><Relationship Id="rId3" Type="http://schemas.openxmlformats.org/officeDocument/2006/relationships/hyperlink" Target="http://www.kidmoda.ru/file/10969.jpg" TargetMode="External"/><Relationship Id="rId4" Type="http://schemas.openxmlformats.org/officeDocument/2006/relationships/image" Target="../media/image26.jpeg"/><Relationship Id="rId5" Type="http://schemas.openxmlformats.org/officeDocument/2006/relationships/hyperlink" Target="http://all-katalog.ru/images/product_images/popup_images/15592_0.jpg" TargetMode="External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tefiya.ru/photo/big/3-14-1-640.jpg" TargetMode="External"/><Relationship Id="rId2" Type="http://schemas.openxmlformats.org/officeDocument/2006/relationships/image" Target="../media/image28.jpeg"/><Relationship Id="rId3" Type="http://schemas.openxmlformats.org/officeDocument/2006/relationships/hyperlink" Target="http://www.novosel.ru/i/481553.jpg" TargetMode="External"/><Relationship Id="rId4" Type="http://schemas.openxmlformats.org/officeDocument/2006/relationships/image" Target="../media/image29.jpeg"/><Relationship Id="rId5" Type="http://schemas.openxmlformats.org/officeDocument/2006/relationships/hyperlink" Target="http://www.txk-era.ru/file/katalog/242_4.jpg" TargetMode="External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0lik.ru/uploads/posts/2012-01/1327703401_0lik.ru_min_design.jpg" TargetMode="External"/><Relationship Id="rId2" Type="http://schemas.openxmlformats.org/officeDocument/2006/relationships/image" Target="../media/image31.jpeg"/><Relationship Id="rId3" Type="http://schemas.openxmlformats.org/officeDocument/2006/relationships/hyperlink" Target="http://www.0lik.ru/uploads/posts/2012-01/1327703401_0lik.ru_min_design.jpg" TargetMode="External"/><Relationship Id="rId4" Type="http://schemas.openxmlformats.org/officeDocument/2006/relationships/image" Target="../media/image31.jpeg"/><Relationship Id="rId5" Type="http://schemas.openxmlformats.org/officeDocument/2006/relationships/hyperlink" Target="http://www.0lik.ru/uploads/posts/2012-01/1327703401_0lik.ru_min_design.jpg" TargetMode="External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4shopping.ru/media/coll/2010/10/2754/paninter-2754-fall-winter-10-11-0007.jpg" TargetMode="External"/><Relationship Id="rId3" Type="http://schemas.openxmlformats.org/officeDocument/2006/relationships/image" Target="../media/image32.jpeg"/><Relationship Id="rId4" Type="http://schemas.openxmlformats.org/officeDocument/2006/relationships/hyperlink" Target="http://www.4shopping.ru/media/coll/2011/02/3054/paninter-3054-spring-summer-2011-0034.jpg" TargetMode="External"/><Relationship Id="rId5" Type="http://schemas.openxmlformats.org/officeDocument/2006/relationships/image" Target="../media/image33.jpeg"/><Relationship Id="rId6" Type="http://schemas.openxmlformats.org/officeDocument/2006/relationships/hyperlink" Target="http://www.4shopping.ru/media/coll/2011/02/2995/paninter-2995-spring-summer-2011-0056.jpg" TargetMode="External"/><Relationship Id="rId7" Type="http://schemas.openxmlformats.org/officeDocument/2006/relationships/image" Target="../media/image34.jpeg"/><Relationship Id="rId8" Type="http://schemas.openxmlformats.org/officeDocument/2006/relationships/hyperlink" Target="http://club.season.ru/uploads/post-8327-1285737467_thumb.jpg" TargetMode="External"/><Relationship Id="rId9" Type="http://schemas.openxmlformats.org/officeDocument/2006/relationships/image" Target="../media/image35.jpe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korfiati.ru/wp-content/uploads/2010/11/215.gif" TargetMode="External"/><Relationship Id="rId2" Type="http://schemas.openxmlformats.org/officeDocument/2006/relationships/image" Target="../media/image37.png"/><Relationship Id="rId3" Type="http://schemas.openxmlformats.org/officeDocument/2006/relationships/hyperlink" Target="http://www.korfiati.ru/wp-content/uploads/2010/11/Marc-by-Marc-Jacobs1.jpg" TargetMode="External"/><Relationship Id="rId4" Type="http://schemas.openxmlformats.org/officeDocument/2006/relationships/image" Target="../media/image38.jpeg"/><Relationship Id="rId5" Type="http://schemas.openxmlformats.org/officeDocument/2006/relationships/hyperlink" Target="http://pics.livejournal.com/onlady/pic/0001f11x/s640x480" TargetMode="External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omenstalk.ru/wp-content/uploads/2011/11/0272t.png" TargetMode="External"/><Relationship Id="rId3" Type="http://schemas.openxmlformats.org/officeDocument/2006/relationships/image" Target="../media/image6.png"/><Relationship Id="rId4" Type="http://schemas.openxmlformats.org/officeDocument/2006/relationships/hyperlink" Target="http://open-krasnodar.ru/subdomains/files/shop_images/915_big.jpg" TargetMode="External"/><Relationship Id="rId5" Type="http://schemas.openxmlformats.org/officeDocument/2006/relationships/image" Target="../media/image7.jpeg"/><Relationship Id="rId6" Type="http://schemas.openxmlformats.org/officeDocument/2006/relationships/hyperlink" Target="http://storage2.gloria-jeans.ru/sites/default/files/products/images/95261.jpg" TargetMode="External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wingoutfits.com/pictures/koko_blouse.jpg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swingoutfits.com/pictures/koko_blouse.jpg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korfiati.ru/wp-content/uploads/2010/03/k2.gif" TargetMode="External"/><Relationship Id="rId2" Type="http://schemas.openxmlformats.org/officeDocument/2006/relationships/image" Target="../media/image11.png"/><Relationship Id="rId3" Type="http://schemas.openxmlformats.org/officeDocument/2006/relationships/hyperlink" Target="http://www.olga-orlova.ru/models/66.jpg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dmoda.ru/pictures/129110125.jpg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hyperlink" Target="http://www.chudoland.ru/UserFiles/ProductGalery/163/700.jpg" TargetMode="External"/><Relationship Id="rId5" Type="http://schemas.openxmlformats.org/officeDocument/2006/relationships/image" Target="../media/image15.jpeg"/><Relationship Id="rId6" Type="http://schemas.openxmlformats.org/officeDocument/2006/relationships/hyperlink" Target="http://www.mycomanda.com/prd_lib/images/PETTISKIRTS.jpg" TargetMode="External"/><Relationship Id="rId7" Type="http://schemas.openxmlformats.org/officeDocument/2006/relationships/image" Target="../media/image16.jpeg"/><Relationship Id="rId8" Type="http://schemas.openxmlformats.org/officeDocument/2006/relationships/hyperlink" Target="http://www.lyubimoy.ru/files/products/569_0.jpg" TargetMode="External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://www.4shopping.ru/colls/2995/paninter-office-spring-summer-2011-women-4shopping-ru_18.jpg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goshanya.ru/system/i/goods/images/2794-7360512194big_original.jpg?1298173710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vous.com.ua/images/products/345x522/fw130422-red-1.jpg" TargetMode="External"/><Relationship Id="rId4" Type="http://schemas.openxmlformats.org/officeDocument/2006/relationships/image" Target="../media/image21.jpeg"/><Relationship Id="rId5" Type="http://schemas.openxmlformats.org/officeDocument/2006/relationships/hyperlink" Target="http://www.papag.net/wp-content/imeges/2012/001/bruki_dlya_polnih.jpg" TargetMode="External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opt-crimea.com/public/upload/products/9793-popup.jpg" TargetMode="External"/><Relationship Id="rId2" Type="http://schemas.openxmlformats.org/officeDocument/2006/relationships/image" Target="../media/image23.jpeg"/><Relationship Id="rId3" Type="http://schemas.openxmlformats.org/officeDocument/2006/relationships/hyperlink" Target="http://www.shstrana.ru/imgcatalog/catalog168big1.jpg" TargetMode="External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1" descr=""/>
          <p:cNvPicPr/>
          <p:nvPr/>
        </p:nvPicPr>
        <p:blipFill>
          <a:blip r:embed="rId1"/>
          <a:stretch/>
        </p:blipFill>
        <p:spPr>
          <a:xfrm>
            <a:off x="536400" y="1371600"/>
            <a:ext cx="7864560" cy="18352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2362320" y="3657600"/>
            <a:ext cx="5263920" cy="1752480"/>
          </a:xfrm>
          <a:prstGeom prst="rect">
            <a:avLst/>
          </a:prstGeom>
          <a:solidFill>
            <a:srgbClr val="02303e"/>
          </a:solidFill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ГОБОУ « Адаптированная  школа № 1» Подготовила: Феофанова В.Н. учитель профильного труда. 8 класс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3" name="TextBox 4"/>
          <p:cNvSpPr/>
          <p:nvPr/>
        </p:nvSpPr>
        <p:spPr>
          <a:xfrm>
            <a:off x="838080" y="5904000"/>
            <a:ext cx="458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5" descr="Картинка 260 из 441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81280" y="3505320"/>
            <a:ext cx="2389320" cy="25146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52" name="Picture 7" descr="Картинка 268 из 441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" y="1600200"/>
            <a:ext cx="2392200" cy="28954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53" name="Picture 9" descr="Картинка 11 из 443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629400" y="1523880"/>
            <a:ext cx="2085840" cy="28958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54" name="Text Box 10"/>
          <p:cNvSpPr/>
          <p:nvPr/>
        </p:nvSpPr>
        <p:spPr>
          <a:xfrm>
            <a:off x="457200" y="609480"/>
            <a:ext cx="8153280" cy="49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0066"/>
                </a:solidFill>
                <a:latin typeface="Times New Roman"/>
              </a:rPr>
              <a:t>Кокетки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по форм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нижнего срез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1"/>
          <p:cNvSpPr/>
          <p:nvPr/>
        </p:nvSpPr>
        <p:spPr>
          <a:xfrm>
            <a:off x="152280" y="449568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прям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2"/>
          <p:cNvSpPr/>
          <p:nvPr/>
        </p:nvSpPr>
        <p:spPr>
          <a:xfrm>
            <a:off x="3429000" y="594360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фигур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3"/>
          <p:cNvSpPr/>
          <p:nvPr/>
        </p:nvSpPr>
        <p:spPr>
          <a:xfrm>
            <a:off x="6477120" y="449568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оваль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16"/>
          <p:cNvSpPr/>
          <p:nvPr/>
        </p:nvSpPr>
        <p:spPr>
          <a:xfrm>
            <a:off x="380880" y="914400"/>
            <a:ext cx="8458200" cy="18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Отделка нижнего кра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Times New Roman"/>
              </a:rPr>
              <a:t>кокето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7"/>
          <p:cNvSpPr/>
          <p:nvPr/>
        </p:nvSpPr>
        <p:spPr>
          <a:xfrm>
            <a:off x="609480" y="449568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кант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9"/>
          <p:cNvSpPr/>
          <p:nvPr/>
        </p:nvSpPr>
        <p:spPr>
          <a:xfrm>
            <a:off x="6172200" y="457200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0"/>
          <p:cNvSpPr/>
          <p:nvPr/>
        </p:nvSpPr>
        <p:spPr>
          <a:xfrm>
            <a:off x="6324480" y="441972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кружев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30" descr="3-14-1-64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5760" y="1905120"/>
            <a:ext cx="2590560" cy="24559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63" name="Picture 35" descr="48155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48520" y="1828800"/>
            <a:ext cx="2533680" cy="24382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64" name="Picture 39" descr="242_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52680" y="3429000"/>
            <a:ext cx="2590920" cy="24382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65" name="Text Box 40"/>
          <p:cNvSpPr/>
          <p:nvPr/>
        </p:nvSpPr>
        <p:spPr>
          <a:xfrm>
            <a:off x="3200400" y="59436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оборк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Прямоугольник 4"/>
          <p:cNvSpPr/>
          <p:nvPr/>
        </p:nvSpPr>
        <p:spPr>
          <a:xfrm>
            <a:off x="1676520" y="990720"/>
            <a:ext cx="6248160" cy="16002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66"/>
                </a:solidFill>
                <a:uFillTx/>
                <a:latin typeface="Times New Roman"/>
              </a:rPr>
              <a:t>Моделирование</a:t>
            </a: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 -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это творческий процесс создания новых моде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Блок-схема: процесс 6"/>
          <p:cNvSpPr/>
          <p:nvPr/>
        </p:nvSpPr>
        <p:spPr>
          <a:xfrm>
            <a:off x="1066680" y="3276720"/>
            <a:ext cx="2895840" cy="1357200"/>
          </a:xfrm>
          <a:prstGeom prst="flowChartProcess">
            <a:avLst/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Художественное модел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Блок-схема: процесс 7"/>
          <p:cNvSpPr/>
          <p:nvPr/>
        </p:nvSpPr>
        <p:spPr>
          <a:xfrm>
            <a:off x="5562720" y="3276720"/>
            <a:ext cx="2871720" cy="1366560"/>
          </a:xfrm>
          <a:prstGeom prst="flowChartProcess">
            <a:avLst/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Техническое модел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9" name="Прямая со стрелкой 9"/>
          <p:cNvCxnSpPr/>
          <p:nvPr/>
        </p:nvCxnSpPr>
        <p:spPr>
          <a:xfrm>
            <a:off x="6171840" y="2743200"/>
            <a:ext cx="610200" cy="534240"/>
          </a:xfrm>
          <a:prstGeom prst="straightConnector1">
            <a:avLst/>
          </a:prstGeom>
          <a:ln w="5148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270" name="Прямая со стрелкой 11"/>
          <p:cNvCxnSpPr/>
          <p:nvPr/>
        </p:nvCxnSpPr>
        <p:spPr>
          <a:xfrm flipH="1">
            <a:off x="2513880" y="2743200"/>
            <a:ext cx="610200" cy="534240"/>
          </a:xfrm>
          <a:prstGeom prst="straightConnector1">
            <a:avLst/>
          </a:prstGeom>
          <a:ln w="5148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271" name="Прямоугольник 14"/>
          <p:cNvSpPr/>
          <p:nvPr/>
        </p:nvSpPr>
        <p:spPr>
          <a:xfrm>
            <a:off x="990720" y="5334120"/>
            <a:ext cx="2819160" cy="11430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Художник-модель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15"/>
          <p:cNvSpPr/>
          <p:nvPr/>
        </p:nvSpPr>
        <p:spPr>
          <a:xfrm>
            <a:off x="5638680" y="5410080"/>
            <a:ext cx="2786040" cy="1067040"/>
          </a:xfrm>
          <a:prstGeom prst="rect">
            <a:avLst/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Инженер- конструк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3" name="Прямая со стрелкой 17"/>
          <p:cNvCxnSpPr/>
          <p:nvPr/>
        </p:nvCxnSpPr>
        <p:spPr>
          <a:xfrm>
            <a:off x="2284920" y="4724280"/>
            <a:ext cx="35640" cy="572400"/>
          </a:xfrm>
          <a:prstGeom prst="straightConnector1">
            <a:avLst/>
          </a:prstGeom>
          <a:ln w="5148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274" name="Прямая со стрелкой 21"/>
          <p:cNvCxnSpPr/>
          <p:nvPr/>
        </p:nvCxnSpPr>
        <p:spPr>
          <a:xfrm flipH="1">
            <a:off x="7086240" y="4800240"/>
            <a:ext cx="15120" cy="610200"/>
          </a:xfrm>
          <a:prstGeom prst="straightConnector1">
            <a:avLst/>
          </a:prstGeom>
          <a:ln w="51480">
            <a:solidFill>
              <a:srgbClr val="0000ff"/>
            </a:solidFill>
            <a:miter/>
            <a:tailEnd len="med" type="arrow" w="med"/>
          </a:ln>
        </p:spPr>
      </p:cxn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4" descr="1327703401_0lik">
            <a:hlinkClick r:id="rId1"/>
          </p:cNvPr>
          <p:cNvPicPr/>
          <p:nvPr/>
        </p:nvPicPr>
        <p:blipFill>
          <a:blip r:embed="rId2">
            <a:lum bright="-6000"/>
          </a:blip>
          <a:srcRect l="0" t="0" r="0" b="71442"/>
          <a:stretch/>
        </p:blipFill>
        <p:spPr>
          <a:xfrm>
            <a:off x="304920" y="1066680"/>
            <a:ext cx="4987800" cy="33530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76" name="Picture 5" descr="1327703401_0lik">
            <a:hlinkClick r:id="rId3"/>
          </p:cNvPr>
          <p:cNvPicPr/>
          <p:nvPr/>
        </p:nvPicPr>
        <p:blipFill>
          <a:blip r:embed="rId4">
            <a:lum bright="-12000"/>
          </a:blip>
          <a:srcRect l="0" t="71819" r="0" b="5745"/>
          <a:stretch/>
        </p:blipFill>
        <p:spPr>
          <a:xfrm>
            <a:off x="5105520" y="4114800"/>
            <a:ext cx="3809880" cy="20145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77" name="Picture 6" descr="1327703401_0lik">
            <a:hlinkClick r:id="rId5"/>
          </p:cNvPr>
          <p:cNvPicPr/>
          <p:nvPr/>
        </p:nvPicPr>
        <p:blipFill>
          <a:blip r:embed="rId6"/>
          <a:srcRect l="0" t="42860" r="0" b="28574"/>
          <a:stretch/>
        </p:blipFill>
        <p:spPr>
          <a:xfrm>
            <a:off x="5867280" y="1905120"/>
            <a:ext cx="2266920" cy="15238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78" name="Text Box 7"/>
          <p:cNvSpPr/>
          <p:nvPr/>
        </p:nvSpPr>
        <p:spPr>
          <a:xfrm>
            <a:off x="0" y="4724280"/>
            <a:ext cx="525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Художник-модельер за работ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5"/>
          <p:cNvSpPr/>
          <p:nvPr/>
        </p:nvSpPr>
        <p:spPr>
          <a:xfrm>
            <a:off x="457200" y="757800"/>
            <a:ext cx="8319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рактическая работа: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Моделирование кокето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лан рабо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ложить шаблон полочки на свободное место во второй графе таблицы. Обвести контур детали до линии тал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нести на обведённом контуре линию фасона кокетки, подписать –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линия груди, разрез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полнить ещё раз элементы моделирования на шаблоне из цветной бума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резать полученные детали выкрой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клеить в последнюю графу таблицы готовую выкройку, закрыв нагрудную вытач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24"/>
          <p:cNvSpPr/>
          <p:nvPr/>
        </p:nvSpPr>
        <p:spPr>
          <a:xfrm>
            <a:off x="2971800" y="60199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Успехов в работ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5" descr="paninter-2754-fall-winter-10-11-000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14400" y="1752480"/>
            <a:ext cx="2208240" cy="26654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82" name="Picture 9" descr="paninter-3054-spring-summer-2011-003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887640" y="1752480"/>
            <a:ext cx="1749600" cy="24386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83" name="Picture 15" descr="paninter-2995-spring-summer-2011-0056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323040" y="1752480"/>
            <a:ext cx="2363760" cy="27432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84" name="Picture 17" descr="post-8327-1285737467_thumb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505320" y="4343400"/>
            <a:ext cx="2495520" cy="22795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85" name="Text Box 19"/>
          <p:cNvSpPr/>
          <p:nvPr/>
        </p:nvSpPr>
        <p:spPr>
          <a:xfrm>
            <a:off x="2057400" y="762120"/>
            <a:ext cx="53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Фигурные кокет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4"/>
          <p:cNvSpPr/>
          <p:nvPr/>
        </p:nvSpPr>
        <p:spPr>
          <a:xfrm>
            <a:off x="914400" y="838080"/>
            <a:ext cx="75438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ff"/>
                </a:solidFill>
                <a:latin typeface="Times New Roman"/>
              </a:rPr>
              <a:t>Давайте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ff"/>
                </a:solidFill>
                <a:latin typeface="Times New Roman"/>
              </a:rPr>
              <a:t>повторим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5" descr="BD06630_"/>
          <p:cNvPicPr/>
          <p:nvPr/>
        </p:nvPicPr>
        <p:blipFill>
          <a:blip r:embed="rId1"/>
          <a:stretch/>
        </p:blipFill>
        <p:spPr>
          <a:xfrm>
            <a:off x="3429000" y="4114800"/>
            <a:ext cx="2438280" cy="1944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14"/>
          <p:cNvSpPr/>
          <p:nvPr/>
        </p:nvSpPr>
        <p:spPr>
          <a:xfrm>
            <a:off x="533520" y="228600"/>
            <a:ext cx="8076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5"/>
          <p:cNvSpPr/>
          <p:nvPr/>
        </p:nvSpPr>
        <p:spPr>
          <a:xfrm>
            <a:off x="685800" y="6858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Какое платье на фото соответствует представленному чертеж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6"/>
          <p:cNvSpPr/>
          <p:nvPr/>
        </p:nvSpPr>
        <p:spPr>
          <a:xfrm>
            <a:off x="4114800" y="5181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7"/>
          <p:cNvSpPr/>
          <p:nvPr/>
        </p:nvSpPr>
        <p:spPr>
          <a:xfrm>
            <a:off x="6019920" y="52578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8"/>
          <p:cNvSpPr/>
          <p:nvPr/>
        </p:nvSpPr>
        <p:spPr>
          <a:xfrm>
            <a:off x="8001000" y="51814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20" descr="21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1905120"/>
            <a:ext cx="3094200" cy="441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94" name="Picture 22" descr="как сшить платье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10080" y="2362320"/>
            <a:ext cx="1676520" cy="28954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95" name="Picture 28" descr="s640x48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238880" y="1905120"/>
            <a:ext cx="1720800" cy="30495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96" name="Picture 30" descr="gen__vyr_1152DRG321"/>
          <p:cNvPicPr/>
          <p:nvPr/>
        </p:nvPicPr>
        <p:blipFill>
          <a:blip r:embed="rId7"/>
          <a:stretch/>
        </p:blipFill>
        <p:spPr>
          <a:xfrm>
            <a:off x="3506760" y="1905120"/>
            <a:ext cx="1751040" cy="30477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97" name="Text Box 31"/>
          <p:cNvSpPr/>
          <p:nvPr/>
        </p:nvSpPr>
        <p:spPr>
          <a:xfrm>
            <a:off x="4724280" y="5638680"/>
            <a:ext cx="304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Правильный от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4"/>
          <p:cNvSpPr/>
          <p:nvPr/>
        </p:nvSpPr>
        <p:spPr>
          <a:xfrm>
            <a:off x="685800" y="1981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Кокетк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это отрезная деталь издел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685800" y="24382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кетки могут быть расположены на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полочк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спинке, на полотнищах юбки, на половинках брю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685800" y="32004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кетки раскраивают из основной или отделочной ткан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7"/>
          <p:cNvSpPr/>
          <p:nvPr/>
        </p:nvSpPr>
        <p:spPr>
          <a:xfrm>
            <a:off x="685800" y="36576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форме нижнего среза кокетки бывают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прям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овальн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 фигурны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685800" y="4419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нижнему краю кокеток можно расположить кант, кружево или обор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9"/>
          <p:cNvSpPr/>
          <p:nvPr/>
        </p:nvSpPr>
        <p:spPr>
          <a:xfrm>
            <a:off x="685800" y="525780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делирование кокеток выполняют на деталях переда (полочке) и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спинк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ыкройки цельнокроеного плат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0"/>
          <p:cNvSpPr/>
          <p:nvPr/>
        </p:nvSpPr>
        <p:spPr>
          <a:xfrm>
            <a:off x="1676520" y="99072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Давайте проверим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5"/>
          <p:cNvSpPr/>
          <p:nvPr/>
        </p:nvSpPr>
        <p:spPr>
          <a:xfrm>
            <a:off x="-2286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380880" y="1447200"/>
            <a:ext cx="4114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Задание №1: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асон кокетк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066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Прям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аль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Фигур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11" descr="bluza-s-koketkoj-iz-gipjura-i-pyshnymi-rukavami-artikul-952"/>
          <p:cNvPicPr/>
          <p:nvPr/>
        </p:nvPicPr>
        <p:blipFill>
          <a:blip r:embed="rId1"/>
          <a:stretch/>
        </p:blipFill>
        <p:spPr>
          <a:xfrm>
            <a:off x="5029200" y="1600200"/>
            <a:ext cx="3009960" cy="37339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8"/>
          <p:cNvSpPr/>
          <p:nvPr/>
        </p:nvSpPr>
        <p:spPr>
          <a:xfrm>
            <a:off x="457200" y="914400"/>
            <a:ext cx="830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66"/>
                </a:solidFill>
                <a:uFillTx/>
                <a:latin typeface="Times New Roman"/>
              </a:rPr>
              <a:t>Кокетка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– 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это отрезная деталь издел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2" descr="0272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81280" y="3048120"/>
            <a:ext cx="2133720" cy="3155760"/>
          </a:xfrm>
          <a:prstGeom prst="rect">
            <a:avLst/>
          </a:prstGeom>
          <a:ln w="25560">
            <a:solidFill>
              <a:srgbClr val="00ccff"/>
            </a:solidFill>
            <a:miter/>
          </a:ln>
        </p:spPr>
      </p:pic>
      <p:pic>
        <p:nvPicPr>
          <p:cNvPr id="216" name="Picture 14" descr="915_bi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33520" y="2286000"/>
            <a:ext cx="2481120" cy="2971800"/>
          </a:xfrm>
          <a:prstGeom prst="rect">
            <a:avLst/>
          </a:prstGeom>
          <a:ln w="25560">
            <a:solidFill>
              <a:srgbClr val="00ccff"/>
            </a:solidFill>
            <a:miter/>
          </a:ln>
        </p:spPr>
      </p:pic>
      <p:pic>
        <p:nvPicPr>
          <p:cNvPr id="217" name="Picture 16" descr="9526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248520" y="2286000"/>
            <a:ext cx="2384280" cy="3048120"/>
          </a:xfrm>
          <a:prstGeom prst="rect">
            <a:avLst/>
          </a:prstGeom>
          <a:ln w="25560">
            <a:solidFill>
              <a:srgbClr val="00ccff"/>
            </a:solidFill>
            <a:miter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4"/>
          <p:cNvSpPr/>
          <p:nvPr/>
        </p:nvSpPr>
        <p:spPr>
          <a:xfrm>
            <a:off x="228600" y="1294920"/>
            <a:ext cx="50292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0066"/>
                </a:solidFill>
                <a:uFillTx/>
                <a:latin typeface="Times New Roman"/>
              </a:rPr>
              <a:t>Задание №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Отделка нижнего края кокетк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1. Кант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2. Кружев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3. Оборк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5" descr="http://www.masteriua.ru/EMBROIDE/otdel/bluz/images/100102.gif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5181480" y="1219320"/>
            <a:ext cx="3300480" cy="41907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4"/>
          <p:cNvSpPr/>
          <p:nvPr/>
        </p:nvSpPr>
        <p:spPr>
          <a:xfrm>
            <a:off x="609480" y="-360"/>
            <a:ext cx="82296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0066"/>
                </a:solidFill>
                <a:uFillTx/>
                <a:latin typeface="Times New Roman"/>
              </a:rPr>
              <a:t>Задание №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Кокетка – это…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1. Припуск на застёж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2. Полоска ткани для отделки, собранная на сборку посередин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3. Отрезная деталь издел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10" descr="yubka-0230"/>
          <p:cNvPicPr/>
          <p:nvPr/>
        </p:nvPicPr>
        <p:blipFill>
          <a:blip r:embed="rId2"/>
          <a:stretch/>
        </p:blipFill>
        <p:spPr>
          <a:xfrm>
            <a:off x="4038480" y="4495680"/>
            <a:ext cx="1446480" cy="20574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312" name="Picture 12" descr="1321776139_235"/>
          <p:cNvPicPr/>
          <p:nvPr/>
        </p:nvPicPr>
        <p:blipFill>
          <a:blip r:embed="rId3"/>
          <a:stretch/>
        </p:blipFill>
        <p:spPr>
          <a:xfrm>
            <a:off x="990720" y="4419720"/>
            <a:ext cx="1901880" cy="19810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313" name="Picture 14" descr="list"/>
          <p:cNvPicPr/>
          <p:nvPr/>
        </p:nvPicPr>
        <p:blipFill>
          <a:blip r:embed="rId4"/>
          <a:stretch/>
        </p:blipFill>
        <p:spPr>
          <a:xfrm>
            <a:off x="6477120" y="4419720"/>
            <a:ext cx="1981080" cy="19810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4"/>
          <p:cNvSpPr/>
          <p:nvPr/>
        </p:nvSpPr>
        <p:spPr>
          <a:xfrm>
            <a:off x="1066680" y="685800"/>
            <a:ext cx="693432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0066"/>
                </a:solidFill>
                <a:latin typeface="Times New Roman"/>
              </a:rPr>
              <a:t>Молодцы!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ff"/>
                </a:solidFill>
                <a:latin typeface="Times New Roman"/>
              </a:rPr>
              <a:t>Дальнейших успехов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5" descr="http://24mix.ru/images/x_6171595311.jpg"/>
          <p:cNvPicPr/>
          <p:nvPr/>
        </p:nvPicPr>
        <p:blipFill>
          <a:blip r:embed="rId1"/>
          <a:stretch/>
        </p:blipFill>
        <p:spPr>
          <a:xfrm>
            <a:off x="3657600" y="2057400"/>
            <a:ext cx="1752480" cy="1752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ED00039_"/>
          <p:cNvPicPr/>
          <p:nvPr/>
        </p:nvPicPr>
        <p:blipFill>
          <a:blip r:embed="rId1"/>
          <a:stretch/>
        </p:blipFill>
        <p:spPr>
          <a:xfrm>
            <a:off x="1523880" y="2743200"/>
            <a:ext cx="2743200" cy="233676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3"/>
          <p:cNvSpPr/>
          <p:nvPr/>
        </p:nvSpPr>
        <p:spPr>
          <a:xfrm>
            <a:off x="1066680" y="10666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Times New Roman"/>
              </a:rPr>
              <a:t>Запишите в тетрад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4800600" y="312408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Кокет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6"/>
          <p:cNvSpPr/>
          <p:nvPr/>
        </p:nvSpPr>
        <p:spPr>
          <a:xfrm>
            <a:off x="457200" y="609480"/>
            <a:ext cx="8305920" cy="23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Times New Roman"/>
              </a:rPr>
              <a:t>Кокетки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                                   могут быть расположе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838080" y="5791320"/>
            <a:ext cx="335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на полоч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9"/>
          <p:cNvSpPr/>
          <p:nvPr/>
        </p:nvSpPr>
        <p:spPr>
          <a:xfrm>
            <a:off x="5257800" y="57913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на спин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1" descr="koko_blouse">
            <a:hlinkClick r:id="rId1"/>
          </p:cNvPr>
          <p:cNvPicPr/>
          <p:nvPr/>
        </p:nvPicPr>
        <p:blipFill>
          <a:blip r:embed="rId2"/>
          <a:srcRect l="53957" t="0" r="0" b="50042"/>
          <a:stretch/>
        </p:blipFill>
        <p:spPr>
          <a:xfrm>
            <a:off x="915840" y="2362320"/>
            <a:ext cx="3151440" cy="33494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25" name="Picture 13" descr="koko_blouse">
            <a:hlinkClick r:id="rId3"/>
          </p:cNvPr>
          <p:cNvPicPr/>
          <p:nvPr/>
        </p:nvPicPr>
        <p:blipFill>
          <a:blip r:embed="rId4"/>
          <a:srcRect l="53957" t="51251" r="0" b="0"/>
          <a:stretch/>
        </p:blipFill>
        <p:spPr>
          <a:xfrm>
            <a:off x="5183280" y="2362320"/>
            <a:ext cx="3230640" cy="33526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5" descr="Картинка 18 из 1155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2057400"/>
            <a:ext cx="3657600" cy="39225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Картинка 15 из 1155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76920" y="2057400"/>
            <a:ext cx="3962160" cy="396252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sp>
        <p:nvSpPr>
          <p:cNvPr id="228" name="Text Box 8"/>
          <p:cNvSpPr/>
          <p:nvPr/>
        </p:nvSpPr>
        <p:spPr>
          <a:xfrm>
            <a:off x="457200" y="304920"/>
            <a:ext cx="8229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304920" y="45720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Times New Roman"/>
              </a:rPr>
              <a:t>Кокетки</a:t>
            </a: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могут быть расположе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914400" y="594360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на полотнищах юб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5" descr="Картинка 49 из 1161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2680" y="2744640"/>
            <a:ext cx="2390760" cy="2436840"/>
          </a:xfrm>
          <a:prstGeom prst="rect">
            <a:avLst/>
          </a:prstGeom>
          <a:ln w="25560">
            <a:solidFill>
              <a:srgbClr val="00ccff"/>
            </a:solidFill>
            <a:miter/>
          </a:ln>
        </p:spPr>
      </p:pic>
      <p:pic>
        <p:nvPicPr>
          <p:cNvPr id="232" name="Picture 9" descr="i?id=332367751-52-72"/>
          <p:cNvPicPr/>
          <p:nvPr/>
        </p:nvPicPr>
        <p:blipFill>
          <a:blip r:embed="rId3"/>
          <a:stretch/>
        </p:blipFill>
        <p:spPr>
          <a:xfrm>
            <a:off x="6246720" y="3962520"/>
            <a:ext cx="2355840" cy="2666880"/>
          </a:xfrm>
          <a:prstGeom prst="rect">
            <a:avLst/>
          </a:prstGeom>
          <a:ln w="25560">
            <a:solidFill>
              <a:srgbClr val="00ccff"/>
            </a:solidFill>
            <a:miter/>
          </a:ln>
        </p:spPr>
      </p:pic>
      <p:pic>
        <p:nvPicPr>
          <p:cNvPr id="233" name="Picture 15" descr="Картинка 20 из 11618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95880" y="1143000"/>
            <a:ext cx="2590920" cy="2590920"/>
          </a:xfrm>
          <a:prstGeom prst="rect">
            <a:avLst/>
          </a:prstGeom>
          <a:ln w="25560">
            <a:solidFill>
              <a:srgbClr val="00ccff"/>
            </a:solidFill>
            <a:miter/>
          </a:ln>
        </p:spPr>
      </p:pic>
      <p:sp>
        <p:nvSpPr>
          <p:cNvPr id="234" name="Text Box 16"/>
          <p:cNvSpPr/>
          <p:nvPr/>
        </p:nvSpPr>
        <p:spPr>
          <a:xfrm>
            <a:off x="2895480" y="762120"/>
            <a:ext cx="3124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Юбк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на кокет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9" descr="PETTISKIRTS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28600" y="1143000"/>
            <a:ext cx="2590920" cy="2577960"/>
          </a:xfrm>
          <a:prstGeom prst="rect">
            <a:avLst/>
          </a:prstGeom>
          <a:ln w="25560">
            <a:solidFill>
              <a:srgbClr val="00ccff"/>
            </a:solidFill>
            <a:miter/>
          </a:ln>
        </p:spPr>
      </p:pic>
      <p:pic>
        <p:nvPicPr>
          <p:cNvPr id="236" name="Picture 23" descr="569_0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57200" y="3886200"/>
            <a:ext cx="2325600" cy="2743200"/>
          </a:xfrm>
          <a:prstGeom prst="rect">
            <a:avLst/>
          </a:prstGeom>
          <a:ln w="25560">
            <a:solidFill>
              <a:srgbClr val="00ccff"/>
            </a:solidFill>
            <a:miter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5" descr="Построение выкройки трикотажных брюк | © RedCafe.ru"/>
          <p:cNvPicPr/>
          <p:nvPr/>
        </p:nvPicPr>
        <p:blipFill>
          <a:blip r:embed="rId1"/>
          <a:srcRect l="14969" t="0" r="4558" b="12000"/>
          <a:stretch/>
        </p:blipFill>
        <p:spPr>
          <a:xfrm>
            <a:off x="914400" y="1905120"/>
            <a:ext cx="3276720" cy="388620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pic>
        <p:nvPicPr>
          <p:cNvPr id="238" name="Picture 7" descr="Картинка 206 из 494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4120" y="1981080"/>
            <a:ext cx="3124080" cy="384516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sp>
        <p:nvSpPr>
          <p:cNvPr id="239" name="Text Box 8"/>
          <p:cNvSpPr/>
          <p:nvPr/>
        </p:nvSpPr>
        <p:spPr>
          <a:xfrm>
            <a:off x="609480" y="304920"/>
            <a:ext cx="7543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9"/>
          <p:cNvSpPr/>
          <p:nvPr/>
        </p:nvSpPr>
        <p:spPr>
          <a:xfrm>
            <a:off x="990720" y="5943600"/>
            <a:ext cx="693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на половинках брю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0"/>
          <p:cNvSpPr/>
          <p:nvPr/>
        </p:nvSpPr>
        <p:spPr>
          <a:xfrm>
            <a:off x="990720" y="380880"/>
            <a:ext cx="7162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Times New Roman"/>
              </a:rPr>
              <a:t>Кокетки</a:t>
            </a: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могут быть расположе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14"/>
          <p:cNvSpPr/>
          <p:nvPr/>
        </p:nvSpPr>
        <p:spPr>
          <a:xfrm>
            <a:off x="3276720" y="762120"/>
            <a:ext cx="2895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Брюки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на кокет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6" descr="2794-7360512194big_origina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24480" y="1143000"/>
            <a:ext cx="2514600" cy="3505320"/>
          </a:xfrm>
          <a:prstGeom prst="rect">
            <a:avLst/>
          </a:prstGeom>
          <a:ln w="25560">
            <a:solidFill>
              <a:srgbClr val="00ccff"/>
            </a:solidFill>
            <a:miter/>
          </a:ln>
        </p:spPr>
      </p:pic>
      <p:pic>
        <p:nvPicPr>
          <p:cNvPr id="244" name="Picture 18" descr="fw130422-red-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480" y="1143000"/>
            <a:ext cx="2514600" cy="3581280"/>
          </a:xfrm>
          <a:prstGeom prst="rect">
            <a:avLst/>
          </a:prstGeom>
          <a:ln w="25560">
            <a:solidFill>
              <a:srgbClr val="00ccff"/>
            </a:solidFill>
            <a:miter/>
          </a:ln>
        </p:spPr>
      </p:pic>
      <p:pic>
        <p:nvPicPr>
          <p:cNvPr id="245" name="Picture 20" descr="bruki_dlya_polnih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505320" y="2743200"/>
            <a:ext cx="2506680" cy="3505320"/>
          </a:xfrm>
          <a:prstGeom prst="rect">
            <a:avLst/>
          </a:prstGeom>
          <a:ln w="25560">
            <a:solidFill>
              <a:srgbClr val="00ccff"/>
            </a:solidFill>
            <a:miter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5" descr="Картинка 88 из 442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2320" y="2360520"/>
            <a:ext cx="2592360" cy="33544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47" name="Text Box 12"/>
          <p:cNvSpPr/>
          <p:nvPr/>
        </p:nvSpPr>
        <p:spPr>
          <a:xfrm>
            <a:off x="685800" y="609480"/>
            <a:ext cx="815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Times New Roman"/>
              </a:rPr>
              <a:t>Кокетки</a:t>
            </a: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                             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могут быть выполнены из тка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16" descr="catalog168big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00200" y="2362320"/>
            <a:ext cx="2514600" cy="33526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49" name="Text Box 18"/>
          <p:cNvSpPr/>
          <p:nvPr/>
        </p:nvSpPr>
        <p:spPr>
          <a:xfrm>
            <a:off x="1143000" y="579132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основн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9"/>
          <p:cNvSpPr/>
          <p:nvPr/>
        </p:nvSpPr>
        <p:spPr>
          <a:xfrm>
            <a:off x="4724280" y="5791320"/>
            <a:ext cx="37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отделочн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P162-2</dc:creator>
  <dc:description/>
  <dc:language>en-US</dc:language>
  <cp:lastModifiedBy>Man2 Black</cp:lastModifiedBy>
  <dcterms:modified xsi:type="dcterms:W3CDTF">2023-01-19T08:49:00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