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F2C6-BF92-434C-9FE3-8F6E749BD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88BF-8908-4EAD-BFDC-2EEBB4496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283-FC09-41CB-A2D3-96A9258C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1D4-0B3C-4B07-9F69-07B8B338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651-2DED-4003-B191-D283E740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853-2DE9-44E4-99E0-3B147A4B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5F3-75CE-451A-B445-FAFE581A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053-73F8-4158-AA97-314305C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80E-4143-457A-B035-6FD80F3A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456-4EDA-4C3D-9A31-577F7527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BD2-4C63-4A14-9D37-DD97BA7B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FAE-1089-4EB2-AA43-CA9D53D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89C-052A-4C95-A0DC-CB50F6B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1FA-E534-423A-92A3-95D4AB2B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9073-79E0-4CDC-B499-5E0C29DDC8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21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1925640"/>
            <a:ext cx="67914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Эксперимент 1 « Как мы измеряли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длину письменного сто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57160" y="2000160"/>
          <a:ext cx="7500960" cy="3808440"/>
        </p:xfrm>
        <a:graphic>
          <a:graphicData uri="http://schemas.openxmlformats.org/drawingml/2006/table">
            <a:tbl>
              <a:tblPr/>
              <a:tblGrid>
                <a:gridCol w="2092320"/>
                <a:gridCol w="2308320"/>
                <a:gridCol w="1690560"/>
                <a:gridCol w="1409760"/>
              </a:tblGrid>
              <a:tr h="16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лина стола ( в пядя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лина сто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 в сантиметра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схожде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е с точной длиной, (с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рший б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Эксперимент 2 «Как мы переводили локти в сантиметр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28800" y="2214720"/>
          <a:ext cx="7143480" cy="3143160"/>
        </p:xfrm>
        <a:graphic>
          <a:graphicData uri="http://schemas.openxmlformats.org/drawingml/2006/table">
            <a:tbl>
              <a:tblPr/>
              <a:tblGrid>
                <a:gridCol w="3571920"/>
                <a:gridCol w="3571560"/>
              </a:tblGrid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лина локтя  ( в сантиметрах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рший б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РИЧЕСКАЯ СИСТЕМА 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Изображение 007"/>
          <p:cNvPicPr/>
          <p:nvPr/>
        </p:nvPicPr>
        <p:blipFill>
          <a:blip r:embed="rId1"/>
          <a:stretch/>
        </p:blipFill>
        <p:spPr>
          <a:xfrm>
            <a:off x="900000" y="1314360"/>
            <a:ext cx="7632720" cy="55548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3"/>
          <p:cNvSpPr/>
          <p:nvPr/>
        </p:nvSpPr>
        <p:spPr>
          <a:xfrm>
            <a:off x="3564000" y="4724280"/>
            <a:ext cx="503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7"/>
          <p:cNvSpPr/>
          <p:nvPr/>
        </p:nvSpPr>
        <p:spPr>
          <a:xfrm>
            <a:off x="3564000" y="5805360"/>
            <a:ext cx="53964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Неметрические единицы длины, используемые в современном ми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морском деле мерой длины является морская ми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 миля = 1 км 852 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строномии для измерения очень больших расстояний за единицу измерения принимают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етовой год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путь, который свет проходит в течение одного го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аметр резьбы труб измеряют в дюйм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 дюйм = 25,4 м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468360" y="333360"/>
            <a:ext cx="849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РЫ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611280" y="105264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ерста = 500 саженей = 10 цепей = 1,066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ажень = 3 аршина =7 фут =48 вершков = 2,1336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ая сажень = 2,4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ховая сажень = 1,76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аршин = 4 четверти (пяди) = 16 вершков = 28 дюймов = 71,1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локоть =4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7" descr=""/>
          <p:cNvPicPr/>
          <p:nvPr/>
        </p:nvPicPr>
        <p:blipFill>
          <a:blip r:embed="rId1"/>
          <a:stretch/>
        </p:blipFill>
        <p:spPr>
          <a:xfrm>
            <a:off x="900000" y="2884320"/>
            <a:ext cx="3311640" cy="35625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"/>
          <p:cNvPicPr/>
          <p:nvPr/>
        </p:nvPicPr>
        <p:blipFill>
          <a:blip r:embed="rId2"/>
          <a:stretch/>
        </p:blipFill>
        <p:spPr>
          <a:xfrm>
            <a:off x="4932360" y="2637000"/>
            <a:ext cx="2362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335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mera_chel.jpg"/>
          <p:cNvPicPr/>
          <p:nvPr/>
        </p:nvPicPr>
        <p:blipFill>
          <a:blip r:embed="rId1"/>
          <a:stretch/>
        </p:blipFill>
        <p:spPr>
          <a:xfrm>
            <a:off x="2050920" y="549360"/>
            <a:ext cx="48484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4000" y="33336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старинные единицы измерения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и обосновать неудобство их применения в современном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ть представление о метрической системе мер и неметрических единицах измерения длины, используемых современном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ть навыки перевода одних единиц измерения в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буклет-справочник «Единицы измерения дл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мультимедийную презентацию «Единицы измерения дл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, систематизировать и обобщить полученные результаты исследования для выступления перед одноклассниками и учениками младши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МЕРЯЛИ НА РУСИ В СТАР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485748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ЯДЬ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– ЭТО РАССТОЯНИЕ МЕЖДУ РАСТЯНУТЫМИ БОЛЬШИМ И УКАЗАТЕЛЬНЫМ ПАЛЬЦАМ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ЛИНА ПЯДИ БЫЛА ОТ 17 ДО 22 СМ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Изображение 003"/>
          <p:cNvPicPr/>
          <p:nvPr/>
        </p:nvPicPr>
        <p:blipFill>
          <a:blip r:embed="rId1"/>
          <a:stretch/>
        </p:blipFill>
        <p:spPr>
          <a:xfrm>
            <a:off x="1042920" y="1341360"/>
            <a:ext cx="65134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МЕРЯЛИ НА РУСИ В СТАР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120" y="542880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ЛОКОТЬ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– ЭТО ДЛИНА РУКИ ОТ ЛОКТЕВОГО СГИБА ДО КОНЧИКА СРЕДНЕГО ПАЛЬЦ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ЫЧНО ЛОКОТЬ ИМЕЛ ДЛИНУ ОТ 42 ДО 54 СМ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Рисунок4"/>
          <p:cNvPicPr/>
          <p:nvPr/>
        </p:nvPicPr>
        <p:blipFill>
          <a:blip r:embed="rId1"/>
          <a:stretch/>
        </p:blipFill>
        <p:spPr>
          <a:xfrm>
            <a:off x="1785960" y="1071720"/>
            <a:ext cx="54388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МЕРЯЛИ НА РУСИ В СТАР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760" y="1143000"/>
            <a:ext cx="3657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ЯМАЯ САЖЕН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О РАССТОЯНИЕ МЕЖДУ КОНЧИКАМИ ПАЛЬЦЕВ ВЫТЯНУТЫХ В СТОРОНЫ РУ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НА ПРЯМОЙ САЖЕНИ ПРИМЕРНО 153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САЯ САЖЕН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О РАССТОЯНИЕ МЕЖДУ ПАЛЬЦАМИ ВЫТЯНУТОЙ ВВЕРХ ПРАВОЙ РУКИ И НОСКОМ ОТСТАВЛЕННОЙ ЛЕВОЙ НО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НА КОСОЙ САЖЕНИ ОКОЛО 216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Изображение 001"/>
          <p:cNvPicPr/>
          <p:nvPr/>
        </p:nvPicPr>
        <p:blipFill>
          <a:blip r:embed="rId1"/>
          <a:srcRect l="6615" t="6060" r="6250" b="3000"/>
          <a:stretch/>
        </p:blipFill>
        <p:spPr>
          <a:xfrm>
            <a:off x="285840" y="1714680"/>
            <a:ext cx="50720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МЕРЯЛИ НА РУСИ В СТАР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РШОК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ДЛИНА УКАЗАТЕЛЬНОГО ПАЛЬ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ЛОВ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ГОРШКА ТРИ ВЕР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И ПЯДЕЙ ВО ЛБ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АЯ САЖЕНЬ В ПЛЕЧ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 С НОГОТОК, А БОРОДА С ЛОКО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Изображение 002"/>
          <p:cNvPicPr/>
          <p:nvPr/>
        </p:nvPicPr>
        <p:blipFill>
          <a:blip r:embed="rId1"/>
          <a:srcRect l="0" t="0" r="6454" b="0"/>
          <a:stretch/>
        </p:blipFill>
        <p:spPr>
          <a:xfrm>
            <a:off x="-500040" y="1500120"/>
            <a:ext cx="5694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РИННЫЕ АНГЛИЙСКИЕ МЕРЫ ДЛ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4642920"/>
            <a:ext cx="914400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Р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ЛИНА МЕЧА КОРОЛЯ ГЕНРИХА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ЛИНА СТОПЫ ИЛИ ОДНА ТРЕТЬ ЯР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Рисунок3"/>
          <p:cNvPicPr/>
          <p:nvPr/>
        </p:nvPicPr>
        <p:blipFill>
          <a:blip r:embed="rId1"/>
          <a:stretch/>
        </p:blipFill>
        <p:spPr>
          <a:xfrm>
            <a:off x="428760" y="1500120"/>
            <a:ext cx="350028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Рисунок2"/>
          <p:cNvPicPr/>
          <p:nvPr/>
        </p:nvPicPr>
        <p:blipFill>
          <a:blip r:embed="rId2"/>
          <a:stretch/>
        </p:blipFill>
        <p:spPr>
          <a:xfrm>
            <a:off x="5357880" y="1571760"/>
            <a:ext cx="3467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РИННЫЕ АНГЛИЙСКИЕ МЕРЫ ДЛ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29080" y="16002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ЮЙ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– ГОЛЛАНДСКОЕ СЛОВО И ОЗНАЧАЕ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 МИЗИНЕЦ»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ИНА ДЮЙМА В АНГЛИИ БЫЛА УТОЧНЕНА И СТАЛА ОПРЕДЕЛЯТЬСЯ КАК ДЛИНА ТРЕХ ЯЧМЕННЫХ ЗЁРЕН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 САЖЕНЬ=3 АРШИНА=12 ПЯДЕЙ=48 ВЕРШКОВ=7 ФУТОВ=84 ДЮЙ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Рисунок1"/>
          <p:cNvPicPr/>
          <p:nvPr/>
        </p:nvPicPr>
        <p:blipFill>
          <a:blip r:embed="rId1"/>
          <a:stretch/>
        </p:blipFill>
        <p:spPr>
          <a:xfrm>
            <a:off x="357120" y="2071800"/>
            <a:ext cx="4173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3:27:57Z</dcterms:created>
  <dc:creator>Ученик</dc:creator>
  <dc:description/>
  <dc:language>en-US</dc:language>
  <cp:lastModifiedBy>kabinet39</cp:lastModifiedBy>
  <dcterms:modified xsi:type="dcterms:W3CDTF">2017-04-06T07:05:22Z</dcterms:modified>
  <cp:revision>32</cp:revision>
  <dc:subject/>
  <dc:title>Слайд 1</dc:title>
</cp:coreProperties>
</file>