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812-05E4-440C-BF8C-6D2C46F32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03F3-5066-4788-8F44-75452047D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61E-74B3-43D2-823A-6C5B5A99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8AB-9538-4D9E-AC7A-3A66CC0B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6BA-47DF-40BC-8CD4-3639852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664-4502-48FF-9F50-F65DA2BA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2CD-C766-4464-B64E-E1D70D6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0E5-8188-4B13-B7D7-B36516D4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003-A3F0-45BD-9154-CF4B520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E85-61C3-4C55-AA17-D95D381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A37-58AD-474C-92E7-868394D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2D0-D9F3-4D70-A2F1-A462C17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C92-5AC4-46A4-8AC1-342AF38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69B-4AF2-4A04-961B-34197D7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E29-13A1-4CF5-B780-B291E3EDF6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21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1925640"/>
            <a:ext cx="67914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Эксперимент 1 « Как мы измеряли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длину письменного сто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57160" y="2000160"/>
          <a:ext cx="7500960" cy="3808440"/>
        </p:xfrm>
        <a:graphic>
          <a:graphicData uri="http://schemas.openxmlformats.org/drawingml/2006/table">
            <a:tbl>
              <a:tblPr/>
              <a:tblGrid>
                <a:gridCol w="2092320"/>
                <a:gridCol w="2308320"/>
                <a:gridCol w="1690560"/>
                <a:gridCol w="1409760"/>
              </a:tblGrid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стола ( в пядя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сто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 в сантиметра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схожде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е с точной длиной, (с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рший 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Эксперимент 2 «Как мы переводили локти в сантиметр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28800" y="2214720"/>
          <a:ext cx="7143480" cy="3143160"/>
        </p:xfrm>
        <a:graphic>
          <a:graphicData uri="http://schemas.openxmlformats.org/drawingml/2006/table">
            <a:tbl>
              <a:tblPr/>
              <a:tblGrid>
                <a:gridCol w="3571920"/>
                <a:gridCol w="3571560"/>
              </a:tblGrid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лина локтя  ( в сантиметрах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наста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тарший б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7907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РИЧЕСКАЯ СИСТЕМА 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Изображение 007"/>
          <p:cNvPicPr/>
          <p:nvPr/>
        </p:nvPicPr>
        <p:blipFill>
          <a:blip r:embed="rId1"/>
          <a:stretch/>
        </p:blipFill>
        <p:spPr>
          <a:xfrm>
            <a:off x="900000" y="1314360"/>
            <a:ext cx="7632720" cy="55548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3"/>
          <p:cNvSpPr/>
          <p:nvPr/>
        </p:nvSpPr>
        <p:spPr>
          <a:xfrm>
            <a:off x="3564000" y="4724280"/>
            <a:ext cx="503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3564000" y="5805360"/>
            <a:ext cx="53964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Неметрические единицы длины, используемые в современном ми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орском деле мерой длины является морская ми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миля = 1 км 852 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строномии для измерения очень больших расстояний за единицу измерения принимают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етовой год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путь, который свет проходит в течение одного го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аметр резьбы труб измеряют в дюйм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 дюйм = 25,4 м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68360" y="333360"/>
            <a:ext cx="849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Ы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611280" y="1052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ерста = 500 саженей = 10 цепей = 1,066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ажень = 3 аршина =7 фут =48 вершков = 2,1336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ая сажень = 2,4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ховая сажень = 1,76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ршин = 4 четверти (пяди) = 16 вершков = 28 дюймов = 71,1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локоть =4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7" descr=""/>
          <p:cNvPicPr/>
          <p:nvPr/>
        </p:nvPicPr>
        <p:blipFill>
          <a:blip r:embed="rId1"/>
          <a:stretch/>
        </p:blipFill>
        <p:spPr>
          <a:xfrm>
            <a:off x="900000" y="2884320"/>
            <a:ext cx="3311640" cy="3562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2362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mera_chel.jpg"/>
          <p:cNvPicPr/>
          <p:nvPr/>
        </p:nvPicPr>
        <p:blipFill>
          <a:blip r:embed="rId1"/>
          <a:stretch/>
        </p:blipFill>
        <p:spPr>
          <a:xfrm>
            <a:off x="2050920" y="549360"/>
            <a:ext cx="48484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4000" y="3333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старинные единицы измерения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и обосновать неудобство их применения в современ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представление о метрической системе мер и неметрических единицах измерения длины, используемых современно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навыки перевода одних единиц измерения в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буклет-справочник «Единицы измерения д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мультимедийную презентацию «Единицы измерения д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, систематизировать и обобщить полученные результаты исследования для выступления перед одноклассниками и учениками младши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85748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ЯДЬ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– ЭТО РАССТОЯНИЕ МЕЖДУ РАСТЯНУТЫМИ БОЛЬШИМ И УКАЗАТЕЛЬНЫМ ПАЛЬЦАМ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ДЛИНА ПЯДИ БЫЛА ОТ 17 ДО 22 С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Изображение 003"/>
          <p:cNvPicPr/>
          <p:nvPr/>
        </p:nvPicPr>
        <p:blipFill>
          <a:blip r:embed="rId1"/>
          <a:stretch/>
        </p:blipFill>
        <p:spPr>
          <a:xfrm>
            <a:off x="1042920" y="1341360"/>
            <a:ext cx="65134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120" y="542880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ЛОКОТЬ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– ЭТО ДЛИНА РУКИ ОТ ЛОКТЕВОГО СГИБА ДО КОНЧИКА СРЕДНЕГО ПАЛЬ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ЫЧНО ЛОКОТЬ ИМЕЛ ДЛИНУ ОТ 42 ДО 54 СМ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Рисунок4"/>
          <p:cNvPicPr/>
          <p:nvPr/>
        </p:nvPicPr>
        <p:blipFill>
          <a:blip r:embed="rId1"/>
          <a:stretch/>
        </p:blipFill>
        <p:spPr>
          <a:xfrm>
            <a:off x="1785960" y="1071720"/>
            <a:ext cx="5438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760" y="1143000"/>
            <a:ext cx="3657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РАССТОЯНИЕ МЕЖДУ КОНЧИКАМИ ПАЛЬЦЕВ ВЫТЯНУТЫХ В СТОРОНЫ РУ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ПРЯМОЙ САЖЕНИ ПРИМЕРНО 153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САЯ САЖЕН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РАССТОЯНИЕ МЕЖДУ ПАЛЬЦАМИ ВЫТЯНУТОЙ ВВЕРХ ПРАВОЙ РУКИ И НОСКОМ ОТСТАВЛЕННОЙ ЛЕВОЙ НО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КОСОЙ САЖЕНИ ОКОЛО 21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Изображение 001"/>
          <p:cNvPicPr/>
          <p:nvPr/>
        </p:nvPicPr>
        <p:blipFill>
          <a:blip r:embed="rId1"/>
          <a:srcRect l="6615" t="6060" r="6250" b="3000"/>
          <a:stretch/>
        </p:blipFill>
        <p:spPr>
          <a:xfrm>
            <a:off x="285840" y="1714680"/>
            <a:ext cx="5072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МЕРЯЛИ НА РУСИ В СТАРИ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РШОК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ДЛИНА УКАЗАТЕЛЬНОГО ПАЛЬ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ГОРШКА ТРИ ВЕР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И ПЯДЕЙ ВО Л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САЯ САЖЕНЬ В ПЛЕЧ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 С НОГОТОК, А БОРОДА С ЛОК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Изображение 002"/>
          <p:cNvPicPr/>
          <p:nvPr/>
        </p:nvPicPr>
        <p:blipFill>
          <a:blip r:embed="rId1"/>
          <a:srcRect l="0" t="0" r="6454" b="0"/>
          <a:stretch/>
        </p:blipFill>
        <p:spPr>
          <a:xfrm>
            <a:off x="-500040" y="1500120"/>
            <a:ext cx="5694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РИННЫЕ АНГЛИЙСКИЕ МЕРЫ ДЛ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4642920"/>
            <a:ext cx="91440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Р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ЛИНА МЕЧА КОРОЛЯ ГЕНРИХА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ЛИНА СТОПЫ ИЛИ ОДНА ТРЕТЬ Я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Рисунок3"/>
          <p:cNvPicPr/>
          <p:nvPr/>
        </p:nvPicPr>
        <p:blipFill>
          <a:blip r:embed="rId1"/>
          <a:stretch/>
        </p:blipFill>
        <p:spPr>
          <a:xfrm>
            <a:off x="428760" y="1500120"/>
            <a:ext cx="350028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Рисунок2"/>
          <p:cNvPicPr/>
          <p:nvPr/>
        </p:nvPicPr>
        <p:blipFill>
          <a:blip r:embed="rId2"/>
          <a:stretch/>
        </p:blipFill>
        <p:spPr>
          <a:xfrm>
            <a:off x="5357880" y="1571760"/>
            <a:ext cx="3467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РИННЫЕ АНГЛИЙСКИЕ МЕРЫ ДЛ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2908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ЮЙ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ГОЛЛАНДСКОЕ СЛОВО И ОЗНАЧАЕ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 МИЗИНЕЦ»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ИНА ДЮЙМА В АНГЛИИ БЫЛА УТОЧНЕНА И СТАЛА ОПРЕДЕЛЯТЬСЯ КАК ДЛИНА ТРЕХ ЯЧМЕННЫХ ЗЁРЕН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 САЖЕНЬ=3 АРШИНА=12 ПЯДЕЙ=48 ВЕРШКОВ=7 ФУТОВ=84 ДЮЙ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Рисунок1"/>
          <p:cNvPicPr/>
          <p:nvPr/>
        </p:nvPicPr>
        <p:blipFill>
          <a:blip r:embed="rId1"/>
          <a:stretch/>
        </p:blipFill>
        <p:spPr>
          <a:xfrm>
            <a:off x="357120" y="2071800"/>
            <a:ext cx="4173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3:27:57Z</dcterms:created>
  <dc:creator>Ученик</dc:creator>
  <dc:description/>
  <dc:language>en-US</dc:language>
  <cp:lastModifiedBy>kabinet39</cp:lastModifiedBy>
  <dcterms:modified xsi:type="dcterms:W3CDTF">2017-04-06T07:05:22Z</dcterms:modified>
  <cp:revision>32</cp:revision>
  <dc:subject/>
  <dc:title>Слайд 1</dc:title>
</cp:coreProperties>
</file>