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9F8-09F2-473D-9ED0-B39C894C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349-2939-4A26-B122-0FE0D70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0D0-CB9B-4972-B78A-DDD8BC99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560-44EC-4E99-9150-016A49DD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A32-B765-47F1-AD29-0FD94AD4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D53-FC5D-4117-AE58-4A74B28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476-724F-4316-947F-C0E41AC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1E4-AC5E-4560-9E5E-FB3CA71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D71-590B-4BD2-9AD2-52ACD08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783-8C33-43EA-B2CA-253C825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B18-6A7C-402B-BE5C-2808344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5A0-5E08-4F47-9438-54B2D4D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66A-C592-4552-8593-0E50D1CE1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nezabudka\Desktop\К работе\2 - копия.png"/>
          <p:cNvPicPr/>
          <p:nvPr/>
        </p:nvPicPr>
        <p:blipFill>
          <a:blip r:embed="rId1"/>
          <a:stretch/>
        </p:blipFill>
        <p:spPr>
          <a:xfrm>
            <a:off x="250920" y="0"/>
            <a:ext cx="792144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532944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Грибы съедобные и несъедобные </a:t>
            </a:r>
            <a:br>
              <a:rPr sz="4400"/>
            </a:b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067280" y="1413000"/>
            <a:ext cx="475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Не надо собирать старые съедобные грибы. В них может накопиться опасный для человека 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Нельзя разрывать и раскидывать лесную подст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Грибы нужно аккуратно срезать ножом или выкручивать из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ибы в нашем крае в основном растут летом и осенью. Их можно встретить в лесу, на деревьях и в п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nezabudka\Desktop\Аттестация\К работе\21 опята.jpeg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83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ут преимущественно на пн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Подосинов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седствуют не только с осиной, но и с сосной, 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6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есъедобные грибы, встречающиеся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nezabudka\Desktop\Аттестация\К работе\22 ложные опята.jpeg"/>
          <p:cNvPicPr/>
          <p:nvPr/>
        </p:nvPicPr>
        <p:blipFill>
          <a:blip r:embed="rId1"/>
          <a:stretch/>
        </p:blipFill>
        <p:spPr>
          <a:xfrm>
            <a:off x="46836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nezabudka\Desktop\Аттестация\К работе\22 мухомор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ezabudka\Desktop\Аттестация\К работе\21а.jpeg"/>
          <p:cNvPicPr/>
          <p:nvPr/>
        </p:nvPicPr>
        <p:blipFill>
          <a:blip r:embed="rId3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1600200"/>
            <a:ext cx="42447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При отравлении грибами нужно срочно промыть желудок и вызвать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00720" y="1483920"/>
            <a:ext cx="4186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381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0:12:00Z</dcterms:created>
  <dc:creator>Admin</dc:creator>
  <dc:description/>
  <dc:language>en-US</dc:language>
  <cp:lastModifiedBy>user</cp:lastModifiedBy>
  <dcterms:modified xsi:type="dcterms:W3CDTF">2023-01-05T10:35:34Z</dcterms:modified>
  <cp:revision>50</cp:revision>
  <dc:subject/>
  <dc:title>Слайд 1</dc:title>
</cp:coreProperties>
</file>