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5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BDFF-0563-40FF-AC0F-D908E8EFE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B22D-98D8-4F96-A6E6-E8084B8E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0C39-5B85-45C2-8F26-D8355E5B7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6191-96AA-4797-9FE1-06AC35C87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C7B6-9FD9-4D94-924C-6901E575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7DB9-4A25-419A-AF14-CF471F65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5499-9705-4828-9E75-F1C52B4A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6407-967A-4CB6-81CA-6B5C6F61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CE81-7D33-4B04-A1D6-28B77BDB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DEDC-8BF0-4D4A-89C7-C2C7A749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8EEE-6017-4002-A813-0FB6EACC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68C0-877D-4F37-8BB7-08B12406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62E7-7973-4BD2-9861-733A3478EE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Users\nezabudka\Desktop\К работе\2 - копия.png"/>
          <p:cNvPicPr/>
          <p:nvPr/>
        </p:nvPicPr>
        <p:blipFill>
          <a:blip r:embed="rId1"/>
          <a:stretch/>
        </p:blipFill>
        <p:spPr>
          <a:xfrm>
            <a:off x="250920" y="0"/>
            <a:ext cx="7921440" cy="6597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50920" y="907560"/>
            <a:ext cx="532944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02b"/>
                </a:solidFill>
                <a:latin typeface="Comic Sans MS"/>
              </a:rPr>
              <a:t>Грибы съедобные и несъедобные </a:t>
            </a:r>
            <a:br>
              <a:rPr sz="4400"/>
            </a:br>
            <a:r>
              <a:rPr b="1" lang="ru-RU" sz="4400" spc="-1" strike="noStrike">
                <a:solidFill>
                  <a:srgbClr val="00602b"/>
                </a:solidFill>
                <a:latin typeface="Comic Sans MS"/>
              </a:rPr>
              <a:t>Правила сбора гриб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omic Sans MS"/>
              </a:rPr>
              <a:t>Правила сбора гриб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3622680" cy="4176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067280" y="1413000"/>
            <a:ext cx="47527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Собирай только те грибы, которые хорошо знае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omic Sans MS"/>
              </a:rPr>
              <a:t>Не надо собирать старые съедобные грибы. В них может накопиться опасный для человека я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omic Sans MS"/>
              </a:rPr>
              <a:t>Нельзя разрывать и раскидывать лесную подстил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mic Sans MS"/>
              </a:rPr>
              <a:t>Грибы нужно аккуратно срезать ножом или выкручивать из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9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20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Грибы в нашем крае в основном растут летом и осенью. Их можно встретить в лесу, на деревьях и в пол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omic Sans MS"/>
              </a:rPr>
              <a:t>Съедобные грибы нашего кр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Users\nezabudka\Desktop\Аттестация\К работе\21 опята.jpeg"/>
          <p:cNvPicPr/>
          <p:nvPr/>
        </p:nvPicPr>
        <p:blipFill>
          <a:blip r:embed="rId1"/>
          <a:stretch/>
        </p:blipFill>
        <p:spPr>
          <a:xfrm>
            <a:off x="539640" y="1916280"/>
            <a:ext cx="3961080" cy="3838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Comic Sans MS"/>
              </a:rPr>
              <a:t>Опя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Растут преимущественно на пня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omic Sans MS"/>
              </a:rPr>
              <a:t>Съедобные грибы нашего кр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2205000"/>
            <a:ext cx="40384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Comic Sans MS"/>
              </a:rPr>
              <a:t>Белый гри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Растет у дубов и ел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rcRect l="12737" t="-931" r="7030" b="0"/>
          <a:stretch/>
        </p:blipFill>
        <p:spPr>
          <a:xfrm>
            <a:off x="468360" y="2205000"/>
            <a:ext cx="38671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omic Sans MS"/>
              </a:rPr>
              <a:t>Съедобные грибы нашего кр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427280" y="2205000"/>
            <a:ext cx="425916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Comic Sans MS"/>
              </a:rPr>
              <a:t>Подосинов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Соседствуют не только с осиной, но и с сосной, ель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376236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omic Sans MS"/>
              </a:rPr>
              <a:t>Несъедобные грибы, встречающиеся в нашем кра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Users\nezabudka\Desktop\Аттестация\К работе\22 ложные опята.jpeg"/>
          <p:cNvPicPr/>
          <p:nvPr/>
        </p:nvPicPr>
        <p:blipFill>
          <a:blip r:embed="rId1"/>
          <a:stretch/>
        </p:blipFill>
        <p:spPr>
          <a:xfrm>
            <a:off x="468360" y="4005360"/>
            <a:ext cx="2590920" cy="2097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nezabudka\Desktop\Аттестация\К работе\22 мухомор.jpeg"/>
          <p:cNvPicPr/>
          <p:nvPr/>
        </p:nvPicPr>
        <p:blipFill>
          <a:blip r:embed="rId2"/>
          <a:stretch/>
        </p:blipFill>
        <p:spPr>
          <a:xfrm>
            <a:off x="6084720" y="4221000"/>
            <a:ext cx="2570400" cy="1872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Users\nezabudka\Desktop\Аттестация\К работе\21а.jpeg"/>
          <p:cNvPicPr/>
          <p:nvPr/>
        </p:nvPicPr>
        <p:blipFill>
          <a:blip r:embed="rId3"/>
          <a:stretch/>
        </p:blipFill>
        <p:spPr>
          <a:xfrm>
            <a:off x="3348000" y="2997360"/>
            <a:ext cx="2443320" cy="3319200"/>
          </a:xfrm>
          <a:prstGeom prst="rect">
            <a:avLst/>
          </a:prstGeom>
          <a:ln w="0">
            <a:noFill/>
          </a:ln>
        </p:spPr>
      </p:pic>
      <p:sp>
        <p:nvSpPr>
          <p:cNvPr id="60" name="TextBox 17"/>
          <p:cNvSpPr/>
          <p:nvPr/>
        </p:nvSpPr>
        <p:spPr>
          <a:xfrm>
            <a:off x="250920" y="321300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Ложные опя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8"/>
          <p:cNvSpPr/>
          <p:nvPr/>
        </p:nvSpPr>
        <p:spPr>
          <a:xfrm>
            <a:off x="3635280" y="1773360"/>
            <a:ext cx="187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Блед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пога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9"/>
          <p:cNvSpPr/>
          <p:nvPr/>
        </p:nvSpPr>
        <p:spPr>
          <a:xfrm>
            <a:off x="6300720" y="335772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Мухом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omic Sans MS"/>
              </a:rPr>
              <a:t>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50560" y="1600200"/>
            <a:ext cx="424476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99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336699"/>
                </a:solidFill>
                <a:latin typeface="Comic Sans MS"/>
              </a:rPr>
              <a:t>При отравлении грибами нужно срочно промыть желудок и вызвать врач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00720" y="1483920"/>
            <a:ext cx="4186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4859280" y="3141720"/>
            <a:ext cx="38149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20:12:00Z</dcterms:created>
  <dc:creator>Admin</dc:creator>
  <dc:description/>
  <dc:language>en-US</dc:language>
  <cp:lastModifiedBy>user</cp:lastModifiedBy>
  <dcterms:modified xsi:type="dcterms:W3CDTF">2023-01-05T10:35:34Z</dcterms:modified>
  <cp:revision>50</cp:revision>
  <dc:subject/>
  <dc:title>Слайд 1</dc:title>
</cp:coreProperties>
</file>