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8.jpeg" ContentType="image/jpeg"/>
  <Override PartName="/ppt/media/image16.png" ContentType="image/png"/>
  <Override PartName="/ppt/media/image15.jpeg" ContentType="image/jpeg"/>
  <Override PartName="/ppt/media/image14.png" ContentType="image/png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4400" spc="-1" strike="noStrike">
              <a:solidFill>
                <a:srgbClr val="f10d0d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6E895-462D-4F96-9A0F-C14493E7AEC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6A87D-2100-4030-9F88-6B4E9FB2350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10d0d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ADDEB-A8DB-4363-9F12-EB3179F06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F9514-0AA2-4AB8-8213-8A557DC02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49C0C-BAC4-4716-948C-510AEE922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DBB03-420F-4150-BC5B-B881D25ED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FFC29-9D8A-4E61-B281-3C03BBEEC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7F2B4-2BF2-4746-BCBF-10887FE52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06773-F98A-4606-8ADC-9B7DA223E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9EC10-57CA-417C-A265-8876C7EDB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E6CA6-71E2-4AB9-9ECB-FA2FAE80F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3AA69-D285-4DB4-9734-70216E6AD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B5EEE-AA35-43AF-BBD9-59690C511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65E75-99DD-4D15-9C8C-DFC115CCC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01141-9644-4F8E-9E5E-4991F584E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5DB46-5A21-48CE-A983-FE45DB976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1BB3F-1D4B-4BEC-A3C3-73708E4C0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C9E64-CFE8-4C35-9D63-5B72FE7D9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9F8A5-2956-47D6-9282-6EC252EE2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CE138-2D30-41AA-AF6C-9D417A058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37D7F-4783-4C17-8D05-7CFC21F51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DA45A-E020-498F-9B43-D9A60CEB9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CDBF1-6700-4CBD-834B-B4DE48F93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F0D58-E190-4CCC-AD50-6C6B06B95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F5620-31BC-49BE-A751-8147E828F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0740B-95AF-4A4E-BDA7-1E3F23813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10d0d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10d0d"/>
                </a:solidFill>
                <a:latin typeface="Times New Roman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10d0d"/>
                </a:solidFill>
                <a:latin typeface="Times New Roman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4400" spc="-1" strike="noStrike">
                        <a:solidFill>
                          <a:srgbClr val="f10d0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4400" spc="-1" strike="noStrike">
                        <a:solidFill>
                          <a:srgbClr val="f10d0d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spcBef>
                        <a:spcPts val="1100"/>
                      </a:spcBef>
                      <a:buClr>
                        <a:srgbClr val="f10d0d"/>
                      </a:buClr>
                      <a:buFont typeface="Times New Roman"/>
                      <a:buChar char="•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4400" spc="-1" strike="noStrike">
                      <a:solidFill>
                        <a:srgbClr val="f10d0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7720" y="69120"/>
                    <a:ext cx="4284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endParaRPr b="1" lang="en-US" sz="4400" spc="-1" strike="noStrike">
                      <a:solidFill>
                        <a:srgbClr val="f10d0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8640" y="56520"/>
                    <a:ext cx="64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1" lang="en-US" sz="4400" spc="-1" strike="noStrike">
                      <a:solidFill>
                        <a:srgbClr val="f10d0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8120" y="106560"/>
                    <a:ext cx="23760" cy="6192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120" bIns="15120" anchor="ctr">
                    <a:noAutofit/>
                  </a:bodyPr>
                  <a:p>
                    <a:endParaRPr b="1" lang="en-US" sz="4400" spc="-1" strike="noStrike">
                      <a:solidFill>
                        <a:srgbClr val="f10d0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1" lang="en-US" sz="4400" spc="-1" strike="noStrike">
                      <a:solidFill>
                        <a:srgbClr val="f10d0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1" lang="en-US" sz="4400" spc="-1" strike="noStrike">
                      <a:solidFill>
                        <a:srgbClr val="f10d0d"/>
                      </a:solidFill>
                      <a:latin typeface="Times New Roman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4400" spc="-1" strike="noStrike">
                <a:solidFill>
                  <a:srgbClr val="f10d0d"/>
                </a:solidFill>
                <a:latin typeface="Times New Roman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4400" spc="-1" strike="noStrike">
                <a:solidFill>
                  <a:srgbClr val="f10d0d"/>
                </a:solidFill>
                <a:latin typeface="Times New Roman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4400" spc="-1" strike="noStrike">
                <a:solidFill>
                  <a:srgbClr val="f10d0d"/>
                </a:solidFill>
                <a:latin typeface="Times New Roman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4400" spc="-1" strike="noStrike">
                <a:solidFill>
                  <a:srgbClr val="f10d0d"/>
                </a:solidFill>
                <a:latin typeface="Times New Roman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4400" spc="-1" strike="noStrike">
                <a:solidFill>
                  <a:srgbClr val="f10d0d"/>
                </a:solidFill>
                <a:latin typeface="Times New Roman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4400" spc="-1" strike="noStrike">
                <a:solidFill>
                  <a:srgbClr val="f10d0d"/>
                </a:solidFill>
                <a:latin typeface="Times New Roman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4400" spc="-1" strike="noStrike">
                <a:solidFill>
                  <a:srgbClr val="f10d0d"/>
                </a:solidFill>
                <a:latin typeface="Times New Roman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4400" spc="-1" strike="noStrike">
                <a:solidFill>
                  <a:srgbClr val="f10d0d"/>
                </a:solidFill>
                <a:latin typeface="Times New Roman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10d0d"/>
                </a:solidFill>
                <a:latin typeface="Times New Roman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4400" spc="-1" strike="noStrike">
                <a:solidFill>
                  <a:srgbClr val="f10d0d"/>
                </a:solidFill>
                <a:latin typeface="Times New Roman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1" lang="en-US" sz="4400" spc="-1" strike="noStrike">
                <a:solidFill>
                  <a:srgbClr val="f10d0d"/>
                </a:solidFill>
                <a:latin typeface="Times New Roman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10d0d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10d0d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92612-4E34-4A97-A01E-BD987713DC11}" type="slidenum">
              <a:rPr b="0" lang="ru-RU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10d0d"/>
                </a:solidFill>
                <a:latin typeface="Times New Roman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10d0d"/>
                </a:solidFill>
                <a:latin typeface="Times New Roman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10d0d"/>
                </a:solidFill>
                <a:latin typeface="Times New Roman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4400" spc="-1" strike="noStrike">
                        <a:solidFill>
                          <a:srgbClr val="f10d0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4400" spc="-1" strike="noStrike">
                        <a:solidFill>
                          <a:srgbClr val="f10d0d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spcBef>
                        <a:spcPts val="1100"/>
                      </a:spcBef>
                      <a:buClr>
                        <a:srgbClr val="f10d0d"/>
                      </a:buClr>
                      <a:buFont typeface="Times New Roman"/>
                      <a:buChar char="•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4400" spc="-1" strike="noStrike">
                      <a:solidFill>
                        <a:srgbClr val="f10d0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57720" y="69120"/>
                    <a:ext cx="4284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endParaRPr b="1" lang="en-US" sz="4400" spc="-1" strike="noStrike">
                      <a:solidFill>
                        <a:srgbClr val="f10d0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28640" y="56520"/>
                    <a:ext cx="64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1" lang="en-US" sz="4400" spc="-1" strike="noStrike">
                      <a:solidFill>
                        <a:srgbClr val="f10d0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898120" y="106560"/>
                    <a:ext cx="23760" cy="6192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120" bIns="15120" anchor="ctr">
                    <a:noAutofit/>
                  </a:bodyPr>
                  <a:p>
                    <a:endParaRPr b="1" lang="en-US" sz="4400" spc="-1" strike="noStrike">
                      <a:solidFill>
                        <a:srgbClr val="f10d0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1" lang="en-US" sz="4400" spc="-1" strike="noStrike">
                      <a:solidFill>
                        <a:srgbClr val="f10d0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1" lang="en-US" sz="4400" spc="-1" strike="noStrike">
                      <a:solidFill>
                        <a:srgbClr val="f10d0d"/>
                      </a:solidFill>
                      <a:latin typeface="Times New Roman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4400" spc="-1" strike="noStrike">
                <a:solidFill>
                  <a:srgbClr val="f10d0d"/>
                </a:solidFill>
                <a:latin typeface="Times New Roman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4400" spc="-1" strike="noStrike">
                <a:solidFill>
                  <a:srgbClr val="f10d0d"/>
                </a:solidFill>
                <a:latin typeface="Times New Roman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4400" spc="-1" strike="noStrike">
                <a:solidFill>
                  <a:srgbClr val="f10d0d"/>
                </a:solidFill>
                <a:latin typeface="Times New Roman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4400" spc="-1" strike="noStrike">
                <a:solidFill>
                  <a:srgbClr val="f10d0d"/>
                </a:solidFill>
                <a:latin typeface="Times New Roman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4400" spc="-1" strike="noStrike">
                <a:solidFill>
                  <a:srgbClr val="f10d0d"/>
                </a:solidFill>
                <a:latin typeface="Times New Roman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4400" spc="-1" strike="noStrike">
                <a:solidFill>
                  <a:srgbClr val="f10d0d"/>
                </a:solidFill>
                <a:latin typeface="Times New Roman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4400" spc="-1" strike="noStrike">
                <a:solidFill>
                  <a:srgbClr val="f10d0d"/>
                </a:solidFill>
                <a:latin typeface="Times New Roman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4400" spc="-1" strike="noStrike">
                <a:solidFill>
                  <a:srgbClr val="f10d0d"/>
                </a:solidFill>
                <a:latin typeface="Times New Roman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10d0d"/>
                </a:solidFill>
                <a:latin typeface="Times New Roman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4400" spc="-1" strike="noStrike">
                <a:solidFill>
                  <a:srgbClr val="f10d0d"/>
                </a:solidFill>
                <a:latin typeface="Times New Roman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1" lang="en-US" sz="4400" spc="-1" strike="noStrike">
                <a:solidFill>
                  <a:srgbClr val="f10d0d"/>
                </a:solidFill>
                <a:latin typeface="Times New Roman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10d0d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10d0d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76D57-E3FE-49D2-A812-522C2BE37DDE}" type="slidenum">
              <a:rPr b="0" lang="ru-RU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3.png"/><Relationship Id="rId16" Type="http://schemas.openxmlformats.org/officeDocument/2006/relationships/image" Target="../media/image3.png"/><Relationship Id="rId1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Разметка петель.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1727280" y="3429000"/>
            <a:ext cx="5640480" cy="27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Подготовила : Феофанова Валентина Николаевна,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ГОБОУ «Адаптированная школа №1»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учитель  профильного труда  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8 класс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9ab0f"/>
                </a:solidFill>
                <a:latin typeface="Bookman Old Style"/>
              </a:rPr>
              <a:t>Классификация изделия по способу носки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50560" y="1341360"/>
            <a:ext cx="7188120" cy="7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0b854"/>
                </a:solidFill>
                <a:latin typeface="Book Antiqua"/>
              </a:rPr>
              <a:t>Из предложенных рисунков выбрать плечевые и поясные изделия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40" name="Picture 27" descr="през copy"/>
          <p:cNvPicPr/>
          <p:nvPr/>
        </p:nvPicPr>
        <p:blipFill>
          <a:blip r:embed="rId1"/>
          <a:stretch/>
        </p:blipFill>
        <p:spPr>
          <a:xfrm>
            <a:off x="468360" y="2171880"/>
            <a:ext cx="6913440" cy="4598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89000" y="34272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7b214e"/>
                </a:solidFill>
                <a:latin typeface="Raavi"/>
              </a:rPr>
              <a:t>Какие изделия спрятаны</a:t>
            </a:r>
            <a:br>
              <a:rPr sz="4800"/>
            </a:br>
            <a:r>
              <a:rPr b="1" lang="ru-RU" sz="4800" spc="-1" strike="noStrike">
                <a:solidFill>
                  <a:srgbClr val="7b214e"/>
                </a:solidFill>
                <a:latin typeface="Raavi"/>
              </a:rPr>
              <a:t> в рисунках?</a:t>
            </a:r>
            <a:endParaRPr b="0" lang="en-US" sz="48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42" name="Picture 13" descr="Презентация"/>
          <p:cNvPicPr/>
          <p:nvPr/>
        </p:nvPicPr>
        <p:blipFill>
          <a:blip r:embed="rId1"/>
          <a:stretch/>
        </p:blipFill>
        <p:spPr>
          <a:xfrm>
            <a:off x="106200" y="1955880"/>
            <a:ext cx="7632720" cy="420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0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0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1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771480" y="146160"/>
            <a:ext cx="716112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66ff33"/>
                </a:solidFill>
                <a:latin typeface="Tunga"/>
              </a:rPr>
              <a:t>Физ</a:t>
            </a:r>
            <a:r>
              <a:rPr b="1" lang="ru-RU" sz="6000" spc="-1" strike="noStrike">
                <a:solidFill>
                  <a:srgbClr val="afcf0d"/>
                </a:solidFill>
                <a:latin typeface="Tunga"/>
              </a:rPr>
              <a:t>культ</a:t>
            </a:r>
            <a:r>
              <a:rPr b="1" lang="ru-RU" sz="6000" spc="-1" strike="noStrike">
                <a:solidFill>
                  <a:srgbClr val="586806"/>
                </a:solidFill>
                <a:latin typeface="Tunga"/>
              </a:rPr>
              <a:t>минутка</a:t>
            </a:r>
            <a:r>
              <a:rPr b="1" lang="ru-RU" sz="6000" spc="-1" strike="noStrike">
                <a:solidFill>
                  <a:srgbClr val="d6d602"/>
                </a:solidFill>
                <a:latin typeface="Tunga"/>
              </a:rPr>
              <a:t>                                                      </a:t>
            </a:r>
            <a:endParaRPr b="0" lang="en-US" sz="6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-59040" y="1138320"/>
            <a:ext cx="8604360" cy="558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Comic Sans MS"/>
              </a:rPr>
              <a:t>Поднимает руки класс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ff33"/>
                </a:solidFill>
                <a:latin typeface="Comic Sans MS"/>
              </a:rPr>
              <a:t> </a:t>
            </a:r>
            <a:r>
              <a:rPr b="1" lang="ru-RU" sz="2800" spc="-1" strike="noStrike">
                <a:solidFill>
                  <a:srgbClr val="66ff33"/>
                </a:solidFill>
                <a:latin typeface="Comic Sans MS"/>
              </a:rPr>
              <a:t>это «раз»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Comic Sans MS"/>
              </a:rPr>
              <a:t>Повернулась голова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0b854"/>
                </a:solidFill>
                <a:latin typeface="Comic Sans MS"/>
              </a:rPr>
              <a:t> </a:t>
            </a:r>
            <a:r>
              <a:rPr b="1" lang="ru-RU" sz="2800" spc="-1" strike="noStrike">
                <a:solidFill>
                  <a:srgbClr val="66ff33"/>
                </a:solidFill>
                <a:latin typeface="Comic Sans MS"/>
              </a:rPr>
              <a:t>это «два»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Comic Sans MS"/>
              </a:rPr>
              <a:t>Руки вниз, вперед смотри</a:t>
            </a:r>
            <a:r>
              <a:rPr b="1" lang="ru-RU" sz="2800" spc="-1" strike="noStrike">
                <a:solidFill>
                  <a:srgbClr val="f0b854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ff33"/>
                </a:solidFill>
                <a:latin typeface="Comic Sans MS"/>
              </a:rPr>
              <a:t>это «три»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Comic Sans MS"/>
              </a:rPr>
              <a:t>Руки в сторону пошире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Comic Sans MS"/>
              </a:rPr>
              <a:t>Развернули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ff33"/>
                </a:solidFill>
                <a:latin typeface="Comic Sans MS"/>
              </a:rPr>
              <a:t>на «четыре»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Comic Sans MS"/>
              </a:rPr>
              <a:t>С силой их к плечам прижать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0b854"/>
                </a:solidFill>
                <a:latin typeface="Comic Sans MS"/>
              </a:rPr>
              <a:t> </a:t>
            </a:r>
            <a:r>
              <a:rPr b="1" lang="ru-RU" sz="2800" spc="-1" strike="noStrike">
                <a:solidFill>
                  <a:srgbClr val="66ff33"/>
                </a:solidFill>
                <a:latin typeface="Comic Sans MS"/>
              </a:rPr>
              <a:t>это «пять»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Comic Sans MS"/>
              </a:rPr>
              <a:t>Всем девчонкам тихо сесть</a:t>
            </a:r>
            <a:r>
              <a:rPr b="1" lang="ru-RU" sz="2800" spc="-1" strike="noStrike">
                <a:solidFill>
                  <a:srgbClr val="f0b854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ff33"/>
                </a:solidFill>
                <a:latin typeface="Comic Sans MS"/>
              </a:rPr>
              <a:t>это «шесть»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0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1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385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0" dur="385" fill="hold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3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32" dur="385" fill="hold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3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4" dur="385" fill="hold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4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385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4" dur="385" fill="hold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4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46" dur="385" fill="hold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4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48" dur="385" fill="hold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4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5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385"/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8" dur="385" fill="hold"/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5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60" dur="385" fill="hold"/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6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62" dur="385" fill="hold"/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6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2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2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7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385"/>
                                        <p:tgtEl>
                                          <p:spTgt spid="2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5" dur="385" fill="hold"/>
                                        <p:tgtEl>
                                          <p:spTgt spid="2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7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77" dur="385" fill="hold"/>
                                        <p:tgtEl>
                                          <p:spTgt spid="2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7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79" dur="385" fill="hold"/>
                                        <p:tgtEl>
                                          <p:spTgt spid="2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8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2000"/>
                                        <p:tgtEl>
                                          <p:spTgt spid="2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286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385"/>
                                        <p:tgtEl>
                                          <p:spTgt spid="2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9" dur="385" fill="hold"/>
                                        <p:tgtEl>
                                          <p:spTgt spid="2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9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91" dur="385" fill="hold"/>
                                        <p:tgtEl>
                                          <p:spTgt spid="2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9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93" dur="385" fill="hold"/>
                                        <p:tgtEl>
                                          <p:spTgt spid="2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9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2000"/>
                                        <p:tgtEl>
                                          <p:spTgt spid="2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30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385"/>
                                        <p:tgtEl>
                                          <p:spTgt spid="24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3" dur="385" fill="hold"/>
                                        <p:tgtEl>
                                          <p:spTgt spid="24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0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05" dur="385" fill="hold"/>
                                        <p:tgtEl>
                                          <p:spTgt spid="24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0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07" dur="385" fill="hold"/>
                                        <p:tgtEl>
                                          <p:spTgt spid="24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0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6600"/>
                </a:solidFill>
                <a:latin typeface="Garamond"/>
              </a:rPr>
              <a:t>Виды петель</a:t>
            </a:r>
            <a:endParaRPr b="0" lang="en-US" sz="8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899640" y="1989000"/>
            <a:ext cx="6180120" cy="23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e0202"/>
                </a:solidFill>
                <a:latin typeface="Comic Sans MS"/>
              </a:rPr>
              <a:t>Обметанные петли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e0202"/>
                </a:solidFill>
                <a:latin typeface="Comic Sans MS"/>
              </a:rPr>
              <a:t>Обтачные петли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e0202"/>
                </a:solidFill>
                <a:latin typeface="Comic Sans MS"/>
              </a:rPr>
              <a:t>Петли из вытачного шнура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e0202"/>
                </a:solidFill>
                <a:latin typeface="Comic Sans MS"/>
              </a:rPr>
              <a:t>Петли из плетеного шнура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nodeType="clickEffect" fill="hold">
                      <p:stCondLst>
                        <p:cond delay="0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1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1000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6840" cy="176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Courier New"/>
              </a:rPr>
              <a:t>Определение размера обметанной петли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8" name="Oval 4"/>
          <p:cNvSpPr/>
          <p:nvPr/>
        </p:nvSpPr>
        <p:spPr>
          <a:xfrm>
            <a:off x="4211640" y="3357720"/>
            <a:ext cx="1800360" cy="1726920"/>
          </a:xfrm>
          <a:prstGeom prst="ellipse">
            <a:avLst/>
          </a:prstGeom>
          <a:noFill/>
          <a:ln w="31680">
            <a:solidFill>
              <a:srgbClr val="ab01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100"/>
              </a:spcBef>
              <a:buClr>
                <a:srgbClr val="f10d0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10d0d"/>
              </a:solidFill>
              <a:latin typeface="Times New Roman"/>
            </a:endParaRPr>
          </a:p>
        </p:txBody>
      </p:sp>
      <p:sp>
        <p:nvSpPr>
          <p:cNvPr id="249" name="Line 5"/>
          <p:cNvSpPr/>
          <p:nvPr/>
        </p:nvSpPr>
        <p:spPr>
          <a:xfrm flipV="1">
            <a:off x="4470480" y="3603240"/>
            <a:ext cx="1288800" cy="1195560"/>
          </a:xfrm>
          <a:prstGeom prst="line">
            <a:avLst/>
          </a:prstGeom>
          <a:ln w="31680">
            <a:solidFill>
              <a:srgbClr val="ab0101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400" spc="-1" strike="noStrike">
              <a:solidFill>
                <a:srgbClr val="f10d0d"/>
              </a:solidFill>
              <a:latin typeface="Times New Roman"/>
            </a:endParaRPr>
          </a:p>
        </p:txBody>
      </p:sp>
      <p:sp>
        <p:nvSpPr>
          <p:cNvPr id="250" name="Rectangle 7"/>
          <p:cNvSpPr/>
          <p:nvPr/>
        </p:nvSpPr>
        <p:spPr>
          <a:xfrm>
            <a:off x="5148360" y="2349360"/>
            <a:ext cx="2404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Garamond"/>
              </a:rPr>
              <a:t>Диаметр</a:t>
            </a:r>
            <a:endParaRPr b="1" lang="en-US" sz="4000" spc="-1" strike="noStrike">
              <a:solidFill>
                <a:srgbClr val="f10d0d"/>
              </a:solidFill>
              <a:latin typeface="Times New Roman"/>
            </a:endParaRPr>
          </a:p>
        </p:txBody>
      </p:sp>
      <p:sp>
        <p:nvSpPr>
          <p:cNvPr id="251" name="Line 9"/>
          <p:cNvSpPr/>
          <p:nvPr/>
        </p:nvSpPr>
        <p:spPr>
          <a:xfrm flipH="1">
            <a:off x="5796000" y="2924280"/>
            <a:ext cx="288720" cy="649080"/>
          </a:xfrm>
          <a:prstGeom prst="line">
            <a:avLst/>
          </a:prstGeom>
          <a:ln w="9360">
            <a:solidFill>
              <a:srgbClr val="ee020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400" spc="-1" strike="noStrike">
              <a:solidFill>
                <a:srgbClr val="f10d0d"/>
              </a:solidFill>
              <a:latin typeface="Times New Roman"/>
            </a:endParaRPr>
          </a:p>
        </p:txBody>
      </p:sp>
      <p:pic>
        <p:nvPicPr>
          <p:cNvPr id="252" name="Picture 10" descr="пуговица copy"/>
          <p:cNvPicPr/>
          <p:nvPr/>
        </p:nvPicPr>
        <p:blipFill>
          <a:blip r:embed="rId1"/>
          <a:stretch/>
        </p:blipFill>
        <p:spPr>
          <a:xfrm>
            <a:off x="179280" y="2997360"/>
            <a:ext cx="3384720" cy="2560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nodeType="clickEffect" fill="hold">
                      <p:stCondLst>
                        <p:cond delay="0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4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4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8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0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40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0" spc="-1" strike="noStrike">
                <a:solidFill>
                  <a:srgbClr val="d20238"/>
                </a:solidFill>
                <a:latin typeface="Gautami"/>
              </a:rPr>
              <a:t>Словарь</a:t>
            </a:r>
            <a:endParaRPr b="0" lang="en-US" sz="8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263520" y="1483920"/>
            <a:ext cx="73864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10d0d"/>
                </a:solidFill>
                <a:latin typeface="Times New Roman"/>
              </a:rPr>
              <a:t> </a:t>
            </a:r>
            <a:r>
              <a:rPr b="1" lang="ru-RU" sz="4400" spc="-1" strike="noStrike">
                <a:solidFill>
                  <a:srgbClr val="f10d0d"/>
                </a:solidFill>
                <a:latin typeface="Times New Roman"/>
              </a:rPr>
              <a:t>Петля</a:t>
            </a: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10d0d"/>
                </a:solidFill>
                <a:latin typeface="Times New Roman"/>
              </a:rPr>
              <a:t> </a:t>
            </a:r>
            <a:r>
              <a:rPr b="1" lang="ru-RU" sz="4400" spc="-1" strike="noStrike">
                <a:solidFill>
                  <a:srgbClr val="f10d0d"/>
                </a:solidFill>
                <a:latin typeface="Times New Roman"/>
              </a:rPr>
              <a:t>Шнур</a:t>
            </a: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10d0d"/>
                </a:solidFill>
                <a:latin typeface="Times New Roman"/>
              </a:rPr>
              <a:t> </a:t>
            </a:r>
            <a:r>
              <a:rPr b="1" lang="ru-RU" sz="4400" spc="-1" strike="noStrike">
                <a:solidFill>
                  <a:srgbClr val="f10d0d"/>
                </a:solidFill>
                <a:latin typeface="Times New Roman"/>
              </a:rPr>
              <a:t>Разметка</a:t>
            </a: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10d0d"/>
                </a:solidFill>
                <a:latin typeface="Times New Roman"/>
              </a:rPr>
              <a:t> </a:t>
            </a:r>
            <a:r>
              <a:rPr b="1" lang="ru-RU" sz="4400" spc="-1" strike="noStrike">
                <a:solidFill>
                  <a:srgbClr val="f10d0d"/>
                </a:solidFill>
                <a:latin typeface="Times New Roman"/>
              </a:rPr>
              <a:t>Диаметр</a:t>
            </a: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SzPct val="10290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10d0d"/>
                </a:solidFill>
                <a:latin typeface="Times New Roman"/>
              </a:rPr>
              <a:t> </a:t>
            </a:r>
            <a:r>
              <a:rPr b="1" lang="ru-RU" sz="4400" spc="-1" strike="noStrike">
                <a:solidFill>
                  <a:srgbClr val="f10d0d"/>
                </a:solidFill>
                <a:latin typeface="Times New Roman"/>
              </a:rPr>
              <a:t>Зигзагообразная</a:t>
            </a: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SzPct val="10290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10d0d"/>
                </a:solidFill>
                <a:latin typeface="Times New Roman"/>
              </a:rPr>
              <a:t> </a:t>
            </a:r>
            <a:r>
              <a:rPr b="1" lang="ru-RU" sz="4400" spc="-1" strike="noStrike">
                <a:solidFill>
                  <a:srgbClr val="f10d0d"/>
                </a:solidFill>
                <a:latin typeface="Times New Roman"/>
              </a:rPr>
              <a:t>Цельнокроеное</a:t>
            </a: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nodeType="clickEffect" fill="hold">
                      <p:stCondLst>
                        <p:cond delay="0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300"/>
                            </p:stCondLst>
                            <p:childTnLst>
                              <p:par>
                                <p:cTn id="372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74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81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88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95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02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0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00"/>
                </a:solidFill>
                <a:latin typeface="Times New Roman"/>
              </a:rPr>
              <a:t>Кинезеологическое </a:t>
            </a:r>
            <a:br>
              <a:rPr sz="4400"/>
            </a:br>
            <a:r>
              <a:rPr b="1" i="1" lang="ru-RU" sz="4400" spc="-1" strike="noStrike">
                <a:solidFill>
                  <a:srgbClr val="ffff00"/>
                </a:solidFill>
                <a:latin typeface="Times New Roman"/>
              </a:rPr>
              <a:t>дыхательное упражнение</a:t>
            </a: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250920" y="1484280"/>
            <a:ext cx="7386480" cy="82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20610"/>
                </a:solidFill>
                <a:latin typeface="Arial"/>
              </a:rPr>
              <a:t>(используется для повышения работоспособности учащихся)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7" name="Text Box 4"/>
          <p:cNvSpPr/>
          <p:nvPr/>
        </p:nvSpPr>
        <p:spPr>
          <a:xfrm>
            <a:off x="-14400" y="2235240"/>
            <a:ext cx="7812360" cy="52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10d0d"/>
                </a:solidFill>
                <a:latin typeface="Times New Roman"/>
              </a:rPr>
              <a:t>Сжать пальцы в кулачки, закрыть глаза</a:t>
            </a:r>
            <a:r>
              <a:rPr b="1" lang="ru-RU" sz="4400" spc="-1" strike="noStrike">
                <a:solidFill>
                  <a:srgbClr val="f1640d"/>
                </a:solidFill>
                <a:latin typeface="Times New Roman"/>
              </a:rPr>
              <a:t>  </a:t>
            </a:r>
            <a:endParaRPr b="1" lang="en-US" sz="4400" spc="-1" strike="noStrike">
              <a:solidFill>
                <a:srgbClr val="f10d0d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1640d"/>
                </a:solidFill>
                <a:latin typeface="Times New Roman"/>
              </a:rPr>
              <a:t>                      </a:t>
            </a:r>
            <a:r>
              <a:rPr b="1" lang="ru-RU" sz="4400" spc="-1" strike="noStrike">
                <a:solidFill>
                  <a:srgbClr val="f1640d"/>
                </a:solidFill>
                <a:latin typeface="Times New Roman"/>
              </a:rPr>
              <a:t>вдох,</a:t>
            </a:r>
            <a:r>
              <a:rPr b="1" lang="ru-RU" sz="4400" spc="-1" strike="noStrike">
                <a:solidFill>
                  <a:srgbClr val="f10d0d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f10d0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10d0d"/>
                </a:solidFill>
                <a:latin typeface="Times New Roman"/>
              </a:rPr>
              <a:t>        </a:t>
            </a:r>
            <a:r>
              <a:rPr b="1" lang="ru-RU" sz="3200" spc="-1" strike="noStrike">
                <a:solidFill>
                  <a:srgbClr val="f10d0d"/>
                </a:solidFill>
                <a:latin typeface="Times New Roman"/>
              </a:rPr>
              <a:t>кулачки разжать, глаза открыть </a:t>
            </a:r>
            <a:endParaRPr b="1" lang="en-US" sz="3200" spc="-1" strike="noStrike">
              <a:solidFill>
                <a:srgbClr val="f10d0d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10d0d"/>
                </a:solidFill>
                <a:latin typeface="Times New Roman"/>
              </a:rPr>
              <a:t>            </a:t>
            </a:r>
            <a:r>
              <a:rPr b="1" lang="ru-RU" sz="4400" spc="-1" strike="noStrike">
                <a:solidFill>
                  <a:srgbClr val="f10d0d"/>
                </a:solidFill>
                <a:latin typeface="Times New Roman"/>
              </a:rPr>
              <a:t>            </a:t>
            </a:r>
            <a:r>
              <a:rPr b="1" lang="ru-RU" sz="4400" spc="-1" strike="noStrike">
                <a:solidFill>
                  <a:srgbClr val="f1640d"/>
                </a:solidFill>
                <a:latin typeface="Times New Roman"/>
              </a:rPr>
              <a:t>выдох.</a:t>
            </a:r>
            <a:r>
              <a:rPr b="1" lang="ru-RU" sz="4400" spc="-1" strike="noStrike">
                <a:solidFill>
                  <a:srgbClr val="f10d0d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f10d0d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10d0d"/>
                </a:solidFill>
                <a:latin typeface="Times New Roman"/>
              </a:rPr>
              <a:t>                           </a:t>
            </a:r>
            <a:r>
              <a:rPr b="1" lang="ru-RU" sz="3200" spc="-1" strike="noStrike">
                <a:solidFill>
                  <a:srgbClr val="f10d0d"/>
                </a:solidFill>
                <a:latin typeface="Times New Roman"/>
              </a:rPr>
              <a:t>Повторить </a:t>
            </a:r>
            <a:r>
              <a:rPr b="1" lang="ru-RU" sz="4400" spc="-1" strike="noStrike">
                <a:solidFill>
                  <a:srgbClr val="f1640d"/>
                </a:solidFill>
                <a:latin typeface="Times New Roman"/>
              </a:rPr>
              <a:t>  </a:t>
            </a:r>
            <a:endParaRPr b="1" lang="en-US" sz="4400" spc="-1" strike="noStrike">
              <a:solidFill>
                <a:srgbClr val="f10d0d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1640d"/>
                </a:solidFill>
                <a:latin typeface="Times New Roman"/>
              </a:rPr>
              <a:t>                      </a:t>
            </a:r>
            <a:r>
              <a:rPr b="1" lang="ru-RU" sz="4400" spc="-1" strike="noStrike">
                <a:solidFill>
                  <a:srgbClr val="f1640d"/>
                </a:solidFill>
                <a:latin typeface="Times New Roman"/>
              </a:rPr>
              <a:t>5 раз.</a:t>
            </a:r>
            <a:endParaRPr b="1" lang="en-US" sz="4400" spc="-1" strike="noStrike">
              <a:solidFill>
                <a:srgbClr val="f10d0d"/>
              </a:solidFill>
              <a:latin typeface="Times New Roman"/>
            </a:endParaRPr>
          </a:p>
        </p:txBody>
      </p:sp>
    </p:spTree>
  </p:cSld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nodeType="clickEffect" fill="hold">
                      <p:stCondLst>
                        <p:cond delay="0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5" dur="5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20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20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3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77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35" dur="77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37" dur="77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39" dur="77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4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2000" fill="hold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2000" fill="hold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447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9" dur="77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50" dur="770" fill="hold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52" dur="770" fill="hold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54" dur="770" fill="hold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45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2000" fill="hold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2000" fill="hold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46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4" dur="770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65" dur="770" fill="hold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67" dur="770" fill="hold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69" dur="770" fill="hold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7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3" name="Рисунок 3" descr=""/>
          <p:cNvPicPr/>
          <p:nvPr/>
        </p:nvPicPr>
        <p:blipFill>
          <a:blip r:embed="rId1"/>
          <a:stretch/>
        </p:blipFill>
        <p:spPr>
          <a:xfrm>
            <a:off x="1601640" y="1593720"/>
            <a:ext cx="5940720" cy="3670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6" name="Рисунок 3" descr=""/>
          <p:cNvPicPr/>
          <p:nvPr/>
        </p:nvPicPr>
        <p:blipFill>
          <a:blip r:embed="rId1"/>
          <a:stretch/>
        </p:blipFill>
        <p:spPr>
          <a:xfrm>
            <a:off x="1601640" y="861840"/>
            <a:ext cx="5940720" cy="5134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9" name="Рисунок 3" descr=""/>
          <p:cNvPicPr/>
          <p:nvPr/>
        </p:nvPicPr>
        <p:blipFill>
          <a:blip r:embed="rId1"/>
          <a:stretch/>
        </p:blipFill>
        <p:spPr>
          <a:xfrm>
            <a:off x="1601640" y="1494000"/>
            <a:ext cx="5940720" cy="387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24000" y="1125360"/>
            <a:ext cx="762768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br>
              <a:rPr sz="2900"/>
            </a:br>
            <a:endParaRPr b="0" lang="en-US" sz="29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1" name="Text Box 6"/>
          <p:cNvSpPr/>
          <p:nvPr/>
        </p:nvSpPr>
        <p:spPr>
          <a:xfrm>
            <a:off x="324000" y="2133720"/>
            <a:ext cx="74865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b9d03"/>
                </a:solidFill>
                <a:latin typeface="Bookman Old Style"/>
              </a:rPr>
              <a:t>«Способы обработки петель. Обработка петель на образце»</a:t>
            </a:r>
            <a:endParaRPr b="1" lang="en-US" sz="4000" spc="-1" strike="noStrike">
              <a:solidFill>
                <a:srgbClr val="f10d0d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" dur="10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6840" cy="53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7d47d"/>
                </a:solidFill>
                <a:latin typeface="Comic Sans MS"/>
              </a:rPr>
              <a:t>Ц</a:t>
            </a:r>
            <a:r>
              <a:rPr b="1" lang="ru-RU" sz="4000" spc="-1" strike="noStrike">
                <a:solidFill>
                  <a:srgbClr val="79af7d"/>
                </a:solidFill>
                <a:latin typeface="Comic Sans MS"/>
              </a:rPr>
              <a:t>в</a:t>
            </a:r>
            <a:r>
              <a:rPr b="1" lang="ru-RU" sz="4000" spc="-1" strike="noStrike">
                <a:solidFill>
                  <a:srgbClr val="f6284f"/>
                </a:solidFill>
                <a:latin typeface="Comic Sans MS"/>
              </a:rPr>
              <a:t>е</a:t>
            </a:r>
            <a:r>
              <a:rPr b="1" lang="ru-RU" sz="4000" spc="-1" strike="noStrike">
                <a:solidFill>
                  <a:srgbClr val="4833e7"/>
                </a:solidFill>
                <a:latin typeface="Comic Sans MS"/>
              </a:rPr>
              <a:t>т</a:t>
            </a:r>
            <a:r>
              <a:rPr b="1" lang="ru-RU" sz="4000" spc="-1" strike="noStrike">
                <a:solidFill>
                  <a:srgbClr val="203f1b"/>
                </a:solidFill>
                <a:latin typeface="Comic Sans MS"/>
              </a:rPr>
              <a:t>о</a:t>
            </a:r>
            <a:r>
              <a:rPr b="1" lang="ru-RU" sz="4000" spc="-1" strike="noStrike">
                <a:solidFill>
                  <a:srgbClr val="77322d"/>
                </a:solidFill>
                <a:latin typeface="Comic Sans MS"/>
              </a:rPr>
              <a:t>в</a:t>
            </a:r>
            <a:r>
              <a:rPr b="1" lang="ru-RU" sz="4000" spc="-1" strike="noStrike">
                <a:solidFill>
                  <a:srgbClr val="1d7283"/>
                </a:solidFill>
                <a:latin typeface="Comic Sans MS"/>
              </a:rPr>
              <a:t>о</a:t>
            </a:r>
            <a:r>
              <a:rPr b="1" lang="ru-RU" sz="4000" spc="-1" strike="noStrike">
                <a:solidFill>
                  <a:srgbClr val="a81481"/>
                </a:solidFill>
                <a:latin typeface="Comic Sans MS"/>
              </a:rPr>
              <a:t>е</a:t>
            </a:r>
            <a:r>
              <a:rPr b="1" lang="ru-RU" sz="4000" spc="-1" strike="noStrike">
                <a:solidFill>
                  <a:srgbClr val="f7d47d"/>
                </a:solidFill>
                <a:latin typeface="Comic Sans MS"/>
              </a:rPr>
              <a:t> </a:t>
            </a:r>
            <a:r>
              <a:rPr b="1" lang="ru-RU" sz="4000" spc="-1" strike="noStrike">
                <a:solidFill>
                  <a:srgbClr val="f1fc1e"/>
                </a:solidFill>
                <a:latin typeface="Comic Sans MS"/>
              </a:rPr>
              <a:t>п</a:t>
            </a:r>
            <a:r>
              <a:rPr b="1" lang="ru-RU" sz="4000" spc="-1" strike="noStrike">
                <a:solidFill>
                  <a:srgbClr val="44fb0b"/>
                </a:solidFill>
                <a:latin typeface="Comic Sans MS"/>
              </a:rPr>
              <a:t>а</a:t>
            </a:r>
            <a:r>
              <a:rPr b="1" lang="ru-RU" sz="4000" spc="-1" strike="noStrike">
                <a:solidFill>
                  <a:srgbClr val="3701fd"/>
                </a:solidFill>
                <a:latin typeface="Comic Sans MS"/>
              </a:rPr>
              <a:t>н</a:t>
            </a:r>
            <a:r>
              <a:rPr b="1" lang="ru-RU" sz="4000" spc="-1" strike="noStrike">
                <a:solidFill>
                  <a:srgbClr val="ee0245"/>
                </a:solidFill>
                <a:latin typeface="Comic Sans MS"/>
              </a:rPr>
              <a:t>н</a:t>
            </a:r>
            <a:r>
              <a:rPr b="1" lang="ru-RU" sz="4000" spc="-1" strike="noStrike">
                <a:solidFill>
                  <a:srgbClr val="0390b1"/>
                </a:solidFill>
                <a:latin typeface="Comic Sans MS"/>
              </a:rPr>
              <a:t>о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263160" y="1484280"/>
            <a:ext cx="740412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f0101"/>
                </a:solidFill>
                <a:latin typeface="Comic Sans MS"/>
              </a:rPr>
              <a:t>Учащиеся выбирают понравившийся им цвет, закрывают глаза на 3-4 секунды, открывают глаза, сфокусировав взгляд на выбранном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5" name="Text Box 4"/>
          <p:cNvSpPr/>
          <p:nvPr/>
        </p:nvSpPr>
        <p:spPr>
          <a:xfrm>
            <a:off x="179280" y="981000"/>
            <a:ext cx="7364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81481"/>
                </a:solidFill>
                <a:latin typeface="Trebuchet MS"/>
              </a:rPr>
              <a:t>(коррекционное упражнение для улучшения настроения)</a:t>
            </a:r>
            <a:endParaRPr b="1" lang="en-US" sz="2000" spc="-1" strike="noStrike">
              <a:solidFill>
                <a:srgbClr val="f10d0d"/>
              </a:solidFill>
              <a:latin typeface="Times New Roman"/>
            </a:endParaRPr>
          </a:p>
        </p:txBody>
      </p:sp>
      <p:pic>
        <p:nvPicPr>
          <p:cNvPr id="216" name="Picture 8" descr="панно"/>
          <p:cNvPicPr/>
          <p:nvPr/>
        </p:nvPicPr>
        <p:blipFill>
          <a:blip r:embed="rId1"/>
          <a:stretch/>
        </p:blipFill>
        <p:spPr>
          <a:xfrm>
            <a:off x="380880" y="2550960"/>
            <a:ext cx="7056720" cy="4162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0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0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" dur="8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8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5420"/>
                            </p:stCondLst>
                            <p:childTnLst>
                              <p:par>
                                <p:cTn id="3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5920"/>
                            </p:stCondLst>
                            <p:childTnLst>
                              <p:par>
                                <p:cTn id="36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8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1fc1e"/>
                </a:solidFill>
                <a:latin typeface="Monotype Corsiva"/>
              </a:rPr>
              <a:t>    </a:t>
            </a:r>
            <a:r>
              <a:rPr b="1" lang="ru-RU" sz="7200" spc="-1" strike="noStrike">
                <a:solidFill>
                  <a:srgbClr val="f1fc1e"/>
                </a:solidFill>
                <a:latin typeface="Monotype Corsiva"/>
              </a:rPr>
              <a:t>Виды платьев</a:t>
            </a:r>
            <a:endParaRPr b="0" lang="en-US" sz="72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8" name="Text Box 12"/>
          <p:cNvSpPr/>
          <p:nvPr/>
        </p:nvSpPr>
        <p:spPr>
          <a:xfrm>
            <a:off x="0" y="1989000"/>
            <a:ext cx="1800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1fc1e"/>
                </a:solidFill>
                <a:latin typeface="Monotype Corsiva"/>
              </a:rPr>
              <a:t>Цельно-</a:t>
            </a:r>
            <a:endParaRPr b="1" lang="en-US" sz="3600" spc="-1" strike="noStrike">
              <a:solidFill>
                <a:srgbClr val="f10d0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1fc1e"/>
                </a:solidFill>
                <a:latin typeface="Monotype Corsiva"/>
              </a:rPr>
              <a:t>кроенное</a:t>
            </a:r>
            <a:endParaRPr b="1" lang="en-US" sz="3600" spc="-1" strike="noStrike">
              <a:solidFill>
                <a:srgbClr val="f10d0d"/>
              </a:solidFill>
              <a:latin typeface="Times New Roman"/>
            </a:endParaRPr>
          </a:p>
        </p:txBody>
      </p:sp>
      <p:sp>
        <p:nvSpPr>
          <p:cNvPr id="219" name="Text Box 17"/>
          <p:cNvSpPr/>
          <p:nvPr/>
        </p:nvSpPr>
        <p:spPr>
          <a:xfrm>
            <a:off x="2987640" y="6278400"/>
            <a:ext cx="4826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1fc1e"/>
                </a:solidFill>
                <a:latin typeface="Monotype Corsiva"/>
              </a:rPr>
              <a:t>Отрезное по линии  талии</a:t>
            </a:r>
            <a:endParaRPr b="1" lang="en-US" sz="3200" spc="-1" strike="noStrike">
              <a:solidFill>
                <a:srgbClr val="f10d0d"/>
              </a:solidFill>
              <a:latin typeface="Times New Roman"/>
            </a:endParaRPr>
          </a:p>
        </p:txBody>
      </p:sp>
      <p:sp>
        <p:nvSpPr>
          <p:cNvPr id="220" name="Text Box 19"/>
          <p:cNvSpPr/>
          <p:nvPr/>
        </p:nvSpPr>
        <p:spPr>
          <a:xfrm>
            <a:off x="6659640" y="1700280"/>
            <a:ext cx="108108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f0101"/>
                </a:solidFill>
                <a:latin typeface="Monotype Corsiva"/>
              </a:rPr>
              <a:t>лиф</a:t>
            </a:r>
            <a:endParaRPr b="1" lang="en-US" sz="4000" spc="-1" strike="noStrike">
              <a:solidFill>
                <a:srgbClr val="f10d0d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10d0d"/>
              </a:solidFill>
              <a:latin typeface="Times New Roman"/>
            </a:endParaRPr>
          </a:p>
        </p:txBody>
      </p:sp>
      <p:sp>
        <p:nvSpPr>
          <p:cNvPr id="221" name="Text Box 22"/>
          <p:cNvSpPr/>
          <p:nvPr/>
        </p:nvSpPr>
        <p:spPr>
          <a:xfrm>
            <a:off x="6588000" y="4508640"/>
            <a:ext cx="1152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f0101"/>
                </a:solidFill>
                <a:latin typeface="Monotype Corsiva"/>
              </a:rPr>
              <a:t>юбка</a:t>
            </a:r>
            <a:endParaRPr b="1" lang="en-US" sz="4000" spc="-1" strike="noStrike">
              <a:solidFill>
                <a:srgbClr val="f10d0d"/>
              </a:solidFill>
              <a:latin typeface="Times New Roman"/>
            </a:endParaRPr>
          </a:p>
        </p:txBody>
      </p:sp>
      <p:pic>
        <p:nvPicPr>
          <p:cNvPr id="222" name="Picture 27" descr="платье1 copy"/>
          <p:cNvPicPr/>
          <p:nvPr/>
        </p:nvPicPr>
        <p:blipFill>
          <a:blip r:embed="rId1"/>
          <a:stretch/>
        </p:blipFill>
        <p:spPr>
          <a:xfrm>
            <a:off x="2268360" y="1413000"/>
            <a:ext cx="1860840" cy="489564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28" descr="платье2 copy"/>
          <p:cNvPicPr/>
          <p:nvPr/>
        </p:nvPicPr>
        <p:blipFill>
          <a:blip r:embed="rId2"/>
          <a:stretch/>
        </p:blipFill>
        <p:spPr>
          <a:xfrm>
            <a:off x="4067280" y="1413000"/>
            <a:ext cx="2482920" cy="4881600"/>
          </a:xfrm>
          <a:prstGeom prst="rect">
            <a:avLst/>
          </a:prstGeom>
          <a:ln w="0">
            <a:noFill/>
          </a:ln>
        </p:spPr>
      </p:pic>
      <p:sp>
        <p:nvSpPr>
          <p:cNvPr id="224" name="AutoShape 16"/>
          <p:cNvSpPr/>
          <p:nvPr/>
        </p:nvSpPr>
        <p:spPr>
          <a:xfrm>
            <a:off x="1619280" y="2349360"/>
            <a:ext cx="720720" cy="432000"/>
          </a:xfrm>
          <a:custGeom>
            <a:avLst/>
            <a:gdLst>
              <a:gd name="textAreaLeft" fmla="*/ 90000 w 720720"/>
              <a:gd name="textAreaRight" fmla="*/ 630720 w 720720"/>
              <a:gd name="textAreaTop" fmla="*/ 108000 h 432000"/>
              <a:gd name="textAreaBottom" fmla="*/ 324000 h 432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100"/>
              </a:spcBef>
              <a:buClr>
                <a:srgbClr val="f10d0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10d0d"/>
              </a:solidFill>
              <a:latin typeface="Times New Roman"/>
            </a:endParaRPr>
          </a:p>
        </p:txBody>
      </p:sp>
      <p:sp>
        <p:nvSpPr>
          <p:cNvPr id="225" name="AutoShape 21"/>
          <p:cNvSpPr/>
          <p:nvPr/>
        </p:nvSpPr>
        <p:spPr>
          <a:xfrm rot="20178000">
            <a:off x="5580000" y="2637000"/>
            <a:ext cx="1604880" cy="261720"/>
          </a:xfrm>
          <a:prstGeom prst="leftArrow">
            <a:avLst>
              <a:gd name="adj1" fmla="val 50000"/>
              <a:gd name="adj2" fmla="val 153301"/>
            </a:avLst>
          </a:prstGeom>
          <a:solidFill>
            <a:srgbClr val="da1102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100"/>
              </a:spcBef>
              <a:buClr>
                <a:srgbClr val="f10d0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10d0d"/>
              </a:solidFill>
              <a:latin typeface="Times New Roman"/>
            </a:endParaRPr>
          </a:p>
        </p:txBody>
      </p:sp>
      <p:sp>
        <p:nvSpPr>
          <p:cNvPr id="226" name="AutoShape 23"/>
          <p:cNvSpPr/>
          <p:nvPr/>
        </p:nvSpPr>
        <p:spPr>
          <a:xfrm rot="1906200">
            <a:off x="5219640" y="4436640"/>
            <a:ext cx="1460520" cy="293760"/>
          </a:xfrm>
          <a:prstGeom prst="leftArrow">
            <a:avLst>
              <a:gd name="adj1" fmla="val 50000"/>
              <a:gd name="adj2" fmla="val 124295"/>
            </a:avLst>
          </a:prstGeom>
          <a:solidFill>
            <a:srgbClr val="da1102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100"/>
              </a:spcBef>
              <a:buClr>
                <a:srgbClr val="f10d0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10d0d"/>
              </a:solidFill>
              <a:latin typeface="Times New Roman"/>
            </a:endParaRPr>
          </a:p>
        </p:txBody>
      </p:sp>
      <p:sp>
        <p:nvSpPr>
          <p:cNvPr id="227" name="AutoShape 24"/>
          <p:cNvSpPr/>
          <p:nvPr/>
        </p:nvSpPr>
        <p:spPr>
          <a:xfrm rot="13357200">
            <a:off x="6173640" y="5900400"/>
            <a:ext cx="865440" cy="431640"/>
          </a:xfrm>
          <a:custGeom>
            <a:avLst/>
            <a:gdLst>
              <a:gd name="textAreaLeft" fmla="*/ 108000 w 865440"/>
              <a:gd name="textAreaRight" fmla="*/ 757440 w 865440"/>
              <a:gd name="textAreaTop" fmla="*/ 108000 h 431640"/>
              <a:gd name="textAreaBottom" fmla="*/ 324000 h 431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100"/>
              </a:spcBef>
              <a:buClr>
                <a:srgbClr val="f10d0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10d0d"/>
              </a:solidFill>
              <a:latin typeface="Times New Roman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9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2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8000"/>
                </a:solidFill>
                <a:latin typeface="Monotype Corsiva"/>
              </a:rPr>
              <a:t>Классификация изделий по способу носки</a:t>
            </a:r>
            <a:endParaRPr b="0" lang="en-US" sz="48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264600" y="2060280"/>
            <a:ext cx="738684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c643f"/>
                </a:solidFill>
                <a:latin typeface="Bookman Old Style"/>
              </a:rPr>
              <a:t>Способ носки</a:t>
            </a: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0" name="AutoShape 4"/>
          <p:cNvSpPr/>
          <p:nvPr/>
        </p:nvSpPr>
        <p:spPr>
          <a:xfrm rot="7625400">
            <a:off x="1281600" y="3263040"/>
            <a:ext cx="1755720" cy="503280"/>
          </a:xfrm>
          <a:custGeom>
            <a:avLst/>
            <a:gdLst>
              <a:gd name="textAreaLeft" fmla="*/ 219240 w 1755720"/>
              <a:gd name="textAreaRight" fmla="*/ 1536480 w 1755720"/>
              <a:gd name="textAreaTop" fmla="*/ 125640 h 503280"/>
              <a:gd name="textAreaBottom" fmla="*/ 3776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ddebcf"/>
              </a:gs>
              <a:gs pos="100000">
                <a:srgbClr val="ddebcf"/>
              </a:gs>
            </a:gsLst>
            <a:lin ang="16674000"/>
          </a:gradFill>
          <a:ln w="9360">
            <a:solidFill>
              <a:srgbClr val="79af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100"/>
              </a:spcBef>
              <a:buClr>
                <a:srgbClr val="f10d0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10d0d"/>
              </a:solidFill>
              <a:latin typeface="Times New Roman"/>
            </a:endParaRPr>
          </a:p>
        </p:txBody>
      </p:sp>
      <p:sp>
        <p:nvSpPr>
          <p:cNvPr id="231" name="AutoShape 5"/>
          <p:cNvSpPr/>
          <p:nvPr/>
        </p:nvSpPr>
        <p:spPr>
          <a:xfrm rot="3193800">
            <a:off x="4293360" y="3291480"/>
            <a:ext cx="1755720" cy="503280"/>
          </a:xfrm>
          <a:custGeom>
            <a:avLst/>
            <a:gdLst>
              <a:gd name="textAreaLeft" fmla="*/ 219240 w 1755720"/>
              <a:gd name="textAreaRight" fmla="*/ 1536480 w 1755720"/>
              <a:gd name="textAreaTop" fmla="*/ 125640 h 503280"/>
              <a:gd name="textAreaBottom" fmla="*/ 3776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ddebcf"/>
              </a:gs>
              <a:gs pos="100000">
                <a:srgbClr val="ddebcf"/>
              </a:gs>
            </a:gsLst>
            <a:lin ang="21108000"/>
          </a:gradFill>
          <a:ln w="9360">
            <a:solidFill>
              <a:srgbClr val="79af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100"/>
              </a:spcBef>
              <a:buClr>
                <a:srgbClr val="f10d0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10d0d"/>
              </a:solidFill>
              <a:latin typeface="Times New Roman"/>
            </a:endParaRPr>
          </a:p>
        </p:txBody>
      </p:sp>
      <p:sp>
        <p:nvSpPr>
          <p:cNvPr id="232" name="Text Box 6"/>
          <p:cNvSpPr/>
          <p:nvPr/>
        </p:nvSpPr>
        <p:spPr>
          <a:xfrm>
            <a:off x="468360" y="4508640"/>
            <a:ext cx="2735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c643f"/>
                </a:solidFill>
                <a:latin typeface="Bookman Old Style"/>
              </a:rPr>
              <a:t>плечевые изделия</a:t>
            </a:r>
            <a:endParaRPr b="1" lang="en-US" sz="3200" spc="-1" strike="noStrike">
              <a:solidFill>
                <a:srgbClr val="f10d0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0d0d"/>
              </a:solidFill>
              <a:latin typeface="Times New Roman"/>
            </a:endParaRPr>
          </a:p>
        </p:txBody>
      </p:sp>
      <p:sp>
        <p:nvSpPr>
          <p:cNvPr id="233" name="Text Box 7"/>
          <p:cNvSpPr/>
          <p:nvPr/>
        </p:nvSpPr>
        <p:spPr>
          <a:xfrm>
            <a:off x="4824360" y="4508640"/>
            <a:ext cx="2004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c643f"/>
                </a:solidFill>
                <a:latin typeface="Bookman Old Style"/>
              </a:rPr>
              <a:t>поясные </a:t>
            </a:r>
            <a:endParaRPr b="1" lang="en-US" sz="3200" spc="-1" strike="noStrike">
              <a:solidFill>
                <a:srgbClr val="f10d0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c643f"/>
                </a:solidFill>
                <a:latin typeface="Bookman Old Style"/>
              </a:rPr>
              <a:t>изделия</a:t>
            </a:r>
            <a:endParaRPr b="1" lang="en-US" sz="3200" spc="-1" strike="noStrike">
              <a:solidFill>
                <a:srgbClr val="f10d0d"/>
              </a:solidFill>
              <a:latin typeface="Times New Roman"/>
            </a:endParaRPr>
          </a:p>
        </p:txBody>
      </p:sp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0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da1102"/>
                </a:solidFill>
                <a:latin typeface="Book Antiqua"/>
              </a:rPr>
              <a:t>Классификация изделия </a:t>
            </a:r>
            <a:br>
              <a:rPr sz="4400"/>
            </a:br>
            <a:r>
              <a:rPr b="1" i="1" lang="ru-RU" sz="4400" spc="-1" strike="noStrike">
                <a:solidFill>
                  <a:srgbClr val="da1102"/>
                </a:solidFill>
                <a:latin typeface="Book Antiqua"/>
              </a:rPr>
              <a:t>по способу носки</a:t>
            </a: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39280" y="2492280"/>
            <a:ext cx="3372120" cy="420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80808"/>
                </a:solidFill>
                <a:latin typeface="Comic Sans MS"/>
              </a:rPr>
              <a:t>Юбка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80808"/>
                </a:solidFill>
                <a:latin typeface="Comic Sans MS"/>
              </a:rPr>
              <a:t>Плавки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80808"/>
                </a:solidFill>
                <a:latin typeface="Comic Sans MS"/>
              </a:rPr>
              <a:t>Пижама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80808"/>
                </a:solidFill>
                <a:latin typeface="Comic Sans MS"/>
              </a:rPr>
              <a:t>Ночная сорочка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80808"/>
                </a:solidFill>
                <a:latin typeface="Comic Sans MS"/>
              </a:rPr>
              <a:t>Фартук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80808"/>
                </a:solidFill>
                <a:latin typeface="Comic Sans MS"/>
              </a:rPr>
              <a:t>Купальник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80808"/>
                </a:solidFill>
                <a:latin typeface="Comic Sans MS"/>
              </a:rPr>
              <a:t>Куртка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80808"/>
                </a:solidFill>
                <a:latin typeface="Comic Sans MS"/>
              </a:rPr>
              <a:t>Халат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6" name="Text Box 4"/>
          <p:cNvSpPr/>
          <p:nvPr/>
        </p:nvSpPr>
        <p:spPr>
          <a:xfrm>
            <a:off x="4487760" y="2395440"/>
            <a:ext cx="2611440" cy="41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80808"/>
                </a:solidFill>
                <a:latin typeface="Comic Sans MS"/>
              </a:rPr>
              <a:t>Платье</a:t>
            </a:r>
            <a:endParaRPr b="1" lang="en-US" sz="2800" spc="-1" strike="noStrike">
              <a:solidFill>
                <a:srgbClr val="f10d0d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80808"/>
                </a:solidFill>
                <a:latin typeface="Comic Sans MS"/>
              </a:rPr>
              <a:t>Шуба</a:t>
            </a:r>
            <a:endParaRPr b="1" lang="en-US" sz="2800" spc="-1" strike="noStrike">
              <a:solidFill>
                <a:srgbClr val="f10d0d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80808"/>
                </a:solidFill>
                <a:latin typeface="Comic Sans MS"/>
              </a:rPr>
              <a:t>Брюки</a:t>
            </a:r>
            <a:endParaRPr b="1" lang="en-US" sz="2800" spc="-1" strike="noStrike">
              <a:solidFill>
                <a:srgbClr val="f10d0d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80808"/>
                </a:solidFill>
                <a:latin typeface="Comic Sans MS"/>
              </a:rPr>
              <a:t>Пальто</a:t>
            </a:r>
            <a:endParaRPr b="1" lang="en-US" sz="2800" spc="-1" strike="noStrike">
              <a:solidFill>
                <a:srgbClr val="f10d0d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80808"/>
                </a:solidFill>
                <a:latin typeface="Comic Sans MS"/>
              </a:rPr>
              <a:t>Блузка</a:t>
            </a:r>
            <a:endParaRPr b="1" lang="en-US" sz="2800" spc="-1" strike="noStrike">
              <a:solidFill>
                <a:srgbClr val="f10d0d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80808"/>
                </a:solidFill>
                <a:latin typeface="Comic Sans MS"/>
              </a:rPr>
              <a:t>Шорты</a:t>
            </a:r>
            <a:endParaRPr b="1" lang="en-US" sz="2800" spc="-1" strike="noStrike">
              <a:solidFill>
                <a:srgbClr val="f10d0d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80808"/>
                </a:solidFill>
                <a:latin typeface="Comic Sans MS"/>
              </a:rPr>
              <a:t>Жилет</a:t>
            </a:r>
            <a:endParaRPr b="1" lang="en-US" sz="2800" spc="-1" strike="noStrike">
              <a:solidFill>
                <a:srgbClr val="f10d0d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80808"/>
                </a:solidFill>
                <a:latin typeface="Comic Sans MS"/>
              </a:rPr>
              <a:t>Джинсы</a:t>
            </a:r>
            <a:endParaRPr b="1" lang="en-US" sz="2800" spc="-1" strike="noStrike">
              <a:solidFill>
                <a:srgbClr val="f10d0d"/>
              </a:solidFill>
              <a:latin typeface="Times New Roman"/>
            </a:endParaRPr>
          </a:p>
        </p:txBody>
      </p:sp>
      <p:sp>
        <p:nvSpPr>
          <p:cNvPr id="237" name="Text Box 5"/>
          <p:cNvSpPr/>
          <p:nvPr/>
        </p:nvSpPr>
        <p:spPr>
          <a:xfrm>
            <a:off x="699840" y="1311120"/>
            <a:ext cx="607284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Times New Roman"/>
              </a:rPr>
              <a:t>Из предложенных слов выбрать </a:t>
            </a:r>
            <a:endParaRPr b="1" lang="en-US" sz="2800" spc="-1" strike="noStrike">
              <a:solidFill>
                <a:srgbClr val="f10d0d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Times New Roman"/>
              </a:rPr>
              <a:t>плечевые и поясные изделия</a:t>
            </a:r>
            <a:endParaRPr b="1" lang="en-US" sz="2800" spc="-1" strike="noStrike">
              <a:solidFill>
                <a:srgbClr val="f10d0d"/>
              </a:solidFill>
              <a:latin typeface="Times New Roman"/>
            </a:endParaRPr>
          </a:p>
        </p:txBody>
      </p:sp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0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4" dur="5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8" dur="500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2" dur="5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5" dur="500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8" dur="500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1" dur="500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4" dur="500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7" dur="500"/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0" dur="500"/>
                                        <p:tgtEl>
                                          <p:spTgt spid="2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3" dur="500"/>
                                        <p:tgtEl>
                                          <p:spTgt spid="2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6" dur="5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9" dur="50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2" dur="500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5" dur="500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8" dur="500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1" dur="500"/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4" dur="500"/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7" dur="500"/>
                                        <p:tgtEl>
                                          <p:spTgt spid="2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9T07:51:13Z</dcterms:created>
  <dc:creator>Malkov</dc:creator>
  <dc:description/>
  <dc:language>en-US</dc:language>
  <cp:lastModifiedBy>Man2 Black</cp:lastModifiedBy>
  <dcterms:modified xsi:type="dcterms:W3CDTF">2023-01-19T08:09:30Z</dcterms:modified>
  <cp:revision>38</cp:revision>
  <dc:subject/>
  <dc:title>Слайд 1</dc:title>
</cp:coreProperties>
</file>