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5C3-9976-49D6-AB78-227106DD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DA5-D720-473F-B2A6-882AA2AC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4D340-450E-4F72-ACC5-D3290345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FA46D-3796-479D-8A02-A7D57CE3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83CC2-BE94-4E78-96C6-6F150761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58C7C-5184-4BEC-9B86-0211C87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F17AD-1C03-4EA5-BA3E-ADB4C021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128F5-82E5-4802-8D47-BAAACB18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04BDA-7FA4-4B34-B04D-A606C1CD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08A83-5F5A-4E28-B9C4-0A3907B5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18E3F-120C-4D77-AA34-40172EA6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438-7EA4-4762-A54B-167F002F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348-4283-4D2C-890B-2386BCA5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47B1-E82F-42CB-AAB2-E7047806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EE0D-112C-4DBD-9E70-AD7B1BAC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3747-24BD-4D7F-9F2A-E3A9B598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A022-6547-421A-ADC6-1BC765C8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94A0-2247-4A0C-A2E3-C78BE4D6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65BB-EF95-4629-B48A-CA0EC302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4693-36F0-4A90-AB0D-C9D49A1C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CE5-1B03-4585-8611-313D71C0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FEB3-8943-4026-9A8B-27D29C4C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A7D7-9328-45A6-9F27-5604D673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3CA8-5D16-4114-97FE-A0FF84E4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EECA-CC80-46E7-A1AF-C13EC716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58E8-0630-4629-A98F-A892A776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E977-0E9D-47A7-AAAF-9FF8F070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C8ED9-A098-4226-87D6-61293519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8A0A-7D13-42B8-A748-ED52CC2C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F964-84DE-4AB7-A323-322E83F6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FF82-CF46-4B09-9DA7-610BC050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BB2-DEC7-4DFF-9D80-3EA1AB27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8A45-A82D-4BEB-AC0E-635D5AA6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C79D-D17B-4048-98C9-BE179D11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28C3-517F-4D81-9BA4-66722CD3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48E2-635F-41D0-86CF-73405E5F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03C9-8A58-4824-98E3-2D61ABB2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4ECF2-3137-439C-877A-AABBE132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075E-D6E3-4899-A6AE-794B8808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67319-8E4E-435D-9046-AA7E67D6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7627B-D39E-42AB-9037-C6C158EC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72D61-CF4C-4F3C-9FC3-0D48DC98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E35-1401-41CE-98DD-6951FD33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24CBE-6FF9-4947-8024-667A95BC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ABD5E-3C3F-4E3B-B4DB-5E4D6226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F9A50-C8F9-4A28-9DF9-7F71070D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32670-AC7D-481B-AC30-861D60DD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17A87-71B0-4B21-886A-F331D1CA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628C0-4BE4-4156-ADBC-0506B2E2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78158-6B51-4A5A-9A37-FD540222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14693-7803-4062-8FD1-8FFA39CB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211DC-3C89-44BA-93BF-5D8AB661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5CAC3-48A0-4076-A5E6-6E22E9EF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B3E-5696-4C16-93C5-68DEFEBA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1696A-4054-47DB-8B68-2CB7932F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791F7-AA16-4349-9886-901DF16A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A607-35D9-426B-AA83-029E47C1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7BA84-F6A2-400E-836E-D3A6C8A6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81C86-6202-4A1E-9CCC-84DF6118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E1E7E-09B4-47DE-B6BD-687A52ED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F1428-BA82-44C8-8F99-4023528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1BA53-1A0D-4308-858D-BC90B03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CE966-FE30-47E1-B862-D44AA0D6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5A5BE-787D-4E62-86F5-0D850BD0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151-60AB-4B22-A604-9416A3CC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5F88-B103-4A39-B871-27B17309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EE52D-AFF8-41F9-A627-2410D097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90298-0147-4E7A-B2AB-7AA60072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EA043-12ED-48A6-9DBF-40333DEA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CD60C-BD45-44A5-9248-53122391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5A108-A9F1-4EAD-A0A3-ACF6EDC2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B1406-34F1-448E-B6B3-E40D85A4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79AA6-E27D-45AB-B0BA-C7CEF5EA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98FC4-1619-4A04-AAD2-ACBE8381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8ABB3-A4E0-4281-BBDC-2318E9D1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46A-7C31-4761-BB41-2BB4144B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664FB-C3ED-4D9D-828B-41E163C9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F19A8-B687-4ED5-8F78-02A750BA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7E6CE-0B30-4987-B6F7-60160D18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8F8FC-689E-4E5D-9635-9CF46371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6B4293-5D91-4D31-8D38-BE50D170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8D6C6-BD6C-4672-B1A1-809C96E2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503DA4-CCD3-419A-A15E-834732F9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4246F-9250-438C-A0D6-0358AACE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30E99-64FC-4B97-9CA4-A6ABD14C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60C2D-C09B-4B11-AA12-105CE90C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E31-0524-43E5-9896-5CA20414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4C3CA-F9DF-4F10-BEE5-EF1ABF6D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06574-94DE-4430-B034-C4FFC7CC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15207-495D-4C19-94B1-ED04D4B8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C4594B-8F92-4AFE-AE31-536460D2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EFC38-E03B-4949-8ED2-80CFAA8B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183001-52EE-4C65-BE05-89C64192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773962-2638-4AC6-AB11-3C49A843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A4A97-4F4E-42B2-9F92-95AEA540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B219F4-77B7-43DE-AC33-CB3CEFE9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9F6B1F-9C87-4D9E-9FE0-402467C9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7F8-970D-4B03-B993-15A18C7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161521-E76C-4C38-A2A8-26220709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E0B261-AD0C-449A-AADA-249A5C23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1E401F-D46F-463A-A9C3-11775DD5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5A1BA3-D0F1-410E-8D28-4BD95128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9DDC08-522D-4149-9D93-FD31DC63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4588B1-97AE-449E-BDEF-C3399D86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690951-3671-4765-B1AD-0B480CFE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880AB-BB46-4EE3-867B-45EB3427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FC0D3-A3F8-4D98-9592-FB5FDED4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43710-97F5-41F8-9BB0-47ECB621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37CFCD-2500-47D9-91ED-46A3DAEEC6BC}" type="slidenum">
              <a:rPr b="0" lang="en-GB" sz="14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5DE3C6-3212-4698-8634-334DEB518118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3DBF96-9B16-4D45-8F10-5F3D49006F87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37CEEF-00EC-4F18-BB51-A7424752DA29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B99DD1-E416-4552-9765-807E32C3E7D1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31F19D-FF60-4F64-9247-89FCD2037B12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435301-518B-4C3A-9507-CDD9AA904F34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6084E3-6B96-44C7-8349-F2B7D4ACDF97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447EAD-751A-4F3E-B411-FB68A4A0DD41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4.wmf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6.wmf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РАСПРЕДЕЛЕНИЕ ЭЛЕКТРОНОВ В АТОМАХ ЭЛЕМЕНТОВ МАЛЫХ ПЕРИ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50920" y="5157360"/>
            <a:ext cx="684216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БОУ «СОШ им. Н.Н, Яковлев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лекминс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Прямоугольник 4"/>
          <p:cNvSpPr/>
          <p:nvPr/>
        </p:nvSpPr>
        <p:spPr>
          <a:xfrm>
            <a:off x="4015080" y="324468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В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3989520" y="4157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ель химии Федорова В.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7"/>
          <p:cNvSpPr/>
          <p:nvPr/>
        </p:nvSpPr>
        <p:spPr>
          <a:xfrm>
            <a:off x="3851280" y="32446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В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Скругленный прямоугольник 18"/>
          <p:cNvSpPr/>
          <p:nvPr/>
        </p:nvSpPr>
        <p:spPr>
          <a:xfrm>
            <a:off x="2962440" y="4532400"/>
            <a:ext cx="2592360" cy="1008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РАСПРЕДЕЛЕНИЕ ЭЛЕКТРОНОВ В АТОМАХ ЭЛЕМЕНТОВ МАЛЫХ ПЕРИОДОВ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555640" y="1197000"/>
            <a:ext cx="3384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Строение атом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TextBox 2"/>
          <p:cNvSpPr/>
          <p:nvPr/>
        </p:nvSpPr>
        <p:spPr>
          <a:xfrm>
            <a:off x="4003920" y="1773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1" name="Прямая со стрелкой 4"/>
          <p:cNvCxnSpPr/>
          <p:nvPr/>
        </p:nvCxnSpPr>
        <p:spPr>
          <a:xfrm flipH="1">
            <a:off x="3492000" y="2141280"/>
            <a:ext cx="511920" cy="208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72" name="Прямая со стрелкой 6"/>
          <p:cNvCxnSpPr/>
          <p:nvPr/>
        </p:nvCxnSpPr>
        <p:spPr>
          <a:xfrm>
            <a:off x="4726080" y="2141280"/>
            <a:ext cx="567360" cy="208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73" name="TextBox 7"/>
          <p:cNvSpPr/>
          <p:nvPr/>
        </p:nvSpPr>
        <p:spPr>
          <a:xfrm>
            <a:off x="2658960" y="2492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дро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5198760" y="249228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ы 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5" name="Прямая со стрелкой 9"/>
          <p:cNvCxnSpPr/>
          <p:nvPr/>
        </p:nvCxnSpPr>
        <p:spPr>
          <a:xfrm flipH="1">
            <a:off x="1907280" y="2862360"/>
            <a:ext cx="745560" cy="351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76" name="Прямая со стрелкой 12"/>
          <p:cNvCxnSpPr/>
          <p:nvPr/>
        </p:nvCxnSpPr>
        <p:spPr>
          <a:xfrm>
            <a:off x="3492360" y="2862360"/>
            <a:ext cx="648360" cy="351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77" name="TextBox 13"/>
          <p:cNvSpPr/>
          <p:nvPr/>
        </p:nvSpPr>
        <p:spPr>
          <a:xfrm>
            <a:off x="992880" y="331632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н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14"/>
          <p:cNvSpPr/>
          <p:nvPr/>
        </p:nvSpPr>
        <p:spPr>
          <a:xfrm>
            <a:off x="3898800" y="33163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йтрон 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5" descr=""/>
          <p:cNvPicPr/>
          <p:nvPr/>
        </p:nvPicPr>
        <p:blipFill>
          <a:blip r:embed="rId1"/>
          <a:stretch/>
        </p:blipFill>
        <p:spPr>
          <a:xfrm>
            <a:off x="3121200" y="4687920"/>
            <a:ext cx="22762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-33840" y="404280"/>
            <a:ext cx="9014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ространство вокруг атомного ядра, в котором наиболее вероятно нахождение электрона, называют орбиталью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 Schoolbook"/>
              </a:rPr>
              <a:t>Максимальное количество электронов на энергетическом уровн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1 (К) 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max 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оличество электронов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2 (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L) max 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оличество электронов 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3 (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N)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max 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оличество электронов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4 (О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)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max 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оличество электронов 3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1933560" cy="981000"/>
          </a:xfrm>
          <a:prstGeom prst="rect">
            <a:avLst/>
          </a:prstGeom>
          <a:ln w="0">
            <a:noFill/>
          </a:ln>
        </p:spPr>
      </p:pic>
      <p:cxnSp>
        <p:nvCxnSpPr>
          <p:cNvPr id="482" name="Прямая со стрелкой 5"/>
          <p:cNvCxnSpPr/>
          <p:nvPr/>
        </p:nvCxnSpPr>
        <p:spPr>
          <a:xfrm flipH="1" flipV="1">
            <a:off x="4858920" y="3680640"/>
            <a:ext cx="1226160" cy="723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TextBox 6"/>
          <p:cNvSpPr/>
          <p:nvPr/>
        </p:nvSpPr>
        <p:spPr>
          <a:xfrm>
            <a:off x="6093000" y="355932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ер пери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4" name="Прямая со стрелкой 8"/>
          <p:cNvCxnSpPr/>
          <p:nvPr/>
        </p:nvCxnSpPr>
        <p:spPr>
          <a:xfrm flipV="1">
            <a:off x="2339640" y="3558960"/>
            <a:ext cx="1152720" cy="1224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5" name="TextBox 9"/>
          <p:cNvSpPr/>
          <p:nvPr/>
        </p:nvSpPr>
        <p:spPr>
          <a:xfrm>
            <a:off x="971640" y="3357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2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Century Schoolbook"/>
              </a:rPr>
              <a:t>ФОРМЫ ЭЛЕКТРОННЫХ ОБЛАКОВ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87" name="Объект 4"/>
          <p:cNvGraphicFramePr/>
          <p:nvPr/>
        </p:nvGraphicFramePr>
        <p:xfrm>
          <a:off x="396720" y="1770120"/>
          <a:ext cx="93672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1770120"/>
                    <a:ext cx="93672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Объект 5"/>
          <p:cNvGraphicFramePr/>
          <p:nvPr/>
        </p:nvGraphicFramePr>
        <p:xfrm>
          <a:off x="2084400" y="1844640"/>
          <a:ext cx="12063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1844640"/>
                    <a:ext cx="1206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Объект 7"/>
          <p:cNvGraphicFramePr/>
          <p:nvPr/>
        </p:nvGraphicFramePr>
        <p:xfrm>
          <a:off x="4105440" y="1455840"/>
          <a:ext cx="1223640" cy="12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2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05440" y="1455840"/>
                    <a:ext cx="12236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3" name="Рисунок 8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343560" y="126828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494" name="TextBox 9"/>
          <p:cNvSpPr/>
          <p:nvPr/>
        </p:nvSpPr>
        <p:spPr>
          <a:xfrm>
            <a:off x="108000" y="2901960"/>
            <a:ext cx="17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рбита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10"/>
          <p:cNvSpPr/>
          <p:nvPr/>
        </p:nvSpPr>
        <p:spPr>
          <a:xfrm>
            <a:off x="1979640" y="2914560"/>
            <a:ext cx="17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рбита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11"/>
          <p:cNvSpPr/>
          <p:nvPr/>
        </p:nvSpPr>
        <p:spPr>
          <a:xfrm>
            <a:off x="4075200" y="2975040"/>
            <a:ext cx="17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рбита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12"/>
          <p:cNvSpPr/>
          <p:nvPr/>
        </p:nvSpPr>
        <p:spPr>
          <a:xfrm>
            <a:off x="6343560" y="2965320"/>
            <a:ext cx="17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рбита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10" descr=""/>
          <p:cNvPicPr/>
          <p:nvPr/>
        </p:nvPicPr>
        <p:blipFill>
          <a:blip r:embed="rId8"/>
          <a:stretch/>
        </p:blipFill>
        <p:spPr>
          <a:xfrm>
            <a:off x="579600" y="352728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"/>
          <p:cNvPicPr/>
          <p:nvPr/>
        </p:nvPicPr>
        <p:blipFill>
          <a:blip r:embed="rId9"/>
          <a:stretch/>
        </p:blipFill>
        <p:spPr>
          <a:xfrm>
            <a:off x="2463840" y="34956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"/>
          <p:cNvPicPr/>
          <p:nvPr/>
        </p:nvPicPr>
        <p:blipFill>
          <a:blip r:embed="rId10"/>
          <a:stretch/>
        </p:blipFill>
        <p:spPr>
          <a:xfrm>
            <a:off x="4506840" y="3467160"/>
            <a:ext cx="714600" cy="476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"/>
          <p:cNvPicPr/>
          <p:nvPr/>
        </p:nvPicPr>
        <p:blipFill>
          <a:blip r:embed="rId11"/>
          <a:stretch/>
        </p:blipFill>
        <p:spPr>
          <a:xfrm>
            <a:off x="6818400" y="3473280"/>
            <a:ext cx="78084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2" name="Объект 15"/>
          <p:cNvGraphicFramePr/>
          <p:nvPr/>
        </p:nvGraphicFramePr>
        <p:xfrm>
          <a:off x="647640" y="4149720"/>
          <a:ext cx="390600" cy="455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3" name="Объект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7640" y="4149720"/>
                    <a:ext cx="3906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Объект 16"/>
          <p:cNvGraphicFramePr/>
          <p:nvPr/>
        </p:nvGraphicFramePr>
        <p:xfrm>
          <a:off x="2092320" y="4149720"/>
          <a:ext cx="1071720" cy="455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05" name="Объект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92320" y="4149720"/>
                    <a:ext cx="10717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Объект 17"/>
          <p:cNvGraphicFramePr/>
          <p:nvPr/>
        </p:nvGraphicFramePr>
        <p:xfrm>
          <a:off x="3933720" y="4149720"/>
          <a:ext cx="1752840" cy="463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07" name="Объект 1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3720" y="4149720"/>
                    <a:ext cx="17528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Объект 18"/>
          <p:cNvGraphicFramePr/>
          <p:nvPr/>
        </p:nvGraphicFramePr>
        <p:xfrm>
          <a:off x="5850000" y="4149720"/>
          <a:ext cx="2425680" cy="465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09" name="Объект 1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50000" y="4149720"/>
                    <a:ext cx="24256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0" name="Прямоугольник 19" descr=""/>
          <p:cNvPicPr/>
          <p:nvPr/>
        </p:nvPicPr>
        <p:blipFill>
          <a:blip r:embed="rId20"/>
          <a:stretch/>
        </p:blipFill>
        <p:spPr>
          <a:xfrm>
            <a:off x="1444680" y="5138640"/>
            <a:ext cx="1054080" cy="68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Объект 20"/>
          <p:cNvGraphicFramePr/>
          <p:nvPr/>
        </p:nvGraphicFramePr>
        <p:xfrm>
          <a:off x="2470320" y="5284800"/>
          <a:ext cx="126720" cy="569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12" name="Объект 2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470320" y="5284800"/>
                    <a:ext cx="126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Объект 21"/>
          <p:cNvGraphicFramePr/>
          <p:nvPr/>
        </p:nvGraphicFramePr>
        <p:xfrm>
          <a:off x="2722680" y="5265720"/>
          <a:ext cx="126720" cy="569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14" name="Объект 2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22680" y="5265720"/>
                    <a:ext cx="126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Picture 21" descr=""/>
          <p:cNvPicPr/>
          <p:nvPr/>
        </p:nvPicPr>
        <p:blipFill>
          <a:blip r:embed="rId25"/>
          <a:stretch/>
        </p:blipFill>
        <p:spPr>
          <a:xfrm>
            <a:off x="2211480" y="5854680"/>
            <a:ext cx="49824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2" descr=""/>
          <p:cNvPicPr/>
          <p:nvPr/>
        </p:nvPicPr>
        <p:blipFill>
          <a:blip r:embed="rId26"/>
          <a:stretch/>
        </p:blipFill>
        <p:spPr>
          <a:xfrm>
            <a:off x="2550960" y="5821200"/>
            <a:ext cx="648000" cy="5241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3" descr=""/>
          <p:cNvPicPr/>
          <p:nvPr/>
        </p:nvPicPr>
        <p:blipFill>
          <a:blip r:embed="rId27"/>
          <a:stretch/>
        </p:blipFill>
        <p:spPr>
          <a:xfrm>
            <a:off x="5451480" y="5297400"/>
            <a:ext cx="1390680" cy="752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4" descr=""/>
          <p:cNvPicPr/>
          <p:nvPr/>
        </p:nvPicPr>
        <p:blipFill>
          <a:blip r:embed="rId28"/>
          <a:stretch/>
        </p:blipFill>
        <p:spPr>
          <a:xfrm>
            <a:off x="4819680" y="5592600"/>
            <a:ext cx="485640" cy="457200"/>
          </a:xfrm>
          <a:prstGeom prst="rect">
            <a:avLst/>
          </a:prstGeom>
          <a:ln w="0">
            <a:noFill/>
          </a:ln>
        </p:spPr>
      </p:pic>
      <p:pic>
        <p:nvPicPr>
          <p:cNvPr id="519" name="Прямоугольник 22" descr=""/>
          <p:cNvPicPr/>
          <p:nvPr/>
        </p:nvPicPr>
        <p:blipFill>
          <a:blip r:embed="rId29"/>
          <a:stretch/>
        </p:blipFill>
        <p:spPr>
          <a:xfrm>
            <a:off x="5035680" y="5353200"/>
            <a:ext cx="60948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entury Schoolbook"/>
              </a:rPr>
              <a:t>ДОМ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Написать электронные конфигурации для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Na, N, Ar, 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Valentina Fedorova</cp:lastModifiedBy>
  <dcterms:modified xsi:type="dcterms:W3CDTF">2023-01-19T08:19:22Z</dcterms:modified>
  <cp:revision>75</cp:revision>
  <dc:subject/>
  <dc:title>PowerPoint Presentation</dc:title>
</cp:coreProperties>
</file>