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0D3-A758-4A6A-8D1B-341188F0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9A2-2378-451D-A454-4B18C58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D53EF-8C50-47AC-91AC-B6B0D931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BA1DD-B46E-4CF3-B137-42697FE9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030C7-98EB-4110-9D5C-25FDF7F1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E918-5893-42C9-ADF6-1CBCC9F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475AC-C49A-4BCA-8915-F0D52E9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F9170-5617-4B83-862F-B271E85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71F15-8269-4ADB-A70A-DFB02C92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7251F-752E-4BD9-B5A0-42BCE81B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DE263-661D-4E9E-9ECE-ECB5B717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FD6-B515-4EFD-AF62-96BD7D31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2CD-1F0C-4588-AC90-3C2998B8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8DA7-CF3D-43D5-8831-8549F7BF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673F-C348-4A03-911B-8E63DE56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55D-E5FB-47C6-812F-6DEB114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4449-90BB-41A4-A936-D8CC6F9E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D256-C5FB-437D-A44D-A18B9D7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BB6-5F40-40A2-87D9-018B03EB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15EF-7920-4542-A633-6A0CD40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974-AD20-4DDD-8E8E-863B5852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51C6-832C-433D-AB86-E4319233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CB61-6AA3-42FE-8DEF-CA54134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548-B1CA-47AC-A53B-7822152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E00-C017-48C5-8ECD-9CB310EF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F9AC-E89D-4047-9500-B531EE2A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901E-DEEB-412B-91CD-3DC795D6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A9BA-F8AA-4455-B27A-EAC6E1FA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712C-9C50-45DF-AD3F-D5848E29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9D5A-908C-415F-BA4A-C00AA05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2D4D7-626E-4746-A27E-A9358916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776-579C-4FA3-A96B-2F46A285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A98B-F6CF-4353-B8F4-DE46B99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FC3B-EB54-4580-95D2-6E291C18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170A-593D-4F61-AABA-288A3E6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8B080-47EA-4003-A209-96FCDD3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C3D9-FA86-45C6-8E24-05194D1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9087-0864-4DEB-814E-C66EC36D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5FAE-026F-47FD-81EC-6A458A35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9C3E9-351E-4929-A482-1D1A93CA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9C6FD-6BEA-4A23-9635-99C324F4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FE6DC-A96B-4437-8804-D917B13D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B9A-BBEA-4D17-B720-D4CD4231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D0A44-CCF2-405D-A248-244CD4AA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7CCAE-0786-4CF3-BFF7-DC69F165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C2C71-0D92-4755-818C-DBDC0C5B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74A28-4A0D-4C29-9700-E108C30E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D29D7-6179-4C18-8FA5-513BFC7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9ECF9-6925-4032-8014-4751EC4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99DF0-6E37-4C46-8619-6200A1AC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508AD-5CAE-4A3E-BF7A-321D9E58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CFEDA-C71C-4869-B3D2-0B1F23A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BD444-E9E6-45AC-9EF9-1DE26021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741-CE0D-41C5-BF83-A8211E75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E068A-B8CB-4D9D-86E1-B80C280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2904-73AA-4D0B-91E1-5ED71E92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A99D-C4B3-4A69-A374-0DE33A68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4ACE-997A-45DA-8527-F311EE3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511EB-8117-443A-A1DE-3083D3E3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EAA7-BB15-436A-BEEA-D0A16288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9FE5-E19C-4807-8D02-F1B8A9F1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C367-FC3E-45D6-B7B9-1ABA7AE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AFBA-E1F2-454C-93F6-AA20C79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C0BE4-3BA3-4AC4-B1F6-2217D0F7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1C5-C30B-4536-86A9-7389D02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5A07-ACC7-4DBF-9953-CE0FEC34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509C9-3E44-4D77-AA1B-6C912BE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8EFDD-8C74-4DC0-8972-D30030D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9014C-0B51-40E8-823B-B17A594C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284A1-ED1A-41F2-8ADD-2C2E1D0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F3637-A633-440E-B180-5756C62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3DF41-9348-407B-A44B-4FE4B6BC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78A67-BB6B-4B8C-A21C-3B21EB0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B8BE0-1E89-4DFB-B84A-5C5FF0F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EA019-5D2A-4E59-BFD5-E0FF48B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AC7-3118-47DC-889B-C493634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7534D-8671-4112-B9D5-8361C2C4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ACF7C-AF53-406A-9030-F2707D6F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16420-8C70-49EF-91D3-2D625F16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73E2B-8D78-44B4-8DAD-9CFBD40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10044-EDFC-4988-987A-CB92ED4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9BFF9-EBFB-4DD9-A263-8E2C90E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48822-73BD-4FA3-A952-82AF3995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C9BCC-0654-47A0-8AEE-C7FE0880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D6F8B-7ABD-4017-9257-9330A1F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D8268-5CD8-45FE-9831-17839EF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B52-9B6D-40D1-8011-DE034DB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3E7C3-D780-4E53-8656-CAF3437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6BEB6-C0C7-4055-97ED-6878731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2D3E3-EEFE-4A61-BE3D-AEB67ADA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571AA-C510-4804-9ADF-9878C800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4CB60-94B8-4545-B78B-3FA88EF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C9D22-E670-440F-957D-A05EAC1D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70E359-8FEE-4407-BA5C-280B1E6E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EED44-8B20-4F44-A2AB-20247C76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488B0-1CFD-4560-A7D5-94B6192F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EED346-77F2-47C6-86B3-D433A6D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AF4-EAEB-4606-861A-368AE6A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0F0659-5DA6-4BC5-B05D-59D22D86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47C7B-08BA-4243-B33E-35D7FF0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692F3A-7D9F-4F16-9513-82FD7A0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54782-ADA8-4FC8-A7F0-000C914B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FD94B-B6FC-4B9E-9A36-D92CCB7C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21E1D-21A0-4788-8F6F-761243AA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0569E-38AF-469B-A33F-08C1B162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CF21E-5DC5-41B1-88D4-A2D8C21E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A9E94-4E46-46AD-8D57-90BA97DF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0796-70CA-4DEE-BF90-24E43573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60278A-92C4-45FD-94D5-EC513BD28842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84D07E-BB4D-424D-B7F8-9BC7B134D85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5C2D2F-E397-46E3-8A59-6D3F05FC751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702BC1-5C46-4C42-AF9B-63E21EEE1A2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ACCDE0-04A1-4477-8F00-A20CE3448C92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B568E1-E5C9-47DD-A6E8-F8558430A0B9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F1D078-942F-4F3F-A3ED-049CEC837337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0A7FDF-B0BD-4F05-B8A0-EBD2B68DF42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D0C1B7-3E04-4BF3-B0F2-986F4D916E4C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4.wmf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6.wmf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РАСПРЕДЕЛЕНИЕ ЭЛЕКТРОНОВ В АТОМАХ ЭЛЕМЕНТОВ МАЛЫХ ПЕРИ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50920" y="5157360"/>
            <a:ext cx="684216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БОУ «СОШ им. Н.Н, Яковлев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лекминс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Прямоугольник 4"/>
          <p:cNvSpPr/>
          <p:nvPr/>
        </p:nvSpPr>
        <p:spPr>
          <a:xfrm>
            <a:off x="4015080" y="324468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В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3989520" y="4157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ь химии Федорова В.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851280" y="32446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В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Скругленный прямоугольник 18"/>
          <p:cNvSpPr/>
          <p:nvPr/>
        </p:nvSpPr>
        <p:spPr>
          <a:xfrm>
            <a:off x="2962440" y="4532400"/>
            <a:ext cx="2592360" cy="1008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РАСПРЕДЕЛЕНИЕ ЭЛЕКТРОНОВ В АТОМАХ ЭЛЕМЕНТОВ МАЛЫХ ПЕРИОДОВ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55640" y="1197000"/>
            <a:ext cx="3384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entury Schoolbook"/>
              </a:rPr>
              <a:t>Строение атом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4003920" y="1773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1" name="Прямая со стрелкой 4"/>
          <p:cNvCxnSpPr/>
          <p:nvPr/>
        </p:nvCxnSpPr>
        <p:spPr>
          <a:xfrm flipH="1">
            <a:off x="3492000" y="2141280"/>
            <a:ext cx="511920" cy="208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72" name="Прямая со стрелкой 6"/>
          <p:cNvCxnSpPr/>
          <p:nvPr/>
        </p:nvCxnSpPr>
        <p:spPr>
          <a:xfrm>
            <a:off x="4726080" y="2141280"/>
            <a:ext cx="567360" cy="208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73" name="TextBox 7"/>
          <p:cNvSpPr/>
          <p:nvPr/>
        </p:nvSpPr>
        <p:spPr>
          <a:xfrm>
            <a:off x="2658960" y="2492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ро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198760" y="249228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ы 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5" name="Прямая со стрелкой 9"/>
          <p:cNvCxnSpPr/>
          <p:nvPr/>
        </p:nvCxnSpPr>
        <p:spPr>
          <a:xfrm flipH="1">
            <a:off x="1907280" y="2862360"/>
            <a:ext cx="745560" cy="351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76" name="Прямая со стрелкой 12"/>
          <p:cNvCxnSpPr/>
          <p:nvPr/>
        </p:nvCxnSpPr>
        <p:spPr>
          <a:xfrm>
            <a:off x="3492360" y="2862360"/>
            <a:ext cx="648360" cy="351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77" name="TextBox 13"/>
          <p:cNvSpPr/>
          <p:nvPr/>
        </p:nvSpPr>
        <p:spPr>
          <a:xfrm>
            <a:off x="992880" y="33163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н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4"/>
          <p:cNvSpPr/>
          <p:nvPr/>
        </p:nvSpPr>
        <p:spPr>
          <a:xfrm>
            <a:off x="3898800" y="33163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трон (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1"/>
          <a:stretch/>
        </p:blipFill>
        <p:spPr>
          <a:xfrm>
            <a:off x="3121200" y="4687920"/>
            <a:ext cx="22762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-33840" y="404280"/>
            <a:ext cx="9014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Пространство вокруг атомного ядра, в котором наиболее вероятно нахождение электрона, называют орбиталью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 Schoolbook"/>
              </a:rPr>
              <a:t>Максимальное количество электронов на энергетическом уровн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1 (К) 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2 (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L) 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3 (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N)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4 (О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)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Century Schoolbook"/>
              </a:rPr>
              <a:t>max </a:t>
            </a:r>
            <a:r>
              <a:rPr b="1" lang="ru-RU" sz="1800" spc="-1" strike="noStrike">
                <a:solidFill>
                  <a:srgbClr val="9933ff"/>
                </a:solidFill>
                <a:latin typeface="Century Schoolbook"/>
              </a:rPr>
              <a:t>количество электронов 3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1933560" cy="981000"/>
          </a:xfrm>
          <a:prstGeom prst="rect">
            <a:avLst/>
          </a:prstGeom>
          <a:ln w="0">
            <a:noFill/>
          </a:ln>
        </p:spPr>
      </p:pic>
      <p:cxnSp>
        <p:nvCxnSpPr>
          <p:cNvPr id="482" name="Прямая со стрелкой 5"/>
          <p:cNvCxnSpPr/>
          <p:nvPr/>
        </p:nvCxnSpPr>
        <p:spPr>
          <a:xfrm flipH="1" flipV="1">
            <a:off x="4858920" y="3680640"/>
            <a:ext cx="1226160" cy="72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TextBox 6"/>
          <p:cNvSpPr/>
          <p:nvPr/>
        </p:nvSpPr>
        <p:spPr>
          <a:xfrm>
            <a:off x="6093000" y="355932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ер пери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4" name="Прямая со стрелкой 8"/>
          <p:cNvCxnSpPr/>
          <p:nvPr/>
        </p:nvCxnSpPr>
        <p:spPr>
          <a:xfrm flipV="1">
            <a:off x="2339640" y="3558960"/>
            <a:ext cx="1152720" cy="1224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5" name="TextBox 9"/>
          <p:cNvSpPr/>
          <p:nvPr/>
        </p:nvSpPr>
        <p:spPr>
          <a:xfrm>
            <a:off x="971640" y="3357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2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Century Schoolbook"/>
              </a:rPr>
              <a:t>ФОРМЫ ЭЛЕКТРОННЫХ ОБЛАКОВ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87" name="Объект 4"/>
          <p:cNvGraphicFramePr/>
          <p:nvPr/>
        </p:nvGraphicFramePr>
        <p:xfrm>
          <a:off x="396720" y="1770120"/>
          <a:ext cx="93672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770120"/>
                    <a:ext cx="93672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Объект 5"/>
          <p:cNvGraphicFramePr/>
          <p:nvPr/>
        </p:nvGraphicFramePr>
        <p:xfrm>
          <a:off x="2084400" y="1844640"/>
          <a:ext cx="12063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1844640"/>
                    <a:ext cx="1206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Объект 7"/>
          <p:cNvGraphicFramePr/>
          <p:nvPr/>
        </p:nvGraphicFramePr>
        <p:xfrm>
          <a:off x="4105440" y="1455840"/>
          <a:ext cx="1223640" cy="12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5440" y="1455840"/>
                    <a:ext cx="12236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3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343560" y="12682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9"/>
          <p:cNvSpPr/>
          <p:nvPr/>
        </p:nvSpPr>
        <p:spPr>
          <a:xfrm>
            <a:off x="108000" y="290196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10"/>
          <p:cNvSpPr/>
          <p:nvPr/>
        </p:nvSpPr>
        <p:spPr>
          <a:xfrm>
            <a:off x="1979640" y="291456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4075200" y="297504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12"/>
          <p:cNvSpPr/>
          <p:nvPr/>
        </p:nvSpPr>
        <p:spPr>
          <a:xfrm>
            <a:off x="6343560" y="296532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рбита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0" descr=""/>
          <p:cNvPicPr/>
          <p:nvPr/>
        </p:nvPicPr>
        <p:blipFill>
          <a:blip r:embed="rId8"/>
          <a:stretch/>
        </p:blipFill>
        <p:spPr>
          <a:xfrm>
            <a:off x="579600" y="352728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"/>
          <p:cNvPicPr/>
          <p:nvPr/>
        </p:nvPicPr>
        <p:blipFill>
          <a:blip r:embed="rId9"/>
          <a:stretch/>
        </p:blipFill>
        <p:spPr>
          <a:xfrm>
            <a:off x="2463840" y="34956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"/>
          <p:cNvPicPr/>
          <p:nvPr/>
        </p:nvPicPr>
        <p:blipFill>
          <a:blip r:embed="rId10"/>
          <a:stretch/>
        </p:blipFill>
        <p:spPr>
          <a:xfrm>
            <a:off x="4506840" y="3467160"/>
            <a:ext cx="714600" cy="476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"/>
          <p:cNvPicPr/>
          <p:nvPr/>
        </p:nvPicPr>
        <p:blipFill>
          <a:blip r:embed="rId11"/>
          <a:stretch/>
        </p:blipFill>
        <p:spPr>
          <a:xfrm>
            <a:off x="6818400" y="3473280"/>
            <a:ext cx="78084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2" name="Объект 15"/>
          <p:cNvGraphicFramePr/>
          <p:nvPr/>
        </p:nvGraphicFramePr>
        <p:xfrm>
          <a:off x="647640" y="4149720"/>
          <a:ext cx="390600" cy="455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3" name="Объект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7640" y="4149720"/>
                    <a:ext cx="3906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Объект 16"/>
          <p:cNvGraphicFramePr/>
          <p:nvPr/>
        </p:nvGraphicFramePr>
        <p:xfrm>
          <a:off x="2092320" y="4149720"/>
          <a:ext cx="1071720" cy="455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5" name="Объект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92320" y="4149720"/>
                    <a:ext cx="10717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Объект 17"/>
          <p:cNvGraphicFramePr/>
          <p:nvPr/>
        </p:nvGraphicFramePr>
        <p:xfrm>
          <a:off x="3933720" y="4149720"/>
          <a:ext cx="1752840" cy="463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7" name="Объект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33720" y="4149720"/>
                    <a:ext cx="17528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Объект 18"/>
          <p:cNvGraphicFramePr/>
          <p:nvPr/>
        </p:nvGraphicFramePr>
        <p:xfrm>
          <a:off x="5850000" y="4149720"/>
          <a:ext cx="2425680" cy="465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9" name="Объект 1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50000" y="4149720"/>
                    <a:ext cx="2425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0" name="Прямоугольник 19" descr=""/>
          <p:cNvPicPr/>
          <p:nvPr/>
        </p:nvPicPr>
        <p:blipFill>
          <a:blip r:embed="rId20"/>
          <a:stretch/>
        </p:blipFill>
        <p:spPr>
          <a:xfrm>
            <a:off x="1444680" y="5138640"/>
            <a:ext cx="105408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Объект 20"/>
          <p:cNvGraphicFramePr/>
          <p:nvPr/>
        </p:nvGraphicFramePr>
        <p:xfrm>
          <a:off x="2470320" y="5284800"/>
          <a:ext cx="12672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2" name="Объект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70320" y="5284800"/>
                    <a:ext cx="126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Объект 21"/>
          <p:cNvGraphicFramePr/>
          <p:nvPr/>
        </p:nvGraphicFramePr>
        <p:xfrm>
          <a:off x="2722680" y="5265720"/>
          <a:ext cx="126720" cy="569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14" name="Объект 2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22680" y="5265720"/>
                    <a:ext cx="126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Picture 21" descr=""/>
          <p:cNvPicPr/>
          <p:nvPr/>
        </p:nvPicPr>
        <p:blipFill>
          <a:blip r:embed="rId25"/>
          <a:stretch/>
        </p:blipFill>
        <p:spPr>
          <a:xfrm>
            <a:off x="2211480" y="5854680"/>
            <a:ext cx="49824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2" descr=""/>
          <p:cNvPicPr/>
          <p:nvPr/>
        </p:nvPicPr>
        <p:blipFill>
          <a:blip r:embed="rId26"/>
          <a:stretch/>
        </p:blipFill>
        <p:spPr>
          <a:xfrm>
            <a:off x="2550960" y="5821200"/>
            <a:ext cx="648000" cy="524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3" descr=""/>
          <p:cNvPicPr/>
          <p:nvPr/>
        </p:nvPicPr>
        <p:blipFill>
          <a:blip r:embed="rId27"/>
          <a:stretch/>
        </p:blipFill>
        <p:spPr>
          <a:xfrm>
            <a:off x="5451480" y="5297400"/>
            <a:ext cx="1390680" cy="752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4" descr=""/>
          <p:cNvPicPr/>
          <p:nvPr/>
        </p:nvPicPr>
        <p:blipFill>
          <a:blip r:embed="rId28"/>
          <a:stretch/>
        </p:blipFill>
        <p:spPr>
          <a:xfrm>
            <a:off x="4819680" y="5592600"/>
            <a:ext cx="485640" cy="457200"/>
          </a:xfrm>
          <a:prstGeom prst="rect">
            <a:avLst/>
          </a:prstGeom>
          <a:ln w="0">
            <a:noFill/>
          </a:ln>
        </p:spPr>
      </p:pic>
      <p:pic>
        <p:nvPicPr>
          <p:cNvPr id="519" name="Прямоугольник 22" descr=""/>
          <p:cNvPicPr/>
          <p:nvPr/>
        </p:nvPicPr>
        <p:blipFill>
          <a:blip r:embed="rId29"/>
          <a:stretch/>
        </p:blipFill>
        <p:spPr>
          <a:xfrm>
            <a:off x="5035680" y="5353200"/>
            <a:ext cx="60948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Century Schoolbook"/>
              </a:rPr>
              <a:t>ДОМ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аписать электронные конфигурации для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Na, N, Ar, 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Valentina Fedorova</cp:lastModifiedBy>
  <dcterms:modified xsi:type="dcterms:W3CDTF">2023-01-19T08:19:22Z</dcterms:modified>
  <cp:revision>75</cp:revision>
  <dc:subject/>
  <dc:title>PowerPoint Presentation</dc:title>
</cp:coreProperties>
</file>