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6B4-1D91-4A7F-9365-14BD7DBA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3C2-5D59-4FB9-BC05-CDEA4CB0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5AA-7E84-4025-92CA-30341650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6FB-6792-4F48-9E7E-5A4D7663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A88-1E3C-42A5-B29A-FE77C64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F29-F2CC-489D-A08E-9901ADA7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0CA-DCAB-44AB-9BED-2571FEC8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EBA-5AF3-413C-B2C0-76792AA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A97-E445-4D1E-8458-56611BB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583-4BEC-4FA9-9205-D733F69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EC0-FF45-49A4-AFF3-818B4D22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855-8442-4052-84C8-C7EFEEC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4469-0796-405A-B746-602D9263C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2.xml"/><Relationship Id="rId5" Type="http://schemas.openxmlformats.org/officeDocument/2006/relationships/slide" Target="slide14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0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9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3.xml"/><Relationship Id="rId22" Type="http://schemas.openxmlformats.org/officeDocument/2006/relationships/slide" Target="slide23.xml"/><Relationship Id="rId23" Type="http://schemas.openxmlformats.org/officeDocument/2006/relationships/slide" Target="slide23.xml"/><Relationship Id="rId24" Type="http://schemas.openxmlformats.org/officeDocument/2006/relationships/slide" Target="slide23.xml"/><Relationship Id="rId25" Type="http://schemas.openxmlformats.org/officeDocument/2006/relationships/slide" Target="slide23.xml"/><Relationship Id="rId26" Type="http://schemas.openxmlformats.org/officeDocument/2006/relationships/slide" Target="slide23.xml"/><Relationship Id="rId27" Type="http://schemas.openxmlformats.org/officeDocument/2006/relationships/slide" Target="slide23.xml"/><Relationship Id="rId28" Type="http://schemas.openxmlformats.org/officeDocument/2006/relationships/slide" Target="slide23.xml"/><Relationship Id="rId29" Type="http://schemas.openxmlformats.org/officeDocument/2006/relationships/slide" Target="slide23.xml"/><Relationship Id="rId30" Type="http://schemas.openxmlformats.org/officeDocument/2006/relationships/slide" Target="slide23.xml"/><Relationship Id="rId31" Type="http://schemas.openxmlformats.org/officeDocument/2006/relationships/slide" Target="slide22.xml"/><Relationship Id="rId32" Type="http://schemas.openxmlformats.org/officeDocument/2006/relationships/slide" Target="slide22.xml"/><Relationship Id="rId33" Type="http://schemas.openxmlformats.org/officeDocument/2006/relationships/slide" Target="slide22.xml"/><Relationship Id="rId34" Type="http://schemas.openxmlformats.org/officeDocument/2006/relationships/slide" Target="slide22.xml"/><Relationship Id="rId35" Type="http://schemas.openxmlformats.org/officeDocument/2006/relationships/slide" Target="slide22.xml"/><Relationship Id="rId36" Type="http://schemas.openxmlformats.org/officeDocument/2006/relationships/slide" Target="slide22.xml"/><Relationship Id="rId37" Type="http://schemas.openxmlformats.org/officeDocument/2006/relationships/slide" Target="slide22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" Target="slide23.xml"/><Relationship Id="rId41" Type="http://schemas.openxmlformats.org/officeDocument/2006/relationships/slide" Target="slide23.xml"/><Relationship Id="rId42" Type="http://schemas.openxmlformats.org/officeDocument/2006/relationships/slide" Target="slide22.xml"/><Relationship Id="rId43" Type="http://schemas.openxmlformats.org/officeDocument/2006/relationships/slide" Target="slide22.xml"/><Relationship Id="rId44" Type="http://schemas.openxmlformats.org/officeDocument/2006/relationships/slide" Target="slide22.xml"/><Relationship Id="rId45" Type="http://schemas.openxmlformats.org/officeDocument/2006/relationships/slide" Target="slide22.xml"/><Relationship Id="rId46" Type="http://schemas.openxmlformats.org/officeDocument/2006/relationships/slide" Target="slide23.xml"/><Relationship Id="rId47" Type="http://schemas.openxmlformats.org/officeDocument/2006/relationships/slide" Target="slide23.xml"/><Relationship Id="rId48" Type="http://schemas.openxmlformats.org/officeDocument/2006/relationships/slide" Target="slide23.xml"/><Relationship Id="rId49" Type="http://schemas.openxmlformats.org/officeDocument/2006/relationships/slide" Target="slide23.xml"/><Relationship Id="rId50" Type="http://schemas.openxmlformats.org/officeDocument/2006/relationships/slide" Target="slide23.xml"/><Relationship Id="rId51" Type="http://schemas.openxmlformats.org/officeDocument/2006/relationships/slide" Target="slide23.xml"/><Relationship Id="rId52" Type="http://schemas.openxmlformats.org/officeDocument/2006/relationships/slide" Target="slide23.xml"/><Relationship Id="rId53" Type="http://schemas.openxmlformats.org/officeDocument/2006/relationships/slide" Target="slide23.xml"/><Relationship Id="rId54" Type="http://schemas.openxmlformats.org/officeDocument/2006/relationships/slide" Target="slide23.xml"/><Relationship Id="rId55" Type="http://schemas.openxmlformats.org/officeDocument/2006/relationships/slide" Target="slide23.xml"/><Relationship Id="rId5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5.xml"/><Relationship Id="rId16" Type="http://schemas.openxmlformats.org/officeDocument/2006/relationships/slide" Target="slide25.xml"/><Relationship Id="rId17" Type="http://schemas.openxmlformats.org/officeDocument/2006/relationships/slide" Target="slide25.xml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7.xml"/><Relationship Id="rId12" Type="http://schemas.openxmlformats.org/officeDocument/2006/relationships/slide" Target="slide26.xml"/><Relationship Id="rId13" Type="http://schemas.openxmlformats.org/officeDocument/2006/relationships/slide" Target="slide26.xml"/><Relationship Id="rId14" Type="http://schemas.openxmlformats.org/officeDocument/2006/relationships/slide" Target="slide26.xml"/><Relationship Id="rId15" Type="http://schemas.openxmlformats.org/officeDocument/2006/relationships/slide" Target="slide26.xml"/><Relationship Id="rId16" Type="http://schemas.openxmlformats.org/officeDocument/2006/relationships/slide" Target="slide26.xml"/><Relationship Id="rId17" Type="http://schemas.openxmlformats.org/officeDocument/2006/relationships/slide" Target="slide26.xml"/><Relationship Id="rId18" Type="http://schemas.openxmlformats.org/officeDocument/2006/relationships/slide" Target="slide26.xml"/><Relationship Id="rId19" Type="http://schemas.openxmlformats.org/officeDocument/2006/relationships/slide" Target="slide26.xml"/><Relationship Id="rId20" Type="http://schemas.openxmlformats.org/officeDocument/2006/relationships/slide" Target="slide26.xml"/><Relationship Id="rId21" Type="http://schemas.openxmlformats.org/officeDocument/2006/relationships/slide" Target="slide26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6.xml"/><Relationship Id="rId27" Type="http://schemas.openxmlformats.org/officeDocument/2006/relationships/slide" Target="slide26.xml"/><Relationship Id="rId28" Type="http://schemas.openxmlformats.org/officeDocument/2006/relationships/slide" Target="slide26.xml"/><Relationship Id="rId29" Type="http://schemas.openxmlformats.org/officeDocument/2006/relationships/slide" Target="slide26.xml"/><Relationship Id="rId30" Type="http://schemas.openxmlformats.org/officeDocument/2006/relationships/slide" Target="slide26.xml"/><Relationship Id="rId31" Type="http://schemas.openxmlformats.org/officeDocument/2006/relationships/slide" Target="slide26.xml"/><Relationship Id="rId32" Type="http://schemas.openxmlformats.org/officeDocument/2006/relationships/slide" Target="slide27.xml"/><Relationship Id="rId33" Type="http://schemas.openxmlformats.org/officeDocument/2006/relationships/slide" Target="slide27.xml"/><Relationship Id="rId3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31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30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" Target="slide31.xml"/><Relationship Id="rId17" Type="http://schemas.openxmlformats.org/officeDocument/2006/relationships/slide" Target="slide31.xml"/><Relationship Id="rId18" Type="http://schemas.openxmlformats.org/officeDocument/2006/relationships/slide" Target="slide31.xml"/><Relationship Id="rId19" Type="http://schemas.openxmlformats.org/officeDocument/2006/relationships/slide" Target="slide31.xml"/><Relationship Id="rId20" Type="http://schemas.openxmlformats.org/officeDocument/2006/relationships/slide" Target="slide31.xml"/><Relationship Id="rId21" Type="http://schemas.openxmlformats.org/officeDocument/2006/relationships/slide" Target="slide31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1.xml"/><Relationship Id="rId25" Type="http://schemas.openxmlformats.org/officeDocument/2006/relationships/slide" Target="slide31.xml"/><Relationship Id="rId26" Type="http://schemas.openxmlformats.org/officeDocument/2006/relationships/slide" Target="slide30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1.xml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" Target="slide35.xml"/><Relationship Id="rId9" Type="http://schemas.openxmlformats.org/officeDocument/2006/relationships/slide" Target="slide35.xml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5.xml"/><Relationship Id="rId19" Type="http://schemas.openxmlformats.org/officeDocument/2006/relationships/slide" Target="slide35.xml"/><Relationship Id="rId20" Type="http://schemas.openxmlformats.org/officeDocument/2006/relationships/slide" Target="slide35.xml"/><Relationship Id="rId21" Type="http://schemas.openxmlformats.org/officeDocument/2006/relationships/slide" Target="slide35.xml"/><Relationship Id="rId22" Type="http://schemas.openxmlformats.org/officeDocument/2006/relationships/slide" Target="slide35.xml"/><Relationship Id="rId23" Type="http://schemas.openxmlformats.org/officeDocument/2006/relationships/slide" Target="slide35.xml"/><Relationship Id="rId24" Type="http://schemas.openxmlformats.org/officeDocument/2006/relationships/slide" Target="slide34.xml"/><Relationship Id="rId25" Type="http://schemas.openxmlformats.org/officeDocument/2006/relationships/slide" Target="slide34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4.xml"/><Relationship Id="rId29" Type="http://schemas.openxmlformats.org/officeDocument/2006/relationships/slide" Target="slide34.xml"/><Relationship Id="rId30" Type="http://schemas.openxmlformats.org/officeDocument/2006/relationships/slide" Target="slide35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5.xml"/><Relationship Id="rId3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7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7.xml"/><Relationship Id="rId14" Type="http://schemas.openxmlformats.org/officeDocument/2006/relationships/slide" Target="slide37.xml"/><Relationship Id="rId15" Type="http://schemas.openxmlformats.org/officeDocument/2006/relationships/slide" Target="slide37.xml"/><Relationship Id="rId16" Type="http://schemas.openxmlformats.org/officeDocument/2006/relationships/slide" Target="slide37.xml"/><Relationship Id="rId17" Type="http://schemas.openxmlformats.org/officeDocument/2006/relationships/slide" Target="slide36.xml"/><Relationship Id="rId18" Type="http://schemas.openxmlformats.org/officeDocument/2006/relationships/slide" Target="slide36.xml"/><Relationship Id="rId19" Type="http://schemas.openxmlformats.org/officeDocument/2006/relationships/slide" Target="slide37.xml"/><Relationship Id="rId20" Type="http://schemas.openxmlformats.org/officeDocument/2006/relationships/slide" Target="slide37.xml"/><Relationship Id="rId21" Type="http://schemas.openxmlformats.org/officeDocument/2006/relationships/slide" Target="slide37.xml"/><Relationship Id="rId22" Type="http://schemas.openxmlformats.org/officeDocument/2006/relationships/slide" Target="slide37.xml"/><Relationship Id="rId23" Type="http://schemas.openxmlformats.org/officeDocument/2006/relationships/slide" Target="slide37.xml"/><Relationship Id="rId24" Type="http://schemas.openxmlformats.org/officeDocument/2006/relationships/slide" Target="slide37.xml"/><Relationship Id="rId25" Type="http://schemas.openxmlformats.org/officeDocument/2006/relationships/slide" Target="slide37.xml"/><Relationship Id="rId26" Type="http://schemas.openxmlformats.org/officeDocument/2006/relationships/slide" Target="slide37.xml"/><Relationship Id="rId27" Type="http://schemas.openxmlformats.org/officeDocument/2006/relationships/slide" Target="slide37.xml"/><Relationship Id="rId28" Type="http://schemas.openxmlformats.org/officeDocument/2006/relationships/slide" Target="slide37.xml"/><Relationship Id="rId2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57200" y="762120"/>
            <a:ext cx="8229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Impact"/>
              </a:rPr>
              <a:t>СИСТЕМЫ СЧИСЛ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Impact"/>
              <a:ea typeface="Impact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Алгоритм перевода чисел из десятичной системы счисления в любую позиционную систему счисления с основанием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 (2, 8, 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21337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м число на основание системы счисления нацело (остаток должен быть меньше основ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астное больше основания системы счисления, то повторить шаг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астное меньше основания, то записываем  число из остатков, начиная с последнего частного, справа нале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8360" y="3049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Алгоритм перевода целого числа из системы счисления с основанием 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 (2, 8, 16) в десятичную систему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66680" y="2362320"/>
            <a:ext cx="723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пределяем разряд каждой цифры в числе (разряды выставляются строго над цифрами справа налево, начиная с нул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множаем цифру числа на основание в степени, равной номеру разря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уммируем все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>
            <a:hlinkClick r:id="rId1" action="ppaction://hlinksldjump"/>
          </p:cNvPr>
          <p:cNvSpPr/>
          <p:nvPr/>
        </p:nvSpPr>
        <p:spPr>
          <a:xfrm>
            <a:off x="1371600" y="21337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52480" y="11430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воичну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752480" y="19810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восьмеричну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752480" y="2971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шестнадцатер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2">
            <a:hlinkClick r:id="rId2" action="ppaction://hlinksldjump"/>
          </p:cNvPr>
          <p:cNvSpPr/>
          <p:nvPr/>
        </p:nvSpPr>
        <p:spPr>
          <a:xfrm>
            <a:off x="1258920" y="1197000"/>
            <a:ext cx="341280" cy="326880"/>
          </a:xfrm>
          <a:custGeom>
            <a:avLst/>
            <a:gdLst>
              <a:gd name="textAreaLeft" fmla="*/ 49680 w 341280"/>
              <a:gd name="textAreaRight" fmla="*/ 291600 w 341280"/>
              <a:gd name="textAreaTop" fmla="*/ 47880 h 326880"/>
              <a:gd name="textAreaBottom" fmla="*/ 27900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3">
            <a:hlinkClick r:id="rId3" action="ppaction://hlinksldjump"/>
          </p:cNvPr>
          <p:cNvSpPr/>
          <p:nvPr/>
        </p:nvSpPr>
        <p:spPr>
          <a:xfrm>
            <a:off x="1371600" y="312408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4">
            <a:hlinkClick r:id="rId4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rId5" action="ppaction://hlinksldjump"/>
          </p:cNvPr>
          <p:cNvSpPr/>
          <p:nvPr/>
        </p:nvSpPr>
        <p:spPr>
          <a:xfrm>
            <a:off x="1371600" y="403848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7">
            <a:hlinkClick r:id="rId6" action="ppaction://hlinksldjump"/>
          </p:cNvPr>
          <p:cNvSpPr/>
          <p:nvPr/>
        </p:nvSpPr>
        <p:spPr>
          <a:xfrm>
            <a:off x="1371600" y="48769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8">
            <a:hlinkClick r:id="rId7" action="ppaction://hlinksldjump"/>
          </p:cNvPr>
          <p:cNvSpPr/>
          <p:nvPr/>
        </p:nvSpPr>
        <p:spPr>
          <a:xfrm>
            <a:off x="1371600" y="57150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1752480" y="3886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вои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828800" y="47242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восьмер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752480" y="5638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шестнадцатер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Выберите тот вариант перевода чисел, с которым вы хотели бы познакоми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0492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тобы число 124 перевести из 10 с\с в 2 с\с надо это число делить на 2 (основание с\с) до тех пор, пока остатком деления не окажется число меньше 2 (1 или 0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7524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7524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981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9810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06668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1430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59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590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6668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981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6668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810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1337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32767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32767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3526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335268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666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7432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2004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38862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39625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4038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33526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7"/>
          <p:cNvSpPr/>
          <p:nvPr/>
        </p:nvSpPr>
        <p:spPr>
          <a:xfrm>
            <a:off x="44956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3505320" y="350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4495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34290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45720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46483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4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40384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4038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5181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5181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46483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5334120" y="3657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52578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7"/>
          <p:cNvSpPr/>
          <p:nvPr/>
        </p:nvSpPr>
        <p:spPr>
          <a:xfrm>
            <a:off x="304920" y="4952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9"/>
          <p:cNvSpPr/>
          <p:nvPr/>
        </p:nvSpPr>
        <p:spPr>
          <a:xfrm>
            <a:off x="1447920" y="601992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4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0"/>
          <p:cNvSpPr/>
          <p:nvPr/>
        </p:nvSpPr>
        <p:spPr>
          <a:xfrm>
            <a:off x="2819520" y="304812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34290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36576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3886200" y="6019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4114800" y="6019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43434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4648320" y="6019920"/>
            <a:ext cx="685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0"/>
          <p:cNvSpPr/>
          <p:nvPr/>
        </p:nvSpPr>
        <p:spPr>
          <a:xfrm>
            <a:off x="2666880" y="6095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3"/>
          <p:cNvSpPr/>
          <p:nvPr/>
        </p:nvSpPr>
        <p:spPr>
          <a:xfrm>
            <a:off x="47242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6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8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8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8875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0375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18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2375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2875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3375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3875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4375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5525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380880"/>
            <a:ext cx="8534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ля того, чтобы перевести число из 2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39625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808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1430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447920" y="396252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2860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2860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33520" y="36576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838080" y="3657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121932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152388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74320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40384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1814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624852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3505320" y="4724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31240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34340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4952880" y="4724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548640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6095880" y="472428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304920" y="6019920"/>
            <a:ext cx="845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, что           110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1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7380360" y="39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Чтобы число 124 перевести из 10 с\с в 8 с\с надо это число делить на 8 (основание с\с) до тех пор, пока остатком деления не окажется число меньше 8 (0, 1, 2, 3, 4, 5, 6, 7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19320" y="23623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5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5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0574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981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2952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238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2666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26668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6668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7432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1337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20574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21337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228600" y="3809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2438280" y="5181480"/>
            <a:ext cx="1067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4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8098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343400" y="5181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4724280" y="5181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105520" y="51814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2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Чтобы число 395 перевести из 10 с\с в 16 с\с надо это число делить на 16 (основание с\с) до тех пор, пока остатком деления не окажется число меньше 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, 1, 2, 3, 4, 5, 6, 7, 8, 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, E,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523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220968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209680" y="198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362320" y="1600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5238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7524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3623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28954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28954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28195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3048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22860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23623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24382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52280" y="38862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1905120" y="525780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2971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733920" y="5257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3962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4191120" y="52578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56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225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725"/>
                            </p:stCondLst>
                            <p:childTnLst>
                              <p:par>
                                <p:cTn id="57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7225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725"/>
                            </p:stCondLst>
                            <p:childTnLst>
                              <p:par>
                                <p:cTn id="58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225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1725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3225"/>
                            </p:stCondLst>
                            <p:childTnLst>
                              <p:par>
                                <p:cTn id="59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4725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6225"/>
                            </p:stCondLst>
                            <p:childTnLst>
                              <p:par>
                                <p:cTn id="6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7725"/>
                            </p:stCondLst>
                            <p:childTnLst>
                              <p:par>
                                <p:cTn id="6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9225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0725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2225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3725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6225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7725"/>
                            </p:stCondLst>
                            <p:childTnLst>
                              <p:par>
                                <p:cTn id="6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9225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30725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2225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3725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8600" y="228600"/>
            <a:ext cx="891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ля того, чтобы перевести число 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0948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9907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37160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85800" y="2895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67760" y="289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4479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133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281952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426708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556272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981080" y="3962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2895480" y="3886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38862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419720" y="3886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56386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510552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63244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88620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9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228600" y="5943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лучаем, что        613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=  39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3375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72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8125"/>
                            </p:stCondLst>
                            <p:childTnLst>
                              <p:par>
                                <p:cTn id="7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9625"/>
                            </p:stCondLst>
                            <p:childTnLst>
                              <p:par>
                                <p:cTn id="7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85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235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7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535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6850"/>
                            </p:stCondLst>
                            <p:childTnLst>
                              <p:par>
                                <p:cTn id="7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8350"/>
                            </p:stCondLst>
                            <p:childTnLst>
                              <p:par>
                                <p:cTn id="76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0725"/>
                            </p:stCondLst>
                            <p:childTnLst>
                              <p:par>
                                <p:cTn id="76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3225"/>
                            </p:stCondLst>
                            <p:childTnLst>
                              <p:par>
                                <p:cTn id="7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610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52280" y="22860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, чтобы перевести число из 16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066680" y="3124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447920" y="3124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752480" y="31240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8954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50532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50292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762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1430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4479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828800" y="28195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6324480" y="3124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819520" y="36576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  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45720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51055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9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590920" y="4343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4495680" y="4343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6172200" y="4343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7315200" y="434340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99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380880" y="6019920"/>
            <a:ext cx="807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, чт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7F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299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84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935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8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5425"/>
                            </p:stCondLst>
                            <p:childTnLst>
                              <p:par>
                                <p:cTn id="86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6875"/>
                            </p:stCondLst>
                            <p:childTnLst>
                              <p:par>
                                <p:cTn id="87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8175"/>
                            </p:stCondLst>
                            <p:childTnLst>
                              <p:par>
                                <p:cTn id="87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8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8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>
            <a:hlinkClick r:id="rId1" action="ppaction://hlinksldjump"/>
          </p:cNvPr>
          <p:cNvSpPr/>
          <p:nvPr/>
        </p:nvSpPr>
        <p:spPr>
          <a:xfrm>
            <a:off x="304920" y="3352680"/>
            <a:ext cx="304560" cy="304920"/>
          </a:xfrm>
          <a:custGeom>
            <a:avLst/>
            <a:gdLst>
              <a:gd name="textAreaLeft" fmla="*/ 44640 w 304560"/>
              <a:gd name="textAreaRight" fmla="*/ 259920 w 30456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09480" y="2057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2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68580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8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6212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16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>
            <a:hlinkClick r:id="rId2" action="ppaction://hlinksldjump"/>
          </p:cNvPr>
          <p:cNvSpPr/>
          <p:nvPr/>
        </p:nvSpPr>
        <p:spPr>
          <a:xfrm>
            <a:off x="304920" y="2133720"/>
            <a:ext cx="304560" cy="304560"/>
          </a:xfrm>
          <a:custGeom>
            <a:avLst/>
            <a:gdLst>
              <a:gd name="textAreaLeft" fmla="*/ 44640 w 304560"/>
              <a:gd name="textAreaRight" fmla="*/ 259920 w 3045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8">
            <a:hlinkClick r:id="rId3" action="ppaction://hlinksldjump"/>
          </p:cNvPr>
          <p:cNvSpPr/>
          <p:nvPr/>
        </p:nvSpPr>
        <p:spPr>
          <a:xfrm>
            <a:off x="380880" y="46483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9">
            <a:hlinkClick r:id="rId4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1">
            <a:hlinkClick r:id="rId5" action="ppaction://hlinksldjump"/>
          </p:cNvPr>
          <p:cNvSpPr/>
          <p:nvPr/>
        </p:nvSpPr>
        <p:spPr>
          <a:xfrm>
            <a:off x="4267080" y="27432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2">
            <a:hlinkClick r:id="rId6" action="ppaction://hlinksldjump"/>
          </p:cNvPr>
          <p:cNvSpPr/>
          <p:nvPr/>
        </p:nvSpPr>
        <p:spPr>
          <a:xfrm>
            <a:off x="4267080" y="39625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3">
            <a:hlinkClick r:id="rId7" action="ppaction://hlinksldjump"/>
          </p:cNvPr>
          <p:cNvSpPr/>
          <p:nvPr/>
        </p:nvSpPr>
        <p:spPr>
          <a:xfrm>
            <a:off x="4267080" y="54864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464832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2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464832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8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8006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6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152280" y="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Хотите себя проверить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Для этого выберите тот вариант перевода, в котором вы хотели бы закрепить свои знания или загрузите т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395280" y="595008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826920" y="5877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рузить т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09680" y="228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4000" y="836640"/>
            <a:ext cx="84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Формула разложения числа по степеням осн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Перевод чисел из одной системы счисления в друг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Алгоритмы перевода из одной системы счисления в друг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9640" y="1828800"/>
            <a:ext cx="82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28600" y="4724280"/>
            <a:ext cx="380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9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50920" y="333360"/>
            <a:ext cx="2895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7200" y="1066680"/>
            <a:ext cx="182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111110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514600" y="10666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0101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6400800" y="10666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11011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572000" y="10666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1110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152280" y="1752480"/>
            <a:ext cx="381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3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380880" y="2438280"/>
            <a:ext cx="20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111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1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572000" y="2438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11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1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2438280" y="2438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11110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0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6705720" y="236232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10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01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152280" y="3124080"/>
            <a:ext cx="3276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457200" y="3886200"/>
            <a:ext cx="182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111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152280" y="5486400"/>
            <a:ext cx="20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1111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8" action="ppaction://hlinksldjump"/>
              </a:rPr>
              <a:t>1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9" action="ppaction://hlinksldjump"/>
              </a:rPr>
              <a:t>0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2514600" y="38862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1" action="ppaction://hlinksldjump"/>
              </a:rPr>
              <a:t>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2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3" action="ppaction://hlinksldjump"/>
              </a:rPr>
              <a:t>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5" action="ppaction://hlinksldjump"/>
              </a:rPr>
              <a:t>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2286000" y="5486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8" action="ppaction://hlinksldjump"/>
              </a:rPr>
              <a:t>1010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9" action="ppaction://hlinksldjump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0" action="ppaction://hlinksldjump"/>
              </a:rPr>
              <a:t>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705720" y="548640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2" action="ppaction://hlinksldjump"/>
              </a:rPr>
              <a:t>111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3" action="ppaction://hlinksldjump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4" action="ppaction://hlinksldjump"/>
              </a:rPr>
              <a:t>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4495680" y="3886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6" action="ppaction://hlinksldjump"/>
              </a:rPr>
              <a:t>11110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7" action="ppaction://hlinksldjump"/>
              </a:rPr>
              <a:t>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8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4343400" y="54864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9" action="ppaction://hlinksldjump"/>
              </a:rPr>
              <a:t>110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0" action="ppaction://hlinksldjump"/>
              </a:rPr>
              <a:t>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6553080" y="3886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2" action="ppaction://hlinksldjump"/>
              </a:rPr>
              <a:t>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3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4" action="ppaction://hlinksldjump"/>
              </a:rPr>
              <a:t>1011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50920" y="3860640"/>
            <a:ext cx="3352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11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28600" y="304920"/>
            <a:ext cx="2895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50920" y="836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572000" y="76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93080" y="19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50920" y="141300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110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24000" y="198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2627280" y="76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2771640" y="198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643280" y="198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250920" y="2637000"/>
            <a:ext cx="2133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0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324000" y="321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395280" y="45086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255600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2484360" y="4581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6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4356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4427640" y="465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6948360" y="3357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7093080" y="6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7093080" y="45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755640" y="5734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2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4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8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6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32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64      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28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256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512 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52280" y="228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1440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359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259092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39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426708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35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94360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36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52280" y="16002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2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28600" y="31240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28600" y="4419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5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838080" y="2362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838080" y="3809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5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838080" y="51814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11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2590920" y="2362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2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2590920" y="3733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666880" y="51814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9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4267080" y="2286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4267080" y="3657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6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26708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0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943600" y="22096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5943600" y="3581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6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594360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10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324000" y="609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6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5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409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2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52280" y="22860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F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5280" y="155736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0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299736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0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450864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39640" y="765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203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2700360" y="6922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203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4427640" y="692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2073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227640" y="6922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20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977760" y="22050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2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914400" y="3716280"/>
            <a:ext cx="12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283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985680" y="515772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2710440" y="2133720"/>
            <a:ext cx="114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21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2715120" y="3716280"/>
            <a:ext cx="13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86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2858040" y="5084640"/>
            <a:ext cx="114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26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4439520" y="2205000"/>
            <a:ext cx="113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23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442760" y="3716280"/>
            <a:ext cx="128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296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4658760" y="5084640"/>
            <a:ext cx="113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28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6310800" y="220500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26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6242760" y="3716280"/>
            <a:ext cx="12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252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6315480" y="508464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28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900000" y="587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409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5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1522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9900"/>
                </a:solidFill>
                <a:latin typeface="Arial Unicode MS"/>
              </a:rPr>
              <a:t>C</a:t>
            </a:r>
            <a:r>
              <a:rPr b="0" i="1" lang="ru-RU" sz="3600" spc="-1" strike="noStrike">
                <a:solidFill>
                  <a:srgbClr val="cc9900"/>
                </a:solidFill>
                <a:latin typeface="Arial Unicode MS"/>
              </a:rPr>
              <a:t>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8600" y="762120"/>
            <a:ext cx="8763120" cy="58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– это совокупность символов, используемых для изображения чи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включает в себ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лфавит, т. е. набор символов для записи чисел, способ записи чисел, способ чтения чисе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ятся на два класса: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зиционные и непози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зиционные системы счисления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ы, в которых величина цифры определяется ее положением (позицией) в чис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цифр называется разрядом числа. Позиционные системы счисления различают по их основан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ние – это число цифр, используемых в системах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двоичная система счисления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восьмеричная система счисления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ы, в которых величина цифры не определяется ее положением (позицией) в чис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имская 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>
            <a:hlinkClick r:id="rId2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WordArt 4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06720" y="2286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28600" y="1600200"/>
            <a:ext cx="150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06720" y="312408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76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52280" y="4648320"/>
            <a:ext cx="134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9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8580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1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236232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533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3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609480" y="38862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341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4572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157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4267080" y="838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1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640080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236232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3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2362320" y="3886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23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36232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30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11480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13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4114800" y="3886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335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41148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53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6324480" y="2209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353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6324480" y="3809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278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6248520" y="5257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15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987480" y="629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83040" y="2286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24000" y="1413000"/>
            <a:ext cx="137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10040" y="278136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75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86000" y="429264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5216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75564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70036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4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478800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2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694836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5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755640" y="198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A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684360" y="342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AEE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468360" y="501336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15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2556000" y="198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7D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2268360" y="503244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6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2484360" y="33577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DA1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4716360" y="1916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5F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427640" y="501336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B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A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643280" y="33577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6804000" y="184464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6804000" y="328464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443640" y="497664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146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WordArt 4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0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WordArt 6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0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258920" y="1197000"/>
          <a:ext cx="6769080" cy="5181480"/>
        </p:xfrm>
        <a:graphic>
          <a:graphicData uri="http://schemas.openxmlformats.org/drawingml/2006/table">
            <a:tbl>
              <a:tblPr/>
              <a:tblGrid>
                <a:gridCol w="1028520"/>
                <a:gridCol w="803520"/>
                <a:gridCol w="295200"/>
                <a:gridCol w="1309680"/>
                <a:gridCol w="804960"/>
                <a:gridCol w="345960"/>
                <a:gridCol w="1146240"/>
                <a:gridCol w="103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1553"/>
          <p:cNvSpPr/>
          <p:nvPr/>
        </p:nvSpPr>
        <p:spPr>
          <a:xfrm>
            <a:off x="2556000" y="33336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00"/>
                </a:solidFill>
                <a:latin typeface="Times New Roman"/>
              </a:rPr>
              <a:t>Римски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56"/>
          <p:cNvSpPr/>
          <p:nvPr/>
        </p:nvSpPr>
        <p:spPr>
          <a:xfrm>
            <a:off x="4500720" y="1916280"/>
            <a:ext cx="464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60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Правила записи и чтения римски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а, повторяющаяся дважды или трижды, удваивает или утраивает свое зна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С - 2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 или более букв, помещенных после другой большего значения, увеличивает это значение на величину более мел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11, DCC - 7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а, помещенная перед другой буквой большего значения, уменьшает это значение на величину этой буквы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90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изонтальная черта, помещенная над буквой, повышает ее значение в 1000 р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1143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систем счис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п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 для технической реализации в компьютерах двоичная 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оичной системы счисления состоит из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4920" y="3124080"/>
            <a:ext cx="426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стоинства 2 с/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код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арифметических действ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записи, хранения и передачи техническими сред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05520" y="3124080"/>
            <a:ext cx="358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ки 2 с/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 места занимает запись чис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емкость перевода в 10 с/с и наоб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98108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лужит циф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2193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80880" y="2286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580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лфави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0, 1, 2, 3, 4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4419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вляется цифра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0" y="1522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952880" y="16002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лфавит:0, 1, 2, 3, 4, 5, 6, 7, 8, 9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, C, D, 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4280" y="4419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цифра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914400" y="2666880"/>
            <a:ext cx="2590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=10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62120" y="54100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27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876920" y="2666880"/>
            <a:ext cx="3352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486400" y="541008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1523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, для примера, десятичное чис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374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го можно записать несколькими способами, не изменяя его колич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2743200"/>
            <a:ext cx="266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7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276720"/>
            <a:ext cx="457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000 + 700 + 40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388620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0 +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57200" y="457200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любое число в степени 0 равно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335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нюю запись называют разложением по степеням осн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91440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Формула разложения числа по степеням осн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2860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разложения по степеням осн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, что число можно представить в виде суммы цифр, которые в свою очередь, равны произведен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ание в степени, равной номеру разряда. При разложен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90720" y="838080"/>
            <a:ext cx="723888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</a:t>
            </a:r>
            <a:r>
              <a:rPr b="0" lang="ru-RU" sz="4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8:52:54Z</dcterms:created>
  <dc:creator>Teacher</dc:creator>
  <dc:description/>
  <dc:language>en-US</dc:language>
  <cp:lastModifiedBy>Operator</cp:lastModifiedBy>
  <dcterms:modified xsi:type="dcterms:W3CDTF">2023-01-19T08:26:05Z</dcterms:modified>
  <cp:revision>134</cp:revision>
  <dc:subject/>
  <dc:title>Презентация PowerPoint</dc:title>
</cp:coreProperties>
</file>