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13.gif" ContentType="image/gif"/>
  <Override PartName="/ppt/media/image16.png" ContentType="image/png"/>
  <Override PartName="/ppt/media/image28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278-0C1D-416A-8D42-57E257C0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B44-BF25-430B-8EDE-9B11A92C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C77-5382-4850-BA91-B06BD68F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820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956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8CC-CCEE-4E6D-A9B9-3088F772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EFDB-9819-48B9-8DBA-B8AF65D7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9030-AAC9-4CB2-8DAF-CFC7A7D1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58A7-8C39-464E-8D94-3F4FDA7B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4678-64BA-44B0-A559-0A03DE68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7A08-4BE0-4B26-A6A9-A8C72907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440" y="-487800"/>
            <a:ext cx="824076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FF43-F46F-42AC-A458-E6F2BFB5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078D-D495-4E33-B25B-575FA915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352-5E70-4DCC-9E09-E74EF8F1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39F3-A57C-4C4C-A98F-26C0F97D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12CA-7572-4369-945D-693276BA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E4A2-E752-44BF-AC14-E78CAC3B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0501-6E34-499E-8EF4-F8352596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820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956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D217-0DD7-4E01-B65F-514EFC2D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64D-FDA3-4BA7-9394-1F7A1D13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F3A-E119-4FCC-8069-3926432B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34D-5872-46C6-8AEC-8B559CE0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440" y="-487800"/>
            <a:ext cx="824076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D19-5959-4DE9-87EB-574CB2BA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F93-3AA4-4071-9EA0-84DAE749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E77-99DD-46B7-95B3-0B7D79AD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B37-2B65-4981-8031-4D457375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920" y="-289440"/>
            <a:ext cx="3106080" cy="7142400"/>
            <a:chOff x="-304920" y="-289440"/>
            <a:chExt cx="3106080" cy="7142400"/>
          </a:xfrm>
        </p:grpSpPr>
        <p:sp>
          <p:nvSpPr>
            <p:cNvPr id="1" name="Freeform 2"/>
            <p:cNvSpPr/>
            <p:nvPr/>
          </p:nvSpPr>
          <p:spPr>
            <a:xfrm>
              <a:off x="-87480" y="5128920"/>
              <a:ext cx="771840" cy="130860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-84240" y="3740040"/>
              <a:ext cx="1147320" cy="898560"/>
              <a:chOff x="-84240" y="3740040"/>
              <a:chExt cx="1147320" cy="898560"/>
            </a:xfrm>
          </p:grpSpPr>
          <p:sp>
            <p:nvSpPr>
              <p:cNvPr id="3" name="Freeform 4"/>
              <p:cNvSpPr/>
              <p:nvPr/>
            </p:nvSpPr>
            <p:spPr>
              <a:xfrm flipH="1" rot="14940000">
                <a:off x="-16200" y="3762360"/>
                <a:ext cx="283320" cy="341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 flipH="1" rot="14940000">
                <a:off x="188640" y="4218480"/>
                <a:ext cx="486360" cy="284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 flipH="1" rot="14940000">
                <a:off x="650880" y="4028400"/>
                <a:ext cx="507960" cy="143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" name="Freeform 7"/>
            <p:cNvSpPr/>
            <p:nvPr/>
          </p:nvSpPr>
          <p:spPr>
            <a:xfrm>
              <a:off x="68400" y="2639160"/>
              <a:ext cx="1160280" cy="12517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Group 8"/>
            <p:cNvGrpSpPr/>
            <p:nvPr/>
          </p:nvGrpSpPr>
          <p:grpSpPr>
            <a:xfrm>
              <a:off x="-304920" y="2265480"/>
              <a:ext cx="3106080" cy="3423600"/>
              <a:chOff x="-304920" y="2265480"/>
              <a:chExt cx="3106080" cy="3423600"/>
            </a:xfrm>
          </p:grpSpPr>
          <p:sp>
            <p:nvSpPr>
              <p:cNvPr id="8" name="Freeform 9"/>
              <p:cNvSpPr/>
              <p:nvPr/>
            </p:nvSpPr>
            <p:spPr>
              <a:xfrm flipH="1" rot="780000">
                <a:off x="124920" y="2373120"/>
                <a:ext cx="1083240" cy="11001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 flipH="1" rot="780000">
                <a:off x="-190440" y="2531160"/>
                <a:ext cx="905760" cy="111996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 flipH="1" rot="780000">
                <a:off x="91800" y="2761920"/>
                <a:ext cx="321120" cy="5666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 flipH="1" rot="780000">
                <a:off x="675720" y="3573360"/>
                <a:ext cx="295200" cy="33732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 flipH="1" rot="780000">
                <a:off x="591840" y="3639600"/>
                <a:ext cx="72360" cy="19908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" name="Group 14"/>
              <p:cNvGrpSpPr/>
              <p:nvPr/>
            </p:nvGrpSpPr>
            <p:grpSpPr>
              <a:xfrm>
                <a:off x="501840" y="3235680"/>
                <a:ext cx="2299320" cy="2453400"/>
                <a:chOff x="501840" y="3235680"/>
                <a:chExt cx="2299320" cy="2453400"/>
              </a:xfrm>
            </p:grpSpPr>
            <p:sp>
              <p:nvSpPr>
                <p:cNvPr id="14" name="Freeform 15"/>
                <p:cNvSpPr/>
                <p:nvPr/>
              </p:nvSpPr>
              <p:spPr>
                <a:xfrm flipH="1" rot="7140000">
                  <a:off x="966600" y="3168000"/>
                  <a:ext cx="723600" cy="14900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6"/>
                <p:cNvSpPr/>
                <p:nvPr/>
              </p:nvSpPr>
              <p:spPr>
                <a:xfrm flipH="1" rot="7140000">
                  <a:off x="2326320" y="4632840"/>
                  <a:ext cx="167760" cy="6098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7"/>
                <p:cNvSpPr/>
                <p:nvPr/>
              </p:nvSpPr>
              <p:spPr>
                <a:xfrm flipH="1" rot="7140000">
                  <a:off x="2530440" y="5480280"/>
                  <a:ext cx="303840" cy="102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8"/>
            <p:cNvGrpSpPr/>
            <p:nvPr/>
          </p:nvGrpSpPr>
          <p:grpSpPr>
            <a:xfrm>
              <a:off x="307440" y="6087600"/>
              <a:ext cx="949320" cy="759960"/>
              <a:chOff x="307440" y="6087600"/>
              <a:chExt cx="949320" cy="759960"/>
            </a:xfrm>
          </p:grpSpPr>
          <p:sp>
            <p:nvSpPr>
              <p:cNvPr id="18" name="Freeform 19"/>
              <p:cNvSpPr/>
              <p:nvPr/>
            </p:nvSpPr>
            <p:spPr>
              <a:xfrm rot="6240000">
                <a:off x="963000" y="6087960"/>
                <a:ext cx="236880" cy="3020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 rot="6240000">
                <a:off x="659880" y="6494400"/>
                <a:ext cx="406440" cy="251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 rot="6240000">
                <a:off x="207360" y="6373080"/>
                <a:ext cx="42552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2"/>
            <p:cNvGrpSpPr/>
            <p:nvPr/>
          </p:nvGrpSpPr>
          <p:grpSpPr>
            <a:xfrm>
              <a:off x="199080" y="1594440"/>
              <a:ext cx="876960" cy="777960"/>
              <a:chOff x="199080" y="1594440"/>
              <a:chExt cx="876960" cy="777960"/>
            </a:xfrm>
          </p:grpSpPr>
          <p:sp>
            <p:nvSpPr>
              <p:cNvPr id="22" name="Freeform 23"/>
              <p:cNvSpPr/>
              <p:nvPr/>
            </p:nvSpPr>
            <p:spPr>
              <a:xfrm rot="4980000">
                <a:off x="780840" y="1562760"/>
                <a:ext cx="231120" cy="333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4980000">
                <a:off x="616680" y="2019240"/>
                <a:ext cx="397800" cy="277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4980000">
                <a:off x="85680" y="2075400"/>
                <a:ext cx="416160" cy="1404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6"/>
            <p:cNvGrpSpPr/>
            <p:nvPr/>
          </p:nvGrpSpPr>
          <p:grpSpPr>
            <a:xfrm>
              <a:off x="1252440" y="-192240"/>
              <a:ext cx="558360" cy="593280"/>
              <a:chOff x="1252440" y="-192240"/>
              <a:chExt cx="558360" cy="593280"/>
            </a:xfrm>
          </p:grpSpPr>
          <p:sp>
            <p:nvSpPr>
              <p:cNvPr id="26" name="Freeform 27"/>
              <p:cNvSpPr/>
              <p:nvPr/>
            </p:nvSpPr>
            <p:spPr>
              <a:xfrm>
                <a:off x="1252440" y="-192240"/>
                <a:ext cx="177120" cy="222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508760" y="-86040"/>
                <a:ext cx="302040" cy="184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1447200" y="306720"/>
                <a:ext cx="314640" cy="94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Freeform 30"/>
            <p:cNvSpPr/>
            <p:nvPr/>
          </p:nvSpPr>
          <p:spPr>
            <a:xfrm>
              <a:off x="61920" y="-39240"/>
              <a:ext cx="1143000" cy="123300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 rot="840000">
              <a:off x="318600" y="5359320"/>
              <a:ext cx="216000" cy="2718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 rot="840000">
              <a:off x="357120" y="5666760"/>
              <a:ext cx="108000" cy="691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-60480" y="6511680"/>
              <a:ext cx="192240" cy="3412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-79200" y="6280200"/>
              <a:ext cx="212400" cy="20736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-79200" y="6249600"/>
              <a:ext cx="75960" cy="13968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-79200" y="5090760"/>
              <a:ext cx="812520" cy="12070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 rot="1560000">
              <a:off x="-46080" y="473760"/>
              <a:ext cx="561960" cy="3992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rot="1560000">
              <a:off x="316080" y="1037160"/>
              <a:ext cx="272880" cy="1864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rot="1560000">
              <a:off x="858600" y="272520"/>
              <a:ext cx="239760" cy="26100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rot="1560000">
              <a:off x="309240" y="980640"/>
              <a:ext cx="101520" cy="1576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 rot="1560000">
              <a:off x="879120" y="565920"/>
              <a:ext cx="117360" cy="658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-79200" y="1253160"/>
              <a:ext cx="588960" cy="10605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 rot="1560000">
              <a:off x="14040" y="-57960"/>
              <a:ext cx="1312920" cy="11185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8A450-3C58-4BCE-B892-64E8E2DDF7D4}" type="slidenum"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60480" y="-853560"/>
            <a:ext cx="9769680" cy="7707960"/>
            <a:chOff x="-60480" y="-853560"/>
            <a:chExt cx="9769680" cy="7707960"/>
          </a:xfrm>
        </p:grpSpPr>
        <p:grpSp>
          <p:nvGrpSpPr>
            <p:cNvPr id="85" name="Group 2"/>
            <p:cNvGrpSpPr/>
            <p:nvPr/>
          </p:nvGrpSpPr>
          <p:grpSpPr>
            <a:xfrm>
              <a:off x="4226040" y="-853560"/>
              <a:ext cx="5483160" cy="7090200"/>
              <a:chOff x="4226040" y="-853560"/>
              <a:chExt cx="5483160" cy="7090200"/>
            </a:xfrm>
          </p:grpSpPr>
          <p:sp>
            <p:nvSpPr>
              <p:cNvPr id="86" name="Freeform 3"/>
              <p:cNvSpPr/>
              <p:nvPr/>
            </p:nvSpPr>
            <p:spPr>
              <a:xfrm flipV="1" rot="12000000">
                <a:off x="5886000" y="-338400"/>
                <a:ext cx="3477240" cy="2635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4"/>
              <p:cNvSpPr/>
              <p:nvPr/>
            </p:nvSpPr>
            <p:spPr>
              <a:xfrm flipV="1" rot="12000000">
                <a:off x="7265520" y="1462680"/>
                <a:ext cx="1488600" cy="941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 flipV="1" rot="12000000">
                <a:off x="6287040" y="2171160"/>
                <a:ext cx="722520" cy="4420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V="1" rot="12000000">
                <a:off x="6985800" y="25920"/>
                <a:ext cx="639000" cy="6148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 flipV="1" rot="12000000">
                <a:off x="6827040" y="2226960"/>
                <a:ext cx="270000" cy="37044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8"/>
              <p:cNvSpPr/>
              <p:nvPr/>
            </p:nvSpPr>
            <p:spPr>
              <a:xfrm flipV="1" rot="12000000">
                <a:off x="6801120" y="656280"/>
                <a:ext cx="313560" cy="1587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 flipV="1" rot="12000000">
                <a:off x="4824360" y="2546280"/>
                <a:ext cx="861120" cy="36529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Freeform 10"/>
            <p:cNvSpPr/>
            <p:nvPr/>
          </p:nvSpPr>
          <p:spPr>
            <a:xfrm flipH="1" rot="360000">
              <a:off x="-7920" y="3107160"/>
              <a:ext cx="51516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227520" y="1998000"/>
              <a:ext cx="2007360" cy="243144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-39600" y="4140360"/>
              <a:ext cx="1277280" cy="72828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 flipH="1" rot="360000">
              <a:off x="1391400" y="4532400"/>
              <a:ext cx="564840" cy="73620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 flipH="1" rot="360000">
              <a:off x="1232280" y="4728960"/>
              <a:ext cx="138240" cy="4345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1857600" y="5193000"/>
              <a:ext cx="1767240" cy="166140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Group 16"/>
            <p:cNvGrpSpPr/>
            <p:nvPr/>
          </p:nvGrpSpPr>
          <p:grpSpPr>
            <a:xfrm>
              <a:off x="3824640" y="765000"/>
              <a:ext cx="1542600" cy="1564560"/>
              <a:chOff x="3824640" y="765000"/>
              <a:chExt cx="1542600" cy="1564560"/>
            </a:xfrm>
          </p:grpSpPr>
          <p:sp>
            <p:nvSpPr>
              <p:cNvPr id="100" name="Freeform 17"/>
              <p:cNvSpPr/>
              <p:nvPr/>
            </p:nvSpPr>
            <p:spPr>
              <a:xfrm rot="3240000">
                <a:off x="4510800" y="771120"/>
                <a:ext cx="337680" cy="632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8"/>
              <p:cNvSpPr/>
              <p:nvPr/>
            </p:nvSpPr>
            <p:spPr>
              <a:xfrm rot="3240000">
                <a:off x="4698000" y="1415520"/>
                <a:ext cx="576000" cy="523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 rot="3240000">
                <a:off x="3808080" y="1874520"/>
                <a:ext cx="602280" cy="2660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5582520" y="258480"/>
              <a:ext cx="1060200" cy="1008720"/>
              <a:chOff x="5582520" y="258480"/>
              <a:chExt cx="1060200" cy="1008720"/>
            </a:xfrm>
          </p:grpSpPr>
          <p:sp>
            <p:nvSpPr>
              <p:cNvPr id="104" name="Freeform 21"/>
              <p:cNvSpPr/>
              <p:nvPr/>
            </p:nvSpPr>
            <p:spPr>
              <a:xfrm rot="14880000">
                <a:off x="5715360" y="871200"/>
                <a:ext cx="214200" cy="431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14880000">
                <a:off x="5653800" y="483480"/>
                <a:ext cx="369720" cy="356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3"/>
              <p:cNvSpPr/>
              <p:nvPr/>
            </p:nvSpPr>
            <p:spPr>
              <a:xfrm rot="14880000">
                <a:off x="6292440" y="380880"/>
                <a:ext cx="387000" cy="181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4"/>
            <p:cNvGrpSpPr/>
            <p:nvPr/>
          </p:nvGrpSpPr>
          <p:grpSpPr>
            <a:xfrm>
              <a:off x="900720" y="5014800"/>
              <a:ext cx="1308240" cy="1305720"/>
              <a:chOff x="900720" y="5014800"/>
              <a:chExt cx="1308240" cy="1305720"/>
            </a:xfrm>
          </p:grpSpPr>
          <p:sp>
            <p:nvSpPr>
              <p:cNvPr id="108" name="Freeform 25"/>
              <p:cNvSpPr/>
              <p:nvPr/>
            </p:nvSpPr>
            <p:spPr>
              <a:xfrm rot="8520000">
                <a:off x="1786680" y="5407200"/>
                <a:ext cx="291600" cy="524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8520000">
                <a:off x="1188360" y="5778000"/>
                <a:ext cx="498600" cy="434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 rot="8520000">
                <a:off x="914400" y="5151240"/>
                <a:ext cx="520920" cy="223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8"/>
            <p:cNvGrpSpPr/>
            <p:nvPr/>
          </p:nvGrpSpPr>
          <p:grpSpPr>
            <a:xfrm>
              <a:off x="72360" y="296640"/>
              <a:ext cx="2053440" cy="1410480"/>
              <a:chOff x="72360" y="296640"/>
              <a:chExt cx="2053440" cy="1410480"/>
            </a:xfrm>
          </p:grpSpPr>
          <p:sp>
            <p:nvSpPr>
              <p:cNvPr id="112" name="Freeform 29"/>
              <p:cNvSpPr/>
              <p:nvPr/>
            </p:nvSpPr>
            <p:spPr>
              <a:xfrm flipH="1" rot="4140000">
                <a:off x="1526760" y="1064160"/>
                <a:ext cx="437760" cy="6451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 flipH="1" rot="4140000">
                <a:off x="852480" y="473760"/>
                <a:ext cx="748800" cy="536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1"/>
              <p:cNvSpPr/>
              <p:nvPr/>
            </p:nvSpPr>
            <p:spPr>
              <a:xfrm flipH="1" rot="4140000">
                <a:off x="-50400" y="1108440"/>
                <a:ext cx="782640" cy="274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2"/>
            <p:cNvGrpSpPr/>
            <p:nvPr/>
          </p:nvGrpSpPr>
          <p:grpSpPr>
            <a:xfrm>
              <a:off x="7266960" y="3535920"/>
              <a:ext cx="1371240" cy="1837080"/>
              <a:chOff x="7266960" y="3535920"/>
              <a:chExt cx="1371240" cy="1837080"/>
            </a:xfrm>
          </p:grpSpPr>
          <p:sp>
            <p:nvSpPr>
              <p:cNvPr id="116" name="Freeform 33"/>
              <p:cNvSpPr/>
              <p:nvPr/>
            </p:nvSpPr>
            <p:spPr>
              <a:xfrm flipH="1" rot="10020000">
                <a:off x="7329240" y="4729680"/>
                <a:ext cx="421560" cy="603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4"/>
              <p:cNvSpPr/>
              <p:nvPr/>
            </p:nvSpPr>
            <p:spPr>
              <a:xfrm flipH="1" rot="10020000">
                <a:off x="7867440" y="4387320"/>
                <a:ext cx="723240" cy="503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 flipH="1" rot="10020000">
                <a:off x="7502760" y="3617640"/>
                <a:ext cx="757080" cy="2559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Freeform 36"/>
            <p:cNvSpPr/>
            <p:nvPr/>
          </p:nvSpPr>
          <p:spPr>
            <a:xfrm>
              <a:off x="1900800" y="2880"/>
              <a:ext cx="1374120" cy="140616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 flipV="1" rot="9840000">
              <a:off x="3402000" y="166320"/>
              <a:ext cx="1085040" cy="9410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flipV="1" rot="9840000">
              <a:off x="3147480" y="1361160"/>
              <a:ext cx="525960" cy="4402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V="1" rot="9840000">
              <a:off x="3510720" y="1285200"/>
              <a:ext cx="195840" cy="369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>
              <a:off x="2516400" y="0"/>
              <a:ext cx="197280" cy="19188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flipV="1" rot="9840000">
              <a:off x="3428280" y="1967400"/>
              <a:ext cx="626400" cy="364860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>
              <a:off x="-39600" y="2932560"/>
              <a:ext cx="56880" cy="20916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175273-B1FF-485B-B84F-30C8171FC21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560" y="596880"/>
            <a:ext cx="6189480" cy="35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605160"/>
            <a:ext cx="81090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2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Исследовательская работа</a:t>
            </a:r>
            <a:br>
              <a:rPr sz="5200"/>
            </a:b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Физика в игрушках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Руководитель: Яковлева М.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-4590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ыт 3 «Энергичная пружин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од эксперимен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естим пружину внутрь баллистического пистоле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жмем пружину снарядами с двух сторон (пружина обладает энергией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жмем на рычаг и освободим пружин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 пружины перейдет в энергию движения снарядо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ы наблюдений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аряды разлетелис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2376720" cy="3168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ерционные игрушк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действия инерционной машины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задней или передней оси, соединяющей колёса, находится ряд шестерёнок, которые в свою очередь соединяются массивным цилиндр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толкаем автомобиль, шестерёнки придают движение маховику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6227640" y="4005360"/>
            <a:ext cx="241632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ыт 4 «Резкое торможение»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од эксперимен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ашинку поместим фигурк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     Заставим машинку вместе с ней двигатьс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    Поставив впереди на некотором расстоянии препятстви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ы наблюдений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ка, ударившись о гирю, останавливается, а фигурка, продолжая движение, падает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851280" y="90792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6308640" y="2781360"/>
            <a:ext cx="28353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-4590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обычные игрушк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808360" cy="3743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248000" y="1628640"/>
            <a:ext cx="2775240" cy="3702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7920" y="5877000"/>
            <a:ext cx="8866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55640" y="8366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Термометр любв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95280" y="5516640"/>
            <a:ext cx="8099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ип действия основан на расширении жидкости при нагреван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Волшебная сфер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341520" cy="4456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3341880" cy="4456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611280" y="580536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68360" y="5734080"/>
            <a:ext cx="83516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и воздуха препятствуют сжатию раскрывшейся сферы при падении вн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Томат-таймер»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5219280"/>
            <a:ext cx="9360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496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вращение энергии пружины в энергию дви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24000" y="1325520"/>
            <a:ext cx="4824360" cy="361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9145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Лунтик из яйц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4048200" cy="303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971640" y="4253040"/>
            <a:ext cx="66722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Золотая пыль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589720"/>
            <a:ext cx="82915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0" y="981000"/>
            <a:ext cx="4535640" cy="3400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464000" cy="3346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395280" y="5121360"/>
            <a:ext cx="8999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е очень легких пылинок в геле образной жидкости, которая сопротивляется их па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собрал коллекцию игрушек, которые работают по законам физик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6600" indent="-6066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л принцип действия некоторых игрушек на основе проведенных опытов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6600" indent="-6066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ил знания при конструировании новых игрушек и проведении занимательных опыт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6600" indent="-60660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елился своими знаниями с ребята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91440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валяшки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ушки, действие которых основано на различном положении центра тяжести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п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иди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ложить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хот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нем и ночь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ы сто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чень весе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вен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395280" y="2421000"/>
            <a:ext cx="3801960" cy="4102200"/>
            <a:chOff x="395280" y="2421000"/>
            <a:chExt cx="3801960" cy="4102200"/>
          </a:xfrm>
        </p:grpSpPr>
        <p:pic>
          <p:nvPicPr>
            <p:cNvPr id="173" name="Picture 5" descr=""/>
            <p:cNvPicPr/>
            <p:nvPr/>
          </p:nvPicPr>
          <p:blipFill>
            <a:blip r:embed="rId1"/>
            <a:stretch/>
          </p:blipFill>
          <p:spPr>
            <a:xfrm>
              <a:off x="395280" y="2421000"/>
              <a:ext cx="3801960" cy="41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6"/>
            <p:cNvSpPr/>
            <p:nvPr/>
          </p:nvSpPr>
          <p:spPr>
            <a:xfrm>
              <a:off x="395280" y="2421000"/>
              <a:ext cx="3801960" cy="41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6948360" y="42210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-675000"/>
            <a:ext cx="82436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НТР ТЯЖЕСТИ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авное в устройстве неваляшки - смещенный вниз центр тяже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 тяжести корпуса неваляшки и точка её опоры лежат на одной прямой – это устойчивое равновес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клоняем неваляшку – центр тяжести стремится к прежнему полож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03848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рящий оре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252720" y="981000"/>
            <a:ext cx="9072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 тяжести орла в кончиках крылье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6203880" cy="46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209600"/>
                <a:tab algn="l" pos="1658880"/>
                <a:tab algn="l" pos="2108160"/>
                <a:tab algn="l" pos="2557440"/>
                <a:tab algn="l" pos="3006720"/>
                <a:tab algn="l" pos="3456000"/>
                <a:tab algn="l" pos="3905280"/>
                <a:tab algn="l" pos="4354560"/>
                <a:tab algn="l" pos="4803840"/>
                <a:tab algn="l" pos="5253120"/>
                <a:tab algn="l" pos="5702400"/>
                <a:tab algn="l" pos="6151680"/>
                <a:tab algn="l" pos="6600960"/>
                <a:tab algn="l" pos="7050240"/>
                <a:tab algn="l" pos="7499520"/>
                <a:tab algn="l" pos="7948440"/>
                <a:tab algn="l" pos="8397720"/>
                <a:tab algn="l" pos="8847000"/>
                <a:tab algn="l" pos="9296280"/>
                <a:tab algn="l" pos="97455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ыт 1 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валяшка своими руками»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од эксперимен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яйцо от киндер-сюрприза положим шари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0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робуем положить яйцо набо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 наблюд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йцо возвращается в вертикальное положе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роскопические игрушк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крет устойчивости волчка при вращении называют гироскопическим свойство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а такой устойчивости связана с законом сохранения момента количества движения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6443640" y="4292640"/>
            <a:ext cx="23004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-4590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авающие игрушк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7000" y="1125360"/>
            <a:ext cx="4468680" cy="4930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4284720" y="1600200"/>
            <a:ext cx="46800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вы не умеете плавать, вам на помощь придут надувные резиновые игру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с  игрушки намного меньше силы, с которой их выталкивает 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303660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-65736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ыт 2 «Не тонущее яйцо»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19680" indent="0">
              <a:spcBef>
                <a:spcPts val="499"/>
              </a:spcBef>
              <a:buNone/>
              <a:tabLst>
                <a:tab algn="l" pos="0"/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од эксперимен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-31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ьмём яйц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-31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де оно тоне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-31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м подсыпать соль в вод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езультаты наблюдений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485640"/>
                <a:tab algn="l" pos="934920"/>
                <a:tab algn="l" pos="1384200"/>
                <a:tab algn="l" pos="1833480"/>
                <a:tab algn="l" pos="2282760"/>
                <a:tab algn="l" pos="2732040"/>
                <a:tab algn="l" pos="3181320"/>
                <a:tab algn="l" pos="3630600"/>
                <a:tab algn="l" pos="4079880"/>
                <a:tab algn="l" pos="4529160"/>
                <a:tab algn="l" pos="4978440"/>
                <a:tab algn="l" pos="5427720"/>
                <a:tab algn="l" pos="5877000"/>
                <a:tab algn="l" pos="6326280"/>
                <a:tab algn="l" pos="6775560"/>
                <a:tab algn="l" pos="7224840"/>
                <a:tab algn="l" pos="7674120"/>
                <a:tab algn="l" pos="8123400"/>
                <a:tab algn="l" pos="8572680"/>
                <a:tab algn="l" pos="9021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плотность воды и плотность яйца сравняются, то яйцо начинает плавать в вод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324000" y="3338640"/>
            <a:ext cx="3373200" cy="2530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25225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61272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водные игрушк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556000" cy="22986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4716360" y="2852640"/>
            <a:ext cx="40388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и каждой из них есть вал, пружина и зубчатое колес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 пружины, которую мы закручиваем при заводе, переходит в энергию движения механизма, и ножки утёнка или колёса паровозика приходят в движ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995640" cy="352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3:55:40Z</dcterms:created>
  <dc:creator>Марина</dc:creator>
  <dc:description/>
  <dc:language>en-US</dc:language>
  <cp:lastModifiedBy>PC</cp:lastModifiedBy>
  <dcterms:modified xsi:type="dcterms:W3CDTF">2023-01-19T09:32:49Z</dcterms:modified>
  <cp:revision>14</cp:revision>
  <dc:subject/>
  <dc:title> Исследовательская работа Физика и детская игруш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