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wmf" ContentType="image/x-wmf"/>
  <Override PartName="/ppt/media/image9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0D6-B8B1-4271-8DD4-21B504CB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846-9288-40DD-BBFA-BB9A5B01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82B-E862-40F0-A8F7-AAE8C776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13B-FE11-4CF5-9C36-258AB201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0CFC-B736-49EB-A7E1-45E7AA06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BE4-3073-4E50-96F5-BDBCBB4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3E7C-6C48-45C4-9315-6788624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9F20-4F9C-4DBF-AB97-8132F603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05A6-C61D-40DB-9116-EC72651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8FCA-417B-4CFE-8938-A9E9AFF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5570-336E-4630-B047-C71652F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219-9773-4BDA-A0C7-2C8142DC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FC6D-6D61-4202-952F-C2E8E1B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0137-448E-4E8D-A49E-993352E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3D10-940C-4A81-B489-91AA87A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C1C8-1E08-48DA-9C95-F4A06ACC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13A-2D84-453A-997A-CB7F9E8A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C8A-E2C3-4993-A209-5F8414B9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AF5-009C-43B9-AB10-4900F01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9CC-47FA-4DAD-A617-5F5653A8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60B-CA72-422A-B202-4AD48B66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C7F-9AD6-4B3D-935F-C69B888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F1D-DEB5-4B10-946C-EA7784F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AF7-D9F9-4C47-881E-C9C68BF3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slideLayout" Target="../slideLayouts/slideLayout13.xml"/><Relationship Id="rId64" Type="http://schemas.openxmlformats.org/officeDocument/2006/relationships/slideLayout" Target="../slideLayouts/slideLayout14.xml"/><Relationship Id="rId65" Type="http://schemas.openxmlformats.org/officeDocument/2006/relationships/slideLayout" Target="../slideLayouts/slideLayout15.xml"/><Relationship Id="rId66" Type="http://schemas.openxmlformats.org/officeDocument/2006/relationships/slideLayout" Target="../slideLayouts/slideLayout16.xml"/><Relationship Id="rId67" Type="http://schemas.openxmlformats.org/officeDocument/2006/relationships/slideLayout" Target="../slideLayouts/slideLayout17.xml"/><Relationship Id="rId68" Type="http://schemas.openxmlformats.org/officeDocument/2006/relationships/slideLayout" Target="../slideLayouts/slideLayout18.xml"/><Relationship Id="rId69" Type="http://schemas.openxmlformats.org/officeDocument/2006/relationships/slideLayout" Target="../slideLayouts/slideLayout19.xml"/><Relationship Id="rId70" Type="http://schemas.openxmlformats.org/officeDocument/2006/relationships/slideLayout" Target="../slideLayouts/slideLayout20.xml"/><Relationship Id="rId71" Type="http://schemas.openxmlformats.org/officeDocument/2006/relationships/slideLayout" Target="../slideLayouts/slideLayout21.xml"/><Relationship Id="rId72" Type="http://schemas.openxmlformats.org/officeDocument/2006/relationships/slideLayout" Target="../slideLayouts/slideLayout22.xml"/><Relationship Id="rId73" Type="http://schemas.openxmlformats.org/officeDocument/2006/relationships/slideLayout" Target="../slideLayouts/slideLayout23.xml"/><Relationship Id="rId7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6ac"/>
            </a:gs>
            <a:gs pos="100000">
              <a:srgbClr val="fa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EF94-25F0-42CD-AFBA-34F1A6666E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6ac"/>
            </a:gs>
            <a:gs pos="100000">
              <a:srgbClr val="fa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6798-6B2B-42EE-BC17-474970C1BAD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3"/>
    <p:sldLayoutId id="2147483663" r:id="rId64"/>
    <p:sldLayoutId id="2147483664" r:id="rId65"/>
    <p:sldLayoutId id="2147483665" r:id="rId66"/>
    <p:sldLayoutId id="2147483666" r:id="rId67"/>
    <p:sldLayoutId id="2147483667" r:id="rId68"/>
    <p:sldLayoutId id="2147483668" r:id="rId69"/>
    <p:sldLayoutId id="2147483669" r:id="rId70"/>
    <p:sldLayoutId id="2147483670" r:id="rId71"/>
    <p:sldLayoutId id="2147483671" r:id="rId72"/>
    <p:sldLayoutId id="2147483672" r:id="rId73"/>
    <p:sldLayoutId id="2147483673" r:id="rId7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veterinarua.ru/laboratornye-raboty/1615-nervnaya-tkan-gistogenez-i-morfologiya-nejronov-i-nejroglii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2204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16059"/>
                </a:solidFill>
                <a:latin typeface="Arial"/>
              </a:rPr>
              <a:t>Нервная систем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Verdana"/>
              </a:rPr>
              <a:t>Функциональная классификация нейрон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Афферентные </a:t>
            </a: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(чувствительные) передают информацию от рецепторов в ЦНС (псевдоуниполярные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Эфферентные</a:t>
            </a: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 (двигательные) – от ЦНС к рабочим органам (мультиполярные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Промежуточные</a:t>
            </a: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 (вставочные) – от  одних нейронов к другим в ЦНС (биполярны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Типы нейронов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H="1">
            <a:off x="1692360" y="1773360"/>
            <a:ext cx="1800000" cy="79200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79280" y="2708280"/>
            <a:ext cx="316872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Чувств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788000" y="1773360"/>
            <a:ext cx="0" cy="201600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276720" y="3860640"/>
            <a:ext cx="2950920" cy="792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Вставоч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6084720" y="1844640"/>
            <a:ext cx="1366920" cy="72072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6084720" y="2708280"/>
            <a:ext cx="291636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Исполн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79280" y="3500280"/>
            <a:ext cx="3024360" cy="21607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нформацию о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оверхности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 внутрен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рганов в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3348000" y="4724280"/>
            <a:ext cx="2879640" cy="18003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Анализирую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нформацию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вырабатываю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реш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6300720" y="3573360"/>
            <a:ext cx="2664000" cy="273528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мпуль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(команд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т головного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спинного  мозг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рган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142092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1" name="Объект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5265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3" name="Picture 6" descr="nervsys"/>
          <p:cNvPicPr/>
          <p:nvPr/>
        </p:nvPicPr>
        <p:blipFill>
          <a:blip r:embed="rId1"/>
          <a:stretch/>
        </p:blipFill>
        <p:spPr>
          <a:xfrm>
            <a:off x="2411280" y="907920"/>
            <a:ext cx="4368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9af7d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124000" y="105264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 flipH="1">
            <a:off x="2339640" y="1628640"/>
            <a:ext cx="115236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187280" y="2133720"/>
            <a:ext cx="2521080" cy="1224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истема (ЦНС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5292720" y="1628640"/>
            <a:ext cx="115092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932360" y="2205000"/>
            <a:ext cx="3024360" cy="1079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ерифер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 систе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 flipH="1">
            <a:off x="1258560" y="3357720"/>
            <a:ext cx="64908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179280" y="4292640"/>
            <a:ext cx="1800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Головн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2627280" y="3357720"/>
            <a:ext cx="57636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219564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пин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5076360" y="3284640"/>
            <a:ext cx="35892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3995640" y="4292640"/>
            <a:ext cx="144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Line 17"/>
          <p:cNvSpPr/>
          <p:nvPr/>
        </p:nvSpPr>
        <p:spPr>
          <a:xfrm>
            <a:off x="6443640" y="3284640"/>
            <a:ext cx="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558000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узл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7093080" y="3284640"/>
            <a:ext cx="1224000" cy="8650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7236000" y="4292640"/>
            <a:ext cx="180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оконч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Периферическ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62120" y="1752480"/>
            <a:ext cx="3200400" cy="5814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егетативна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457880" y="1773360"/>
            <a:ext cx="3200400" cy="5814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матиче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76320" y="2735280"/>
            <a:ext cx="3962160" cy="372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2f131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регулирует деятельность внутренних органов,  желез, кров. и лимф. сосудов, мышц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обеспечивает обмен веществ, рост, размножени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4038480" y="2735280"/>
            <a:ext cx="4038840" cy="372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2f131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воспринимает сигналы из внешней и внутренней среды (сенсорная функция)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)  регулирует движения и позы тела (двигательная функция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2057400" y="23623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6097680" y="23623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8" name="Объект 3" descr=""/>
          <p:cNvPicPr/>
          <p:nvPr/>
        </p:nvPicPr>
        <p:blipFill>
          <a:blip r:embed="rId1"/>
          <a:stretch/>
        </p:blipFill>
        <p:spPr>
          <a:xfrm>
            <a:off x="96840" y="-15840"/>
            <a:ext cx="901368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Вегетатив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Симпатическа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даптационно-трофическая функция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(мобилизация защитных сил и ресурсов организма, его энергообеспечение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924360" y="1125360"/>
            <a:ext cx="4038480" cy="41148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Пара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симпатиче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рофотропная функц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осстановление и накопление ресурсов; поддержание гомеостаз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3" name="Picture 2" descr="C:\Users\Ucer\Desktop\vegetativnaya-nervnaya-sistema.jpg"/>
          <p:cNvPicPr/>
          <p:nvPr/>
        </p:nvPicPr>
        <p:blipFill>
          <a:blip r:embed="rId1"/>
          <a:stretch/>
        </p:blipFill>
        <p:spPr>
          <a:xfrm>
            <a:off x="1116000" y="11160"/>
            <a:ext cx="67993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рвная система –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ложноорганизованная, высокоспециализированная система быстрой передачи информации и управления. Регулирует деятельность всех систем и органов, обусловливая их функциональное единство и связь с внешней сред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9af7d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2124000" y="105264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2339640" y="1628640"/>
            <a:ext cx="115236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1187280" y="2133720"/>
            <a:ext cx="2521080" cy="1224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истема (ЦНС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5292720" y="1628640"/>
            <a:ext cx="115092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932360" y="2205000"/>
            <a:ext cx="3024360" cy="1079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ерифер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 систе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 flipH="1">
            <a:off x="1258560" y="3357720"/>
            <a:ext cx="64908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179280" y="4292640"/>
            <a:ext cx="1800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Головн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2627280" y="3357720"/>
            <a:ext cx="57636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219564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пин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 flipH="1">
            <a:off x="5076360" y="3284640"/>
            <a:ext cx="35892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995640" y="4292640"/>
            <a:ext cx="144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6443640" y="3284640"/>
            <a:ext cx="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558000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узл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7093080" y="3284640"/>
            <a:ext cx="1224000" cy="8650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7236000" y="4292640"/>
            <a:ext cx="180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оконч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916360" y="0"/>
            <a:ext cx="4647960" cy="66294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63520" y="476280"/>
            <a:ext cx="35877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Центральная нервная система (выделена красным цветом) полностью заключена внутри черепа и позвоночника.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Периферические нервы направляются из этих костных вместилищ к мышцам и кож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-6732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Нервы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копления отростков нейронов вне ЦНС, заключённые в общую оболочку и проводящие нервные импуль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Нервные узлы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копления тел нейронов вне ЦН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Функциональное деление нервной систем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2411280" y="206064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3058920" y="2852640"/>
            <a:ext cx="936360" cy="64764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332000" y="3573360"/>
            <a:ext cx="295272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Сом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364000" y="2852640"/>
            <a:ext cx="1152720" cy="57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5076720" y="3573360"/>
            <a:ext cx="295128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егетати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1403280" y="4221000"/>
            <a:ext cx="2808360" cy="863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Подчинена вол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челове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403280" y="5157720"/>
            <a:ext cx="2808360" cy="9367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скелетных мышц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5148360" y="4221000"/>
            <a:ext cx="2808360" cy="863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Не подчинен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оле челове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5148360" y="5157720"/>
            <a:ext cx="2879640" cy="11509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внутрен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орган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Вегетатив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 flipH="1">
            <a:off x="2268360" y="1773360"/>
            <a:ext cx="1943280" cy="10792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39640" y="2997360"/>
            <a:ext cx="3095640" cy="8632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имп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5435640" y="1773360"/>
            <a:ext cx="1800360" cy="115092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5435640" y="2997360"/>
            <a:ext cx="338436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Парасимп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611280" y="3933720"/>
            <a:ext cx="2952720" cy="2519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ключается 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ремя интенси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работы, требующ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затрат энерг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5508720" y="4005360"/>
            <a:ext cx="3311280" cy="25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Способству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осстановлению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запасов энергии 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ремя сна и отдых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В основе работы нервной системы лежит рефлек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af7d"/>
                </a:solidFill>
                <a:latin typeface="Arial"/>
              </a:rPr>
              <a:t>Рефлекс – ответ организма на раздражение, который осуществляется и контролируется ЦН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af7d"/>
                </a:solidFill>
                <a:latin typeface="Arial"/>
              </a:rPr>
              <a:t>Виды рефлекс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95280" y="981000"/>
          <a:ext cx="8559720" cy="5730840"/>
        </p:xfrm>
        <a:graphic>
          <a:graphicData uri="http://schemas.openxmlformats.org/drawingml/2006/table">
            <a:tbl>
              <a:tblPr/>
              <a:tblGrid>
                <a:gridCol w="4280040"/>
                <a:gridCol w="427968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Безусловны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Условны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0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Врождённые, наследственно передающиеся реакци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Рефлекторные центры находятся на уровне спинного мозга и в стволе головного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Приобретённые в процессе жизнедеятельности, не наследуемые реакции организм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Возникают на основе жизненного опыта организма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Рефлекторные центры находятся в коре головного мозга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Пищевой, половой, оборонительный и пр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Слюноотделение на запах пищ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Значение: помогают выживанию, это применение «опыта предков» на практик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Значение: помогают приспосабливаться к меняющимся условиям внешней сред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Рефлекторная дуга -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9af7d"/>
                </a:solidFill>
                <a:latin typeface="Arial"/>
              </a:rPr>
              <a:t>Путь, по которому проводятся нервные импульсы при осуществлении рефлекс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8" name="Picture 8" descr="stretchreflex"/>
          <p:cNvPicPr/>
          <p:nvPr/>
        </p:nvPicPr>
        <p:blipFill>
          <a:blip r:embed="rId2"/>
          <a:srcRect l="0" t="24769" r="3297" b="0"/>
          <a:stretch/>
        </p:blipFill>
        <p:spPr>
          <a:xfrm>
            <a:off x="324000" y="3213000"/>
            <a:ext cx="6335640" cy="2845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9"/>
          <p:cNvSpPr/>
          <p:nvPr/>
        </p:nvSpPr>
        <p:spPr>
          <a:xfrm>
            <a:off x="468360" y="2637000"/>
            <a:ext cx="424800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Чувствитель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2843280" y="3141720"/>
            <a:ext cx="358560" cy="115092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2268360" y="6237360"/>
            <a:ext cx="3816360" cy="431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Исполнитель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Line 12"/>
          <p:cNvSpPr/>
          <p:nvPr/>
        </p:nvSpPr>
        <p:spPr>
          <a:xfrm flipH="1" flipV="1">
            <a:off x="3851280" y="4652640"/>
            <a:ext cx="649440" cy="15843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5508720" y="2565360"/>
            <a:ext cx="338436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ставоч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 flipH="1">
            <a:off x="5508360" y="3141720"/>
            <a:ext cx="1368360" cy="5745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9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98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2707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5b781"/>
                </a:solidFill>
                <a:latin typeface="Arial"/>
              </a:rPr>
              <a:t>Централь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4772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Центральная нервная система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осуществляет восприятие, обработку, передачу и воспроизведение информации; регулирует деятельность всех структур организма, обеспечивает адаптацию к условиям внешней среды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38160" y="3068640"/>
            <a:ext cx="4343400" cy="3657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37400" indent="-4374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Головной  моз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долговатый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дний (мост, мозжечок)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редний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межуточны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ечный (КБП, базальные ядр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356000" y="3068640"/>
            <a:ext cx="3962520" cy="3657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99"/>
                </a:solidFill>
                <a:uFillTx/>
                <a:latin typeface="Verdana"/>
              </a:rPr>
              <a:t>Спинной</a:t>
            </a:r>
            <a:r>
              <a:rPr b="0" i="1" lang="ru-RU" sz="20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99"/>
                </a:solidFill>
                <a:uFillTx/>
                <a:latin typeface="Verdana"/>
              </a:rPr>
              <a:t>моз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Функци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флекторная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двигательные и вегетативные рефлекс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водников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560" y="260280"/>
            <a:ext cx="2952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Нервная тка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240" y="3068280"/>
            <a:ext cx="3101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9af7d"/>
                </a:solidFill>
                <a:latin typeface="Arial"/>
              </a:rPr>
              <a:t>Основу нервной ткани составляют нервные клетки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9af7d"/>
                </a:solidFill>
                <a:uFillTx/>
                <a:latin typeface="Arial"/>
              </a:rPr>
              <a:t>НЕЙРО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4" descr="строение нейрона"/>
          <p:cNvPicPr/>
          <p:nvPr/>
        </p:nvPicPr>
        <p:blipFill>
          <a:blip r:embed="rId1"/>
          <a:stretch/>
        </p:blipFill>
        <p:spPr>
          <a:xfrm>
            <a:off x="3132000" y="115920"/>
            <a:ext cx="442764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9142920" cy="6858000"/>
            <a:chOff x="0" y="0"/>
            <a:chExt cx="9142920" cy="6858000"/>
          </a:xfrm>
        </p:grpSpPr>
        <p:grpSp>
          <p:nvGrpSpPr>
            <p:cNvPr id="380" name="Group 3"/>
            <p:cNvGrpSpPr/>
            <p:nvPr/>
          </p:nvGrpSpPr>
          <p:grpSpPr>
            <a:xfrm>
              <a:off x="0" y="0"/>
              <a:ext cx="9140760" cy="6857640"/>
              <a:chOff x="0" y="0"/>
              <a:chExt cx="9140760" cy="6857640"/>
            </a:xfrm>
          </p:grpSpPr>
          <p:grpSp>
            <p:nvGrpSpPr>
              <p:cNvPr id="381" name="Group 4"/>
              <p:cNvGrpSpPr/>
              <p:nvPr/>
            </p:nvGrpSpPr>
            <p:grpSpPr>
              <a:xfrm>
                <a:off x="0" y="0"/>
                <a:ext cx="9140760" cy="635040"/>
                <a:chOff x="0" y="0"/>
                <a:chExt cx="9140760" cy="635040"/>
              </a:xfrm>
            </p:grpSpPr>
            <p:sp>
              <p:nvSpPr>
                <p:cNvPr id="382" name="Rectangle 5"/>
                <p:cNvSpPr/>
                <p:nvPr/>
              </p:nvSpPr>
              <p:spPr>
                <a:xfrm>
                  <a:off x="0" y="0"/>
                  <a:ext cx="9140760" cy="63504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2f1311"/>
                      </a:solidFill>
                      <a:latin typeface="Arial"/>
                    </a:rPr>
                    <a:t>Некоторые действия, контролируемые мозгом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6"/>
                <p:cNvSpPr/>
                <p:nvPr/>
              </p:nvSpPr>
              <p:spPr>
                <a:xfrm>
                  <a:off x="0" y="0"/>
                  <a:ext cx="9140760" cy="63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7"/>
              <p:cNvGrpSpPr/>
              <p:nvPr/>
            </p:nvGrpSpPr>
            <p:grpSpPr>
              <a:xfrm>
                <a:off x="0" y="635040"/>
                <a:ext cx="2774160" cy="6222600"/>
                <a:chOff x="0" y="635040"/>
                <a:chExt cx="2774160" cy="6222600"/>
              </a:xfrm>
            </p:grpSpPr>
            <p:sp>
              <p:nvSpPr>
                <p:cNvPr id="385" name="Rectangle 8"/>
                <p:cNvSpPr/>
                <p:nvPr/>
              </p:nvSpPr>
              <p:spPr>
                <a:xfrm>
                  <a:off x="0" y="635040"/>
                  <a:ext cx="2774160" cy="622260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80"/>
                      </a:solidFill>
                      <a:latin typeface="Arial"/>
                    </a:rPr>
                    <a:t>Взаимодействия с окружающей средой</a:t>
                  </a:r>
                  <a:br>
                    <a:rPr sz="2000"/>
                  </a:b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Зр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лух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Тактильные ощущения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Обоня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Вкус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чь</a:t>
                  </a: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9"/>
                <p:cNvSpPr/>
                <p:nvPr/>
              </p:nvSpPr>
              <p:spPr>
                <a:xfrm>
                  <a:off x="0" y="635040"/>
                  <a:ext cx="2774160" cy="62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10"/>
              <p:cNvGrpSpPr/>
              <p:nvPr/>
            </p:nvGrpSpPr>
            <p:grpSpPr>
              <a:xfrm>
                <a:off x="2775240" y="635040"/>
                <a:ext cx="3561120" cy="6222600"/>
                <a:chOff x="2775240" y="635040"/>
                <a:chExt cx="3561120" cy="6222600"/>
              </a:xfrm>
            </p:grpSpPr>
            <p:sp>
              <p:nvSpPr>
                <p:cNvPr id="388" name="Rectangle 11"/>
                <p:cNvSpPr/>
                <p:nvPr/>
              </p:nvSpPr>
              <p:spPr>
                <a:xfrm>
                  <a:off x="2775240" y="635040"/>
                  <a:ext cx="3561120" cy="622260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80"/>
                      </a:solidFill>
                      <a:latin typeface="Arial"/>
                    </a:rPr>
                    <a:t>Действия, контролирующие функции организма</a:t>
                  </a:r>
                  <a:br>
                    <a:rPr sz="1800"/>
                  </a:b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Дых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гулирование кровяного давления и температуры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 Регуляция положения тела, движений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гуляция рефлексов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Еда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Пить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гуляция гормонального статуса</a:t>
                  </a: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12"/>
                <p:cNvSpPr/>
                <p:nvPr/>
              </p:nvSpPr>
              <p:spPr>
                <a:xfrm>
                  <a:off x="2775240" y="635040"/>
                  <a:ext cx="3561120" cy="62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13"/>
              <p:cNvGrpSpPr/>
              <p:nvPr/>
            </p:nvGrpSpPr>
            <p:grpSpPr>
              <a:xfrm>
                <a:off x="6337800" y="635040"/>
                <a:ext cx="2802960" cy="6222600"/>
                <a:chOff x="6337800" y="635040"/>
                <a:chExt cx="2802960" cy="6222600"/>
              </a:xfrm>
            </p:grpSpPr>
            <p:sp>
              <p:nvSpPr>
                <p:cNvPr id="391" name="Rectangle 14"/>
                <p:cNvSpPr/>
                <p:nvPr/>
              </p:nvSpPr>
              <p:spPr>
                <a:xfrm>
                  <a:off x="6337800" y="635040"/>
                  <a:ext cx="2802960" cy="622260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80"/>
                      </a:solidFill>
                      <a:latin typeface="Arial"/>
                    </a:rPr>
                    <a:t>Умственная деятельность</a:t>
                  </a:r>
                  <a:br>
                    <a:rPr sz="1800"/>
                  </a:b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Обуч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Письмо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исов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Чт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озид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Анализ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ш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Вычисл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Воображ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осредоточ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Игнориров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Чувствов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он</a:t>
                  </a:r>
                  <a:r>
                    <a:rPr b="0" lang="ru-RU" sz="1800" spc="-1" strike="noStrike">
                      <a:solidFill>
                        <a:srgbClr val="2f1311"/>
                      </a:solidFill>
                      <a:latin typeface="Times New Roman"/>
                    </a:rPr>
                    <a:t>, </a:t>
                  </a: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новидения</a:t>
                  </a: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15"/>
                <p:cNvSpPr/>
                <p:nvPr/>
              </p:nvSpPr>
              <p:spPr>
                <a:xfrm>
                  <a:off x="6337800" y="635040"/>
                  <a:ext cx="2802960" cy="62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Rectangle 16"/>
            <p:cNvSpPr/>
            <p:nvPr/>
          </p:nvSpPr>
          <p:spPr>
            <a:xfrm>
              <a:off x="0" y="0"/>
              <a:ext cx="9142920" cy="6858000"/>
            </a:xfrm>
            <a:prstGeom prst="rect">
              <a:avLst/>
            </a:prstGeom>
            <a:noFill/>
            <a:ln w="0">
              <a:solidFill>
                <a:srgbClr val="ead6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b781"/>
                </a:solidFill>
                <a:latin typeface="Arial"/>
              </a:rPr>
              <a:t>Строение спин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95" name="Picture 6" descr="spinal"/>
          <p:cNvPicPr/>
          <p:nvPr/>
        </p:nvPicPr>
        <p:blipFill>
          <a:blip r:embed="rId1"/>
          <a:stretch/>
        </p:blipFill>
        <p:spPr>
          <a:xfrm>
            <a:off x="2603520" y="1341360"/>
            <a:ext cx="4060800" cy="53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98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5b781"/>
                </a:solidFill>
                <a:latin typeface="Arial"/>
              </a:rPr>
              <a:t>Спинно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97" name="Picture 9" descr="n5551554"/>
          <p:cNvPicPr/>
          <p:nvPr/>
        </p:nvPicPr>
        <p:blipFill>
          <a:blip r:embed="rId1"/>
          <a:srcRect l="0" t="0" r="60168" b="0"/>
          <a:stretch/>
        </p:blipFill>
        <p:spPr>
          <a:xfrm>
            <a:off x="539640" y="981000"/>
            <a:ext cx="3343320" cy="547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anatomy5"/>
          <p:cNvPicPr/>
          <p:nvPr/>
        </p:nvPicPr>
        <p:blipFill>
          <a:blip r:embed="rId2"/>
          <a:srcRect l="24587" t="0" r="24417" b="0"/>
          <a:stretch/>
        </p:blipFill>
        <p:spPr>
          <a:xfrm>
            <a:off x="5076720" y="1052640"/>
            <a:ext cx="3094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Функции спин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флекторная – здесь находятся центры безусловных рефлек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Проводниковая функция – белое вещество спинного мозга обеспечивает связь всех отделов ЦН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6059"/>
                </a:solidFill>
                <a:latin typeface="Arial"/>
              </a:rPr>
              <a:t>Головной мозг регулирует работу спинного!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16059"/>
                </a:solidFill>
                <a:latin typeface="Arial"/>
              </a:rPr>
              <a:t>Головной мозг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02" name="Picture 7" descr="homer-simpson-wallpaper-brain-1024"/>
          <p:cNvPicPr/>
          <p:nvPr/>
        </p:nvPicPr>
        <p:blipFill>
          <a:blip r:embed="rId1"/>
          <a:stretch/>
        </p:blipFill>
        <p:spPr>
          <a:xfrm>
            <a:off x="782640" y="1596960"/>
            <a:ext cx="526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6059"/>
                </a:solidFill>
                <a:latin typeface="Arial"/>
              </a:rPr>
              <a:t>Строение голов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04" name="Picture 11" descr="f15-1ap-442_the_human_b_c"/>
          <p:cNvPicPr/>
          <p:nvPr/>
        </p:nvPicPr>
        <p:blipFill>
          <a:blip r:embed="rId1"/>
          <a:srcRect l="13457" t="1860" r="10460" b="2794"/>
          <a:stretch/>
        </p:blipFill>
        <p:spPr>
          <a:xfrm>
            <a:off x="2340000" y="1773360"/>
            <a:ext cx="5040360" cy="49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2" descr="co15_brain_and_cranial__c"/>
          <p:cNvPicPr/>
          <p:nvPr/>
        </p:nvPicPr>
        <p:blipFill>
          <a:blip r:embed="rId1"/>
          <a:srcRect l="0" t="3514" r="2539" b="3740"/>
          <a:stretch/>
        </p:blipFill>
        <p:spPr>
          <a:xfrm>
            <a:off x="2050920" y="836640"/>
            <a:ext cx="4967280" cy="47862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3"/>
          <p:cNvSpPr/>
          <p:nvPr/>
        </p:nvSpPr>
        <p:spPr>
          <a:xfrm>
            <a:off x="2987640" y="5877000"/>
            <a:ext cx="3529080" cy="647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долговаты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395280" y="5013360"/>
            <a:ext cx="1584360" cy="5032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7164360" y="4508640"/>
            <a:ext cx="1871640" cy="576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жеч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6877080" y="2997360"/>
            <a:ext cx="2266920" cy="50292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324000" y="189000"/>
            <a:ext cx="273528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межуточ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6443640" y="189000"/>
            <a:ext cx="252108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льш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олушар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 flipV="1">
            <a:off x="4356000" y="4653000"/>
            <a:ext cx="503280" cy="122400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 flipV="1">
            <a:off x="1979640" y="3716280"/>
            <a:ext cx="2448000" cy="144144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 flipH="1" flipV="1">
            <a:off x="4571640" y="2997000"/>
            <a:ext cx="2305080" cy="21564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2195640" y="1125360"/>
            <a:ext cx="2016000" cy="17272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Line 23"/>
          <p:cNvSpPr/>
          <p:nvPr/>
        </p:nvSpPr>
        <p:spPr>
          <a:xfrm flipH="1">
            <a:off x="5148360" y="907920"/>
            <a:ext cx="1295280" cy="5050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Line 24"/>
          <p:cNvSpPr/>
          <p:nvPr/>
        </p:nvSpPr>
        <p:spPr>
          <a:xfrm flipH="1" flipV="1">
            <a:off x="5795640" y="3715920"/>
            <a:ext cx="1368360" cy="10810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Rectangle 25"/>
          <p:cNvSpPr/>
          <p:nvPr/>
        </p:nvSpPr>
        <p:spPr>
          <a:xfrm>
            <a:off x="3276720" y="115920"/>
            <a:ext cx="2879640" cy="6490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олистое те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Line 26"/>
          <p:cNvSpPr/>
          <p:nvPr/>
        </p:nvSpPr>
        <p:spPr>
          <a:xfrm flipH="1">
            <a:off x="4140360" y="765000"/>
            <a:ext cx="287280" cy="122400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18117"/>
          <p:cNvPicPr/>
          <p:nvPr/>
        </p:nvPicPr>
        <p:blipFill>
          <a:blip r:embed="rId1"/>
          <a:srcRect l="0" t="0" r="35727" b="0"/>
          <a:stretch/>
        </p:blipFill>
        <p:spPr>
          <a:xfrm>
            <a:off x="324000" y="260280"/>
            <a:ext cx="4692600" cy="58420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4427640" y="476280"/>
            <a:ext cx="3024000" cy="57636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елое вещест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4932360" y="2276640"/>
            <a:ext cx="2952720" cy="647640"/>
          </a:xfrm>
          <a:prstGeom prst="rect">
            <a:avLst/>
          </a:prstGeom>
          <a:solidFill>
            <a:srgbClr val="9696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ерое вещест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Line 11"/>
          <p:cNvSpPr/>
          <p:nvPr/>
        </p:nvSpPr>
        <p:spPr>
          <a:xfrm flipH="1">
            <a:off x="3347640" y="981000"/>
            <a:ext cx="1079640" cy="93528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 flipH="1">
            <a:off x="4140360" y="2708280"/>
            <a:ext cx="792000" cy="50472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 flipH="1">
            <a:off x="3058920" y="2708280"/>
            <a:ext cx="1873080" cy="5763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Line 14"/>
          <p:cNvSpPr/>
          <p:nvPr/>
        </p:nvSpPr>
        <p:spPr>
          <a:xfrm flipH="1" flipV="1">
            <a:off x="4284360" y="2133720"/>
            <a:ext cx="647640" cy="5745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5219640" y="2997360"/>
            <a:ext cx="3600360" cy="17269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Белое вещество составляе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проводящие пут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вязывающие головной мозг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о спинным, а также ча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головного моз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5219640" y="4869000"/>
            <a:ext cx="3600360" cy="1800000"/>
          </a:xfrm>
          <a:prstGeom prst="rect">
            <a:avLst/>
          </a:prstGeom>
          <a:solidFill>
            <a:srgbClr val="9696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ерое вещество в вид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отдельных скоплений (ядер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располагается внутри белог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а также образуе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кору головного моз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Продолговатый мозг и мост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46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Регуляц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Дых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ищеварения (слюноотделение, жевание, глотание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ердечно-сосудистой систем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Защитные рефлекс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Чихание, моргание, кашель, рво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1" name="Picture 6" descr="f15-22a_cerebellum_mids_c"/>
          <p:cNvPicPr/>
          <p:nvPr/>
        </p:nvPicPr>
        <p:blipFill>
          <a:blip r:embed="rId7"/>
          <a:srcRect l="19976" t="22411" r="1925" b="4478"/>
          <a:stretch/>
        </p:blipFill>
        <p:spPr>
          <a:xfrm>
            <a:off x="4716360" y="1484280"/>
            <a:ext cx="410868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37450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Мозжеч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0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Координация произвольных движ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Сохранение положения тела в пространств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гуляция мышечного тонуса и равновес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4" name="Picture 6" descr="f15-22a_cerebellum_mids_c"/>
          <p:cNvPicPr/>
          <p:nvPr/>
        </p:nvPicPr>
        <p:blipFill>
          <a:blip r:embed="rId4"/>
          <a:srcRect l="24686" t="21880" r="3216" b="4685"/>
          <a:stretch/>
        </p:blipFill>
        <p:spPr>
          <a:xfrm>
            <a:off x="6372360" y="189000"/>
            <a:ext cx="2074680" cy="2519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f15-1ap-442_the_human_b_c"/>
          <p:cNvPicPr/>
          <p:nvPr/>
        </p:nvPicPr>
        <p:blipFill>
          <a:blip r:embed="rId5"/>
          <a:srcRect l="12084" t="2104" r="10342" b="4672"/>
          <a:stretch/>
        </p:blipFill>
        <p:spPr>
          <a:xfrm>
            <a:off x="4859280" y="2852640"/>
            <a:ext cx="3889440" cy="380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йроны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- это специализированные клетки, способные принимать, обрабатывать, кодировать, передавать и хранить информацию; реагировать на раздражения; устанавливать контакты с др. нейронами или клетками органов  с помощью синапс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421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Средни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7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Arial"/>
              </a:rPr>
              <a:t>Ориентировочные рефлексы на зрительные и слуховые раздражители (поворот головы и тела в сторону световых или звуковых раздражителе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Arial"/>
              </a:rPr>
              <a:t>Регуляция мышечного тонуса и позы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8" name="Picture 6" descr="co15_brain_and_cranial__c"/>
          <p:cNvPicPr/>
          <p:nvPr/>
        </p:nvPicPr>
        <p:blipFill>
          <a:blip r:embed="rId3"/>
          <a:srcRect l="1956" t="3376" r="3543" b="5147"/>
          <a:stretch/>
        </p:blipFill>
        <p:spPr>
          <a:xfrm>
            <a:off x="4572000" y="1268280"/>
            <a:ext cx="4464000" cy="43754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7"/>
          <p:cNvSpPr/>
          <p:nvPr/>
        </p:nvSpPr>
        <p:spPr>
          <a:xfrm>
            <a:off x="5724360" y="5805360"/>
            <a:ext cx="2951280" cy="719280"/>
          </a:xfrm>
          <a:prstGeom prst="rect">
            <a:avLst/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 flipV="1">
            <a:off x="6877080" y="3284640"/>
            <a:ext cx="0" cy="252072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58687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Промежуточны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4192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Поддержание обмена веществ и энергии на оптимальном уровн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Сбор и оценка поступающей информации от органов чувст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гуляция сложных движений: бег, ходьба, плав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3" name="Picture 9" descr="co15_brain_and_cranial__c"/>
          <p:cNvPicPr/>
          <p:nvPr/>
        </p:nvPicPr>
        <p:blipFill>
          <a:blip r:embed="rId4"/>
          <a:srcRect l="0" t="1896" r="0" b="6124"/>
          <a:stretch/>
        </p:blipFill>
        <p:spPr>
          <a:xfrm>
            <a:off x="4859280" y="1125360"/>
            <a:ext cx="4097520" cy="3816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0"/>
          <p:cNvSpPr/>
          <p:nvPr/>
        </p:nvSpPr>
        <p:spPr>
          <a:xfrm>
            <a:off x="5364000" y="5084640"/>
            <a:ext cx="3600720" cy="865440"/>
          </a:xfrm>
          <a:prstGeom prst="rect">
            <a:avLst/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межуточны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 flipH="1" flipV="1">
            <a:off x="6732360" y="2637000"/>
            <a:ext cx="144360" cy="252072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635652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Большие полушар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47" name="Picture 5" descr="14236"/>
          <p:cNvPicPr/>
          <p:nvPr/>
        </p:nvPicPr>
        <p:blipFill>
          <a:blip r:embed="rId1"/>
          <a:stretch/>
        </p:blipFill>
        <p:spPr>
          <a:xfrm>
            <a:off x="1403280" y="1125360"/>
            <a:ext cx="5977080" cy="505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6877080" y="2060640"/>
            <a:ext cx="208764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Лобная 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364000" y="1052640"/>
            <a:ext cx="244800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роз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250920" y="981000"/>
            <a:ext cx="280836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ковая бороз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179280" y="1700280"/>
            <a:ext cx="1727280" cy="7189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Теменна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5940360" y="5157720"/>
            <a:ext cx="187164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Височна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0" y="4508640"/>
            <a:ext cx="1979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Затылоч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280" y="-72360"/>
            <a:ext cx="8404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Затылоч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зритель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Височ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луховая, вкусовая, обонятель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Лоб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произвольные внимание, произвольные движ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Темен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кожно-мышеч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С большими полушариями мозга связан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Творческие процес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0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4376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f1311"/>
                </a:solidFill>
                <a:latin typeface="Verdana"/>
              </a:rPr>
              <a:t>Строение нейр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6575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Строение нейр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Picture 8" descr="neuron1"/>
          <p:cNvPicPr/>
          <p:nvPr/>
        </p:nvPicPr>
        <p:blipFill>
          <a:blip r:embed="rId1"/>
          <a:srcRect l="4934" t="8061" r="4713" b="11458"/>
          <a:stretch/>
        </p:blipFill>
        <p:spPr>
          <a:xfrm>
            <a:off x="2050920" y="1773360"/>
            <a:ext cx="5904000" cy="33112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108000" y="3213000"/>
            <a:ext cx="187164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дендрит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 flipV="1">
            <a:off x="1979640" y="2565000"/>
            <a:ext cx="122400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979640" y="3500280"/>
            <a:ext cx="936720" cy="2890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2843280" y="5300640"/>
            <a:ext cx="151272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те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нейро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3492360" y="3789360"/>
            <a:ext cx="71640" cy="15112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5003640" y="5516640"/>
            <a:ext cx="180036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акс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5796000" y="4076640"/>
            <a:ext cx="0" cy="144000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Нейроны </a:t>
            </a:r>
            <a:br>
              <a:rPr sz="4000"/>
            </a:b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состоят из следующих часте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Сома (тело)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интегративная часть, осуществляет анализ информации и спобстует росту и развитию отрост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Отростк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Дендриты</a:t>
            </a:r>
            <a:r>
              <a:rPr b="1" i="1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– воспринимающая часть (передают сигнал в сому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Аксон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передающая часть (передают сигнал на др.нейроны или др. клет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Verdana"/>
              </a:rPr>
              <a:t>Морфологическая классификация нейрон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679400"/>
            <a:ext cx="4008240" cy="468000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4427640" y="17002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ультиполярный – один длинный аксон и множество дендрит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397400" y="3357720"/>
            <a:ext cx="379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севдоуниполярный - оди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тросток, сразу разветвляю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щийся на дв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439740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иполярный нейрон име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ва коротких отрост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375080" y="5732640"/>
            <a:ext cx="33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ниполярный – один отрост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8:09:49Z</dcterms:created>
  <dc:creator>белый лукич</dc:creator>
  <dc:description/>
  <dc:language>en-US</dc:language>
  <cp:lastModifiedBy>Ucer</cp:lastModifiedBy>
  <dcterms:modified xsi:type="dcterms:W3CDTF">2022-02-17T09:30:59Z</dcterms:modified>
  <cp:revision>13</cp:revision>
  <dc:subject/>
  <dc:title>Нервная система</dc:title>
</cp:coreProperties>
</file>