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A66-68C2-4B52-A3E7-F0636D1E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1E3-939A-4F07-900E-DC06AD87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A4A-FF2E-4F77-82FB-85033457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68F-C005-4239-903A-3A70EA64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3FF8-6A5B-49A3-96D4-4CD0AAD3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F933-AA05-427D-BD2B-0EFB36D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89E-4398-4561-88D9-F3B3170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3664-B381-4186-BAB5-FDF4FAB3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E88D-F8B4-4DB6-8AB0-7AA2529B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BB7-BDE8-4AEA-ABCC-F3655133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75C4-3C74-4F7D-9ED4-CCA4485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0EF-4E19-4860-8C50-4FF16D3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B38-3E6B-4040-9E65-F1BD555F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B363-5726-4635-9000-39A3EE7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B74A-5324-4B78-B570-C7FF1F06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DCBF-7FAF-44DB-99CE-DA0603C2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DFEF-A747-4071-8094-56A4099B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9466-836F-45CD-85EE-8FFE17BE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5D08-F025-4445-B632-8353EE85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F076-2E99-4F63-98B2-99DB1804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7670-2FAF-4830-8A5B-8DD51656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A1FA-2394-4387-999D-0DC6658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C29-9BCA-4BE0-A83B-6AAF27C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E9E83-9C3A-4C61-B7F2-CCBFC6F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4FAC-7C8B-4FEF-B65C-F16AFBE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C4F2-D393-4273-A69E-0550D6B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E38F-C1A0-480B-B92B-3D4363A5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4D30-872F-46CD-BFFB-BCE71EA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976A-DF76-496C-8331-7A005726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EEEB-E94F-4FAC-82BC-9E6523B0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8A3A-50A5-48A8-94C1-36236CB4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EC57-E9BA-47EB-8E47-D9174715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1A46-1C96-4015-9C63-9D17C35B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18B-4E62-4D3F-83D1-B6492A32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C5F0-27DE-4E6C-9C6B-3B7052B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949C-6405-4CBE-98DF-8EB3959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73EE-DFD7-4A14-B25E-DB55C09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E998-14D4-460F-AA2A-90AAEF7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4F73-3558-4F0D-A46A-9338770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4C0F-14F9-41D6-969D-089EF72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112A-561A-4E58-B420-D7D934C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1BCF-2FE1-4CDC-B626-1F739426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6E50-A4C4-4412-B586-EC3B83C9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1316-69C6-43B0-AE0B-5DA8E22A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75C-7399-443D-AC78-026E6A1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1F3D-E68A-4EF8-9103-B3AB47CC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9DCA-9094-4B42-829F-186B903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7ED4-C40A-46F6-AD46-E68F6FBD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B87F-649F-4E9D-AF8A-B6AD9963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7916-CCD3-46D3-95CE-F3303A9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C347-038D-4683-A913-5A54405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7E18-60B4-4217-930E-0FB763C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1339-D025-4FD0-BCE6-3311B7B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2F0D-8C32-48FA-B3B0-88E0AF4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5FF8-8ACA-4D57-B5D3-E1902192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B1C-E9CD-4DC8-844B-31D3D6F1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0BCF9-6954-4861-A0B1-4565ABF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2942-8DC2-40C0-8678-C9CF66D1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5880-E0B3-4068-935D-833317E3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A2C2-DB08-4929-84E4-94732290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B2AB-6B34-480A-87B4-2B5DB2F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3624D-06C2-40C9-A21C-8F10CD35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BBECA-090B-4812-B91A-F486203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5F91-6556-4ECE-BB88-EC9D520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4FDE-84EE-457B-808B-87C91C41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412A-D0D1-4986-B1FE-E5C0AEC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4A7-000B-4BF8-A08A-5782332A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BF1D-5C60-4303-B465-ECEB876E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C205-3A53-4010-A5C7-37A4B8F5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55022-4F21-4A48-9CF0-0032F2E7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7E1-0CF3-40F0-9884-5D54647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7CF-A404-4759-B879-F0A04E3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D41B-0421-4CE4-AEEC-A3898A55FDFF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FDF3-1A1A-4B37-9300-57DC12695802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24F-EE6D-4F90-A051-B09D07BBE393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0A7-E37C-45C6-8400-6462F50B5A03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FD87-33C9-4CAB-9C89-59FBDC562FCB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662C-AF46-48B9-92BF-D935F985C2B7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4"/>
          <p:cNvSpPr/>
          <p:nvPr/>
        </p:nvSpPr>
        <p:spPr>
          <a:xfrm>
            <a:off x="900000" y="11592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a1c8c5"/>
          </a:solidFill>
          <a:ln w="57240">
            <a:solidFill>
              <a:srgbClr val="3052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05250"/>
                </a:solidFill>
                <a:latin typeface="Arial Black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05250"/>
                </a:solidFill>
                <a:latin typeface="Arial Black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bird is ____ the pencil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5"/>
          <p:cNvSpPr/>
          <p:nvPr/>
        </p:nvSpPr>
        <p:spPr>
          <a:xfrm>
            <a:off x="3348000" y="4941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       </a:t>
            </a: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book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468360" y="113976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15"/>
          <p:cNvSpPr/>
          <p:nvPr/>
        </p:nvSpPr>
        <p:spPr>
          <a:xfrm>
            <a:off x="363528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   </a:t>
            </a: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pen is 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826920" y="1357200"/>
            <a:ext cx="5762880" cy="2924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oneTexte 15"/>
          <p:cNvSpPr/>
          <p:nvPr/>
        </p:nvSpPr>
        <p:spPr>
          <a:xfrm>
            <a:off x="3203640" y="5013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11"/>
          <p:cNvSpPr/>
          <p:nvPr/>
        </p:nvSpPr>
        <p:spPr>
          <a:xfrm>
            <a:off x="1187280" y="465300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cat is 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09480" y="792000"/>
            <a:ext cx="57628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oneTexte 15"/>
          <p:cNvSpPr/>
          <p:nvPr/>
        </p:nvSpPr>
        <p:spPr>
          <a:xfrm>
            <a:off x="3995640" y="4653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football is __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538200" y="792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oneTexte 15"/>
          <p:cNvSpPr/>
          <p:nvPr/>
        </p:nvSpPr>
        <p:spPr>
          <a:xfrm>
            <a:off x="1116000" y="5589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shoes are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755640" y="6714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15"/>
          <p:cNvSpPr/>
          <p:nvPr/>
        </p:nvSpPr>
        <p:spPr>
          <a:xfrm>
            <a:off x="1332000" y="573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doughnut is ____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84360" y="549360"/>
            <a:ext cx="5762520" cy="2923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oneTexte 15"/>
          <p:cNvSpPr/>
          <p:nvPr/>
        </p:nvSpPr>
        <p:spPr>
          <a:xfrm>
            <a:off x="1692360" y="5732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teddy bear is ____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09480" y="1052640"/>
            <a:ext cx="5762880" cy="2923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5"/>
          <p:cNvSpPr/>
          <p:nvPr/>
        </p:nvSpPr>
        <p:spPr>
          <a:xfrm>
            <a:off x="147636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bag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395280" y="126036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15"/>
          <p:cNvSpPr/>
          <p:nvPr/>
        </p:nvSpPr>
        <p:spPr>
          <a:xfrm>
            <a:off x="3203640" y="494172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11"/>
          <p:cNvSpPr/>
          <p:nvPr/>
        </p:nvSpPr>
        <p:spPr>
          <a:xfrm>
            <a:off x="1332000" y="501336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hamster is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09480" y="816120"/>
            <a:ext cx="5762880" cy="2923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15"/>
          <p:cNvSpPr/>
          <p:nvPr/>
        </p:nvSpPr>
        <p:spPr>
          <a:xfrm>
            <a:off x="5219640" y="501336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ZoneTexte 11"/>
          <p:cNvSpPr/>
          <p:nvPr/>
        </p:nvSpPr>
        <p:spPr>
          <a:xfrm>
            <a:off x="1258920" y="469908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tennis racket is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538200" y="792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15"/>
          <p:cNvSpPr/>
          <p:nvPr/>
        </p:nvSpPr>
        <p:spPr>
          <a:xfrm>
            <a:off x="1619280" y="5300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   </a:t>
            </a: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Пользователь</cp:lastModifiedBy>
  <dcterms:modified xsi:type="dcterms:W3CDTF">2023-01-19T08:45:05Z</dcterms:modified>
  <cp:revision>22</cp:revision>
  <dc:subject/>
  <dc:title>Diapositive 1</dc:title>
</cp:coreProperties>
</file>