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594-ED9F-405E-8A0A-4077AC1C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B861-229B-46D2-907F-EC54FFC7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9A3B-F816-4C43-9D93-44BA835F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14BA-88F9-480E-9B12-EC82F68B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C8B7-410F-4749-8A83-B9ED24A8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A968-65A6-422C-A4C0-272014FE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0CDC-B8E0-4255-91AE-3522E1A5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2D66-55D6-4931-AF9D-6F0DC9B3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9FA3-9C3E-4ADB-BB50-9045F5EA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17FA-A6AF-4C5E-B58D-36D9380F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B5EA-75DC-4AC0-B8C5-DDD576F3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4E93-7618-4528-B042-B5AE0B08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102E-D0D9-4F03-A860-369EB56D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A320-9388-469F-BBB5-F5FCDF8B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E287-7344-4953-B0B6-7BC16A6E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0B50-ECC7-47B0-AA2F-E2BFF5D2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BD7D-C947-4F6D-BA3B-6B22DC96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C04EC-E9EE-411D-9D6B-6CCAA6BC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F267C-C992-4735-B00E-EB5D4FA8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2E4A2-076F-4C73-BBD5-D90804B6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B33E1-61A7-4270-929F-0EDB4012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8E15F-3A24-4AEF-84C3-03C66484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EE6C-264E-43E0-AF36-393B0EFA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2775A-B54D-4469-96AF-BEAE1845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0D18E-FD8E-41F9-A77A-844E670E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4071A-2DB7-4984-BF44-B52EDD13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83E0C-0FA1-4F0D-BD65-CF2376E5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94FE5-4352-46FA-86F4-80AC6A21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A078D-24E7-4412-B932-FAE08E26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95ABC-C84D-4C82-8255-7B78824C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D5DFB-0A06-43B9-8E3E-8FCD9F42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66EED-4B24-4F9D-8EB0-7122D1B0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16D42-9136-483E-AE0D-5681A779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A15B-AADF-4BE7-9018-E6445609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8673E-3F3E-4354-B65F-C7AED12B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BA9EE-F8D3-4D22-A6FF-33F5BD22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6DD48-2972-4F46-818E-65ACC85D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27B15-F452-4511-84B8-A4F9FFBA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21C3B-7E6F-4454-8D13-8338C50B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3C6F8-D5AB-4A9B-9D9A-DFCA562D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E1CFB-98CA-4BBA-B94C-4ED33E68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5D92E-1A55-4758-B667-6E5A29AF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5190F-FD0C-4011-B3A1-FF2A4178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6E2D4-2EBE-409E-8F11-67AEF8AD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E084-9CF0-4F35-A87D-409DD063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FD55E-3CD2-4A28-9D6A-E7F11183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6BE52-4F98-4F7B-A56A-FF0975CC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1C537-ADB8-4B3F-A20D-4C89599D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ECEB4-737B-4C74-B254-B117CA77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4AC33-A259-4184-97DB-9FDA389E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B8A64-3A75-4138-A886-31B6A76C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02F85-7706-426B-A219-8944C8C0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091D6-C6BF-4EA0-A639-F8DC271D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1A1FD-8B7C-44CE-83F4-73749D19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B81CA-F701-4A76-9702-FB18B050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868-0F43-49A1-940A-6B4328E8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FC2F3-6FF0-4AA7-A588-21F5146E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2CA42-9B3F-4DEC-9370-95684B63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7E907-E7C3-45DE-9A96-4FA99DAE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E6B81-2349-4D15-8777-7A90C95F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112CA-0F61-4E90-8D95-0ADDF6CD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E0B53-9F33-4092-9202-0CC52F3A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2BA09-FDAE-4C20-AFA2-3474900E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845F5-FE43-4CFE-A102-0C55AC5B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1930A-9A0C-4F74-A5F1-27B2FE68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73F8B-4F76-4D3D-8145-EBE8157C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8054-44BD-4B99-84C6-92AACDE5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9D312-C74D-4FB5-BF3A-BA6A468E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B75FE-DD04-4E4E-9400-F1E42C75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2E38D-74B9-4D33-AFB9-003FFC19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1C46-7226-4C7B-8A23-1F88FBFE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FAEC-A5E3-4C05-AB9B-50485942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ADA1-1C44-429F-BC43-1894D01C2A68}" type="slidenum">
              <a:rPr b="0" lang="fr-FR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3645-936E-427F-834F-DD1AA650ACED}" type="slidenum">
              <a:rPr b="0" lang="fr-FR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A094-3109-41AD-90CD-1BD22EF8C0BC}" type="slidenum">
              <a:rPr b="0" lang="fr-FR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E189-6DDB-44F8-8568-AC58EAFA95F9}" type="slidenum">
              <a:rPr b="0" lang="fr-FR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D73D-C14C-4B82-B9FD-8E1E31368B56}" type="slidenum">
              <a:rPr b="0" lang="fr-FR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FAE5-5FF9-4D71-8CDF-4917DCF098FA}" type="slidenum">
              <a:rPr b="0" lang="fr-FR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e"/>
            </a:gs>
            <a:gs pos="100000">
              <a:srgbClr val="bbe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oneTexte 14"/>
          <p:cNvSpPr/>
          <p:nvPr/>
        </p:nvSpPr>
        <p:spPr>
          <a:xfrm>
            <a:off x="900000" y="115920"/>
            <a:ext cx="7561440" cy="1319400"/>
          </a:xfrm>
          <a:prstGeom prst="roundRect">
            <a:avLst>
              <a:gd name="adj" fmla="val 16667"/>
            </a:avLst>
          </a:prstGeom>
          <a:solidFill>
            <a:srgbClr val="a1c8c5"/>
          </a:solidFill>
          <a:ln w="57240">
            <a:solidFill>
              <a:srgbClr val="3052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05250"/>
                </a:solidFill>
                <a:latin typeface="Arial Black"/>
              </a:rPr>
              <a:t>PL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05250"/>
                </a:solidFill>
                <a:latin typeface="Arial Black"/>
              </a:rPr>
              <a:t>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Arial Black"/>
              </a:rPr>
              <a:t>The bird is ____ the pencil 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11280" y="1989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ZoneTexte 15"/>
          <p:cNvSpPr/>
          <p:nvPr/>
        </p:nvSpPr>
        <p:spPr>
          <a:xfrm>
            <a:off x="3348000" y="494172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       </a:t>
            </a: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e"/>
            </a:gs>
            <a:gs pos="100000">
              <a:srgbClr val="bbe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Arial Black"/>
              </a:rPr>
              <a:t>The book is ____ the fl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468360" y="113976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oneTexte 15"/>
          <p:cNvSpPr/>
          <p:nvPr/>
        </p:nvSpPr>
        <p:spPr>
          <a:xfrm>
            <a:off x="3635280" y="501336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   </a:t>
            </a: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e"/>
            </a:gs>
            <a:gs pos="100000">
              <a:srgbClr val="bbe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Arial Black"/>
              </a:rPr>
              <a:t>The pen is ____ the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826920" y="1357200"/>
            <a:ext cx="5762880" cy="29242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ZoneTexte 15"/>
          <p:cNvSpPr/>
          <p:nvPr/>
        </p:nvSpPr>
        <p:spPr>
          <a:xfrm>
            <a:off x="3203640" y="501336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e"/>
            </a:gs>
            <a:gs pos="100000">
              <a:srgbClr val="bbe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ZoneTexte 11"/>
          <p:cNvSpPr/>
          <p:nvPr/>
        </p:nvSpPr>
        <p:spPr>
          <a:xfrm>
            <a:off x="1187280" y="465300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Arial Black"/>
              </a:rPr>
              <a:t>The cat is _____ the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09480" y="792000"/>
            <a:ext cx="5762880" cy="292428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ZoneTexte 15"/>
          <p:cNvSpPr/>
          <p:nvPr/>
        </p:nvSpPr>
        <p:spPr>
          <a:xfrm>
            <a:off x="3995640" y="465300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e"/>
            </a:gs>
            <a:gs pos="100000">
              <a:srgbClr val="bbe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Arial Black"/>
              </a:rPr>
              <a:t>The football is ______ the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538200" y="792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ZoneTexte 15"/>
          <p:cNvSpPr/>
          <p:nvPr/>
        </p:nvSpPr>
        <p:spPr>
          <a:xfrm>
            <a:off x="1116000" y="558972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e"/>
            </a:gs>
            <a:gs pos="100000">
              <a:srgbClr val="bbe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Arial Black"/>
              </a:rPr>
              <a:t>The shoes are ______ the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755640" y="6714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ZoneTexte 15"/>
          <p:cNvSpPr/>
          <p:nvPr/>
        </p:nvSpPr>
        <p:spPr>
          <a:xfrm>
            <a:off x="1332000" y="573264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e"/>
            </a:gs>
            <a:gs pos="100000">
              <a:srgbClr val="bbe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Arial Black"/>
              </a:rPr>
              <a:t>The doughnut is ____ 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84360" y="549360"/>
            <a:ext cx="5762520" cy="29239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ZoneTexte 15"/>
          <p:cNvSpPr/>
          <p:nvPr/>
        </p:nvSpPr>
        <p:spPr>
          <a:xfrm>
            <a:off x="1692360" y="573264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e"/>
            </a:gs>
            <a:gs pos="100000">
              <a:srgbClr val="bbe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Arial Black"/>
              </a:rPr>
              <a:t>The teddy bear is ____ the c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09480" y="1052640"/>
            <a:ext cx="5762880" cy="29239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ZoneTexte 15"/>
          <p:cNvSpPr/>
          <p:nvPr/>
        </p:nvSpPr>
        <p:spPr>
          <a:xfrm>
            <a:off x="1476360" y="573264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e"/>
            </a:gs>
            <a:gs pos="100000">
              <a:srgbClr val="bbe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ZoneTexte 11"/>
          <p:cNvSpPr/>
          <p:nvPr/>
        </p:nvSpPr>
        <p:spPr>
          <a:xfrm>
            <a:off x="1332000" y="501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Arial Black"/>
              </a:rPr>
              <a:t>The bag is ____ the fl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395280" y="126036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ZoneTexte 15"/>
          <p:cNvSpPr/>
          <p:nvPr/>
        </p:nvSpPr>
        <p:spPr>
          <a:xfrm>
            <a:off x="3203640" y="494172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e"/>
            </a:gs>
            <a:gs pos="100000">
              <a:srgbClr val="bbe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ZoneTexte 11"/>
          <p:cNvSpPr/>
          <p:nvPr/>
        </p:nvSpPr>
        <p:spPr>
          <a:xfrm>
            <a:off x="1332000" y="5013360"/>
            <a:ext cx="38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Arial Black"/>
              </a:rPr>
              <a:t>The hamster is the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609480" y="816120"/>
            <a:ext cx="5762880" cy="292392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ZoneTexte 15"/>
          <p:cNvSpPr/>
          <p:nvPr/>
        </p:nvSpPr>
        <p:spPr>
          <a:xfrm>
            <a:off x="5219640" y="5013360"/>
            <a:ext cx="5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i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e"/>
            </a:gs>
            <a:gs pos="100000">
              <a:srgbClr val="bbe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à coins arrondis 6"/>
          <p:cNvSpPr/>
          <p:nvPr/>
        </p:nvSpPr>
        <p:spPr>
          <a:xfrm>
            <a:off x="7020000" y="213372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ZoneTexte 11"/>
          <p:cNvSpPr/>
          <p:nvPr/>
        </p:nvSpPr>
        <p:spPr>
          <a:xfrm>
            <a:off x="1258920" y="469908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Arial Black"/>
              </a:rPr>
              <a:t>The tennis racket is ______ the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Image 10" descr="img040.jpg"/>
          <p:cNvPicPr/>
          <p:nvPr/>
        </p:nvPicPr>
        <p:blipFill>
          <a:blip r:embed="rId1"/>
          <a:srcRect l="0" t="10217" r="0" b="0"/>
          <a:stretch/>
        </p:blipFill>
        <p:spPr>
          <a:xfrm>
            <a:off x="538200" y="792000"/>
            <a:ext cx="5762520" cy="292428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à coins arrondis 12"/>
          <p:cNvSpPr/>
          <p:nvPr/>
        </p:nvSpPr>
        <p:spPr>
          <a:xfrm>
            <a:off x="7020000" y="371628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à coins arrondis 13"/>
          <p:cNvSpPr/>
          <p:nvPr/>
        </p:nvSpPr>
        <p:spPr>
          <a:xfrm>
            <a:off x="7020000" y="5445000"/>
            <a:ext cx="1728720" cy="9367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305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5250"/>
                </a:solidFill>
                <a:latin typeface="Joker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ZoneTexte 15"/>
          <p:cNvSpPr/>
          <p:nvPr/>
        </p:nvSpPr>
        <p:spPr>
          <a:xfrm>
            <a:off x="1619280" y="530064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   </a:t>
            </a:r>
            <a:r>
              <a:rPr b="0" lang="fr-FR" sz="3200" spc="-1" strike="noStrike">
                <a:solidFill>
                  <a:srgbClr val="ff0000"/>
                </a:solidFill>
                <a:latin typeface="Joker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4:06:31Z</dcterms:created>
  <dc:creator>MOURNARD</dc:creator>
  <dc:description/>
  <dc:language>en-US</dc:language>
  <cp:lastModifiedBy>Пользователь</cp:lastModifiedBy>
  <dcterms:modified xsi:type="dcterms:W3CDTF">2023-01-19T08:45:05Z</dcterms:modified>
  <cp:revision>22</cp:revision>
  <dc:subject/>
  <dc:title>Diapositive 1</dc:title>
</cp:coreProperties>
</file>