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7D2-257F-497A-AC4E-B05E61E7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E22-3FD7-451B-B2B4-2E0C9C6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1BD-3CCE-4FAE-9435-0CBC4D7D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4A8-6487-4040-B041-949A973F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D68-F007-48DA-98AB-42E63089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19D-C0DD-4D95-8515-C53D33A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85E-C13D-44DA-B3F1-3577B65A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FE4-C00F-450B-94DE-60E22536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2D4-68B4-4F3E-8AAD-4FB70BF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702-2289-4E9F-B059-0F0F936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49F-1A6B-4F99-A9C3-F5AED62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E3C-8E14-46A5-9676-5593AF1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333-6E8E-4E53-A332-8359C4E3C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лист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68000" y="2781360"/>
            <a:ext cx="496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Многознач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Раз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9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ы и разря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В записи числа разряды, начиная справа, группируются в классы по три разряда в каж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Класс единиц или первый класс — это класс, который образуют первые три разряда (справа от конца числа):</a:t>
            </a:r>
            <a:r>
              <a:rPr b="1" i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 единиц, разряд десятков и разряд сотен</a:t>
            </a: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356000" y="1600200"/>
          <a:ext cx="4330800" cy="4525920"/>
        </p:xfrm>
        <a:graphic>
          <a:graphicData uri="http://schemas.openxmlformats.org/drawingml/2006/table">
            <a:tbl>
              <a:tblPr/>
              <a:tblGrid>
                <a:gridCol w="1082880"/>
                <a:gridCol w="1082520"/>
                <a:gridCol w="1082880"/>
                <a:gridCol w="1082520"/>
              </a:tblGrid>
              <a:tr h="90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2459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Класс тысяч или второй класс — это класс, который образуют следующие три разряда: единицы тысяч, десятки тысяч и сотни тысяч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92360" y="1484280"/>
          <a:ext cx="5237280" cy="44546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520"/>
                <a:gridCol w="747720"/>
                <a:gridCol w="749160"/>
                <a:gridCol w="747720"/>
              </a:tblGrid>
              <a:tr h="89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тысяч (второй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 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2 8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56 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Класс миллионов или третий класс — это класс, который образуют следующие три разряда: единицы миллионов, десятки миллионов и сотни миллио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Единица разряда миллионов — это один миллион или тысяча тысяч (1 000 тысяч). Один миллион можно записать в виде числа 1 000 000.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916280"/>
          <a:ext cx="8218440" cy="4311360"/>
        </p:xfrm>
        <a:graphic>
          <a:graphicData uri="http://schemas.openxmlformats.org/drawingml/2006/table">
            <a:tbl>
              <a:tblPr/>
              <a:tblGrid>
                <a:gridCol w="822240"/>
                <a:gridCol w="820800"/>
                <a:gridCol w="822240"/>
                <a:gridCol w="822600"/>
                <a:gridCol w="822240"/>
                <a:gridCol w="820800"/>
                <a:gridCol w="822240"/>
                <a:gridCol w="822240"/>
                <a:gridCol w="820800"/>
                <a:gridCol w="822240"/>
              </a:tblGrid>
              <a:tr h="840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миллионов(трети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тысяч (второ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 34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3 785 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34 590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Как прочитать многознач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3683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прочитать многозначное число, надо назвать по очереди слева направо число единиц каждого класса и добавить название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Не произносят название класса единиц, а также название класса, все три цифры которого нули</a:t>
            </a:r>
            <a:r>
              <a:rPr b="1" lang="ru-RU" sz="1600" spc="-1" strike="noStrike">
                <a:solidFill>
                  <a:srgbClr val="000000"/>
                </a:solidFill>
                <a:latin typeface="Gungsuh"/>
                <a:ea typeface="Gungsuh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осклицат знак"/>
          <p:cNvPicPr/>
          <p:nvPr/>
        </p:nvPicPr>
        <p:blipFill>
          <a:blip r:embed="rId2"/>
          <a:stretch/>
        </p:blipFill>
        <p:spPr>
          <a:xfrm>
            <a:off x="6732720" y="1700280"/>
            <a:ext cx="1295280" cy="237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79280" y="4663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число 134 590 720 читаем: сто тридцать четыре миллиона пятьсот девяносто тысяч семьсот двадц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418 000 547 читаем: четыреста восемнадцать миллионов пятьсот сорок се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МНОГОЗНАЧНЫЕ ЧИСЛА – это такие целые числа, при записи которых нужно использовать несколько циф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22     147      315     22447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Числа, записанные с помощью двух, трёх, четырёх и более цифр, называются двузначными, трёхзначными, четырёхзначными или многознач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аждая цифра в записи многозначного числа занимает определённое место — позици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ungsuh"/>
                <a:ea typeface="Gungsuh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— это место (позиция), на котором в записи числа стоит цифра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лист 3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ungsuh"/>
                <a:ea typeface="Gungsuh"/>
              </a:rPr>
              <a:t>Одна и та же цифра в записи числа может иметь разные значения в зависимости от того, в каком разряде она стои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ы отсчитываются с конца числа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 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ый младший разряд, которым заканчивается любое числ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 5 — означает 5 единиц, если пятёрка стоит на последнем месте в записи числа (в разряде единиц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11640" y="4581360"/>
            <a:ext cx="1224000" cy="28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 десят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разряд, который стоит перед разрядом едини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а 5 — означает 5 десятков, если она стоит на предпоследнем месте (в разряде десятков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348000" y="4508640"/>
            <a:ext cx="1657440" cy="360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 сот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разряд, который стоит перед разрядом десятков. Цифра 5 означает 5 сотен, если она стоит на третьем месте от конца числа (в разряде сот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419640" y="4581360"/>
            <a:ext cx="1584000" cy="50328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755640" y="1440"/>
            <a:ext cx="74883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ungsuh"/>
                <a:ea typeface="Gungsuh"/>
              </a:rPr>
              <a:t>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Если в числе отсутствует какой-либо разряд, то в записи числа на его месте будет стоять цифра 0 (ноль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Пример. В числе 807 содержится 8 сотен, 0 десятков и 7 единиц — такая запись называется разрядным составом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807 = 8 сотен 0 десятков 7 едини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Каждые 10 единиц любого разряда образуют новую единицу более высокого разряда. Например, 10 единиц образуют 1 десяток, а 10 десятков образуют 1 сотню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9T01:49:53Z</dcterms:created>
  <dc:creator>Sabina</dc:creator>
  <dc:description/>
  <dc:language>en-US</dc:language>
  <cp:lastModifiedBy>Вера</cp:lastModifiedBy>
  <dcterms:modified xsi:type="dcterms:W3CDTF">2022-12-07T05:31:18Z</dcterms:modified>
  <cp:revision>5</cp:revision>
  <dc:subject/>
  <dc:title>Слайд 1</dc:title>
</cp:coreProperties>
</file>