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062-FAB0-4CFF-9149-55A73E4C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92A-1086-404D-9A86-C42030BA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671-9626-4DB6-985E-C5784D69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25C-F1F2-40AA-A8FD-76AD7086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C6E-C263-4513-9D10-85B85639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EBA-0633-4BD1-9BF9-95D3ABF0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11D-E129-4FB4-9637-831B1E4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084-F277-45AE-B9C2-0191129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007-6374-4C55-A00F-C30F9770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5AD-564D-4485-ACEB-82CED94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DFD-454D-424F-89F5-D5DDE02C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2BA-50AC-4389-A95E-9C4410F0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5DD9-3110-4664-9439-F9635C3AE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школа\0_90ba1_37720905_orig (1).png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429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427640" y="4581360"/>
            <a:ext cx="4248000" cy="375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Школ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Литературное чтение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            </a:t>
            </a:r>
            <a:r>
              <a:rPr b="1" lang="ru-RU" sz="4000" spc="-1" strike="noStrike">
                <a:solidFill>
                  <a:srgbClr val="c00000"/>
                </a:solidFill>
                <a:latin typeface="Propisi"/>
              </a:rPr>
              <a:t>3 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D:\клипарты\Дети\0_acfac_4960a1d2_L.png"/>
          <p:cNvPicPr/>
          <p:nvPr/>
        </p:nvPicPr>
        <p:blipFill>
          <a:blip r:embed="rId2"/>
          <a:stretch/>
        </p:blipFill>
        <p:spPr>
          <a:xfrm>
            <a:off x="900000" y="4395960"/>
            <a:ext cx="309564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639720" y="609480"/>
            <a:ext cx="81630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67.fastpic.ru/big/2016/0105/b6/7526168168dc659b4562e7033059e6b6.jpg"/>
          <p:cNvPicPr/>
          <p:nvPr/>
        </p:nvPicPr>
        <p:blipFill>
          <a:blip r:embed="rId1"/>
          <a:stretch/>
        </p:blipFill>
        <p:spPr>
          <a:xfrm>
            <a:off x="3995640" y="1700280"/>
            <a:ext cx="3848040" cy="24256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TextBox 3"/>
          <p:cNvSpPr/>
          <p:nvPr/>
        </p:nvSpPr>
        <p:spPr>
          <a:xfrm>
            <a:off x="611280" y="170028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пит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аф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539640" y="1628640"/>
            <a:ext cx="8209080" cy="301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эпитеты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ветхая избушка, резвая игр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метафора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санок бе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11360" y="404640"/>
            <a:ext cx="81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средства выразительности в стихотвор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61272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- зимний пейзаж. Поэт любил писать стихи о красоте русской природы. Умело пользуясь словом, как пером, он всего лишь несколькими штрихами создавал полную и живую картину происход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аков сюжет этого стихотворения? Как оно начинается, чем продолжается, чем заканчив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южет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тся стихотворение немного грустно и даже уныло, что подчеркивают фразы 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тхая избу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 и 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бушка-стару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. Но затем картину оживляет появление 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уков-шалунише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. И мы уже все вместе слышим их звонкие голоса и веселый смех. Стихотворение носит жизнеутверждающую позицию. Ведь на смену холодной зиме обязательно придет яркая 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9640" y="749520"/>
            <a:ext cx="86043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дберите   рифму  к 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бушка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алунишкам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нег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меютс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а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н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4788000" y="1700280"/>
            <a:ext cx="3168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4932360" y="2708280"/>
            <a:ext cx="3743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бятиш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276720" y="3357720"/>
            <a:ext cx="15112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24360" y="4076640"/>
            <a:ext cx="34560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2484360" y="4724280"/>
            <a:ext cx="19432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2556000" y="5589720"/>
            <a:ext cx="208728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8" descr=""/>
          <p:cNvPicPr/>
          <p:nvPr/>
        </p:nvPicPr>
        <p:blipFill>
          <a:blip r:embed="rId1"/>
          <a:stretch/>
        </p:blipFill>
        <p:spPr>
          <a:xfrm>
            <a:off x="2206800" y="42840"/>
            <a:ext cx="48463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4360" y="2223000"/>
            <a:ext cx="4174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Избушка - 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нуки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Лепят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езвая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студят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ом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есна –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395280" y="2664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обрать  к опорным  словам- подходящие  по  смыслу  слова  из  стихотворения  «Ветхая  избуш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24000" y="2081520"/>
            <a:ext cx="8064360" cy="436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збушка -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тх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нуки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шалуни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епят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нежный 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езвая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студят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ом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стая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есна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 дв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39640" y="1866240"/>
            <a:ext cx="3346200" cy="448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бегают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меются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лепя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астудят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выпьют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гляну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  в  стихотворении  слова – действия 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http://russkay-literatura.net/images/thumbnails/images/stihotvoreniya/Vethaya-izbushka-Blok-stihotvorenie-illyustraciyami-400x552.jpg"/>
          <p:cNvPicPr/>
          <p:nvPr/>
        </p:nvPicPr>
        <p:blipFill>
          <a:blip r:embed="rId1"/>
          <a:stretch/>
        </p:blipFill>
        <p:spPr>
          <a:xfrm>
            <a:off x="4932360" y="1125360"/>
            <a:ext cx="3809880" cy="52578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2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 в  стихотворении  «снежные  слова»,  все  слова,   которые  относятся  к  зи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http://cs540100.vk.me/c540104/v540104700/a411/p0YTzZgvFRc.jpg"/>
          <p:cNvPicPr/>
          <p:nvPr/>
        </p:nvPicPr>
        <p:blipFill>
          <a:blip r:embed="rId1"/>
          <a:stretch/>
        </p:blipFill>
        <p:spPr>
          <a:xfrm>
            <a:off x="1332000" y="1484280"/>
            <a:ext cx="5753160" cy="46483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6" name="Rectangle 1"/>
          <p:cNvSpPr/>
          <p:nvPr/>
        </p:nvSpPr>
        <p:spPr>
          <a:xfrm>
            <a:off x="684360" y="2913120"/>
            <a:ext cx="73800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ег, санки,  снежный  дом,  застудят,  растая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://ss-ttaa.com/images/56a12fd751aee.jpg"/>
          <p:cNvPicPr/>
          <p:nvPr/>
        </p:nvPicPr>
        <p:blipFill>
          <a:blip r:embed="rId2"/>
          <a:stretch/>
        </p:blipFill>
        <p:spPr>
          <a:xfrm>
            <a:off x="371520" y="1895400"/>
            <a:ext cx="3219480" cy="4829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4156200" y="2349360"/>
            <a:ext cx="43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лександр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1880 – 1921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643280" y="549360"/>
            <a:ext cx="43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 Блок (1880-1921) первые стихи написал в пять лет. А в тринадцать стал вместе с двоюродными братьями издавать рукописный журн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журнале он был и главным редактором, и главным художником, и главным автором – помещал в нем свои стихи, рассказы, оч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opnot.ru/uploads/images/a/l/e/aleksandr_koretskij_letnie_nochi.jpg"/>
          <p:cNvPicPr/>
          <p:nvPr/>
        </p:nvPicPr>
        <p:blipFill>
          <a:blip r:embed="rId1"/>
          <a:stretch/>
        </p:blipFill>
        <p:spPr>
          <a:xfrm>
            <a:off x="304920" y="987480"/>
            <a:ext cx="421776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avatars.mds.yandex.net/get-afishanew/23114/674df1f8960baa1d9db7bec1324dc045/orig"/>
          <p:cNvPicPr/>
          <p:nvPr/>
        </p:nvPicPr>
        <p:blipFill>
          <a:blip r:embed="rId1"/>
          <a:stretch/>
        </p:blipFill>
        <p:spPr>
          <a:xfrm>
            <a:off x="665280" y="165240"/>
            <a:ext cx="7729560" cy="6027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361320" y="630864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я А.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539640" y="472428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нчивал университет Александр Блок уже известным поэтом. Его стихи печатались в разных журналах, стали выходить отдельными сборниками. Писал он и пьесы, и статьи о литературе. Главные темы стихов Блока – Родина, человек, любовь, при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recept.znate.ru/pars_docs/refs/9/8024/8024-542_1.jpg"/>
          <p:cNvPicPr/>
          <p:nvPr/>
        </p:nvPicPr>
        <p:blipFill>
          <a:blip r:embed="rId1"/>
          <a:stretch/>
        </p:blipFill>
        <p:spPr>
          <a:xfrm>
            <a:off x="4840200" y="171360"/>
            <a:ext cx="3925800" cy="443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knigopoisk.org/images/235x270/vethaya-izbushka-_235x270.jpg"/>
          <p:cNvPicPr/>
          <p:nvPr/>
        </p:nvPicPr>
        <p:blipFill>
          <a:blip r:embed="rId2"/>
          <a:stretch/>
        </p:blipFill>
        <p:spPr>
          <a:xfrm>
            <a:off x="755640" y="260280"/>
            <a:ext cx="3456000" cy="41115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55640" y="549360"/>
            <a:ext cx="7993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ВЕТХ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ушающийся от старости, дряхлый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АМПАД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ебольшой сосуд с фитилем, который зажигают перед ико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НЕМЛЮ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лушаю, отношусь к чему-либо с большим вним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РЁМНЫЕ ПОКРОВ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емота - полусон, состояние, при котором хочется спать и невольно закрываются гл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ОКР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ерхний наружный слой, покрывающий что-нибу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6:56:37Z</dcterms:created>
  <dc:creator>Еленга Берюхова</dc:creator>
  <dc:description/>
  <dc:language>en-US</dc:language>
  <cp:lastModifiedBy>Методист</cp:lastModifiedBy>
  <dcterms:modified xsi:type="dcterms:W3CDTF">2021-02-01T18:00:19Z</dcterms:modified>
  <cp:revision>15</cp:revision>
  <dc:subject/>
  <dc:title>Слайд 1</dc:title>
</cp:coreProperties>
</file>