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A6D-1AF9-426D-8467-A6229E55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D3D-2237-449F-A319-3A18364A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060-0B74-4EDE-B00D-747B8E43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2F04-7390-4F54-888D-9790B23D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BBD5-315E-48DF-8F0B-50D0A537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E65C-C128-4C0D-831B-8AAA5B5A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74BF-07CD-49AB-B4C7-B182DB05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8568-D5AD-41AB-BB9D-89224A12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2F13-F257-4592-9C0C-8E45A1E6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461C-C854-47A2-9903-6CD6EE6C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84A2-AB1B-4D4B-A192-2504FFA2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4A4-BC2F-44D6-A469-B5E8A3A4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7BA2-48A3-43CF-82E9-D7C98F57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B177-A24C-4C26-B07D-BEEB5E1C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18FD-8B16-4B4F-9977-0770CEE5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B6BF-A927-404E-9B7C-AC2DC1EA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04CA-BA80-4BB7-929F-464508B8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48C-09DB-486D-A25A-2263769A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559-EF1E-4B64-9317-D97CC192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B09-142A-4702-B9B1-24231CC5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F36-5C08-4C45-BB6B-8A622BD2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814-E979-4623-A025-319642DD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8DA-2B0F-4B55-888C-DACB2190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2946-5C35-456B-B7D9-0271F852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9137-DEB1-4E88-BC47-C7C2546712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E346-D525-4205-B8F8-5627BE5F2E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7524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26d18"/>
                </a:solidFill>
                <a:latin typeface="Times New Roman"/>
              </a:rPr>
              <a:t>Изображение национального характера в народных сказках</a:t>
            </a:r>
            <a:br>
              <a:rPr sz="5400"/>
            </a:b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960" y="5639040"/>
            <a:ext cx="57913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знецов Дмит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рлушкина Ар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рикова Пол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вед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625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зка –это повествовательное, обычно народно-поэтическое произведение о вымышленных лицах и событ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зка небольшого размера, проста по сюжету, для нее характерны повторы эпизоды, что помогает воспринимать сказку и понимать ее в детском возрас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енно в сказке ты можешь совершить что-то необычное, что никогда не сможешь совершить в действи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Рисунок 5" descr=""/>
          <p:cNvPicPr/>
          <p:nvPr/>
        </p:nvPicPr>
        <p:blipFill>
          <a:blip r:embed="rId1"/>
          <a:stretch/>
        </p:blipFill>
        <p:spPr>
          <a:xfrm>
            <a:off x="7543800" y="98280"/>
            <a:ext cx="121932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Герои русских народных сказок-кто они?</a:t>
            </a:r>
            <a:br>
              <a:rPr sz="3200"/>
            </a:br>
            <a:br>
              <a:rPr sz="2000"/>
            </a:b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4120" y="1927080"/>
            <a:ext cx="89154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Почему почти всегда в русских народных сказках главный герой юноша, а не девушка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Главный герой русской народной сказки всегда положителе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1"/>
          <a:stretch/>
        </p:blipFill>
        <p:spPr>
          <a:xfrm>
            <a:off x="6811920" y="2286000"/>
            <a:ext cx="2300400" cy="2438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" descr=""/>
          <p:cNvPicPr/>
          <p:nvPr/>
        </p:nvPicPr>
        <p:blipFill>
          <a:blip r:embed="rId2"/>
          <a:stretch/>
        </p:blipFill>
        <p:spPr>
          <a:xfrm>
            <a:off x="196920" y="3855960"/>
            <a:ext cx="20890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Связь фольклора с менталитетом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нталитет- способ мышления, склад ума, мировосприятия; умонастроение в данном случае русского на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чему же главный герой русских народных сказок именно тако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это собирательный образ, значит он должен впитать в себя все самое типичное для русского народа, то есть его менталит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исследовании вопроса изображения национального характера в народных сказках следует обратить внимание на три группы психологических характеристик сказочных персонажей, а именн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орицаемые качества герое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черты героев, которые оцениваются в сказках неоднознач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оощряемые качества герое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6477120" y="5105520"/>
            <a:ext cx="23731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010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ctr">
              <a:buClr>
                <a:srgbClr val="a26d1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отношение к труду</a:t>
            </a:r>
            <a:br>
              <a:rPr sz="32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    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3" name="Рисунок 2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5254560" cy="2955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2466720" y="779400"/>
            <a:ext cx="655308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е к богатст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Рисунок 4" descr=""/>
          <p:cNvPicPr/>
          <p:nvPr/>
        </p:nvPicPr>
        <p:blipFill>
          <a:blip r:embed="rId2"/>
          <a:stretch/>
        </p:blipFill>
        <p:spPr>
          <a:xfrm>
            <a:off x="435960" y="4219560"/>
            <a:ext cx="3754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685800" y="914400"/>
            <a:ext cx="617220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олюб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к рели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685800" y="2266920"/>
            <a:ext cx="6172200" cy="37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герой-хранитель домашних усто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выруч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ые качества героя русских народных сказ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Рисунок 7" descr=""/>
          <p:cNvPicPr/>
          <p:nvPr/>
        </p:nvPicPr>
        <p:blipFill>
          <a:blip r:embed="rId1"/>
          <a:stretch/>
        </p:blipFill>
        <p:spPr>
          <a:xfrm>
            <a:off x="6172200" y="266760"/>
            <a:ext cx="2381400" cy="1905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"/>
          <p:cNvPicPr/>
          <p:nvPr/>
        </p:nvPicPr>
        <p:blipFill>
          <a:blip r:embed="rId2"/>
          <a:stretch/>
        </p:blipFill>
        <p:spPr>
          <a:xfrm>
            <a:off x="6721560" y="44100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-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Заключение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3808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ий фольклор впитал в себя особенности, обыча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равы нашего на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каждая выдумка становится сказкой. Из поколения в поколение передается только то, что заключает в себе самые важные мыс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нно сказки научили нас различать добро и зло, узнавать мир, познакомить маленьких детей с жизнью и бытом русского народа, с его истоками, как складывалась наша культура. Воспитывать в себе силу духа и смелость. Сказка-зеркало культуры русского народа, в ней отображен не только реальный мир, окружающий человека, не только реальные условия его жизни, но и национальный характер, образ жизни, традиции, обычаи, мораль, система ценн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зка-это отражение народной мудрости, в них хранится  представление народа о самом себе и поэтому тайны русского национального характера можно понять через русские народные сказ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Рисунок 2" descr=""/>
          <p:cNvPicPr/>
          <p:nvPr/>
        </p:nvPicPr>
        <p:blipFill>
          <a:blip r:embed="rId1"/>
          <a:stretch/>
        </p:blipFill>
        <p:spPr>
          <a:xfrm>
            <a:off x="7767720" y="74520"/>
            <a:ext cx="137628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7:39:41Z</dcterms:created>
  <dc:creator>Женя</dc:creator>
  <dc:description/>
  <dc:language>en-US</dc:language>
  <cp:lastModifiedBy>15-bw640ur</cp:lastModifiedBy>
  <dcterms:modified xsi:type="dcterms:W3CDTF">2020-01-24T06:46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