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D80A-DF01-42F3-9652-458E1A4D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616-4B84-45C8-83A0-3D44628D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1552-6874-4513-8FAC-1869C439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E931-FB89-4E09-A0EE-FBC130B1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EE94-E81F-4B4E-A69A-D95279C8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D926-38EE-4D86-A9B7-9B008295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4571-3C4A-41A0-A4B4-5913E1A0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2390-4477-4CD2-ACF1-5B37CAFD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3EFC-A0EA-4869-8C80-408C98EA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A1BF-A41F-4BBB-B531-BF0D6376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EFBE-E942-4EFA-9987-2C09A895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6D6F-A9EF-4A6B-91BF-74D6787E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06B9-F89B-4C7C-8741-C68CE8AD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13CB-F743-4CD5-9E54-A8D29787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C66A-6B5C-40D5-888D-1413CA21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4454-674D-435B-B290-029A2647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7314-AD9C-44C4-B583-CBCB9F57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8FD-0007-42BC-9F21-AB517FCD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6CF-4992-4CE7-A035-CD01F146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83B-7610-477E-973B-385E267D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28F3-7FCD-45EB-B9EE-E327CCB4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B0F-DB22-401B-9CC5-4EB65E5A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E93-1574-43E5-A1E1-30311B1A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2739-69AF-4F4C-B821-DE3D995A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F415-4FF0-4C45-B112-6BF04C0794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CF66-4D20-46DE-B210-D4B154CC26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7524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26d18"/>
                </a:solidFill>
                <a:latin typeface="Times New Roman"/>
              </a:rPr>
              <a:t>Изображение национального характера в народных сказках</a:t>
            </a:r>
            <a:br>
              <a:rPr sz="5400"/>
            </a:b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960" y="5639040"/>
            <a:ext cx="57913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знецов Дмит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рлушкина Ар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рикова Пол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Введ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1625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азка –это повествовательное, обычно народно-поэтическое произведение о вымышленных лицах и событ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азка небольшого размера, проста по сюжету, для нее характерны повторы эпизоды, что помогает воспринимать сказку и понимать ее в детском возрас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енно в сказке ты можешь совершить что-то необычное, что никогда не сможешь совершить в действи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Рисунок 5" descr=""/>
          <p:cNvPicPr/>
          <p:nvPr/>
        </p:nvPicPr>
        <p:blipFill>
          <a:blip r:embed="rId1"/>
          <a:stretch/>
        </p:blipFill>
        <p:spPr>
          <a:xfrm>
            <a:off x="7543800" y="98280"/>
            <a:ext cx="121932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Герои русских народных сказок-кто они?</a:t>
            </a:r>
            <a:br>
              <a:rPr sz="3200"/>
            </a:br>
            <a:br>
              <a:rPr sz="2000"/>
            </a:b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4120" y="1927080"/>
            <a:ext cx="89154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Почему почти всегда в русских народных сказках главный герой юноша, а не девушка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Главный герой русской народной сказки всегда положителе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1"/>
          <a:stretch/>
        </p:blipFill>
        <p:spPr>
          <a:xfrm>
            <a:off x="6811920" y="2286000"/>
            <a:ext cx="2300400" cy="2438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" descr=""/>
          <p:cNvPicPr/>
          <p:nvPr/>
        </p:nvPicPr>
        <p:blipFill>
          <a:blip r:embed="rId2"/>
          <a:stretch/>
        </p:blipFill>
        <p:spPr>
          <a:xfrm>
            <a:off x="196920" y="3855960"/>
            <a:ext cx="20890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Связь фольклора с менталитетом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нталитет- способ мышления, склад ума, мировосприятия; умонастроение в данном случае русского на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чему же главный герой русских народных сказок именно тако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это собирательный образ, значит он должен впитать в себя все самое типичное для русского народа, то есть его менталит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исследовании вопроса изображения национального характера в народных сказках следует обратить внимание на три группы психологических характеристик сказочных персонажей, а именн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орицаемые качества герое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черты героев, которые оцениваются в сказках неоднознач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оощряемые качества герое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6477120" y="5105520"/>
            <a:ext cx="23731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010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ctr">
              <a:buClr>
                <a:srgbClr val="a26d1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отношение к труду</a:t>
            </a:r>
            <a:br>
              <a:rPr sz="32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     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3" name="Рисунок 2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5254560" cy="2955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2466720" y="779400"/>
            <a:ext cx="655308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шение к богатст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Рисунок 4" descr=""/>
          <p:cNvPicPr/>
          <p:nvPr/>
        </p:nvPicPr>
        <p:blipFill>
          <a:blip r:embed="rId2"/>
          <a:stretch/>
        </p:blipFill>
        <p:spPr>
          <a:xfrm>
            <a:off x="435960" y="4219560"/>
            <a:ext cx="37544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685800" y="914400"/>
            <a:ext cx="617220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олюб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к рели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685800" y="2266920"/>
            <a:ext cx="6172200" cy="37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герой-хранитель домашних усто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выруч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ые качества героя русских народных сказ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Рисунок 7" descr=""/>
          <p:cNvPicPr/>
          <p:nvPr/>
        </p:nvPicPr>
        <p:blipFill>
          <a:blip r:embed="rId1"/>
          <a:stretch/>
        </p:blipFill>
        <p:spPr>
          <a:xfrm>
            <a:off x="6172200" y="266760"/>
            <a:ext cx="2381400" cy="1905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"/>
          <p:cNvPicPr/>
          <p:nvPr/>
        </p:nvPicPr>
        <p:blipFill>
          <a:blip r:embed="rId2"/>
          <a:stretch/>
        </p:blipFill>
        <p:spPr>
          <a:xfrm>
            <a:off x="6721560" y="44100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-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Заключение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3808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ий фольклор впитал в себя особенности, обыча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равы нашего на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каждая выдумка становится сказкой. Из поколения в поколение передается только то, что заключает в себе самые важные мыс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нно сказки научили нас различать добро и зло, узнавать мир, познакомить маленьких детей с жизнью и бытом русского народа, с его истоками, как складывалась наша культура. Воспитывать в себе силу духа и смелость. Сказка-зеркало культуры русского народа, в ней отображен не только реальный мир, окружающий человека, не только реальные условия его жизни, но и национальный характер, образ жизни, традиции, обычаи, мораль, система ценн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зка-это отражение народной мудрости, в них хранится  представление народа о самом себе и поэтому тайны русского национального характера можно понять через русские народные сказ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Рисунок 2" descr=""/>
          <p:cNvPicPr/>
          <p:nvPr/>
        </p:nvPicPr>
        <p:blipFill>
          <a:blip r:embed="rId1"/>
          <a:stretch/>
        </p:blipFill>
        <p:spPr>
          <a:xfrm>
            <a:off x="7767720" y="74520"/>
            <a:ext cx="137628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7:39:41Z</dcterms:created>
  <dc:creator>Женя</dc:creator>
  <dc:description/>
  <dc:language>en-US</dc:language>
  <cp:lastModifiedBy>15-bw640ur</cp:lastModifiedBy>
  <dcterms:modified xsi:type="dcterms:W3CDTF">2020-01-24T06:46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