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D43-E582-4F05-9D98-E849450A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5B5-0273-409F-8A2F-C3742B34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AB5-274F-4704-AA5A-2942945B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E51-7F54-4821-91B9-BC40FC39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829-7863-4502-B00A-27C6DA49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D81-E6C5-4FFE-B869-01378B69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00A-A441-4228-BAB0-83E97385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6A6-0F2E-4EBD-A6DC-7A74DE60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F5C-1036-4E23-8F6B-9AC0C7F3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71A-37DA-4009-9DA2-E130CF85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C93-5686-45DB-950E-2751BD26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FBC-86C5-4970-8A90-15FB273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CA80-C206-4890-957A-EC0367837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НЕБОЛЬШОЕ ПРОСТРАНСТВО КРЕСТЬЯНСКОГО ДОМА ОТРАЖАЛО ПРИНЦИП УСТРОЙСТВА МИРА: </a:t>
            </a:r>
            <a:br>
              <a:rPr sz="1800"/>
            </a:b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ОТОЛОК – НЕБО, ПОЛ – ЗЕМЛЯ, ПОДПОЛ – ПОДЗЕМНЫЙ МИР, ОКНА - СВЕТ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Интерьер крестьянского до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.jpg"/>
          <p:cNvPicPr/>
          <p:nvPr/>
        </p:nvPicPr>
        <p:blipFill>
          <a:blip r:embed="rId1"/>
          <a:stretch/>
        </p:blipFill>
        <p:spPr>
          <a:xfrm>
            <a:off x="216000" y="571680"/>
            <a:ext cx="4022640" cy="26892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img1.gif"/>
          <p:cNvPicPr/>
          <p:nvPr/>
        </p:nvPicPr>
        <p:blipFill>
          <a:blip r:embed="rId2"/>
          <a:stretch/>
        </p:blipFill>
        <p:spPr>
          <a:xfrm>
            <a:off x="4929120" y="714240"/>
            <a:ext cx="3495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ой крестьянский дом состоял из одного большого помещения, условно поделенного на два основных центра –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духовный и материаль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ьный мир – м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ов, предназнач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нашего тела, здоров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госостоя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image001.jpg"/>
          <p:cNvPicPr/>
          <p:nvPr/>
        </p:nvPicPr>
        <p:blipFill>
          <a:blip r:embed="rId1"/>
          <a:stretch/>
        </p:blipFill>
        <p:spPr>
          <a:xfrm>
            <a:off x="6000840" y="1785960"/>
            <a:ext cx="28573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рестьянском доме источником всего этого была </a:t>
            </a: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печ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кормилица, защитница от холода, лекарь от болезни. Печь заботится о материальных потребностях человека, поэтому она олицетворяет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материальный центр до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Рисунок 3" descr="1224536380_russkaja-pech2.jpg"/>
          <p:cNvPicPr/>
          <p:nvPr/>
        </p:nvPicPr>
        <p:blipFill>
          <a:blip r:embed="rId1"/>
          <a:stretch/>
        </p:blipFill>
        <p:spPr>
          <a:xfrm>
            <a:off x="142920" y="3500280"/>
            <a:ext cx="4762440" cy="3162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index.jpg"/>
          <p:cNvPicPr/>
          <p:nvPr/>
        </p:nvPicPr>
        <p:blipFill>
          <a:blip r:embed="rId2"/>
          <a:stretch/>
        </p:blipFill>
        <p:spPr>
          <a:xfrm>
            <a:off x="5072040" y="2000160"/>
            <a:ext cx="39099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 часть, где стояла печь, называли </a:t>
            </a:r>
            <a:br>
              <a:rPr sz="3200"/>
            </a:b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женской полови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76b9fe83a136.gif"/>
          <p:cNvPicPr/>
          <p:nvPr/>
        </p:nvPicPr>
        <p:blipFill>
          <a:blip r:embed="rId1"/>
          <a:stretch/>
        </p:blipFill>
        <p:spPr>
          <a:xfrm>
            <a:off x="571680" y="2714760"/>
            <a:ext cx="822456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переднем углу избы находился духовный центр дома. Духовный от слова – «душа». Это сфера, которая ведает чувствами человека, его мыслями, горестями, радостя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images.jpg"/>
          <p:cNvPicPr/>
          <p:nvPr/>
        </p:nvPicPr>
        <p:blipFill>
          <a:blip r:embed="rId1"/>
          <a:stretch/>
        </p:blipFill>
        <p:spPr>
          <a:xfrm>
            <a:off x="285840" y="1785960"/>
            <a:ext cx="3724200" cy="2284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ugol.gif"/>
          <p:cNvPicPr/>
          <p:nvPr/>
        </p:nvPicPr>
        <p:blipFill>
          <a:blip r:embed="rId2"/>
          <a:stretch/>
        </p:blipFill>
        <p:spPr>
          <a:xfrm>
            <a:off x="4000680" y="4143240"/>
            <a:ext cx="4997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 двери до боковой стены была устроена лавка –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конник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не которой мужчины занимались хозяйственной работой. Вертикальная доска часто изображала коня, отсюда и название. Это место было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мужской половино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1254288804.jpg"/>
          <p:cNvPicPr/>
          <p:nvPr/>
        </p:nvPicPr>
        <p:blipFill>
          <a:blip r:embed="rId1"/>
          <a:stretch/>
        </p:blipFill>
        <p:spPr>
          <a:xfrm>
            <a:off x="285840" y="1714680"/>
            <a:ext cx="4762440" cy="3143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b6272.jpg"/>
          <p:cNvPicPr/>
          <p:nvPr/>
        </p:nvPicPr>
        <p:blipFill>
          <a:blip r:embed="rId2"/>
          <a:stretch/>
        </p:blipFill>
        <p:spPr>
          <a:xfrm>
            <a:off x="4786200" y="2500200"/>
            <a:ext cx="4095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чти в каждой избе имелся ткацкий станок и, конечно, детская колыбель в виде лодочки, подвешенной к потолк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003h04dq.jpg"/>
          <p:cNvPicPr/>
          <p:nvPr/>
        </p:nvPicPr>
        <p:blipFill>
          <a:blip r:embed="rId1"/>
          <a:stretch/>
        </p:blipFill>
        <p:spPr>
          <a:xfrm>
            <a:off x="357120" y="171468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kraevedmuzei4.jpg"/>
          <p:cNvPicPr/>
          <p:nvPr/>
        </p:nvPicPr>
        <p:blipFill>
          <a:blip r:embed="rId2"/>
          <a:stretch/>
        </p:blipFill>
        <p:spPr>
          <a:xfrm>
            <a:off x="4572000" y="2905200"/>
            <a:ext cx="42339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богато устройство простой русской избы, но даже незатейливые предметы быта обязательно украшались декоративной резьбой и росписью с уже знакомыми нам знаками солнца, чудными коньками, диковинными цветами, зверями и птиц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0_1d1ed_df58d3ef_XL.jpeg"/>
          <p:cNvPicPr/>
          <p:nvPr/>
        </p:nvPicPr>
        <p:blipFill>
          <a:blip r:embed="rId1"/>
          <a:stretch/>
        </p:blipFill>
        <p:spPr>
          <a:xfrm>
            <a:off x="357120" y="2428920"/>
            <a:ext cx="4167360" cy="3125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3022086804-21.jpg"/>
          <p:cNvPicPr/>
          <p:nvPr/>
        </p:nvPicPr>
        <p:blipFill>
          <a:blip r:embed="rId2"/>
          <a:stretch/>
        </p:blipFill>
        <p:spPr>
          <a:xfrm>
            <a:off x="5000760" y="3571920"/>
            <a:ext cx="38890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9:41:39Z</dcterms:created>
  <dc:creator>Новикова</dc:creator>
  <dc:description/>
  <dc:language>en-US</dc:language>
  <cp:lastModifiedBy>Новикова</cp:lastModifiedBy>
  <dcterms:modified xsi:type="dcterms:W3CDTF">2010-10-10T10:43:48Z</dcterms:modified>
  <cp:revision>7</cp:revision>
  <dc:subject/>
  <dc:title>Небольшое пространство крестьянского дома отражало принцип устройства мира:  потолок – небо, пол – земля, подпол – подземный мир, окна - свет</dc:title>
</cp:coreProperties>
</file>