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388-1E9D-4473-BB6E-88589231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D9C-DEF5-43FF-96B3-492FBDC6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325-7321-49E0-B59A-D5F24D95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7A3-99D3-467D-981A-77C3408E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23F-7EF8-48E1-9BEF-AF69646F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DAB6-0E51-48AD-A80F-6C407923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507-45D2-4EC4-81D4-A496A1E6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7CE-2FEE-4D81-B74C-B12B14FB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D95-4CB8-4DD7-B445-6294217D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6A2-38DE-4111-A1D6-BAA573AC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403-05DA-42BF-999C-35447300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C11-7B98-471C-AA58-22C8E0D5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4E45-0781-4DE6-B40F-AE7C997770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e3e5c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9907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e3e5c"/>
                </a:solidFill>
                <a:latin typeface="Arial Black"/>
              </a:rPr>
              <a:t>«ПРОФИЛАКТИКА СУИЦИДА И АУТОАГРЕССИИ У ПОДРОСТКОВ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Arial Black"/>
              </a:rPr>
              <a:t>Подготовила: педагог- психоло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Arial Black"/>
              </a:rPr>
              <a:t>Трудкова О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Organization Chart 5"/>
          <p:cNvGrpSpPr/>
          <p:nvPr/>
        </p:nvGrpSpPr>
        <p:grpSpPr>
          <a:xfrm>
            <a:off x="457200" y="533520"/>
            <a:ext cx="8381160" cy="5590800"/>
            <a:chOff x="457200" y="533520"/>
            <a:chExt cx="8381160" cy="5590800"/>
          </a:xfrm>
        </p:grpSpPr>
        <p:cxnSp>
          <p:nvCxnSpPr>
            <p:cNvPr id="62" name="_s1028"/>
            <p:cNvCxnSpPr>
              <a:stCxn id="63" idx="0"/>
              <a:endCxn id="64" idx="2"/>
            </p:cNvCxnSpPr>
            <p:nvPr/>
          </p:nvCxnSpPr>
          <p:spPr>
            <a:xfrm flipV="1" rot="16200000">
              <a:off x="5718240" y="1698840"/>
              <a:ext cx="1118880" cy="3259800"/>
            </a:xfrm>
            <a:prstGeom prst="bentConnector3">
              <a:avLst>
                <a:gd name="adj1" fmla="val 125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" name="_s1029"/>
            <p:cNvCxnSpPr>
              <a:stCxn id="66" idx="0"/>
              <a:endCxn id="64" idx="2"/>
            </p:cNvCxnSpPr>
            <p:nvPr/>
          </p:nvCxnSpPr>
          <p:spPr>
            <a:xfrm flipV="1" rot="16200000">
              <a:off x="4631760" y="2785320"/>
              <a:ext cx="1118880" cy="1086840"/>
            </a:xfrm>
            <a:prstGeom prst="bentConnector3">
              <a:avLst>
                <a:gd name="adj1" fmla="val 125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" name="_s1030"/>
            <p:cNvCxnSpPr>
              <a:stCxn id="68" idx="0"/>
              <a:endCxn id="64" idx="2"/>
            </p:cNvCxnSpPr>
            <p:nvPr/>
          </p:nvCxnSpPr>
          <p:spPr>
            <a:xfrm flipH="1" flipV="1" rot="5400000">
              <a:off x="3545280" y="2785320"/>
              <a:ext cx="1118880" cy="1087200"/>
            </a:xfrm>
            <a:prstGeom prst="bentConnector3">
              <a:avLst>
                <a:gd name="adj1" fmla="val 125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" name="_s1031"/>
            <p:cNvCxnSpPr>
              <a:stCxn id="70" idx="0"/>
              <a:endCxn id="64" idx="2"/>
            </p:cNvCxnSpPr>
            <p:nvPr/>
          </p:nvCxnSpPr>
          <p:spPr>
            <a:xfrm flipH="1" flipV="1" rot="5400000">
              <a:off x="2458440" y="1698480"/>
              <a:ext cx="1118880" cy="3260520"/>
            </a:xfrm>
            <a:prstGeom prst="bentConnector3">
              <a:avLst>
                <a:gd name="adj1" fmla="val 125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4" name="_s1032"/>
            <p:cNvSpPr/>
            <p:nvPr/>
          </p:nvSpPr>
          <p:spPr>
            <a:xfrm>
              <a:off x="3717000" y="533520"/>
              <a:ext cx="1862280" cy="2236320"/>
            </a:xfrm>
            <a:custGeom>
              <a:avLst/>
              <a:gdLst>
                <a:gd name="textAreaLeft" fmla="*/ 90720 w 1862280"/>
                <a:gd name="textAreaRight" fmla="*/ 1771560 w 1862280"/>
                <a:gd name="textAreaTop" fmla="*/ 90720 h 2236320"/>
                <a:gd name="textAreaBottom" fmla="*/ 2145600 h 2236320"/>
              </a:gdLst>
              <a:ahLst/>
              <a:rect l="textAreaLeft" t="textAreaTop" r="textAreaRight" b="textAreaBottom"/>
              <a:pathLst>
                <a:path w="21600" h="25938">
                  <a:moveTo>
                    <a:pt x="3600" y="0"/>
                  </a:moveTo>
                  <a:arcTo wR="3600" hR="3600" stAng="16200000" swAng="-5400000"/>
                  <a:lnTo>
                    <a:pt x="0" y="22338"/>
                  </a:lnTo>
                  <a:arcTo wR="3600" hR="3600" stAng="10800000" swAng="-5400000"/>
                  <a:lnTo>
                    <a:pt x="18000" y="259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ПРОФИЛАКТИ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СУИЦИД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_s1033"/>
            <p:cNvSpPr/>
            <p:nvPr/>
          </p:nvSpPr>
          <p:spPr>
            <a:xfrm>
              <a:off x="457200" y="3888000"/>
              <a:ext cx="1862280" cy="2236320"/>
            </a:xfrm>
            <a:custGeom>
              <a:avLst/>
              <a:gdLst>
                <a:gd name="textAreaLeft" fmla="*/ 90720 w 1862280"/>
                <a:gd name="textAreaRight" fmla="*/ 1771560 w 1862280"/>
                <a:gd name="textAreaTop" fmla="*/ 90720 h 2236320"/>
                <a:gd name="textAreaBottom" fmla="*/ 2145600 h 2236320"/>
              </a:gdLst>
              <a:ahLst/>
              <a:rect l="textAreaLeft" t="textAreaTop" r="textAreaRight" b="textAreaBottom"/>
              <a:pathLst>
                <a:path w="21600" h="25938">
                  <a:moveTo>
                    <a:pt x="3600" y="0"/>
                  </a:moveTo>
                  <a:arcTo wR="3600" hR="3600" stAng="16200000" swAng="-5400000"/>
                  <a:lnTo>
                    <a:pt x="0" y="22338"/>
                  </a:lnTo>
                  <a:arcTo wR="3600" hR="3600" stAng="10800000" swAng="-5400000"/>
                  <a:lnTo>
                    <a:pt x="18000" y="259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Вселять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уверенн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в себ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_s1034"/>
            <p:cNvSpPr/>
            <p:nvPr/>
          </p:nvSpPr>
          <p:spPr>
            <a:xfrm>
              <a:off x="2630160" y="3888000"/>
              <a:ext cx="1862280" cy="2236320"/>
            </a:xfrm>
            <a:custGeom>
              <a:avLst/>
              <a:gdLst>
                <a:gd name="textAreaLeft" fmla="*/ 90720 w 1862280"/>
                <a:gd name="textAreaRight" fmla="*/ 1771560 w 1862280"/>
                <a:gd name="textAreaTop" fmla="*/ 90720 h 2236320"/>
                <a:gd name="textAreaBottom" fmla="*/ 2145600 h 2236320"/>
              </a:gdLst>
              <a:ahLst/>
              <a:rect l="textAreaLeft" t="textAreaTop" r="textAreaRight" b="textAreaBottom"/>
              <a:pathLst>
                <a:path w="21600" h="25938">
                  <a:moveTo>
                    <a:pt x="3600" y="0"/>
                  </a:moveTo>
                  <a:arcTo wR="3600" hR="3600" stAng="16200000" swAng="-5400000"/>
                  <a:lnTo>
                    <a:pt x="0" y="22338"/>
                  </a:lnTo>
                  <a:arcTo wR="3600" hR="3600" stAng="10800000" swAng="-5400000"/>
                  <a:lnTo>
                    <a:pt x="18000" y="259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Внуша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оптимизм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_s1035"/>
            <p:cNvSpPr/>
            <p:nvPr/>
          </p:nvSpPr>
          <p:spPr>
            <a:xfrm>
              <a:off x="4803120" y="3888000"/>
              <a:ext cx="1862280" cy="2236320"/>
            </a:xfrm>
            <a:custGeom>
              <a:avLst/>
              <a:gdLst>
                <a:gd name="textAreaLeft" fmla="*/ 90720 w 1862280"/>
                <a:gd name="textAreaRight" fmla="*/ 1771560 w 1862280"/>
                <a:gd name="textAreaTop" fmla="*/ 90720 h 2236320"/>
                <a:gd name="textAreaBottom" fmla="*/ 2145600 h 2236320"/>
              </a:gdLst>
              <a:ahLst/>
              <a:rect l="textAreaLeft" t="textAreaTop" r="textAreaRight" b="textAreaBottom"/>
              <a:pathLst>
                <a:path w="21600" h="25938">
                  <a:moveTo>
                    <a:pt x="3600" y="0"/>
                  </a:moveTo>
                  <a:arcTo wR="3600" hR="3600" stAng="16200000" swAng="-5400000"/>
                  <a:lnTo>
                    <a:pt x="0" y="22338"/>
                  </a:lnTo>
                  <a:arcTo wR="3600" hR="3600" stAng="10800000" swAng="-5400000"/>
                  <a:lnTo>
                    <a:pt x="18000" y="259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Проявлять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сочувствие 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понимание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_s1036"/>
            <p:cNvSpPr/>
            <p:nvPr/>
          </p:nvSpPr>
          <p:spPr>
            <a:xfrm>
              <a:off x="6976080" y="3888000"/>
              <a:ext cx="1862280" cy="2236320"/>
            </a:xfrm>
            <a:custGeom>
              <a:avLst/>
              <a:gdLst>
                <a:gd name="textAreaLeft" fmla="*/ 90720 w 1862280"/>
                <a:gd name="textAreaRight" fmla="*/ 1771560 w 1862280"/>
                <a:gd name="textAreaTop" fmla="*/ 90720 h 2236320"/>
                <a:gd name="textAreaBottom" fmla="*/ 2145600 h 2236320"/>
              </a:gdLst>
              <a:ahLst/>
              <a:rect l="textAreaLeft" t="textAreaTop" r="textAreaRight" b="textAreaBottom"/>
              <a:pathLst>
                <a:path w="21600" h="25938">
                  <a:moveTo>
                    <a:pt x="3600" y="0"/>
                  </a:moveTo>
                  <a:arcTo wR="3600" hR="3600" stAng="16200000" swAng="-5400000"/>
                  <a:lnTo>
                    <a:pt x="0" y="22338"/>
                  </a:lnTo>
                  <a:arcTo wR="3600" hR="3600" stAng="10800000" swAng="-5400000"/>
                  <a:lnTo>
                    <a:pt x="18000" y="259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Обеспечива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занят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e3e5c"/>
                  </a:solidFill>
                  <a:latin typeface="Arial"/>
                </a:rPr>
                <a:t>дете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3484c252a4ec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533520" y="3049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3e5c"/>
                </a:solidFill>
                <a:latin typeface="Arial"/>
              </a:rPr>
              <a:t>КАК УБЕРЕЧЬ РЕБЕНКА ОТ БЕ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04920" y="1905120"/>
            <a:ext cx="85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Arial"/>
              </a:rPr>
              <a:t>«Самоубийца, в конечном счете, не боится смерти – он боится жизни 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Arial"/>
              </a:rPr>
              <a:t>В. Франк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ая наша задача состоит в том, чтобы удержать человека в живых, а не в том, чтобы переделать структуру личности человека или излечить е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e5c"/>
                </a:solidFill>
                <a:latin typeface="Arial"/>
              </a:rPr>
              <a:t>СОВЕТЫ ДЛЯ ВЗРОСЛЫХ ПО ПРОФИЛАКТИКЕ СУИЦИ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ьте открыты детям, нге стесняйтесь демонстрировать им свою любов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ринимайте каждую просьбу ребенка о помощи, даже если она вам кажется незначитель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ите ребенка выплескивать свои отрицательные эмоции, решать проблемы конструктивным способ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нимайте ребенка таким, какой он есть, предъявляйте ему адекватные треб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енок должен видеть, что взрослым тоже бывает трудно, больно, страшно и конструктивные способы преодоления трудно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бегайте физического и психологического насилия над ребен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ойте ваши отношения с ребенком так, чтобы он мог спокойно обращаться к вам за помощью и знать, что его поймут, примут и не осудя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огайте детям строить реальные цели в жизни и стремиться к 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ите ребенка осмысленному использованию Интерн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огите ребенку грамотно организовать свой досуг, который бы реализовал его способ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юбые стоящие положительные начинания молодых людей одобряйте словом и де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 при каких обстоятельствах не применяйте физические наказ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28600" y="152280"/>
          <a:ext cx="8763120" cy="656460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Если Вы слыши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Обязательно скажи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Запрещено говори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«Ненавижу всех…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Чувствую, что что-то происходит. Давай поговорим об этом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Когда я был в твоем возрасте… да ты просто несешь чушь!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«Все безнадежно и бессмысленно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Чувствую, что ты подавлен. Иногда мы все так чувствуем себя. Давай обсудим, какие у нас проблемы, как их можно разрешить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одумай о тех, кому хуже, чем тебе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«Всем было бы лучше без мен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Ты много значишь для меня, для нас. Меня беспокоит твое настроение. Поговорим об этом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Не говори глупостей. Поговорим о другом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«Вы не понимаете меня!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Расскажи мне, что ты чувствуешь. Я действительно хочу тебя понять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Где уж мне тебя понять!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«Я совершил ужасный поступок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Я чувствую, что ты ощущаешь вину. Давай поговорим об этом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И что ты теперь хочешь? Выкладывай немедленно!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«У меня никогда ничего не получаетс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Ты сейчас ощущаешь недостаток сил. Давай обсудим, как это изменить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Не получается – значит не старалс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Мы выбираем жизнь, они – смер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Мы пишем письма, они – предсмертные запи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Мы строим планы на будущее, у них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у них – нет будущ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Кажется, что мы и они – из разных ми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Но как велика пропасть между нами, читающ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эти стро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и теми, кто решился на самоубий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Как сильно нужно измениться человеку, чтобы сделать этот шаг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Всего лишь ша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Они не были рождены самоубийцами, но умерли с этим клейм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Они продолжают умир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еизвестный авто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28600" y="457200"/>
            <a:ext cx="457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Лучший способ предсказать будущее – это создать его”. </a:t>
            </a:r>
            <a:r>
              <a:rPr b="0" i="1" lang="ru-RU" sz="4000" spc="-1" strike="noStrike">
                <a:solidFill>
                  <a:srgbClr val="ffffff"/>
                </a:solidFill>
                <a:latin typeface="Arial Black"/>
              </a:rPr>
              <a:t>- Авраам Линколь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2" descr="C:\Users\Lenovo\Desktop\11.jpg"/>
          <p:cNvPicPr/>
          <p:nvPr/>
        </p:nvPicPr>
        <p:blipFill>
          <a:blip r:embed="rId1"/>
          <a:stretch/>
        </p:blipFill>
        <p:spPr>
          <a:xfrm>
            <a:off x="3429000" y="3733920"/>
            <a:ext cx="54007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Суицид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осознанное лишение себя жизни под влиянием острых психотравм, в ситуациях, при которых собственная жизнь теряет смыс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Суицидальное поведение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представляет собой суицидальные покушения, которые не завершаются летально по независящим от суицидента причина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дной из разновидностей агрессивного поведения является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аутоагрессия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 которая проявляется в демонстративных суицидальных попытках и истинном суициде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DSC_9303[1]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533520" y="533520"/>
            <a:ext cx="861048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3e5c"/>
                </a:solidFill>
                <a:latin typeface="Arial"/>
              </a:rPr>
              <a:t>СТАТИС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 15 лет возрасло количество подросткового суици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100 молодых людей – 20 случаев суици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ик суицидов 15-20-ти летние подрост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Россия – лидер по детскому суициду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Lenovo\Desktop\22.jpg"/>
          <p:cNvPicPr/>
          <p:nvPr/>
        </p:nvPicPr>
        <p:blipFill>
          <a:blip r:embed="rId1"/>
          <a:stretch/>
        </p:blipFill>
        <p:spPr>
          <a:xfrm>
            <a:off x="79200" y="228600"/>
            <a:ext cx="9064800" cy="6019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380880" y="1066680"/>
            <a:ext cx="84582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Уход в себ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Капризность, привередлив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Депресс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Агрессив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арушение аппети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Раздача подарков (личных вещей) окружающ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еремены в повед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ткрытая угро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Активная предварительная подготовка (интерес вопросами смерти, сбор информаци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286000" y="3808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РИЗНАКИ СУИЦИДАЛЬНОГО ПОВЕ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e5c"/>
                </a:solidFill>
                <a:latin typeface="Arial"/>
              </a:rPr>
              <a:t>ВНЕШНИЙ ВИД И ПОВЕД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скливое выражение л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хий монотонный гол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коренная реч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гательная заторможенность либо возбуж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юзжание, неприязненное отношение к окружающ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лнность к нытью, капризность, слезл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e5c"/>
                </a:solidFill>
                <a:latin typeface="Arial"/>
              </a:rPr>
              <a:t>СЛОВЕСНЫЕ КЛЮ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ямые или косвенные сообщения о суицидальных намерениях («Хочу умереть!», «Ты меня больше не увидишь!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утки, иронические высказывания о желании умере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ерение в беспомощьности и зависимости от других («Если он меня разлюбит, я умру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щ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обвинения («Я – ничтожество!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бщение о конкретном плане суиц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e5c"/>
                </a:solidFill>
                <a:latin typeface="Arial"/>
              </a:rPr>
              <a:t>МИФЫ И ФАКТЫ О СУИЦИД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ccff"/>
                </a:solidFill>
                <a:latin typeface="Arial"/>
              </a:rPr>
              <a:t>МИФ:   «Те, кто говорят о самоубийстве, редко совершают его»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АКТ:   90% суицидентов перед совершением самоубийства приводят важные словесные доказательства своих намерений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ccff"/>
                </a:solidFill>
                <a:latin typeface="Arial"/>
              </a:rPr>
              <a:t>МИФ:   «Если человек говорит о самоубийстве, он пытается привлечь к себе внимание»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АКТ:   Человек, говорящий о суициде, испытывает психическую боль и хочет поставить в известность о ней значимых для него люд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ccff"/>
                </a:solidFill>
                <a:latin typeface="Arial"/>
              </a:rPr>
              <a:t>МИФ:   «Покушающиеся на самоубийство желают умереть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АКТ:   Подавляющее большинство суицидентов хотят не смерти, а избавления от психической бол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ccff"/>
                </a:solidFill>
                <a:latin typeface="Arial"/>
              </a:rPr>
              <a:t>МИФ:   «Ничего бы не могло остановить того, кто уже принял решение покончить с собой»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АКТ:   Большинство людей, обдумывающих возможность самоубийства, хотят, чтобы их страдания закончились, и стремятся найти альтернативу или пути облегчения бол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ccff"/>
                </a:solidFill>
                <a:latin typeface="Arial"/>
              </a:rPr>
              <a:t>МИФ:   «Если человек в прошлом совершил суицидную попытку, то подобное больше не повторится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АКТ:   Очень многие повторяют эти действия вновь; около 80% покончивших с собой имели до этого неудачные попытк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ccff"/>
                </a:solidFill>
                <a:latin typeface="Arial"/>
              </a:rPr>
              <a:t>МИФ:   «Риск самоубийства исчезает, когда кризисная ситуация проходит»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АКТ:   Под внешним спокойствием может скрываться твердо принятое решение, а некоторый подъем сил после минования острого кризиса лишь помогает выполнить задуманное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ccff"/>
                </a:solidFill>
                <a:latin typeface="Arial"/>
              </a:rPr>
              <a:t>МИФ:   «Разговоры о самоубийстве могут способствовать его совершению»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АКТ:   Обсуждение суицидальных настроений собеседника в действительности демонстрирует ему, что кто-то готов понять и разделить его боль. Разговор может стать – и часто становится – первым шагом в предупреждении суицид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e5c"/>
                </a:solidFill>
                <a:latin typeface="Arial"/>
              </a:rPr>
              <a:t>Основные суицидальные мотив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блемы в семь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знь, смерть близк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частная любов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вая несосто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сихические заболе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емление повлиять на кого-либ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емление вызвать чувство вины у кого-либ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18:37Z</dcterms:created>
  <dc:creator>1</dc:creator>
  <dc:description/>
  <dc:language>en-US</dc:language>
  <cp:lastModifiedBy>Lenovo</cp:lastModifiedBy>
  <dcterms:modified xsi:type="dcterms:W3CDTF">2023-01-17T07:58:3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