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F898-08BC-4453-8FBF-7285CBCED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F3BB-C9FE-4FF3-9544-9C9394C5F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7919-05A8-4FA3-8646-54EE4AC2F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1B47-CB6F-4DF6-8E2B-47973C61B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8B32-6F17-4D11-B466-6C210B002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4061-0E98-4CEC-90E4-7BF296C8D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AD3F-96C3-4311-92FC-83EBE655C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8DA8-6CF2-43B1-87F9-BBC8E3BCB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E848-19E6-44E9-96BC-4FAA3A579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F695-5E9E-4FDB-B812-F52377374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6D5A-EFE8-4DF8-98E4-C1538A5A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635D-8EE2-4EAC-963C-58828B26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C1BD8-6FA1-4CD7-9546-6F5FB0330DD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1532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3e3e5c"/>
                </a:solidFill>
                <a:latin typeface="Arial"/>
              </a:rPr>
              <a:t> 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7720" y="99072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e3e5c"/>
                </a:solidFill>
                <a:latin typeface="Arial Black"/>
              </a:rPr>
              <a:t>«ПРОФИЛАКТИКА СУИЦИДА И АУТОАГРЕССИИ У ПОДРОСТКОВ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e3e5c"/>
                </a:solidFill>
                <a:latin typeface="Arial Black"/>
              </a:rPr>
              <a:t>Подготовила: педагог- психолог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e3e5c"/>
                </a:solidFill>
                <a:latin typeface="Arial Black"/>
              </a:rPr>
              <a:t>Трудкова О.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Organization Chart 5"/>
          <p:cNvGrpSpPr/>
          <p:nvPr/>
        </p:nvGrpSpPr>
        <p:grpSpPr>
          <a:xfrm>
            <a:off x="457200" y="533520"/>
            <a:ext cx="8381160" cy="5590800"/>
            <a:chOff x="457200" y="533520"/>
            <a:chExt cx="8381160" cy="5590800"/>
          </a:xfrm>
        </p:grpSpPr>
        <p:cxnSp>
          <p:nvCxnSpPr>
            <p:cNvPr id="62" name="_s1028"/>
            <p:cNvCxnSpPr>
              <a:stCxn id="63" idx="0"/>
              <a:endCxn id="64" idx="2"/>
            </p:cNvCxnSpPr>
            <p:nvPr/>
          </p:nvCxnSpPr>
          <p:spPr>
            <a:xfrm flipV="1" rot="16200000">
              <a:off x="5718240" y="1698840"/>
              <a:ext cx="1118880" cy="3259800"/>
            </a:xfrm>
            <a:prstGeom prst="bentConnector3">
              <a:avLst>
                <a:gd name="adj1" fmla="val 1258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5" name="_s1029"/>
            <p:cNvCxnSpPr>
              <a:stCxn id="66" idx="0"/>
              <a:endCxn id="64" idx="2"/>
            </p:cNvCxnSpPr>
            <p:nvPr/>
          </p:nvCxnSpPr>
          <p:spPr>
            <a:xfrm flipV="1" rot="16200000">
              <a:off x="4631760" y="2785320"/>
              <a:ext cx="1118880" cy="1086840"/>
            </a:xfrm>
            <a:prstGeom prst="bentConnector3">
              <a:avLst>
                <a:gd name="adj1" fmla="val 1258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7" name="_s1030"/>
            <p:cNvCxnSpPr>
              <a:stCxn id="68" idx="0"/>
              <a:endCxn id="64" idx="2"/>
            </p:cNvCxnSpPr>
            <p:nvPr/>
          </p:nvCxnSpPr>
          <p:spPr>
            <a:xfrm flipH="1" flipV="1" rot="5400000">
              <a:off x="3545280" y="2785320"/>
              <a:ext cx="1118880" cy="1087200"/>
            </a:xfrm>
            <a:prstGeom prst="bentConnector3">
              <a:avLst>
                <a:gd name="adj1" fmla="val 1258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9" name="_s1031"/>
            <p:cNvCxnSpPr>
              <a:stCxn id="70" idx="0"/>
              <a:endCxn id="64" idx="2"/>
            </p:cNvCxnSpPr>
            <p:nvPr/>
          </p:nvCxnSpPr>
          <p:spPr>
            <a:xfrm flipH="1" flipV="1" rot="5400000">
              <a:off x="2458440" y="1698480"/>
              <a:ext cx="1118880" cy="3260520"/>
            </a:xfrm>
            <a:prstGeom prst="bentConnector3">
              <a:avLst>
                <a:gd name="adj1" fmla="val 12584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4" name="_s1032"/>
            <p:cNvSpPr/>
            <p:nvPr/>
          </p:nvSpPr>
          <p:spPr>
            <a:xfrm>
              <a:off x="3717000" y="533520"/>
              <a:ext cx="1862280" cy="2236320"/>
            </a:xfrm>
            <a:custGeom>
              <a:avLst/>
              <a:gdLst>
                <a:gd name="textAreaLeft" fmla="*/ 90720 w 1862280"/>
                <a:gd name="textAreaRight" fmla="*/ 1771560 w 1862280"/>
                <a:gd name="textAreaTop" fmla="*/ 90720 h 2236320"/>
                <a:gd name="textAreaBottom" fmla="*/ 2145600 h 2236320"/>
              </a:gdLst>
              <a:ahLst/>
              <a:rect l="textAreaLeft" t="textAreaTop" r="textAreaRight" b="textAreaBottom"/>
              <a:pathLst>
                <a:path w="21600" h="25938">
                  <a:moveTo>
                    <a:pt x="3600" y="0"/>
                  </a:moveTo>
                  <a:arcTo wR="3600" hR="3600" stAng="16200000" swAng="-5400000"/>
                  <a:lnTo>
                    <a:pt x="0" y="22338"/>
                  </a:lnTo>
                  <a:arcTo wR="3600" hR="3600" stAng="10800000" swAng="-5400000"/>
                  <a:lnTo>
                    <a:pt x="18000" y="2593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e3e5c"/>
                  </a:solidFill>
                  <a:latin typeface="Arial"/>
                </a:rPr>
                <a:t>ПРОФИЛАКТИК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e3e5c"/>
                  </a:solidFill>
                  <a:latin typeface="Arial"/>
                </a:rPr>
                <a:t>СУИЦИД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_s1033"/>
            <p:cNvSpPr/>
            <p:nvPr/>
          </p:nvSpPr>
          <p:spPr>
            <a:xfrm>
              <a:off x="457200" y="3888000"/>
              <a:ext cx="1862280" cy="2236320"/>
            </a:xfrm>
            <a:custGeom>
              <a:avLst/>
              <a:gdLst>
                <a:gd name="textAreaLeft" fmla="*/ 90720 w 1862280"/>
                <a:gd name="textAreaRight" fmla="*/ 1771560 w 1862280"/>
                <a:gd name="textAreaTop" fmla="*/ 90720 h 2236320"/>
                <a:gd name="textAreaBottom" fmla="*/ 2145600 h 2236320"/>
              </a:gdLst>
              <a:ahLst/>
              <a:rect l="textAreaLeft" t="textAreaTop" r="textAreaRight" b="textAreaBottom"/>
              <a:pathLst>
                <a:path w="21600" h="25938">
                  <a:moveTo>
                    <a:pt x="3600" y="0"/>
                  </a:moveTo>
                  <a:arcTo wR="3600" hR="3600" stAng="16200000" swAng="-5400000"/>
                  <a:lnTo>
                    <a:pt x="0" y="22338"/>
                  </a:lnTo>
                  <a:arcTo wR="3600" hR="3600" stAng="10800000" swAng="-5400000"/>
                  <a:lnTo>
                    <a:pt x="18000" y="2593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e3e5c"/>
                  </a:solidFill>
                  <a:latin typeface="Arial"/>
                </a:rPr>
                <a:t>Вселять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e3e5c"/>
                  </a:solidFill>
                  <a:latin typeface="Arial"/>
                </a:rPr>
                <a:t>уверенность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e3e5c"/>
                  </a:solidFill>
                  <a:latin typeface="Arial"/>
                </a:rPr>
                <a:t>в себе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_s1034"/>
            <p:cNvSpPr/>
            <p:nvPr/>
          </p:nvSpPr>
          <p:spPr>
            <a:xfrm>
              <a:off x="2630160" y="3888000"/>
              <a:ext cx="1862280" cy="2236320"/>
            </a:xfrm>
            <a:custGeom>
              <a:avLst/>
              <a:gdLst>
                <a:gd name="textAreaLeft" fmla="*/ 90720 w 1862280"/>
                <a:gd name="textAreaRight" fmla="*/ 1771560 w 1862280"/>
                <a:gd name="textAreaTop" fmla="*/ 90720 h 2236320"/>
                <a:gd name="textAreaBottom" fmla="*/ 2145600 h 2236320"/>
              </a:gdLst>
              <a:ahLst/>
              <a:rect l="textAreaLeft" t="textAreaTop" r="textAreaRight" b="textAreaBottom"/>
              <a:pathLst>
                <a:path w="21600" h="25938">
                  <a:moveTo>
                    <a:pt x="3600" y="0"/>
                  </a:moveTo>
                  <a:arcTo wR="3600" hR="3600" stAng="16200000" swAng="-5400000"/>
                  <a:lnTo>
                    <a:pt x="0" y="22338"/>
                  </a:lnTo>
                  <a:arcTo wR="3600" hR="3600" stAng="10800000" swAng="-5400000"/>
                  <a:lnTo>
                    <a:pt x="18000" y="2593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e3e5c"/>
                  </a:solidFill>
                  <a:latin typeface="Arial"/>
                </a:rPr>
                <a:t>Внушать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e3e5c"/>
                  </a:solidFill>
                  <a:latin typeface="Arial"/>
                </a:rPr>
                <a:t>оптимизм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_s1035"/>
            <p:cNvSpPr/>
            <p:nvPr/>
          </p:nvSpPr>
          <p:spPr>
            <a:xfrm>
              <a:off x="4803120" y="3888000"/>
              <a:ext cx="1862280" cy="2236320"/>
            </a:xfrm>
            <a:custGeom>
              <a:avLst/>
              <a:gdLst>
                <a:gd name="textAreaLeft" fmla="*/ 90720 w 1862280"/>
                <a:gd name="textAreaRight" fmla="*/ 1771560 w 1862280"/>
                <a:gd name="textAreaTop" fmla="*/ 90720 h 2236320"/>
                <a:gd name="textAreaBottom" fmla="*/ 2145600 h 2236320"/>
              </a:gdLst>
              <a:ahLst/>
              <a:rect l="textAreaLeft" t="textAreaTop" r="textAreaRight" b="textAreaBottom"/>
              <a:pathLst>
                <a:path w="21600" h="25938">
                  <a:moveTo>
                    <a:pt x="3600" y="0"/>
                  </a:moveTo>
                  <a:arcTo wR="3600" hR="3600" stAng="16200000" swAng="-5400000"/>
                  <a:lnTo>
                    <a:pt x="0" y="22338"/>
                  </a:lnTo>
                  <a:arcTo wR="3600" hR="3600" stAng="10800000" swAng="-5400000"/>
                  <a:lnTo>
                    <a:pt x="18000" y="2593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e3e5c"/>
                  </a:solidFill>
                  <a:latin typeface="Arial"/>
                </a:rPr>
                <a:t>Проявлять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e3e5c"/>
                  </a:solidFill>
                  <a:latin typeface="Arial"/>
                </a:rPr>
                <a:t>сочувствие и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e3e5c"/>
                  </a:solidFill>
                  <a:latin typeface="Arial"/>
                </a:rPr>
                <a:t>понимание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_s1036"/>
            <p:cNvSpPr/>
            <p:nvPr/>
          </p:nvSpPr>
          <p:spPr>
            <a:xfrm>
              <a:off x="6976080" y="3888000"/>
              <a:ext cx="1862280" cy="2236320"/>
            </a:xfrm>
            <a:custGeom>
              <a:avLst/>
              <a:gdLst>
                <a:gd name="textAreaLeft" fmla="*/ 90720 w 1862280"/>
                <a:gd name="textAreaRight" fmla="*/ 1771560 w 1862280"/>
                <a:gd name="textAreaTop" fmla="*/ 90720 h 2236320"/>
                <a:gd name="textAreaBottom" fmla="*/ 2145600 h 2236320"/>
              </a:gdLst>
              <a:ahLst/>
              <a:rect l="textAreaLeft" t="textAreaTop" r="textAreaRight" b="textAreaBottom"/>
              <a:pathLst>
                <a:path w="21600" h="25938">
                  <a:moveTo>
                    <a:pt x="3600" y="0"/>
                  </a:moveTo>
                  <a:arcTo wR="3600" hR="3600" stAng="16200000" swAng="-5400000"/>
                  <a:lnTo>
                    <a:pt x="0" y="22338"/>
                  </a:lnTo>
                  <a:arcTo wR="3600" hR="3600" stAng="10800000" swAng="-5400000"/>
                  <a:lnTo>
                    <a:pt x="18000" y="2593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e3e5c"/>
                  </a:solidFill>
                  <a:latin typeface="Arial"/>
                </a:rPr>
                <a:t>Обеспечивать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e3e5c"/>
                  </a:solidFill>
                  <a:latin typeface="Arial"/>
                </a:rPr>
                <a:t>занятость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e3e5c"/>
                  </a:solidFill>
                  <a:latin typeface="Arial"/>
                </a:rPr>
                <a:t>детей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4" descr="3484c252a4ec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5"/>
          <p:cNvSpPr/>
          <p:nvPr/>
        </p:nvSpPr>
        <p:spPr>
          <a:xfrm>
            <a:off x="533520" y="304920"/>
            <a:ext cx="7924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e3e5c"/>
                </a:solidFill>
                <a:latin typeface="Arial"/>
              </a:rPr>
              <a:t>КАК УБЕРЕЧЬ РЕБЕНКА ОТ БЕД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304920" y="1905120"/>
            <a:ext cx="85341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ccff"/>
                </a:solidFill>
                <a:latin typeface="Arial"/>
              </a:rPr>
              <a:t>«Самоубийца, в конечном счете, не боится смерти – он боится жизни …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ccff"/>
                </a:solidFill>
                <a:latin typeface="Arial"/>
              </a:rPr>
              <a:t>В. Франк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лавная наша задача состоит в том, чтобы удержать человека в живых, а не в том, чтобы переделать структуру личности человека или излечить его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e3e5c"/>
                </a:solidFill>
                <a:latin typeface="Arial"/>
              </a:rPr>
              <a:t>СОВЕТЫ ДЛЯ ВЗРОСЛЫХ ПО ПРОФИЛАКТИКЕ СУИЦИД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удьте открыты детям, нге стесняйтесь демонстрировать им свою любов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спринимайте каждую просьбу ребенка о помощи, даже если она вам кажется незначительн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учите ребенка выплескивать свои отрицательные эмоции, решать проблемы конструктивным способ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нимайте ребенка таким, какой он есть, предъявляйте ему адекватные требов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бенок должен видеть, что взрослым тоже бывает трудно, больно, страшно и конструктивные способы преодоления трудност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бегайте физического и психологического насилия над ребенк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ройте ваши отношения с ребенком так, чтобы он мог спокойно обращаться к вам за помощью и знать, что его поймут, примут и не осудя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могайте детям строить реальные цели в жизни и стремиться к ни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учите ребенка осмысленному использованию Интерне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могите ребенку грамотно организовать свой досуг, который бы реализовал его способ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юбые стоящие положительные начинания молодых людей одобряйте словом и дел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и при каких обстоятельствах не применяйте физические наказ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228600" y="152280"/>
          <a:ext cx="8763120" cy="6564600"/>
        </p:xfrm>
        <a:graphic>
          <a:graphicData uri="http://schemas.openxmlformats.org/drawingml/2006/table">
            <a:tbl>
              <a:tblPr/>
              <a:tblGrid>
                <a:gridCol w="2921040"/>
                <a:gridCol w="2921040"/>
                <a:gridCol w="2921040"/>
              </a:tblGrid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Если Вы слышит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Обязательно скажит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Запрещено говори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«Ненавижу всех…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«Чувствую, что что-то происходит. Давай поговорим об этом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«Когда я был в твоем возрасте… да ты просто несешь чушь!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«Все безнадежно и бессмысленно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«Чувствую, что ты подавлен. Иногда мы все так чувствуем себя. Давай обсудим, какие у нас проблемы, как их можно разрешить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«Подумай о тех, кому хуже, чем тебе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«Всем было бы лучше без меня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«Ты много значишь для меня, для нас. Меня беспокоит твое настроение. Поговорим об этом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«Не говори глупостей. Поговорим о другом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«Вы не понимаете меня!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«Расскажи мне, что ты чувствуешь. Я действительно хочу тебя понять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«Где уж мне тебя понять!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«Я совершил ужасный поступок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«Я чувствую, что ты ощущаешь вину. Давай поговорим об этом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«И что ты теперь хочешь? Выкладывай немедленно!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«У меня никогда ничего не получается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«Ты сейчас ощущаешь недостаток сил. Давай обсудим, как это изменить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«Не получается – значит не старался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ccff"/>
                </a:solidFill>
                <a:latin typeface="Arial"/>
              </a:rPr>
              <a:t>Мы выбираем жизнь, они – смер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ccff"/>
                </a:solidFill>
                <a:latin typeface="Arial"/>
              </a:rPr>
              <a:t>Мы пишем письма, они – предсмертные запис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ccff"/>
                </a:solidFill>
                <a:latin typeface="Arial"/>
              </a:rPr>
              <a:t>Мы строим планы на будущее, у них…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ccff"/>
                </a:solidFill>
                <a:latin typeface="Arial"/>
              </a:rPr>
              <a:t>у них – нет будущег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ccff"/>
                </a:solidFill>
                <a:latin typeface="Arial"/>
              </a:rPr>
              <a:t>Кажется, что мы и они – из разных мир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ccff"/>
                </a:solidFill>
                <a:latin typeface="Arial"/>
              </a:rPr>
              <a:t>Но как велика пропасть между нами, читающи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ccff"/>
                </a:solidFill>
                <a:latin typeface="Arial"/>
              </a:rPr>
              <a:t>эти строк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ccff"/>
                </a:solidFill>
                <a:latin typeface="Arial"/>
              </a:rPr>
              <a:t>и теми, кто решился на самоубийство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ccff"/>
                </a:solidFill>
                <a:latin typeface="Arial"/>
              </a:rPr>
              <a:t>Как сильно нужно измениться человеку, чтобы сделать этот шаг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ccff"/>
                </a:solidFill>
                <a:latin typeface="Arial"/>
              </a:rPr>
              <a:t>Всего лишь ша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ccff"/>
                </a:solidFill>
                <a:latin typeface="Arial"/>
              </a:rPr>
              <a:t>Они не были рождены самоубийцами, но умерли с этим клейм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ccff"/>
                </a:solidFill>
                <a:latin typeface="Arial"/>
              </a:rPr>
              <a:t>Они продолжают умира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Неизвестный автор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1"/>
          <p:cNvSpPr/>
          <p:nvPr/>
        </p:nvSpPr>
        <p:spPr>
          <a:xfrm>
            <a:off x="228600" y="457200"/>
            <a:ext cx="4572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Лучший способ предсказать будущее – это создать его”. </a:t>
            </a:r>
            <a:r>
              <a:rPr b="0" i="1" lang="ru-RU" sz="4000" spc="-1" strike="noStrike">
                <a:solidFill>
                  <a:srgbClr val="ffffff"/>
                </a:solidFill>
                <a:latin typeface="Arial Black"/>
              </a:rPr>
              <a:t>- Авраам Линколь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Picture 2" descr="C:\Users\Lenovo\Desktop\11.jpg"/>
          <p:cNvPicPr/>
          <p:nvPr/>
        </p:nvPicPr>
        <p:blipFill>
          <a:blip r:embed="rId1"/>
          <a:stretch/>
        </p:blipFill>
        <p:spPr>
          <a:xfrm>
            <a:off x="3429000" y="3733920"/>
            <a:ext cx="540072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ffffff"/>
                </a:solidFill>
                <a:uFillTx/>
                <a:latin typeface="Arial"/>
              </a:rPr>
              <a:t>Суицид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– осознанное лишение себя жизни под влиянием острых психотравм, в ситуациях, при которых собственная жизнь теряет смысл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ffffff"/>
                </a:solidFill>
                <a:uFillTx/>
                <a:latin typeface="Arial"/>
              </a:rPr>
              <a:t>Суицидальное поведение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представляет собой суицидальные покушения, которые не завершаются летально по независящим от суицидента причинам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дной из разновидностей агрессивного поведения является </a:t>
            </a:r>
            <a:r>
              <a:rPr b="1" lang="ru-RU" sz="3000" spc="-1" strike="noStrike" u="sng">
                <a:solidFill>
                  <a:srgbClr val="ffffff"/>
                </a:solidFill>
                <a:uFillTx/>
                <a:latin typeface="Arial"/>
              </a:rPr>
              <a:t>аутоагрессия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, которая проявляется в демонстративных суицидальных попытках и истинном суициде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4" descr="DSC_9303[1]"/>
          <p:cNvPicPr/>
          <p:nvPr/>
        </p:nvPicPr>
        <p:blipFill>
          <a:blip r:embed="rId1">
            <a:lum contrast="-5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533520" y="533520"/>
            <a:ext cx="861048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e3e5c"/>
                </a:solidFill>
                <a:latin typeface="Arial"/>
              </a:rPr>
              <a:t>СТАТИСТИ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За 15 лет возрасло количество подросткового суицид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а 100 молодых людей – 20 случаев суицид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ик суицидов 15-20-ти летние подрост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Россия – лидер по детскому суициду!!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Users\Lenovo\Desktop\22.jpg"/>
          <p:cNvPicPr/>
          <p:nvPr/>
        </p:nvPicPr>
        <p:blipFill>
          <a:blip r:embed="rId1"/>
          <a:stretch/>
        </p:blipFill>
        <p:spPr>
          <a:xfrm>
            <a:off x="79200" y="228600"/>
            <a:ext cx="9064800" cy="601992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2"/>
          <p:cNvSpPr/>
          <p:nvPr/>
        </p:nvSpPr>
        <p:spPr>
          <a:xfrm>
            <a:off x="380880" y="1066680"/>
            <a:ext cx="8458200" cy="47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Уход в себ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Капризность, привередливос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Депресс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Агрессивнос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Нарушение аппети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Раздача подарков (личных вещей) окружающи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Перемены в поведен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Открытая угроз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Активная предварительная подготовка (интерес вопросами смерти, сбор информации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4"/>
          <p:cNvSpPr/>
          <p:nvPr/>
        </p:nvSpPr>
        <p:spPr>
          <a:xfrm>
            <a:off x="2286000" y="38088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ПРИЗНАКИ СУИЦИДАЛЬНОГО ПОВЕД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e3e5c"/>
                </a:solidFill>
                <a:latin typeface="Arial"/>
              </a:rPr>
              <a:t>ВНЕШНИЙ ВИД И ПОВЕДЕ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оскливое выражение лиц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ихий монотонный голо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скоренная реч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вигательная заторможенность либо возбужд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рюзжание, неприязненное отношение к окружающи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клнность к нытью, капризность, слезлив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e3e5c"/>
                </a:solidFill>
                <a:latin typeface="Arial"/>
              </a:rPr>
              <a:t>СЛОВЕСНЫЕ КЛЮЧ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ямые или косвенные сообщения о суицидальных намерениях («Хочу умереть!», «Ты меня больше не увидишь!»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Шутки, иронические высказывания о желании умере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верение в беспомощьности и зависимости от других («Если он меня разлюбит, я умру»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щ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мообвинения («Я – ничтожество!»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общение о конкретном плане суици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e3e5c"/>
                </a:solidFill>
                <a:latin typeface="Arial"/>
              </a:rPr>
              <a:t>МИФЫ И ФАКТЫ О СУИЦИД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ccff"/>
                </a:solidFill>
                <a:latin typeface="Arial"/>
              </a:rPr>
              <a:t>МИФ:   «Те, кто говорят о самоубийстве, редко совершают его».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ФАКТ:   90% суицидентов перед совершением самоубийства приводят важные словесные доказательства своих намерений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ccff"/>
                </a:solidFill>
                <a:latin typeface="Arial"/>
              </a:rPr>
              <a:t>МИФ:   «Если человек говорит о самоубийстве, он пытается привлечь к себе внимание».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ФАКТ:   Человек, говорящий о суициде, испытывает психическую боль и хочет поставить в известность о ней значимых для него людей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ccff"/>
                </a:solidFill>
                <a:latin typeface="Arial"/>
              </a:rPr>
              <a:t>МИФ:   «Покушающиеся на самоубийство желают умереть»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ФАКТ:   Подавляющее большинство суицидентов хотят не смерти, а избавления от психической боли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ccff"/>
                </a:solidFill>
                <a:latin typeface="Arial"/>
              </a:rPr>
              <a:t>МИФ:   «Ничего бы не могло остановить того, кто уже принял решение покончить с собой».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ФАКТ:   Большинство людей, обдумывающих возможность самоубийства, хотят, чтобы их страдания закончились, и стремятся найти альтернативу или пути облегчения боли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ccff"/>
                </a:solidFill>
                <a:latin typeface="Arial"/>
              </a:rPr>
              <a:t>МИФ:   «Если человек в прошлом совершил суицидную попытку, то подобное больше не повторится»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ФАКТ:   Очень многие повторяют эти действия вновь; около 80% покончивших с собой имели до этого неудачные попытки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ccff"/>
                </a:solidFill>
                <a:latin typeface="Arial"/>
              </a:rPr>
              <a:t>МИФ:   «Риск самоубийства исчезает, когда кризисная ситуация проходит».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ФАКТ:   Под внешним спокойствием может скрываться твердо принятое решение, а некоторый подъем сил после минования острого кризиса лишь помогает выполнить задуманное.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ccff"/>
                </a:solidFill>
                <a:latin typeface="Arial"/>
              </a:rPr>
              <a:t>МИФ:   «Разговоры о самоубийстве могут способствовать его совершению».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ФАКТ:   Обсуждение суицидальных настроений собеседника в действительности демонстрирует ему, что кто-то готов понять и разделить его боль. Разговор может стать – и часто становится – первым шагом в предупреждении суицидов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e3e5c"/>
                </a:solidFill>
                <a:latin typeface="Arial"/>
              </a:rPr>
              <a:t>Основные суицидальные мотивы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блемы в семь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лезнь, смерть близки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счастная любовь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ловая несостоятельность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сихические заболева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родств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ремление повлиять на кого-либо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ремление вызвать чувство вины у кого-либ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6T12:18:37Z</dcterms:created>
  <dc:creator>1</dc:creator>
  <dc:description/>
  <dc:language>en-US</dc:language>
  <cp:lastModifiedBy>Lenovo</cp:lastModifiedBy>
  <dcterms:modified xsi:type="dcterms:W3CDTF">2023-01-17T07:58:38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